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CA549-F7F4-48C9-8E74-6CEAF690FC3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C744B-AD68-4C76-9268-A110AE59332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6D23-F3EF-47FB-82C4-4B2BB9113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FB19-995C-485D-907E-BDBC5CD9D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7430-E094-4683-AC14-130878DA8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D265-FA65-4910-8968-36CE0DA13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9D6F-8696-4CB5-BF91-72223C664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4EC6-9571-4290-8B2F-7F59E0CE5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14DD-E77F-48CB-B6F8-6EBA46839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C0A1-C5ED-4805-A4DC-6EEC8F6E4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C469-6F40-465C-A5DE-734113842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FE22-EDA9-443F-96D1-B27600BAD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673D-BDEE-4C76-8AD8-2418E66FA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36B7-AE35-4E69-9A61-B4C310DE4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C232D-25A1-4BB3-AEE0-2C4B0B643DE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539280" y="333000"/>
            <a:ext cx="814716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БОЛИЧЕСКИЙ ОТВЕТ ОРГАНИЗМА НА СТРЕС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250560" y="-360"/>
            <a:ext cx="843588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ессорная гипергликемия,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лерантность периферических тканей к усвоению глюкозы.  Вследствие снижения проницаемости клеток для глюкозы  нарушается утилизация глюкозы в тканях наиболее чувствительных к глюкозе и инсулину (мышечная, жировая, печеночная, клетки крови, корковый слой почек). Происходит   период падения концентрации инсулина в результате снижения количества рецепторов и их чувствительности   к инсулину (первые 3-е суток) с последующим подъёмом выше исходного уровня. Причиной изменения пострецепторного сигнала в клетках служит ингибиция пируватдегидрогеназы -  ключевого фермента-посредника между путем гликолиза Эмдена-Мейергофа и циклом трикарбоновых кислот, что приводит к неполному окислению глюкозы   и её энергетического использования, накоплению пирувата и стимуляции глюконеогенеза. Развивается диабетогенное состояние обмена веществ. Результат - гиперосмолярный синдром и респираторный ацидоз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Гипергликемия (&gt; 10 - 14 ммоль/л) -  маркер стресса.(схема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хема развития осложнений гипергликем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AutoShape 2"/>
          <p:cNvSpPr/>
          <p:nvPr/>
        </p:nvSpPr>
        <p:spPr>
          <a:xfrm>
            <a:off x="2556000" y="1197000"/>
            <a:ext cx="3192480" cy="44136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  <a:ea typeface="Arial"/>
              </a:rPr>
              <a:t>Метаболический стресс (травма, операция, боль, инфекция и др.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3"/>
          <p:cNvSpPr/>
          <p:nvPr/>
        </p:nvSpPr>
        <p:spPr>
          <a:xfrm>
            <a:off x="468360" y="1989000"/>
            <a:ext cx="2335320" cy="71928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  <a:ea typeface="Arial"/>
              </a:rPr>
              <a:t>↑ 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  <a:ea typeface="Arial"/>
              </a:rPr>
              <a:t>Стресс-гормонов и пептидов (адреналин, норадреналин,АКТГ, СТГ, кортизол,глюкогон, цитокины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4"/>
          <p:cNvSpPr/>
          <p:nvPr/>
        </p:nvSpPr>
        <p:spPr>
          <a:xfrm>
            <a:off x="5076720" y="1916280"/>
            <a:ext cx="3811680" cy="86508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  <a:ea typeface="Arial"/>
              </a:rPr>
              <a:t>Тоническая поддержка, кортикостероиды, лекарственные средства  (допамин, добутрекс, сандостатин и нестероидные противовоспалительные препараты при длительном применении)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5"/>
          <p:cNvSpPr/>
          <p:nvPr/>
        </p:nvSpPr>
        <p:spPr>
          <a:xfrm>
            <a:off x="3276720" y="2708280"/>
            <a:ext cx="1257120" cy="54144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  <a:ea typeface="Arial"/>
              </a:rPr>
              <a:t>↑ 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  <a:ea typeface="Arial"/>
              </a:rPr>
              <a:t>Гликеми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  <a:ea typeface="Arial"/>
              </a:rPr>
              <a:t>    ↓ 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  <a:ea typeface="Arial"/>
              </a:rPr>
              <a:t>Инсулин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6"/>
          <p:cNvSpPr/>
          <p:nvPr/>
        </p:nvSpPr>
        <p:spPr>
          <a:xfrm>
            <a:off x="1403280" y="2997360"/>
            <a:ext cx="979560" cy="57600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  <a:ea typeface="Arial"/>
              </a:rPr>
              <a:t>Иммунная  дисфункци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7"/>
          <p:cNvSpPr/>
          <p:nvPr/>
        </p:nvSpPr>
        <p:spPr>
          <a:xfrm>
            <a:off x="5003640" y="2997360"/>
            <a:ext cx="1616400" cy="51408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  <a:ea typeface="Arial"/>
              </a:rPr>
              <a:t>Нарушение констант гомеостаз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8"/>
          <p:cNvSpPr/>
          <p:nvPr/>
        </p:nvSpPr>
        <p:spPr>
          <a:xfrm>
            <a:off x="2843280" y="4005360"/>
            <a:ext cx="2571840" cy="48888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  <a:ea typeface="Arial"/>
              </a:rPr>
              <a:t>↑ 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  <a:ea typeface="Arial"/>
              </a:rPr>
              <a:t>Фосфолирирование жиров, ацидоз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9"/>
          <p:cNvSpPr/>
          <p:nvPr/>
        </p:nvSpPr>
        <p:spPr>
          <a:xfrm>
            <a:off x="1187280" y="4005360"/>
            <a:ext cx="1338480" cy="52524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  <a:ea typeface="Arial"/>
              </a:rPr>
              <a:t>Распространение инфекци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10"/>
          <p:cNvSpPr/>
          <p:nvPr/>
        </p:nvSpPr>
        <p:spPr>
          <a:xfrm>
            <a:off x="5580000" y="3933720"/>
            <a:ext cx="2073240" cy="50004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  <a:ea typeface="Arial"/>
              </a:rPr>
              <a:t>Высвобождение факторов воспаления и повреждени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11"/>
          <p:cNvSpPr/>
          <p:nvPr/>
        </p:nvSpPr>
        <p:spPr>
          <a:xfrm>
            <a:off x="2556000" y="4797360"/>
            <a:ext cx="3306600" cy="59544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  <a:ea typeface="Arial"/>
              </a:rPr>
              <a:t>Клеточный ацидоз, апоптоз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  <a:ea typeface="Arial"/>
              </a:rPr>
              <a:t>Гипоксия тканей. Ишемия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12"/>
          <p:cNvSpPr/>
          <p:nvPr/>
        </p:nvSpPr>
        <p:spPr>
          <a:xfrm>
            <a:off x="2556000" y="6093000"/>
            <a:ext cx="3633840" cy="529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  <a:ea typeface="Arial"/>
              </a:rPr>
              <a:t>Повышение риска смерти и возникновения осложнений. Длительное пребывание в стационаре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1" name="AutoShape 13"/>
          <p:cNvCxnSpPr/>
          <p:nvPr/>
        </p:nvCxnSpPr>
        <p:spPr>
          <a:xfrm flipH="1">
            <a:off x="2484000" y="1700280"/>
            <a:ext cx="28800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AutoShape 14"/>
          <p:cNvCxnSpPr/>
          <p:nvPr/>
        </p:nvCxnSpPr>
        <p:spPr>
          <a:xfrm>
            <a:off x="4571640" y="3141360"/>
            <a:ext cx="43236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" name="AutoShape 15"/>
          <p:cNvCxnSpPr/>
          <p:nvPr/>
        </p:nvCxnSpPr>
        <p:spPr>
          <a:xfrm>
            <a:off x="4066920" y="3284640"/>
            <a:ext cx="1080" cy="72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4" name="AutoShape 16"/>
          <p:cNvCxnSpPr>
            <a:endCxn id="84" idx="3"/>
          </p:cNvCxnSpPr>
          <p:nvPr/>
        </p:nvCxnSpPr>
        <p:spPr>
          <a:xfrm flipH="1">
            <a:off x="2382480" y="3141360"/>
            <a:ext cx="8848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" name="AutoShape 17"/>
          <p:cNvCxnSpPr/>
          <p:nvPr/>
        </p:nvCxnSpPr>
        <p:spPr>
          <a:xfrm>
            <a:off x="2050560" y="3644640"/>
            <a:ext cx="108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AutoShape 18"/>
          <p:cNvCxnSpPr/>
          <p:nvPr/>
        </p:nvCxnSpPr>
        <p:spPr>
          <a:xfrm>
            <a:off x="6084360" y="3573000"/>
            <a:ext cx="108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AutoShape 19"/>
          <p:cNvCxnSpPr/>
          <p:nvPr/>
        </p:nvCxnSpPr>
        <p:spPr>
          <a:xfrm>
            <a:off x="2340000" y="4508640"/>
            <a:ext cx="72000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AutoShape 20"/>
          <p:cNvCxnSpPr/>
          <p:nvPr/>
        </p:nvCxnSpPr>
        <p:spPr>
          <a:xfrm flipH="1">
            <a:off x="5292000" y="4436640"/>
            <a:ext cx="41508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9" name="AutoShape 21"/>
          <p:cNvSpPr/>
          <p:nvPr/>
        </p:nvSpPr>
        <p:spPr>
          <a:xfrm>
            <a:off x="3276720" y="5589720"/>
            <a:ext cx="2025360" cy="37620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  <a:ea typeface="Arial"/>
              </a:rPr>
              <a:t>Инфекции. Сепсис. СПОН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AutoShape 22"/>
          <p:cNvCxnSpPr/>
          <p:nvPr/>
        </p:nvCxnSpPr>
        <p:spPr>
          <a:xfrm>
            <a:off x="4140000" y="5949720"/>
            <a:ext cx="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AutoShape 23"/>
          <p:cNvCxnSpPr/>
          <p:nvPr/>
        </p:nvCxnSpPr>
        <p:spPr>
          <a:xfrm>
            <a:off x="4211280" y="537372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AutoShape 24"/>
          <p:cNvCxnSpPr>
            <a:stCxn id="81" idx="3"/>
            <a:endCxn id="83" idx="1"/>
          </p:cNvCxnSpPr>
          <p:nvPr/>
        </p:nvCxnSpPr>
        <p:spPr>
          <a:xfrm>
            <a:off x="2803680" y="2349000"/>
            <a:ext cx="473760" cy="63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3" name="AutoShape 25"/>
          <p:cNvCxnSpPr/>
          <p:nvPr/>
        </p:nvCxnSpPr>
        <p:spPr>
          <a:xfrm flipH="1">
            <a:off x="4571640" y="2349000"/>
            <a:ext cx="513360" cy="359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оугольник 2"/>
          <p:cNvSpPr/>
          <p:nvPr/>
        </p:nvSpPr>
        <p:spPr>
          <a:xfrm>
            <a:off x="179280" y="620640"/>
            <a:ext cx="8785440" cy="56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Гиперкатаболиз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- распад белков скелетных, дыхательных мышц, миокарда, гемоглобина и висцеральных белков (ферменты) развивается гипоальбуминемия, увеличиваются все фракции глобулинов, возникает их дисбаланс. Нормальное содержание альбумина в крови с дисбалансом белковых фракций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отражает тяжесть стресса и ССВ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теря белка в послеоперационном периоде представляет опасность для больного любого возраста, особенно если предшествовал его дефицит, при этом имеет значение не столько потеря мышечных белков, сколько ферментативн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Прямоугольник 4"/>
          <p:cNvSpPr/>
          <p:nvPr/>
        </p:nvSpPr>
        <p:spPr>
          <a:xfrm>
            <a:off x="395280" y="549360"/>
            <a:ext cx="8748720" cy="44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Чем тяжелее стресс, тем сильнее расщепление бел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тери белка зависят о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возраста ребен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исходного белкового дефицит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степени анем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путствующей патологии (осложнений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ъема и длительности оперативного вмешательства или тяжести стресса (кровопотери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"/>
          <p:cNvSpPr/>
          <p:nvPr/>
        </p:nvSpPr>
        <p:spPr>
          <a:xfrm>
            <a:off x="324000" y="0"/>
            <a:ext cx="8820000" cy="47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тери белка   усиливаются пр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гипертермическом   синдроме в 2 – 3 раз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адинамии (гиподинамии) – вынужденное положение, иммобилизация, ком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деструкции, некрозах ткани (гнойно-септическая патология, ожоги, травматический и нетравматический   рабдомиолиз, гемолиз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кровотечения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нняя активизация больного способствует сохранению белка, ускорению процессов его обме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Прямоугольник 2"/>
          <p:cNvSpPr/>
          <p:nvPr/>
        </p:nvSpPr>
        <p:spPr>
          <a:xfrm>
            <a:off x="0" y="7920"/>
            <a:ext cx="8856720" cy="61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Уровень альбумина в норме 40 - 55 г/л, составляет от 65 до 80 % общего белка (75 г/л – средняя норма). Норма альбумин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оворожденные   34 – 46 г/л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грудные дети        36 – 49 г/л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старше года и взрослые 36 – 55 г/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Синтезируется только клетками печени (1/3 – 1/2 всех печеночных клеток) в  объёме  12 -14  г в сутки, в среднем 0,2 г/кг/сутки.  На   его синтез влияют гормон роста, кортизон, тиреоидный гормон, АКТГ, тестостерон, неадекватное и несбалансированное питание, снижается синтез альбумина при гипертермии, сепсисе, стрессе, голода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Альбумин – это естественный коллоид: обладает выраженной гидрофильностью, хорошо связывает воду и удерживает ее в сосудистом русле. 1 г альбумина привлекает в русло 19 мл воды из интерстициального пространств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Прямоугольник 2"/>
          <p:cNvSpPr/>
          <p:nvPr/>
        </p:nvSpPr>
        <p:spPr>
          <a:xfrm>
            <a:off x="108000" y="333360"/>
            <a:ext cx="9036000" cy="56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7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 80% определяет КОД плазмы и объем кровотока, обеспечивая перикапиллярную циркуляцию; при снижении альбумина на 50%   КОД снижается на 66%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7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участвует в транспорте эндогенных субстанций таких как: билирубин, гормоны, аминокислоты, жирные кислоты, лекарственные вещества; связывает и удаляет эндогенные, экзогенные токсические субстанции, свободные радикалы -    антитоксическое действие. Последние годы говорят об антигистаминном и антианафилактическом эффекте альбумин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7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улирует КОС, входя в буферную систему крови, переливание альбумина повышает доставку О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  <a:ea typeface="Calibri"/>
              </a:rPr>
              <a:t>2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потребление его тканям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7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ыполняет защитные функции – предотвращает апоптоз эндотелиальных клеток в непосредственно в легких, влияет на воспалительный ответ организм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Прямоугольник 3"/>
          <p:cNvSpPr/>
          <p:nvPr/>
        </p:nvSpPr>
        <p:spPr>
          <a:xfrm>
            <a:off x="0" y="1440"/>
            <a:ext cx="9036000" cy="68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7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ремя полувыведения альбумина составляет 16 – 18 часов, в физиологических условиях 5% альбумина в час проникает в интерстициальное пространство и по лимфатическим сосудам  возвращается в общий кровоток, поддерживая постоянный нормальный его уровень и КОД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7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гипоальбуминемия способствует дисфункции органов (изменяется транскапиллярный обмен), приводит к дистрофии органов и систем организма, задержке жидкости в интерстициальном пространстве и клетках, длительному, плохому заживлению тканей в послеоперационном периоде, иммунодефициту, переводит патологический процесс в хроническое состояние;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7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альбумин крови ниже 35 г/л невозможно адекватное парентеральное питан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Д (мм рт.ст.) = Общий белок × 0,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ормальные значения КОД = 25 мм рт. ст. соответствует  общему белку 75 г/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Прямоугольник 2"/>
          <p:cNvSpPr/>
          <p:nvPr/>
        </p:nvSpPr>
        <p:spPr>
          <a:xfrm>
            <a:off x="611280" y="404640"/>
            <a:ext cx="7812000" cy="52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нимани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альбумин крови у детей меньше 40 г/л, КОД &lt; 20 мм рт.ст.  - создаются все условия для задержки жидкости в тканях с повышенной гидрофильностью (воспаление, операционная травма, травматическое повреждение), возникают скрытые, локальные отеки в месте поражения, оперативного вмешательства, травмы, ожога, воспал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снижение уровня альбумина меньше 35 г/л, КОД становится ниже 18 - 16 мм рт.ст., жидкость задерживается в тканях, нет перикапиллярной циркуляции, возникают генерализованные   отеки со снижением ОЦП. КОД = 12 мм рт.ст. – не совместимо с жизнью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Прямоугольник 2" descr=""/>
          <p:cNvPicPr/>
          <p:nvPr/>
        </p:nvPicPr>
        <p:blipFill>
          <a:blip r:embed="rId1"/>
          <a:stretch/>
        </p:blipFill>
        <p:spPr>
          <a:xfrm>
            <a:off x="122400" y="981000"/>
            <a:ext cx="9040680" cy="599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Прямоугольник 1"/>
          <p:cNvSpPr/>
          <p:nvPr/>
        </p:nvSpPr>
        <p:spPr>
          <a:xfrm>
            <a:off x="971640" y="189000"/>
            <a:ext cx="7632720" cy="71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Факторы, запускающие стресс реакцию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механические повреждения тканей (оперативное вмешательство, ожог, травма, краш-синдром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глубокий дефицит перфузии (боль, шоковый синдром, нарушение кровообращения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рная гипоперфузия (повреждение сосудов, тромбоэмболия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ишемия/некроз (инфаркт миокарда, панкреатит, ДВС-синдром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микробная инвазия (гнойно-некротические процессы, инфекция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эндотоксемия (сепсис, кишечная транслокация, вирус, токсины, воспаление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Прямоугольник 2"/>
          <p:cNvSpPr/>
          <p:nvPr/>
        </p:nvSpPr>
        <p:spPr>
          <a:xfrm>
            <a:off x="108000" y="333360"/>
            <a:ext cx="9036000" cy="57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2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5. Усиление липолиза с повышенным образованием свободных жирных кислот, печеночный глюконеогенез и синтез в печени белков острой фазы, увеличение лактат, эндогенной воды. Под действием цитокинов снижается активность липопротеинлипазы – снижение утилизации жирных кислот и триглицеридов тканями, приводит к образованию кетоновых тел и кетоацидозу. Вместо образования из 1г жира 9 ккал образуется 4 ккал, т.е. утилизация недостаточная, токсичность возрастает. Назначение инфузии липидов ранее 5-6 суток нецелесообразно, могут возникнуть осложнения (гиперлипидемия, бактериемия, угнетение активности полиморфноядерных лейкоцитов и лимфоцитов) – прогрессирование ССВО и сепси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2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4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Усиление протеолиза - нарушения гемостаза, манифестация – коагулопатия потреб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2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Прямоугольник 2"/>
          <p:cNvSpPr/>
          <p:nvPr/>
        </p:nvSpPr>
        <p:spPr>
          <a:xfrm>
            <a:off x="468360" y="0"/>
            <a:ext cx="8675640" cy="67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5.Разнонаправленные нарушения ВЭО, КОС - олигурия 1-го по 3-й день. Причины – повышенное выделение вазопрессина вследствие анестезии, влияния медикаментов, потери жидкости, болевого фактора. В результате гиперальдостеронизма происходит задержка натрия (3-5 день п/о периода),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у больных в критическом состоянии - часто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псевдогипонатриеми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- ложная низкая измеряемая концентрация натрия в плазме в сочетании с нормальной или высокой осмоляльностью. Как правило, это бывает при повышенной проницаемости тканей в результате гипоперфузии и ишемии, причиной не физиологической секреции АДГ является: гиповолемия, поражение легких, травма ЦНС, эндокринная дисфункция, опухоли, синтезирующие пептид с аналогичным действием или препараты, похожие на АДГ, влияние провоспалительных цитокинов и АФК (капиллярная «утечка»), при  нарушениях липидного (гипертриглицеридемия и гиперхолестеринемия) и белкового обменов. На 2-3 день п/о периода - отрицательный баланс калия и магния, считается, что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при операциях средней степени тяжести первые 4 дня потеря калия составляет 90 ммоль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Усиливается гипокалиемия и гипомагнемия при иммобилизации, адинамии, коме. Изменения КОС неизбежно и закономерно в связи с метаболическими влияниями и действием анестезии. Может быть ранний и поздний ацидоз. Ранний респираторный ацидоз – влияние анестезии: опиаты, ДН (раневая боль) и т.д.; поздний ацидоз – секрет в бронхах, ателектазы, плевральный выпот, коллабирование оперированного легкого, развивающийся интерстициальный отек вследствие чрезмерного введения кристаллоидов и натр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    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часовой диурез – маркер стресс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Прямоугольник 2"/>
          <p:cNvSpPr/>
          <p:nvPr/>
        </p:nvSpPr>
        <p:spPr>
          <a:xfrm>
            <a:off x="2268360" y="1773360"/>
            <a:ext cx="5597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6.  Нарушение иммуногенеза, развивается постстрессорная супрессия,  нарушения иммунного статуса – ССВО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Прямоугольник 2"/>
          <p:cNvSpPr/>
          <p:nvPr/>
        </p:nvSpPr>
        <p:spPr>
          <a:xfrm>
            <a:off x="19080" y="333360"/>
            <a:ext cx="87120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7. Кишечник как не дренированный абсцесс – транслокация условно-патогенной флоры в регионарные лимфатические узлы и общий кровоток – септические очаги («двигатель» СПОН). Централизация в ЖКТ – нарушается структура энтероцита, снижается количество Т- и В-лимфацитов, плазматических клеток, синтез иммуноглобулина А и увеличивается синтез условно-патогенной флоры. Результат – отек кишечной стенки, повышение её проницаемости, нарушение полостного и пристеночного пищеварения, т.е. нарушение трофической и моторно-эвакуаторной функций ЖКТ. Усугубляет и поддерживает системную воспалительную реакцию и СПО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50920" y="-360"/>
            <a:ext cx="82296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за обратного кортикоидного развит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кратковременна, условно длится 1 – 2 дня, характеризуется «физиологическими» клинико- лабораторными показателями. Клинически: стабилизация общего состояния и самочувствия ребенка, нормализация температуры тела, ЦГД, периферического кровообращения, моторно-эвакуационной функции ЖКТ, диуреза, появление интереса к окружающему и аппетита. Это результат формирования реакций долгосрочной   адаптации для поддержания гомеостаза и дальнейшего   восстановления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живления поврежденных тканей, т.е. анаболизма. В этот период нельзя «успокаиваться», болезнь продолжается, компенсация может быть не стойкой, поэтому не рекомендуется резко изменять характер давшей результат интенсивной терап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394920" y="115920"/>
            <a:ext cx="8302680" cy="60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III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Фаза анаболизма,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словно начинается с 7 – 11 суток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лительность 2 – 3 недели, принципиальным направлением лечения в этот период является адекватное возмещение потребностей организма в энергетическом и пластическом материале -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обязательное искусственное питание, не смотря в ряде случаев на клинически достаточную «физиологическую» функцию ЖКТ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IV. Фаза накопления жира,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(период реконвалесценции), от 4 месяцев до 1 года. Это период полного   восстановления предшествующего агрессии метаболического статуса организма и физиологических взаимоотношений между органами, тканями, регуляторными системам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Object 3"/>
          <p:cNvGraphicFramePr/>
          <p:nvPr/>
        </p:nvGraphicFramePr>
        <p:xfrm>
          <a:off x="-1087560" y="0"/>
          <a:ext cx="11198520" cy="708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087560" y="0"/>
                    <a:ext cx="11198520" cy="708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Object 66" descr=""/>
          <p:cNvPicPr/>
          <p:nvPr/>
        </p:nvPicPr>
        <p:blipFill>
          <a:blip r:embed="rId1"/>
          <a:stretch/>
        </p:blipFill>
        <p:spPr>
          <a:xfrm>
            <a:off x="108000" y="357120"/>
            <a:ext cx="903600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3240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тяжелом состоянии в условиях гиперметаболизма- гиперкатаболизма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ow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фаза послеоперационного  периода) дети, особенно младшего возраста, плохо переносят большие объемы инфузий,  не смотря на теоретическую обоснованность необходимости их коррекции. Так как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поволемия     гипоксия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ушение транскапиллярного обме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оражение эндотелия обменного микрососуда)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окий уровень провоспалительных цитокинов и эйкозаноидов (высокая проницаемость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ажение клеточных структур (трансминерализация, или синдром            «больной» клетки)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ессирование органной дисфункции или недостаточности - СПОН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"/>
          <p:cNvSpPr/>
          <p:nvPr/>
        </p:nvSpPr>
        <p:spPr>
          <a:xfrm>
            <a:off x="0" y="189000"/>
            <a:ext cx="9144000" cy="70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Гормональный ответ на стресс и развитие адаптационных реакций происходит   независимо от этиологии повреждения происходит стереотипно в 2 этап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1).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Этап срочной адаптации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(несовершенный путь) – срочная мобилизация с первых минут развития стресс-синдрома всех ресурсов организма для обеспечения органов, ответственных за срочную адаптацию, этот этап протекает на пределе физиологических возможностей организма и не всегда в полной мере может обеспечить должный адаптационный ответ. В этот период особое значение приобретает своевременность и качество первой помощи у всех групп больных независимо от возраста и генеза стрессорной реакции - помнить о «золотом часе». К органам срочной адаптации относя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кровообращение, дыхание, медиаторная систем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ыделительна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эндокринная система красной кров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324000" y="0"/>
            <a:ext cx="8820000" cy="53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шибки инфузионной терапии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ие оптимального объема инфузий для быстрого достижения нормоосмолярности, быстрая объемная  регидратация ухудшает состояние пациента, способствуя переходу жидкости в интрацеллюлярную область (резкое снижение осмолярности и КОД особенно на фоне имеющейся гипопротеинемии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быточные инфузии гипо- и изоосмолярных растворов ухудшают диффузию кислорода через альвеолярно–капиллярные мембраны, способствуют развитию отека легких, головного мозга, синдрома острого повреждения легких (СОПЛ 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условии адекватного восполнения и поддержания ОЦК несоблюдение принципа разумного ограничения объема инфузий, поддержания нулевого гидробаланса, начиная со вторых суток послеоперационного период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53964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воевременная коррекция гипоальбуминемии и анемии при сохраняющимся или прогрессирующим эндотоксикозе,  абсолютизации данных одного  лабораторного теста или функционального мониторинга без учета клинической картины течения постстрессорного или постоперационного периодов (не ориентироваться только на показатели общего белка и «красной» крови, т.к. гемодилюция или гемоконцентрация изменяют их показатели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ержка применения раннего энтерального трофического (витального) питания. Восстановилась проходимость ЖКТ – энтеральное (оральное) питание, которое уменьшит риск ятрогении  инфузионной терапии и парентерального питания  у детей, особенно младенцев и младшего возраст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395280" y="-360"/>
            <a:ext cx="8229600" cy="64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Д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гипердинамический тип кровообращении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вномерная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р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гидратационная   иифузионная  терапия в течение  суток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ервые 6 часов из расчета  -   1/4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alibri"/>
              </a:rPr>
              <a:t>ф.п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+  1/2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alibri"/>
              </a:rPr>
              <a:t>деф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оставшееся  18 часов равномерная регидратация -   3/4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alibri"/>
              </a:rPr>
              <a:t>ф.п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+  1/2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alibri"/>
              </a:rPr>
              <a:t>деф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+ коррекция потер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Патологические  (продолжающиеся) потер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арез кишечника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или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II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(хирургический)  -  20 – 40 мл/кг/су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тери с рвотой  - 20 мл/кг/сут, или постоянно по мере поступления «капля за       каплю».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тери  с диареей  -   30 мл/кг/су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артовый раствор кристаллоид  - раствор Рингера, или  Рингер-Лактата, или 10 % раствор глюкозы, или Плазма Лит 148 (с 5% глюкозой), Стерофундин изотонический, Реамберин 10 мл/кг/час, 2 час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Рисунок 1" descr=""/>
          <p:cNvPicPr/>
          <p:nvPr/>
        </p:nvPicPr>
        <p:blipFill>
          <a:blip r:embed="rId1"/>
          <a:stretch/>
        </p:blipFill>
        <p:spPr>
          <a:xfrm>
            <a:off x="1116000" y="115920"/>
            <a:ext cx="1897200" cy="86508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457200" y="33336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«нормодинамический» тип кровообращении   -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прежний принцип, но стартовый раствор – коллоид:  волювен, инфукол 5 мл/кг (новорожденные, остальные ГЭК с 12-ти лет) или гелофузин. +  остальной объём кристаллоид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конце 4-6 часа  5 - 10% альбумин  в дозе  10 мл/к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Рисунок 4" descr=""/>
          <p:cNvPicPr/>
          <p:nvPr/>
        </p:nvPicPr>
        <p:blipFill>
          <a:blip r:embed="rId1"/>
          <a:stretch/>
        </p:blipFill>
        <p:spPr>
          <a:xfrm>
            <a:off x="1332000" y="765000"/>
            <a:ext cx="2016000" cy="93528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457200" y="18864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АД  &lt; 70 мм рт.ст. - </a:t>
            </a: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гипотонический тип кровообращения   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-  шок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II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ст.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ервые 2 часа   -  20 мл/кг/час, т.е. за 2 часа 40 мл/кг (безопасный объём  у детей младшего возраста при отсутствии/остановке кровотечения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ервые 15 – 20 мин  10 мл/кг с адреномиметиками/инотропами или без них: ГЭК, гелофузин,   5 - 10% альбумин   + 10 мл/кг кристаллоид.   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3000" spc="-1" strike="noStrike">
                <a:solidFill>
                  <a:srgbClr val="000000"/>
                </a:solidFill>
                <a:latin typeface="Calibri"/>
              </a:rPr>
              <a:t>Обязательное условие   -  ИВЛ!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ри стабилизации АД с  адреномиметиками/инотропами или без них  - равномерная регидратация соответственно степени тяжести СПОН, 36 – 48 часов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операционный период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временной интервал, ограниченный моментом окончания хирургического вмешательства и полным (или почти полным) восстановлением способности оперированного больного к выполнению бытовых и трудовых нагрузок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ижайший послеоперационный период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первые 6 – 24 часа), который напрямую связан с операционной травмой  и обезболиванием, воздействие которых может продолжаться. Характеризуется максимальной неустойчивостью жизненно важных функций, возникновением патологических состояний: это кровотечения, пневмоторакс в зависимости от области оперативного вмешательства, осложнения анестезиологического пособия (озноб, посленаркозная рвота, задержка мочеиспускания, вентиляционная ОДН). Это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аболическая фаза системной постагрессивной реакции,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на прогрессивно нарастает и достигает максимальной выраженности к концу суток даже при небольших операциях и операциях   средней травматичности при  неосложненном течени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Ранний послеоперационный период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(с 2 по 3 - 7 день при различных по характеру и объему вмешательствах) соответствует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катаболической и переходной фазам постагрессивной реакц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Поздний послеоперационный период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(с 7 – 10 дня после операции), его функциональные характеристики определяются проявлениями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анаболической фазы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продолжительность которой составляет до двух – трёх недел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Отдаленный послеоперационный период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последняя фаза постагрессивной реакции – «фаза накопления  жира» по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oore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длится от 4 – 6 месяцев до 2 – 4 лет, в зависимости от глубины и тяжести перенесенной агресси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1"/>
          <p:cNvSpPr/>
          <p:nvPr/>
        </p:nvSpPr>
        <p:spPr>
          <a:xfrm>
            <a:off x="250920" y="189000"/>
            <a:ext cx="8893080" cy="60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2)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Этап долгосрочной адаптации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Цель сформировать и поддержать гомеостаз в условиях стрессорной реакции. В этот период за счет формирования клеточных структурных изменений в органах долгосрочной адаптации увеличивается энергетическая мощность систем ответственных за срочную адаптацию.  К органам, которые непосредственно сейчас не участвуют в адаптации относят (долгосрочная адаптация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ищеварительная (ЖКТ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Частично эндокринна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лова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орно-двигательна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Иммунна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Система жировой ткан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ж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ивопоказания к назначению физиологической потребност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ек-набухание головного мозга – 75% от физиологической потребност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ыхательная недостаточность 11 или 111 степени – 50%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дечная недостаточность 11 или 111 степени – 25%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рый   канальцевый  некроз (ренальная почечная недостаточность в стадию анурии) – 25%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имание!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начительный стресс приводит к усилению белкового обмена, с высвобождением аминокислот скелетных мышц, нарушению соотношения процессов синтеза белка и его деградации, при чем последние  существенно преобладают, потеря ферментативных и висцеральных белков. Белки плазмы, печени, ЖКТ распадаются очень быстро в отличие от белков поперечнополосатой мускулатуры, особенно лабильны белки ЖКТ, печен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Гнойно-септическая патолог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 показание к увеличению белковой нагрузки, особенно у детей новорожденных и  младшего возраста (быстро наступает белковое истощение,  дефицит альбумина, развивается анемия).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м тяжелее стресс, тем сильнее расщепление бел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м больше операционное поле, тем больше потери альбуми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ери  белка зависят от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раста ребенк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ходного белкового дефицит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пени  анеми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путствующей патологии (осложнений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ма оперативного вмешательства.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d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ери белка  усиливаются при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пертермическом  синдроме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инамии (гиподинамии) – вынужденное положение, иммобилизация, ком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струкции, некрозах ткани (гнойно-септическая патология, ожоги, травматический и нетравматический рабдомиолиз, гемолиз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овотечениях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судации в воспалительные, поврежденные ткани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окой проницаемос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ямая корреляция между уровнем альбумина плазмы (ниже 35 г/л) и высокой летальностью, повышением частоты осложнений, повторных госпитализаций, удлинением сроков ИВЛ и пребывания в отделении реанимации и стационар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d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</a:t>
            </a: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ьбумин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адает выраженной гидрофильностью, хорошо связывает воду и удерживает ее в сосудистом русле. На 80% определяет КОД плазмы и объем кровотока,  обеспечивая перикапиллярную циркуляцию;    при снижении альбумина на 50%, КОД снижается на 66%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вует в транспорте эндогенных субстанций таких как: билирубин, гормоны, аминокислоты, жирные кислоты, лекарственные вещества; связывает и удаляет эндогенные, экзогенные токсические субстанции, свободные радикалы  -    антитоксическое действие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d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улирует КОС, входя в буферную систему крови, переливание альбумина повышает доставку и потребление  кислорода тканями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яет защитные функции – предотвращает апоптоз эндотелиальных клеток  в культуре и непосредственно в легких,  влияет на воспалительный ответ организм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d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поальбуминемия </a:t>
            </a: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ствует дисфункции органов (изменяется транскапиллярный обмен), приводит к дистрофии органов и систем организма, задержке жидкости в интерстициальном пространстве и клетках, длительному, плохому заживлению тканей в послеоперационном периоде, переводит патологический процесс в  хроническое состояние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   </a:t>
            </a:r>
            <a:r>
              <a:rPr b="0" lang="ru-RU" sz="25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ключение альбумина в состав инфузионной терапии у детей обусловлено не только необходимостью поддержания КОД плазмы, а и предотвращения или лечения нарушений циркуляции, но и необходимостью поддержания функций, которые альбумин выполняет в организме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d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мотрасфузии в послеоперационном периоде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атель эффективного кислородного потока (КП)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вень гемоглобина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утный объем крови (МОК)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анемии КП может быть нормальным при увеличении МОК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Н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о 100 г/л  -  в 1,5 раза;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Н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нее 100 г/л – в 3 раза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Н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нее  80 г/л – в 5 – 6 раз,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d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 должного прироста МОК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ажение легких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ение компенсаторных возможностей сердца (действие кардиодепрессивного фактора при эндотоксикозе,  гипоперфузии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ушение свертывающей систем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ушение функции поче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d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32400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мл/кг эритроцитарной  массы повышает  Н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 1%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устимая  гемодилюция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о 32% у детей младшего возраста, старшего и подростков -  до 30%     -   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зумный компромисс  между уменьшением способности крови к переносу кислорода и улучшением её текучести при условии </a:t>
            </a:r>
            <a:r>
              <a:rPr b="1" i="1" lang="ru-RU" sz="3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тсутствия патологии сердца и легких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Фазы метаболического ответа на стресс  (Д.Котберсон, Ф.Мур)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ремя зависит от заболевания и леч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15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916280" y="1663560"/>
            <a:ext cx="6095880" cy="3330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54" name="Line 16"/>
          <p:cNvSpPr/>
          <p:nvPr/>
        </p:nvSpPr>
        <p:spPr>
          <a:xfrm>
            <a:off x="7696080" y="40798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7"/>
          <p:cNvSpPr/>
          <p:nvPr/>
        </p:nvSpPr>
        <p:spPr>
          <a:xfrm>
            <a:off x="4952880" y="4994280"/>
            <a:ext cx="1219320" cy="81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Переходная фаз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~2 суто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8"/>
          <p:cNvSpPr/>
          <p:nvPr/>
        </p:nvSpPr>
        <p:spPr>
          <a:xfrm>
            <a:off x="6400800" y="4917960"/>
            <a:ext cx="1266840" cy="83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Фаза анаболическа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2-3 недел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9"/>
          <p:cNvSpPr/>
          <p:nvPr/>
        </p:nvSpPr>
        <p:spPr>
          <a:xfrm>
            <a:off x="7496280" y="4997520"/>
            <a:ext cx="161928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Фаза накопления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жир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3-4 мес.  до 1-2 ле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0"/>
          <p:cNvSpPr/>
          <p:nvPr/>
        </p:nvSpPr>
        <p:spPr>
          <a:xfrm>
            <a:off x="3276720" y="4917960"/>
            <a:ext cx="144756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Фаза усиления (прилив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2-10 дн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21"/>
          <p:cNvSpPr/>
          <p:nvPr/>
        </p:nvSpPr>
        <p:spPr>
          <a:xfrm>
            <a:off x="1752480" y="4917960"/>
            <a:ext cx="137160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Фаза ослабления (отлив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~2-4 до 24 час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22"/>
          <p:cNvSpPr/>
          <p:nvPr/>
        </p:nvSpPr>
        <p:spPr>
          <a:xfrm>
            <a:off x="2286000" y="3713040"/>
            <a:ext cx="762120" cy="44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Eb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23"/>
          <p:cNvSpPr/>
          <p:nvPr/>
        </p:nvSpPr>
        <p:spPr>
          <a:xfrm>
            <a:off x="3200400" y="4003560"/>
            <a:ext cx="1371600" cy="3812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fl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24"/>
          <p:cNvSpPr/>
          <p:nvPr/>
        </p:nvSpPr>
        <p:spPr>
          <a:xfrm>
            <a:off x="3505320" y="4232160"/>
            <a:ext cx="1295280" cy="4366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5"/>
          <p:cNvSpPr/>
          <p:nvPr/>
        </p:nvSpPr>
        <p:spPr>
          <a:xfrm>
            <a:off x="7391520" y="1260360"/>
            <a:ext cx="0" cy="312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26"/>
          <p:cNvSpPr/>
          <p:nvPr/>
        </p:nvSpPr>
        <p:spPr>
          <a:xfrm>
            <a:off x="7543800" y="1260360"/>
            <a:ext cx="0" cy="2819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27"/>
          <p:cNvSpPr/>
          <p:nvPr/>
        </p:nvSpPr>
        <p:spPr>
          <a:xfrm>
            <a:off x="7620120" y="1260360"/>
            <a:ext cx="0" cy="3124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28"/>
          <p:cNvSpPr/>
          <p:nvPr/>
        </p:nvSpPr>
        <p:spPr>
          <a:xfrm>
            <a:off x="3635280" y="2852640"/>
            <a:ext cx="1008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Прирост зависит от степени стресс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29"/>
          <p:cNvSpPr/>
          <p:nvPr/>
        </p:nvSpPr>
        <p:spPr>
          <a:xfrm>
            <a:off x="539640" y="971640"/>
            <a:ext cx="1368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Уровень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метаболизм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30"/>
          <p:cNvSpPr/>
          <p:nvPr/>
        </p:nvSpPr>
        <p:spPr>
          <a:xfrm>
            <a:off x="468360" y="2205000"/>
            <a:ext cx="14396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Повышенный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31"/>
          <p:cNvSpPr/>
          <p:nvPr/>
        </p:nvSpPr>
        <p:spPr>
          <a:xfrm>
            <a:off x="539640" y="3933720"/>
            <a:ext cx="136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Нормальны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32"/>
          <p:cNvSpPr/>
          <p:nvPr/>
        </p:nvSpPr>
        <p:spPr>
          <a:xfrm>
            <a:off x="539640" y="4437000"/>
            <a:ext cx="136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пониженны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5" name="Object 2"/>
          <p:cNvGraphicFramePr/>
          <p:nvPr/>
        </p:nvGraphicFramePr>
        <p:xfrm>
          <a:off x="982800" y="17640"/>
          <a:ext cx="7176960" cy="6724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2800" y="17640"/>
                    <a:ext cx="7176960" cy="67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Прямоугольник 1"/>
          <p:cNvSpPr/>
          <p:nvPr/>
        </p:nvSpPr>
        <p:spPr>
          <a:xfrm>
            <a:off x="179280" y="333360"/>
            <a:ext cx="8964720" cy="65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Фазы метаболического ответа на стре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В периоде стрессорного метаболического ответа («биологический процесс защиты») Д. Катберсон и Ф. Мур выделили 4 фаз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I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фаз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– адренэргически-кортикоидная (или собственно постагрессивное нарушение обмена веществ), возникает через 2 – 4 часа с момента действия стрессорного фактора (оперативного вмешательства), всегда присутствует с вторых суток постагрессивного периода, максимальная интенсивность 3-5 сутки, длительность до 5 – 7 суток. В этот период выделяют две подфаз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Прямоугольник 1"/>
          <p:cNvSpPr/>
          <p:nvPr/>
        </p:nvSpPr>
        <p:spPr>
          <a:xfrm>
            <a:off x="250920" y="189000"/>
            <a:ext cx="871380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E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bb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-фаз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(пониженная метаболическая активность), первые 2-4 часа, характеризуется временным упадком большинства метаболических процессов: центрацизация периферического кровообращения для аварийного обеспечения срочной адаптации (снижение потребление кислорода, скорости метаболических реакций и окисления глюкозы, снижение сывороточного уровня инсулина, нарушение утилизации липидов с одновременным ростом триглицеридов в крови, развивается гипотермия). В результате гипоперфузии в системный кровоток выбрасывается большое количество катехоламинов, цитокинов и свободных радикалов, которые запускают вторую фазу метаболического ответа – усиление метаболизма, максимальный пик которого происходит к 4 часу после операции, основной обмен повышается на 20% и сохраняется в таком объёме 12 – 24 часа, в дальнейшем напряжение метаболического ответа остается неизменным на протяжении всего раннего послеоперационного периода при условии отсутствия осложн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5"/>
          <p:cNvSpPr/>
          <p:nvPr/>
        </p:nvSpPr>
        <p:spPr>
          <a:xfrm>
            <a:off x="250920" y="0"/>
            <a:ext cx="8893080" cy="65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Заголовок 1"/>
          <p:cNvSpPr/>
          <p:nvPr/>
        </p:nvSpPr>
        <p:spPr>
          <a:xfrm>
            <a:off x="1079640" y="1924200"/>
            <a:ext cx="10534680" cy="11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50560" y="-360"/>
            <a:ext cx="843588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low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фаза (повышенная метаболическая активность), длительность 2 - 8 дней в зависимости от тяжести стрессорного фактора, возраста, исходного состояния, сопутствующей патологии и эффективности лечебных мероприятий. Максимальная интенсивность его 3 – 5-ые сутки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108000" y="115560"/>
            <a:ext cx="8578800" cy="601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Для flow-фазы характерно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вышение скорости обменных процессов, метаболическая дезорганизация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тресс-индуцированная гипергликемия (депрессия анаболической функции инсулина первые 3 – 5 дней) –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маркер стресс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величение потерь азота - отрицательный азотистый баланс –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гиперкатаболизм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силиваются: мышечный протеолиз, липолиз с повышенным образованием свободных жирных кислот, печеночный глюконеогенез  и  синтез в печени белков острой фазы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зрушение и нарушение продукции висцеральных белков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вышение потребления кислород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ипертермия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звивается белково-энергетическая недостаточность, нарушения иммунного статус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ысокий риск транслокации микробов и их токсинов в общий кровоток –   усугубляет и поддерживает системную воспалительную реакцию и СПОН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01T14:40:29Z</dcterms:created>
  <dc:creator>Владимир</dc:creator>
  <dc:description/>
  <dc:language>en-US</dc:language>
  <cp:lastModifiedBy>татьяна Баирова</cp:lastModifiedBy>
  <dcterms:modified xsi:type="dcterms:W3CDTF">2018-07-24T06:21:28Z</dcterms:modified>
  <cp:revision>56</cp:revision>
  <dc:subject/>
  <dc:title>Слайд 1</dc:title>
</cp:coreProperties>
</file>