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F184-0AD3-4F63-A482-FD32173497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FE55-F6D2-49AE-9541-4B7AE9707A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AE2D-0CE7-4335-B9F0-748CAD37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D4E6-797E-443F-9CD4-290EDFC5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50D5-FAD5-4330-A8DD-85244B22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252F-6C17-4854-BF64-E4A9F4A5A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BB67-84C9-407B-A0A5-9C2435D0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48E2-7547-44E3-A18B-88B8AEFA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928C-7ADC-4A8C-8235-738806FD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AC50-5046-49D7-A724-473E6872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40E0-A13F-47EB-8F6D-E82854C3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8C8A-BB26-4A51-992E-B49F3A56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A39F-2A63-4466-8334-C15CA1E7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6D34-90CA-4880-8304-A2DC17F2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0859-CA82-4338-82CB-D6EAF68547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ЧЕСКИЙ ОТВЕТ ОРГАНИЗМА НА СТРЕ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50560" y="-360"/>
            <a:ext cx="84358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ссорная гипергликемия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ерантность периферических тканей к усвоению глюкозы.  Вследствие снижения проницаемости клеток для глюкозы  нарушается утилизация глюкозы в тканях наиболее чувствительных к глюкозе и инсулину (мышечная, жировая, печеночная, клетки крови, корковый слой почек). Происходит   период падения концентрации инсулина в результате снижения количества рецепторов и их чувствительности   к инсулину (первые 3-е суток) с последующим подъёмом выше исходного уровня. Причиной изменения пострецепторного сигнала в клетках служит ингибиция пируватдегидрогеназы -  ключевого фермента-посредника между путем гликолиза Эмдена-Мейергофа и циклом трикарбоновых кислот, что приводит к неполному окислению глюкозы   и её энергетического использования, накоплению пирувата и стимуляции глюконеогенеза. Развивается диабетогенное состояние обмена веществ. Результат - гиперосмолярный синдром и респираторный ацидоз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ипергликемия (&gt; 10 - 14 ммоль/л) -  маркер стресса.(схема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хема развития осложнений гипергликем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2"/>
          <p:cNvSpPr/>
          <p:nvPr/>
        </p:nvSpPr>
        <p:spPr>
          <a:xfrm>
            <a:off x="2556000" y="1197000"/>
            <a:ext cx="3192480" cy="44136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Метаболический стресс (травма, операция, боль, инфекция и др.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"/>
          <p:cNvSpPr/>
          <p:nvPr/>
        </p:nvSpPr>
        <p:spPr>
          <a:xfrm>
            <a:off x="468360" y="1989000"/>
            <a:ext cx="2335320" cy="7192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↑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Стресс-гормонов и пептидов (адреналин, норадреналин,АКТГ, СТГ, кортизол,глюкогон, цитокины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5076720" y="1916280"/>
            <a:ext cx="3811680" cy="8650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Тоническая поддержка, кортикостероиды, лекарственные средства  (допамин, добутрекс, сандостатин и нестероидные противовоспалительные препараты при длительном применении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3276720" y="2708280"/>
            <a:ext cx="1257120" cy="5414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↑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Гликем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    ↓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Инсули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1403280" y="2997360"/>
            <a:ext cx="979560" cy="5760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Иммунная  дисфункц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5003640" y="2997360"/>
            <a:ext cx="1616400" cy="5140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Нарушение констант гомеостаз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2843280" y="4005360"/>
            <a:ext cx="2571840" cy="48888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↑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Фосфолирирование жиров, ацидо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1187280" y="4005360"/>
            <a:ext cx="1338480" cy="5252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Распространение инфек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5580000" y="3933720"/>
            <a:ext cx="2073240" cy="5000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Высвобождение факторов воспаления и поврежд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2556000" y="4797360"/>
            <a:ext cx="3306600" cy="59544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Клеточный ацидоз, апоптоз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Гипоксия тканей. Ишемия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2556000" y="6093000"/>
            <a:ext cx="3633840" cy="529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Повышение риска смерти и возникновения осложнений. Длительное пребывание в стационаре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13"/>
          <p:cNvCxnSpPr/>
          <p:nvPr/>
        </p:nvCxnSpPr>
        <p:spPr>
          <a:xfrm flipH="1">
            <a:off x="2484000" y="1700280"/>
            <a:ext cx="28800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AutoShape 14"/>
          <p:cNvCxnSpPr/>
          <p:nvPr/>
        </p:nvCxnSpPr>
        <p:spPr>
          <a:xfrm>
            <a:off x="4571640" y="3141360"/>
            <a:ext cx="4323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AutoShape 15"/>
          <p:cNvCxnSpPr/>
          <p:nvPr/>
        </p:nvCxnSpPr>
        <p:spPr>
          <a:xfrm>
            <a:off x="4066920" y="3284640"/>
            <a:ext cx="108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AutoShape 16"/>
          <p:cNvCxnSpPr>
            <a:endCxn id="84" idx="3"/>
          </p:cNvCxnSpPr>
          <p:nvPr/>
        </p:nvCxnSpPr>
        <p:spPr>
          <a:xfrm flipH="1">
            <a:off x="2382480" y="3141360"/>
            <a:ext cx="8848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AutoShape 17"/>
          <p:cNvCxnSpPr/>
          <p:nvPr/>
        </p:nvCxnSpPr>
        <p:spPr>
          <a:xfrm>
            <a:off x="2050560" y="364464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18"/>
          <p:cNvCxnSpPr/>
          <p:nvPr/>
        </p:nvCxnSpPr>
        <p:spPr>
          <a:xfrm>
            <a:off x="6084360" y="357300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AutoShape 19"/>
          <p:cNvCxnSpPr/>
          <p:nvPr/>
        </p:nvCxnSpPr>
        <p:spPr>
          <a:xfrm>
            <a:off x="2340000" y="4508640"/>
            <a:ext cx="72000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AutoShape 20"/>
          <p:cNvCxnSpPr/>
          <p:nvPr/>
        </p:nvCxnSpPr>
        <p:spPr>
          <a:xfrm flipH="1">
            <a:off x="5292000" y="4436640"/>
            <a:ext cx="415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AutoShape 21"/>
          <p:cNvSpPr/>
          <p:nvPr/>
        </p:nvSpPr>
        <p:spPr>
          <a:xfrm>
            <a:off x="3276720" y="5589720"/>
            <a:ext cx="2025360" cy="37620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Инфекции. Сепсис. СПО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AutoShape 22"/>
          <p:cNvCxnSpPr/>
          <p:nvPr/>
        </p:nvCxnSpPr>
        <p:spPr>
          <a:xfrm>
            <a:off x="4140000" y="5949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AutoShape 23"/>
          <p:cNvCxnSpPr/>
          <p:nvPr/>
        </p:nvCxnSpPr>
        <p:spPr>
          <a:xfrm>
            <a:off x="4211280" y="53737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24"/>
          <p:cNvCxnSpPr>
            <a:stCxn id="81" idx="3"/>
            <a:endCxn id="83" idx="1"/>
          </p:cNvCxnSpPr>
          <p:nvPr/>
        </p:nvCxnSpPr>
        <p:spPr>
          <a:xfrm>
            <a:off x="2803680" y="2349000"/>
            <a:ext cx="473760" cy="63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25"/>
          <p:cNvCxnSpPr/>
          <p:nvPr/>
        </p:nvCxnSpPr>
        <p:spPr>
          <a:xfrm flipH="1">
            <a:off x="4571640" y="2349000"/>
            <a:ext cx="51336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2"/>
          <p:cNvSpPr/>
          <p:nvPr/>
        </p:nvSpPr>
        <p:spPr>
          <a:xfrm>
            <a:off x="179280" y="620640"/>
            <a:ext cx="878544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перкатаболиз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распад белков скелетных, дыхательных мышц, миокарда, гемоглобина и висцеральных белков (ферменты) развивается гипоальбуминемия, увеличиваются все фракции глобулинов, возникает их дисбаланс. Нормальное содержание альбумина в крови с дисбалансом белковых фракций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тражает тяжесть стресса и СС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теря белка в послеоперационном периоде представляет опасность для больного любого возраста, особенно если предшествовал его дефицит, при этом имеет значение не столько потеря мышечных белков, сколько ферментатив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4"/>
          <p:cNvSpPr/>
          <p:nvPr/>
        </p:nvSpPr>
        <p:spPr>
          <a:xfrm>
            <a:off x="395280" y="549360"/>
            <a:ext cx="874872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м тяжелее стресс, тем сильнее расщепление бел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тери белка зависят о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зраста ребен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ходного белкового дефици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епени анем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путствующей патологии (осложнени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ема и длительности оперативного вмешательства или тяжести стресса (кровопотери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"/>
          <p:cNvSpPr/>
          <p:nvPr/>
        </p:nvSpPr>
        <p:spPr>
          <a:xfrm>
            <a:off x="324000" y="0"/>
            <a:ext cx="8820000" cy="47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тери белка   усиливаются пр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пертермическом   синдроме в 2 – 3 раз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инамии (гиподинамии) – вынужденное положение, иммобилизация, ком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струкции, некрозах ткани (гнойно-септическая патология, ожоги, травматический и нетравматический   рабдомиолиз, гемолиз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овотеч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нняя активизация больного способствует сохранению белка, ускорению процессов его обме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2"/>
          <p:cNvSpPr/>
          <p:nvPr/>
        </p:nvSpPr>
        <p:spPr>
          <a:xfrm>
            <a:off x="0" y="7920"/>
            <a:ext cx="8856720" cy="61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ровень альбумина в норме 40 - 55 г/л, составляет от 65 до 80 % общего белка (75 г/л – средняя норма). Норма альбуми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орожденные   34 – 46 г/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удные дети        36 – 49 г/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рше года и взрослые 36 – 55 г/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нтезируется только клетками печени (1/3 – 1/2 всех печеночных клеток) в  объёме  12 -14  г в сутки, в среднем 0,2 г/кг/сутки.  На   его синтез влияют гормон роста, кортизон, тиреоидный гормон, АКТГ, тестостерон, неадекватное и несбалансированное питание, снижается синтез альбумина при гипертермии, сепсисе, стрессе, голод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ьбумин – это естественный коллоид: обладает выраженной гидрофильностью, хорошо связывает воду и удерживает ее в сосудистом русле. 1 г альбумина привлекает в русло 19 мл воды из интерстициального простран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2"/>
          <p:cNvSpPr/>
          <p:nvPr/>
        </p:nvSpPr>
        <p:spPr>
          <a:xfrm>
            <a:off x="108000" y="333360"/>
            <a:ext cx="903600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80% определяет КОД плазмы и объем кровотока, обеспечивая перикапиллярную циркуляцию; при снижении альбумина на 50%   КОД снижается на 66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вует в транспорте эндогенных субстанций таких как: билирубин, гормоны, аминокислоты, жирные кислоты, лекарственные вещества; связывает и удаляет эндогенные, экзогенные токсические субстанции, свободные радикалы -    антитоксическое действие. Последние годы говорят об антигистаминном и антианафилактическом эффекте альбум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улирует КОС, входя в буферную систему крови, переливание альбумина повышает доставку 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потребление его тканя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яет защитные функции – предотвращает апоптоз эндотелиальных клеток в непосредственно в легких, влияет на воспалительный ответ организ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3"/>
          <p:cNvSpPr/>
          <p:nvPr/>
        </p:nvSpPr>
        <p:spPr>
          <a:xfrm>
            <a:off x="0" y="1440"/>
            <a:ext cx="9036000" cy="68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мя полувыведения альбумина составляет 16 – 18 часов, в физиологических условиях 5% альбумина в час проникает в интерстициальное пространство и по лимфатическим сосудам  возвращается в общий кровоток, поддерживая постоянный нормальный его уровень и К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поальбуминемия способствует дисфункции органов (изменяется транскапиллярный обмен), приводит к дистрофии органов и систем организма, задержке жидкости в интерстициальном пространстве и клетках, длительному, плохому заживлению тканей в послеоперационном периоде, иммунодефициту, переводит патологический процесс в хроническое состояние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ьбумин крови ниже 35 г/л невозможно адекватное парентеральное пит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Д (мм рт.ст.) = Общий белок × 0,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рмальные значения КОД = 25 мм рт. ст. соответствует  общему белку 75 г/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2"/>
          <p:cNvSpPr/>
          <p:nvPr/>
        </p:nvSpPr>
        <p:spPr>
          <a:xfrm>
            <a:off x="611280" y="404640"/>
            <a:ext cx="781200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ьбумин крови у детей меньше 40 г/л, КОД &lt; 20 мм рт.ст.  - создаются все условия для задержки жидкости в тканях с повышенной гидрофильностью (воспаление, операционная травма, травматическое повреждение), возникают скрытые, локальные отеки в месте поражения, оперативного вмешательства, травмы, ожога, воспа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нижение уровня альбумина меньше 35 г/л, КОД становится ниже 18 - 16 мм рт.ст., жидкость задерживается в тканях, нет перикапиллярной циркуляции, возникают генерализованные   отеки со снижением ОЦП. КОД = 12 мм рт.ст. – не совместимо с жизн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2" descr=""/>
          <p:cNvPicPr/>
          <p:nvPr/>
        </p:nvPicPr>
        <p:blipFill>
          <a:blip r:embed="rId1"/>
          <a:stretch/>
        </p:blipFill>
        <p:spPr>
          <a:xfrm>
            <a:off x="122400" y="981000"/>
            <a:ext cx="9040680" cy="59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971640" y="189000"/>
            <a:ext cx="7632720" cy="71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акторы, запускающие стресс реакци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ханические повреждения тканей (оперативное вмешательство, ожог, травма, краш-синдром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убокий дефицит перфузии (боль, шоковый синдром, нарушение кровообращения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гионарная гипоперфузия (повреждение сосудов, тромбоэмболия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шемия/некроз (инфаркт миокарда, панкреатит, ДВС-синдр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кробная инвазия (гнойно-некротические процессы, инфекция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эндотоксемия (сепсис, кишечная транслокация, вирус, токсины, воспале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2"/>
          <p:cNvSpPr/>
          <p:nvPr/>
        </p:nvSpPr>
        <p:spPr>
          <a:xfrm>
            <a:off x="108000" y="333360"/>
            <a:ext cx="903600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2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5. Усиление липолиза с повышенным образованием свободных жирных кислот, печеночный глюконеогенез и синтез в печени белков острой фазы, увеличение лактат, эндогенной воды. Под действием цитокинов снижается активность липопротеинлипазы – снижение утилизации жирных кислот и триглицеридов тканями, приводит к образованию кетоновых тел и кетоацидозу. Вместо образования из 1г жира 9 ккал образуется 4 ккал, т.е. утилизация недостаточная, токсичность возрастает. Назначение инфузии липидов ранее 5-6 суток нецелесообразно, могут возникнуть осложнения (гиперлипидемия, бактериемия, угнетение активности полиморфноядерных лейкоцитов и лимфоцитов) – прогрессирование ССВО и сепси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иление протеолиза - нарушения гемостаза, манифестация – коагулопатия потреб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2"/>
          <p:cNvSpPr/>
          <p:nvPr/>
        </p:nvSpPr>
        <p:spPr>
          <a:xfrm>
            <a:off x="468360" y="0"/>
            <a:ext cx="8675640" cy="67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Разнонаправленные нарушения ВЭО, КОС - олигурия 1-го по 3-й день. Причины – повышенное выделение вазопрессина вследствие анестезии, влияния медикаментов, потери жидкости, болевого фактора. В результате гиперальдостеронизма происходит задержка натрия (3-5 день п/о периода),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больных в критическом состоянии - част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севдогипонатрием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ложная низкая измеряемая концентрация натрия в плазме в сочетании с нормальной или высокой осмоляльностью. Как правило, это бывает при повышенной проницаемости тканей в результате гипоперфузии и ишемии, причиной не физиологической секреции АДГ является: гиповолемия, поражение легких, травма ЦНС, эндокринная дисфункция, опухоли, синтезирующие пептид с аналогичным действием или препараты, похожие на АДГ, влияние провоспалительных цитокинов и АФК (капиллярная «утечка»), при  нарушениях липидного (гипертриглицеридемия и гиперхолестеринемия) и белкового обменов. На 2-3 день п/о периода - отрицательный баланс калия и магния, считается, чт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ри операциях средней степени тяжести первые 4 дня потеря калия составляет 90 ммоль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иливается гипокалиемия и гипомагнемия при иммобилизации, адинамии, коме. Изменения КОС неизбежно и закономерно в связи с метаболическими влияниями и действием анестезии. Может быть ранний и поздний ацидоз. Ранний респираторный ацидоз – влияние анестезии: опиаты, ДН (раневая боль) и т.д.; поздний ацидоз – секрет в бронхах, ателектазы, плевральный выпот, коллабирование оперированного легкого, развивающийся интерстициальный отек вследствие чрезмерного введения кристаллоидов и нат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асовой диурез – маркер стрес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2"/>
          <p:cNvSpPr/>
          <p:nvPr/>
        </p:nvSpPr>
        <p:spPr>
          <a:xfrm>
            <a:off x="2268360" y="1773360"/>
            <a:ext cx="559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6.  Нарушение иммуногенеза, развивается постстрессорная супрессия,  нарушения иммунного статуса – ССВ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2"/>
          <p:cNvSpPr/>
          <p:nvPr/>
        </p:nvSpPr>
        <p:spPr>
          <a:xfrm>
            <a:off x="19080" y="333360"/>
            <a:ext cx="8712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7. Кишечник как не дренированный абсцесс – транслокация условно-патогенной флоры в регионарные лимфатические узлы и общий кровоток – септические очаги («двигатель» СПОН). Централизация в ЖКТ – нарушается структура энтероцита, снижается количество Т- и В-лимфацитов, плазматических клеток, синтез иммуноглобулина А и увеличивается синтез условно-патогенной флоры. Результат – отек кишечной стенки, повышение её проницаемости, нарушение полостного и пристеночного пищеварения, т.е. нарушение трофической и моторно-эвакуаторной функций ЖКТ. Усугубляет и поддерживает системную воспалительную реакцию и СП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50920" y="-36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а обратного кортикоидного развит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ратковременна, условно длится 1 – 2 дня, характеризуется «физиологическими» клинико- лабораторными показателями. Клинически: стабилизация общего состояния и самочувствия ребенка, нормализация температуры тела, ЦГД, периферического кровообращения, моторно-эвакуационной функции ЖКТ, диуреза, появление интереса к окружающему и аппетита. Это результат формирования реакций долгосрочной   адаптации для поддержания гомеостаза и дальнейшего   восстановле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живления поврежденных тканей, т.е. анаболизма. В этот период нельзя «успокаиваться», болезнь продолжается, компенсация может быть не стойкой, поэтому не рекомендуется резко изменять характер давшей результат интенсивной терап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94920" y="115920"/>
            <a:ext cx="830268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аза анаболизма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ловно начинается с 7 – 11 суток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ительность 2 – 3 недели, принципиальным направлением лечения в этот период является адекватное возмещение потребностей организма в энергетическом и пластическом материале -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бязательное искусственное питание, не смотря в ряде случаев на клинически достаточную «физиологическую» функцию ЖК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IV. Фаза накопления жира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период реконвалесценции), от 4 месяцев до 1 года. Это период полного   восстановления предшествующего агрессии метаболического статуса организма и физиологических взаимоотношений между органами, тканями, регуляторными систем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Object 3"/>
          <p:cNvGraphicFramePr/>
          <p:nvPr/>
        </p:nvGraphicFramePr>
        <p:xfrm>
          <a:off x="-1087560" y="0"/>
          <a:ext cx="11198520" cy="708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87560" y="0"/>
                    <a:ext cx="11198520" cy="708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Object 66" descr=""/>
          <p:cNvPicPr/>
          <p:nvPr/>
        </p:nvPicPr>
        <p:blipFill>
          <a:blip r:embed="rId1"/>
          <a:stretch/>
        </p:blipFill>
        <p:spPr>
          <a:xfrm>
            <a:off x="108000" y="357120"/>
            <a:ext cx="90360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40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тяжелом состоянии в условиях гиперметаболизма- гиперкатаболизм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w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аза послеоперационного  периода) дети, особенно младшего возраста, плохо переносят большие объемы инфузий,  не смотря на теоретическую обоснованность необходимости их коррекции. Так ка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волемия     гипоксия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транскапиллярного обм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ражение эндотелия обменного микрососуда)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провоспалительных цитокинов и эйкозаноидов (высокая проницаемость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ие клеточных структур (трансминерализация, или синдром            «больной» клетки)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ессирование органной дисфункции или недостаточности - СПОН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0" y="189000"/>
            <a:ext cx="9144000" cy="70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рмональный ответ на стресс и развитие адаптационных реакций происходит   независимо от этиологии повреждения происходит стереотипно в 2 этап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).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п срочной адаптац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несовершенный путь) – срочная мобилизация с первых минут развития стресс-синдрома всех ресурсов организма для обеспечения органов, ответственных за срочную адаптацию, этот этап протекает на пределе физиологических возможностей организма и не всегда в полной мере может обеспечить должный адаптационный ответ. В этот период особое значение приобретает своевременность и качество первой помощи у всех групп больных независимо от возраста и генеза стрессорной реакции - помнить о «золотом часе». К органам срочной адаптации относя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овообращение, дыхание, медиаторная систе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делительн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ндокринная система красной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24000" y="0"/>
            <a:ext cx="8820000" cy="53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и инфузионной терапи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оптимального объема инфузий для быстрого достижения нормоосмолярности, быстрая объемная  регидратация ухудшает состояние пациента, способствуя переходу жидкости в интрацеллюлярную область (резкое снижение осмолярности и КОД особенно на фоне имеющейся гипопротеинемии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ыточные инфузии гипо- и изоосмолярных растворов ухудшают диффузию кислорода через альвеолярно–капиллярные мембраны, способствуют развитию отека легких, головного мозга, синдрома острого повреждения легких (СОПЛ 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словии адекватного восполнения и поддержания ОЦК несоблюдение принципа разумного ограничения объема инфузий, поддержания нулевого гидробаланса, начиная со вторых суток послеоперационного перио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воевременная коррекция гипоальбуминемии и анемии при сохраняющимся или прогрессирующим эндотоксикозе,  абсолютизации данных одного  лабораторного теста или функционального мониторинга без учета клинической картины течения постстрессорного или постоперационного периодов (не ориентироваться только на показатели общего белка и «красной» крови, т.к. гемодилюция или гемоконцентрация изменяют их показатели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рименения раннего энтерального трофического (витального) питания. Восстановилась проходимость ЖКТ – энтеральное (оральное) питание, которое уменьшит риск ятрогении  инфузионной терапии и парентерального питания  у детей, особенно младенцев и младшего возрас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95280" y="-360"/>
            <a:ext cx="82296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гипердинамический тип кровообращени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вномерная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гидратационная   иифузионная  терапия в течение  суто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ые 6 часов из расчета  -   1/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ф.п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+  1/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деф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ставшееся  18 часов равномерная регидратация -   3/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ф.п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+  1/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деф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коррекция потер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атологические  (продолжающиеся) потер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рез кишечник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или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хирургический)  -  20 – 40 мл/кг/су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тери с рвотой  - 20 мл/кг/сут, или постоянно по мере поступления «капля за       каплю».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тери  с диареей  -   30 мл/кг/с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ртовый раствор кристаллоид  - раствор Рингера, или  Рингер-Лактата, или 10 % раствор глюкозы, или Плазма Лит 148 (с 5% глюкозой), Стерофундин изотонический, Реамберин 10 мл/кг/час, 2 час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Рисунок 1" descr=""/>
          <p:cNvPicPr/>
          <p:nvPr/>
        </p:nvPicPr>
        <p:blipFill>
          <a:blip r:embed="rId1"/>
          <a:stretch/>
        </p:blipFill>
        <p:spPr>
          <a:xfrm>
            <a:off x="1116000" y="115920"/>
            <a:ext cx="1897200" cy="865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33336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нормодинамический» тип кровообращении   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прежний принцип, но стартовый раствор – коллоид:  волювен, инфукол 5 мл/кг (новорожденные, остальные ГЭК с 12-ти лет) или гелофузин. +  остальной объём кристаллои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онце 4-6 часа  5 - 10% альбумин  в дозе  10 мл/к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Рисунок 4" descr=""/>
          <p:cNvPicPr/>
          <p:nvPr/>
        </p:nvPicPr>
        <p:blipFill>
          <a:blip r:embed="rId1"/>
          <a:stretch/>
        </p:blipFill>
        <p:spPr>
          <a:xfrm>
            <a:off x="1332000" y="765000"/>
            <a:ext cx="2016000" cy="935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Д  &lt; 70 мм рт.ст. - 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гипотонический тип кровообращения 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 шок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ст.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рвые 2 часа   -  20 мл/кг/час, т.е. за 2 часа 40 мл/кг (безопасный объём  у детей младшего возраста при отсутствии/остановке кровотечения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ервые 15 – 20 мин  10 мл/кг с адреномиметиками/инотропами или без них: ГЭК, гелофузин,   5 - 10% альбумин   + 10 мл/кг кристаллоид. 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000" spc="-1" strike="noStrike">
                <a:solidFill>
                  <a:srgbClr val="000000"/>
                </a:solidFill>
                <a:latin typeface="Calibri"/>
              </a:rPr>
              <a:t>Обязательное условие   -  ИВЛ!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 стабилизации АД с  адреномиметиками/инотропами или без них  - равномерная регидратация соответственно степени тяжести СПОН, 36 – 48 час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операционный перио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временной интервал, ограниченный моментом окончания хирургического вмешательства и полным (или почти полным) восстановлением способности оперированного больного к выполнению бытовых и трудовых нагруз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жайший послеоперационный период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ервые 6 – 24 часа), который напрямую связан с операционной травмой  и обезболиванием, воздействие которых может продолжаться. Характеризуется максимальной неустойчивостью жизненно важных функций, возникновением патологических состояний: это кровотечения, пневмоторакс в зависимости от области оперативного вмешательства, осложнения анестезиологического пособия (озноб, посленаркозная рвота, задержка мочеиспускания, вентиляционная ОДН). Это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болическая фаза системной постагрессивной реакции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на прогрессивно нарастает и достигает максимальной выраженности к концу суток даже при небольших операциях и операциях   средней травматичности при  неосложненном течен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анний послеоперационный перио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с 2 по 3 - 7 день при различных по характеру и объему вмешательствах) соответствует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атаболической и переходной фазам постагрессивной реак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здний послеоперационный перио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с 7 – 10 дня после операции), его функциональные характеристики определяются проявлениями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анаболической фаз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родолжительность которой составляет до двух – трёх недел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тдаленный послеоперационный перио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следняя фаза постагрессивной реакции – «фаза накопления  жира» по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oore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длится от 4 – 6 месяцев до 2 – 4 лет, в зависимости от глубины и тяжести перенесенной агресс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250920" y="189000"/>
            <a:ext cx="8893080" cy="60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п долгосрочной адаптации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сформировать и поддержать гомеостаз в условиях стрессорной реакции. В этот период за счет формирования клеточных структурных изменений в органах долгосрочной адаптации увеличивается энергетическая мощность систем ответственных за срочную адаптацию.  К органам, которые непосредственно сейчас не участвуют в адаптации относят (долгосрочная адаптация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щеварительная (ЖК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астично эндокринн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лов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орно-двигательн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ммунн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стема жировой тка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оказания к назначению физиологической потребно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к-набухание головного мозга – 75% от физиологической потреб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хательная недостаточность 11 или 111 степени – 50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ечная недостаточность 11 или 111 степени – 25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ый   канальцевый  некроз (ренальная почечная недостаточность в стадию анурии) – 25%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!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начительный стресс приводит к усилению белкового обмена, с высвобождением аминокислот скелетных мышц, нарушению соотношения процессов синтеза белка и его деградации, при чем последние  существенно преобладают, потеря ферментативных и висцеральных белков. Белки плазмы, печени, ЖКТ распадаются очень быстро в отличие от белков поперечнополосатой мускулатуры, особенно лабильны белки ЖКТ, печен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нойно-септическая патолог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показание к увеличению белковой нагрузки, особенно у детей новорожденных и  младшего возраста (быстро наступает белковое истощение,  дефицит альбумина, развивается анемия)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тяжелее стресс, тем сильнее расщепление бел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больше операционное поле, тем больше потери альбум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и  белка зависят о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а ребен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ного белкового дефицит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 анеми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утствующей патологии (осложнений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а оперативного вмешательства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и белка  усиливаются пр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термическом  синдром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инамии (гиподинамии) – вынужденное положение, иммобилизация, ком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трукции, некрозах ткани (гнойно-септическая патология, ожоги, травматический и нетравматический рабдомиолиз, гемолиз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вотечени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судации в воспалительные, поврежденные ткан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й проницаем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ямая корреляция между уровнем альбумина плазмы (ниже 35 г/л) и высокой летальностью, повышением частоты осложнений, повторных госпитализаций, удлинением сроков ИВЛ и пребывания в отделении реанимации и стациона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бумин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ает выраженной гидрофильностью, хорошо связывает воду и удерживает ее в сосудистом русле. На 80% определяет КОД плазмы и объем кровотока,  обеспечивая перикапиллярную циркуляцию;    при снижении альбумина на 50%, КОД снижается на 66%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вует в транспорте эндогенных субстанций таких как: билирубин, гормоны, аминокислоты, жирные кислоты, лекарственные вещества; связывает и удаляет эндогенные, экзогенные токсические субстанции, свободные радикалы  -    антитоксическое действие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ирует КОС, входя в буферную систему крови, переливание альбумина повышает доставку и потребление  кислорода тканям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т защитные функции – предотвращает апоптоз эндотелиальных клеток  в культуре и непосредственно в легких,  влияет на воспалительный ответ организ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альбуминемия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дисфункции органов (изменяется транскапиллярный обмен), приводит к дистрофии органов и систем организма, задержке жидкости в интерстициальном пространстве и клетках, длительному, плохому заживлению тканей в послеоперационном периоде, переводит патологический процесс в  хроническое состояние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ключение альбумина в состав инфузионной терапии у детей обусловлено не только необходимостью поддержания КОД плазмы, а и предотвращения или лечения нарушений циркуляции, но и необходимостью поддержания функций, которые альбумин выполняет в организм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мотрасфузии в послеоперационном период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ь эффективного кислородного потока (КП)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гемоглобина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утный объем крови (МОК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анемии КП может быть нормальным при увеличении МОК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 100 г/л  -  в 1,5 раза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100 г/л – в 3 раза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 80 г/л – в 5 – 6 раз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 должного прироста МОК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жение легки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компенсаторных возможностей сердца (действие кардиодепрессивного фактора при эндотоксикозе,  гипоперфузи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свертывающей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функции поч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л/кг эритроцитарной  массы повышает  Н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1%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тимая  гемодилюция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 32% у детей младшего возраста, старшего и подростков -  до 30%     -  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умный компромисс  между уменьшением способности крови к переносу кислорода и улучшением её текучести при условии </a:t>
            </a: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сутствия патологии сердца и легки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азы метаболического ответа на стресс  (Д.Котберсон, Ф.Мур)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ремя зависит от заболевания и леч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916280" y="1663560"/>
            <a:ext cx="6095880" cy="333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4" name="Line 16"/>
          <p:cNvSpPr/>
          <p:nvPr/>
        </p:nvSpPr>
        <p:spPr>
          <a:xfrm>
            <a:off x="7696080" y="4079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4952880" y="4994280"/>
            <a:ext cx="1219320" cy="81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Переходная фа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~2 сут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6400800" y="4917960"/>
            <a:ext cx="126684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Фаза анаболиче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-3 нед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9"/>
          <p:cNvSpPr/>
          <p:nvPr/>
        </p:nvSpPr>
        <p:spPr>
          <a:xfrm>
            <a:off x="7496280" y="4997520"/>
            <a:ext cx="16192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Фаза накопления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жи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3-4 мес.  до 1-2 л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0"/>
          <p:cNvSpPr/>
          <p:nvPr/>
        </p:nvSpPr>
        <p:spPr>
          <a:xfrm>
            <a:off x="3276720" y="4917960"/>
            <a:ext cx="14475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Фаза усиления (прили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-10 дн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1752480" y="4917960"/>
            <a:ext cx="13716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Фаза ослабления (отли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~2-4 до 24 ча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2"/>
          <p:cNvSpPr/>
          <p:nvPr/>
        </p:nvSpPr>
        <p:spPr>
          <a:xfrm>
            <a:off x="2286000" y="3713040"/>
            <a:ext cx="762120" cy="44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E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3"/>
          <p:cNvSpPr/>
          <p:nvPr/>
        </p:nvSpPr>
        <p:spPr>
          <a:xfrm>
            <a:off x="3200400" y="4003560"/>
            <a:ext cx="1371600" cy="381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4"/>
          <p:cNvSpPr/>
          <p:nvPr/>
        </p:nvSpPr>
        <p:spPr>
          <a:xfrm>
            <a:off x="3505320" y="4232160"/>
            <a:ext cx="1295280" cy="436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>
            <a:off x="7391520" y="1260360"/>
            <a:ext cx="0" cy="312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6"/>
          <p:cNvSpPr/>
          <p:nvPr/>
        </p:nvSpPr>
        <p:spPr>
          <a:xfrm>
            <a:off x="7543800" y="1260360"/>
            <a:ext cx="0" cy="2819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7"/>
          <p:cNvSpPr/>
          <p:nvPr/>
        </p:nvSpPr>
        <p:spPr>
          <a:xfrm>
            <a:off x="7620120" y="126036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8"/>
          <p:cNvSpPr/>
          <p:nvPr/>
        </p:nvSpPr>
        <p:spPr>
          <a:xfrm>
            <a:off x="3635280" y="2852640"/>
            <a:ext cx="1008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ирост зависит от степени стре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9"/>
          <p:cNvSpPr/>
          <p:nvPr/>
        </p:nvSpPr>
        <p:spPr>
          <a:xfrm>
            <a:off x="539640" y="971640"/>
            <a:ext cx="13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Уровень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етаболиз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0"/>
          <p:cNvSpPr/>
          <p:nvPr/>
        </p:nvSpPr>
        <p:spPr>
          <a:xfrm>
            <a:off x="468360" y="2205000"/>
            <a:ext cx="1439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вышенны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31"/>
          <p:cNvSpPr/>
          <p:nvPr/>
        </p:nvSpPr>
        <p:spPr>
          <a:xfrm>
            <a:off x="539640" y="3933720"/>
            <a:ext cx="136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ормаль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2"/>
          <p:cNvSpPr/>
          <p:nvPr/>
        </p:nvSpPr>
        <p:spPr>
          <a:xfrm>
            <a:off x="539640" y="443700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ониж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2"/>
          <p:cNvGraphicFramePr/>
          <p:nvPr/>
        </p:nvGraphicFramePr>
        <p:xfrm>
          <a:off x="982800" y="17640"/>
          <a:ext cx="7176960" cy="67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0" y="17640"/>
                    <a:ext cx="7176960" cy="67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179280" y="333360"/>
            <a:ext cx="8964720" cy="65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Фазы метаболического ответа на стре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В периоде стрессорного метаболического ответа («биологический процесс защиты») Д. Катберсон и Ф. Мур выделили 4 фаз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фаз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адренэргически-кортикоидная (или собственно постагрессивное нарушение обмена веществ), возникает через 2 – 4 часа с момента действия стрессорного фактора (оперативного вмешательства), всегда присутствует с вторых суток постагрессивного периода, максимальная интенсивность 3-5 сутки, длительность до 5 – 7 суток. В этот период выделяют две подфаз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250920" y="189000"/>
            <a:ext cx="87138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E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bb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фаз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(пониженная метаболическая активность), первые 2-4 часа, характеризуется временным упадком большинства метаболических процессов: центрацизация периферического кровообращения для аварийного обеспечения срочной адаптации (снижение потребление кислорода, скорости метаболических реакций и окисления глюкозы, снижение сывороточного уровня инсулина, нарушение утилизации липидов с одновременным ростом триглицеридов в крови, развивается гипотермия). В результате гипоперфузии в системный кровоток выбрасывается большое количество катехоламинов, цитокинов и свободных радикалов, которые запускают вторую фазу метаболического ответа – усиление метаболизма, максимальный пик которого происходит к 4 часу после операции, основной обмен повышается на 20% и сохраняется в таком объёме 12 – 24 часа, в дальнейшем напряжение метаболического ответа остается неизменным на протяжении всего раннего послеоперационного периода при условии отсутствия ослож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250920" y="0"/>
            <a:ext cx="889308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1079640" y="1924200"/>
            <a:ext cx="105346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560" y="-360"/>
            <a:ext cx="84358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фаза (повышенная метаболическая активность), длительность 2 - 8 дней в зависимости от тяжести стрессорного фактора, возраста, исходного состояния, сопутствующей патологии и эффективности лечебных мероприятий. Максимальная интенсивность его 3 – 5-ые сутки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08000" y="115560"/>
            <a:ext cx="85788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Для flow-фазы характерно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ие скорости обменных процессов, метаболическая дезорганизац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ресс-индуцированная гипергликемия (депрессия анаболической функции инсулина первые 3 – 5 дней) –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маркер стресс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величение потерь азота - отрицательный азотистый баланс –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гиперкатаболиз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иливаются: мышечный протеолиз, липолиз с повышенным образованием свободных жирных кислот, печеночный глюконеогенез  и  синтез в печени белков острой фаз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рушение и нарушение продукции висцеральных белк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ие потребления кислород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ипертерм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ется белково-энергетическая недостаточность, нарушения иммунного статус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окий риск транслокации микробов и их токсинов в общий кровоток –   усугубляет и поддерживает системную воспалительную реакцию и СПО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1T14:40:29Z</dcterms:created>
  <dc:creator>Владимир</dc:creator>
  <dc:description/>
  <dc:language>en-US</dc:language>
  <cp:lastModifiedBy>татьяна Баирова</cp:lastModifiedBy>
  <dcterms:modified xsi:type="dcterms:W3CDTF">2018-07-24T06:21:28Z</dcterms:modified>
  <cp:revision>56</cp:revision>
  <dc:subject/>
  <dc:title>Слайд 1</dc:title>
</cp:coreProperties>
</file>