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Calibri"/>
              </a:rPr>
              <a:t>Довольны ли Вы качеством современн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Довольны ли вы качеством современн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да</c:v>
                </c:pt>
                <c:pt idx="1">
                  <c:v>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5.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Calibri"/>
              </a:rPr>
              <a:t>Как Вы относитесь к дизайнерск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относитесь к дизайнерск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хорошо</c:v>
                </c:pt>
                <c:pt idx="1">
                  <c:v>плохо</c:v>
                </c:pt>
                <c:pt idx="2">
                  <c:v>никак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.2</c:v>
                </c:pt>
                <c:pt idx="1">
                  <c:v>3.4</c:v>
                </c:pt>
                <c:pt idx="2">
                  <c:v>1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Устраивает ли Вас дизайн современн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Устраивает ли Вас дизайн современн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да</c:v>
                </c:pt>
                <c:pt idx="1">
                  <c:v>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2</c:v>
                </c:pt>
                <c:pt idx="1">
                  <c:v>7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Если у вас дома есть старая советская мебель, что бы Вы хотели с ней сделать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Если у вас дома есть старая советская мебель, что бы Вы хотели с ней сделать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Отреставрировать</c:v>
                </c:pt>
                <c:pt idx="1">
                  <c:v>Выкинуть</c:v>
                </c:pt>
                <c:pt idx="2">
                  <c:v>Пусть стои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0FB771-1E7E-455B-8F80-DC3EA5AAD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887808-6DEC-460C-B9AD-84A478530DF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B23-61C1-4811-BB04-6F862942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781-2E7A-4D71-AA48-18F40EA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9D8-8C48-4444-B838-04B1B359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271-B5EA-4315-9E7E-A627D879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3F7-7E70-4C09-B453-E93E764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DC92-3DD2-479C-BD6E-DB347E44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8C8-B3C2-457B-9BAB-A7BEC92C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728A-41A1-4A19-BEC4-71595CB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DA92-B3E4-41F5-8232-6175A671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CE6-8053-4500-886B-10321B49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EDD4-1E29-48B3-A362-AC67A17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F6-3490-45AD-9FF8-2B7646B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16DC-3A65-4EF8-82AC-D0C805A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F703-B702-4973-8DEB-21BCE99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45A-53DB-47C9-873C-C699628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E2C-ABAF-490A-9FDD-FAFB5993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B3F1-1FFE-45AD-A862-29B8E4CF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FD5-9E73-4C3C-85B8-B21E270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862-0B87-4E66-ADB3-3F34C0CB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7E1-1D8A-41D8-9AEA-6E754FA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CE6-4C6B-417E-9582-BB0AD985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0E2-46BB-46B0-9F89-4745E42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448-7598-42F2-87BF-3B26C2C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921-062A-40E7-874B-4F18AF2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36A75E-59BF-47CC-92EC-0D27F10A24D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9FFD84-157B-4595-9C87-2B6FFD1EE7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4286160"/>
            <a:ext cx="7772040" cy="146952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Бизнес план мебельной фирмы</a:t>
            </a:r>
            <a:br>
              <a:rPr sz="4400"/>
            </a:b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«Вторая жизнь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71840" y="5715000"/>
            <a:ext cx="3857400" cy="999720"/>
          </a:xfrm>
          <a:prstGeom prst="rect">
            <a:avLst/>
          </a:prstGeom>
          <a:solidFill>
            <a:schemeClr val="accent4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Колганова К.А.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ИИ-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Xenia\Desktop\учеба\бизнес план\chair-jake-finn-01.jpg"/>
          <p:cNvPicPr/>
          <p:nvPr/>
        </p:nvPicPr>
        <p:blipFill>
          <a:blip r:embed="rId1"/>
          <a:stretch/>
        </p:blipFill>
        <p:spPr>
          <a:xfrm>
            <a:off x="2357280" y="0"/>
            <a:ext cx="4523040" cy="42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F5A-70CD-4681-BA53-36B8012623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7320" y="357120"/>
            <a:ext cx="3357360" cy="99972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тог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 фирма не продают старую антикварную мебель, поэтому цены на отреставрированную мебель у нас (в отличии от художественно-реставрационной мастерской)  гораздо демократичне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ма «Лечим мебель» предлагает только цены за ремонт, когда у нас еще и дизайнерское оформление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-Фабрика предлагает новую мебель под старину, отсюда и цены. Мы же предлагаем старую советскую мебель, переделанную под новый лад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смело сказать, что мастерская «Вторая жизнь старой мебели» уникальна и имеет в аналогах только единичные примеры. (имеется ввиду единичное творчество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6883-6A17-4814-8382-311866DDB1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еимуществ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448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м моментом является то, что наша фирма находится в центре города. Рядом с производственным помещением расположен салон – магази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ой чертой производимой нами мебели является ее качество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ловажным моментом является то, что фирма по желанию клиента производит доставку мебели по месту назнач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Users\Xenia\Desktop\учеба\бизнес план\5.jpg"/>
          <p:cNvPicPr/>
          <p:nvPr/>
        </p:nvPicPr>
        <p:blipFill>
          <a:blip r:embed="rId1"/>
          <a:stretch/>
        </p:blipFill>
        <p:spPr>
          <a:xfrm>
            <a:off x="5214960" y="1431000"/>
            <a:ext cx="2999880" cy="52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91A-B9CF-49D5-9E40-C9ABC8F5A3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иссия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307152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-296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ение потребителю оригинальной и неповторимой мебели - наша первоочередная задача. Став однажды нашим клиентом, заказчик должен желать вернуться, чтобы привнести частичку своей индивидуальности в свое жилищ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" descr="C:\Users\Xenia\Desktop\учеба\бизнес план\bfabe66291ec16d59711d3d77f0108ef.jpg"/>
          <p:cNvPicPr/>
          <p:nvPr/>
        </p:nvPicPr>
        <p:blipFill>
          <a:blip r:embed="rId1"/>
          <a:stretch/>
        </p:blipFill>
        <p:spPr>
          <a:xfrm>
            <a:off x="3429000" y="1928880"/>
            <a:ext cx="544248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DD89-1CB1-4C77-BCA5-C882A7DB87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ерсонал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3500280" y="2643120"/>
            <a:ext cx="1685520" cy="4186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147680" y="3862440"/>
            <a:ext cx="140940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нед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814480" y="3862440"/>
            <a:ext cx="149508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зайн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24560" y="3862440"/>
            <a:ext cx="154260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оляр, пл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443640" y="3862440"/>
            <a:ext cx="129492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хгал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1919160" y="3062160"/>
            <a:ext cx="158148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5" name="AutoShape 7"/>
          <p:cNvCxnSpPr/>
          <p:nvPr/>
        </p:nvCxnSpPr>
        <p:spPr>
          <a:xfrm flipH="1">
            <a:off x="3700440" y="3062160"/>
            <a:ext cx="30492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6" name="AutoShape 8"/>
          <p:cNvCxnSpPr/>
          <p:nvPr/>
        </p:nvCxnSpPr>
        <p:spPr>
          <a:xfrm>
            <a:off x="4624200" y="3062160"/>
            <a:ext cx="63864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7" name="AutoShape 9"/>
          <p:cNvCxnSpPr/>
          <p:nvPr/>
        </p:nvCxnSpPr>
        <p:spPr>
          <a:xfrm>
            <a:off x="5186160" y="3062160"/>
            <a:ext cx="177192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1FE0-5EBE-4F30-9B5C-1BB7634769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екла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ной кампанией будет заниматься менеджер. Реклама в интернете по всем сайтам и соц. сетям, газетам, а также реклама в лифтах сделают свое дело. Но главное, это личные контакты с потребителями нашей продукции, как уже имеющиеся, так и те, которые предстоит наработа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BE6-5CB1-4080-A612-1DA11349D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заказов будет осуществляться менеджером. Рекламные и маркетинговые мероприятия, будут проводиться не только на территории Ростовской области, но и в Ставропольском , и в Краснодарском краях должны привлечь внимание потребителей из этих регио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F2AC-6035-4F56-BA63-23018C3C43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нализ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про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Содержимое 4"/>
          <p:cNvGraphicFramePr/>
          <p:nvPr/>
        </p:nvGraphicFramePr>
        <p:xfrm>
          <a:off x="457200" y="1600200"/>
          <a:ext cx="3542760" cy="3685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3" name="Диаграмма 5"/>
          <p:cNvGraphicFramePr/>
          <p:nvPr/>
        </p:nvGraphicFramePr>
        <p:xfrm>
          <a:off x="4857840" y="1785960"/>
          <a:ext cx="3881160" cy="36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ED02-9434-4D2D-9782-8C7D70F58E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Диаграмма 4"/>
          <p:cNvGraphicFramePr/>
          <p:nvPr/>
        </p:nvGraphicFramePr>
        <p:xfrm>
          <a:off x="357120" y="1357200"/>
          <a:ext cx="3142800" cy="392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5" name="Диаграмма 5"/>
          <p:cNvGraphicFramePr/>
          <p:nvPr/>
        </p:nvGraphicFramePr>
        <p:xfrm>
          <a:off x="4143240" y="1143000"/>
          <a:ext cx="4667040" cy="4285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08AE-6C11-41A5-A7D1-451BAE3D3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во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езультатам опроса можно сделать выводы, что в данном регионе подобное предприятие станет популярным, потому что больше 50% опрошенных недовольны качеством современной продукции и положительно отнеслись к ее реставр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B26-1C1D-406A-AD64-CEB9981863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роки формирования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Содержимое 3"/>
          <p:cNvGraphicFramePr/>
          <p:nvPr/>
        </p:nvGraphicFramePr>
        <p:xfrm>
          <a:off x="1285920" y="2357280"/>
          <a:ext cx="6616800" cy="2952000"/>
        </p:xfrm>
        <a:graphic>
          <a:graphicData uri="http://schemas.openxmlformats.org/drawingml/2006/table">
            <a:tbl>
              <a:tblPr/>
              <a:tblGrid>
                <a:gridCol w="3308040"/>
                <a:gridCol w="330876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нки, автомобиль, компьютер, при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други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упка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изводство меб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"/>
          <p:cNvSpPr/>
          <p:nvPr/>
        </p:nvSpPr>
        <p:spPr>
          <a:xfrm>
            <a:off x="1285920" y="1859040"/>
            <a:ext cx="65718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эта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7C40-E7C9-46AC-A8B9-1532390EA8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71480" cy="101088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держ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002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прое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разработчик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ов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ая деятель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рис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C:\Users\Xenia\Desktop\учеба\бизнес план\01m.jpg"/>
          <p:cNvPicPr/>
          <p:nvPr/>
        </p:nvPicPr>
        <p:blipFill>
          <a:blip r:embed="rId1"/>
          <a:stretch/>
        </p:blipFill>
        <p:spPr>
          <a:xfrm>
            <a:off x="4000320" y="285840"/>
            <a:ext cx="4571640" cy="273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Xenia\Desktop\учеба\бизнес план\5681d7d7a62b2.jpg"/>
          <p:cNvPicPr/>
          <p:nvPr/>
        </p:nvPicPr>
        <p:blipFill>
          <a:blip r:embed="rId2"/>
          <a:stretch/>
        </p:blipFill>
        <p:spPr>
          <a:xfrm>
            <a:off x="4000320" y="3071880"/>
            <a:ext cx="4557240" cy="298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DF6-D6FE-4A65-9ECB-32D8A3615F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 производ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ы процесса производств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Анализ поврежд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ительные операци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ор мебели на конструктивные ча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а при необходимости механизм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ие лака и крас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ой и пошив чехлов (раскроечный сто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ой поролон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окраска и дальнейшее декорирование дизайнер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Покрытие лак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ка фурниту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Приемка готовой проду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Упаков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DF4E-AC45-4BF1-83ED-03CBE48941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71800" y="1571760"/>
            <a:ext cx="5143320" cy="71388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ы и комплектующ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Содержимое 3"/>
          <p:cNvGraphicFramePr/>
          <p:nvPr/>
        </p:nvGraphicFramePr>
        <p:xfrm>
          <a:off x="1263240" y="2423160"/>
          <a:ext cx="6616800" cy="265644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эмульсионная 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 1 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 1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мебельных пе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кодерж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ежная фурни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-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Заголовок 1"/>
          <p:cNvSpPr/>
          <p:nvPr/>
        </p:nvSpPr>
        <p:spPr>
          <a:xfrm>
            <a:off x="428760" y="285840"/>
            <a:ext cx="8229240" cy="1142640"/>
          </a:xfrm>
          <a:prstGeom prst="rect">
            <a:avLst/>
          </a:prstGeom>
          <a:solidFill>
            <a:srgbClr val="ffffff"/>
          </a:solidFill>
          <a:ln>
            <a:solidFill>
              <a:srgbClr val="d8b25c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инансовый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4BF-368B-45F2-8734-4FE6C10A0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14720" y="274680"/>
            <a:ext cx="47858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 сбы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Содержимое 3"/>
          <p:cNvGraphicFramePr/>
          <p:nvPr/>
        </p:nvGraphicFramePr>
        <p:xfrm>
          <a:off x="142920" y="2143080"/>
          <a:ext cx="4411080" cy="147600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/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000-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-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-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Таблица 4"/>
          <p:cNvGraphicFramePr/>
          <p:nvPr/>
        </p:nvGraphicFramePr>
        <p:xfrm>
          <a:off x="4643280" y="2143080"/>
          <a:ext cx="4411080" cy="265536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/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Содержимое 4"/>
          <p:cNvGraphicFramePr/>
          <p:nvPr/>
        </p:nvGraphicFramePr>
        <p:xfrm>
          <a:off x="357120" y="5500800"/>
          <a:ext cx="6616800" cy="885600"/>
        </p:xfrm>
        <a:graphic>
          <a:graphicData uri="http://schemas.openxmlformats.org/drawingml/2006/table">
            <a:tbl>
              <a:tblPr/>
              <a:tblGrid>
                <a:gridCol w="3768480"/>
                <a:gridCol w="2848320"/>
              </a:tblGrid>
              <a:tr h="225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ыль до выплаты нало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ая прибы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9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6979-AAFE-44A7-9C9C-5797EB2BBF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нализ риск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риска, которым подвержена наша деятельность и мероприятия по их устранению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бой в поставке сырь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рушения в работе оборудо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сырь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ущенный бра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явление дополнительных конкур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жар, хищ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каз в предоставлении аренды помещ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менение спро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511E-30B6-46B5-A2A9-6B25A2276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C:\Users\Xenia\Desktop\учеба\бизнес план\gitara-na-stene.jpg"/>
          <p:cNvPicPr/>
          <p:nvPr/>
        </p:nvPicPr>
        <p:blipFill>
          <a:blip r:embed="rId1"/>
          <a:srcRect l="0" t="0" r="0" b="17439"/>
          <a:stretch/>
        </p:blipFill>
        <p:spPr>
          <a:xfrm>
            <a:off x="3786120" y="1928880"/>
            <a:ext cx="5357520" cy="3688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Заключ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2872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7880" indent="-317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приятие “ВТОРАЯ ЖИЗНЬ” занимается реставрацией и продажей мебели, что на сегодняшний момент является перспективным и доходным дел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7880" indent="-317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дукцию фирмы выгодно отличают от продукции конкурентов следующие показатели: низкие цены и советское качество, возможность выбора фурнитуры  и дизайна, а также немаловажным фактором является индивидуальный подход к каждому клиенту и учет особенностей интерьера квартиры заказчика, доставка по месту назначения. Первые 3 года предприятие планирует закупать старую мебель, реставрировать и продавать с дальнейшим расширением ассортимен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312-EB36-471C-ACFA-2069EE4FEE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5071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здать авторскую мебель доступной для среднего потребител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ать вторую жизнь крепкой и качественной советской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ать возможность дизайнерам и художникам реализовывать свои идеи вне производственных рам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нач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оригинальной, авторской мебели советского качества. Реставрация и ремонт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C:\Users\Xenia\Desktop\учеба\бизнес план\iz-starogo-stola-mogut-poluchitsya-dva-dekorativnyh-stolika.jpg"/>
          <p:cNvPicPr/>
          <p:nvPr/>
        </p:nvPicPr>
        <p:blipFill>
          <a:blip r:embed="rId1"/>
          <a:stretch/>
        </p:blipFill>
        <p:spPr>
          <a:xfrm>
            <a:off x="5286240" y="1428840"/>
            <a:ext cx="3642840" cy="487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51C-CAE9-4DCF-83E9-98ED6A27B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г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0715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скупки старой мебели за бесценок. По результатам опроса 40% опрошенных готовы старую мебель просто выкинуть. От скупщика требуется только вывоз сырья. При реставрации расход идет на смену фурнитуры, краску и работу художника. На выходе получаем дизайнерскую, качественную и недорогую мебел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C:\Users\Xenia\Desktop\учеба\бизнес план\305bf5513ba0f2fbdc2347b4d4ec2222.jpg"/>
          <p:cNvPicPr/>
          <p:nvPr/>
        </p:nvPicPr>
        <p:blipFill>
          <a:blip r:embed="rId1"/>
          <a:stretch/>
        </p:blipFill>
        <p:spPr>
          <a:xfrm>
            <a:off x="428760" y="1428840"/>
            <a:ext cx="5285880" cy="52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F30-6AD7-482C-9C03-2971CC99F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писание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ятие по изготовлению мягкой мебели планируется организовать на юге России в городе Ростов-на-Дону. Общая площадь занимаемого помещения составляет 60 кв. 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воей форме данное предприятие относится к микро предприят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ое предприятие планируется организовать в виде ИП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в размере: 400 0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" descr="C:\Users\Xenia\Desktop\учеба\бизнес план\23.jpg"/>
          <p:cNvPicPr/>
          <p:nvPr/>
        </p:nvPicPr>
        <p:blipFill>
          <a:blip r:embed="rId1"/>
          <a:stretch/>
        </p:blipFill>
        <p:spPr>
          <a:xfrm>
            <a:off x="1500120" y="3786120"/>
            <a:ext cx="585756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31C8-E711-498B-A875-202BC68DDC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тенциальные клиен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добства мы разбиваем сегмент рынка по группам потребителей на подгрупп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еуспевающие клиенты. (зп.70000-8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лиенты со средним доходом. (зп.40000-5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лиенты с низким доходом. (зп.10000-2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Users\Xenia\Desktop\учеба\бизнес план\1474826573_6-1.jpg"/>
          <p:cNvPicPr/>
          <p:nvPr/>
        </p:nvPicPr>
        <p:blipFill>
          <a:blip r:embed="rId1"/>
          <a:stretch/>
        </p:blipFill>
        <p:spPr>
          <a:xfrm>
            <a:off x="1643040" y="3714840"/>
            <a:ext cx="6071760" cy="29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C769-B57F-4F94-AE77-CB14C6263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огнозирование продаж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рвых этапах развития данного бизнеса предполагается использовать политику агрессивного вхождения в рынок. Сочетание таких факторов как разумная цена, советское качество продукции, быстрые сроки исполнения заказов и дизайнерская работа не оставят практически никаких шансов конкурента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8136-5D9C-42CB-9A11-FCE9F12DBF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куренц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ев положение дел в городе Ростов-на-Дону в области производства мебели, можно сказать, что конкуренция в данной отрасли производства очень высо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мебели, произведенной в городе Ростов-на-Дону, в продаже присутствует мебель, привезенная из других городов и республик, в частности: из Москвы, Белоруссии, Польши, Италии, Амери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ицательной стороной этого является дороговизна мебели. Это связано с тем, что расходы по доставке прямо пропорционально влияют на изменение це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A7AF-7922-4861-8160-CACE908FE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курентный анализ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Содержимое 4"/>
          <p:cNvGraphicFramePr/>
          <p:nvPr/>
        </p:nvGraphicFramePr>
        <p:xfrm>
          <a:off x="71280" y="2071800"/>
          <a:ext cx="4642920" cy="1650600"/>
        </p:xfrm>
        <a:graphic>
          <a:graphicData uri="http://schemas.openxmlformats.org/drawingml/2006/table">
            <a:tbl>
              <a:tblPr/>
              <a:tblGrid>
                <a:gridCol w="3009600"/>
                <a:gridCol w="16333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еховое кресло 19 в, сделана полная реставрация ,перетяжка и обо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000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ль ореховая 19 в. с позол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жный ореховый секретер в стиле Ар-Деко, под реставр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000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Таблица 5"/>
          <p:cNvGraphicFramePr/>
          <p:nvPr/>
        </p:nvGraphicFramePr>
        <p:xfrm>
          <a:off x="4786200" y="2071800"/>
          <a:ext cx="4285800" cy="178560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</a:tblGrid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фанеры в див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бруса в див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лейка с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Таблица 6"/>
          <p:cNvGraphicFramePr/>
          <p:nvPr/>
        </p:nvGraphicFramePr>
        <p:xfrm>
          <a:off x="71280" y="4357800"/>
          <a:ext cx="4642920" cy="1714320"/>
        </p:xfrm>
        <a:graphic>
          <a:graphicData uri="http://schemas.openxmlformats.org/drawingml/2006/table">
            <a:tbl>
              <a:tblPr/>
              <a:tblGrid>
                <a:gridCol w="3009600"/>
                <a:gridCol w="1633320"/>
              </a:tblGrid>
              <a:tr h="477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овать "Ретр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очка "Винта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л " Прованс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Таблица 7"/>
          <p:cNvGraphicFramePr/>
          <p:nvPr/>
        </p:nvGraphicFramePr>
        <p:xfrm>
          <a:off x="4786200" y="4357800"/>
          <a:ext cx="4285800" cy="1671120"/>
        </p:xfrm>
        <a:graphic>
          <a:graphicData uri="http://schemas.openxmlformats.org/drawingml/2006/table">
            <a:tbl>
              <a:tblPr/>
              <a:tblGrid>
                <a:gridCol w="2767320"/>
                <a:gridCol w="1518840"/>
              </a:tblGrid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000-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-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-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"/>
          <p:cNvSpPr/>
          <p:nvPr/>
        </p:nvSpPr>
        <p:spPr>
          <a:xfrm>
            <a:off x="154800" y="1716120"/>
            <a:ext cx="39618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удожественно-Реставрационная мастерская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4786200" y="176400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бельное атель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«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ечим меб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0" y="407196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рт-Фабрика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4798800" y="4050000"/>
            <a:ext cx="3491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астерская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«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торая жизнь старой мебели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1F1-9B68-410D-A46C-605C3C4D3B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  <Words>1227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0T08:26:00Z</dcterms:created>
  <dc:creator>Xenia</dc:creator>
  <dc:description/>
  <dc:language>en-US</dc:language>
  <cp:lastModifiedBy>Xenia</cp:lastModifiedBy>
  <dcterms:modified xsi:type="dcterms:W3CDTF">2016-12-15T22:28:45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