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ru-RU" sz="2160" spc="-1" strike="noStrike">
                <a:solidFill>
                  <a:srgbClr val="000000"/>
                </a:solidFill>
                <a:latin typeface="Calibri"/>
              </a:defRPr>
            </a:pPr>
            <a:r>
              <a:rPr b="1" lang="ru-RU" sz="2160" spc="-1" strike="noStrike">
                <a:solidFill>
                  <a:srgbClr val="000000"/>
                </a:solidFill>
                <a:latin typeface="Calibri"/>
              </a:rPr>
              <a:t>Довольны ли Вы качеством современной мебели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Довольны ли вы качеством современной мебели</c:v>
                </c:pt>
              </c:strCache>
            </c:strRef>
          </c:tx>
          <c:spPr>
            <a:solidFill>
              <a:srgbClr val="94b6d2"/>
            </a:solidFill>
            <a:ln w="0">
              <a:noFill/>
            </a:ln>
          </c:spPr>
          <c:explosion val="25"/>
          <c:dPt>
            <c:idx val="0"/>
            <c:explosion val="25"/>
            <c:spPr>
              <a:solidFill>
                <a:srgbClr val="94b6d2"/>
              </a:solidFill>
              <a:ln w="0">
                <a:noFill/>
              </a:ln>
            </c:spPr>
          </c:dPt>
          <c:dPt>
            <c:idx val="1"/>
            <c:explosion val="25"/>
            <c:spPr>
              <a:solidFill>
                <a:srgbClr val="dd8047"/>
              </a:solidFill>
              <a:ln w="0">
                <a:noFill/>
              </a:ln>
            </c:spPr>
          </c:dPt>
          <c:dPt>
            <c:idx val="2"/>
            <c:explosion val="25"/>
            <c:spPr>
              <a:solidFill>
                <a:srgbClr val="a5ab81"/>
              </a:solidFill>
              <a:ln w="0">
                <a:noFill/>
              </a:ln>
            </c:spPr>
          </c:dPt>
          <c:dPt>
            <c:idx val="3"/>
            <c:explosion val="25"/>
            <c:spPr>
              <a:solidFill>
                <a:srgbClr val="d8b25c"/>
              </a:solidFill>
              <a:ln w="0">
                <a:noFill/>
              </a:ln>
            </c:spPr>
          </c:dPt>
          <c:dLbls>
            <c:dLbl>
              <c:idx val="0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1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2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3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</c:dLbls>
          <c:cat>
            <c:strRef>
              <c:f>categories</c:f>
              <c:strCache>
                <c:ptCount val="2"/>
                <c:pt idx="0">
                  <c:v>да</c:v>
                </c:pt>
                <c:pt idx="1">
                  <c:v>нет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5.7</c:v>
                </c:pt>
              </c:numCache>
            </c:numRef>
          </c:val>
        </c:ser>
        <c:firstSliceAng val="0"/>
      </c:pieChart>
      <c:spPr>
        <a:noFill/>
        <a:ln w="0">
          <a:noFill/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800" spc="-1" strike="noStrike">
              <a:solidFill>
                <a:srgbClr val="000000"/>
              </a:solidFill>
              <a:latin typeface="Calibri"/>
            </a:defRPr>
          </a:pPr>
        </a:p>
      </c:txPr>
    </c:legend>
    <c:plotVisOnly val="1"/>
    <c:dispBlanksAs val="zero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ru-RU" sz="2160" spc="-1" strike="noStrike">
                <a:solidFill>
                  <a:srgbClr val="000000"/>
                </a:solidFill>
                <a:latin typeface="Calibri"/>
              </a:defRPr>
            </a:pPr>
            <a:r>
              <a:rPr b="1" lang="ru-RU" sz="2160" spc="-1" strike="noStrike">
                <a:solidFill>
                  <a:srgbClr val="000000"/>
                </a:solidFill>
                <a:latin typeface="Calibri"/>
              </a:rPr>
              <a:t>Как Вы относитесь к дизайнерской мебели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Как вы относитесь к дизайнерской мебели</c:v>
                </c:pt>
              </c:strCache>
            </c:strRef>
          </c:tx>
          <c:spPr>
            <a:solidFill>
              <a:srgbClr val="94b6d2"/>
            </a:solidFill>
            <a:ln w="0">
              <a:noFill/>
            </a:ln>
          </c:spPr>
          <c:explosion val="25"/>
          <c:dPt>
            <c:idx val="0"/>
            <c:explosion val="25"/>
            <c:spPr>
              <a:solidFill>
                <a:srgbClr val="94b6d2"/>
              </a:solidFill>
              <a:ln w="0">
                <a:noFill/>
              </a:ln>
            </c:spPr>
          </c:dPt>
          <c:dPt>
            <c:idx val="1"/>
            <c:explosion val="25"/>
            <c:spPr>
              <a:solidFill>
                <a:srgbClr val="dd8047"/>
              </a:solidFill>
              <a:ln w="0">
                <a:noFill/>
              </a:ln>
            </c:spPr>
          </c:dPt>
          <c:dPt>
            <c:idx val="2"/>
            <c:explosion val="25"/>
            <c:spPr>
              <a:solidFill>
                <a:srgbClr val="a5ab81"/>
              </a:solidFill>
              <a:ln w="0">
                <a:noFill/>
              </a:ln>
            </c:spPr>
          </c:dPt>
          <c:dPt>
            <c:idx val="3"/>
            <c:explosion val="25"/>
            <c:spPr>
              <a:solidFill>
                <a:srgbClr val="d8b25c"/>
              </a:solidFill>
              <a:ln w="0">
                <a:noFill/>
              </a:ln>
            </c:spPr>
          </c:dPt>
          <c:dLbls>
            <c:dLbl>
              <c:idx val="0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1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2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3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</c:dLbls>
          <c:cat>
            <c:strRef>
              <c:f>categories</c:f>
              <c:strCache>
                <c:ptCount val="3"/>
                <c:pt idx="0">
                  <c:v>хорошо</c:v>
                </c:pt>
                <c:pt idx="1">
                  <c:v>плохо</c:v>
                </c:pt>
                <c:pt idx="2">
                  <c:v>никак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5.2</c:v>
                </c:pt>
                <c:pt idx="1">
                  <c:v>3.4</c:v>
                </c:pt>
                <c:pt idx="2">
                  <c:v>1.4</c:v>
                </c:pt>
              </c:numCache>
            </c:numRef>
          </c:val>
        </c:ser>
        <c:firstSliceAng val="0"/>
      </c:pieChart>
      <c:spPr>
        <a:noFill/>
        <a:ln w="0">
          <a:noFill/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800" spc="-1" strike="noStrike">
              <a:solidFill>
                <a:srgbClr val="000000"/>
              </a:solidFill>
              <a:latin typeface="Calibri"/>
            </a:defRPr>
          </a:pPr>
        </a:p>
      </c:txPr>
    </c:legend>
    <c:plotVisOnly val="1"/>
    <c:dispBlanksAs val="zero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2160" spc="-1" strike="noStrike">
                <a:solidFill>
                  <a:srgbClr val="000000"/>
                </a:solidFill>
                <a:latin typeface="Calibri"/>
              </a:defRPr>
            </a:pPr>
            <a:r>
              <a:rPr b="1" sz="2160" spc="-1" strike="noStrike">
                <a:solidFill>
                  <a:srgbClr val="000000"/>
                </a:solidFill>
                <a:latin typeface="Calibri"/>
              </a:rPr>
              <a:t>Устраивает ли Вас дизайн современной мебели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Устраивает ли Вас дизайн современной мебели</c:v>
                </c:pt>
              </c:strCache>
            </c:strRef>
          </c:tx>
          <c:spPr>
            <a:solidFill>
              <a:srgbClr val="94b6d2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94b6d2"/>
              </a:solidFill>
              <a:ln w="0">
                <a:noFill/>
              </a:ln>
            </c:spPr>
          </c:dPt>
          <c:dPt>
            <c:idx val="1"/>
            <c:spPr>
              <a:solidFill>
                <a:srgbClr val="dd8047"/>
              </a:solidFill>
              <a:ln w="0">
                <a:noFill/>
              </a:ln>
            </c:spPr>
          </c:dPt>
          <c:dPt>
            <c:idx val="2"/>
            <c:spPr>
              <a:solidFill>
                <a:srgbClr val="a5ab81"/>
              </a:solidFill>
              <a:ln w="0">
                <a:noFill/>
              </a:ln>
            </c:spPr>
          </c:dPt>
          <c:dPt>
            <c:idx val="3"/>
            <c:spPr>
              <a:solidFill>
                <a:srgbClr val="d8b25c"/>
              </a:solidFill>
              <a:ln w="0">
                <a:noFill/>
              </a:ln>
            </c:spPr>
          </c:dPt>
          <c:dLbls>
            <c:dLbl>
              <c:idx val="0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1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2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3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</c:dLbls>
          <c:cat>
            <c:strRef>
              <c:f>categories</c:f>
              <c:strCache>
                <c:ptCount val="2"/>
                <c:pt idx="0">
                  <c:v>да</c:v>
                </c:pt>
                <c:pt idx="1">
                  <c:v>нет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2</c:v>
                </c:pt>
                <c:pt idx="1">
                  <c:v>7.2</c:v>
                </c:pt>
              </c:numCache>
            </c:numRef>
          </c:val>
        </c:ser>
        <c:firstSliceAng val="0"/>
      </c:pieChart>
      <c:spPr>
        <a:noFill/>
        <a:ln w="0">
          <a:noFill/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800" spc="-1" strike="noStrike">
              <a:solidFill>
                <a:srgbClr val="000000"/>
              </a:solidFill>
              <a:latin typeface="Calibri"/>
            </a:defRPr>
          </a:pPr>
        </a:p>
      </c:txPr>
    </c:legend>
    <c:plotVisOnly val="1"/>
    <c:dispBlanksAs val="zero"/>
  </c:chart>
  <c:spPr>
    <a:noFill/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2160" spc="-1" strike="noStrike">
                <a:solidFill>
                  <a:srgbClr val="000000"/>
                </a:solidFill>
                <a:latin typeface="Calibri"/>
              </a:defRPr>
            </a:pPr>
            <a:r>
              <a:rPr b="1" sz="2160" spc="-1" strike="noStrike">
                <a:solidFill>
                  <a:srgbClr val="000000"/>
                </a:solidFill>
                <a:latin typeface="Calibri"/>
              </a:rPr>
              <a:t>Если у вас дома есть старая советская мебель, что бы Вы хотели с ней сделать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Если у вас дома есть старая советская мебель, что бы Вы хотели с ней сделать</c:v>
                </c:pt>
              </c:strCache>
            </c:strRef>
          </c:tx>
          <c:spPr>
            <a:solidFill>
              <a:srgbClr val="94b6d2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94b6d2"/>
              </a:solidFill>
              <a:ln w="0">
                <a:noFill/>
              </a:ln>
            </c:spPr>
          </c:dPt>
          <c:dPt>
            <c:idx val="1"/>
            <c:spPr>
              <a:solidFill>
                <a:srgbClr val="dd8047"/>
              </a:solidFill>
              <a:ln w="0">
                <a:noFill/>
              </a:ln>
            </c:spPr>
          </c:dPt>
          <c:dPt>
            <c:idx val="2"/>
            <c:spPr>
              <a:solidFill>
                <a:srgbClr val="a5ab81"/>
              </a:solidFill>
              <a:ln w="0">
                <a:noFill/>
              </a:ln>
            </c:spPr>
          </c:dPt>
          <c:dPt>
            <c:idx val="3"/>
            <c:spPr>
              <a:solidFill>
                <a:srgbClr val="d8b25c"/>
              </a:solidFill>
              <a:ln w="0">
                <a:noFill/>
              </a:ln>
            </c:spPr>
          </c:dPt>
          <c:dLbls>
            <c:dLbl>
              <c:idx val="0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1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2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3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</c:dLbls>
          <c:cat>
            <c:strRef>
              <c:f>categories</c:f>
              <c:strCache>
                <c:ptCount val="3"/>
                <c:pt idx="0">
                  <c:v>Отреставрировать</c:v>
                </c:pt>
                <c:pt idx="1">
                  <c:v>Выкинуть</c:v>
                </c:pt>
                <c:pt idx="2">
                  <c:v>Пусть стоит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8.2</c:v>
                </c:pt>
                <c:pt idx="1">
                  <c:v>3.2</c:v>
                </c:pt>
                <c:pt idx="2">
                  <c:v>1.4</c:v>
                </c:pt>
              </c:numCache>
            </c:numRef>
          </c:val>
        </c:ser>
        <c:firstSliceAng val="0"/>
      </c:pieChart>
      <c:spPr>
        <a:noFill/>
        <a:ln w="0">
          <a:noFill/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800" spc="-1" strike="noStrike">
              <a:solidFill>
                <a:srgbClr val="000000"/>
              </a:solidFill>
              <a:latin typeface="Calibri"/>
            </a:defRPr>
          </a:pPr>
        </a:p>
      </c:txPr>
    </c:legend>
    <c:plotVisOnly val="1"/>
    <c:dispBlanksAs val="zero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B306FD1-A0C1-4EF7-B6F5-D59E721F59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17A361A-3F43-4265-B148-97CB4E902DF3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2D2E-F7EA-429F-8A55-6FF46BC91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DCAD-929A-4EDD-8F0A-21A0F57E9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D0E6-7D1C-4086-8827-4D1C31E77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270B-D2C0-4237-BFB9-B0248B9B6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6355D-1C9D-4B17-8D4B-18CD165CC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D8434-26C3-427B-A2C8-BC98F8919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26BF0-BDDB-4688-B2AB-790B3ABCF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0706D-C2E8-4013-BCF9-90CBE1F4C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5B49A-946C-4129-B53B-A16F3C5F0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7FED5-60A6-4ABC-A687-7A7165205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86550-4C0D-4626-AAEA-891248CF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1408-A93B-4A81-809B-ED295091D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4C3DF-E4C0-4970-93DF-E6B98EF5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9DB1A-31FF-4920-90C2-50DDA2E8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52549-FFC1-4A95-AC8A-81487EA72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369F7-C453-422B-9ABA-BDB919A92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342E3-CBEE-439C-B26A-513AFB6CA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E538-795B-490D-91CD-0E6FC5E84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C515-5ABA-4468-9712-C39032C32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2636-2C70-49F8-823B-BB0DDCA36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C051-3C36-444B-A079-9600DD415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575C-3944-463E-953B-6A94898E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60A0-1CCD-4F20-A15B-E8DAB26A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B26D-596A-4D98-AF29-F041C2CA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BC37008-0F5A-4463-8C55-D22E9FF29BBE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53393AC-E0B0-4B62-8A04-5A74E7251A96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chart" Target="../charts/chart2.xml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chart" Target="../charts/chart4.xml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1320" y="4286160"/>
            <a:ext cx="7772040" cy="1469520"/>
          </a:xfrm>
          <a:prstGeom prst="rect">
            <a:avLst/>
          </a:prstGeom>
          <a:solidFill>
            <a:schemeClr val="lt1"/>
          </a:solidFill>
          <a:ln w="25560">
            <a:solidFill>
              <a:srgbClr val="d8b25c"/>
            </a:solidFill>
            <a:round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Бизнес план мебельной фирмы</a:t>
            </a:r>
            <a:br>
              <a:rPr sz="4400"/>
            </a:br>
            <a:r>
              <a:rPr b="0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«Вторая жизнь»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571840" y="5715000"/>
            <a:ext cx="3857400" cy="999720"/>
          </a:xfrm>
          <a:prstGeom prst="rect">
            <a:avLst/>
          </a:prstGeom>
          <a:solidFill>
            <a:schemeClr val="accent4"/>
          </a:solidFill>
          <a:ln w="38160">
            <a:solidFill>
              <a:srgbClr val="ffffff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3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5">
                    <a:lumMod val="50000"/>
                  </a:schemeClr>
                </a:solidFill>
                <a:latin typeface="Calibri"/>
              </a:rPr>
              <a:t>Колганова К.А.</a:t>
            </a:r>
            <a:br>
              <a:rPr sz="3200"/>
            </a:br>
            <a:r>
              <a:rPr b="0" lang="ru-RU" sz="3200" spc="-1" strike="noStrike">
                <a:solidFill>
                  <a:schemeClr val="accent5">
                    <a:lumMod val="50000"/>
                  </a:schemeClr>
                </a:solidFill>
                <a:latin typeface="Calibri"/>
              </a:rPr>
              <a:t>ИИ-4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" descr="C:\Users\Xenia\Desktop\учеба\бизнес план\chair-jake-finn-01.jpg"/>
          <p:cNvPicPr/>
          <p:nvPr/>
        </p:nvPicPr>
        <p:blipFill>
          <a:blip r:embed="rId1"/>
          <a:stretch/>
        </p:blipFill>
        <p:spPr>
          <a:xfrm>
            <a:off x="2357280" y="0"/>
            <a:ext cx="4523040" cy="4214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2F98-2FD5-443D-B900-C6B591D675C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57320" y="357120"/>
            <a:ext cx="3357360" cy="999720"/>
          </a:xfrm>
          <a:prstGeom prst="rect">
            <a:avLst/>
          </a:prstGeom>
          <a:solidFill>
            <a:schemeClr val="lt1"/>
          </a:solidFill>
          <a:ln w="25560">
            <a:solidFill>
              <a:srgbClr val="d8b25c"/>
            </a:solidFill>
            <a:round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Итог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322920" indent="-322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ша фирма не продают старую антикварную мебель, поэтому цены на отреставрированную мебель у нас (в отличии от художественно-реставрационной мастерской)  гораздо демократичнее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920" indent="-322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ирма «Лечим мебель» предлагает только цены за ремонт, когда у нас еще и дизайнерское оформление мебел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920" indent="-322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рт-Фабрика предлагает новую мебель под старину, отсюда и цены. Мы же предлагаем старую советскую мебель, переделанную под новый лад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920" indent="-322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жно смело сказать, что мастерская «Вторая жизнь старой мебели» уникальна и имеет в аналогах только единичные примеры. (имеется ввиду единичное творчество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FBCA2-03E0-407B-B786-B481A6CFDE2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chemeClr val="lt1"/>
          </a:solidFill>
          <a:ln w="25560">
            <a:solidFill>
              <a:srgbClr val="d8b25c"/>
            </a:solidFill>
            <a:round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Преимущества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14480" cy="44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327960" indent="-327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ажным моментом является то, что наша фирма находится в центре города. Рядом с производственным помещением расположен салон – магазин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960" indent="-327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арактерной чертой производимой нами мебели является ее качество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960" indent="-327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маловажным моментом является то, что фирма по желанию клиента производит доставку мебели по месту назначения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1" descr="C:\Users\Xenia\Desktop\учеба\бизнес план\5.jpg"/>
          <p:cNvPicPr/>
          <p:nvPr/>
        </p:nvPicPr>
        <p:blipFill>
          <a:blip r:embed="rId1"/>
          <a:stretch/>
        </p:blipFill>
        <p:spPr>
          <a:xfrm>
            <a:off x="5214960" y="1431000"/>
            <a:ext cx="2999880" cy="5224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40F18-99AB-4BE2-99F0-EE8A9663C08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chemeClr val="lt1"/>
          </a:solidFill>
          <a:ln w="25560">
            <a:solidFill>
              <a:srgbClr val="d8b25c"/>
            </a:solidFill>
            <a:round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Миссия</a:t>
            </a:r>
            <a:r>
              <a:rPr b="0" lang="ru-RU" sz="4400" spc="-1" strike="noStrike">
                <a:solidFill>
                  <a:schemeClr val="dk1"/>
                </a:solidFill>
                <a:latin typeface="Calibri"/>
              </a:rPr>
              <a:t>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14200" y="1600200"/>
            <a:ext cx="3071520" cy="47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96280" indent="-296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доставление потребителю оригинальной и неповторимой мебели - наша первоочередная задача. Став однажды нашим клиентом, заказчик должен желать вернуться, чтобы привнести частичку своей индивидуальности в свое жилище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1" descr="C:\Users\Xenia\Desktop\учеба\бизнес план\bfabe66291ec16d59711d3d77f0108ef.jpg"/>
          <p:cNvPicPr/>
          <p:nvPr/>
        </p:nvPicPr>
        <p:blipFill>
          <a:blip r:embed="rId1"/>
          <a:stretch/>
        </p:blipFill>
        <p:spPr>
          <a:xfrm>
            <a:off x="3429000" y="1928880"/>
            <a:ext cx="5442480" cy="400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78CB0-BDB6-4441-950F-1D259EB16AE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chemeClr val="lt1"/>
          </a:solidFill>
          <a:ln w="25560">
            <a:solidFill>
              <a:srgbClr val="d8b25c"/>
            </a:solidFill>
            <a:round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План</a:t>
            </a:r>
            <a:r>
              <a:rPr b="0" lang="ru-RU" sz="44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по</a:t>
            </a:r>
            <a:r>
              <a:rPr b="0" lang="ru-RU" sz="44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персоналу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3500280" y="2643120"/>
            <a:ext cx="1685520" cy="41868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ирек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"/>
          <p:cNvSpPr/>
          <p:nvPr/>
        </p:nvSpPr>
        <p:spPr>
          <a:xfrm>
            <a:off x="1147680" y="3862440"/>
            <a:ext cx="1409400" cy="36144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недж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2814480" y="3862440"/>
            <a:ext cx="1495080" cy="36144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изайн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4624560" y="3862440"/>
            <a:ext cx="1542600" cy="36144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толяр, плот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6443640" y="3862440"/>
            <a:ext cx="1294920" cy="36144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ухгалт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1919160" y="3062160"/>
            <a:ext cx="1581480" cy="800280"/>
          </a:xfrm>
          <a:prstGeom prst="straightConnector1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35" name="AutoShape 7"/>
          <p:cNvCxnSpPr/>
          <p:nvPr/>
        </p:nvCxnSpPr>
        <p:spPr>
          <a:xfrm flipH="1">
            <a:off x="3700440" y="3062160"/>
            <a:ext cx="304920" cy="800280"/>
          </a:xfrm>
          <a:prstGeom prst="straightConnector1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36" name="AutoShape 8"/>
          <p:cNvCxnSpPr/>
          <p:nvPr/>
        </p:nvCxnSpPr>
        <p:spPr>
          <a:xfrm>
            <a:off x="4624200" y="3062160"/>
            <a:ext cx="638640" cy="800280"/>
          </a:xfrm>
          <a:prstGeom prst="straightConnector1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37" name="AutoShape 9"/>
          <p:cNvCxnSpPr/>
          <p:nvPr/>
        </p:nvCxnSpPr>
        <p:spPr>
          <a:xfrm>
            <a:off x="5186160" y="3062160"/>
            <a:ext cx="1771920" cy="800280"/>
          </a:xfrm>
          <a:prstGeom prst="straightConnector1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7DE8E-CA88-4369-A405-3DD716D0194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chemeClr val="lt1"/>
          </a:solidFill>
          <a:ln w="25560">
            <a:solidFill>
              <a:srgbClr val="d8b25c"/>
            </a:solidFill>
            <a:round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Реклам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кламной кампанией будет заниматься менеджер. Реклама в интернете по всем сайтам и соц. сетям, газетам, а также реклама в лифтах сделают свое дело. Но главное, это личные контакты с потребителями нашей продукции, как уже имеющиеся, так и те, которые предстоит наработать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0F9A2-99A1-4C9E-97DB-60D7AD9343A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бор заказов будет осуществляться менеджером. Рекламные и маркетинговые мероприятия, будут проводиться не только на территории Ростовской области, но и в Ставропольском , и в Краснодарском краях должны привлечь внимание потребителей из этих регионов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BEF0B-73AC-48BB-AF81-08EDE26B41A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chemeClr val="lt1"/>
          </a:solidFill>
          <a:ln w="25560">
            <a:solidFill>
              <a:srgbClr val="d8b25c"/>
            </a:solidFill>
            <a:round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Анализ</a:t>
            </a:r>
            <a:r>
              <a:rPr b="0" lang="ru-RU" sz="44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опрос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2" name="Содержимое 4"/>
          <p:cNvGraphicFramePr/>
          <p:nvPr/>
        </p:nvGraphicFramePr>
        <p:xfrm>
          <a:off x="457200" y="1600200"/>
          <a:ext cx="3542760" cy="36856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143" name="Диаграмма 5"/>
          <p:cNvGraphicFramePr/>
          <p:nvPr/>
        </p:nvGraphicFramePr>
        <p:xfrm>
          <a:off x="4857840" y="1785960"/>
          <a:ext cx="3881160" cy="36428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37445-041C-4F97-A613-6667D982E2F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Диаграмма 4"/>
          <p:cNvGraphicFramePr/>
          <p:nvPr/>
        </p:nvGraphicFramePr>
        <p:xfrm>
          <a:off x="357120" y="1357200"/>
          <a:ext cx="3142800" cy="39286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145" name="Диаграмма 5"/>
          <p:cNvGraphicFramePr/>
          <p:nvPr/>
        </p:nvGraphicFramePr>
        <p:xfrm>
          <a:off x="4143240" y="1143000"/>
          <a:ext cx="4667040" cy="42858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B19D5-7EE6-4081-816C-118EBFAC1BB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chemeClr val="lt1"/>
          </a:solidFill>
          <a:ln w="25560">
            <a:solidFill>
              <a:srgbClr val="d8b25c"/>
            </a:solidFill>
            <a:round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Вывод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результатам опроса можно сделать выводы, что в данном регионе подобное предприятие станет популярным, потому что больше 50% опрошенных недовольны качеством современной продукции и положительно отнеслись к ее реставраци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5B164-1D68-4922-9634-F3F1AEE9104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chemeClr val="lt1"/>
          </a:solidFill>
          <a:ln w="25560">
            <a:solidFill>
              <a:srgbClr val="d8b25c"/>
            </a:solidFill>
            <a:round/>
          </a:ln>
        </p:spPr>
        <p:txBody>
          <a:bodyPr anchor="ctr">
            <a:normAutofit fontScale="8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Сроки формирования предприят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9" name="Содержимое 3"/>
          <p:cNvGraphicFramePr/>
          <p:nvPr/>
        </p:nvGraphicFramePr>
        <p:xfrm>
          <a:off x="1285920" y="2357280"/>
          <a:ext cx="6616800" cy="2952000"/>
        </p:xfrm>
        <a:graphic>
          <a:graphicData uri="http://schemas.openxmlformats.org/drawingml/2006/table">
            <a:tbl>
              <a:tblPr/>
              <a:tblGrid>
                <a:gridCol w="3308040"/>
                <a:gridCol w="3308760"/>
              </a:tblGrid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з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ли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гистр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 д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ркетин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меся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зработка прое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 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обретение основных сред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 д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анки, автомобиль, компьютер, принт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 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обретение други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 д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купка материа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нед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изводство меб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меся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ализ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 нед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Rectangle 1"/>
          <p:cNvSpPr/>
          <p:nvPr/>
        </p:nvSpPr>
        <p:spPr>
          <a:xfrm>
            <a:off x="1285920" y="1859040"/>
            <a:ext cx="6571800" cy="303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блица 2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писок этап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3E4FF-0456-4A5B-BA22-BD19E819327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3471480" cy="1010880"/>
          </a:xfrm>
          <a:prstGeom prst="rect">
            <a:avLst/>
          </a:prstGeom>
          <a:solidFill>
            <a:schemeClr val="lt1"/>
          </a:solidFill>
          <a:ln w="25560">
            <a:solidFill>
              <a:srgbClr val="d8b25c"/>
            </a:solidFill>
            <a:round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Содержание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40020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313920" indent="-313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зюме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исание проек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исание разработчик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ркетинговый раздел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ганизационная деятельность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изводственный раздел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инансовый раздел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нализ риск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" descr="C:\Users\Xenia\Desktop\учеба\бизнес план\01m.jpg"/>
          <p:cNvPicPr/>
          <p:nvPr/>
        </p:nvPicPr>
        <p:blipFill>
          <a:blip r:embed="rId1"/>
          <a:stretch/>
        </p:blipFill>
        <p:spPr>
          <a:xfrm>
            <a:off x="4000320" y="285840"/>
            <a:ext cx="4571640" cy="27313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C:\Users\Xenia\Desktop\учеба\бизнес план\5681d7d7a62b2.jpg"/>
          <p:cNvPicPr/>
          <p:nvPr/>
        </p:nvPicPr>
        <p:blipFill>
          <a:blip r:embed="rId2"/>
          <a:stretch/>
        </p:blipFill>
        <p:spPr>
          <a:xfrm>
            <a:off x="4000320" y="3071880"/>
            <a:ext cx="4557240" cy="2985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7E3FD-DD67-42AE-AA82-84D552B66E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chemeClr val="lt1"/>
          </a:solidFill>
          <a:ln w="25560">
            <a:solidFill>
              <a:srgbClr val="d8b25c"/>
            </a:solidFill>
            <a:round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План производств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апы процесса производства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Анализ повреждений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Подготовительные операции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бор мебели на конструктивные част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мена при необходимости механизм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нятие лака и краски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крой и пошив чехлов (раскроечный стол)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крой поролона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Покраска и дальнейшее декорирование дизайнером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Покрытие лаком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Установка фурнитуры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. Приемка готовой продукци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7. Упаковк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3271C-AAA7-4802-9E76-838B73039EA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071800" y="1571760"/>
            <a:ext cx="5143320" cy="713880"/>
          </a:xfrm>
          <a:prstGeom prst="rect">
            <a:avLst/>
          </a:prstGeom>
          <a:solidFill>
            <a:schemeClr val="lt1"/>
          </a:solidFill>
          <a:ln w="25560">
            <a:solidFill>
              <a:srgbClr val="d8b25c"/>
            </a:solidFill>
            <a:round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Материалы и комплектующие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4" name="Содержимое 3"/>
          <p:cNvGraphicFramePr/>
          <p:nvPr/>
        </p:nvGraphicFramePr>
        <p:xfrm>
          <a:off x="1263240" y="2423160"/>
          <a:ext cx="6616800" cy="2656440"/>
        </p:xfrm>
        <a:graphic>
          <a:graphicData uri="http://schemas.openxmlformats.org/drawingml/2006/table">
            <a:tbl>
              <a:tblPr/>
              <a:tblGrid>
                <a:gridCol w="2205000"/>
                <a:gridCol w="2205720"/>
                <a:gridCol w="2205720"/>
              </a:tblGrid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д.из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доэмульсионная крас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шт. 1 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а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шт. 1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уч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ш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- 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стемы мебельных пе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ш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-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мортизато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ш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-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кодерж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ш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-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пежная фурни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ш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8-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Заголовок 1"/>
          <p:cNvSpPr/>
          <p:nvPr/>
        </p:nvSpPr>
        <p:spPr>
          <a:xfrm>
            <a:off x="428760" y="285840"/>
            <a:ext cx="8229240" cy="1142640"/>
          </a:xfrm>
          <a:prstGeom prst="rect">
            <a:avLst/>
          </a:prstGeom>
          <a:solidFill>
            <a:srgbClr val="ffffff"/>
          </a:solidFill>
          <a:ln>
            <a:solidFill>
              <a:srgbClr val="d8b25c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Финансовый разде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7E9B4-E132-4E8C-8384-8B98BDC579E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14720" y="274680"/>
            <a:ext cx="4785840" cy="1142640"/>
          </a:xfrm>
          <a:prstGeom prst="rect">
            <a:avLst/>
          </a:prstGeom>
          <a:solidFill>
            <a:schemeClr val="lt1"/>
          </a:solidFill>
          <a:ln w="25560">
            <a:solidFill>
              <a:srgbClr val="d8b25c"/>
            </a:solidFill>
            <a:round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План сбыт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7" name="Содержимое 3"/>
          <p:cNvGraphicFramePr/>
          <p:nvPr/>
        </p:nvGraphicFramePr>
        <p:xfrm>
          <a:off x="142920" y="2143080"/>
          <a:ext cx="4411080" cy="1476000"/>
        </p:xfrm>
        <a:graphic>
          <a:graphicData uri="http://schemas.openxmlformats.org/drawingml/2006/table">
            <a:tbl>
              <a:tblPr/>
              <a:tblGrid>
                <a:gridCol w="2205000"/>
                <a:gridCol w="2205720"/>
              </a:tblGrid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дукт/Вариа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на(руб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ка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 000-15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00-1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ул, табур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0-5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иван, раскладное крес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00-2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8" name="Таблица 4"/>
          <p:cNvGraphicFramePr/>
          <p:nvPr/>
        </p:nvGraphicFramePr>
        <p:xfrm>
          <a:off x="4643280" y="2143080"/>
          <a:ext cx="4411080" cy="2655360"/>
        </p:xfrm>
        <a:graphic>
          <a:graphicData uri="http://schemas.openxmlformats.org/drawingml/2006/table">
            <a:tbl>
              <a:tblPr/>
              <a:tblGrid>
                <a:gridCol w="2205000"/>
                <a:gridCol w="2205720"/>
              </a:tblGrid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дукт/Вариа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ис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ка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жидание платежей: 3 дня. Продажа по фак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жидание платежей: 3 дня. Продажа по фак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ул, табур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жидание платежей: 3 дня. Продажа по фак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иван, раскладное крес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жидание платежей: 3 дня. Продажа по фак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Содержимое 4"/>
          <p:cNvGraphicFramePr/>
          <p:nvPr/>
        </p:nvGraphicFramePr>
        <p:xfrm>
          <a:off x="357120" y="5500800"/>
          <a:ext cx="6616800" cy="885600"/>
        </p:xfrm>
        <a:graphic>
          <a:graphicData uri="http://schemas.openxmlformats.org/drawingml/2006/table">
            <a:tbl>
              <a:tblPr/>
              <a:tblGrid>
                <a:gridCol w="3768480"/>
                <a:gridCol w="2848320"/>
              </a:tblGrid>
              <a:tr h="2253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пит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быль до выплаты налог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0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тая прибыл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99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9648A-E7AC-4C8B-A7BE-1A2CDDF88C3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chemeClr val="lt1"/>
          </a:solidFill>
          <a:ln w="25560">
            <a:solidFill>
              <a:srgbClr val="d8b25c"/>
            </a:solidFill>
            <a:round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Анализ рисков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иды риска, которым подвержена наша деятельность и мероприятия по их устранению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бой в поставке сырь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Нарушения в работе оборудовани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Неудовлетворительное качество сырь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Допущенный брак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оявление дополнительных конкурент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ожар, хищение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7.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Отказ в предоставлении аренды помещени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8.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Изменение спрос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4F548-37EF-4544-BEE6-B20F4B03D53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" descr="C:\Users\Xenia\Desktop\учеба\бизнес план\gitara-na-stene.jpg"/>
          <p:cNvPicPr/>
          <p:nvPr/>
        </p:nvPicPr>
        <p:blipFill>
          <a:blip r:embed="rId1"/>
          <a:srcRect l="0" t="0" r="0" b="17439"/>
          <a:stretch/>
        </p:blipFill>
        <p:spPr>
          <a:xfrm>
            <a:off x="3786120" y="1928880"/>
            <a:ext cx="5357520" cy="36889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chemeClr val="lt1"/>
          </a:solidFill>
          <a:ln w="25560">
            <a:solidFill>
              <a:srgbClr val="d8b25c"/>
            </a:solidFill>
            <a:round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Заключение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28720" cy="49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317880" indent="-3178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едприятие “ВТОРАЯ ЖИЗНЬ” занимается реставрацией и продажей мебели, что на сегодняшний момент является перспективным и доходным делом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7880" indent="-3178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дукцию фирмы выгодно отличают от продукции конкурентов следующие показатели: низкие цены и советское качество, возможность выбора фурнитуры  и дизайна, а также немаловажным фактором является индивидуальный подход к каждому клиенту и учет особенностей интерьера квартиры заказчика, доставка по месту назначения. Первые 3 года предприятие планирует закупать старую мебель, реставрировать и продавать с дальнейшим расширением ассортимент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DFD7B-2152-405C-BF92-F34D6E31B3B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chemeClr val="lt1"/>
          </a:solidFill>
          <a:ln w="25560">
            <a:solidFill>
              <a:srgbClr val="d8b25c"/>
            </a:solidFill>
            <a:round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Цель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14200" y="1643040"/>
            <a:ext cx="5071680" cy="49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3229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Создать авторскую мебель доступной для среднего потребителя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9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Дать вторую жизнь крепкой и качественной советской мебел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9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Дать возможность дизайнерам и художникам реализовывать свои идеи вне производственных рамок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9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значение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9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дажа оригинальной, авторской мебели советского качества. Реставрация и ремонт мебел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1" descr="C:\Users\Xenia\Desktop\учеба\бизнес план\iz-starogo-stola-mogut-poluchitsya-dva-dekorativnyh-stolika.jpg"/>
          <p:cNvPicPr/>
          <p:nvPr/>
        </p:nvPicPr>
        <p:blipFill>
          <a:blip r:embed="rId1"/>
          <a:stretch/>
        </p:blipFill>
        <p:spPr>
          <a:xfrm>
            <a:off x="5286240" y="1428840"/>
            <a:ext cx="3642840" cy="487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5E186-D44E-4D46-AB4B-3BE514DF3C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chemeClr val="lt1"/>
          </a:solidFill>
          <a:ln w="25560">
            <a:solidFill>
              <a:srgbClr val="d8b25c"/>
            </a:solidFill>
            <a:round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Выгод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15000" y="1600200"/>
            <a:ext cx="307152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3290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можность скупки старой мебели за бесценок. По результатам опроса 40% опрошенных готовы старую мебель просто выкинуть. От скупщика требуется только вывоз сырья. При реставрации расход идет на смену фурнитуры, краску и работу художника. На выходе получаем дизайнерскую, качественную и недорогую мебель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1" descr="C:\Users\Xenia\Desktop\учеба\бизнес план\305bf5513ba0f2fbdc2347b4d4ec2222.jpg"/>
          <p:cNvPicPr/>
          <p:nvPr/>
        </p:nvPicPr>
        <p:blipFill>
          <a:blip r:embed="rId1"/>
          <a:stretch/>
        </p:blipFill>
        <p:spPr>
          <a:xfrm>
            <a:off x="428760" y="1428840"/>
            <a:ext cx="5285880" cy="5285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8B9BD-752B-49F5-B76D-B620AF84EF4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chemeClr val="lt1"/>
          </a:solidFill>
          <a:ln w="25560">
            <a:solidFill>
              <a:srgbClr val="d8b25c"/>
            </a:solidFill>
            <a:round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Описание предприят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8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дприятие по изготовлению мягкой мебели планируется организовать на юге России в городе Ростов-на-Дону. Общая площадь занимаемого помещения составляет 60 кв. м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своей форме данное предприятие относится к микро предприятиям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нное предприятие планируется организовать в виде ИП.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питал в размере: 400 000 рублей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1" descr="C:\Users\Xenia\Desktop\учеба\бизнес план\23.jpg"/>
          <p:cNvPicPr/>
          <p:nvPr/>
        </p:nvPicPr>
        <p:blipFill>
          <a:blip r:embed="rId1"/>
          <a:stretch/>
        </p:blipFill>
        <p:spPr>
          <a:xfrm>
            <a:off x="1500120" y="3786120"/>
            <a:ext cx="5857560" cy="3062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1BB85-FB8B-4124-9028-B1BF6E8A84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chemeClr val="lt1"/>
          </a:solidFill>
          <a:ln w="25560">
            <a:solidFill>
              <a:srgbClr val="d8b25c"/>
            </a:solidFill>
            <a:round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Потенциальные клиент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3272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удобства мы разбиваем сегмент рынка по группам потребителей на подгруппы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2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Преуспевающие клиенты. (зп.70000-80000 мес.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2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Клиенты со средним доходом. (зп.40000-50000 мес.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2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Клиенты с низким доходом. (зп.10000-20000 мес.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1" descr="C:\Users\Xenia\Desktop\учеба\бизнес план\1474826573_6-1.jpg"/>
          <p:cNvPicPr/>
          <p:nvPr/>
        </p:nvPicPr>
        <p:blipFill>
          <a:blip r:embed="rId1"/>
          <a:stretch/>
        </p:blipFill>
        <p:spPr>
          <a:xfrm>
            <a:off x="1643040" y="3714840"/>
            <a:ext cx="6071760" cy="295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A9BE3-5AF8-4228-A34C-194E43174C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chemeClr val="lt1"/>
          </a:solidFill>
          <a:ln w="25560">
            <a:solidFill>
              <a:srgbClr val="d8b25c"/>
            </a:solidFill>
            <a:round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Прогнозирование продаж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первых этапах развития данного бизнеса предполагается использовать политику агрессивного вхождения в рынок. Сочетание таких факторов как разумная цена, советское качество продукции, быстрые сроки исполнения заказов и дизайнерская работа не оставят практически никаких шансов конкурентам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546D1-ED75-456F-93DF-8388D5662B1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chemeClr val="lt1"/>
          </a:solidFill>
          <a:ln w="25560">
            <a:solidFill>
              <a:srgbClr val="d8b25c"/>
            </a:solidFill>
            <a:round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Конкуренц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18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смотрев положение дел в городе Ростов-на-Дону в области производства мебели, можно сказать, что конкуренция в данной отрасли производства очень высок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оме мебели, произведенной в городе Ростов-на-Дону, в продаже присутствует мебель, привезенная из других городов и республик, в частности: из Москвы, Белоруссии, Польши, Италии, Америк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рицательной стороной этого является дороговизна мебели. Это связано с тем, что расходы по доставке прямо пропорционально влияют на изменение цены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2485B-F6EB-4DDB-AF0C-A1DA5A6E07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chemeClr val="lt1"/>
          </a:solidFill>
          <a:ln w="25560">
            <a:solidFill>
              <a:srgbClr val="d8b25c"/>
            </a:solidFill>
            <a:round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Конкурентный анализ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2" name="Содержимое 4"/>
          <p:cNvGraphicFramePr/>
          <p:nvPr/>
        </p:nvGraphicFramePr>
        <p:xfrm>
          <a:off x="71280" y="2071800"/>
          <a:ext cx="4642920" cy="1650600"/>
        </p:xfrm>
        <a:graphic>
          <a:graphicData uri="http://schemas.openxmlformats.org/drawingml/2006/table">
            <a:tbl>
              <a:tblPr/>
              <a:tblGrid>
                <a:gridCol w="3009600"/>
                <a:gridCol w="1633320"/>
              </a:tblGrid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дук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на(руб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реховое кресло 19 в, сделана полная реставрация ,перетяжка и обой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 000 ру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соль ореховая 19 в. с позолот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5 000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нижный ореховый секретер в стиле Ар-Деко, под реставрац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 000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3" name="Таблица 5"/>
          <p:cNvGraphicFramePr/>
          <p:nvPr/>
        </p:nvGraphicFramePr>
        <p:xfrm>
          <a:off x="4786200" y="2071800"/>
          <a:ext cx="4285800" cy="1785600"/>
        </p:xfrm>
        <a:graphic>
          <a:graphicData uri="http://schemas.openxmlformats.org/drawingml/2006/table">
            <a:tbl>
              <a:tblPr/>
              <a:tblGrid>
                <a:gridCol w="2143080"/>
                <a:gridCol w="2143080"/>
              </a:tblGrid>
              <a:tr h="44640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ук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777777"/>
                      </a:solidFill>
                    </a:lnL>
                    <a:lnR w="12240">
                      <a:solidFill>
                        <a:srgbClr val="777777"/>
                      </a:solidFill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а(руб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777777"/>
                      </a:solidFill>
                    </a:lnL>
                    <a:lnR w="12240">
                      <a:solidFill>
                        <a:srgbClr val="777777"/>
                      </a:solidFill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на фанеры в диван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777777"/>
                      </a:solidFill>
                    </a:lnL>
                    <a:lnR w="12240">
                      <a:solidFill>
                        <a:srgbClr val="777777"/>
                      </a:solidFill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2000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777777"/>
                      </a:solidFill>
                    </a:lnL>
                    <a:lnR w="12240">
                      <a:solidFill>
                        <a:srgbClr val="777777"/>
                      </a:solidFill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на бруса в диван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777777"/>
                      </a:solidFill>
                    </a:lnL>
                    <a:lnR w="12240">
                      <a:solidFill>
                        <a:srgbClr val="777777"/>
                      </a:solidFill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2000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777777"/>
                      </a:solidFill>
                    </a:lnL>
                    <a:lnR w="12240">
                      <a:solidFill>
                        <a:srgbClr val="777777"/>
                      </a:solidFill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клейка сту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777777"/>
                      </a:solidFill>
                    </a:lnL>
                    <a:lnR w="12240">
                      <a:solidFill>
                        <a:srgbClr val="777777"/>
                      </a:solidFill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300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12240">
                      <a:solidFill>
                        <a:srgbClr val="777777"/>
                      </a:solidFill>
                    </a:lnL>
                    <a:lnR w="12240">
                      <a:solidFill>
                        <a:srgbClr val="777777"/>
                      </a:solidFill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4" name="Таблица 6"/>
          <p:cNvGraphicFramePr/>
          <p:nvPr/>
        </p:nvGraphicFramePr>
        <p:xfrm>
          <a:off x="71280" y="4357800"/>
          <a:ext cx="4642920" cy="1714320"/>
        </p:xfrm>
        <a:graphic>
          <a:graphicData uri="http://schemas.openxmlformats.org/drawingml/2006/table">
            <a:tbl>
              <a:tblPr/>
              <a:tblGrid>
                <a:gridCol w="3009600"/>
                <a:gridCol w="1633320"/>
              </a:tblGrid>
              <a:tr h="4770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дук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на(руб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0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овать "Ретро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2 000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лочка "Винтаж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 000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0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ол " Прованс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 000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5" name="Таблица 7"/>
          <p:cNvGraphicFramePr/>
          <p:nvPr/>
        </p:nvGraphicFramePr>
        <p:xfrm>
          <a:off x="4786200" y="4357800"/>
          <a:ext cx="4285800" cy="1671120"/>
        </p:xfrm>
        <a:graphic>
          <a:graphicData uri="http://schemas.openxmlformats.org/drawingml/2006/table">
            <a:tbl>
              <a:tblPr/>
              <a:tblGrid>
                <a:gridCol w="2767320"/>
                <a:gridCol w="1518840"/>
              </a:tblGrid>
              <a:tr h="3340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дук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на(руб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ка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 000-15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00-1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ул, табур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0-5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иван, раскладное крес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00-2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Rectangle 1"/>
          <p:cNvSpPr/>
          <p:nvPr/>
        </p:nvSpPr>
        <p:spPr>
          <a:xfrm>
            <a:off x="154800" y="1716120"/>
            <a:ext cx="3961800" cy="303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Художественно-Реставрационная мастерская Сп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9"/>
          <p:cNvSpPr/>
          <p:nvPr/>
        </p:nvSpPr>
        <p:spPr>
          <a:xfrm>
            <a:off x="4786200" y="1764000"/>
            <a:ext cx="4571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Мебельное ателье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«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Лечим мебель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»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 Сп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10"/>
          <p:cNvSpPr/>
          <p:nvPr/>
        </p:nvSpPr>
        <p:spPr>
          <a:xfrm>
            <a:off x="0" y="4071960"/>
            <a:ext cx="4571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Арт-Фабрика Сп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11"/>
          <p:cNvSpPr/>
          <p:nvPr/>
        </p:nvSpPr>
        <p:spPr>
          <a:xfrm>
            <a:off x="4798800" y="4050000"/>
            <a:ext cx="34912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Мастерская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«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Вторая жизнь старой мебели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19DB5-4C00-493A-96FE-07D913FF588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Обычная">
      <a:dk1>
        <a:srgbClr val="000000"/>
      </a:dk1>
      <a:lt1>
        <a:srgbClr val="ffffff"/>
      </a:lt1>
      <a:dk2>
        <a:srgbClr val="775f55"/>
      </a:dk2>
      <a:lt2>
        <a:srgbClr val="ebddc3"/>
      </a:lt2>
      <a:accent1>
        <a:srgbClr val="94b6d2"/>
      </a:accent1>
      <a:accent2>
        <a:srgbClr val="dd8047"/>
      </a:accent2>
      <a:accent3>
        <a:srgbClr val="a5ab81"/>
      </a:accent3>
      <a:accent4>
        <a:srgbClr val="d8b25c"/>
      </a:accent4>
      <a:accent5>
        <a:srgbClr val="7ba79d"/>
      </a:accent5>
      <a:accent6>
        <a:srgbClr val="968c8c"/>
      </a:accent6>
      <a:hlink>
        <a:srgbClr val="f7b615"/>
      </a:hlink>
      <a:folHlink>
        <a:srgbClr val="70440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Обычная">
      <a:dk1>
        <a:srgbClr val="000000"/>
      </a:dk1>
      <a:lt1>
        <a:srgbClr val="ffffff"/>
      </a:lt1>
      <a:dk2>
        <a:srgbClr val="775f55"/>
      </a:dk2>
      <a:lt2>
        <a:srgbClr val="ebddc3"/>
      </a:lt2>
      <a:accent1>
        <a:srgbClr val="94b6d2"/>
      </a:accent1>
      <a:accent2>
        <a:srgbClr val="dd8047"/>
      </a:accent2>
      <a:accent3>
        <a:srgbClr val="a5ab81"/>
      </a:accent3>
      <a:accent4>
        <a:srgbClr val="d8b25c"/>
      </a:accent4>
      <a:accent5>
        <a:srgbClr val="7ba79d"/>
      </a:accent5>
      <a:accent6>
        <a:srgbClr val="968c8c"/>
      </a:accent6>
      <a:hlink>
        <a:srgbClr val="f7b615"/>
      </a:hlink>
      <a:folHlink>
        <a:srgbClr val="70440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775f55"/>
      </a:dk2>
      <a:lt2>
        <a:srgbClr val="ebddc3"/>
      </a:lt2>
      <a:accent1>
        <a:srgbClr val="94b6d2"/>
      </a:accent1>
      <a:accent2>
        <a:srgbClr val="dd8047"/>
      </a:accent2>
      <a:accent3>
        <a:srgbClr val="a5ab81"/>
      </a:accent3>
      <a:accent4>
        <a:srgbClr val="d8b25c"/>
      </a:accent4>
      <a:accent5>
        <a:srgbClr val="7ba79d"/>
      </a:accent5>
      <a:accent6>
        <a:srgbClr val="968c8c"/>
      </a:accent6>
      <a:hlink>
        <a:srgbClr val="f7b615"/>
      </a:hlink>
      <a:folHlink>
        <a:srgbClr val="70440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</TotalTime>
  <Application>LibreOffice/7.4.7.2$Linux_X86_64 LibreOffice_project/40$Build-2</Application>
  <AppVersion>15.0000</AppVersion>
  <Words>1227</Words>
  <Paragraphs>22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0T08:26:00Z</dcterms:created>
  <dc:creator>Xenia</dc:creator>
  <dc:description/>
  <dc:language>en-US</dc:language>
  <cp:lastModifiedBy>Xenia</cp:lastModifiedBy>
  <dcterms:modified xsi:type="dcterms:W3CDTF">2016-12-15T22:28:45Z</dcterms:modified>
  <cp:revision>6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24</vt:r8>
  </property>
</Properties>
</file>