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ADBD-1236-4771-AA84-82376FC9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64FA-88EF-4C78-A8B1-3C812AD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31EF-DB16-4DED-9C65-4771AC2A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DE32-0C41-47AA-AED6-50625CA4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0F3-9668-4C84-A6D5-77BFD903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EEB6-3FB9-4310-A9AA-DF00B22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208C-B18D-41DA-AABE-0A523E0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40CF-169C-4D21-8738-B7E6DAAE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98E0-0C83-40EF-A017-F7857C2E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5AA0-793A-441F-A2C1-19BF815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4789-FA29-4C42-84D6-5EAA7D2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F7D8-3073-4F5E-A7AC-34F6FDA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873C-2FCA-4658-B8BC-F1488F9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BA38-984A-4AA2-99B7-C042E46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43ED-71F5-474E-BF85-A04E219E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0A7-CB08-4B9B-8EE7-05F41C89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4AC-F4C2-4E83-AAC8-DAF634CB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6C6E-AEEB-4B04-B962-A74ADD26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9F6C-3CD4-4D64-8856-4474504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C3FA-84C8-454F-9A1D-71FBA996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413C-528E-4806-9457-072896E6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271C-69C1-4B82-8CF6-F9C23FB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85B4-BE8C-421F-90BC-937EE64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DC66-6DCD-4584-AC61-0F26AFA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66A-B300-4DD1-B96E-C0CB0BC8B8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0D68-0734-4C5E-9F07-4FB0A3E21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бщий вид стационарной ЭТ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8064360" cy="468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значение стационарной электролаборатор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ационарная электролаборатория предназначена для испыт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Средств защиты( диэлектрические перчатки, боты, указатели напряжения, штанги и др.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Ручного изолированного инструмента(отвертки, плоскогубцы, нож, круглогубцы и т.д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Ручного электроинструмента ( дрели, шлифовальные машины, перфораторы, заточные станк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Трансформаторного масла(диэлектрические потери, пробивное напряжени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Электрооборудования на 6-10 кВ(ОПНы, трансформаторы тока, трансформаторы напряжения, проходные и опорные изолято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опреде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спытательный стенд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это специально оборудованный участок электротехнической лаборатории, состоящий из распределительного устройства, пульта управления, испытательного поля, пункта подключения и соответствующего оборудования, предназначенного для проведения испытаний (источники переменного и выпрямленного напряжения, переносные проводники, приборы и пр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спытательное поле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 это площадка, на которой устанавливаются испытываемые издел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ысоковольтный стенд испыта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све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чее место оператора испытательной установки отделено от той части установки, где имеется напряжение выше 1000 В. Дверь, ведущая в часть установки, имеющую напряжение выше 1000 В, снабжена блокировкой, обеспечивающей снятие напряжения с испытательной схемы в случае открытия двери и невозможность подачи напряжения при открытых дверях. На рабочем месте оператора предусмотрена раздельная световая сигнализация, извещающая о включении напряжения до и выше 1000 В, и звуковая сигнализация, извещающая о подаче испытательного напряжения. При подаче испытательного напряжения оператор должен стоять на изолирующем ковр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двери ограждения высоковольтного отсека стационарной  электролаборатории должен быть установлен предупреждающий знак «Осторожно! Электрическое напряжени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ся аппаратура испытательной установки должна иметь четкие надпис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лектролаборатория должна быть укомплектована средствами пожаротушения согласно «Перечню средств пожаротушения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сонал должен работать в спецодежде и при­менять средства защиты, выдаваемые в соответствии с действующи­ми отраслевыми норм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соковольтный отсе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высоковольтном отсеке находится следующее оборудовани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ый трансформатор ТВО-140-5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ая шина 110 к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ТВ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соковольтный трансформатор ЗНОМ-35-65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ая шина 20 к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ЗНО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анны с вод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.высоковольтный трансформатор ЗНОЛ-1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ж заземления высоковольтного вывода ЗНОЛ-10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электропечь с измерительной ячейкой блока диэлектрических потер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1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змеритель параметров изоляции «Вектор 2 М» с эталонным конденсатором Р502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стройств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тационарная электролаборатория состоит из высоковольтного отсека и отсека оператор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отсеке оператора расположен пульт управления, а в высоковольтном отсеке высоковольтное испытательное оборудова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пряжение в схему высоковольтных испытаний лаборатории подается через главный рубильник, установленный на передней панели пульта управления, являющийся основным видимым разрывом в цепи питания лаборатор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Регулирование высокого испытательного напряжения трансформаторов осуществляется регулятором напряжения, установленным на передней панели пульта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онтроль за режимом работы лаборатории производиться по измерительным приборам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ключение и отключение схемы испытания осуществляется магнитным пускателем кнопками «Пуск» и «Стоп», установленными на верхней панели пульта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ыбор той или иной схемы испытания осуществляется переключателем вида испыт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выбранной схемы испытания осуществляется  включением соответствующих сигнальных ламп на пульте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низкого напряжения осуществляется лампой желтого цве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готовности испытательной схемы к подаче высокого напряжения осуществляется лампой зеленого цвета. Для готовности испытательной схемы необходимо закрыть дверь в высоковольтный отсек и установить ручку регулятора напряжения в нулевое положе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гнализация о включении высокого напряжения осуществляется лампой красного цвета и включением звукового сигнал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Измерение диэлектрических потерь трансформаторного масла выполняется на блоке «ИДП», в который входит измерительная ячейка и прибор измерения параметров изоляции «Вектор 2М». Управление прибором осуществляется с пульта дистанционного управ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ля защиты оборудования от токов короткого замыкания в схеме лаборатории предусмотрены соответствующие защиты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тсек операто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 отсеке оператора расположен пульт управления, где установлены следующие органы управления и прибор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главный рубильник с видимым разрыво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переключатель вида испытан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нопки включения и отключения  испытательной установки «Пуск», «Стоп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щитовые вольтметры «ЗНОМ», «ТВО», ИОТ», «ИДП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щитовые микроамперметры «Ванна № 1», «Ванна  № 2», «Низковольтные испытания» 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зъем для низковольтных измерений «0 – 600 В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игнальные лампы «ИДП», «ИОТ», «ТВО», «ЗНОМ», «Низкое напряжение», «Готовность схемы», «Высокое напряжение»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егулировочный автотрансформатор АОМН-40-22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ысоковольтный трансформатор ИОТ-0,5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дельно от пульта управления установлен переносной прибор определения пробивного напряжения трансформаторного мас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4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тационарные ЭТ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30240" y="1600200"/>
            <a:ext cx="309240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240360" cy="218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167280" cy="218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978440" y="3938760"/>
            <a:ext cx="337824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4T16:24:46Z</dcterms:created>
  <dc:creator>Ленар</dc:creator>
  <dc:description/>
  <dc:language>en-US</dc:language>
  <cp:lastModifiedBy>Ленар</cp:lastModifiedBy>
  <dcterms:modified xsi:type="dcterms:W3CDTF">2018-05-07T16:07:22Z</dcterms:modified>
  <cp:revision>3</cp:revision>
  <dc:subject/>
  <dc:title>Назначение стационарной электролаборатории</dc:title>
</cp:coreProperties>
</file>