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E2D1-ED49-4D38-ACF2-3D1CC6A7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DB89-1645-4D3B-BED7-633CB20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C7A4-40ED-48A2-9756-125F82C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CD10-F1D8-4E0D-9856-DD25C4B0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31BF-6C71-4E59-9BA9-8E3C73AC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EEC7-BCF3-4C9E-90BA-C673F72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4EF2-B62A-487C-BFFC-4CC6F86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B81-2BC3-46DD-9562-146548F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87F-6340-4EBE-902B-023072F7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0562-47CF-4477-A1D8-70B81BB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CB2B-DD88-4D36-886D-4A0776F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17A3-FA89-47B3-B24D-D76B1CFB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96E-70E4-487B-9514-A89B9FC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6B1-572B-4279-8896-52FCA05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315-5CD9-465F-86D1-EF371B81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F895-C66C-415F-BC95-62EF90EC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38B-85BE-48E6-8312-B0AE23AA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D8A5-F45A-4B9E-BE80-B80353E2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C155-C506-4FA4-84AC-F34373E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94E2-D3D2-42CA-81D4-EF689078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0170-4687-4037-B8AA-5D9513B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1A18-ABEE-4FDD-93F7-DD59D37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776A-3EF4-4D3D-87FA-A535761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07CA-F4D7-4E70-A3D0-525B11D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CD7-44E5-4ECA-B558-3B8B4A6D7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853-5925-48C0-B197-88F0FBBDA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бщий вид стационарной ЭТ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806436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значение стационарной электролаборатор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ационарная электролаборатория предназначена для испыт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Средств защиты( диэлектрические перчатки, боты, указатели напряжения, штанги и др.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Ручного изолированного инструмента(отвертки, плоскогубцы, нож, круглогубцы и т.д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Ручного электроинструмента ( дрели, шлифовальные машины, перфораторы, заточные станк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Трансформаторного масла(диэлектрические потери, пробивное напряжени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Электрооборудования на 6-10 кВ(ОПНы, трансформаторы тока, трансформаторы напряжения, проходные и опорные изолято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опреде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спытательный стенд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это специально оборудованный участок электротехнической лаборатории, состоящий из распределительного устройства, пульта управления, испытательного поля, пункта подключения и соответствующего оборудования, предназначенного для проведения испытаний (источники переменного и выпрямленного напряжения, переносные проводники, приборы и пр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спытательное пол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это площадка, на которой устанавливаются испытываемые издел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ковольтный стенд испыт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све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чее место оператора испытательной установки отделено от той части установки, где имеется напряжение выше 1000 В. Дверь, ведущая в часть установки, имеющую напряжение выше 1000 В, снабжена блокировкой, обеспечивающей снятие напряжения с испытательной схемы в случае открытия двери и невозможность подачи напряжения при открытых дверях. На рабочем месте оператора предусмотрена раздельная световая сигнализация, извещающая о включении напряжения до и выше 1000 В, и звуковая сигнализация, извещающая о подаче испытательного напряжения. При подаче испытательного напряжения оператор должен стоять на изолирующем ковр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двери ограждения высоковольтного отсека стационарной  электролаборатории должен быть установлен предупреждающий знак «Осторожно! Электрическое напряжени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ся аппаратура испытательной установки должна иметь четкие надпис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лектролаборатория должна быть укомплектована средствами пожаротушения согласно «Перечню средств пожаротушения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сонал должен работать в спецодежде и при­менять средства защиты, выдаваемые в соответствии с действующи­ми отраслевыми норм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соковольтный отсе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высоковольтном отсеке находится следующее оборудовани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ый трансформатор ТВО-140-5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ая шина 110 к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ТВ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соковольтный трансформатор ЗНОМ-35-65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ая шина 20 к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ЗНО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анны с вод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ый трансформатор ЗНОЛ-1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ЗНОЛ-1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лектропечь с измерительной ячейкой блока диэлектрических потер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1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змеритель параметров изоляции «Вектор 2 М» с эталонным конденсатором Р502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строй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тационарная электролаборатория состоит из высоковольтного отсека и отсека оператор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отсеке оператора расположен пульт управления, а в высоковольтном отсеке высоковольтное испытательное оборудова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пряжение в схему высоковольтных испытаний лаборатории подается через главный рубильник, установленный на передней панели пульта управления, являющийся основным видимым разрывом в цепи питания лаборатор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Регулирование высокого испытательного напряжения трансформаторов осуществляется регулятором напряжения, установленным на передней панели пульта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онтроль за режимом работы лаборатории производиться по измерительным прибора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ключение и отключение схемы испытания осуществляется магнитным пускателем кнопками «Пуск» и «Стоп», установленными на верхней панели пульта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ыбор той или иной схемы испытания осуществляется переключателем вида испыт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выбранной схемы испытания осуществляется  включением соответствующих сигнальных ламп на пульте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низкого напряжения осуществляется лампой желтого цве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готовности испытательной схемы к подаче высокого напряжения осуществляется лампой зеленого цвета. Для готовности испытательной схемы необходимо закрыть дверь в высоковольтный отсек и установить ручку регулятора напряжения в нулевое положе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высокого напряжения осуществляется лампой красного цвета и включением звукового сигнал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мерение диэлектрических потерь трансформаторного масла выполняется на блоке «ИДП», в который входит измерительная ячейка и прибор измерения параметров изоляции «Вектор 2М». Управление прибором осуществляется с пульта дистанционного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ля защиты оборудования от токов короткого замыкания в схеме лаборатории предусмотрены соответствующие защиты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тсек операто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 отсеке оператора расположен пульт управления, где установлены следующие органы управления и прибор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лавный рубильник с видимым разрыво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переключатель вида испыта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нопки включения и отключения  испытательной установки «Пуск», «Стоп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щитовые вольтметры «ЗНОМ», «ТВО», ИОТ», «ИДП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щитовые микроамперметры «Ванна № 1», «Ванна  № 2», «Низковольтные испытания» 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зъем для низковольтных измерений «0 – 600 В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игнальные лампы «ИДП», «ИОТ», «ТВО», «ЗНОМ», «Низкое напряжение», «Готовность схемы», «Высокое напряжение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гулировочный автотрансформатор АОМН-40-22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ысоковольтный трансформатор ИОТ-0,5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дельно от пульта управления установлен переносной прибор определения пробивного напряжения трансформаторного мас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тационарные ЭТ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30240" y="1600200"/>
            <a:ext cx="309240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240360" cy="21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167280" cy="218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978440" y="3938760"/>
            <a:ext cx="337824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4T16:24:46Z</dcterms:created>
  <dc:creator>Ленар</dc:creator>
  <dc:description/>
  <dc:language>en-US</dc:language>
  <cp:lastModifiedBy>Ленар</cp:lastModifiedBy>
  <dcterms:modified xsi:type="dcterms:W3CDTF">2018-05-07T16:07:22Z</dcterms:modified>
  <cp:revision>3</cp:revision>
  <dc:subject/>
  <dc:title>Назначение стационарной электролаборатории</dc:title>
</cp:coreProperties>
</file>