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8.jpeg" ContentType="image/jpeg"/>
  <Override PartName="/ppt/media/image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8.jpeg" ContentType="image/jpeg"/>
  <Override PartName="/ppt/media/image18.png" ContentType="image/png"/>
  <Override PartName="/ppt/media/image6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media/image2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692D-B3B2-436E-89AE-C61A49044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31B6-DF1B-45E5-A4C4-28D621E0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31B1-4175-4105-B004-A4575F929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0229-BB67-4963-854F-4B10B043F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4CB66-AC04-4884-BADE-2CC11B808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F90E-F05A-44BA-A508-4E32DCD2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009A-7DF3-44A8-9B2D-4EB7C0E1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CB06-E5ED-4F7D-B556-D821FFF8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B01C-F5A0-44A2-AD95-071FBB27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5846-0A42-4B31-ABB4-0C2078C2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B86EE-3317-4241-853E-D9535058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B414-C354-4844-8A52-23C958FD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9792-E483-43F4-913C-D4D35890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20BA9-DE83-4135-89BE-B5D0A85E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5262-459B-4EEC-BBBD-5992E08F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0E065-F962-452D-BE6A-2905E3702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FB9A-A641-4BC0-8D91-FDA440090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4E26-3C34-4EF8-AB98-2FDFE944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4A2D-5905-4577-B313-43F82BCB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0C36-E959-4BD3-9284-9CADB29D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2CFE-002C-4854-B55D-C632F7B4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1408-B32D-4B1D-AFC2-DB919AD0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6B37-12DC-41B4-A77D-ACD80181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F2A3-74EA-42CD-80CB-6FD508E2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a2d6"/>
            </a:gs>
            <a:gs pos="100000">
              <a:srgbClr val="002b36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50e0ea"/>
                </a:solidFill>
                <a:latin typeface="Calibri"/>
              </a:rPr>
              <a:t>Образец заголовка</a:t>
            </a:r>
            <a:endParaRPr b="0" lang="ru-RU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275FB85-6B01-45F7-9B53-C9C41A263A34}" type="slidenum">
              <a:rPr b="0" lang="ru-RU" sz="1200" spc="-1" strike="noStrike">
                <a:solidFill>
                  <a:srgbClr val="d1eae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B4BB375-CE60-4209-A3D1-F62864C2164B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4.jpeg"/><Relationship Id="rId10" Type="http://schemas.openxmlformats.org/officeDocument/2006/relationships/image" Target="../media/image5.jpeg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600" spc="49" strike="noStrike">
                <a:solidFill>
                  <a:srgbClr val="fbfcfd">
                    <a:alpha val="95000"/>
                  </a:srgbClr>
                </a:solidFill>
                <a:latin typeface="Calibri"/>
              </a:rPr>
              <a:t>Бизнес-план кальянной</a:t>
            </a:r>
            <a:br>
              <a:rPr sz="5600"/>
            </a:br>
            <a:endParaRPr b="0" lang="ru-RU" sz="5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ОДЕРЖАНИЕ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3200" spc="-1" strike="noStrike" u="sng">
                <a:solidFill>
                  <a:srgbClr val="e2d700"/>
                </a:solidFill>
                <a:uFillTx/>
                <a:latin typeface="Constantia"/>
                <a:hlinkClick r:id="rId1" action="ppaction://hlinksldjump"/>
              </a:rPr>
              <a:t>Оформление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32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Оборудование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3200" spc="-1" strike="noStrike" u="sng">
                <a:solidFill>
                  <a:srgbClr val="e2d700"/>
                </a:solidFill>
                <a:uFillTx/>
                <a:latin typeface="Constantia"/>
                <a:hlinkClick r:id="rId3" action="ppaction://hlinksldjump"/>
              </a:rPr>
              <a:t>Табак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3200" spc="-1" strike="noStrike" u="sng">
                <a:solidFill>
                  <a:srgbClr val="e2d700"/>
                </a:solidFill>
                <a:uFillTx/>
                <a:latin typeface="Constantia"/>
                <a:hlinkClick r:id="rId4" action="ppaction://hlinksldjump"/>
              </a:rPr>
              <a:t>Акции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3200" spc="-1" strike="noStrike" u="sng">
                <a:solidFill>
                  <a:srgbClr val="e2d700"/>
                </a:solidFill>
                <a:uFillTx/>
                <a:latin typeface="Constantia"/>
                <a:hlinkClick r:id="rId5" action="ppaction://hlinksldjump"/>
              </a:rPr>
              <a:t>Персонал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3200" spc="-1" strike="noStrike" u="sng">
                <a:solidFill>
                  <a:srgbClr val="e2d700"/>
                </a:solidFill>
                <a:uFillTx/>
                <a:latin typeface="Constantia"/>
                <a:hlinkClick r:id="rId6" action="ppaction://hlinksldjump"/>
              </a:rPr>
              <a:t>Реклама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5" name="Picture 2" descr="C:\Users\User\Desktop\ПЛАН\0_1080b8_e676be1d_-1-XL.jpg"/>
          <p:cNvPicPr/>
          <p:nvPr/>
        </p:nvPicPr>
        <p:blipFill>
          <a:blip r:embed="rId7"/>
          <a:stretch/>
        </p:blipFill>
        <p:spPr>
          <a:xfrm>
            <a:off x="5436000" y="908640"/>
            <a:ext cx="2990160" cy="1992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C:\Users\User\Desktop\ПЛАН\imgpreview (1).jpg"/>
          <p:cNvPicPr/>
          <p:nvPr/>
        </p:nvPicPr>
        <p:blipFill>
          <a:blip r:embed="rId8"/>
          <a:stretch/>
        </p:blipFill>
        <p:spPr>
          <a:xfrm>
            <a:off x="4428000" y="2565000"/>
            <a:ext cx="2257200" cy="1609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C:\Users\User\Desktop\ПЛАН\tbk1.jpg"/>
          <p:cNvPicPr/>
          <p:nvPr/>
        </p:nvPicPr>
        <p:blipFill>
          <a:blip r:embed="rId9"/>
          <a:stretch/>
        </p:blipFill>
        <p:spPr>
          <a:xfrm>
            <a:off x="6588360" y="3069000"/>
            <a:ext cx="2369520" cy="1571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C:\Users\User\Desktop\ПЛАН\UXq1Bp0GISc.jpg"/>
          <p:cNvPicPr/>
          <p:nvPr/>
        </p:nvPicPr>
        <p:blipFill>
          <a:blip r:embed="rId10"/>
          <a:stretch/>
        </p:blipFill>
        <p:spPr>
          <a:xfrm>
            <a:off x="4428000" y="4365000"/>
            <a:ext cx="1932840" cy="1763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C:\Users\User\Desktop\ПЛАН\imgpreview (2).jpg"/>
          <p:cNvPicPr/>
          <p:nvPr/>
        </p:nvPicPr>
        <p:blipFill>
          <a:blip r:embed="rId11"/>
          <a:stretch/>
        </p:blipFill>
        <p:spPr>
          <a:xfrm>
            <a:off x="6372360" y="4686480"/>
            <a:ext cx="16570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ФОРМЛЕНИЕ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1" name="Picture 3" descr="C:\Users\User\Desktop\ПЛАН\ОФОРМЛЕНИЕ\51aB7wLvYIc.jpg"/>
          <p:cNvPicPr/>
          <p:nvPr/>
        </p:nvPicPr>
        <p:blipFill>
          <a:blip r:embed="rId1"/>
          <a:stretch/>
        </p:blipFill>
        <p:spPr>
          <a:xfrm>
            <a:off x="5220000" y="4869000"/>
            <a:ext cx="2304000" cy="1612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Users\User\Desktop\ПЛАН\ОФОРМЛЕНИЕ\KsPQ5-r5ue4.jpg"/>
          <p:cNvPicPr/>
          <p:nvPr/>
        </p:nvPicPr>
        <p:blipFill>
          <a:blip r:embed="rId2"/>
          <a:stretch/>
        </p:blipFill>
        <p:spPr>
          <a:xfrm>
            <a:off x="7236360" y="3645000"/>
            <a:ext cx="1382400" cy="1963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C:\Users\User\Desktop\ПЛАН\ОФОРМЛЕНИЕ\Md8rHqr6iOc.jpg"/>
          <p:cNvPicPr/>
          <p:nvPr/>
        </p:nvPicPr>
        <p:blipFill>
          <a:blip r:embed="rId3"/>
          <a:stretch/>
        </p:blipFill>
        <p:spPr>
          <a:xfrm>
            <a:off x="5004000" y="1628640"/>
            <a:ext cx="2263320" cy="3210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C:\Users\User\Desktop\ПЛАН\ОФОРМЛЕНИЕ\RE3VyH3F9Zc.jpg"/>
          <p:cNvPicPr/>
          <p:nvPr/>
        </p:nvPicPr>
        <p:blipFill>
          <a:blip r:embed="rId4"/>
          <a:stretch/>
        </p:blipFill>
        <p:spPr>
          <a:xfrm>
            <a:off x="6660360" y="908640"/>
            <a:ext cx="2093760" cy="2786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C:\Users\User\Desktop\ПЛАН\ОФОРМЛЕНИЕ\WvpyAJsOPTA.jpg"/>
          <p:cNvPicPr/>
          <p:nvPr/>
        </p:nvPicPr>
        <p:blipFill>
          <a:blip r:embed="rId5"/>
          <a:stretch/>
        </p:blipFill>
        <p:spPr>
          <a:xfrm>
            <a:off x="4068000" y="4509000"/>
            <a:ext cx="1546200" cy="21866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9"/>
          <p:cNvSpPr/>
          <p:nvPr/>
        </p:nvSpPr>
        <p:spPr>
          <a:xfrm>
            <a:off x="-12960" y="1917000"/>
            <a:ext cx="5193720" cy="31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Кальянное меню долж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ненавязчиво предлаг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клиенту заведения кальян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табак и заправку для него и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объяснять их предназнач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К примеру, что молоко, вода и сок 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это наилучшие заправки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устройства, так как эффектив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увлажняют дым и качествен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отфильтровывают смо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ОРУДОВАНИЕ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2" descr="C:\Users\User\Desktop\ПЛАН\ОБОРУДОВАНИЕ\Cw8x6IJrYNA.jpg"/>
          <p:cNvPicPr/>
          <p:nvPr/>
        </p:nvPicPr>
        <p:blipFill>
          <a:blip r:embed="rId1"/>
          <a:stretch/>
        </p:blipFill>
        <p:spPr>
          <a:xfrm>
            <a:off x="6876360" y="548640"/>
            <a:ext cx="2009160" cy="2634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C:\Users\User\Desktop\ПЛАН\ОБОРУДОВАНИЕ\FOTO6334_070715_b.jpg"/>
          <p:cNvPicPr/>
          <p:nvPr/>
        </p:nvPicPr>
        <p:blipFill>
          <a:blip r:embed="rId2"/>
          <a:stretch/>
        </p:blipFill>
        <p:spPr>
          <a:xfrm>
            <a:off x="4860000" y="4581000"/>
            <a:ext cx="2412000" cy="1597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:\Users\User\Desktop\ПЛАН\ОБОРУДОВАНИЕ\ASH_6835a.jpg"/>
          <p:cNvPicPr/>
          <p:nvPr/>
        </p:nvPicPr>
        <p:blipFill>
          <a:blip r:embed="rId3"/>
          <a:stretch/>
        </p:blipFill>
        <p:spPr>
          <a:xfrm>
            <a:off x="6876360" y="2853000"/>
            <a:ext cx="1723320" cy="1144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C:\Users\User\Desktop\ПЛАН\ОБОРУДОВАНИЕ\t101.jpg"/>
          <p:cNvPicPr/>
          <p:nvPr/>
        </p:nvPicPr>
        <p:blipFill>
          <a:blip r:embed="rId4"/>
          <a:stretch/>
        </p:blipFill>
        <p:spPr>
          <a:xfrm>
            <a:off x="7216920" y="4077000"/>
            <a:ext cx="1926720" cy="1144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C:\Users\User\Desktop\0fd787284ea32018c8619decd78b3a52.jpg"/>
          <p:cNvPicPr/>
          <p:nvPr/>
        </p:nvPicPr>
        <p:blipFill>
          <a:blip r:embed="rId5"/>
          <a:stretch/>
        </p:blipFill>
        <p:spPr>
          <a:xfrm>
            <a:off x="3708000" y="836640"/>
            <a:ext cx="4164480" cy="4164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C:\Users\User\Desktop\61078348_w640_h640_26281_kopiya_2.jpg"/>
          <p:cNvPicPr/>
          <p:nvPr/>
        </p:nvPicPr>
        <p:blipFill>
          <a:blip r:embed="rId6"/>
          <a:stretch/>
        </p:blipFill>
        <p:spPr>
          <a:xfrm>
            <a:off x="6732360" y="4713120"/>
            <a:ext cx="201600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ТАБАК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5" name="Picture 2" descr="C:\Users\User\Desktop\ПЛАН\ТАБАК\BJRXCqad_OM.jpg"/>
          <p:cNvPicPr/>
          <p:nvPr/>
        </p:nvPicPr>
        <p:blipFill>
          <a:blip r:embed="rId1"/>
          <a:stretch/>
        </p:blipFill>
        <p:spPr>
          <a:xfrm>
            <a:off x="4284000" y="5214240"/>
            <a:ext cx="1643400" cy="1643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:\Users\User\Desktop\ПЛАН\ТАБАК\hQBnhy9shNc.jpg"/>
          <p:cNvPicPr/>
          <p:nvPr/>
        </p:nvPicPr>
        <p:blipFill>
          <a:blip r:embed="rId2"/>
          <a:stretch/>
        </p:blipFill>
        <p:spPr>
          <a:xfrm>
            <a:off x="2915640" y="3573000"/>
            <a:ext cx="2024280" cy="2024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C:\Users\User\Desktop\ПЛАН\ТАБАК\kVMGt4P67Nc.jpg"/>
          <p:cNvPicPr/>
          <p:nvPr/>
        </p:nvPicPr>
        <p:blipFill>
          <a:blip r:embed="rId3"/>
          <a:stretch/>
        </p:blipFill>
        <p:spPr>
          <a:xfrm>
            <a:off x="6228360" y="1484640"/>
            <a:ext cx="2441160" cy="2441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C:\Users\User\Desktop\ПЛАН\ТАБАК\kypghhG6W3o.jpg"/>
          <p:cNvPicPr/>
          <p:nvPr/>
        </p:nvPicPr>
        <p:blipFill>
          <a:blip r:embed="rId4"/>
          <a:stretch/>
        </p:blipFill>
        <p:spPr>
          <a:xfrm>
            <a:off x="3204000" y="1052640"/>
            <a:ext cx="2699280" cy="2699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C:\Users\User\Desktop\ПЛАН\ТАБАК\yNWv5UVvaXE.jpg"/>
          <p:cNvPicPr/>
          <p:nvPr/>
        </p:nvPicPr>
        <p:blipFill>
          <a:blip r:embed="rId5"/>
          <a:stretch/>
        </p:blipFill>
        <p:spPr>
          <a:xfrm>
            <a:off x="6084000" y="-99360"/>
            <a:ext cx="2128320" cy="21283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9"/>
          <p:cNvSpPr/>
          <p:nvPr/>
        </p:nvSpPr>
        <p:spPr>
          <a:xfrm>
            <a:off x="2555640" y="404640"/>
            <a:ext cx="388800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Табак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 Serbetli 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долгое время известен и популярен в Турции, там он ценится очень высоко за свои качества и натураль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0"/>
          <p:cNvSpPr/>
          <p:nvPr/>
        </p:nvSpPr>
        <p:spPr>
          <a:xfrm>
            <a:off x="179640" y="1845000"/>
            <a:ext cx="403200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Nakhla является египетским предприятием, которое уже на протяжении множества лет занимается выпуском наиболее популярных табаков для кальяна. Популярность данный бренд завоевал не только в нашей стране, но и во всем мир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1"/>
          <p:cNvSpPr/>
          <p:nvPr/>
        </p:nvSpPr>
        <p:spPr>
          <a:xfrm>
            <a:off x="107640" y="4005000"/>
            <a:ext cx="2880000" cy="17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Табак для кальяна Adalya (Адалия) это продукт премиум класса, который производится в Турции по передовым технолог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2"/>
          <p:cNvSpPr/>
          <p:nvPr/>
        </p:nvSpPr>
        <p:spPr>
          <a:xfrm>
            <a:off x="6335640" y="3285000"/>
            <a:ext cx="2808000" cy="30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Табак для кальяна Al Fakher– наиболее известный бренд во всем мире среди производтелей табака. Выиграв пальму первенства у Nakhla, Al Fakher завоевал любовь многих любителей кальяна за счет палитры вкусов и невысокой креп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3"/>
          <p:cNvSpPr/>
          <p:nvPr/>
        </p:nvSpPr>
        <p:spPr>
          <a:xfrm>
            <a:off x="323640" y="5445360"/>
            <a:ext cx="374400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Табак Fasil — турецкий табак, достаточно легкий и похож на другие турецкие табаки, такие как Serbetli, Adaly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АКЦИИ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6" name="Picture 2" descr="C:\Users\User\Desktop\ПЛАН\АКЦИИ\khujzzrW2tk.jpg"/>
          <p:cNvPicPr/>
          <p:nvPr/>
        </p:nvPicPr>
        <p:blipFill>
          <a:blip r:embed="rId1"/>
          <a:stretch/>
        </p:blipFill>
        <p:spPr>
          <a:xfrm>
            <a:off x="4716000" y="764640"/>
            <a:ext cx="3210840" cy="1908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C:\Users\User\Desktop\ПЛАН\АКЦИИ\55797533613a7a3f0f8b457e_55797537685ee.jpg"/>
          <p:cNvPicPr/>
          <p:nvPr/>
        </p:nvPicPr>
        <p:blipFill>
          <a:blip r:embed="rId2"/>
          <a:stretch/>
        </p:blipFill>
        <p:spPr>
          <a:xfrm>
            <a:off x="6156000" y="2853000"/>
            <a:ext cx="2649240" cy="1798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C:\Users\User\Desktop\ПЛАН\АКЦИИ\JGHkJ380SR0.jpg"/>
          <p:cNvPicPr/>
          <p:nvPr/>
        </p:nvPicPr>
        <p:blipFill>
          <a:blip r:embed="rId3"/>
          <a:stretch/>
        </p:blipFill>
        <p:spPr>
          <a:xfrm>
            <a:off x="4716000" y="2277000"/>
            <a:ext cx="1697040" cy="2410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C:\Users\User\Desktop\ПЛАН\АКЦИИ\k16zNQPvjf0.jpg"/>
          <p:cNvPicPr/>
          <p:nvPr/>
        </p:nvPicPr>
        <p:blipFill>
          <a:blip r:embed="rId4"/>
          <a:stretch/>
        </p:blipFill>
        <p:spPr>
          <a:xfrm>
            <a:off x="5076000" y="4581000"/>
            <a:ext cx="2759760" cy="183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ЕРСОНАЛ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1" name="Picture 2" descr="C:\Users\User\Desktop\ПЛАН\ПЕРСОНАЛ\imgpreview (1).jpg"/>
          <p:cNvPicPr/>
          <p:nvPr/>
        </p:nvPicPr>
        <p:blipFill>
          <a:blip r:embed="rId1"/>
          <a:stretch/>
        </p:blipFill>
        <p:spPr>
          <a:xfrm>
            <a:off x="5436000" y="1772640"/>
            <a:ext cx="264456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ЕКЛАМА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3" name="Picture 5" descr="C:\Users\User\Desktop\ПЛАН\РЕКЛАМА\2.jpg"/>
          <p:cNvPicPr/>
          <p:nvPr/>
        </p:nvPicPr>
        <p:blipFill>
          <a:blip r:embed="rId1"/>
          <a:stretch/>
        </p:blipFill>
        <p:spPr>
          <a:xfrm>
            <a:off x="4572000" y="1052640"/>
            <a:ext cx="2572200" cy="2343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C:\Users\User\Desktop\ПЛАН\РЕКЛАМА\149_vk.png"/>
          <p:cNvPicPr/>
          <p:nvPr/>
        </p:nvPicPr>
        <p:blipFill>
          <a:blip r:embed="rId2"/>
          <a:stretch/>
        </p:blipFill>
        <p:spPr>
          <a:xfrm>
            <a:off x="6372360" y="2565000"/>
            <a:ext cx="2073960" cy="2073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C:\Users\User\Desktop\ПЛАН\РЕКЛАМА\2898945360.jpg"/>
          <p:cNvPicPr/>
          <p:nvPr/>
        </p:nvPicPr>
        <p:blipFill>
          <a:blip r:embed="rId3"/>
          <a:stretch/>
        </p:blipFill>
        <p:spPr>
          <a:xfrm>
            <a:off x="4068000" y="4005000"/>
            <a:ext cx="3456000" cy="23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48</TotalTime>
  <Application>LibreOffice/7.4.7.2$Linux_X86_64 LibreOffice_project/40$Build-2</Application>
  <AppVersion>15.0000</AppVersion>
  <Words>160</Words>
  <Paragraphs>29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8T14:09:01Z</dcterms:created>
  <dc:creator>User</dc:creator>
  <dc:description/>
  <dc:language>en-US</dc:language>
  <cp:lastModifiedBy>User</cp:lastModifiedBy>
  <dcterms:modified xsi:type="dcterms:W3CDTF">2017-01-10T06:36:56Z</dcterms:modified>
  <cp:revision>6</cp:revision>
  <dc:subject/>
  <dc:title>Бизнес-план кальянной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8</vt:r8>
  </property>
</Properties>
</file>