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FF4-4AC6-4B55-8580-F2F8CF49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A99-5C6D-46B0-B4A7-704C4B50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044-E708-44DC-A233-83A5D337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50C-34CD-4AE7-AD04-AC92D604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EA9E-F7BB-44DD-8A6F-DC23D46E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C333-5592-4EC3-8C00-44F4E439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A010-9BE4-4713-BB84-167E2AE0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8365-5CB1-4A87-9696-D482D034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7F68-BDFB-406A-8FBC-6D6EF703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629C-3E55-4976-B829-D97CC528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9FC2-BC03-41A5-8C3C-6DD20CC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944-C7F9-49A7-AAE7-B567006A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B430-2724-4B04-8F94-43720B65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F9B4-D8DC-4823-8006-5C5FC6F8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31CA-3A3B-4438-B2AB-EE0D4534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3DB5-C438-4B6A-B756-28A43164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76FA-3FF9-4395-8021-7E8AA078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F0C-3ACB-4CDD-9515-05C71435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A38-40DC-4893-BAE0-8A2749CD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614-2FC1-440D-AC54-97BBEC15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DC4-04CB-4515-9684-B333578D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B2E-5FFB-4070-9888-02D72987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52F-374C-4BCD-B570-8FB83743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3FD-4D73-4824-808D-1175D916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DC9569-1ED7-4FB6-93AA-643488F0E2A6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C8C1C4-0910-4918-847A-67B931EF5A27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49" strike="noStrike">
                <a:solidFill>
                  <a:srgbClr val="fbfcfd">
                    <a:alpha val="95000"/>
                  </a:srgbClr>
                </a:solidFill>
                <a:latin typeface="Calibri"/>
              </a:rPr>
              <a:t>Бизнес-план кальянной</a:t>
            </a:r>
            <a:br>
              <a:rPr sz="5600"/>
            </a:b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ДЕРЖА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Оформление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Оборудование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Табак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Акции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Персонал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Реклама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" name="Picture 2" descr="C:\Users\User\Desktop\ПЛАН\0_1080b8_e676be1d_-1-XL.jpg"/>
          <p:cNvPicPr/>
          <p:nvPr/>
        </p:nvPicPr>
        <p:blipFill>
          <a:blip r:embed="rId7"/>
          <a:stretch/>
        </p:blipFill>
        <p:spPr>
          <a:xfrm>
            <a:off x="5436000" y="908640"/>
            <a:ext cx="2990160" cy="199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User\Desktop\ПЛАН\imgpreview (1).jpg"/>
          <p:cNvPicPr/>
          <p:nvPr/>
        </p:nvPicPr>
        <p:blipFill>
          <a:blip r:embed="rId8"/>
          <a:stretch/>
        </p:blipFill>
        <p:spPr>
          <a:xfrm>
            <a:off x="4428000" y="2565000"/>
            <a:ext cx="2257200" cy="1609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User\Desktop\ПЛАН\tbk1.jpg"/>
          <p:cNvPicPr/>
          <p:nvPr/>
        </p:nvPicPr>
        <p:blipFill>
          <a:blip r:embed="rId9"/>
          <a:stretch/>
        </p:blipFill>
        <p:spPr>
          <a:xfrm>
            <a:off x="6588360" y="3069000"/>
            <a:ext cx="2369520" cy="157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User\Desktop\ПЛАН\UXq1Bp0GISc.jpg"/>
          <p:cNvPicPr/>
          <p:nvPr/>
        </p:nvPicPr>
        <p:blipFill>
          <a:blip r:embed="rId10"/>
          <a:stretch/>
        </p:blipFill>
        <p:spPr>
          <a:xfrm>
            <a:off x="4428000" y="4365000"/>
            <a:ext cx="1932840" cy="17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User\Desktop\ПЛАН\imgpreview (2).jpg"/>
          <p:cNvPicPr/>
          <p:nvPr/>
        </p:nvPicPr>
        <p:blipFill>
          <a:blip r:embed="rId11"/>
          <a:stretch/>
        </p:blipFill>
        <p:spPr>
          <a:xfrm>
            <a:off x="6372360" y="4686480"/>
            <a:ext cx="16570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ФОРМЛЕ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" name="Picture 3" descr="C:\Users\User\Desktop\ПЛАН\ОФОРМЛЕНИЕ\51aB7wLvYIc.jpg"/>
          <p:cNvPicPr/>
          <p:nvPr/>
        </p:nvPicPr>
        <p:blipFill>
          <a:blip r:embed="rId1"/>
          <a:stretch/>
        </p:blipFill>
        <p:spPr>
          <a:xfrm>
            <a:off x="5220000" y="4869000"/>
            <a:ext cx="2304000" cy="161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User\Desktop\ПЛАН\ОФОРМЛЕНИЕ\KsPQ5-r5ue4.jpg"/>
          <p:cNvPicPr/>
          <p:nvPr/>
        </p:nvPicPr>
        <p:blipFill>
          <a:blip r:embed="rId2"/>
          <a:stretch/>
        </p:blipFill>
        <p:spPr>
          <a:xfrm>
            <a:off x="7236360" y="3645000"/>
            <a:ext cx="1382400" cy="196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Users\User\Desktop\ПЛАН\ОФОРМЛЕНИЕ\Md8rHqr6iOc.jpg"/>
          <p:cNvPicPr/>
          <p:nvPr/>
        </p:nvPicPr>
        <p:blipFill>
          <a:blip r:embed="rId3"/>
          <a:stretch/>
        </p:blipFill>
        <p:spPr>
          <a:xfrm>
            <a:off x="5004000" y="1628640"/>
            <a:ext cx="2263320" cy="3210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Users\User\Desktop\ПЛАН\ОФОРМЛЕНИЕ\RE3VyH3F9Zc.jpg"/>
          <p:cNvPicPr/>
          <p:nvPr/>
        </p:nvPicPr>
        <p:blipFill>
          <a:blip r:embed="rId4"/>
          <a:stretch/>
        </p:blipFill>
        <p:spPr>
          <a:xfrm>
            <a:off x="6660360" y="908640"/>
            <a:ext cx="2093760" cy="2786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User\Desktop\ПЛАН\ОФОРМЛЕНИЕ\WvpyAJsOPTA.jpg"/>
          <p:cNvPicPr/>
          <p:nvPr/>
        </p:nvPicPr>
        <p:blipFill>
          <a:blip r:embed="rId5"/>
          <a:stretch/>
        </p:blipFill>
        <p:spPr>
          <a:xfrm>
            <a:off x="4068000" y="4509000"/>
            <a:ext cx="1546200" cy="2186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-12960" y="1917000"/>
            <a:ext cx="51937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альянное меню дол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ненавязчиво предлаг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лиенту заведения калья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табак и заправку для него и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объяснять их предназна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 примеру, что молоко, вода и сок 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это наилучшие заправки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устройства, так как эффекти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увлажняют дым и кач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отфильтровывают см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ОРУДОВА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2" descr="C:\Users\User\Desktop\ПЛАН\ОБОРУДОВАНИЕ\Cw8x6IJrYNA.jpg"/>
          <p:cNvPicPr/>
          <p:nvPr/>
        </p:nvPicPr>
        <p:blipFill>
          <a:blip r:embed="rId1"/>
          <a:stretch/>
        </p:blipFill>
        <p:spPr>
          <a:xfrm>
            <a:off x="6876360" y="548640"/>
            <a:ext cx="2009160" cy="263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User\Desktop\ПЛАН\ОБОРУДОВАНИЕ\FOTO6334_070715_b.jpg"/>
          <p:cNvPicPr/>
          <p:nvPr/>
        </p:nvPicPr>
        <p:blipFill>
          <a:blip r:embed="rId2"/>
          <a:stretch/>
        </p:blipFill>
        <p:spPr>
          <a:xfrm>
            <a:off x="4860000" y="4581000"/>
            <a:ext cx="2412000" cy="159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User\Desktop\ПЛАН\ОБОРУДОВАНИЕ\ASH_6835a.jpg"/>
          <p:cNvPicPr/>
          <p:nvPr/>
        </p:nvPicPr>
        <p:blipFill>
          <a:blip r:embed="rId3"/>
          <a:stretch/>
        </p:blipFill>
        <p:spPr>
          <a:xfrm>
            <a:off x="6876360" y="2853000"/>
            <a:ext cx="1723320" cy="1144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Users\User\Desktop\ПЛАН\ОБОРУДОВАНИЕ\t101.jpg"/>
          <p:cNvPicPr/>
          <p:nvPr/>
        </p:nvPicPr>
        <p:blipFill>
          <a:blip r:embed="rId4"/>
          <a:stretch/>
        </p:blipFill>
        <p:spPr>
          <a:xfrm>
            <a:off x="7216920" y="4077000"/>
            <a:ext cx="1926720" cy="1144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User\Desktop\0fd787284ea32018c8619decd78b3a52.jpg"/>
          <p:cNvPicPr/>
          <p:nvPr/>
        </p:nvPicPr>
        <p:blipFill>
          <a:blip r:embed="rId5"/>
          <a:stretch/>
        </p:blipFill>
        <p:spPr>
          <a:xfrm>
            <a:off x="3708000" y="836640"/>
            <a:ext cx="4164480" cy="4164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:\Users\User\Desktop\61078348_w640_h640_26281_kopiya_2.jpg"/>
          <p:cNvPicPr/>
          <p:nvPr/>
        </p:nvPicPr>
        <p:blipFill>
          <a:blip r:embed="rId6"/>
          <a:stretch/>
        </p:blipFill>
        <p:spPr>
          <a:xfrm>
            <a:off x="6732360" y="4713120"/>
            <a:ext cx="201600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АБАК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2" descr="C:\Users\User\Desktop\ПЛАН\ТАБАК\BJRXCqad_OM.jpg"/>
          <p:cNvPicPr/>
          <p:nvPr/>
        </p:nvPicPr>
        <p:blipFill>
          <a:blip r:embed="rId1"/>
          <a:stretch/>
        </p:blipFill>
        <p:spPr>
          <a:xfrm>
            <a:off x="4284000" y="5214240"/>
            <a:ext cx="1643400" cy="1643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User\Desktop\ПЛАН\ТАБАК\hQBnhy9shNc.jpg"/>
          <p:cNvPicPr/>
          <p:nvPr/>
        </p:nvPicPr>
        <p:blipFill>
          <a:blip r:embed="rId2"/>
          <a:stretch/>
        </p:blipFill>
        <p:spPr>
          <a:xfrm>
            <a:off x="2915640" y="3573000"/>
            <a:ext cx="2024280" cy="202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Users\User\Desktop\ПЛАН\ТАБАК\kVMGt4P67Nc.jpg"/>
          <p:cNvPicPr/>
          <p:nvPr/>
        </p:nvPicPr>
        <p:blipFill>
          <a:blip r:embed="rId3"/>
          <a:stretch/>
        </p:blipFill>
        <p:spPr>
          <a:xfrm>
            <a:off x="6228360" y="1484640"/>
            <a:ext cx="2441160" cy="2441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Users\User\Desktop\ПЛАН\ТАБАК\kypghhG6W3o.jpg"/>
          <p:cNvPicPr/>
          <p:nvPr/>
        </p:nvPicPr>
        <p:blipFill>
          <a:blip r:embed="rId4"/>
          <a:stretch/>
        </p:blipFill>
        <p:spPr>
          <a:xfrm>
            <a:off x="3204000" y="1052640"/>
            <a:ext cx="2699280" cy="269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Users\User\Desktop\ПЛАН\ТАБАК\yNWv5UVvaXE.jpg"/>
          <p:cNvPicPr/>
          <p:nvPr/>
        </p:nvPicPr>
        <p:blipFill>
          <a:blip r:embed="rId5"/>
          <a:stretch/>
        </p:blipFill>
        <p:spPr>
          <a:xfrm>
            <a:off x="6084000" y="-99360"/>
            <a:ext cx="2128320" cy="2128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9"/>
          <p:cNvSpPr/>
          <p:nvPr/>
        </p:nvSpPr>
        <p:spPr>
          <a:xfrm>
            <a:off x="2555640" y="404640"/>
            <a:ext cx="3888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абак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Serbetli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лгое время известен и популярен в Турции, там он ценится очень высоко за свои качества и натура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79640" y="1845000"/>
            <a:ext cx="4032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Nakhla является египетским предприятием, которое уже на протяжении множества лет занимается выпуском наиболее популярных табаков для кальяна. Популярность данный бренд завоевал не только в нашей стране, но и во всем ми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107640" y="4005000"/>
            <a:ext cx="28800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абак для кальяна Adalya (Адалия) это продукт премиум класса, который производится в Турции по передовым технолог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6335640" y="3285000"/>
            <a:ext cx="280800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абак для кальяна Al Fakher– наиболее известный бренд во всем мире среди производтелей табака. Выиграв пальму первенства у Nakhla, Al Fakher завоевал любовь многих любителей кальяна за счет палитры вкусов и невысокой креп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323640" y="5445360"/>
            <a:ext cx="37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абак Fasil — турецкий табак, достаточно легкий и похож на другие турецкие табаки, такие как Serbetli, Adaly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КЦИИ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2" descr="C:\Users\User\Desktop\ПЛАН\АКЦИИ\khujzzrW2tk.jpg"/>
          <p:cNvPicPr/>
          <p:nvPr/>
        </p:nvPicPr>
        <p:blipFill>
          <a:blip r:embed="rId1"/>
          <a:stretch/>
        </p:blipFill>
        <p:spPr>
          <a:xfrm>
            <a:off x="4716000" y="764640"/>
            <a:ext cx="3210840" cy="190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User\Desktop\ПЛАН\АКЦИИ\55797533613a7a3f0f8b457e_55797537685ee.jpg"/>
          <p:cNvPicPr/>
          <p:nvPr/>
        </p:nvPicPr>
        <p:blipFill>
          <a:blip r:embed="rId2"/>
          <a:stretch/>
        </p:blipFill>
        <p:spPr>
          <a:xfrm>
            <a:off x="6156000" y="2853000"/>
            <a:ext cx="2649240" cy="179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User\Desktop\ПЛАН\АКЦИИ\JGHkJ380SR0.jpg"/>
          <p:cNvPicPr/>
          <p:nvPr/>
        </p:nvPicPr>
        <p:blipFill>
          <a:blip r:embed="rId3"/>
          <a:stretch/>
        </p:blipFill>
        <p:spPr>
          <a:xfrm>
            <a:off x="4716000" y="2277000"/>
            <a:ext cx="1697040" cy="241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Users\User\Desktop\ПЛАН\АКЦИИ\k16zNQPvjf0.jpg"/>
          <p:cNvPicPr/>
          <p:nvPr/>
        </p:nvPicPr>
        <p:blipFill>
          <a:blip r:embed="rId4"/>
          <a:stretch/>
        </p:blipFill>
        <p:spPr>
          <a:xfrm>
            <a:off x="5076000" y="4581000"/>
            <a:ext cx="275976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ЕРСОНАЛ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2" descr="C:\Users\User\Desktop\ПЛАН\ПЕРСОНАЛ\imgpreview (1).jpg"/>
          <p:cNvPicPr/>
          <p:nvPr/>
        </p:nvPicPr>
        <p:blipFill>
          <a:blip r:embed="rId1"/>
          <a:stretch/>
        </p:blipFill>
        <p:spPr>
          <a:xfrm>
            <a:off x="5436000" y="1772640"/>
            <a:ext cx="264456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КЛАМ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3" name="Picture 5" descr="C:\Users\User\Desktop\ПЛАН\РЕКЛАМА\2.jpg"/>
          <p:cNvPicPr/>
          <p:nvPr/>
        </p:nvPicPr>
        <p:blipFill>
          <a:blip r:embed="rId1"/>
          <a:stretch/>
        </p:blipFill>
        <p:spPr>
          <a:xfrm>
            <a:off x="4572000" y="1052640"/>
            <a:ext cx="2572200" cy="2343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:\Users\User\Desktop\ПЛАН\РЕКЛАМА\149_vk.png"/>
          <p:cNvPicPr/>
          <p:nvPr/>
        </p:nvPicPr>
        <p:blipFill>
          <a:blip r:embed="rId2"/>
          <a:stretch/>
        </p:blipFill>
        <p:spPr>
          <a:xfrm>
            <a:off x="6372360" y="2565000"/>
            <a:ext cx="2073960" cy="2073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:\Users\User\Desktop\ПЛАН\РЕКЛАМА\2898945360.jpg"/>
          <p:cNvPicPr/>
          <p:nvPr/>
        </p:nvPicPr>
        <p:blipFill>
          <a:blip r:embed="rId3"/>
          <a:stretch/>
        </p:blipFill>
        <p:spPr>
          <a:xfrm>
            <a:off x="4068000" y="4005000"/>
            <a:ext cx="345600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48</TotalTime>
  <Application>LibreOffice/7.4.7.2$Linux_X86_64 LibreOffice_project/40$Build-2</Application>
  <AppVersion>15.0000</AppVersion>
  <Words>160</Words>
  <Paragraphs>2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8T14:09:01Z</dcterms:created>
  <dc:creator>User</dc:creator>
  <dc:description/>
  <dc:language>en-US</dc:language>
  <cp:lastModifiedBy>User</cp:lastModifiedBy>
  <dcterms:modified xsi:type="dcterms:W3CDTF">2017-01-10T06:36:56Z</dcterms:modified>
  <cp:revision>6</cp:revision>
  <dc:subject/>
  <dc:title>Бизнес-план кальянно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