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8.jpeg" ContentType="image/jpeg"/>
  <Override PartName="/ppt/media/image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8.jpeg" ContentType="image/jpeg"/>
  <Override PartName="/ppt/media/image18.png" ContentType="image/png"/>
  <Override PartName="/ppt/media/image6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media/image2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2169-FCDB-44E8-A07A-86C301087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2954-6DAE-406D-83A2-CEEE5E5F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FB2F-685D-4240-BCA5-6A0B808A0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E245-B507-4B96-AA21-467981CF5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8D3D-00D0-40AF-B27E-CEF64D4AA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8130-83B7-4023-A83D-8D7EFF34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39E83-078F-4F42-8110-C592758C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C740-C75F-49C2-B85F-BBE29C7C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9BE2B-E86B-4E73-BD70-7DB2DAA7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1660-C867-42BA-AC7F-C5D2D958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8661-5A73-4FFA-B982-34D8F9AF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BC1E-5013-4749-98F3-F53D0AAF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85A5-C141-4325-BE7D-4025CCAF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CA37-886B-4CCC-8F38-5281713B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4D52D-4CFE-4919-9DD6-5DDB9EA0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20B7-0B25-4BB2-8101-00BE87CA8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0472-E008-4114-974D-93641A1FE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28D6-89B7-4A89-B624-EF70A6B3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CAE6-B038-4194-93F3-B1259D17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8456-6365-45D2-A548-D1B9790A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F3DA-4BF5-47C6-81A2-F078FD7F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F1AC-4AD4-441D-8694-08B81481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7166-1D45-4D20-85CD-8EE4E4BE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B70E-60CC-420E-8ED9-49118FC9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a2d6"/>
            </a:gs>
            <a:gs pos="100000">
              <a:srgbClr val="002b36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50e0ea"/>
                </a:solidFill>
                <a:latin typeface="Calibri"/>
              </a:rPr>
              <a:t>Образец заголовка</a:t>
            </a:r>
            <a:endParaRPr b="0" lang="ru-RU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78B50B4-536A-4644-8AA4-15F88DD1FE08}" type="slidenum"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CD373D-21EC-4EBE-99FE-9FB567B171CF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4.jpeg"/><Relationship Id="rId10" Type="http://schemas.openxmlformats.org/officeDocument/2006/relationships/image" Target="../media/image5.jpeg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600" spc="49" strike="noStrike">
                <a:solidFill>
                  <a:srgbClr val="fbfcfd">
                    <a:alpha val="95000"/>
                  </a:srgbClr>
                </a:solidFill>
                <a:latin typeface="Calibri"/>
              </a:rPr>
              <a:t>Бизнес-план кальянной</a:t>
            </a:r>
            <a:br>
              <a:rPr sz="5600"/>
            </a:br>
            <a:endParaRPr b="0" lang="ru-RU" sz="5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ОДЕРЖАНИЕ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3200" spc="-1" strike="noStrike" u="sng">
                <a:solidFill>
                  <a:srgbClr val="e2d700"/>
                </a:solidFill>
                <a:uFillTx/>
                <a:latin typeface="Constantia"/>
                <a:hlinkClick r:id="rId1" action="ppaction://hlinksldjump"/>
              </a:rPr>
              <a:t>Оформление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32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Оборудование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3200" spc="-1" strike="noStrike" u="sng">
                <a:solidFill>
                  <a:srgbClr val="e2d700"/>
                </a:solidFill>
                <a:uFillTx/>
                <a:latin typeface="Constantia"/>
                <a:hlinkClick r:id="rId3" action="ppaction://hlinksldjump"/>
              </a:rPr>
              <a:t>Табак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3200" spc="-1" strike="noStrike" u="sng">
                <a:solidFill>
                  <a:srgbClr val="e2d700"/>
                </a:solidFill>
                <a:uFillTx/>
                <a:latin typeface="Constantia"/>
                <a:hlinkClick r:id="rId4" action="ppaction://hlinksldjump"/>
              </a:rPr>
              <a:t>Акции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3200" spc="-1" strike="noStrike" u="sng">
                <a:solidFill>
                  <a:srgbClr val="e2d700"/>
                </a:solidFill>
                <a:uFillTx/>
                <a:latin typeface="Constantia"/>
                <a:hlinkClick r:id="rId5" action="ppaction://hlinksldjump"/>
              </a:rPr>
              <a:t>Персонал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3200" spc="-1" strike="noStrike" u="sng">
                <a:solidFill>
                  <a:srgbClr val="e2d700"/>
                </a:solidFill>
                <a:uFillTx/>
                <a:latin typeface="Constantia"/>
                <a:hlinkClick r:id="rId6" action="ppaction://hlinksldjump"/>
              </a:rPr>
              <a:t>Реклама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5" name="Picture 2" descr="C:\Users\User\Desktop\ПЛАН\0_1080b8_e676be1d_-1-XL.jpg"/>
          <p:cNvPicPr/>
          <p:nvPr/>
        </p:nvPicPr>
        <p:blipFill>
          <a:blip r:embed="rId7"/>
          <a:stretch/>
        </p:blipFill>
        <p:spPr>
          <a:xfrm>
            <a:off x="5436000" y="908640"/>
            <a:ext cx="2990160" cy="1992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C:\Users\User\Desktop\ПЛАН\imgpreview (1).jpg"/>
          <p:cNvPicPr/>
          <p:nvPr/>
        </p:nvPicPr>
        <p:blipFill>
          <a:blip r:embed="rId8"/>
          <a:stretch/>
        </p:blipFill>
        <p:spPr>
          <a:xfrm>
            <a:off x="4428000" y="2565000"/>
            <a:ext cx="2257200" cy="1609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C:\Users\User\Desktop\ПЛАН\tbk1.jpg"/>
          <p:cNvPicPr/>
          <p:nvPr/>
        </p:nvPicPr>
        <p:blipFill>
          <a:blip r:embed="rId9"/>
          <a:stretch/>
        </p:blipFill>
        <p:spPr>
          <a:xfrm>
            <a:off x="6588360" y="3069000"/>
            <a:ext cx="2369520" cy="1571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C:\Users\User\Desktop\ПЛАН\UXq1Bp0GISc.jpg"/>
          <p:cNvPicPr/>
          <p:nvPr/>
        </p:nvPicPr>
        <p:blipFill>
          <a:blip r:embed="rId10"/>
          <a:stretch/>
        </p:blipFill>
        <p:spPr>
          <a:xfrm>
            <a:off x="4428000" y="4365000"/>
            <a:ext cx="1932840" cy="1763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C:\Users\User\Desktop\ПЛАН\imgpreview (2).jpg"/>
          <p:cNvPicPr/>
          <p:nvPr/>
        </p:nvPicPr>
        <p:blipFill>
          <a:blip r:embed="rId11"/>
          <a:stretch/>
        </p:blipFill>
        <p:spPr>
          <a:xfrm>
            <a:off x="6372360" y="4686480"/>
            <a:ext cx="16570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ФОРМЛЕНИЕ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1" name="Picture 3" descr="C:\Users\User\Desktop\ПЛАН\ОФОРМЛЕНИЕ\51aB7wLvYIc.jpg"/>
          <p:cNvPicPr/>
          <p:nvPr/>
        </p:nvPicPr>
        <p:blipFill>
          <a:blip r:embed="rId1"/>
          <a:stretch/>
        </p:blipFill>
        <p:spPr>
          <a:xfrm>
            <a:off x="5220000" y="4869000"/>
            <a:ext cx="2304000" cy="1612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Users\User\Desktop\ПЛАН\ОФОРМЛЕНИЕ\KsPQ5-r5ue4.jpg"/>
          <p:cNvPicPr/>
          <p:nvPr/>
        </p:nvPicPr>
        <p:blipFill>
          <a:blip r:embed="rId2"/>
          <a:stretch/>
        </p:blipFill>
        <p:spPr>
          <a:xfrm>
            <a:off x="7236360" y="3645000"/>
            <a:ext cx="1382400" cy="1963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C:\Users\User\Desktop\ПЛАН\ОФОРМЛЕНИЕ\Md8rHqr6iOc.jpg"/>
          <p:cNvPicPr/>
          <p:nvPr/>
        </p:nvPicPr>
        <p:blipFill>
          <a:blip r:embed="rId3"/>
          <a:stretch/>
        </p:blipFill>
        <p:spPr>
          <a:xfrm>
            <a:off x="5004000" y="1628640"/>
            <a:ext cx="2263320" cy="3210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C:\Users\User\Desktop\ПЛАН\ОФОРМЛЕНИЕ\RE3VyH3F9Zc.jpg"/>
          <p:cNvPicPr/>
          <p:nvPr/>
        </p:nvPicPr>
        <p:blipFill>
          <a:blip r:embed="rId4"/>
          <a:stretch/>
        </p:blipFill>
        <p:spPr>
          <a:xfrm>
            <a:off x="6660360" y="908640"/>
            <a:ext cx="2093760" cy="2786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C:\Users\User\Desktop\ПЛАН\ОФОРМЛЕНИЕ\WvpyAJsOPTA.jpg"/>
          <p:cNvPicPr/>
          <p:nvPr/>
        </p:nvPicPr>
        <p:blipFill>
          <a:blip r:embed="rId5"/>
          <a:stretch/>
        </p:blipFill>
        <p:spPr>
          <a:xfrm>
            <a:off x="4068000" y="4509000"/>
            <a:ext cx="1546200" cy="21866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9"/>
          <p:cNvSpPr/>
          <p:nvPr/>
        </p:nvSpPr>
        <p:spPr>
          <a:xfrm>
            <a:off x="-12960" y="1917000"/>
            <a:ext cx="5193720" cy="31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Кальянное меню долж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ненавязчиво предлаг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клиенту заведения кальян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табак и заправку для него и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объяснять их предназнач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К примеру, что молоко, вода и сок 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это наилучшие заправки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устройства, так как эффектив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увлажняют дым и качествен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отфильтровывают смо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ОРУДОВАНИЕ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2" descr="C:\Users\User\Desktop\ПЛАН\ОБОРУДОВАНИЕ\Cw8x6IJrYNA.jpg"/>
          <p:cNvPicPr/>
          <p:nvPr/>
        </p:nvPicPr>
        <p:blipFill>
          <a:blip r:embed="rId1"/>
          <a:stretch/>
        </p:blipFill>
        <p:spPr>
          <a:xfrm>
            <a:off x="6876360" y="548640"/>
            <a:ext cx="2009160" cy="2634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C:\Users\User\Desktop\ПЛАН\ОБОРУДОВАНИЕ\FOTO6334_070715_b.jpg"/>
          <p:cNvPicPr/>
          <p:nvPr/>
        </p:nvPicPr>
        <p:blipFill>
          <a:blip r:embed="rId2"/>
          <a:stretch/>
        </p:blipFill>
        <p:spPr>
          <a:xfrm>
            <a:off x="4860000" y="4581000"/>
            <a:ext cx="2412000" cy="1597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:\Users\User\Desktop\ПЛАН\ОБОРУДОВАНИЕ\ASH_6835a.jpg"/>
          <p:cNvPicPr/>
          <p:nvPr/>
        </p:nvPicPr>
        <p:blipFill>
          <a:blip r:embed="rId3"/>
          <a:stretch/>
        </p:blipFill>
        <p:spPr>
          <a:xfrm>
            <a:off x="6876360" y="2853000"/>
            <a:ext cx="1723320" cy="1144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C:\Users\User\Desktop\ПЛАН\ОБОРУДОВАНИЕ\t101.jpg"/>
          <p:cNvPicPr/>
          <p:nvPr/>
        </p:nvPicPr>
        <p:blipFill>
          <a:blip r:embed="rId4"/>
          <a:stretch/>
        </p:blipFill>
        <p:spPr>
          <a:xfrm>
            <a:off x="7216920" y="4077000"/>
            <a:ext cx="1926720" cy="1144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C:\Users\User\Desktop\0fd787284ea32018c8619decd78b3a52.jpg"/>
          <p:cNvPicPr/>
          <p:nvPr/>
        </p:nvPicPr>
        <p:blipFill>
          <a:blip r:embed="rId5"/>
          <a:stretch/>
        </p:blipFill>
        <p:spPr>
          <a:xfrm>
            <a:off x="3708000" y="836640"/>
            <a:ext cx="4164480" cy="4164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C:\Users\User\Desktop\61078348_w640_h640_26281_kopiya_2.jpg"/>
          <p:cNvPicPr/>
          <p:nvPr/>
        </p:nvPicPr>
        <p:blipFill>
          <a:blip r:embed="rId6"/>
          <a:stretch/>
        </p:blipFill>
        <p:spPr>
          <a:xfrm>
            <a:off x="6732360" y="4713120"/>
            <a:ext cx="201600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ТАБАК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5" name="Picture 2" descr="C:\Users\User\Desktop\ПЛАН\ТАБАК\BJRXCqad_OM.jpg"/>
          <p:cNvPicPr/>
          <p:nvPr/>
        </p:nvPicPr>
        <p:blipFill>
          <a:blip r:embed="rId1"/>
          <a:stretch/>
        </p:blipFill>
        <p:spPr>
          <a:xfrm>
            <a:off x="4284000" y="5214240"/>
            <a:ext cx="1643400" cy="1643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:\Users\User\Desktop\ПЛАН\ТАБАК\hQBnhy9shNc.jpg"/>
          <p:cNvPicPr/>
          <p:nvPr/>
        </p:nvPicPr>
        <p:blipFill>
          <a:blip r:embed="rId2"/>
          <a:stretch/>
        </p:blipFill>
        <p:spPr>
          <a:xfrm>
            <a:off x="2915640" y="3573000"/>
            <a:ext cx="2024280" cy="2024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C:\Users\User\Desktop\ПЛАН\ТАБАК\kVMGt4P67Nc.jpg"/>
          <p:cNvPicPr/>
          <p:nvPr/>
        </p:nvPicPr>
        <p:blipFill>
          <a:blip r:embed="rId3"/>
          <a:stretch/>
        </p:blipFill>
        <p:spPr>
          <a:xfrm>
            <a:off x="6228360" y="1484640"/>
            <a:ext cx="2441160" cy="2441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C:\Users\User\Desktop\ПЛАН\ТАБАК\kypghhG6W3o.jpg"/>
          <p:cNvPicPr/>
          <p:nvPr/>
        </p:nvPicPr>
        <p:blipFill>
          <a:blip r:embed="rId4"/>
          <a:stretch/>
        </p:blipFill>
        <p:spPr>
          <a:xfrm>
            <a:off x="3204000" y="1052640"/>
            <a:ext cx="2699280" cy="2699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C:\Users\User\Desktop\ПЛАН\ТАБАК\yNWv5UVvaXE.jpg"/>
          <p:cNvPicPr/>
          <p:nvPr/>
        </p:nvPicPr>
        <p:blipFill>
          <a:blip r:embed="rId5"/>
          <a:stretch/>
        </p:blipFill>
        <p:spPr>
          <a:xfrm>
            <a:off x="6084000" y="-99360"/>
            <a:ext cx="2128320" cy="21283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9"/>
          <p:cNvSpPr/>
          <p:nvPr/>
        </p:nvSpPr>
        <p:spPr>
          <a:xfrm>
            <a:off x="2555640" y="404640"/>
            <a:ext cx="388800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Табак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Serbetli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долгое время известен и популярен в Турции, там он ценится очень высоко за свои качества и натураль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0"/>
          <p:cNvSpPr/>
          <p:nvPr/>
        </p:nvSpPr>
        <p:spPr>
          <a:xfrm>
            <a:off x="179640" y="1845000"/>
            <a:ext cx="403200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Nakhla является египетским предприятием, которое уже на протяжении множества лет занимается выпуском наиболее популярных табаков для кальяна. Популярность данный бренд завоевал не только в нашей стране, но и во всем мир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1"/>
          <p:cNvSpPr/>
          <p:nvPr/>
        </p:nvSpPr>
        <p:spPr>
          <a:xfrm>
            <a:off x="107640" y="4005000"/>
            <a:ext cx="2880000" cy="17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Табак для кальяна Adalya (Адалия) это продукт премиум класса, который производится в Турции по передовым технолог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2"/>
          <p:cNvSpPr/>
          <p:nvPr/>
        </p:nvSpPr>
        <p:spPr>
          <a:xfrm>
            <a:off x="6335640" y="3285000"/>
            <a:ext cx="2808000" cy="30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Табак для кальяна Al Fakher– наиболее известный бренд во всем мире среди производтелей табака. Выиграв пальму первенства у Nakhla, Al Fakher завоевал любовь многих любителей кальяна за счет палитры вкусов и невысокой креп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3"/>
          <p:cNvSpPr/>
          <p:nvPr/>
        </p:nvSpPr>
        <p:spPr>
          <a:xfrm>
            <a:off x="323640" y="5445360"/>
            <a:ext cx="374400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Табак Fasil — турецкий табак, достаточно легкий и похож на другие турецкие табаки, такие как Serbetli, Adaly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АКЦИИ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6" name="Picture 2" descr="C:\Users\User\Desktop\ПЛАН\АКЦИИ\khujzzrW2tk.jpg"/>
          <p:cNvPicPr/>
          <p:nvPr/>
        </p:nvPicPr>
        <p:blipFill>
          <a:blip r:embed="rId1"/>
          <a:stretch/>
        </p:blipFill>
        <p:spPr>
          <a:xfrm>
            <a:off x="4716000" y="764640"/>
            <a:ext cx="3210840" cy="1908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C:\Users\User\Desktop\ПЛАН\АКЦИИ\55797533613a7a3f0f8b457e_55797537685ee.jpg"/>
          <p:cNvPicPr/>
          <p:nvPr/>
        </p:nvPicPr>
        <p:blipFill>
          <a:blip r:embed="rId2"/>
          <a:stretch/>
        </p:blipFill>
        <p:spPr>
          <a:xfrm>
            <a:off x="6156000" y="2853000"/>
            <a:ext cx="2649240" cy="1798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C:\Users\User\Desktop\ПЛАН\АКЦИИ\JGHkJ380SR0.jpg"/>
          <p:cNvPicPr/>
          <p:nvPr/>
        </p:nvPicPr>
        <p:blipFill>
          <a:blip r:embed="rId3"/>
          <a:stretch/>
        </p:blipFill>
        <p:spPr>
          <a:xfrm>
            <a:off x="4716000" y="2277000"/>
            <a:ext cx="1697040" cy="2410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C:\Users\User\Desktop\ПЛАН\АКЦИИ\k16zNQPvjf0.jpg"/>
          <p:cNvPicPr/>
          <p:nvPr/>
        </p:nvPicPr>
        <p:blipFill>
          <a:blip r:embed="rId4"/>
          <a:stretch/>
        </p:blipFill>
        <p:spPr>
          <a:xfrm>
            <a:off x="5076000" y="4581000"/>
            <a:ext cx="2759760" cy="183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ЕРСОНАЛ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1" name="Picture 2" descr="C:\Users\User\Desktop\ПЛАН\ПЕРСОНАЛ\imgpreview (1).jpg"/>
          <p:cNvPicPr/>
          <p:nvPr/>
        </p:nvPicPr>
        <p:blipFill>
          <a:blip r:embed="rId1"/>
          <a:stretch/>
        </p:blipFill>
        <p:spPr>
          <a:xfrm>
            <a:off x="5436000" y="1772640"/>
            <a:ext cx="264456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ЕКЛАМА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3" name="Picture 5" descr="C:\Users\User\Desktop\ПЛАН\РЕКЛАМА\2.jpg"/>
          <p:cNvPicPr/>
          <p:nvPr/>
        </p:nvPicPr>
        <p:blipFill>
          <a:blip r:embed="rId1"/>
          <a:stretch/>
        </p:blipFill>
        <p:spPr>
          <a:xfrm>
            <a:off x="4572000" y="1052640"/>
            <a:ext cx="2572200" cy="2343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C:\Users\User\Desktop\ПЛАН\РЕКЛАМА\149_vk.png"/>
          <p:cNvPicPr/>
          <p:nvPr/>
        </p:nvPicPr>
        <p:blipFill>
          <a:blip r:embed="rId2"/>
          <a:stretch/>
        </p:blipFill>
        <p:spPr>
          <a:xfrm>
            <a:off x="6372360" y="2565000"/>
            <a:ext cx="2073960" cy="2073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C:\Users\User\Desktop\ПЛАН\РЕКЛАМА\2898945360.jpg"/>
          <p:cNvPicPr/>
          <p:nvPr/>
        </p:nvPicPr>
        <p:blipFill>
          <a:blip r:embed="rId3"/>
          <a:stretch/>
        </p:blipFill>
        <p:spPr>
          <a:xfrm>
            <a:off x="4068000" y="4005000"/>
            <a:ext cx="3456000" cy="23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48</TotalTime>
  <Application>LibreOffice/7.4.7.2$Linux_X86_64 LibreOffice_project/40$Build-2</Application>
  <AppVersion>15.0000</AppVersion>
  <Words>160</Words>
  <Paragraphs>29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8T14:09:01Z</dcterms:created>
  <dc:creator>User</dc:creator>
  <dc:description/>
  <dc:language>en-US</dc:language>
  <cp:lastModifiedBy>User</cp:lastModifiedBy>
  <dcterms:modified xsi:type="dcterms:W3CDTF">2017-01-10T06:36:56Z</dcterms:modified>
  <cp:revision>6</cp:revision>
  <dc:subject/>
  <dc:title>Бизнес-план кальянной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8</vt:r8>
  </property>
</Properties>
</file>