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3DA536-B96D-43BD-BF70-06E619C4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9AA812-99DE-4A0D-A784-3B0D2877A09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2094A2-D00A-491C-B8A2-3788C7FB180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72767A-3FEB-44CB-A740-BBC416DE6AA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A0F440-8066-4C41-8437-076F24EF8B1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F34A56-E8B6-4A3B-8FC6-114E16DA69A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1F2FDF-5923-4EF4-BC6B-0F11CC0EF7C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3F3C5D-EC0C-40B3-A0D9-2A862BB2D46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EC3EF-07E8-42B6-A1B4-D9E6A6FF1F1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0859DF-793D-43BA-BD20-F19615D2150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2A6C2F-68BB-4BF8-B6ED-B22FBFA2ACD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53B94F-FD3E-4880-8474-AF217A15756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F270BA-DC30-41F1-8090-2C3655A4CC4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34BE9-2709-4EA1-A824-0F364985165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9A1A0B-A1A9-456A-80E8-B37D82F2592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9E0ECF-089A-45D4-A0D4-90566A551F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48762-2FC9-497B-8FC9-FE5D2068C09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F1D18D-4818-4E9C-A86A-B367DF231EB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4DF150-4365-47D4-9381-BC72B9E6CC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102-8B71-4F8D-91EF-FBEA9F1D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64F-5BB2-4641-B7AB-C4398FF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AF1-BB15-4BAF-8F56-76AAB80F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8B9-B961-4FA0-B0F2-05A30809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56A3-3E0F-401E-AF7E-3A11FF62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A9D4-A03F-4C03-A641-ADDAFC6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392D-5D7C-47D7-9678-963715E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F6B2-3DBB-40D5-AB40-87C89F97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FDCD-6E91-4ECE-983F-06BFA04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5C2-A6E6-473B-867E-BCD1468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FD6A-CA42-46BD-995A-BBCCD18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2D7-C590-43BF-93F1-D66F4D8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FD3C-6E59-4D51-B8DB-51E4E62C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33F-42C4-4526-A6B0-A8C3CC2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0FB6-DA0E-4D39-B784-9CC3B753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5EC-F3F6-4F00-985A-CE4D6F4E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42A-CCE2-458C-92C9-DEA8D7CE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E364-FCE5-40BA-BF1D-DF569EF6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C41E-377E-4A10-B804-3CE9894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A91C-43FC-49DC-ACCE-1E642642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87BC-7FBD-47EF-A66D-B0AA7E0C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1592-DBD4-4947-9860-8F156C6A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0FB-512E-4110-A7A8-435561C4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7A51-C959-4E93-8D5F-2402DDB5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C38A-E889-49E1-868B-2F2DF55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122A-A2F7-4DF6-8C9E-C15E7056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E9D2-A049-4A42-92EA-925A97C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7A79-F0DC-4224-A49B-1B89E7D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E722-E4E3-4823-9E05-204A888A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9991-902B-46D5-B739-D192BAB2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B37-3D78-40B6-8365-393975A2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4CA-A707-4B1B-B4BE-C3BA6178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378-16C9-48C3-930C-24F0127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9BB-86E7-4E28-8A6B-8356EDD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FC8-A358-491E-B3EC-378B60E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42C-7000-4516-AFD6-3AF8D6B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3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040" y="2239560"/>
            <a:ext cx="62535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456200" y="3725280"/>
            <a:ext cx="623124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Franklin Gothic 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4F7DE0-AA60-4951-BDD8-339E16629CE9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0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52" name="Freeform 9" hidden="1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3" name="Rectangle 10" hidden="1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4" name="Rectangle 11" hidden="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55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60" name="Freeform 9"/>
          <p:cNvSpPr/>
          <p:nvPr/>
        </p:nvSpPr>
        <p:spPr>
          <a:xfrm rot="10800000">
            <a:off x="892080" y="5617800"/>
            <a:ext cx="7382520" cy="536760"/>
          </a:xfrm>
          <a:custGeom>
            <a:avLst/>
            <a:gdLst>
              <a:gd name="textAreaLeft" fmla="*/ 0 w 7382520"/>
              <a:gd name="textAreaRight" fmla="*/ 7382880 w 7382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990000" y="1017000"/>
            <a:ext cx="7179480" cy="483120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90720" y="1009800"/>
            <a:ext cx="7179480" cy="4831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3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800">
            <a:off x="769320" y="70164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6200">
            <a:off x="7855560" y="74952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7280" y="179496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770520" y="53575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1173960" y="5357520"/>
            <a:ext cx="503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213960" y="53575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4666A7-B860-4DDE-88CD-FB6B55D7D3F9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7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09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12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AA1B4E-5992-4A3C-BB24-481351412C04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earningapps.org/watch?v=px1e1b88n16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&#1058;&#1077;&#1089;&#1090;%20&#1044;&#1086;&#1084;&#1072;&#1096;&#1085;&#1108;%20&#1079;&#1072;&#1074;&#1076;&#1072;&#1085;&#1085;&#1103;.docx" TargetMode="External"/><Relationship Id="rId2" Type="http://schemas.openxmlformats.org/officeDocument/2006/relationships/hyperlink" Target="file:///tmp/&#1058;&#1077;&#1089;&#1090;%20&#1044;&#1086;&#1084;&#1072;&#1096;&#1085;&#1108;%20&#1079;&#1072;&#1074;&#1076;&#1072;&#1085;&#1085;&#1103;.docx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find.com/" TargetMode="External"/><Relationship Id="rId2" Type="http://schemas.openxmlformats.org/officeDocument/2006/relationships/hyperlink" Target="http://www.edufind.com/" TargetMode="External"/><Relationship Id="rId3" Type="http://schemas.openxmlformats.org/officeDocument/2006/relationships/hyperlink" Target="http://www.edufind.com/" TargetMode="External"/><Relationship Id="rId4" Type="http://schemas.openxmlformats.org/officeDocument/2006/relationships/hyperlink" Target="http://www.edufind.com/" TargetMode="External"/><Relationship Id="rId5" Type="http://schemas.openxmlformats.org/officeDocument/2006/relationships/hyperlink" Target="http://www.edufind.com/" TargetMode="External"/><Relationship Id="rId6" Type="http://schemas.openxmlformats.org/officeDocument/2006/relationships/hyperlink" Target="http://www.edufind.com/" TargetMode="External"/><Relationship Id="rId7" Type="http://schemas.openxmlformats.org/officeDocument/2006/relationships/hyperlink" Target="http://www.edufind.com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5040" y="2239560"/>
            <a:ext cx="62535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203a4e"/>
                </a:solidFill>
                <a:latin typeface="Constantia"/>
              </a:rPr>
              <a:t>Засоби вираження майбутнього часу в Англійській мові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6200" y="3725280"/>
            <a:ext cx="623124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Підготувала: Вчитель англійської мови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                                         </a:t>
            </a: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ЗОШ І-ІІІ ступенів м. Маріуполя №26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Ростем К.В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92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93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Perfect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640" y="206100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 completed action in the future. It is most often used with a time expressi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here for six months on June 23rd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By the time you read this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left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Perfect Continuou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It refers to events or actions in a time between now and some future time are unfinished. It is most often used with a time expressi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 wait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here for three hours by six o'clock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By 2001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 liv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in London for sixteen year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7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The immediate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556640"/>
            <a:ext cx="7272360" cy="4608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This pattern is used to refer to a time immediately after the moment of speaking, and emphasises that the event or action will happen very soon. We often add the word </a:t>
            </a:r>
            <a:r>
              <a:rPr b="0" i="1" lang="en-US" sz="2000" spc="-1" strike="noStrike">
                <a:solidFill>
                  <a:schemeClr val="lt1"/>
                </a:solidFill>
                <a:latin typeface="Berlin Sans FB Demi"/>
              </a:rPr>
              <a:t>just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 before the word </a:t>
            </a:r>
            <a:r>
              <a:rPr b="0" i="1" lang="en-US" sz="2000" spc="-1" strike="noStrike">
                <a:solidFill>
                  <a:schemeClr val="lt1"/>
                </a:solidFill>
                <a:latin typeface="Berlin Sans FB Demi"/>
              </a:rPr>
              <a:t>about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, which emphasises the immediacy of the action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2" name="Таблица 3"/>
          <p:cNvGraphicFramePr/>
          <p:nvPr/>
        </p:nvGraphicFramePr>
        <p:xfrm>
          <a:off x="1403640" y="2925000"/>
          <a:ext cx="6195600" cy="557640"/>
        </p:xfrm>
        <a:graphic>
          <a:graphicData uri="http://schemas.openxmlformats.org/drawingml/2006/table">
            <a:tbl>
              <a:tblPr/>
              <a:tblGrid>
                <a:gridCol w="1548720"/>
                <a:gridCol w="1548720"/>
                <a:gridCol w="1548720"/>
                <a:gridCol w="1548720"/>
              </a:tblGrid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to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about (or just abou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infini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Прямоугольник 4"/>
          <p:cNvSpPr/>
          <p:nvPr/>
        </p:nvSpPr>
        <p:spPr>
          <a:xfrm>
            <a:off x="1403640" y="3645000"/>
            <a:ext cx="6480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he is about to cry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You are about to se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 something very unus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 am about to go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 to a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9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Obligation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3640" y="1772640"/>
            <a:ext cx="7200360" cy="4320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It is similar in meaning to </a:t>
            </a:r>
            <a:r>
              <a:rPr b="0" i="1" lang="en-US" sz="2400" spc="-1" strike="noStrike">
                <a:solidFill>
                  <a:schemeClr val="lt1"/>
                </a:solidFill>
                <a:latin typeface="Berlin Sans FB Demi"/>
              </a:rPr>
              <a:t>must</a:t>
            </a: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, but there is a suggestion that something has been arranged or organised for u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6" name="Таблица 3"/>
          <p:cNvGraphicFramePr/>
          <p:nvPr/>
        </p:nvGraphicFramePr>
        <p:xfrm>
          <a:off x="1403640" y="3429000"/>
          <a:ext cx="6195600" cy="3231720"/>
        </p:xfrm>
        <a:graphic>
          <a:graphicData uri="http://schemas.openxmlformats.org/drawingml/2006/table">
            <a:tbl>
              <a:tblPr/>
              <a:tblGrid>
                <a:gridCol w="1548720"/>
                <a:gridCol w="1548720"/>
                <a:gridCol w="1548720"/>
                <a:gridCol w="1548720"/>
              </a:tblGrid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ffirm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e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egative 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am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am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m I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m I no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you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you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 is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 is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 h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n't h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 is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 is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 i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n't i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e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e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w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w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y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y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they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they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c000"/>
                </a:solidFill>
                <a:latin typeface="comic"/>
              </a:rPr>
              <a:t>Grammar Gam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comic"/>
              </a:rPr>
              <a:t>“Who Wants to be a Millionaire ”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Прямоугольник 3">
            <a:hlinkClick r:id="rId1"/>
          </p:cNvPr>
          <p:cNvSpPr/>
          <p:nvPr/>
        </p:nvSpPr>
        <p:spPr>
          <a:xfrm>
            <a:off x="4284000" y="2937960"/>
            <a:ext cx="496080" cy="63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212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13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ome Task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Complete the test using the information from the less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https://docs.google.com/forms/d/1txeyH4aSnJ4usTgQbeFP0uVfZJoH-uKLqNnZ9ctFKCU/edit?usp=forms_home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користана література та ресурси для розробки цього уроку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http://easy-english.com.ua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3"/>
              </a:rPr>
              <a:t>https://www.google.com/forms/about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4"/>
              </a:rPr>
              <a:t>http://learningapps.org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6"/>
              </a:rPr>
              <a:t>://www.edufind.com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7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lker Elaine, Elsworth Steve. Grammar Practice for Upper-Intermediate Students</a:t>
            </a: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earson Education Limited 2008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1640" y="105264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15760" y="3645000"/>
            <a:ext cx="57117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de3f4"/>
                </a:solidFill>
                <a:latin typeface="Franklin Gothic Book"/>
              </a:rPr>
              <a:t>Засоби вираження майбутнього часу в англійській мо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de3f4"/>
                </a:solidFill>
                <a:latin typeface="Franklin Gothic Book"/>
              </a:rPr>
              <a:t>Катерина Ро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3169800" y="1484640"/>
            <a:ext cx="2829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e2ff20"/>
                </a:solidFill>
                <a:latin typeface="Franklin Gothic Book"/>
              </a:rPr>
              <a:t>FU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PRING_INTERACTION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67" name="ISPRING_INTERACTION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68" name="ISPRING_INTERACTION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54c4e0"/>
                </a:solidFill>
                <a:latin typeface="Tahoma"/>
              </a:rPr>
              <a:t>Интерактивность Катало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SPRING_INTERACTION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Интерактивность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й Интер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SPRING_INTERACTION_SHAPE4" descr=""/>
          <p:cNvPicPr/>
          <p:nvPr/>
        </p:nvPicPr>
        <p:blipFill>
          <a:blip r:embed="rId2"/>
          <a:stretch/>
        </p:blipFill>
        <p:spPr>
          <a:xfrm>
            <a:off x="257220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different ways to express future tense in English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640" y="2277000"/>
            <a:ext cx="7128360" cy="3960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Present Simpl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Present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Simpl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To be going to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Perfect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Perfect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The immediate Futur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obligation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75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76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resent Simple for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The facts are something fixed like a time-table, schedule, calendar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plan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arrive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t 18.00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Sh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ha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yoga class tomorrow morning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restaurant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open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t 19.30 tonigh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Next Thursday at 14.00 ther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n English exam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plan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leave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in ten minute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resent Continuous for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Is used to talk about </a:t>
            </a:r>
            <a:r>
              <a:rPr b="1" lang="en-US" sz="2000" spc="-1" strike="noStrike">
                <a:solidFill>
                  <a:schemeClr val="lt1"/>
                </a:solidFill>
                <a:latin typeface="Berlin Sans FB Demi"/>
              </a:rPr>
              <a:t>arrangements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 for events at a time later than now. There is a suggestion that more than one person is aware of the event, and that some preparation has already happened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He isn't work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next week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They aren't leav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until the end of next year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We are stay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with friends when we get to Boston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Simpl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Simple predictio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Ther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ill b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snow in many areas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Willingnes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e'll give you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lift to the cinema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Decision made on spot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Someone’s knocking the door. 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’ll open 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i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To be going to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chemeClr val="lt1"/>
                </a:solidFill>
                <a:latin typeface="Berlin Sans FB Demi"/>
              </a:rPr>
              <a:t>FOR PLANS AND INTENTIONS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I think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Nigel and Mary are going to hav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party next week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e are going to hav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dinner together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chemeClr val="lt1"/>
                </a:solidFill>
                <a:latin typeface="Berlin Sans FB Demi"/>
              </a:rPr>
              <a:t>FOR PREDICTIONS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You're going to b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sorry you said tha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s it going to rai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this afternoon?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Continuou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640" y="1772640"/>
            <a:ext cx="7056360" cy="411768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n action in progress in the futur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This time next week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'll be sun-bath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n action or event that is a matter of routin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You'll be see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John in the office tomorrow, won't you?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89" name="Таблица 3"/>
          <p:cNvGraphicFramePr/>
          <p:nvPr/>
        </p:nvGraphicFramePr>
        <p:xfrm>
          <a:off x="1547640" y="1845000"/>
          <a:ext cx="6195600" cy="1225080"/>
        </p:xfrm>
        <a:graphic>
          <a:graphicData uri="http://schemas.openxmlformats.org/drawingml/2006/table">
            <a:tbl>
              <a:tblPr/>
              <a:tblGrid>
                <a:gridCol w="2065320"/>
                <a:gridCol w="2065320"/>
                <a:gridCol w="2065320"/>
              </a:tblGrid>
              <a:tr h="5173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mple future of the verb 'to be'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esent particip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ll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atch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ll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ay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ushpin</Template>
  <TotalTime>1546</TotalTime>
  <Application>LibreOffice/7.4.7.2$Linux_X86_64 LibreOffice_project/40$Build-2</Application>
  <AppVersion>15.0000</AppVersion>
  <Words>514</Words>
  <Paragraphs>15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15:23:16Z</dcterms:created>
  <dc:creator>Катя</dc:creator>
  <dc:description/>
  <dc:language>en-US</dc:language>
  <cp:lastModifiedBy>Катя</cp:lastModifiedBy>
  <dcterms:modified xsi:type="dcterms:W3CDTF">2016-05-26T16:14:01Z</dcterms:modified>
  <cp:revision>40</cp:revision>
  <dc:subject/>
  <dc:title>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