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28469-4279-4DD9-9D13-FD04413F5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096402-DE0E-46CC-8B86-A792D4C826B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D19707-4EC1-41F1-A526-7F395D5B229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8EB872-760F-4C11-9F56-2A4B3CA1FC5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8AF6B0-2F3F-455B-AD7D-D3855EE6086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2B8A26-C2D7-4CE9-9550-11AA8BC26F8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B0A595-960C-4589-AD32-3240030F080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CABE7A-D867-4126-AB53-2D18977D0F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2D5FB3-2BE2-425B-B14C-4BFB131DC8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29FD33-FE4B-498E-B4F2-68264A3ED9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79A1AF-8E2A-46FF-8CDE-F9AC066DE76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D5FD7C-077E-410F-9E36-763F83D68B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8A5F23-BA20-4397-8C97-C0E8B52504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2A4835-A59C-4E56-9AB8-147CB844BF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70637E-51CE-4B03-B61B-5692BFA3B35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6E2DB1-40EA-4356-B292-6EF9D03D954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ECA1AC-1675-4D21-BE33-53FB27C8173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3F5080-2923-4CFD-AFD0-3E98D19C6B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0AB281-A6D3-44EB-BA40-67F647636DB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2C5-024D-4647-B7A1-635BF55D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2E3-F561-4C06-9F97-3CFF080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9B1-4AB9-49F9-8272-DD2372E1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9B9-2AFA-43BF-B432-ED5DBC1C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DD97-C415-4F7F-A588-0129409E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8E0B-834C-4F2F-B640-D0ABEDF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AAF-96E1-4B63-A6DA-7463B8B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5C04-C866-466A-A0A2-132A6E4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CA9-6A6D-4050-A481-6C23E20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F84-98EA-4E12-80F9-C2E82133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909B-F644-4717-A6B4-83FCECA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86B-C8EB-427A-968D-1E6DB4F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D392-A2FA-493C-9626-16B8F42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B35-60DE-4E9E-97F9-12234CB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ADB-BBA1-4FA7-B8CD-3511D6F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25BB-E399-4A7B-BF0B-9406AB87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C0D-B160-4EBD-923E-232C9F08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3774-8DE0-48FC-9BF5-F0550F5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739D-1EAA-4FE3-98E3-FED8D4C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F468-3E0F-4905-BD31-4DAECAF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5C69-AD4A-4266-928C-37E90B9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859E-334A-4CC6-9C43-1E53F9A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2F9-57D1-4A6A-BE0B-B92C0F4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C07B-6FC9-49CB-8B13-7F26237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994C-336D-4144-8266-103057A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1EFF-7616-4445-859C-47F48A9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A6B6-A4FA-4214-850B-95EA82F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C283-B8AB-4EEA-87CB-1B8B2FB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A13B-61B0-45E7-9D35-1D92A65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503F-76B5-4292-A736-3ABAE025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C0B-F6FE-48EC-BE8A-DE003AA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9CA-6D88-4C46-9CD7-DA720F8B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442-2409-40AD-A7D9-F55ACE9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399-2CAD-4627-BE10-3312D51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A9E-575D-4594-8BC6-8FA2213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BAA-CC19-4E6E-8BE4-39A7EE7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Franklin Gothic 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AED1F1-6C96-42BA-8854-B26A1DFDE47F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0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52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3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4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55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664162-FB23-4FBE-9690-79FC88919E63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7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09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12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07FECB-2577-4C22-95CA-9736C5D1B140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earningapps.org/watch?v=px1e1b88n16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2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find.com/" TargetMode="External"/><Relationship Id="rId2" Type="http://schemas.openxmlformats.org/officeDocument/2006/relationships/hyperlink" Target="http://www.edufind.com/" TargetMode="External"/><Relationship Id="rId3" Type="http://schemas.openxmlformats.org/officeDocument/2006/relationships/hyperlink" Target="http://www.edufind.com/" TargetMode="External"/><Relationship Id="rId4" Type="http://schemas.openxmlformats.org/officeDocument/2006/relationships/hyperlink" Target="http://www.edufind.com/" TargetMode="External"/><Relationship Id="rId5" Type="http://schemas.openxmlformats.org/officeDocument/2006/relationships/hyperlink" Target="http://www.edufind.com/" TargetMode="External"/><Relationship Id="rId6" Type="http://schemas.openxmlformats.org/officeDocument/2006/relationships/hyperlink" Target="http://www.edufind.com/" TargetMode="External"/><Relationship Id="rId7" Type="http://schemas.openxmlformats.org/officeDocument/2006/relationships/hyperlink" Target="http://www.edufind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203a4e"/>
                </a:solidFill>
                <a:latin typeface="Constantia"/>
              </a:rPr>
              <a:t>Засоби вираження майбутнього часу в Англійській мові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Підготувала: Вчитель англійської мови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                                         </a:t>
            </a: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ЗОШ І-ІІІ ступенів м. Маріуполя №26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Ростем К.В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9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9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640" y="206100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 completed action in the future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six months on June 23rd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the time you read this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lef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refers to events or actions in a time between now and some future time are unfinished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wait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three hours by six o'cloc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2001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liv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London for sixteen year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7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he immediate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556640"/>
            <a:ext cx="7272360" cy="4608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This pattern is used to refer to a time immediately after the moment of speaking, and emphasises that the event or action will happen very soon. We often add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jus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before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abou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, which emphasises the immediacy of the acti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2" name="Таблица 3"/>
          <p:cNvGraphicFramePr/>
          <p:nvPr/>
        </p:nvGraphicFramePr>
        <p:xfrm>
          <a:off x="1403640" y="2925000"/>
          <a:ext cx="6195600" cy="55764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to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about (or just abou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infini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Прямоугольник 4"/>
          <p:cNvSpPr/>
          <p:nvPr/>
        </p:nvSpPr>
        <p:spPr>
          <a:xfrm>
            <a:off x="1403640" y="3645000"/>
            <a:ext cx="6480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he is about to cry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You are about to se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something very unus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 am about to go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to a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9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Obligation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7200360" cy="432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is similar in meaning to </a:t>
            </a:r>
            <a:r>
              <a:rPr b="0" i="1" lang="en-US" sz="2400" spc="-1" strike="noStrike">
                <a:solidFill>
                  <a:schemeClr val="lt1"/>
                </a:solidFill>
                <a:latin typeface="Berlin Sans FB Demi"/>
              </a:rPr>
              <a:t>must</a:t>
            </a: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, but there is a suggestion that something has been arranged or organised for u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6" name="Таблица 3"/>
          <p:cNvGraphicFramePr/>
          <p:nvPr/>
        </p:nvGraphicFramePr>
        <p:xfrm>
          <a:off x="1403640" y="3429000"/>
          <a:ext cx="6195600" cy="323172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ffirm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 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no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Grammar Gam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“Who Wants to be a Millionaire ”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Прямоугольник 3">
            <a:hlinkClick r:id="rId1"/>
          </p:cNvPr>
          <p:cNvSpPr/>
          <p:nvPr/>
        </p:nvSpPr>
        <p:spPr>
          <a:xfrm>
            <a:off x="4284000" y="2937960"/>
            <a:ext cx="496080" cy="63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21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1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me Task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Complete the test using the information from the less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https://docs.google.com/forms/d/1txeyH4aSnJ4usTgQbeFP0uVfZJoH-uKLqNnZ9ctFKCU/edit?usp=forms_home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ристана література та ресурси для розробки цього уроку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http://easy-english.com.ua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3"/>
              </a:rPr>
              <a:t>https://www.google.com/forms/about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4"/>
              </a:rPr>
              <a:t>http://learningapps.org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6"/>
              </a:rPr>
              <a:t>://www.edufind.com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7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lker Elaine, Elsworth Steve. Grammar Practice for Upper-Intermediate Students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earson Education Limited 2008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1640" y="105264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15760" y="3645000"/>
            <a:ext cx="57117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Засоби вираження майбутнього часу в англійській м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Катерина Ро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3169800" y="1484640"/>
            <a:ext cx="2829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e2ff20"/>
                </a:solidFill>
                <a:latin typeface="Franklin Gothic Book"/>
              </a:rPr>
              <a:t>FU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PRING_INTERACTION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67" name="ISPRING_INTERACTION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68" name="ISPRING_INTERACTION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54c4e0"/>
                </a:solidFill>
                <a:latin typeface="Tahoma"/>
              </a:rPr>
              <a:t>Интерактивность Катало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SPRING_INTERACTION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Интерактивность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й Интер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SPRING_INTERACTION_SHAPE4" descr=""/>
          <p:cNvPicPr/>
          <p:nvPr/>
        </p:nvPicPr>
        <p:blipFill>
          <a:blip r:embed="rId2"/>
          <a:stretch/>
        </p:blipFill>
        <p:spPr>
          <a:xfrm>
            <a:off x="257220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different ways to express future tense in English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640" y="2277000"/>
            <a:ext cx="7128360" cy="396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o be going to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he immediate Futur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obligation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75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76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Simple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The facts are something fixed like a time-table, schedule, calendar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arri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8.00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Sh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ha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yoga class tomorrow morning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restaurant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open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9.30 tonigh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Next Thursday at 14.00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n English exam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lea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ten minute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Continuous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Is used to talk about </a:t>
            </a:r>
            <a:r>
              <a:rPr b="1" lang="en-US" sz="2000" spc="-1" strike="noStrike">
                <a:solidFill>
                  <a:schemeClr val="lt1"/>
                </a:solidFill>
                <a:latin typeface="Berlin Sans FB Demi"/>
              </a:rPr>
              <a:t>arrangements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for events at a time later than now. There is a suggestion that more than one person is aware of the event, and that some preparation has already happened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He isn't work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next week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They aren't leav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until the end of next year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We are stay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with friends when we get to Bost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Simpl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Simple predictio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ill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now in many areas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Willingnes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'll give you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lift to the cinema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Decision made on spo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Someone’s knocking the door. 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’ll open 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o be going to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LANS AND INTEN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 thin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Nigel and Mary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party next wee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dinner together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REDIC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re going to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orry you said tha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 it going to rai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this afternoon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640" y="1772640"/>
            <a:ext cx="7056360" cy="411768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in progress in the futur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is time next wee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'll be sun-bath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or event that is a matter of routin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ll be see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John in the office tomorrow, won't you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89" name="Таблица 3"/>
          <p:cNvGraphicFramePr/>
          <p:nvPr/>
        </p:nvGraphicFramePr>
        <p:xfrm>
          <a:off x="1547640" y="1845000"/>
          <a:ext cx="6195600" cy="1225080"/>
        </p:xfrm>
        <a:graphic>
          <a:graphicData uri="http://schemas.openxmlformats.org/drawingml/2006/table">
            <a:tbl>
              <a:tblPr/>
              <a:tblGrid>
                <a:gridCol w="2065320"/>
                <a:gridCol w="2065320"/>
                <a:gridCol w="2065320"/>
              </a:tblGrid>
              <a:tr h="5173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mple future of the verb 'to be'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esent particip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atch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ay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ushpin</Template>
  <TotalTime>1546</TotalTime>
  <Application>LibreOffice/7.4.7.2$Linux_X86_64 LibreOffice_project/40$Build-2</Application>
  <AppVersion>15.0000</AppVersion>
  <Words>514</Words>
  <Paragraphs>15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15:23:16Z</dcterms:created>
  <dc:creator>Катя</dc:creator>
  <dc:description/>
  <dc:language>en-US</dc:language>
  <cp:lastModifiedBy>Катя</cp:lastModifiedBy>
  <dcterms:modified xsi:type="dcterms:W3CDTF">2016-05-26T16:14:01Z</dcterms:modified>
  <cp:revision>40</cp:revision>
  <dc:subject/>
  <dc:title>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