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DBE-DAC0-4475-B5E9-1D2CF001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380-2094-4258-9C73-7FA14643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056-3520-4081-BF10-29751AEF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E3B-3ABB-408F-84A1-2CBAFD7F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62E8-7426-44EF-B7EC-CC5898AB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419C-5E90-4568-8BB7-E874AE6E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4C1C-AEAC-4AEE-83B2-74843AE8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28CE-3665-4DD9-8EAD-1A4ABB2B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409-F930-45DC-B001-3225CA66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E17A-0AD6-46DB-A2A9-A92FA4B5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2BCE-03E0-4450-B63F-BCF8E7D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817-C2D9-4FA6-A2DA-79D056A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E40E-E6B6-40A5-8DBF-35AED96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8AE3-B3B0-421B-864A-88E5C68A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B23-697C-4769-A2AF-6D10D4D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3A58-AC3A-4E2D-9271-EC5365B7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3FCF-EECE-4190-911E-2D888729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928D-BCCF-4358-BF4E-18973F71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579F-A390-411B-9908-E9A0790F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0700-31C0-43BD-BEEB-9DDA4D82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6EE7-098F-4966-8194-FC48375B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DA68-C133-4BBE-9A90-688BD51A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B89-8FB9-4A38-8DFE-CCDE94E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EF0F-9115-4246-9AE9-A1D90244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2A32-F782-434B-95F2-021B642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1CBE-1776-477D-906A-0AA54C4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ECA6-C541-45C9-BA97-423BDA46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AFA2-B8F6-441A-ADA3-A248550C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A018-EC3F-4E17-A288-A45C253F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C487-2952-4CCE-A5A8-6002458F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78A-D02A-40F2-96EC-39BF226A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4C1-1E11-484B-AE6D-F2A6742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CA6-659C-474A-9416-8EFA04A5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EC9-6080-487E-847D-4D2FCF8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905-3A93-46FF-8E6E-2ED9D01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175-B441-4EA4-BFC7-A0E6E0BF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335019-7F06-49A1-819B-5743208F41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20909B-A204-418E-BEF7-4F7444D3DA0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02CA75-939C-4534-83BB-2C5BEA794F8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%3A%2F%2Ftavrika.su%2Fid14657" TargetMode="External"/><Relationship Id="rId2" Type="http://schemas.openxmlformats.org/officeDocument/2006/relationships/hyperlink" Target="https://infourok.ru/go.html?href=http%3A%2F%2Ftavrika.su%2Fid14659" TargetMode="External"/><Relationship Id="rId3" Type="http://schemas.openxmlformats.org/officeDocument/2006/relationships/hyperlink" Target="https://infourok.ru/go.html?href=http%3A%2F%2Ftavrika.su%2Fid14662" TargetMode="External"/><Relationship Id="rId4" Type="http://schemas.openxmlformats.org/officeDocument/2006/relationships/hyperlink" Target="https://infourok.ru/go.html?href=http%3A%2F%2Ftavrika.su%2Fid14667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ru.wikipedia.org/wiki/&#1050;&#1077;&#1088;&#1095;&#1077;&#1085;&#1089;&#1082;&#1080;&#1081;_&#1087;&#1086;&#1083;&#1091;&#1086;&#1089;&#1090;&#1088;&#1086;&#1074;" TargetMode="External"/><Relationship Id="rId3" Type="http://schemas.openxmlformats.org/officeDocument/2006/relationships/hyperlink" Target="https://ru.wikipedia.org/wiki/&#1052;&#1080;&#1090;&#1088;&#1080;&#1076;&#1072;&#1090;_%28&#1075;&#1086;&#1088;&#1072;,_&#1050;&#1077;&#1088;&#1095;&#1100;%29" TargetMode="External"/><Relationship Id="rId4" Type="http://schemas.openxmlformats.org/officeDocument/2006/relationships/hyperlink" Target="https://ru.wikipedia.org/wiki/&#1052;&#1099;&#1089;_&#1060;&#1086;&#1085;&#1072;&#1088;&#1100;" TargetMode="External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36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сточный Крым. Керчь – город-герой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357200"/>
            <a:ext cx="91436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indent="0" algn="ctr">
              <a:lnSpc>
                <a:spcPct val="100000"/>
              </a:lnSpc>
              <a:spcBef>
                <a:spcPts val="1959"/>
              </a:spcBef>
              <a:buNone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Один из древнейших городов Крыма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Уникальное географическое положение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Природные  ресурсы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 algn="just">
              <a:lnSpc>
                <a:spcPct val="100000"/>
              </a:lnSpc>
              <a:spcBef>
                <a:spcPts val="195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9800" spc="-1" strike="noStrike">
                <a:solidFill>
                  <a:srgbClr val="000000"/>
                </a:solidFill>
                <a:latin typeface="Times New Roman"/>
              </a:rPr>
              <a:t>Крупнейшие предприятия и перспективы развития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2320200" y="3244320"/>
            <a:ext cx="532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 характерис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рчь- город в Вост. Крыму.  Население 155 тыс.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упнейшие предприятия и перспективы разви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3640" cy="57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вод "Керченский стрелочный завод«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 - Производство стрелочной продукции для верхних путей железнодорожного транспорта.»...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иборостроительный завод "АЛЬБАТРОС«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      - Производство: аппараты ингаляционного наркоза, вентиляции легких, приборы и аппараты медицинские. 5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ерченский металлургический комбинат им. Войкова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Calibri"/>
              </a:rPr>
              <a:t>3. Керченский металлургический комбинат им. Войкова 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Основным видом производственной деятельности ОАО "КМК" является выпуск стальной эмалированной посуды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ru-RU" sz="45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зовский завод строительных материалов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Азовский завод строительных материалов Предприятие производит и реализует железобетонные изделия для строительства.»...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Calibri"/>
              </a:rPr>
              <a:t>5. Предприятие "Южная мануфактура Пролив    - 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Рыбоперерабатывающее предприятие.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17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Вопрос!!!! Какие отрасли промышленности развиты в Керчи?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пективы развит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оительство транспортного узла в Керчи. Авто и Ж\д дорога Симферополь-Керчь. Увеличение размеров Пор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0" y="1071720"/>
          <a:ext cx="8929440" cy="3739680"/>
        </p:xfrm>
        <a:graphic>
          <a:graphicData uri="http://schemas.openxmlformats.org/drawingml/2006/table">
            <a:tbl>
              <a:tblPr/>
              <a:tblGrid>
                <a:gridCol w="1953000"/>
                <a:gridCol w="69760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7 в. до н. 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реческая колония Пантикапей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снована на берегу Керченского прол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-3 вв. до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хранились скифские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арские курганы (Куль Оба, Царский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спор вошел в состав Визан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 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спор в составе Хазарского каган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74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род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ерчь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по Кючюк-Кайнарджийскому договору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ередан Российской имп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ды В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ерченско-Феодосийский десант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крупнейшая десантная операция ВОВ. 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она Аджимушкайских каменоломен. Эльтигенская операция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73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ерчь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лучила звание </a:t>
                      </a: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рода-гер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из древнейших городов Кры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929200" y="500040"/>
            <a:ext cx="3071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ора Митрид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ган Куль-Об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ерчь. Курган Царск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гшрафическое полож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од Керчь расположен на восточном побережье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ерченского полуостро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центре города возвышается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гора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итридат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ьеф местности крупно- и мелкохолмистый, территорию рассекает множество балок и оврагов. Холмы имеют высоты от 40 до 100 м (гора Митридат — 91,4 м). На территории города находится самая восточная точка Крыма —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мыс Фонар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Через Керчь протекает 6 речек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ек-Чесме Керчав-Илгасы, Булганак, Джарджава, Московская, Бакс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Овал 3"/>
          <p:cNvSpPr/>
          <p:nvPr/>
        </p:nvSpPr>
        <p:spPr>
          <a:xfrm>
            <a:off x="2928960" y="1428840"/>
            <a:ext cx="3785760" cy="21999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Уникальное географическ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8"/>
          <p:cNvCxnSpPr/>
          <p:nvPr/>
        </p:nvCxnSpPr>
        <p:spPr>
          <a:xfrm>
            <a:off x="6429240" y="3214440"/>
            <a:ext cx="500400" cy="7149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5" name="Прямая со стрелкой 10"/>
          <p:cNvCxnSpPr/>
          <p:nvPr/>
        </p:nvCxnSpPr>
        <p:spPr>
          <a:xfrm flipH="1">
            <a:off x="1643040" y="2857320"/>
            <a:ext cx="1285920" cy="9291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6" name="Прямая со стрелкой 14"/>
          <p:cNvCxnSpPr/>
          <p:nvPr/>
        </p:nvCxnSpPr>
        <p:spPr>
          <a:xfrm flipV="1">
            <a:off x="6429240" y="1214280"/>
            <a:ext cx="643320" cy="6433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7" name="Прямая со стрелкой 16"/>
          <p:cNvCxnSpPr/>
          <p:nvPr/>
        </p:nvCxnSpPr>
        <p:spPr>
          <a:xfrm flipH="1" flipV="1">
            <a:off x="2857320" y="1142640"/>
            <a:ext cx="1143360" cy="50076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8" name="Прямоугольник 23"/>
          <p:cNvSpPr/>
          <p:nvPr/>
        </p:nvSpPr>
        <p:spPr>
          <a:xfrm>
            <a:off x="0" y="0"/>
            <a:ext cx="2857320" cy="16426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Целительные озера (развитие туриз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4"/>
          <p:cNvSpPr/>
          <p:nvPr/>
        </p:nvSpPr>
        <p:spPr>
          <a:xfrm>
            <a:off x="0" y="3786120"/>
            <a:ext cx="2071440" cy="16426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Керченский прол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(связь с материком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6"/>
          <p:cNvSpPr/>
          <p:nvPr/>
        </p:nvSpPr>
        <p:spPr>
          <a:xfrm>
            <a:off x="5857920" y="0"/>
            <a:ext cx="3285720" cy="15714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Омывается Черным и Азовским морями. (Развитие рыбной промышленности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5"/>
          <p:cNvSpPr/>
          <p:nvPr/>
        </p:nvSpPr>
        <p:spPr>
          <a:xfrm>
            <a:off x="7000920" y="3357720"/>
            <a:ext cx="2142720" cy="199980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Керченский железорудный бассей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( развитие промышленно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ные ресурс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8575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лезные ископаемы те же , что и  в Ленинском район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езная руда (ок. 2 млрд тонн!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а, гип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ый ракушечн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еральные со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849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очетание морского воздух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полного йодистых испарений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, со степны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настоянным на целебных травах зверобоя, ромашки, чабреца, полыни как нельзя лучше подходит для общего оздоровления и восстановления сил, для 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лечения заболеваний органов дыхания, нервной систем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  <Words>375</Words>
  <Paragraphs>56</Paragraphs>
  <Company>Krokoz™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3:01:24Z</dcterms:created>
  <dc:creator>XZ</dc:creator>
  <dc:description/>
  <dc:language>en-US</dc:language>
  <cp:lastModifiedBy>XZ</cp:lastModifiedBy>
  <dcterms:modified xsi:type="dcterms:W3CDTF">2017-01-26T14:04:34Z</dcterms:modified>
  <cp:revision>7</cp:revision>
  <dc:subject/>
  <dc:title>Восточный Крым. Керчь – город-геро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