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B77-E3C4-402F-8759-EE7D4A56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125D-1A3A-4962-A286-CD8B00C6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C79-DF15-49D2-95A3-0744534C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1269-6995-46A6-9573-B42ED54C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1EF0-1619-4E75-AED4-59E9C4BE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4F28-960D-4B8A-A59B-94CB5FE6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E173-1D7C-4894-AE19-705EF32D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613E-6DB8-4966-8F97-68931CD3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92CC-3748-4045-8EEF-A906AEB0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3E58-3C26-4903-805E-02DF9A0F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41E6-3496-4DDF-9C7F-6D3B1ADD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00A-D4BB-4F09-BD21-936F3BC8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52CA-D590-484D-94FC-BAAB92E8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5698-1BF4-446A-9FEC-0CB3436B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293B-1057-412E-93CD-EDA9F5CA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ED70-5A1B-48DD-B2EB-E1E0783D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E0C0-B194-4029-8995-6A0F40F7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91274-373E-44EB-B04C-8EC18CE4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2921F-78F3-4DD5-B987-E75E6DA8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A247F-42F4-4B8C-8BBD-E0F2526E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10C21-F0B6-435E-99CB-22EB6251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73205-AC44-4B5D-8832-A147AC01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B06-1CFA-4DCC-A96C-6732C935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E178B-3B15-48D0-B405-3F30D6C3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AF3FF-E33F-44E6-8BA8-B9005290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D72B1-BBDB-4263-89FD-DE2B6C3A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342D2-79FA-4272-BC65-2685684F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64A08-32D0-481B-A5E9-A154B818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D41F8-D189-4FF8-81A5-0CAC4DAA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0FD45-919B-4037-A744-8A750497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D2E-EA7C-4209-ADC3-AA4082BF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B83-9611-4843-96CB-21522669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DB1A-03BD-4F3A-9E28-D8FA998B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820-E90F-4EA3-AB7A-CB7672EA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8EC5-AC5C-40C1-85CA-C7F85BFB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E265-7B4A-42BC-B7CF-ED5D9053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33F628-499D-48F1-BDFF-7DFDD05D912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5118B5-641A-4D42-A899-B4B7051CA82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FDA501-EE0F-4D76-B502-4F885F490E7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infourok.ru/go.html?href=http%3A%2F%2Ftavrika.su%2Fid14657" TargetMode="External"/><Relationship Id="rId2" Type="http://schemas.openxmlformats.org/officeDocument/2006/relationships/hyperlink" Target="https://infourok.ru/go.html?href=http%3A%2F%2Ftavrika.su%2Fid14659" TargetMode="External"/><Relationship Id="rId3" Type="http://schemas.openxmlformats.org/officeDocument/2006/relationships/hyperlink" Target="https://infourok.ru/go.html?href=http%3A%2F%2Ftavrika.su%2Fid14662" TargetMode="External"/><Relationship Id="rId4" Type="http://schemas.openxmlformats.org/officeDocument/2006/relationships/hyperlink" Target="https://infourok.ru/go.html?href=http%3A%2F%2Ftavrika.su%2Fid14667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s://ru.wikipedia.org/wiki/&#1050;&#1077;&#1088;&#1095;&#1077;&#1085;&#1089;&#1082;&#1080;&#1081;_&#1087;&#1086;&#1083;&#1091;&#1086;&#1089;&#1090;&#1088;&#1086;&#1074;" TargetMode="External"/><Relationship Id="rId3" Type="http://schemas.openxmlformats.org/officeDocument/2006/relationships/hyperlink" Target="https://ru.wikipedia.org/wiki/&#1052;&#1080;&#1090;&#1088;&#1080;&#1076;&#1072;&#1090;_%28&#1075;&#1086;&#1088;&#1072;,_&#1050;&#1077;&#1088;&#1095;&#1100;%29" TargetMode="External"/><Relationship Id="rId4" Type="http://schemas.openxmlformats.org/officeDocument/2006/relationships/hyperlink" Target="https://ru.wikipedia.org/wiki/&#1052;&#1099;&#1089;_&#1060;&#1086;&#1085;&#1072;&#1088;&#1100;" TargetMode="External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3640" cy="13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сточный Крым. Керчь – город-герой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357200"/>
            <a:ext cx="914364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indent="0" algn="ctr">
              <a:lnSpc>
                <a:spcPct val="100000"/>
              </a:lnSpc>
              <a:spcBef>
                <a:spcPts val="1959"/>
              </a:spcBef>
              <a:buNone/>
              <a:tabLst>
                <a:tab algn="l" pos="0"/>
              </a:tabLst>
            </a:pPr>
            <a:r>
              <a:rPr b="1" lang="ru-RU" sz="98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 algn="just">
              <a:lnSpc>
                <a:spcPct val="100000"/>
              </a:lnSpc>
              <a:spcBef>
                <a:spcPts val="195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9800" spc="-1" strike="noStrike">
                <a:solidFill>
                  <a:srgbClr val="000000"/>
                </a:solidFill>
                <a:latin typeface="Times New Roman"/>
              </a:rPr>
              <a:t>Один из древнейших городов Крыма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 algn="just">
              <a:lnSpc>
                <a:spcPct val="100000"/>
              </a:lnSpc>
              <a:spcBef>
                <a:spcPts val="195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9800" spc="-1" strike="noStrike">
                <a:solidFill>
                  <a:srgbClr val="000000"/>
                </a:solidFill>
                <a:latin typeface="Times New Roman"/>
              </a:rPr>
              <a:t>Уникальное географическое положение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 algn="just">
              <a:lnSpc>
                <a:spcPct val="100000"/>
              </a:lnSpc>
              <a:spcBef>
                <a:spcPts val="195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9800" spc="-1" strike="noStrike">
                <a:solidFill>
                  <a:srgbClr val="000000"/>
                </a:solidFill>
                <a:latin typeface="Times New Roman"/>
              </a:rPr>
              <a:t>Природные  ресурсы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 algn="just">
              <a:lnSpc>
                <a:spcPct val="100000"/>
              </a:lnSpc>
              <a:spcBef>
                <a:spcPts val="195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9800" spc="-1" strike="noStrike">
                <a:solidFill>
                  <a:srgbClr val="000000"/>
                </a:solidFill>
                <a:latin typeface="Times New Roman"/>
              </a:rPr>
              <a:t>Крупнейшие предприятия и перспективы развития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2320200" y="3244320"/>
            <a:ext cx="5321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ая характерист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ерчь- город в Вост. Крыму.  Население 155 тыс.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рупнейшие предприятия и перспективы развит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3640" cy="57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317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4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Завод "Керченский стрелочный завод«</a:t>
            </a: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 - Производство стрелочной продукции для верхних путей железнодорожного транспорта.»...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17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4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риборостроительный завод "АЛЬБАТРОС«</a:t>
            </a: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      - Производство: аппараты ингаляционного наркоза, вентиляции легких, приборы и аппараты медицинские. 5.</a:t>
            </a:r>
            <a:r>
              <a:rPr b="1" lang="ru-RU" sz="4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ерченский металлургический комбинат им. Войкова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17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Calibri"/>
              </a:rPr>
              <a:t>3. Керченский металлургический комбинат им. Войкова </a:t>
            </a: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Основным видом производственной деятельности ОАО "КМК" является выпуск стальной эмалированной посуды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17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ru-RU" sz="45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Азовский завод строительных материалов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17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Азовский завод строительных материалов Предприятие производит и реализует железобетонные изделия для строительства.»...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17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Calibri"/>
              </a:rPr>
              <a:t>5. Предприятие "Южная мануфактура Пролив    - </a:t>
            </a: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Рыбоперерабатывающее предприятие.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17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Вопрос!!!! Какие отрасли промышленности развиты в Керчи?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спективы развития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роительство транспортного узла в Керчи. Авто и Ж\д дорога Симферополь-Керчь. Увеличение размеров Пор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Содержимое 3"/>
          <p:cNvGraphicFramePr/>
          <p:nvPr/>
        </p:nvGraphicFramePr>
        <p:xfrm>
          <a:off x="0" y="1071720"/>
          <a:ext cx="8929440" cy="3739680"/>
        </p:xfrm>
        <a:graphic>
          <a:graphicData uri="http://schemas.openxmlformats.org/drawingml/2006/table">
            <a:tbl>
              <a:tblPr/>
              <a:tblGrid>
                <a:gridCol w="1953000"/>
                <a:gridCol w="69760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7 в. до н. э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Греческая колония Пантикапей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снована на берегу Керченского прол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-3 вв. до н.э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хранились скифские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царские курганы (Куль Оба, Царский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 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оспор вошел в состав Визант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 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оспор в составе Хазарского каган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74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ород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ерчь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по Кючюк-Кайнарджийскому договору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ередан Российской имп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оды В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ерченско-Феодосийский десант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– крупнейшая десантная операция ВОВ. 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борона Аджимушкайских каменоломен. Эльтигенская операция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73 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ерчь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лучила звание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орода-геро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 из древнейших городов Крым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5929200" y="500040"/>
            <a:ext cx="3071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Гора Митрид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рган Куль-Об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ерчь. Курган Царски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огшрафическое положе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914364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од Керчь расположен на восточном побережье 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Керченского полуостро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В центре города возвышается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гора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итридат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льеф местности крупно- и мелкохолмистый, территорию рассекает множество балок и оврагов. Холмы имеют высоты от 40 до 100 м (гора Митридат — 91,4 м). На территории города находится самая восточная точка Крыма —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мыс Фонар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Через Керчь протекает 6 речек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лек-Чесме Керчав-Илгасы, Булганак, Джарджава, Московская, Баксу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Овал 3"/>
          <p:cNvSpPr/>
          <p:nvPr/>
        </p:nvSpPr>
        <p:spPr>
          <a:xfrm>
            <a:off x="2928960" y="1428840"/>
            <a:ext cx="3785760" cy="219996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Calibri"/>
              </a:rPr>
              <a:t>Уникальное географическое по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Прямая со стрелкой 8"/>
          <p:cNvCxnSpPr/>
          <p:nvPr/>
        </p:nvCxnSpPr>
        <p:spPr>
          <a:xfrm>
            <a:off x="6429240" y="3214440"/>
            <a:ext cx="500400" cy="7149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35" name="Прямая со стрелкой 10"/>
          <p:cNvCxnSpPr/>
          <p:nvPr/>
        </p:nvCxnSpPr>
        <p:spPr>
          <a:xfrm flipH="1">
            <a:off x="1643040" y="2857320"/>
            <a:ext cx="1285920" cy="9291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36" name="Прямая со стрелкой 14"/>
          <p:cNvCxnSpPr/>
          <p:nvPr/>
        </p:nvCxnSpPr>
        <p:spPr>
          <a:xfrm flipV="1">
            <a:off x="6429240" y="1214280"/>
            <a:ext cx="643320" cy="6433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37" name="Прямая со стрелкой 16"/>
          <p:cNvCxnSpPr/>
          <p:nvPr/>
        </p:nvCxnSpPr>
        <p:spPr>
          <a:xfrm flipH="1" flipV="1">
            <a:off x="2857320" y="1142640"/>
            <a:ext cx="1143360" cy="5007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38" name="Прямоугольник 23"/>
          <p:cNvSpPr/>
          <p:nvPr/>
        </p:nvSpPr>
        <p:spPr>
          <a:xfrm>
            <a:off x="0" y="0"/>
            <a:ext cx="2857320" cy="164268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Целительные озера (развитие туриз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4"/>
          <p:cNvSpPr/>
          <p:nvPr/>
        </p:nvSpPr>
        <p:spPr>
          <a:xfrm>
            <a:off x="0" y="3786120"/>
            <a:ext cx="2071440" cy="164268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Керченский прол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(связь с материком</a:t>
            </a: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6"/>
          <p:cNvSpPr/>
          <p:nvPr/>
        </p:nvSpPr>
        <p:spPr>
          <a:xfrm>
            <a:off x="5857920" y="0"/>
            <a:ext cx="3285720" cy="157140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Омывается Черным и Азовским морями. (Развитие рыбной промышленности</a:t>
            </a: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5"/>
          <p:cNvSpPr/>
          <p:nvPr/>
        </p:nvSpPr>
        <p:spPr>
          <a:xfrm>
            <a:off x="7000920" y="3357720"/>
            <a:ext cx="2142720" cy="199980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Керченский железорудный бассейн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( развитие промышленност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9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родные ресурс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9143640" cy="585756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t">
            <a:normAutofit fontScale="92000"/>
          </a:bodyPr>
          <a:p>
            <a:pPr marL="340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лезные ископаемы те же , что и  в Ленинском район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лезная руда (ок. 2 млрд тонн!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ра, гипс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лый ракушечни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еральные сол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849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сочетание морского воздух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полного йодистых испарений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, со степным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настоянным на целебных травах зверобоя, ромашки, чабреца, полыни как нельзя лучше подходит для общего оздоровления и восстановления сил, для 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лечения заболеваний органов дыхания, нервной систем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  <Words>375</Words>
  <Paragraphs>56</Paragraphs>
  <Company>Krokoz™ Inc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6T13:01:24Z</dcterms:created>
  <dc:creator>XZ</dc:creator>
  <dc:description/>
  <dc:language>en-US</dc:language>
  <cp:lastModifiedBy>XZ</cp:lastModifiedBy>
  <dcterms:modified xsi:type="dcterms:W3CDTF">2017-01-26T14:04:34Z</dcterms:modified>
  <cp:revision>7</cp:revision>
  <dc:subject/>
  <dc:title>Восточный Крым. Керчь – город-геро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