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73B-DE55-43C5-BA12-132FCC61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1C1-D7C3-4D9E-A428-3FE3268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9C5-9CDD-4811-9F4F-C5875D12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B0C-C5C7-470F-A523-D4CFD117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8C16-8C3F-45AD-92A0-3219B4BC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F6DF-FC55-4A6C-AB1D-7FF99F77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EF6-F86A-4D26-A692-5D6C61B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ED6-4533-404A-9AB7-AE6839D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16DC-3FF3-4E2A-986D-8821347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8E94-85EC-4C0C-B9F1-95723518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CE51-BE97-4842-A75B-4B8B628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8B9-C619-469A-AFA5-E9653C09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A0EE-0725-4C22-8F80-6320B25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747F-97A3-4826-AB3B-DA07475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0882-8E34-4C8E-9656-2A77DBA3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C898-6A9A-4558-AD61-F4E3C274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D4B1-AD1C-4E3B-ABED-2960F46B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757-9F55-4CDF-83C0-D1805A9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B35-9FB7-484C-B610-5E4E9603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0FD-F1B6-4A80-8144-6A19564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C92-E330-497D-859A-2C5CF4B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20B-2414-4BB3-A820-DB9DAF0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52D-18CB-4DC0-B1E9-FE6AF58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E6A-BA6C-4EB4-B30A-8491662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6D91-CD67-4786-9E33-BE997B150F5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1CC-A83B-48E9-B3FF-F81A21F594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907920" y="993600"/>
            <a:ext cx="83152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62064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1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фенотиазина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Клинический эффект проявляется через 20 мин после приема внутрь (в среднем 15-60 мин), через 2 мин после в/м введения или через 3-5 мин после в/в введения и обычно продолжается в течение 4-6 ч (иногда сохраняясь до 12 ч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Назначают внутрь, в/м и в/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Максимальная суточная доза для взрослых составляет 150 мг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/м по 25 мг 1 раз/ , при необходимости 12.5-25 мг каждые 4-6 ч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ыраженная антигистаминная активность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оказывает значительное влияние на ЦНС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едатив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нотвор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отиворвотно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антипсихотическое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гипотермическое 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едупреждает и успокаивает икот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90600" y="-249120"/>
            <a:ext cx="8240760" cy="115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24000" y="378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ллергические заболевания (в т.ч. крапивница, сывороточная болезнь, сенная лихорадка, аллергический ринит, аллергический конъюнктивит, ангионевротический отек, зуд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спомогательная терапия анафилактических реакций (после купирования острых проявлений другими средствами, например, эпинефрином /адреналином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качестве седативного средства в пред- и послеоперационном период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едупреждения или купирования тошноты и рвоты, связанной с наркозом и/или появляющейся в послеоперационном период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слеоперационные боли (в сочетании с анальгетиками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инетоз (для предупреждения и устранения головокружения и тошноты во время поездок на транспорте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 качестве компонента литических смесей, применяемых для потенцирования наркоза в хирургической практике (для парентерального применения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-30240" y="-189000"/>
            <a:ext cx="8661600" cy="283536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3" descr=""/>
          <p:cNvPicPr/>
          <p:nvPr/>
        </p:nvPicPr>
        <p:blipFill>
          <a:blip r:embed="rId2"/>
          <a:stretch/>
        </p:blipFill>
        <p:spPr>
          <a:xfrm>
            <a:off x="5003640" y="3141720"/>
            <a:ext cx="3473640" cy="2846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3600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этилендиам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упреждает развитие и облегчает течение аллергических реак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казывает умеренное седативное и выраженное противозудное действ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ладает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отиворвотным эффект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ериферической антихолинергической активностью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меренными спазмолитическими свойств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апевтический эффект развивается в течение 15-30 мин после приема внутрь, достигает максимума в течение первого часа после приема и длится минимум 3-6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апивниц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нгионевротический отек (отек Квинке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ывороточная болезн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зонный и круглогодичный аллергический рин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ъюнктив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тактный дермат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жный зу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трая и хроническая экз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топический дермати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ищевая и лекарственная аллерг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ллергические реакции на укусы насеком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начают внутрь, в/м и в/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 взрослым назначают по 25 мг (1 таблетки) 3-4 (75-100 мг/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зу можно постепенно повышать при отсутствии побочных эффектов у пациента, но максимальная доза не должна превышать 2 мг/кг массы те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етки следует принимать внутрь во время еды, не разжевывая и запивая достаточным количеством в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рентерально препарат следует вводить в/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/в введение используют только в острых тяжелых случаях под контролем врач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ослым препарат вводят в/м по 20-40 мг (1-2 амп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-1407960" y="-324000"/>
            <a:ext cx="8242200" cy="2298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-360" y="1817280"/>
            <a:ext cx="583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аблет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 таб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лемастина гидрофумарат 1.34 мг,       что соответствует содержанию клемастина 1 мг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твор для в/в и в/м в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м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амп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лемастина гидрофумарат 1.34 мг 2.68 мг,       что соответствует содержанию клемастина 1 мг 2 м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&amp;Tcy;&amp;Acy;&amp;Vcy;&amp;IEcy;&amp;Gcy;&amp;Icy;&amp;Lcy; (TAVEGYL)"/>
          <p:cNvPicPr/>
          <p:nvPr/>
        </p:nvPicPr>
        <p:blipFill>
          <a:blip r:embed="rId2"/>
          <a:stretch/>
        </p:blipFill>
        <p:spPr>
          <a:xfrm>
            <a:off x="5292720" y="260280"/>
            <a:ext cx="367200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7-tub-ru.yandex.net/i?id=295194786-29-72"/>
          <p:cNvPicPr/>
          <p:nvPr/>
        </p:nvPicPr>
        <p:blipFill>
          <a:blip r:embed="rId3"/>
          <a:stretch/>
        </p:blipFill>
        <p:spPr>
          <a:xfrm>
            <a:off x="5435640" y="3789360"/>
            <a:ext cx="3529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17520" y="-176040"/>
            <a:ext cx="8240760" cy="1328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9280" y="333360"/>
            <a:ext cx="896472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окатор гистаминовых H</a:t>
            </a:r>
            <a:r>
              <a:rPr b="1" lang="ru-RU" sz="21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рецепторов, производное 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этаноламина.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Оказывает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 противоаллергическое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противозудное 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снижает проницаемость сосудов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оказывает седативный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м-холиноблокирующий эффек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-не обладает снотворной активность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редупреждает развитие вазодилатации и сокращения гладких мышц, индуцируемых гистамином. Уменьшает проницаемость капилляров, тормозит экссудацию и формирование отека, уменьшает зуд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Антигистаминная активность препарата при приеме внутрь достигает максимума через 5-7 ч, сохраняется в течение 10-12 ч, а в некоторых случаях - до 24 ч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Times New Roman"/>
              </a:rPr>
              <a:t>Лекарственное взаимодействи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i="1" lang="ru-RU" sz="2100" spc="-1" strike="noStrike">
                <a:solidFill>
                  <a:srgbClr val="ffffff"/>
                </a:solidFill>
                <a:latin typeface="Times New Roman"/>
              </a:rPr>
              <a:t>Тавегил</a:t>
            </a:r>
            <a:r>
              <a:rPr b="1" lang="ru-RU" sz="21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потенцирует действие лекарственных средств, угнетающих ЦНС (снотворных, седативных, транквилизаторов), м-холиноблокаторов, а также этанол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609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именения таблеток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енная лихорадка и другие аллергические ринопат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рапивница различного генез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зуд, зудящие дерматоз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страя и хроническая экзема, контактный дерматит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лекарственная аллерг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укусы и ужаления насекомых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ля применения раствора для инъекций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анафилактический или анафилактоидный шок и ангионевротический отек (в качестве дополнительного средства)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филактика или лечение аллергических и псевдоаллергических реакций (в т.ч. при введении контрастных веществ, переливании крови, диагностическом применении гистамина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 взрослым и детям старше 12 лет назначают по 1 таблетки (1 мг) утром и вечером. В случаях, трудно поддающихся лечению, суточная доза может составить до 6 таблетки (6 м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етки следует принимать до еды, запивая вод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/м или в/в взрослым назначают по 2 мг (2 мл, т.е. содержимое одной ампулы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целью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филактики непосредственно перед возможным возникновением анафилактической реакции или реакции в ответ на применение гистамин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епарат вводят в/в струйно в дозе 2 мг (2 мл). Раствор для инъекций в ампуле может быть дополнительно разведен изотоническим раствором натрия хлорида или 5% раствором глюкозы в соотношении 1:5. В/в инъекции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авеги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проводить медленно, в течение более 2-3 ми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28760" y="1000080"/>
          <a:ext cx="8258040" cy="4714920"/>
        </p:xfrm>
        <a:graphic>
          <a:graphicData uri="http://schemas.openxmlformats.org/drawingml/2006/table">
            <a:tbl>
              <a:tblPr/>
              <a:tblGrid>
                <a:gridCol w="2752560"/>
                <a:gridCol w="2752920"/>
                <a:gridCol w="2752560"/>
              </a:tblGrid>
              <a:tr h="47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медр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вег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праст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лорофенерам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зол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кар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ольф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ит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мпрек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ма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ист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рата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та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сти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тириз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II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о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риу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лф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растемиз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d0b5"/>
                </a:solidFill>
                <a:latin typeface="Times New Roman"/>
              </a:rPr>
              <a:t>Глауко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d0b5"/>
                </a:solidFill>
                <a:latin typeface="Times New Roman"/>
              </a:rPr>
              <a:t>Аденома прост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2971"/>
                </a:solidFill>
                <a:latin typeface="Times New Roman"/>
              </a:rPr>
              <a:t>Повышенная чувствительность к Тавегилу (Клемасти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пертиреоз </a:t>
            </a:r>
            <a:r>
              <a:rPr b="1" lang="ru-RU" sz="2400" spc="-1" strike="noStrike">
                <a:solidFill>
                  <a:srgbClr val="382971"/>
                </a:solidFill>
                <a:latin typeface="Times New Roman"/>
              </a:rPr>
              <a:t>и другие заболевания щитовидной железы (тиреоидит, опухоль щитовидной железы и др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ртериальная гиперто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звенная болезнь желуд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совместном применении Тавегила (Клемастин) с седативными и снотворными препаратами легко может возникнуть передозировка вплоть до нарушения координации (риск развития травм ), потери с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240760" cy="15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0" y="184428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Раствор для в/в и в/м введения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мл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дифенгидрамин 10 мг 1 мл - ампул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линико-фармакологическая группа: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локатор гистаминовых 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рецепторов 1 поколения. Противоаллергический препара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&amp;Kcy;&amp;acy;&amp;rcy;&amp;tcy;&amp;icy;&amp;ncy;&amp;kcy;&amp;acy; 4 &amp;icy;&amp;zcy; 6454"/>
          <p:cNvPicPr/>
          <p:nvPr/>
        </p:nvPicPr>
        <p:blipFill>
          <a:blip r:embed="rId2"/>
          <a:stretch/>
        </p:blipFill>
        <p:spPr>
          <a:xfrm>
            <a:off x="4140360" y="2421000"/>
            <a:ext cx="4762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542880" y="-171360"/>
            <a:ext cx="8240760" cy="1330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50560" y="475920"/>
            <a:ext cx="889308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ействие на центральную нервную систему обусловлено блокадой H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гистаминовых рецепторов мозга и угнетением центральных холинергических структур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Снимает спазм гладкой мускулату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меньшает проницаемость капилляро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едупреждает и ослабляет аллергические реакц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местноанестезирующи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противорвотное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седативный эффек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меренно блокирует холинорецепторы вегетативных ганглие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оказывает снотворное действ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агонизм с гистамином проявляется в большей степени по отношению к местным сосудистым реакциям при воспалении и аллергии, чем к системным, т.е. снижению АД. Однако, при парентеральном введении пациентам с дефицитом объема циркулирующей крови возможно снижение АД и усиление имеющейся гипотонии, вследствие ганглиоблокирующего действия. У людей с локальными повреждениями мозга и эпилепсией активирует (даже в низких дозах) эпилептические разряды на электроэнцефалограмме и может провоцировать эпилептический присту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ие развивается в течение нескольких минут, длительность – до 12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95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/в или в/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взрослых и детей старше 14 лет в/в или в/м 1-5 мл (10-50 мг) 1% раствора (10 мг/мл) 1-3 раза в день; максимальная суточная доза – 200 м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карственное взаимодейств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действие этанола и лекарственных средств (ЛС), угнетающих центральную нервную сист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гибиторы моноаминоксидазы (МАО) усиливают антихолинергическую активность дифенгидрам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агонистическое взаимодействие отмечается при совместном назначении с психостимулятор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нижает эффективность апоморфина как рвотного ЛС при лечении отравл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антихолинергические эффекты ЛС с м-холиноблокирующей а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иливает и продлевает действие опиатов. Вызывает более тяжелое к ним привыкание. Также усиливает действие депрессантов, таких как алкоголь, фенобарбитал и препараты бензодиазепинового ря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2" descr=""/>
          <p:cNvPicPr/>
          <p:nvPr/>
        </p:nvPicPr>
        <p:blipFill>
          <a:blip r:embed="rId1"/>
          <a:stretch/>
        </p:blipFill>
        <p:spPr>
          <a:xfrm>
            <a:off x="603360" y="-244440"/>
            <a:ext cx="82422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052640"/>
            <a:ext cx="5338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рговые наз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Алерприв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Веро-Лоратадин, Клаллергин, Кларготил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дол, Кларисенс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т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ифарм, Кларифер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отад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ларфаст, Ломила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ЛораГЕКСАЛ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Лоратадин, Лоратадин-Верте, Лоратадин-Хемофарм, Лотарен, Эролин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добрен FDA в 199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2001 год являлся наиболее назначаемым в мире противоаллергическим препаратом с 1994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локатор Н1-рецепторов (длительного действ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&amp;Kcy;&amp;acy;&amp;rcy;&amp;tcy;&amp;icy;&amp;ncy;&amp;kcy;&amp;acy; 10 &amp;icy;&amp;zcy; 1395"/>
          <p:cNvPicPr/>
          <p:nvPr/>
        </p:nvPicPr>
        <p:blipFill>
          <a:blip r:embed="rId2"/>
          <a:stretch/>
        </p:blipFill>
        <p:spPr>
          <a:xfrm>
            <a:off x="5796000" y="1628640"/>
            <a:ext cx="30193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гибирует высвобождение гистамина и лейкотриена из тучных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лад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аллергическ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зуд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отивоэкссудатив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уменьшает проницаемость капилляр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предупреждает развитие отека ткан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Снимает спазмы гладкой мускул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-360"/>
            <a:ext cx="8447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тивоаллергический эффект развивается в течение 30 мин, достигает максимума через 8-12 ч и длится 24 ч. Продолжительности действия значительно способствует активный метаболит дезлоратадин. Не влияет на ЦНС и не вызывает привыкания (т.к. не проникает через ГЭ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жим дозирова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нутрь. Шипучую таблетку предварительно растворяют в стакане воды (200 мл). Таблетки не следует глотать, жевать и сосать во р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Лекарственное взаимодействи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итромицин, циметидин, кетоконазол увеличивают концентрацию лоратадина в плазме крови, не вызывая клинических проявлений и не влияя на ЭК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дукторы микросомального окисления (фенитоин, этанол, барбитураты, зиксорин, рифампицин, фенилбутазон, трициклические антидепрессанты) снижают эффективность лоратад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536400" y="-244440"/>
            <a:ext cx="8242560" cy="150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обрен FDA в 2007 го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рговые назв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Алерза, Аллертек, Атаракс, Зинцет, Зиртек, Зодак, Летизен, Парлазин, Цетиринакс, Цетр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http://im3-tub-ru.yandex.net/i?id=388780019-34-72"/>
          <p:cNvPicPr/>
          <p:nvPr/>
        </p:nvPicPr>
        <p:blipFill>
          <a:blip r:embed="rId2"/>
          <a:stretch/>
        </p:blipFill>
        <p:spPr>
          <a:xfrm>
            <a:off x="324000" y="4005360"/>
            <a:ext cx="3671640" cy="28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&amp;Kcy;&amp;acy;&amp;rcy;&amp;tcy;&amp;icy;&amp;ncy;&amp;kcy;&amp;acy; 15 &amp;icy;&amp;zcy; 780"/>
          <p:cNvPicPr/>
          <p:nvPr/>
        </p:nvPicPr>
        <p:blipFill>
          <a:blip r:embed="rId3"/>
          <a:stretch/>
        </p:blipFill>
        <p:spPr>
          <a:xfrm>
            <a:off x="5940360" y="3594240"/>
            <a:ext cx="29955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0" y="83664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Не блокирует холинергические и серотониновые рецепторы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Оказывает противоаллергическое действие,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применении в терапевтических дозах не проникает через ГЭБ, поэтому не вызывает сколько-нибудь значимого седативного эффекта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Цетиризин воздействует как на раннюю, так и на позднюю стадии аллергической реакции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оказания к применению препарата ЦЕТРИН</a:t>
            </a:r>
            <a:r>
              <a:rPr b="1" lang="ru-RU" sz="23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сезонном и хроническом аллергическом ринит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аллергическом конъюнктивите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зуде различной этиологии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крапивнице (в т.ч. хронической идиопатической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При  ангионевротическом отеке (отеке Квинке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691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чало эффекта после разового приема 10 мг цетиризина — 20 мин (у 50 % пациентов) и через 60 мин (у 95 % пациентов), продолжается более 24 ч. На фоне курсового лечения толерантность к антигистаминному действию цетиризина не развивается. После прекращения лечения действие сохраняется до 3 су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1426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основе механизма действия антигистаминных препаратов лежит конкурентное связывание с Н1-гистаминорецепторами, расположенных на поверхности клеток различных органов и тканей. Действуя на Н1-рецепторы, гистамин активирует расположенную на клеточной мембране фосфолипазу, которая расщепляет фосфатидилинозитол, освобождая ряд метаболитов, в том числе и фосфатиловую кислоту. Последняя способствует поступлению ионов кальция в клетку, где происходит его связывание с кальмодулином. Образующийся комплекс влияет на контрактильный аппарат клетки и снижает проницаемость сосудов, что клинически проявляется снижением отечности мягких тканей, устранением гиперемии, снижением локальной гипертермии, уменьшением и исчезновением патологических элементов на кожном покрове, купированием кожного зу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63680" y="-176040"/>
            <a:ext cx="8242200" cy="1328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333000"/>
            <a:ext cx="86868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ля взрослых и детей старше 6 лет суточная доза составляет 10 мг, для взрослых - в 1 прием, запивают небольшим количеством воды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и нарушении функции почек требуется коррекция дозы препарата (как правило, дозу снижают в 2 раза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Лекарственное взаимодейств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о настоящего времени не имеется данных о взаимодействии цетиризина с другими лекарственными средствами, тем не менее, следует соблюдать осторожность при одновременном назначении препарата с седативными средств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-189000" y="-195120"/>
            <a:ext cx="933948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71280" y="692280"/>
          <a:ext cx="9072720" cy="6251400"/>
        </p:xfrm>
        <a:graphic>
          <a:graphicData uri="http://schemas.openxmlformats.org/drawingml/2006/table">
            <a:tbl>
              <a:tblPr/>
              <a:tblGrid>
                <a:gridCol w="365400"/>
                <a:gridCol w="1831680"/>
                <a:gridCol w="1440000"/>
                <a:gridCol w="792360"/>
                <a:gridCol w="647640"/>
                <a:gridCol w="1224000"/>
                <a:gridCol w="936360"/>
                <a:gridCol w="863640"/>
                <a:gridCol w="971640"/>
              </a:tblGrid>
              <a:tr h="182988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МН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Торговое 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Применение п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800000"/>
                          </a:solidFill>
                          <a:latin typeface="Arial Narrow"/>
                          <a:ea typeface="Times New Roman"/>
                        </a:rPr>
                        <a:t>Берем-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тельность дейст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енциирование НПВ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ирование бо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пирование алл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 нарк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фенгидра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медр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емас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вег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24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таз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польф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лоропирам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прас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тириз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тр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-72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ратад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г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35720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ольшинство антигистаминных препаратов I поколения хорошо всасывается из ЖКТ, их действие начинается в среднем через 30 мин, максимальная выраженность эффекта развивается через 1-2 ч, длительность действия 4-12 ч. Препараты I генерации хорошо проникают через гематоэнцефалический и плацентарный барьеры, в молоко матери. Наибольшие концентрации препаратов определяют в легких, печени, головном мозге, почках, селезенке, мышцах. Большинство антигистаминных препаратов метаболизируются в печени (70-90% дозы). Они являются индукторами микросомальных ферментов печени. Метаболиты выделяются в течение 24 ч. Антигистаминные препараты II и III поколений отличаются значительно меньшей липофильностью и поэтому не проникают через гематоэнцефалический барьер и не вызывают седативного эфф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91520" cy="144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блокада других рецепторов (м-холинорецепторов в виде сухости слизистой рта, носа, глотки, бронхов, редко расстройство мочеиспускания и ухудшение зрен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Местноанестезирующее действ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Хинидиноподобное действие на сердечную мышцу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йствие на ЦНС (седативное, нарушение координации, головокружение, вялость, снижение внимани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вышение аппети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Расстройство деятельности ЖКТ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чень высокая специфичность и высокое сродство к Н1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ыстрое начало действ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статочная продолжительность основного эффекта (до 24 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вие  блокады других типов рецеп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проходимость  через ГЭБ в терапевтических  доз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твие связи абсорбции с приемом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сутствие тахифилак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вал 8"/>
          <p:cNvSpPr/>
          <p:nvPr/>
        </p:nvSpPr>
        <p:spPr>
          <a:xfrm>
            <a:off x="468360" y="4221000"/>
            <a:ext cx="7056360" cy="1079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684360" y="2852640"/>
            <a:ext cx="6912000" cy="9367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5"/>
          <p:cNvSpPr/>
          <p:nvPr/>
        </p:nvSpPr>
        <p:spPr>
          <a:xfrm>
            <a:off x="684360" y="1628640"/>
            <a:ext cx="7272360" cy="863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676440" y="-176040"/>
            <a:ext cx="8291520" cy="144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7120" y="836280"/>
            <a:ext cx="8516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ерапевтических дозах обладают хорошим профилем безопасн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дление метаболизма ферментами печени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опление  исходных форм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е сердечного ритма (желудочков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хикард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Стрелка вниз 9"/>
          <p:cNvSpPr/>
          <p:nvPr/>
        </p:nvSpPr>
        <p:spPr>
          <a:xfrm>
            <a:off x="3635280" y="2492280"/>
            <a:ext cx="72072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10"/>
          <p:cNvSpPr/>
          <p:nvPr/>
        </p:nvSpPr>
        <p:spPr>
          <a:xfrm>
            <a:off x="3635280" y="3789360"/>
            <a:ext cx="6494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58760" y="103320"/>
            <a:ext cx="8955000" cy="1377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длительном лечении АГС вплоть до родов выявлены симптомы отмены (тремор, диаре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комендуют избегать во время беременности применение лоратадина,  гидроксизина, дизлоратадина, мизоластина, цетиризина, и АГС I поко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-6480" y="-347760"/>
            <a:ext cx="8242560" cy="190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нонимы 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польфен, Аllеrgan, Аntiallersin, Аtosi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аrgan, Рhenеrgan, Рromazinamide, Рrоmethazine, Рrоthazin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&amp;Kcy;&amp;acy;&amp;rcy;&amp;tcy;&amp;icy;&amp;ncy;&amp;kcy;&amp;acy; 1 &amp;icy;&amp;zcy; 109"/>
          <p:cNvPicPr/>
          <p:nvPr/>
        </p:nvPicPr>
        <p:blipFill>
          <a:blip r:embed="rId2"/>
          <a:stretch/>
        </p:blipFill>
        <p:spPr>
          <a:xfrm>
            <a:off x="324000" y="2276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&amp;Kcy;&amp;acy;&amp;rcy;&amp;tcy;&amp;icy;&amp;ncy;&amp;kcy;&amp;acy; 9 &amp;icy;&amp;zcy; 109"/>
          <p:cNvPicPr/>
          <p:nvPr/>
        </p:nvPicPr>
        <p:blipFill>
          <a:blip r:embed="rId3"/>
          <a:stretch/>
        </p:blipFill>
        <p:spPr>
          <a:xfrm>
            <a:off x="4788000" y="2205000"/>
            <a:ext cx="36003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1:19:21Z</dcterms:created>
  <dc:creator>Роман</dc:creator>
  <dc:description/>
  <dc:language>en-US</dc:language>
  <cp:lastModifiedBy>julia</cp:lastModifiedBy>
  <dcterms:modified xsi:type="dcterms:W3CDTF">2018-09-05T12:17:21Z</dcterms:modified>
  <cp:revision>43</cp:revision>
  <dc:subject/>
  <dc:title>Антигистаминные средства Подготовили: Брума Н.И. Маркин А.В</dc:title>
</cp:coreProperties>
</file>