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C4A6-569A-46D2-BF44-BAC5EC192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4262-3C75-4521-B951-73B87142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9054-FE87-49EA-8504-01D1049CA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B8A4-2C11-46F8-9EF6-D6BD0D3A9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8464-4ADA-4E35-8591-C6B0FB17F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DBD5-D008-453D-983E-E90F6CB1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221B-8EF8-4E3D-9545-653B4642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9986-5385-45F1-BD46-FB3F78F2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BCED-3301-4079-98CB-DD70CDC6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087F-18D0-40A0-A9F6-F29573EA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78DE-9F0C-42A8-832A-A7C0A229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0417-F716-46EF-8A84-635AB88C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6B7F-00A5-49E5-8114-8AE64256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3013-8EAD-40BA-93F0-4B3345C0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73C0-E535-4D60-B46B-235FA18E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C771-D96B-4C93-B0A5-F4EFDFB66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C496-5EDF-4994-8481-56952C103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25E8-F9EC-4AE7-850A-D78F7DB2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5CEA-EFD3-4917-BEDD-D6FB98A1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359C-A847-4C3F-B7A7-6EC709D9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794D-0D52-43C4-849C-62005E9D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4682-939E-43A2-8A5D-2EE306BD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9426-6671-44B6-9409-94F67DA0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5987-945F-4C6B-8712-1A1C8E48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6070705-C832-4FED-9816-E9BB7D8E636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2FA101-E55A-4073-8A7A-1D895080FE2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77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рабская порода лошадей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 СПК «Красное Знамя»  Кировской области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788000" y="4797000"/>
            <a:ext cx="435564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зентацию подготовила стдудентка 4 курса Рябова Д. 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3640" cy="68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сходя из промеров и зная описание типов арабской породы, можно с уверенностью сказать, что лошади которые стоят в СПК «Красное знамя» относятся к типу сиглави. Лошади хорошо пережили акклиматизацию в наших условиях, не утратили свои внешние данные, также сохранив работоспособность и плодовитость .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300360" y="920520"/>
            <a:ext cx="284328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2f2f2"/>
                </a:solidFill>
                <a:latin typeface="Calibri"/>
              </a:rPr>
              <a:t>Спасибо за внимание!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2f2f2"/>
                </a:solidFill>
                <a:latin typeface="Calibri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3640" cy="6857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2012 году было завезено две лошади арабской породы – взрослый жеребец Дариус и молодой жеребчик Бадрис.   Через  год было привезено еще 2 жеребенка – Эрика и Принц.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3640" cy="68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Жеребец-производитель Дариус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Израиле он участвовал в скачках, в  Кировской области в соревнованиях не участвует, используется как жеребец производитель. На сегодняшний день от жеребца Дариуса получено несколько жеребят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3640" cy="68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Жеребец Бадрис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адрис приехал в Кировскую область еще жеребенком. Проходил тренинг согласно возрасту, а осенью 2015 года выступал в соревнованиях « по молодым лошадям» – специальные соревнования для лошадей 4-5 лет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3640" cy="68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Жеребец Принц и кобыла Эри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ехали в Кировскую область в 2013 году два жеребенка арабской породы – серый жеребчик Принц и гнедая кобылка Эрика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, на сегодняшний день проходят тренинг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3" descr="DSC01975.JPG"/>
          <p:cNvPicPr/>
          <p:nvPr/>
        </p:nvPicPr>
        <p:blipFill>
          <a:blip r:embed="rId2"/>
          <a:stretch/>
        </p:blipFill>
        <p:spPr>
          <a:xfrm>
            <a:off x="4572000" y="980640"/>
            <a:ext cx="4571640" cy="34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Содержимое 3" descr="Z9WJAkgsJsw.jpg"/>
          <p:cNvPicPr/>
          <p:nvPr/>
        </p:nvPicPr>
        <p:blipFill>
          <a:blip r:embed="rId1"/>
          <a:stretch/>
        </p:blipFill>
        <p:spPr>
          <a:xfrm>
            <a:off x="0" y="0"/>
            <a:ext cx="4571640" cy="34286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4" descr="x_ff5482e4.jpg"/>
          <p:cNvPicPr/>
          <p:nvPr/>
        </p:nvPicPr>
        <p:blipFill>
          <a:blip r:embed="rId2"/>
          <a:stretch/>
        </p:blipFill>
        <p:spPr>
          <a:xfrm>
            <a:off x="4572000" y="0"/>
            <a:ext cx="4571640" cy="342864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5" descr="23b75fbd7472.jpg"/>
          <p:cNvPicPr/>
          <p:nvPr/>
        </p:nvPicPr>
        <p:blipFill>
          <a:blip r:embed="rId3"/>
          <a:stretch/>
        </p:blipFill>
        <p:spPr>
          <a:xfrm>
            <a:off x="0" y="3429000"/>
            <a:ext cx="4931640" cy="342864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20336635787416559kXM5PuKKc.jpg"/>
          <p:cNvPicPr/>
          <p:nvPr/>
        </p:nvPicPr>
        <p:blipFill>
          <a:blip r:embed="rId4"/>
          <a:stretch/>
        </p:blipFill>
        <p:spPr>
          <a:xfrm>
            <a:off x="4716000" y="3429000"/>
            <a:ext cx="4427640" cy="34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3640" cy="68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Тип Хадбан-  не породные, но самые крупные в породе лошади, резвые, выносливые скакуны и спортивные лошади; масть рыжая или гнедая, реже серая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Тип сиглави-  породные и нарядные лошади со средней конституцией тела, невысоким ростом, более лёгкие и менее резвые в скачках; масть в основном серая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Тип кохейлан-  массивные лошади с крепкой конституцией, широкогрудые, выносливые, отличные скакуны; масть в основном гнедая или рыжая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Тип кохейлан-сиглави-  смешанный тип, сочетающий в себе нарядные, сухие формы сиглави и массивность кохейлана; этот тип также отличается более высоким ростом и высокой работоспособностью; масти — гнедая, серая, рыжая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3640" cy="68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везенные лошади сохранили как свою работоспособность и плодовитость, так и внешне остались типичны для породы. Из 4 типов лошади подходят под один тип – сиглави. Сиглави – внешне очень нарядные, у них больше всего выражена выгнутость морды, масть чаще всего серая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Содержимое 3"/>
          <p:cNvGraphicFramePr/>
          <p:nvPr/>
        </p:nvGraphicFramePr>
        <p:xfrm>
          <a:off x="0" y="476640"/>
          <a:ext cx="9143640" cy="228024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992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Клич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П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Высота в хол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Косая дл. туловищ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Обхват пя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3"/>
                    </a:solidFill>
                  </a:tcPr>
                </a:tc>
              </a:tr>
              <a:tr h="29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ари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6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Жеребе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6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6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6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6d1"/>
                    </a:solidFill>
                  </a:tcPr>
                </a:tc>
              </a:tr>
              <a:tr h="29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Бадр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жеребе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</a:tr>
              <a:tr h="29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рин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6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жеребе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6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6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6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6d1"/>
                    </a:solidFill>
                  </a:tcPr>
                </a:tc>
              </a:tr>
              <a:tr h="29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Эр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кобы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4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</a:tr>
            </a:tbl>
          </a:graphicData>
        </a:graphic>
      </p:graphicFrame>
      <p:sp>
        <p:nvSpPr>
          <p:cNvPr id="96" name="Прямоугольник 4"/>
          <p:cNvSpPr/>
          <p:nvPr/>
        </p:nvSpPr>
        <p:spPr>
          <a:xfrm>
            <a:off x="0" y="0"/>
            <a:ext cx="914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блица 1- промеры лошадей арабской породы в СПК « Красное знам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  <Words>296</Words>
  <Paragraphs>11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1T16:52:36Z</dcterms:created>
  <dc:creator>Вятка</dc:creator>
  <dc:description/>
  <dc:language>en-US</dc:language>
  <cp:lastModifiedBy>Вятка</cp:lastModifiedBy>
  <dcterms:modified xsi:type="dcterms:W3CDTF">2016-03-24T16:04:39Z</dcterms:modified>
  <cp:revision>24</cp:revision>
  <dc:subject/>
  <dc:title>Арабская порода лошадей в СПК «Красное Знамя»  Кировской област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