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9BB0-2337-4DAC-9493-3A644E4F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3CD-A2AE-453E-BD3B-AA3D4808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190-C472-4B38-9A15-85717186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78A-57A2-401C-8701-C132CE53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5290-1D4F-41E3-8DD6-88DC61B7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554D-EF83-49AB-A652-052716DC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7367-991B-44B4-9527-1C1E256D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D326-AE80-4E93-B578-22A916CC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5F94-18DD-49BC-B215-3B823F08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0711-E36A-44E9-824E-ACF5FC58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9AC9-5F4D-4FEB-8DDA-021FB5BD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157-2D8D-4A43-A1B2-A2EDF414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23DA-4E5F-44E9-9F65-B409901D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BA0D-8211-4DF3-81FE-04B2A9D0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0C31-2B4C-46B1-B23C-446A1FA5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9AB4-3A07-4172-8DA3-51DD25F3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52C8-3CF5-4AF9-A43F-3F24ADE7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E51D-84FB-42A9-B3F6-CC37D528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030-8FDF-4E08-92E6-ED552016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BB8-5B8A-4FB5-90BD-7A69C369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85F-769A-49D7-BD94-CD6AF27A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A56-2DDD-480D-844B-73FF0F93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A8D-2781-40B8-8188-826822E0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3D6-3737-4C2F-A59F-C13FACE0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EC8E19-CC6A-467A-9799-F0B34AB2047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EEFFAB-7788-4438-8930-8D9B330DBD1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77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рабская порода лошаде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СПК «Красное Знамя»  Кировской области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88000" y="4797000"/>
            <a:ext cx="435564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зентацию подготовила стдудентка 4 курса Рябова Д.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сходя из промеров и зная описание типов арабской породы, можно с уверенностью сказать, что лошади которые стоят в СПК «Красное знамя» относятся к типу сиглави. Лошади хорошо пережили акклиматизацию в наших условиях, не утратили свои внешние данные, также сохранив работоспособность и плодовитость 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300360" y="920520"/>
            <a:ext cx="28432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Спасибо за внимание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2f2f2"/>
                </a:solidFill>
                <a:latin typeface="Calibri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2012 году было завезено две лошади арабской породы – взрослый жеребец Дариус и молодой жеребчик Бадрис.   Через  год было привезено еще 2 жеребенка – Эрика и Принц.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еребец-производитель Дариус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Израиле он участвовал в скачках, в  Кировской области в соревнованиях не участвует, используется как жеребец производитель. На сегодняшний день от жеребца Дариуса получено несколько жеребят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ребец Бадрис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дрис приехал в Кировскую область еще жеребенком. Проходил тренинг согласно возрасту, а осенью 2015 года выступал в соревнованиях « по молодым лошадям» – специальные соревнования для лошадей 4-5 лет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еребец Принц и кобыла Эри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ехали в Кировскую область в 2013 году два жеребенка арабской породы – серый жеребчик Принц и гнедая кобылка Эрика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, на сегодняшний день проходят тренинг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DSC01975.JPG"/>
          <p:cNvPicPr/>
          <p:nvPr/>
        </p:nvPicPr>
        <p:blipFill>
          <a:blip r:embed="rId2"/>
          <a:stretch/>
        </p:blipFill>
        <p:spPr>
          <a:xfrm>
            <a:off x="4572000" y="980640"/>
            <a:ext cx="457164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одержимое 3" descr="Z9WJAkgsJsw.jpg"/>
          <p:cNvPicPr/>
          <p:nvPr/>
        </p:nvPicPr>
        <p:blipFill>
          <a:blip r:embed="rId1"/>
          <a:stretch/>
        </p:blipFill>
        <p:spPr>
          <a:xfrm>
            <a:off x="0" y="0"/>
            <a:ext cx="4571640" cy="3428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4" descr="x_ff5482e4.jpg"/>
          <p:cNvPicPr/>
          <p:nvPr/>
        </p:nvPicPr>
        <p:blipFill>
          <a:blip r:embed="rId2"/>
          <a:stretch/>
        </p:blipFill>
        <p:spPr>
          <a:xfrm>
            <a:off x="4572000" y="0"/>
            <a:ext cx="4571640" cy="3428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23b75fbd7472.jpg"/>
          <p:cNvPicPr/>
          <p:nvPr/>
        </p:nvPicPr>
        <p:blipFill>
          <a:blip r:embed="rId3"/>
          <a:stretch/>
        </p:blipFill>
        <p:spPr>
          <a:xfrm>
            <a:off x="0" y="3429000"/>
            <a:ext cx="4931640" cy="34286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20336635787416559kXM5PuKKc.jpg"/>
          <p:cNvPicPr/>
          <p:nvPr/>
        </p:nvPicPr>
        <p:blipFill>
          <a:blip r:embed="rId4"/>
          <a:stretch/>
        </p:blipFill>
        <p:spPr>
          <a:xfrm>
            <a:off x="4716000" y="3429000"/>
            <a:ext cx="4427640" cy="34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Тип Хадбан-  не породные, но самые крупные в породе лошади, резвые, выносливые скакуны и спортивные лошади; масть рыжая или гнедая, реже серая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Тип сиглави-  породные и нарядные лошади со средней конституцией тела, невысоким ростом, более лёгкие и менее резвые в скачках; масть в основном серая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Тип кохейлан-  массивные лошади с крепкой конституцией, широкогрудые, выносливые, отличные скакуны; масть в основном гнедая или рыжая;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Тип кохейлан-сиглави-  смешанный тип, сочетающий в себе нарядные, сухие формы сиглави и массивность кохейлана; этот тип также отличается более высоким ростом и высокой работоспособностью; масти — гнедая, серая, рыжая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везенные лошади сохранили как свою работоспособность и плодовитость, так и внешне остались типичны для породы. Из 4 типов лошади подходят под один тип – сиглави. Сиглави – внешне очень нарядные, у них больше всего выражена выгнутость морды, масть чаще всего серая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Содержимое 3"/>
          <p:cNvGraphicFramePr/>
          <p:nvPr/>
        </p:nvGraphicFramePr>
        <p:xfrm>
          <a:off x="0" y="476640"/>
          <a:ext cx="9143640" cy="22802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99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ли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ысота в хол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осая дл. туловищ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бхват пя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3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Дари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ереб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адр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ереб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ин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жеребе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ee6d1"/>
                    </a:solidFill>
                  </a:tcPr>
                </a:tc>
              </a:tr>
              <a:tr h="29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р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кобы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ff3e9"/>
                    </a:solidFill>
                  </a:tcPr>
                </a:tc>
              </a:tr>
            </a:tbl>
          </a:graphicData>
        </a:graphic>
      </p:graphicFrame>
      <p:sp>
        <p:nvSpPr>
          <p:cNvPr id="96" name="Прямоугольник 4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блица 1- промеры лошадей арабской породы в СПК « Красное знам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  <Words>296</Words>
  <Paragraphs>11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1T16:52:36Z</dcterms:created>
  <dc:creator>Вятка</dc:creator>
  <dc:description/>
  <dc:language>en-US</dc:language>
  <cp:lastModifiedBy>Вятка</cp:lastModifiedBy>
  <dcterms:modified xsi:type="dcterms:W3CDTF">2016-03-24T16:04:39Z</dcterms:modified>
  <cp:revision>24</cp:revision>
  <dc:subject/>
  <dc:title>Арабская порода лошадей в СПК «Красное Знамя»  Кировской област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