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536-43CD-4755-BFAE-14497A8F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040-42FE-4A6A-B773-EC5B05A3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5CF-4DC3-49B1-B7B5-F705F63A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592-FB24-43AD-89AA-0DAB1151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5DDC-F87B-414F-93CC-8D9799D5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47A1-61AB-4C0D-944E-060786D1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B652-D8EF-4555-9680-4BF26631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3FFB-C2FA-49C0-A4E3-550B0A5A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ABC4-28C9-49D7-A9B7-0634FD6C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03F3-4A69-40AF-A269-50B1037A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4EB2-F743-42C3-AD31-6ED6A23B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992-EC2F-4F7D-86A1-8443FB94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17EC-197E-4DE0-9382-E575A9FF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E12D-D4A9-4DA3-983B-27400A97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D0B5-F260-4B77-B017-06A94413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BEC5-C44A-4DB4-B625-79AC870E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6400-06F9-41FF-9FCB-297C1B7D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389-07CC-4E47-A6E5-8306BD9F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385-892C-448E-B3D9-9003CCAF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229-2E61-40AE-997D-BAC457AE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7BD-D6BE-40F4-AA5A-E7287964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7B2-4118-418F-9A27-DA030905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782-95ED-45A5-B6C1-4ED3990F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744-5A96-4594-850D-9786866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346F9C-BF29-40AE-8DE2-69DB66B5EE1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06AEFE-1275-43E8-909C-C2901410C96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77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рабская порода лошаде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СПК «Красное Знамя»  Кировской области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788000" y="4797000"/>
            <a:ext cx="435564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зентацию подготовила стдудентка 4 курса Рябова Д.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сходя из промеров и зная описание типов арабской породы, можно с уверенностью сказать, что лошади которые стоят в СПК «Красное знамя» относятся к типу сиглави. Лошади хорошо пережили акклиматизацию в наших условиях, не утратили свои внешние данные, также сохранив работоспособность и плодовитость .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300360" y="920520"/>
            <a:ext cx="28432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Спасибо за внимание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2012 году было завезено две лошади арабской породы – взрослый жеребец Дариус и молодой жеребчик Бадрис.   Через  год было привезено еще 2 жеребенка – Эрика и Принц.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ребец-производитель Дариус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Израиле он участвовал в скачках, в  Кировской области в соревнованиях не участвует, используется как жеребец производитель. На сегодняшний день от жеребца Дариуса получено несколько жеребят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еребец Бадри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дрис приехал в Кировскую область еще жеребенком. Проходил тренинг согласно возрасту, а осенью 2015 года выступал в соревнованиях « по молодым лошадям» – специальные соревнования для лошадей 4-5 ле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еребец Принц и кобыла Эри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ехали в Кировскую область в 2013 году два жеребенка арабской породы – серый жеребчик Принц и гнедая кобылка Эрик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на сегодняшний день проходят тренинг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DSC01975.JPG"/>
          <p:cNvPicPr/>
          <p:nvPr/>
        </p:nvPicPr>
        <p:blipFill>
          <a:blip r:embed="rId2"/>
          <a:stretch/>
        </p:blipFill>
        <p:spPr>
          <a:xfrm>
            <a:off x="4572000" y="980640"/>
            <a:ext cx="457164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Z9WJAkgsJsw.jpg"/>
          <p:cNvPicPr/>
          <p:nvPr/>
        </p:nvPicPr>
        <p:blipFill>
          <a:blip r:embed="rId1"/>
          <a:stretch/>
        </p:blipFill>
        <p:spPr>
          <a:xfrm>
            <a:off x="0" y="0"/>
            <a:ext cx="4571640" cy="3428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x_ff5482e4.jpg"/>
          <p:cNvPicPr/>
          <p:nvPr/>
        </p:nvPicPr>
        <p:blipFill>
          <a:blip r:embed="rId2"/>
          <a:stretch/>
        </p:blipFill>
        <p:spPr>
          <a:xfrm>
            <a:off x="4572000" y="0"/>
            <a:ext cx="4571640" cy="34286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23b75fbd7472.jpg"/>
          <p:cNvPicPr/>
          <p:nvPr/>
        </p:nvPicPr>
        <p:blipFill>
          <a:blip r:embed="rId3"/>
          <a:stretch/>
        </p:blipFill>
        <p:spPr>
          <a:xfrm>
            <a:off x="0" y="3429000"/>
            <a:ext cx="4931640" cy="34286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20336635787416559kXM5PuKKc.jpg"/>
          <p:cNvPicPr/>
          <p:nvPr/>
        </p:nvPicPr>
        <p:blipFill>
          <a:blip r:embed="rId4"/>
          <a:stretch/>
        </p:blipFill>
        <p:spPr>
          <a:xfrm>
            <a:off x="4716000" y="3429000"/>
            <a:ext cx="442764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Тип Хадбан-  не породные, но самые крупные в породе лошади, резвые, выносливые скакуны и спортивные лошади; масть рыжая или гнедая, реже серая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Тип сиглави-  породные и нарядные лошади со средней конституцией тела, невысоким ростом, более лёгкие и менее резвые в скачках; масть в основном серая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Тип кохейлан-  массивные лошади с крепкой конституцией, широкогрудые, выносливые, отличные скакуны; масть в основном гнедая или рыжая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Тип кохейлан-сиглави-  смешанный тип, сочетающий в себе нарядные, сухие формы сиглави и массивность кохейлана; этот тип также отличается более высоким ростом и высокой работоспособностью; масти — гнедая, серая, рыжая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везенные лошади сохранили как свою работоспособность и плодовитость, так и внешне остались типичны для породы. Из 4 типов лошади подходят под один тип – сиглави. Сиглави – внешне очень нарядные, у них больше всего выражена выгнутость морды, масть чаще всего серая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Содержимое 3"/>
          <p:cNvGraphicFramePr/>
          <p:nvPr/>
        </p:nvGraphicFramePr>
        <p:xfrm>
          <a:off x="0" y="476640"/>
          <a:ext cx="9143640" cy="22802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99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ли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сота в хол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сая дл. туловищ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бхват пя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</a:tr>
              <a:tr h="29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ри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ереб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29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адр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ереб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29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н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ереб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29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Эр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бы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</a:tr>
            </a:tbl>
          </a:graphicData>
        </a:graphic>
      </p:graphicFrame>
      <p:sp>
        <p:nvSpPr>
          <p:cNvPr id="96" name="Прямоугольник 4"/>
          <p:cNvSpPr/>
          <p:nvPr/>
        </p:nvSpPr>
        <p:spPr>
          <a:xfrm>
            <a:off x="0" y="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- промеры лошадей арабской породы в СПК « Красное знам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  <Words>296</Words>
  <Paragraphs>11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1T16:52:36Z</dcterms:created>
  <dc:creator>Вятка</dc:creator>
  <dc:description/>
  <dc:language>en-US</dc:language>
  <cp:lastModifiedBy>Вятка</cp:lastModifiedBy>
  <dcterms:modified xsi:type="dcterms:W3CDTF">2016-03-24T16:04:39Z</dcterms:modified>
  <cp:revision>24</cp:revision>
  <dc:subject/>
  <dc:title>Арабская порода лошадей в СПК «Красное Знамя»  Кировской област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