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E1B-9199-4761-A1CD-4951B3F8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DB1-A628-40B7-A751-C58539C4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918-F9C9-48E4-90E4-E2D70219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265-BB0F-4AD3-A46C-319912BB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05C-206C-4031-B4F1-35ED4496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E4B-DB64-4DF5-9935-88DD2F03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361-424C-4E65-9164-AA63849B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DAF-7452-49EE-B6BB-145FBEDA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BAF-EA52-4102-BBB2-030A26FE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E24-9EBF-40A4-B3A4-55ADE043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4D24-28CD-429C-8069-9F295259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FE7-35FF-4862-833D-91A3A7AD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AA0D-E5AD-4AF5-801F-F710C4B7A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0"/>
            <a:ext cx="70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регис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нение регис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характеристики регис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и установки регис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и регистров, связанные с хран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и регистров, связанные с умножением и дел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и регистров, связанные с логи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с последовательным приемом и выдаче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сдви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с параллельным приемом и последовательной выдаче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с параллельным приемом и параллельной выдаче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хра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с последовательным приемом и параллельной выдаче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ниверсальный регист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ьцевые счетч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620640"/>
            <a:ext cx="19447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4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 5    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  6   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   7   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5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  8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ми параметрами сумматоро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ютс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Times New Roman"/>
              </a:rPr>
              <a:t>ра</a:t>
            </a: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зрядность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статические параметры: Uвх, Uвых, Iвх и так далее, то есть обычные параметры интегральных схе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динамические параметры</a:t>
            </a:r>
            <a:r>
              <a:rPr b="0" lang="ru-RU" sz="3200" spc="-1" strike="noStrike">
                <a:solidFill>
                  <a:srgbClr val="202060"/>
                </a:solidFill>
                <a:latin typeface="Verdana"/>
              </a:rPr>
              <a:t> – </a:t>
            </a: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характеризуются задержками распространения сигн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то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1342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Times New Roman"/>
                <a:ea typeface="Times New Roman"/>
              </a:rPr>
              <a:t>характеризующиеся наличием двух входов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вух слагаемых )</a:t>
            </a:r>
            <a:r>
              <a:rPr b="0" lang="en-US" sz="2800" spc="-1" strike="noStrike">
                <a:solidFill>
                  <a:srgbClr val="202060"/>
                </a:solidFill>
                <a:latin typeface="Times New Roman"/>
                <a:ea typeface="Times New Roman"/>
              </a:rPr>
              <a:t>, на которые подаются два одноразрядных числа, и одним выходом, на котором реализуется их арифметическая сумм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Times New Roman"/>
                <a:ea typeface="Times New Roman"/>
              </a:rPr>
              <a:t>(элементы “сумма по модулю 2”; элементы “исключающее ИЛИ”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в два раза меньше выходов и в два раза меньше строк в таблице истинности по сравнению с полным двоичным одноразрядным сумматор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его отражает таблица истинност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130320" y="171360"/>
            <a:ext cx="2742840" cy="3209760"/>
            <a:chOff x="130320" y="171360"/>
            <a:chExt cx="2742840" cy="3209760"/>
          </a:xfrm>
        </p:grpSpPr>
        <p:grpSp>
          <p:nvGrpSpPr>
            <p:cNvPr id="65" name=""/>
            <p:cNvGrpSpPr/>
            <p:nvPr/>
          </p:nvGrpSpPr>
          <p:grpSpPr>
            <a:xfrm>
              <a:off x="135720" y="176040"/>
              <a:ext cx="2730240" cy="3200400"/>
              <a:chOff x="135720" y="176040"/>
              <a:chExt cx="2730240" cy="32004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35720" y="176040"/>
                <a:ext cx="907560" cy="609480"/>
                <a:chOff x="135720" y="176040"/>
                <a:chExt cx="907560" cy="60948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58400" y="195120"/>
                  <a:ext cx="86184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35720" y="176040"/>
                  <a:ext cx="9075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1043640" y="176040"/>
                <a:ext cx="907200" cy="609480"/>
                <a:chOff x="1043640" y="176040"/>
                <a:chExt cx="907200" cy="6094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066320" y="195120"/>
                  <a:ext cx="86148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43640" y="176040"/>
                  <a:ext cx="9072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1951200" y="176040"/>
                <a:ext cx="914760" cy="609480"/>
                <a:chOff x="1951200" y="176040"/>
                <a:chExt cx="914760" cy="6094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1973880" y="195120"/>
                  <a:ext cx="86940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951200" y="176040"/>
                  <a:ext cx="9147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35720" y="823680"/>
                <a:ext cx="907560" cy="609840"/>
                <a:chOff x="135720" y="823680"/>
                <a:chExt cx="907560" cy="6098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58400" y="842760"/>
                  <a:ext cx="86184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35720" y="823680"/>
                  <a:ext cx="9075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043640" y="823680"/>
                <a:ext cx="907200" cy="609840"/>
                <a:chOff x="1043640" y="823680"/>
                <a:chExt cx="907200" cy="609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066320" y="842760"/>
                  <a:ext cx="86148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043640" y="823680"/>
                  <a:ext cx="9072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951200" y="823680"/>
                <a:ext cx="914760" cy="609840"/>
                <a:chOff x="1951200" y="823680"/>
                <a:chExt cx="914760" cy="609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973880" y="842760"/>
                  <a:ext cx="86940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951200" y="823680"/>
                  <a:ext cx="9147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35720" y="1471320"/>
                <a:ext cx="907560" cy="609840"/>
                <a:chOff x="135720" y="1471320"/>
                <a:chExt cx="907560" cy="609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8400" y="1490400"/>
                  <a:ext cx="86184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35720" y="1471320"/>
                  <a:ext cx="9075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043640" y="1471320"/>
                <a:ext cx="907200" cy="609840"/>
                <a:chOff x="1043640" y="1471320"/>
                <a:chExt cx="907200" cy="609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066320" y="1490400"/>
                  <a:ext cx="86148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043640" y="1471320"/>
                  <a:ext cx="9072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1951200" y="1471320"/>
                <a:ext cx="914760" cy="609840"/>
                <a:chOff x="1951200" y="1471320"/>
                <a:chExt cx="914760" cy="609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1973880" y="1490400"/>
                  <a:ext cx="86940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951200" y="1471320"/>
                  <a:ext cx="9147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35720" y="2119320"/>
                <a:ext cx="907560" cy="609480"/>
                <a:chOff x="135720" y="2119320"/>
                <a:chExt cx="907560" cy="609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58400" y="2138040"/>
                  <a:ext cx="86184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35720" y="2119320"/>
                  <a:ext cx="9075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043640" y="2119320"/>
                <a:ext cx="907200" cy="609480"/>
                <a:chOff x="1043640" y="2119320"/>
                <a:chExt cx="907200" cy="6094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066320" y="2138040"/>
                  <a:ext cx="86148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043640" y="2119320"/>
                  <a:ext cx="9072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951200" y="2119320"/>
                <a:ext cx="914760" cy="609480"/>
                <a:chOff x="1951200" y="2119320"/>
                <a:chExt cx="914760" cy="6094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973880" y="2138040"/>
                  <a:ext cx="86940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951200" y="2119320"/>
                  <a:ext cx="9147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135720" y="2766960"/>
                <a:ext cx="907560" cy="609480"/>
                <a:chOff x="135720" y="2766960"/>
                <a:chExt cx="907560" cy="6094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58400" y="2786040"/>
                  <a:ext cx="86184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35720" y="2766960"/>
                  <a:ext cx="9075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1043640" y="2766960"/>
                <a:ext cx="907200" cy="609480"/>
                <a:chOff x="1043640" y="2766960"/>
                <a:chExt cx="907200" cy="6094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066320" y="2786040"/>
                  <a:ext cx="86148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043640" y="2766960"/>
                  <a:ext cx="9072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951200" y="2766960"/>
                <a:ext cx="914760" cy="609480"/>
                <a:chOff x="1951200" y="2766960"/>
                <a:chExt cx="914760" cy="6094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973880" y="2786040"/>
                  <a:ext cx="86940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951200" y="2766960"/>
                  <a:ext cx="9147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130320" y="171360"/>
              <a:ext cx="2742840" cy="3209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6622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f_1" descr=""/>
          <p:cNvPicPr/>
          <p:nvPr/>
        </p:nvPicPr>
        <p:blipFill>
          <a:blip r:embed="rId1"/>
          <a:stretch/>
        </p:blipFill>
        <p:spPr>
          <a:xfrm>
            <a:off x="3048120" y="990720"/>
            <a:ext cx="5790960" cy="637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7180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vorob1" descr=""/>
          <p:cNvPicPr/>
          <p:nvPr/>
        </p:nvPicPr>
        <p:blipFill>
          <a:blip r:embed="rId2"/>
          <a:stretch/>
        </p:blipFill>
        <p:spPr>
          <a:xfrm>
            <a:off x="2743200" y="3559320"/>
            <a:ext cx="64008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ем четвертьсумматор в базисах И-НЕ, ИЛИ-НЕ и с использованием только одного инвертора, для чего преобразуем уравн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8616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_2" descr=""/>
          <p:cNvPicPr/>
          <p:nvPr/>
        </p:nvPicPr>
        <p:blipFill>
          <a:blip r:embed="rId1"/>
          <a:stretch/>
        </p:blipFill>
        <p:spPr>
          <a:xfrm>
            <a:off x="179280" y="2322360"/>
            <a:ext cx="8686800" cy="1150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812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_3" descr=""/>
          <p:cNvPicPr/>
          <p:nvPr/>
        </p:nvPicPr>
        <p:blipFill>
          <a:blip r:embed="rId2"/>
          <a:stretch/>
        </p:blipFill>
        <p:spPr>
          <a:xfrm>
            <a:off x="181080" y="3730680"/>
            <a:ext cx="8854920" cy="1360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7636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f_4" descr=""/>
          <p:cNvPicPr/>
          <p:nvPr/>
        </p:nvPicPr>
        <p:blipFill>
          <a:blip r:embed="rId3"/>
          <a:stretch/>
        </p:blipFill>
        <p:spPr>
          <a:xfrm>
            <a:off x="214200" y="5203800"/>
            <a:ext cx="86979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Х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, полученные по уравнения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338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vorob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7123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суммато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2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характеризующиеся наличием двух входов, на которые подаются одноимённые разряды дву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гаемых</a:t>
            </a:r>
            <a:r>
              <a:rPr b="0" lang="ru-RU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, и двух выходов: на одном реализуется арифметическая сумма в данном разряде, а на другом — перенос в следующий (более старший разряд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ем полусумматора служат буквы HS (half sum — полусумм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его отражает таблица истинности, а соответствующие уравнения имеют вид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6668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03320" y="85680"/>
            <a:ext cx="3579480" cy="3309480"/>
            <a:chOff x="103320" y="85680"/>
            <a:chExt cx="3579480" cy="3309480"/>
          </a:xfrm>
        </p:grpSpPr>
        <p:grpSp>
          <p:nvGrpSpPr>
            <p:cNvPr id="132" name=""/>
            <p:cNvGrpSpPr/>
            <p:nvPr/>
          </p:nvGrpSpPr>
          <p:grpSpPr>
            <a:xfrm>
              <a:off x="108720" y="90360"/>
              <a:ext cx="3567960" cy="3299400"/>
              <a:chOff x="108720" y="90360"/>
              <a:chExt cx="3567960" cy="32994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108720" y="90360"/>
                <a:ext cx="889920" cy="627840"/>
                <a:chOff x="108720" y="90360"/>
                <a:chExt cx="889920" cy="627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31040" y="109800"/>
                  <a:ext cx="8449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08720" y="9036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999000" y="90360"/>
                <a:ext cx="889560" cy="627840"/>
                <a:chOff x="999000" y="90360"/>
                <a:chExt cx="889560" cy="6278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021320" y="109800"/>
                  <a:ext cx="84456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999000" y="90360"/>
                  <a:ext cx="88956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888920" y="90360"/>
                <a:ext cx="889920" cy="627840"/>
                <a:chOff x="1888920" y="90360"/>
                <a:chExt cx="889920" cy="627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911240" y="109800"/>
                  <a:ext cx="8449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888920" y="9036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779560" y="90360"/>
                <a:ext cx="897120" cy="627840"/>
                <a:chOff x="2779560" y="90360"/>
                <a:chExt cx="897120" cy="627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801880" y="109800"/>
                  <a:ext cx="8521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779560" y="90360"/>
                  <a:ext cx="8971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08720" y="758160"/>
                <a:ext cx="889920" cy="628200"/>
                <a:chOff x="108720" y="758160"/>
                <a:chExt cx="889920" cy="628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31040" y="7776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8720" y="758160"/>
                  <a:ext cx="8899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999000" y="758160"/>
                <a:ext cx="889560" cy="628200"/>
                <a:chOff x="999000" y="758160"/>
                <a:chExt cx="889560" cy="6282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21320" y="777600"/>
                  <a:ext cx="8445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999000" y="758160"/>
                  <a:ext cx="88956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888920" y="758160"/>
                <a:ext cx="889920" cy="628200"/>
                <a:chOff x="1888920" y="758160"/>
                <a:chExt cx="889920" cy="6282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911240" y="7776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888920" y="758160"/>
                  <a:ext cx="8899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779560" y="758160"/>
                <a:ext cx="897120" cy="628200"/>
                <a:chOff x="2779560" y="758160"/>
                <a:chExt cx="897120" cy="6282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801880" y="777600"/>
                  <a:ext cx="8521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779560" y="758160"/>
                  <a:ext cx="8971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08720" y="1425960"/>
                <a:ext cx="889920" cy="628200"/>
                <a:chOff x="108720" y="1425960"/>
                <a:chExt cx="889920" cy="6282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31040" y="14454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08720" y="1425960"/>
                  <a:ext cx="8899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999000" y="1425960"/>
                <a:ext cx="889560" cy="628200"/>
                <a:chOff x="999000" y="1425960"/>
                <a:chExt cx="889560" cy="6282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021320" y="1445400"/>
                  <a:ext cx="8445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99000" y="1425960"/>
                  <a:ext cx="88956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888920" y="1425960"/>
                <a:ext cx="889920" cy="628200"/>
                <a:chOff x="1888920" y="1425960"/>
                <a:chExt cx="889920" cy="6282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911240" y="14454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888920" y="1425960"/>
                  <a:ext cx="8899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779560" y="1425960"/>
                <a:ext cx="897120" cy="628200"/>
                <a:chOff x="2779560" y="1425960"/>
                <a:chExt cx="897120" cy="6282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801880" y="1445400"/>
                  <a:ext cx="8521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779560" y="1425960"/>
                  <a:ext cx="8971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08720" y="2094120"/>
                <a:ext cx="889920" cy="627840"/>
                <a:chOff x="108720" y="2094120"/>
                <a:chExt cx="889920" cy="6278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31040" y="21132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8720" y="209412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999000" y="2094120"/>
                <a:ext cx="889560" cy="627840"/>
                <a:chOff x="999000" y="2094120"/>
                <a:chExt cx="889560" cy="6278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021320" y="2113200"/>
                  <a:ext cx="8445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99000" y="2094120"/>
                  <a:ext cx="88956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888920" y="2094120"/>
                <a:ext cx="889920" cy="627840"/>
                <a:chOff x="1888920" y="2094120"/>
                <a:chExt cx="889920" cy="6278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911240" y="21132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888920" y="209412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779560" y="2094120"/>
                <a:ext cx="897120" cy="627840"/>
                <a:chOff x="2779560" y="2094120"/>
                <a:chExt cx="897120" cy="6278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801880" y="2113200"/>
                  <a:ext cx="8521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779560" y="2094120"/>
                  <a:ext cx="8971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08720" y="2761920"/>
                <a:ext cx="889920" cy="627840"/>
                <a:chOff x="108720" y="2761920"/>
                <a:chExt cx="889920" cy="6278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31040" y="2781360"/>
                  <a:ext cx="8449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08720" y="276192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999000" y="2761920"/>
                <a:ext cx="889560" cy="627840"/>
                <a:chOff x="999000" y="2761920"/>
                <a:chExt cx="889560" cy="6278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021320" y="2781360"/>
                  <a:ext cx="84456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99000" y="2761920"/>
                  <a:ext cx="88956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888920" y="2761920"/>
                <a:ext cx="889920" cy="627840"/>
                <a:chOff x="1888920" y="2761920"/>
                <a:chExt cx="889920" cy="6278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911240" y="2781360"/>
                  <a:ext cx="8449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888920" y="276192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779560" y="2761920"/>
                <a:ext cx="897120" cy="627840"/>
                <a:chOff x="2779560" y="2761920"/>
                <a:chExt cx="897120" cy="6278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801880" y="2781360"/>
                  <a:ext cx="8521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79560" y="2761920"/>
                  <a:ext cx="8971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"/>
            <p:cNvSpPr/>
            <p:nvPr/>
          </p:nvSpPr>
          <p:spPr>
            <a:xfrm>
              <a:off x="103320" y="85680"/>
              <a:ext cx="3579480" cy="3309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60504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_5" descr=""/>
          <p:cNvPicPr/>
          <p:nvPr/>
        </p:nvPicPr>
        <p:blipFill>
          <a:blip r:embed="rId1"/>
          <a:stretch/>
        </p:blipFill>
        <p:spPr>
          <a:xfrm>
            <a:off x="3848040" y="227160"/>
            <a:ext cx="5168880" cy="13744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24360" y="19890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=(ab)(a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206064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Х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39640" y="2276640"/>
            <a:ext cx="7200720" cy="3744000"/>
            <a:chOff x="539640" y="2276640"/>
            <a:chExt cx="7200720" cy="3744000"/>
          </a:xfrm>
        </p:grpSpPr>
        <p:sp>
          <p:nvSpPr>
            <p:cNvPr id="203" name=""/>
            <p:cNvSpPr/>
            <p:nvPr/>
          </p:nvSpPr>
          <p:spPr>
            <a:xfrm>
              <a:off x="2139120" y="2606760"/>
              <a:ext cx="71100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28760" y="260676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9120" y="4479120"/>
              <a:ext cx="71100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28760" y="447912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28240" y="4479120"/>
              <a:ext cx="711360" cy="769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18600" y="4479120"/>
              <a:ext cx="444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94560" y="4479120"/>
              <a:ext cx="71100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84920" y="447912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51000" y="2937240"/>
              <a:ext cx="88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95960" y="3488400"/>
              <a:ext cx="44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39200" y="5581440"/>
              <a:ext cx="79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17760" y="5030280"/>
              <a:ext cx="62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5960" y="3488400"/>
              <a:ext cx="0" cy="209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517760" y="2937240"/>
              <a:ext cx="0" cy="209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50120" y="3157920"/>
              <a:ext cx="400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3640" y="3157920"/>
              <a:ext cx="0" cy="165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83640" y="4809600"/>
              <a:ext cx="44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39960" y="4918680"/>
              <a:ext cx="35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50120" y="5581440"/>
              <a:ext cx="204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05920" y="5248800"/>
              <a:ext cx="124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51400" y="4809600"/>
              <a:ext cx="176400" cy="218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7840" y="2276640"/>
              <a:ext cx="71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9640" y="5030280"/>
              <a:ext cx="71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29000" y="2495160"/>
              <a:ext cx="71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29000" y="4699800"/>
              <a:ext cx="71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умм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, классификация, уравнения, структуры и примен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ый одноразрядный двоичный суммато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2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характеризующиеся наличием трёх входов, на которые подаются одноимённые разряды двух складываемых чисел и перенос из предыдущего (более младшего) разряда, и двумя выходами: на одном реализуется арифметическая сумма в данном разряде, а на другом — перенос в следующий (более старший разряд)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три вход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ем полного двоичного сумматора служат буквы S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его отражает таблица истин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5840" y="28440"/>
            <a:ext cx="240984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228600" y="304920"/>
            <a:ext cx="5486040" cy="6400440"/>
            <a:chOff x="228600" y="304920"/>
            <a:chExt cx="5486040" cy="6400440"/>
          </a:xfrm>
        </p:grpSpPr>
        <p:grpSp>
          <p:nvGrpSpPr>
            <p:cNvPr id="232" name=""/>
            <p:cNvGrpSpPr/>
            <p:nvPr/>
          </p:nvGrpSpPr>
          <p:grpSpPr>
            <a:xfrm>
              <a:off x="233640" y="309960"/>
              <a:ext cx="5474880" cy="6389640"/>
              <a:chOff x="233640" y="309960"/>
              <a:chExt cx="5474880" cy="638964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33640" y="309960"/>
                <a:ext cx="1212480" cy="672120"/>
                <a:chOff x="233640" y="309960"/>
                <a:chExt cx="1212480" cy="6721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54880" y="330840"/>
                  <a:ext cx="11696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№ </a:t>
                  </a:r>
                  <a:r>
                    <a:rPr b="0" lang="ru-RU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наб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33640" y="309960"/>
                  <a:ext cx="12124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446480" y="309960"/>
                <a:ext cx="850680" cy="672120"/>
                <a:chOff x="1446480" y="309960"/>
                <a:chExt cx="850680" cy="6721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467720" y="33084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446480" y="30996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297520" y="309960"/>
                <a:ext cx="850680" cy="672120"/>
                <a:chOff x="2297520" y="309960"/>
                <a:chExt cx="850680" cy="6721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318760" y="33084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297520" y="30996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48920" y="309960"/>
                <a:ext cx="850320" cy="672120"/>
                <a:chOff x="3148920" y="309960"/>
                <a:chExt cx="850320" cy="6721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170160" y="330840"/>
                  <a:ext cx="8074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48920" y="309960"/>
                  <a:ext cx="8503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3999600" y="309960"/>
                <a:ext cx="850680" cy="672120"/>
                <a:chOff x="3999600" y="309960"/>
                <a:chExt cx="850680" cy="6721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020840" y="33084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999600" y="30996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851000" y="309960"/>
                <a:ext cx="857520" cy="672120"/>
                <a:chOff x="4851000" y="309960"/>
                <a:chExt cx="857520" cy="6721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872240" y="330840"/>
                  <a:ext cx="8146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851000" y="309960"/>
                  <a:ext cx="8575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33640" y="1024560"/>
                <a:ext cx="1212480" cy="672480"/>
                <a:chOff x="233640" y="1024560"/>
                <a:chExt cx="1212480" cy="6724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54880" y="1045440"/>
                  <a:ext cx="11696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33640" y="1024560"/>
                  <a:ext cx="12124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446480" y="1024560"/>
                <a:ext cx="850680" cy="672480"/>
                <a:chOff x="1446480" y="1024560"/>
                <a:chExt cx="850680" cy="6724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467720" y="10454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446480" y="10245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297520" y="1024560"/>
                <a:ext cx="850680" cy="672480"/>
                <a:chOff x="2297520" y="1024560"/>
                <a:chExt cx="850680" cy="672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318760" y="10454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297520" y="10245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148920" y="1024560"/>
                <a:ext cx="850320" cy="672480"/>
                <a:chOff x="3148920" y="1024560"/>
                <a:chExt cx="850320" cy="672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170160" y="1045440"/>
                  <a:ext cx="8074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148920" y="1024560"/>
                  <a:ext cx="8503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3999600" y="1024560"/>
                <a:ext cx="850680" cy="672480"/>
                <a:chOff x="3999600" y="1024560"/>
                <a:chExt cx="850680" cy="672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4020840" y="10454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999600" y="10245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4851000" y="1024560"/>
                <a:ext cx="857520" cy="672480"/>
                <a:chOff x="4851000" y="1024560"/>
                <a:chExt cx="857520" cy="672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872240" y="1045440"/>
                  <a:ext cx="814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851000" y="1024560"/>
                  <a:ext cx="8575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33640" y="1739160"/>
                <a:ext cx="1212480" cy="672480"/>
                <a:chOff x="233640" y="1739160"/>
                <a:chExt cx="1212480" cy="672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54880" y="1760040"/>
                  <a:ext cx="11696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33640" y="1739160"/>
                  <a:ext cx="12124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1446480" y="1739160"/>
                <a:ext cx="850680" cy="672480"/>
                <a:chOff x="1446480" y="1739160"/>
                <a:chExt cx="850680" cy="672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467720" y="17600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446480" y="17391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2297520" y="1739160"/>
                <a:ext cx="850680" cy="672480"/>
                <a:chOff x="2297520" y="1739160"/>
                <a:chExt cx="850680" cy="672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318760" y="17600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297520" y="17391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3148920" y="1739160"/>
                <a:ext cx="850320" cy="672480"/>
                <a:chOff x="3148920" y="1739160"/>
                <a:chExt cx="850320" cy="672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170160" y="1760040"/>
                  <a:ext cx="8074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148920" y="1739160"/>
                  <a:ext cx="8503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3999600" y="1739160"/>
                <a:ext cx="850680" cy="672480"/>
                <a:chOff x="3999600" y="1739160"/>
                <a:chExt cx="850680" cy="6724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020840" y="17600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999600" y="17391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851000" y="1739160"/>
                <a:ext cx="857520" cy="672480"/>
                <a:chOff x="4851000" y="1739160"/>
                <a:chExt cx="857520" cy="67248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872240" y="1760040"/>
                  <a:ext cx="814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851000" y="1739160"/>
                  <a:ext cx="8575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33640" y="2454120"/>
                <a:ext cx="1212480" cy="672120"/>
                <a:chOff x="233640" y="2454120"/>
                <a:chExt cx="1212480" cy="672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4880" y="2474640"/>
                  <a:ext cx="116964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33640" y="2454120"/>
                  <a:ext cx="12124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446480" y="2454120"/>
                <a:ext cx="850680" cy="672120"/>
                <a:chOff x="1446480" y="2454120"/>
                <a:chExt cx="850680" cy="672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467720" y="2474640"/>
                  <a:ext cx="80784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446480" y="24541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2297520" y="2454120"/>
                <a:ext cx="850680" cy="672120"/>
                <a:chOff x="2297520" y="2454120"/>
                <a:chExt cx="850680" cy="672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2318760" y="2474640"/>
                  <a:ext cx="80784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297520" y="24541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148920" y="2454120"/>
                <a:ext cx="850320" cy="672120"/>
                <a:chOff x="3148920" y="2454120"/>
                <a:chExt cx="850320" cy="672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170160" y="2474640"/>
                  <a:ext cx="80748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148920" y="2454120"/>
                  <a:ext cx="8503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999600" y="2454120"/>
                <a:ext cx="850680" cy="672120"/>
                <a:chOff x="3999600" y="2454120"/>
                <a:chExt cx="850680" cy="672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020840" y="2474640"/>
                  <a:ext cx="80784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999600" y="24541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851000" y="2454120"/>
                <a:ext cx="857520" cy="672120"/>
                <a:chOff x="4851000" y="2454120"/>
                <a:chExt cx="857520" cy="672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872240" y="2474640"/>
                  <a:ext cx="81468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851000" y="2454120"/>
                  <a:ext cx="8575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33640" y="3168720"/>
                <a:ext cx="1212480" cy="672120"/>
                <a:chOff x="233640" y="3168720"/>
                <a:chExt cx="1212480" cy="6721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54880" y="3189600"/>
                  <a:ext cx="11696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33640" y="3168720"/>
                  <a:ext cx="12124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446480" y="3168720"/>
                <a:ext cx="850680" cy="672120"/>
                <a:chOff x="1446480" y="3168720"/>
                <a:chExt cx="850680" cy="672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467720" y="31896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446480" y="31687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297520" y="3168720"/>
                <a:ext cx="850680" cy="672120"/>
                <a:chOff x="2297520" y="3168720"/>
                <a:chExt cx="850680" cy="672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318760" y="31896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297520" y="31687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148920" y="3168720"/>
                <a:ext cx="850320" cy="672120"/>
                <a:chOff x="3148920" y="3168720"/>
                <a:chExt cx="850320" cy="672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170160" y="3189600"/>
                  <a:ext cx="8074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148920" y="3168720"/>
                  <a:ext cx="8503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3999600" y="3168720"/>
                <a:ext cx="850680" cy="672120"/>
                <a:chOff x="3999600" y="3168720"/>
                <a:chExt cx="850680" cy="672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020840" y="31896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999600" y="31687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4851000" y="3168720"/>
                <a:ext cx="857520" cy="672120"/>
                <a:chOff x="4851000" y="3168720"/>
                <a:chExt cx="857520" cy="6721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872240" y="3189600"/>
                  <a:ext cx="8146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851000" y="3168720"/>
                  <a:ext cx="8575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233640" y="3883320"/>
                <a:ext cx="1212480" cy="672120"/>
                <a:chOff x="233640" y="3883320"/>
                <a:chExt cx="1212480" cy="672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54880" y="3904200"/>
                  <a:ext cx="11696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33640" y="3883320"/>
                  <a:ext cx="12124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1446480" y="3883320"/>
                <a:ext cx="850680" cy="672120"/>
                <a:chOff x="1446480" y="3883320"/>
                <a:chExt cx="850680" cy="672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1467720" y="39042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446480" y="38833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2297520" y="3883320"/>
                <a:ext cx="850680" cy="672120"/>
                <a:chOff x="2297520" y="3883320"/>
                <a:chExt cx="850680" cy="6721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318760" y="39042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97520" y="38833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3148920" y="3883320"/>
                <a:ext cx="850320" cy="672120"/>
                <a:chOff x="3148920" y="3883320"/>
                <a:chExt cx="850320" cy="6721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3170160" y="3904200"/>
                  <a:ext cx="8074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148920" y="3883320"/>
                  <a:ext cx="8503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999600" y="3883320"/>
                <a:ext cx="850680" cy="672120"/>
                <a:chOff x="3999600" y="3883320"/>
                <a:chExt cx="850680" cy="6721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020840" y="39042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999600" y="38833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4851000" y="3883320"/>
                <a:ext cx="857520" cy="672120"/>
                <a:chOff x="4851000" y="3883320"/>
                <a:chExt cx="857520" cy="6721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4872240" y="3904200"/>
                  <a:ext cx="8146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851000" y="3883320"/>
                  <a:ext cx="8575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233640" y="4597920"/>
                <a:ext cx="1212480" cy="672120"/>
                <a:chOff x="233640" y="4597920"/>
                <a:chExt cx="1212480" cy="6721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54880" y="4618800"/>
                  <a:ext cx="11696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33640" y="4597920"/>
                  <a:ext cx="12124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1446480" y="4597920"/>
                <a:ext cx="850680" cy="672120"/>
                <a:chOff x="1446480" y="4597920"/>
                <a:chExt cx="850680" cy="6721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1467720" y="46188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446480" y="45979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2297520" y="4597920"/>
                <a:ext cx="850680" cy="672120"/>
                <a:chOff x="2297520" y="4597920"/>
                <a:chExt cx="850680" cy="672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2318760" y="46188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297520" y="45979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3148920" y="4597920"/>
                <a:ext cx="850320" cy="672120"/>
                <a:chOff x="3148920" y="4597920"/>
                <a:chExt cx="850320" cy="6721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170160" y="4618800"/>
                  <a:ext cx="8074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148920" y="4597920"/>
                  <a:ext cx="8503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3999600" y="4597920"/>
                <a:ext cx="850680" cy="672120"/>
                <a:chOff x="3999600" y="4597920"/>
                <a:chExt cx="850680" cy="672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020840" y="46188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999600" y="45979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4851000" y="4597920"/>
                <a:ext cx="857520" cy="672120"/>
                <a:chOff x="4851000" y="4597920"/>
                <a:chExt cx="857520" cy="672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872240" y="4618800"/>
                  <a:ext cx="8146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851000" y="4597920"/>
                  <a:ext cx="8575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33640" y="5312520"/>
                <a:ext cx="1212480" cy="672480"/>
                <a:chOff x="233640" y="5312520"/>
                <a:chExt cx="1212480" cy="6724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4880" y="5333400"/>
                  <a:ext cx="11696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3640" y="5312520"/>
                  <a:ext cx="12124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1446480" y="5312520"/>
                <a:ext cx="850680" cy="672480"/>
                <a:chOff x="1446480" y="5312520"/>
                <a:chExt cx="850680" cy="6724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467720" y="53334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446480" y="53125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2297520" y="5312520"/>
                <a:ext cx="850680" cy="672480"/>
                <a:chOff x="2297520" y="5312520"/>
                <a:chExt cx="850680" cy="6724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2318760" y="53334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297520" y="53125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3148920" y="5312520"/>
                <a:ext cx="850320" cy="672480"/>
                <a:chOff x="3148920" y="5312520"/>
                <a:chExt cx="850320" cy="6724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3170160" y="5333400"/>
                  <a:ext cx="8074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148920" y="5312520"/>
                  <a:ext cx="8503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999600" y="5312520"/>
                <a:ext cx="850680" cy="672480"/>
                <a:chOff x="3999600" y="5312520"/>
                <a:chExt cx="850680" cy="6724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020840" y="53334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999600" y="53125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4851000" y="5312520"/>
                <a:ext cx="857520" cy="672480"/>
                <a:chOff x="4851000" y="5312520"/>
                <a:chExt cx="857520" cy="6724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4872240" y="5333400"/>
                  <a:ext cx="814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851000" y="5312520"/>
                  <a:ext cx="8575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233640" y="6027120"/>
                <a:ext cx="1212480" cy="672480"/>
                <a:chOff x="233640" y="6027120"/>
                <a:chExt cx="1212480" cy="67248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54880" y="6048000"/>
                  <a:ext cx="11696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33640" y="6027120"/>
                  <a:ext cx="12124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446480" y="6027120"/>
                <a:ext cx="850680" cy="672480"/>
                <a:chOff x="1446480" y="6027120"/>
                <a:chExt cx="850680" cy="6724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467720" y="60480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446480" y="60271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297520" y="6027120"/>
                <a:ext cx="850680" cy="672480"/>
                <a:chOff x="2297520" y="6027120"/>
                <a:chExt cx="850680" cy="67248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318760" y="60480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297520" y="60271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148920" y="6027120"/>
                <a:ext cx="850320" cy="672480"/>
                <a:chOff x="3148920" y="6027120"/>
                <a:chExt cx="850320" cy="6724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170160" y="6048000"/>
                  <a:ext cx="8074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148920" y="6027120"/>
                  <a:ext cx="8503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3999600" y="6027120"/>
                <a:ext cx="850680" cy="672480"/>
                <a:chOff x="3999600" y="6027120"/>
                <a:chExt cx="850680" cy="6724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4020840" y="60480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999600" y="60271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4851000" y="6027120"/>
                <a:ext cx="857520" cy="672480"/>
                <a:chOff x="4851000" y="6027120"/>
                <a:chExt cx="857520" cy="67248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4872240" y="6048000"/>
                  <a:ext cx="814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851000" y="6027120"/>
                  <a:ext cx="8575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5" name=""/>
            <p:cNvSpPr/>
            <p:nvPr/>
          </p:nvSpPr>
          <p:spPr>
            <a:xfrm>
              <a:off x="228600" y="304920"/>
              <a:ext cx="5486040" cy="6400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42148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vorob4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26672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я, описывающие работу полного двоичного сумматора, представленные в совершенной дизъюнктивной нормальной форме (СДНФ), имеют ви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3856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f_6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1787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08000" y="4629240"/>
            <a:ext cx="8785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для переноса может быть минимизировано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 = ab + ap + b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необходимых преобразования получи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(a+b+p)(P+abp)  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63640" y="645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Х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27160" y="7452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27160" y="143208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27160" y="278928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36520" y="414504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36520" y="551808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36960" y="9360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00720" y="2924280"/>
            <a:ext cx="576000" cy="65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80000" y="292428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48360" y="292428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260280"/>
            <a:ext cx="11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00" y="1628640"/>
            <a:ext cx="11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440" y="2990880"/>
            <a:ext cx="7984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3336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170028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14172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82692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6920" y="2349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611280" y="1052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1280" y="10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836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8360" y="58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8360" y="44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836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4000" y="260280"/>
            <a:ext cx="0" cy="59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4000" y="6165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" y="4797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400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2997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9280" y="652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50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92360" y="260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79640" y="476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765000"/>
            <a:ext cx="7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9236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92360" y="198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47628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68360" y="76500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605040" y="549000"/>
            <a:ext cx="463896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3924000" y="590400"/>
            <a:ext cx="2052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7672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03640" y="3141720"/>
            <a:ext cx="14292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92360" y="472428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92360" y="6093000"/>
            <a:ext cx="48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219640" y="3573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56360" y="33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588000" y="3933720"/>
            <a:ext cx="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880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24720" y="35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67640" y="62064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740720" y="378936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ыражений (8) следует, что полный двоичный сумматор может быть реализован на двух полусумматорах и одном двухвходовом элементе И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720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vorob5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93432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араллельный 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разрядно (параллельно) суммируются разряды двоичного чи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5732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34320" cy="30099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09480" y="53341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жно сделать любой длинны, однако суммирование будет закончено тогда, когда истечет время распространения сигналов переноса через всю цепь. (пульсирующий перено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ледовательный 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57200" y="1905120"/>
            <a:ext cx="7848720" cy="4419360"/>
            <a:chOff x="457200" y="1905120"/>
            <a:chExt cx="7848720" cy="4419360"/>
          </a:xfrm>
        </p:grpSpPr>
        <p:sp>
          <p:nvSpPr>
            <p:cNvPr id="467" name=""/>
            <p:cNvSpPr/>
            <p:nvPr/>
          </p:nvSpPr>
          <p:spPr>
            <a:xfrm>
              <a:off x="1295280" y="1905120"/>
              <a:ext cx="274320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лагаемое 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95280" y="2666880"/>
              <a:ext cx="281952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лагаемое 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19320" y="4876920"/>
              <a:ext cx="28191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умм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05520" y="2819520"/>
              <a:ext cx="990360" cy="1371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81480" y="28195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29400" y="4495680"/>
              <a:ext cx="1219320" cy="1828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010280" y="449568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29400" y="5334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29400" y="4648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29400" y="571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62920" y="4724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523880" y="2285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1523880" y="30477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7200" y="24382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3520" y="32004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28195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7200" y="20574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14800" y="2819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4572000" y="2514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72000" y="2514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34120" y="2514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38480" y="213372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91320" y="2133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34120" y="4191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837720" y="4495680"/>
              <a:ext cx="449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38080" y="44956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1055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1600200" y="52574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9480" y="5410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9480" y="5867280"/>
              <a:ext cx="601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91320" y="41911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91320" y="48769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48720" y="5334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8305920" y="35053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095520" y="3505320"/>
              <a:ext cx="22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2286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2133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860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5228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1055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99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38280" y="52578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6095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ход су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количеству одновременно обрабатываемых разрядов складываемых чисел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числу входов и выходов одноразрядных двоичных сумматоров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количеству одновременно обрабатываемых разрядов складываемых чисел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способу организации межразрядных переносов параллельных сумматоров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способу представления и обработки складываемых чисел многоразрядных сумматоров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способу выполнения операции сложения и возможности сохранения результата сложени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араметры сумматоров - перечислит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Четверть сумматор таблица истинности, обозначение, логическое выражен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Базис И-НЕ, ИЛИ-НЕ, выражения и схемы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лусумматор таблица истинности, обозначение, логическое выражен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лный одноразрядный двоичный сумматор таблица истинности, обозначение, логическое выражен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Базис И, ИЛИ схемы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араллельный сумматор обозначение, пояснения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следовательный сумматор обозначение, пояснен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ой узел АЛУ вычислительной машины для поразрядного суммирования двоичных чис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ледовательное соединение одноразрядных двоичных сумматоров, каждый из которых осуществляет сложение в одном разря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системы счисл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Arial"/>
                <a:ea typeface="Times New Roman"/>
              </a:rPr>
              <a:t>двоичные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Arial"/>
                <a:ea typeface="Times New Roman"/>
              </a:rPr>
              <a:t>двоично-десятичные (в общем случае двоично-кодированные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Arial"/>
                <a:ea typeface="Times New Roman"/>
              </a:rPr>
              <a:t>десятичные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Arial"/>
                <a:ea typeface="Times New Roman"/>
              </a:rPr>
              <a:t>прочие (например, амплитудные).</a:t>
            </a:r>
            <a:r>
              <a:rPr b="0" lang="en-US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одновременно обрабатываемых разрядов складываемых чисе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одноразрядны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разрядн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входов и выходов одноразрядных двоичных сумматоро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820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четвертьсумма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полусумма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полные одноразрядные двоичные сумма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организации межразрядных переносов параллельные суммато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лят на сумматор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32763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202060"/>
                </a:solidFill>
                <a:latin typeface="Verdana"/>
                <a:ea typeface="Times New Roman"/>
              </a:rPr>
              <a:t>с последовательным переносом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202060"/>
                </a:solidFill>
                <a:latin typeface="Verdana"/>
                <a:ea typeface="Times New Roman"/>
              </a:rPr>
              <a:t>с параллельным переносом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202060"/>
                </a:solidFill>
                <a:latin typeface="Verdana"/>
                <a:ea typeface="Times New Roman"/>
              </a:rPr>
              <a:t>с групповой структурой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202060"/>
                </a:solidFill>
                <a:latin typeface="Times New Roman"/>
              </a:rPr>
              <a:t>со</a:t>
            </a:r>
            <a:r>
              <a:rPr b="0" lang="en-US" sz="3600" spc="-1" strike="noStrike">
                <a:solidFill>
                  <a:srgbClr val="202060"/>
                </a:solidFill>
                <a:latin typeface="Verdana"/>
                <a:ea typeface="Times New Roman"/>
              </a:rPr>
              <a:t> специальной организацией цепей перенос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представления и обработки складываемых чисе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разрядные сумматоры подразделяются н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20206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последовательные, в которых обработка чисел ведётся поочерёдно, разряд за разрядом на одном и том же оборудовани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параллельные, в которых слагаемые складываются одновременно по всем разрядам, и для каждого разряда имеется своё оборудован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выполнения операции сложения и возможности сохранения результата слож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комбинационный, выполняющий микрооперацию “S = A плюс B”, в котором результат выдаётся по мере его образования (это комбинационная схема в общепринятом смысле слова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сумматор с сохранением результата “S = A плюс B”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Verdana"/>
              </a:rPr>
              <a:t>н</a:t>
            </a: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акапливающий, выполняющий микрооперацию “S = S плюс B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8:44:51Z</dcterms:created>
  <dc:creator>zaslavskOV</dc:creator>
  <dc:description/>
  <dc:language>en-US</dc:language>
  <cp:lastModifiedBy>studtest</cp:lastModifiedBy>
  <dcterms:modified xsi:type="dcterms:W3CDTF">2012-05-21T06:25:45Z</dcterms:modified>
  <cp:revision>40</cp:revision>
  <dc:subject/>
  <dc:title>Сумматоры</dc:title>
</cp:coreProperties>
</file>