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6C3D-1CED-46BA-A084-2EA078814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2A81-72D4-4649-86D0-25741C514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B5AB-74EF-4A42-A821-721B688C3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8DCB-7BEB-4C3F-8771-9E9F6CED0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2B18-CC3F-4A8F-8E0C-346FF57D8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798F-96AB-491E-9207-3ECA548B9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5696-5C11-49C2-99CF-8447146ED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092F-8B76-48D8-8125-3D6F139A7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DD24-0C51-4854-933F-BA36A29FE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E2C5-7490-4C22-B30D-E51AB1AF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CEBD-EC75-4CD5-BB93-889A82CB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309B-7F03-4DB2-A548-6DE6CDB69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D3BB9-7076-4D12-991B-DAC103844B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0"/>
            <a:ext cx="7020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ределение регист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менение регистр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новные характеристики регистр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ункции установки регистр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ункции регистров, связанные с хранение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ункции регистров, связанные с умножением и деление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ункции регистров, связанные с логик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гистры с последовательным приемом и выдачей информ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гистры сдвиг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гистры с параллельным приемом и последовательной выдачей информ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гистры с параллельным приемом и параллельной выдачей информ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гистры хран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гистры с последовательным приемом и параллельной выдачей информ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ниверсальный регист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льцевые счетч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020000" y="620640"/>
            <a:ext cx="194472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1 вариан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   4 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2 вариан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   5    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3 вариан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   6     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4 вариан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    7     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5 вариан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   8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ейшими параметрами сумматоров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являются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2060"/>
                </a:solidFill>
                <a:latin typeface="Times New Roman"/>
              </a:rPr>
              <a:t>ра</a:t>
            </a:r>
            <a:r>
              <a:rPr b="0" lang="ru-RU" sz="3200" spc="-1" strike="noStrike">
                <a:solidFill>
                  <a:srgbClr val="202060"/>
                </a:solidFill>
                <a:latin typeface="Verdana"/>
                <a:ea typeface="Times New Roman"/>
              </a:rPr>
              <a:t>зрядность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2060"/>
                </a:solidFill>
                <a:latin typeface="Verdana"/>
                <a:ea typeface="Times New Roman"/>
              </a:rPr>
              <a:t>статические параметры: Uвх, Uвых, Iвх и так далее, то есть обычные параметры интегральных схем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2060"/>
                </a:solidFill>
                <a:latin typeface="Verdana"/>
                <a:ea typeface="Times New Roman"/>
              </a:rPr>
              <a:t>динамические параметры</a:t>
            </a:r>
            <a:r>
              <a:rPr b="0" lang="ru-RU" sz="3200" spc="-1" strike="noStrike">
                <a:solidFill>
                  <a:srgbClr val="202060"/>
                </a:solidFill>
                <a:latin typeface="Verdana"/>
              </a:rPr>
              <a:t> – </a:t>
            </a:r>
            <a:r>
              <a:rPr b="0" lang="ru-RU" sz="3200" spc="-1" strike="noStrike">
                <a:solidFill>
                  <a:srgbClr val="202060"/>
                </a:solidFill>
                <a:latin typeface="Verdana"/>
                <a:ea typeface="Times New Roman"/>
              </a:rPr>
              <a:t>характеризуются задержками распространения сигна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верть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матор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3640" y="1981080"/>
            <a:ext cx="81342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2060"/>
                </a:solidFill>
                <a:latin typeface="Times New Roman"/>
                <a:ea typeface="Times New Roman"/>
              </a:rPr>
              <a:t>характеризующиеся наличием двух входов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двух слагаемых )</a:t>
            </a:r>
            <a:r>
              <a:rPr b="0" lang="en-US" sz="2800" spc="-1" strike="noStrike">
                <a:solidFill>
                  <a:srgbClr val="202060"/>
                </a:solidFill>
                <a:latin typeface="Times New Roman"/>
                <a:ea typeface="Times New Roman"/>
              </a:rPr>
              <a:t>, на которые подаются два одноразрядных числа, и одним выходом, на котором реализуется их арифметическая сумма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2060"/>
                </a:solidFill>
                <a:latin typeface="Times New Roman"/>
                <a:ea typeface="Times New Roman"/>
              </a:rPr>
              <a:t>(элементы “сумма по модулю 2”; элементы “исключающее ИЛИ”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в два раза меньше выходов и в два раза меньше строк в таблице истинности по сравнению с полным двоичным одноразрядным сумматоро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у его отражает таблица истинности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130320" y="171360"/>
            <a:ext cx="2742840" cy="3209760"/>
            <a:chOff x="130320" y="171360"/>
            <a:chExt cx="2742840" cy="3209760"/>
          </a:xfrm>
        </p:grpSpPr>
        <p:grpSp>
          <p:nvGrpSpPr>
            <p:cNvPr id="65" name=""/>
            <p:cNvGrpSpPr/>
            <p:nvPr/>
          </p:nvGrpSpPr>
          <p:grpSpPr>
            <a:xfrm>
              <a:off x="135720" y="176040"/>
              <a:ext cx="2730240" cy="3200400"/>
              <a:chOff x="135720" y="176040"/>
              <a:chExt cx="2730240" cy="3200400"/>
            </a:xfrm>
          </p:grpSpPr>
          <p:grpSp>
            <p:nvGrpSpPr>
              <p:cNvPr id="66" name=""/>
              <p:cNvGrpSpPr/>
              <p:nvPr/>
            </p:nvGrpSpPr>
            <p:grpSpPr>
              <a:xfrm>
                <a:off x="135720" y="176040"/>
                <a:ext cx="907560" cy="609480"/>
                <a:chOff x="135720" y="176040"/>
                <a:chExt cx="907560" cy="60948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158400" y="195120"/>
                  <a:ext cx="861840" cy="57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135720" y="176040"/>
                  <a:ext cx="90756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" name=""/>
              <p:cNvGrpSpPr/>
              <p:nvPr/>
            </p:nvGrpSpPr>
            <p:grpSpPr>
              <a:xfrm>
                <a:off x="1043640" y="176040"/>
                <a:ext cx="907200" cy="609480"/>
                <a:chOff x="1043640" y="176040"/>
                <a:chExt cx="907200" cy="60948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1066320" y="195120"/>
                  <a:ext cx="861480" cy="57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1043640" y="176040"/>
                  <a:ext cx="90720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1951200" y="176040"/>
                <a:ext cx="914760" cy="609480"/>
                <a:chOff x="1951200" y="176040"/>
                <a:chExt cx="914760" cy="60948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1973880" y="195120"/>
                  <a:ext cx="869400" cy="57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1951200" y="176040"/>
                  <a:ext cx="91476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135720" y="823680"/>
                <a:ext cx="907560" cy="609840"/>
                <a:chOff x="135720" y="823680"/>
                <a:chExt cx="907560" cy="60984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158400" y="842760"/>
                  <a:ext cx="861840" cy="571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135720" y="823680"/>
                  <a:ext cx="90756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1043640" y="823680"/>
                <a:ext cx="907200" cy="609840"/>
                <a:chOff x="1043640" y="823680"/>
                <a:chExt cx="907200" cy="60984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1066320" y="842760"/>
                  <a:ext cx="861480" cy="571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1043640" y="823680"/>
                  <a:ext cx="90720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1951200" y="823680"/>
                <a:ext cx="914760" cy="609840"/>
                <a:chOff x="1951200" y="823680"/>
                <a:chExt cx="914760" cy="60984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1973880" y="842760"/>
                  <a:ext cx="869400" cy="571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1951200" y="823680"/>
                  <a:ext cx="91476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135720" y="1471320"/>
                <a:ext cx="907560" cy="609840"/>
                <a:chOff x="135720" y="1471320"/>
                <a:chExt cx="907560" cy="60984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158400" y="1490400"/>
                  <a:ext cx="861840" cy="571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135720" y="1471320"/>
                  <a:ext cx="90756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1043640" y="1471320"/>
                <a:ext cx="907200" cy="609840"/>
                <a:chOff x="1043640" y="1471320"/>
                <a:chExt cx="907200" cy="60984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1066320" y="1490400"/>
                  <a:ext cx="861480" cy="571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1043640" y="1471320"/>
                  <a:ext cx="90720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1951200" y="1471320"/>
                <a:ext cx="914760" cy="609840"/>
                <a:chOff x="1951200" y="1471320"/>
                <a:chExt cx="914760" cy="60984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1973880" y="1490400"/>
                  <a:ext cx="869400" cy="571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1951200" y="1471320"/>
                  <a:ext cx="91476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135720" y="2119320"/>
                <a:ext cx="907560" cy="609480"/>
                <a:chOff x="135720" y="2119320"/>
                <a:chExt cx="907560" cy="60948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158400" y="2138040"/>
                  <a:ext cx="861840" cy="571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135720" y="2119320"/>
                  <a:ext cx="90756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1043640" y="2119320"/>
                <a:ext cx="907200" cy="609480"/>
                <a:chOff x="1043640" y="2119320"/>
                <a:chExt cx="907200" cy="60948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1066320" y="2138040"/>
                  <a:ext cx="861480" cy="571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1043640" y="2119320"/>
                  <a:ext cx="90720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1951200" y="2119320"/>
                <a:ext cx="914760" cy="609480"/>
                <a:chOff x="1951200" y="2119320"/>
                <a:chExt cx="914760" cy="60948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1973880" y="2138040"/>
                  <a:ext cx="869400" cy="571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1951200" y="2119320"/>
                  <a:ext cx="91476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135720" y="2766960"/>
                <a:ext cx="907560" cy="609480"/>
                <a:chOff x="135720" y="2766960"/>
                <a:chExt cx="907560" cy="60948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158400" y="2786040"/>
                  <a:ext cx="861840" cy="57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135720" y="2766960"/>
                  <a:ext cx="90756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" name=""/>
              <p:cNvGrpSpPr/>
              <p:nvPr/>
            </p:nvGrpSpPr>
            <p:grpSpPr>
              <a:xfrm>
                <a:off x="1043640" y="2766960"/>
                <a:ext cx="907200" cy="609480"/>
                <a:chOff x="1043640" y="2766960"/>
                <a:chExt cx="907200" cy="60948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1066320" y="2786040"/>
                  <a:ext cx="861480" cy="57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1043640" y="2766960"/>
                  <a:ext cx="90720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1951200" y="2766960"/>
                <a:ext cx="914760" cy="609480"/>
                <a:chOff x="1951200" y="2766960"/>
                <a:chExt cx="914760" cy="60948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1973880" y="2786040"/>
                  <a:ext cx="869400" cy="57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1951200" y="2766960"/>
                  <a:ext cx="91476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1" name=""/>
            <p:cNvSpPr/>
            <p:nvPr/>
          </p:nvSpPr>
          <p:spPr>
            <a:xfrm>
              <a:off x="130320" y="171360"/>
              <a:ext cx="2742840" cy="32097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366228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f_1" descr=""/>
          <p:cNvPicPr/>
          <p:nvPr/>
        </p:nvPicPr>
        <p:blipFill>
          <a:blip r:embed="rId1"/>
          <a:stretch/>
        </p:blipFill>
        <p:spPr>
          <a:xfrm>
            <a:off x="3048120" y="990720"/>
            <a:ext cx="5790960" cy="6379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971800" y="14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vorob1" descr=""/>
          <p:cNvPicPr/>
          <p:nvPr/>
        </p:nvPicPr>
        <p:blipFill>
          <a:blip r:embed="rId2"/>
          <a:stretch/>
        </p:blipFill>
        <p:spPr>
          <a:xfrm>
            <a:off x="2743200" y="3559320"/>
            <a:ext cx="6400800" cy="24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09480" y="228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уем четвертьсумматор в базисах И-НЕ, ИЛИ-НЕ и с использованием только одного инвертора, для чего преобразуем уравнени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48616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f_2" descr=""/>
          <p:cNvPicPr/>
          <p:nvPr/>
        </p:nvPicPr>
        <p:blipFill>
          <a:blip r:embed="rId1"/>
          <a:stretch/>
        </p:blipFill>
        <p:spPr>
          <a:xfrm>
            <a:off x="179280" y="2322360"/>
            <a:ext cx="8686800" cy="11509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68128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f_3" descr=""/>
          <p:cNvPicPr/>
          <p:nvPr/>
        </p:nvPicPr>
        <p:blipFill>
          <a:blip r:embed="rId2"/>
          <a:stretch/>
        </p:blipFill>
        <p:spPr>
          <a:xfrm>
            <a:off x="181080" y="3730680"/>
            <a:ext cx="8854920" cy="13604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37636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f_4" descr=""/>
          <p:cNvPicPr/>
          <p:nvPr/>
        </p:nvPicPr>
        <p:blipFill>
          <a:blip r:embed="rId3"/>
          <a:stretch/>
        </p:blipFill>
        <p:spPr>
          <a:xfrm>
            <a:off x="214200" y="5203800"/>
            <a:ext cx="869796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СХЕ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ы, полученные по уравнениям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73384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vorob2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871236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сумматор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2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2060"/>
                </a:solidFill>
                <a:latin typeface="Verdana"/>
                <a:ea typeface="Times New Roman"/>
              </a:rPr>
              <a:t>характеризующиеся наличием двух входов, на которые подаются одноимённые разряды двух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гаемых</a:t>
            </a:r>
            <a:r>
              <a:rPr b="0" lang="ru-RU" sz="2800" spc="-1" strike="noStrike">
                <a:solidFill>
                  <a:srgbClr val="202060"/>
                </a:solidFill>
                <a:latin typeface="Verdana"/>
                <a:ea typeface="Times New Roman"/>
              </a:rPr>
              <a:t>, и двух выходов: на одном реализуется арифметическая сумма в данном разряде, а на другом — перенос в следующий (более старший разряд)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значением полусумматора служат буквы HS (half sum — полусумма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у его отражает таблица истинности, а соответствующие уравнения имеют вид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66688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103320" y="85680"/>
            <a:ext cx="3579480" cy="3309480"/>
            <a:chOff x="103320" y="85680"/>
            <a:chExt cx="3579480" cy="3309480"/>
          </a:xfrm>
        </p:grpSpPr>
        <p:grpSp>
          <p:nvGrpSpPr>
            <p:cNvPr id="132" name=""/>
            <p:cNvGrpSpPr/>
            <p:nvPr/>
          </p:nvGrpSpPr>
          <p:grpSpPr>
            <a:xfrm>
              <a:off x="108720" y="90360"/>
              <a:ext cx="3567960" cy="3299400"/>
              <a:chOff x="108720" y="90360"/>
              <a:chExt cx="3567960" cy="3299400"/>
            </a:xfrm>
          </p:grpSpPr>
          <p:grpSp>
            <p:nvGrpSpPr>
              <p:cNvPr id="133" name=""/>
              <p:cNvGrpSpPr/>
              <p:nvPr/>
            </p:nvGrpSpPr>
            <p:grpSpPr>
              <a:xfrm>
                <a:off x="108720" y="90360"/>
                <a:ext cx="889920" cy="627840"/>
                <a:chOff x="108720" y="90360"/>
                <a:chExt cx="889920" cy="62784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131040" y="109800"/>
                  <a:ext cx="844920" cy="58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108720" y="90360"/>
                  <a:ext cx="889920" cy="627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999000" y="90360"/>
                <a:ext cx="889560" cy="627840"/>
                <a:chOff x="999000" y="90360"/>
                <a:chExt cx="889560" cy="62784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1021320" y="109800"/>
                  <a:ext cx="844560" cy="58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999000" y="90360"/>
                  <a:ext cx="889560" cy="627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1888920" y="90360"/>
                <a:ext cx="889920" cy="627840"/>
                <a:chOff x="1888920" y="90360"/>
                <a:chExt cx="889920" cy="62784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1911240" y="109800"/>
                  <a:ext cx="844920" cy="58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P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888920" y="90360"/>
                  <a:ext cx="889920" cy="627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2779560" y="90360"/>
                <a:ext cx="897120" cy="627840"/>
                <a:chOff x="2779560" y="90360"/>
                <a:chExt cx="897120" cy="62784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2801880" y="109800"/>
                  <a:ext cx="852120" cy="58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2779560" y="90360"/>
                  <a:ext cx="897120" cy="627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108720" y="758160"/>
                <a:ext cx="889920" cy="628200"/>
                <a:chOff x="108720" y="758160"/>
                <a:chExt cx="889920" cy="62820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131040" y="777600"/>
                  <a:ext cx="844920" cy="58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08720" y="758160"/>
                  <a:ext cx="889920" cy="628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999000" y="758160"/>
                <a:ext cx="889560" cy="628200"/>
                <a:chOff x="999000" y="758160"/>
                <a:chExt cx="889560" cy="62820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1021320" y="777600"/>
                  <a:ext cx="844560" cy="58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999000" y="758160"/>
                  <a:ext cx="889560" cy="628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1888920" y="758160"/>
                <a:ext cx="889920" cy="628200"/>
                <a:chOff x="1888920" y="758160"/>
                <a:chExt cx="889920" cy="62820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1911240" y="777600"/>
                  <a:ext cx="844920" cy="58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1888920" y="758160"/>
                  <a:ext cx="889920" cy="628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2779560" y="758160"/>
                <a:ext cx="897120" cy="628200"/>
                <a:chOff x="2779560" y="758160"/>
                <a:chExt cx="897120" cy="62820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2801880" y="777600"/>
                  <a:ext cx="852120" cy="58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779560" y="758160"/>
                  <a:ext cx="897120" cy="628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108720" y="1425960"/>
                <a:ext cx="889920" cy="628200"/>
                <a:chOff x="108720" y="1425960"/>
                <a:chExt cx="889920" cy="62820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131040" y="1445400"/>
                  <a:ext cx="844920" cy="58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108720" y="1425960"/>
                  <a:ext cx="889920" cy="628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999000" y="1425960"/>
                <a:ext cx="889560" cy="628200"/>
                <a:chOff x="999000" y="1425960"/>
                <a:chExt cx="889560" cy="62820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1021320" y="1445400"/>
                  <a:ext cx="844560" cy="58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999000" y="1425960"/>
                  <a:ext cx="889560" cy="628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1888920" y="1425960"/>
                <a:ext cx="889920" cy="628200"/>
                <a:chOff x="1888920" y="1425960"/>
                <a:chExt cx="889920" cy="62820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1911240" y="1445400"/>
                  <a:ext cx="844920" cy="58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1888920" y="1425960"/>
                  <a:ext cx="889920" cy="628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2779560" y="1425960"/>
                <a:ext cx="897120" cy="628200"/>
                <a:chOff x="2779560" y="1425960"/>
                <a:chExt cx="897120" cy="62820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2801880" y="1445400"/>
                  <a:ext cx="852120" cy="58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2779560" y="1425960"/>
                  <a:ext cx="897120" cy="628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108720" y="2094120"/>
                <a:ext cx="889920" cy="627840"/>
                <a:chOff x="108720" y="2094120"/>
                <a:chExt cx="889920" cy="6278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131040" y="2113200"/>
                  <a:ext cx="844920" cy="58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108720" y="2094120"/>
                  <a:ext cx="889920" cy="627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999000" y="2094120"/>
                <a:ext cx="889560" cy="627840"/>
                <a:chOff x="999000" y="2094120"/>
                <a:chExt cx="889560" cy="6278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1021320" y="2113200"/>
                  <a:ext cx="844560" cy="58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999000" y="2094120"/>
                  <a:ext cx="889560" cy="627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1888920" y="2094120"/>
                <a:ext cx="889920" cy="627840"/>
                <a:chOff x="1888920" y="2094120"/>
                <a:chExt cx="889920" cy="6278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1911240" y="2113200"/>
                  <a:ext cx="844920" cy="58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1888920" y="2094120"/>
                  <a:ext cx="889920" cy="627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2779560" y="2094120"/>
                <a:ext cx="897120" cy="627840"/>
                <a:chOff x="2779560" y="2094120"/>
                <a:chExt cx="897120" cy="62784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2801880" y="2113200"/>
                  <a:ext cx="852120" cy="58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2779560" y="2094120"/>
                  <a:ext cx="897120" cy="627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108720" y="2761920"/>
                <a:ext cx="889920" cy="627840"/>
                <a:chOff x="108720" y="2761920"/>
                <a:chExt cx="889920" cy="62784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131040" y="2781360"/>
                  <a:ext cx="844920" cy="58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108720" y="2761920"/>
                  <a:ext cx="889920" cy="627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999000" y="2761920"/>
                <a:ext cx="889560" cy="627840"/>
                <a:chOff x="999000" y="2761920"/>
                <a:chExt cx="889560" cy="62784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1021320" y="2781360"/>
                  <a:ext cx="844560" cy="58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999000" y="2761920"/>
                  <a:ext cx="889560" cy="627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1888920" y="2761920"/>
                <a:ext cx="889920" cy="627840"/>
                <a:chOff x="1888920" y="2761920"/>
                <a:chExt cx="889920" cy="62784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1911240" y="2781360"/>
                  <a:ext cx="844920" cy="58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1888920" y="2761920"/>
                  <a:ext cx="889920" cy="627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2779560" y="2761920"/>
                <a:ext cx="897120" cy="627840"/>
                <a:chOff x="2779560" y="2761920"/>
                <a:chExt cx="897120" cy="62784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2801880" y="2781360"/>
                  <a:ext cx="852120" cy="58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2779560" y="2761920"/>
                  <a:ext cx="897120" cy="627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3" name=""/>
            <p:cNvSpPr/>
            <p:nvPr/>
          </p:nvSpPr>
          <p:spPr>
            <a:xfrm>
              <a:off x="103320" y="85680"/>
              <a:ext cx="3579480" cy="33094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60504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f_5" descr=""/>
          <p:cNvPicPr/>
          <p:nvPr/>
        </p:nvPicPr>
        <p:blipFill>
          <a:blip r:embed="rId1"/>
          <a:stretch/>
        </p:blipFill>
        <p:spPr>
          <a:xfrm>
            <a:off x="3848040" y="227160"/>
            <a:ext cx="5168880" cy="13744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3924360" y="1989000"/>
            <a:ext cx="46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S=(ab)(ab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16360" y="2060640"/>
            <a:ext cx="719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СХЕ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539640" y="2276640"/>
            <a:ext cx="7200720" cy="3744000"/>
            <a:chOff x="539640" y="2276640"/>
            <a:chExt cx="7200720" cy="3744000"/>
          </a:xfrm>
        </p:grpSpPr>
        <p:sp>
          <p:nvSpPr>
            <p:cNvPr id="203" name=""/>
            <p:cNvSpPr/>
            <p:nvPr/>
          </p:nvSpPr>
          <p:spPr>
            <a:xfrm>
              <a:off x="2139120" y="2606760"/>
              <a:ext cx="711000" cy="1541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228760" y="2606760"/>
              <a:ext cx="44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139120" y="4479120"/>
              <a:ext cx="711000" cy="1541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228760" y="4479120"/>
              <a:ext cx="44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828240" y="4479120"/>
              <a:ext cx="711360" cy="7696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918600" y="4479120"/>
              <a:ext cx="444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894560" y="4479120"/>
              <a:ext cx="711000" cy="1541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984920" y="4479120"/>
              <a:ext cx="44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251000" y="2937240"/>
              <a:ext cx="887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695960" y="3488400"/>
              <a:ext cx="442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339200" y="5581440"/>
              <a:ext cx="799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517760" y="5030280"/>
              <a:ext cx="621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695960" y="3488400"/>
              <a:ext cx="0" cy="2093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1517760" y="2937240"/>
              <a:ext cx="0" cy="2093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50120" y="3157920"/>
              <a:ext cx="4000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383640" y="3157920"/>
              <a:ext cx="0" cy="1651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83640" y="4809600"/>
              <a:ext cx="444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539960" y="4918680"/>
              <a:ext cx="354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850120" y="5581440"/>
              <a:ext cx="2044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05920" y="5248800"/>
              <a:ext cx="1244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451400" y="4809600"/>
              <a:ext cx="176400" cy="218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27840" y="2276640"/>
              <a:ext cx="711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39640" y="5030280"/>
              <a:ext cx="71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29000" y="2495160"/>
              <a:ext cx="71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029000" y="4699800"/>
              <a:ext cx="71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Суммато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я, классификация, уравнения, структуры и применени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ый одноразрядный двоичный сумматор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2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2060"/>
                </a:solidFill>
                <a:latin typeface="Verdana"/>
                <a:ea typeface="Times New Roman"/>
              </a:rPr>
              <a:t>характеризующиеся наличием трёх входов, на которые подаются одноимённые разряды двух складываемых чисел и перенос из предыдущего (более младшего) разряда, и двумя выходами: на одном реализуется арифметическая сумма в данном разряде, а на другом — перенос в следующий (более старший разряд)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три входа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значением полного двоичного сумматора служат буквы S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у его отражает таблица истинност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5840" y="28440"/>
            <a:ext cx="2409840" cy="19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228600" y="304920"/>
            <a:ext cx="5486040" cy="6400440"/>
            <a:chOff x="228600" y="304920"/>
            <a:chExt cx="5486040" cy="6400440"/>
          </a:xfrm>
        </p:grpSpPr>
        <p:grpSp>
          <p:nvGrpSpPr>
            <p:cNvPr id="232" name=""/>
            <p:cNvGrpSpPr/>
            <p:nvPr/>
          </p:nvGrpSpPr>
          <p:grpSpPr>
            <a:xfrm>
              <a:off x="233640" y="309960"/>
              <a:ext cx="5474880" cy="6389640"/>
              <a:chOff x="233640" y="309960"/>
              <a:chExt cx="5474880" cy="6389640"/>
            </a:xfrm>
          </p:grpSpPr>
          <p:grpSp>
            <p:nvGrpSpPr>
              <p:cNvPr id="233" name=""/>
              <p:cNvGrpSpPr/>
              <p:nvPr/>
            </p:nvGrpSpPr>
            <p:grpSpPr>
              <a:xfrm>
                <a:off x="233640" y="309960"/>
                <a:ext cx="1212480" cy="672120"/>
                <a:chOff x="233640" y="309960"/>
                <a:chExt cx="1212480" cy="67212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254880" y="330840"/>
                  <a:ext cx="1169640" cy="63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№ </a:t>
                  </a:r>
                  <a:r>
                    <a:rPr b="0" lang="ru-RU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наб.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233640" y="309960"/>
                  <a:ext cx="1212480" cy="67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1446480" y="309960"/>
                <a:ext cx="850680" cy="672120"/>
                <a:chOff x="1446480" y="309960"/>
                <a:chExt cx="850680" cy="67212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1467720" y="330840"/>
                  <a:ext cx="807840" cy="63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1446480" y="309960"/>
                  <a:ext cx="850680" cy="67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2297520" y="309960"/>
                <a:ext cx="850680" cy="672120"/>
                <a:chOff x="2297520" y="309960"/>
                <a:chExt cx="850680" cy="67212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2318760" y="330840"/>
                  <a:ext cx="807840" cy="63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2297520" y="309960"/>
                  <a:ext cx="850680" cy="67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3148920" y="309960"/>
                <a:ext cx="850320" cy="672120"/>
                <a:chOff x="3148920" y="309960"/>
                <a:chExt cx="850320" cy="67212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3170160" y="330840"/>
                  <a:ext cx="807480" cy="63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p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148920" y="309960"/>
                  <a:ext cx="850320" cy="67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3999600" y="309960"/>
                <a:ext cx="850680" cy="672120"/>
                <a:chOff x="3999600" y="309960"/>
                <a:chExt cx="850680" cy="67212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4020840" y="330840"/>
                  <a:ext cx="807840" cy="63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P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3999600" y="309960"/>
                  <a:ext cx="850680" cy="67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4851000" y="309960"/>
                <a:ext cx="857520" cy="672120"/>
                <a:chOff x="4851000" y="309960"/>
                <a:chExt cx="857520" cy="67212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4872240" y="330840"/>
                  <a:ext cx="814680" cy="63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4851000" y="309960"/>
                  <a:ext cx="857520" cy="67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233640" y="1024560"/>
                <a:ext cx="1212480" cy="672480"/>
                <a:chOff x="233640" y="1024560"/>
                <a:chExt cx="1212480" cy="67248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254880" y="1045440"/>
                  <a:ext cx="116964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233640" y="1024560"/>
                  <a:ext cx="1212480" cy="67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1446480" y="1024560"/>
                <a:ext cx="850680" cy="672480"/>
                <a:chOff x="1446480" y="1024560"/>
                <a:chExt cx="850680" cy="67248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1467720" y="1045440"/>
                  <a:ext cx="80784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1446480" y="1024560"/>
                  <a:ext cx="850680" cy="67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2297520" y="1024560"/>
                <a:ext cx="850680" cy="672480"/>
                <a:chOff x="2297520" y="1024560"/>
                <a:chExt cx="850680" cy="672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2318760" y="1045440"/>
                  <a:ext cx="80784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297520" y="1024560"/>
                  <a:ext cx="850680" cy="67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3148920" y="1024560"/>
                <a:ext cx="850320" cy="672480"/>
                <a:chOff x="3148920" y="1024560"/>
                <a:chExt cx="850320" cy="67248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3170160" y="1045440"/>
                  <a:ext cx="80748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3148920" y="1024560"/>
                  <a:ext cx="850320" cy="67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3999600" y="1024560"/>
                <a:ext cx="850680" cy="672480"/>
                <a:chOff x="3999600" y="1024560"/>
                <a:chExt cx="850680" cy="67248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4020840" y="1045440"/>
                  <a:ext cx="80784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3999600" y="1024560"/>
                  <a:ext cx="850680" cy="67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4851000" y="1024560"/>
                <a:ext cx="857520" cy="672480"/>
                <a:chOff x="4851000" y="1024560"/>
                <a:chExt cx="857520" cy="67248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4872240" y="1045440"/>
                  <a:ext cx="81468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4851000" y="1024560"/>
                  <a:ext cx="857520" cy="67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233640" y="1739160"/>
                <a:ext cx="1212480" cy="672480"/>
                <a:chOff x="233640" y="1739160"/>
                <a:chExt cx="1212480" cy="67248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254880" y="1760040"/>
                  <a:ext cx="116964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233640" y="1739160"/>
                  <a:ext cx="1212480" cy="67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1446480" y="1739160"/>
                <a:ext cx="850680" cy="672480"/>
                <a:chOff x="1446480" y="1739160"/>
                <a:chExt cx="850680" cy="67248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1467720" y="1760040"/>
                  <a:ext cx="80784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1446480" y="1739160"/>
                  <a:ext cx="850680" cy="67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2297520" y="1739160"/>
                <a:ext cx="850680" cy="672480"/>
                <a:chOff x="2297520" y="1739160"/>
                <a:chExt cx="850680" cy="67248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2318760" y="1760040"/>
                  <a:ext cx="80784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2297520" y="1739160"/>
                  <a:ext cx="850680" cy="67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3148920" y="1739160"/>
                <a:ext cx="850320" cy="672480"/>
                <a:chOff x="3148920" y="1739160"/>
                <a:chExt cx="850320" cy="67248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3170160" y="1760040"/>
                  <a:ext cx="80748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3148920" y="1739160"/>
                  <a:ext cx="850320" cy="67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3999600" y="1739160"/>
                <a:ext cx="850680" cy="672480"/>
                <a:chOff x="3999600" y="1739160"/>
                <a:chExt cx="850680" cy="67248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4020840" y="1760040"/>
                  <a:ext cx="80784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3999600" y="1739160"/>
                  <a:ext cx="850680" cy="67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4851000" y="1739160"/>
                <a:ext cx="857520" cy="672480"/>
                <a:chOff x="4851000" y="1739160"/>
                <a:chExt cx="857520" cy="67248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4872240" y="1760040"/>
                  <a:ext cx="81468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851000" y="1739160"/>
                  <a:ext cx="857520" cy="67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233640" y="2454120"/>
                <a:ext cx="1212480" cy="672120"/>
                <a:chOff x="233640" y="2454120"/>
                <a:chExt cx="1212480" cy="67212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254880" y="2474640"/>
                  <a:ext cx="1169640" cy="63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233640" y="2454120"/>
                  <a:ext cx="1212480" cy="67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1446480" y="2454120"/>
                <a:ext cx="850680" cy="672120"/>
                <a:chOff x="1446480" y="2454120"/>
                <a:chExt cx="850680" cy="67212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1467720" y="2474640"/>
                  <a:ext cx="807840" cy="63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1446480" y="2454120"/>
                  <a:ext cx="850680" cy="67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2297520" y="2454120"/>
                <a:ext cx="850680" cy="672120"/>
                <a:chOff x="2297520" y="2454120"/>
                <a:chExt cx="850680" cy="67212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2318760" y="2474640"/>
                  <a:ext cx="807840" cy="63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2297520" y="2454120"/>
                  <a:ext cx="850680" cy="67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3148920" y="2454120"/>
                <a:ext cx="850320" cy="672120"/>
                <a:chOff x="3148920" y="2454120"/>
                <a:chExt cx="850320" cy="67212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3170160" y="2474640"/>
                  <a:ext cx="807480" cy="63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3148920" y="2454120"/>
                  <a:ext cx="850320" cy="67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3999600" y="2454120"/>
                <a:ext cx="850680" cy="672120"/>
                <a:chOff x="3999600" y="2454120"/>
                <a:chExt cx="850680" cy="67212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4020840" y="2474640"/>
                  <a:ext cx="807840" cy="63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3999600" y="2454120"/>
                  <a:ext cx="850680" cy="67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4851000" y="2454120"/>
                <a:ext cx="857520" cy="672120"/>
                <a:chOff x="4851000" y="2454120"/>
                <a:chExt cx="857520" cy="67212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4872240" y="2474640"/>
                  <a:ext cx="814680" cy="63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4851000" y="2454120"/>
                  <a:ext cx="857520" cy="67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233640" y="3168720"/>
                <a:ext cx="1212480" cy="672120"/>
                <a:chOff x="233640" y="3168720"/>
                <a:chExt cx="1212480" cy="67212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254880" y="3189600"/>
                  <a:ext cx="1169640" cy="63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233640" y="3168720"/>
                  <a:ext cx="1212480" cy="67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"/>
              <p:cNvGrpSpPr/>
              <p:nvPr/>
            </p:nvGrpSpPr>
            <p:grpSpPr>
              <a:xfrm>
                <a:off x="1446480" y="3168720"/>
                <a:ext cx="850680" cy="672120"/>
                <a:chOff x="1446480" y="3168720"/>
                <a:chExt cx="850680" cy="67212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1467720" y="3189600"/>
                  <a:ext cx="807840" cy="63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1446480" y="3168720"/>
                  <a:ext cx="850680" cy="67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2297520" y="3168720"/>
                <a:ext cx="850680" cy="672120"/>
                <a:chOff x="2297520" y="3168720"/>
                <a:chExt cx="850680" cy="67212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2318760" y="3189600"/>
                  <a:ext cx="807840" cy="63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2297520" y="3168720"/>
                  <a:ext cx="850680" cy="67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" name=""/>
              <p:cNvGrpSpPr/>
              <p:nvPr/>
            </p:nvGrpSpPr>
            <p:grpSpPr>
              <a:xfrm>
                <a:off x="3148920" y="3168720"/>
                <a:ext cx="850320" cy="672120"/>
                <a:chOff x="3148920" y="3168720"/>
                <a:chExt cx="850320" cy="67212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3170160" y="3189600"/>
                  <a:ext cx="807480" cy="63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3148920" y="3168720"/>
                  <a:ext cx="850320" cy="67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7" name=""/>
              <p:cNvGrpSpPr/>
              <p:nvPr/>
            </p:nvGrpSpPr>
            <p:grpSpPr>
              <a:xfrm>
                <a:off x="3999600" y="3168720"/>
                <a:ext cx="850680" cy="672120"/>
                <a:chOff x="3999600" y="3168720"/>
                <a:chExt cx="850680" cy="672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4020840" y="3189600"/>
                  <a:ext cx="807840" cy="63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3999600" y="3168720"/>
                  <a:ext cx="850680" cy="67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" name=""/>
              <p:cNvGrpSpPr/>
              <p:nvPr/>
            </p:nvGrpSpPr>
            <p:grpSpPr>
              <a:xfrm>
                <a:off x="4851000" y="3168720"/>
                <a:ext cx="857520" cy="672120"/>
                <a:chOff x="4851000" y="3168720"/>
                <a:chExt cx="857520" cy="67212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4872240" y="3189600"/>
                  <a:ext cx="814680" cy="63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4851000" y="3168720"/>
                  <a:ext cx="857520" cy="67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233640" y="3883320"/>
                <a:ext cx="1212480" cy="672120"/>
                <a:chOff x="233640" y="3883320"/>
                <a:chExt cx="1212480" cy="67212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254880" y="3904200"/>
                  <a:ext cx="1169640" cy="63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233640" y="3883320"/>
                  <a:ext cx="1212480" cy="67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" name=""/>
              <p:cNvGrpSpPr/>
              <p:nvPr/>
            </p:nvGrpSpPr>
            <p:grpSpPr>
              <a:xfrm>
                <a:off x="1446480" y="3883320"/>
                <a:ext cx="850680" cy="672120"/>
                <a:chOff x="1446480" y="3883320"/>
                <a:chExt cx="850680" cy="67212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1467720" y="3904200"/>
                  <a:ext cx="807840" cy="63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1446480" y="3883320"/>
                  <a:ext cx="850680" cy="67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2297520" y="3883320"/>
                <a:ext cx="850680" cy="672120"/>
                <a:chOff x="2297520" y="3883320"/>
                <a:chExt cx="850680" cy="67212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2318760" y="3904200"/>
                  <a:ext cx="807840" cy="63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2297520" y="3883320"/>
                  <a:ext cx="850680" cy="67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" name=""/>
              <p:cNvGrpSpPr/>
              <p:nvPr/>
            </p:nvGrpSpPr>
            <p:grpSpPr>
              <a:xfrm>
                <a:off x="3148920" y="3883320"/>
                <a:ext cx="850320" cy="672120"/>
                <a:chOff x="3148920" y="3883320"/>
                <a:chExt cx="850320" cy="67212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3170160" y="3904200"/>
                  <a:ext cx="807480" cy="63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3148920" y="3883320"/>
                  <a:ext cx="850320" cy="67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5" name=""/>
              <p:cNvGrpSpPr/>
              <p:nvPr/>
            </p:nvGrpSpPr>
            <p:grpSpPr>
              <a:xfrm>
                <a:off x="3999600" y="3883320"/>
                <a:ext cx="850680" cy="672120"/>
                <a:chOff x="3999600" y="3883320"/>
                <a:chExt cx="850680" cy="67212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4020840" y="3904200"/>
                  <a:ext cx="807840" cy="63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3999600" y="3883320"/>
                  <a:ext cx="850680" cy="67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" name=""/>
              <p:cNvGrpSpPr/>
              <p:nvPr/>
            </p:nvGrpSpPr>
            <p:grpSpPr>
              <a:xfrm>
                <a:off x="4851000" y="3883320"/>
                <a:ext cx="857520" cy="672120"/>
                <a:chOff x="4851000" y="3883320"/>
                <a:chExt cx="857520" cy="67212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4872240" y="3904200"/>
                  <a:ext cx="814680" cy="63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4851000" y="3883320"/>
                  <a:ext cx="857520" cy="67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1" name=""/>
              <p:cNvGrpSpPr/>
              <p:nvPr/>
            </p:nvGrpSpPr>
            <p:grpSpPr>
              <a:xfrm>
                <a:off x="233640" y="4597920"/>
                <a:ext cx="1212480" cy="672120"/>
                <a:chOff x="233640" y="4597920"/>
                <a:chExt cx="1212480" cy="67212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254880" y="4618800"/>
                  <a:ext cx="1169640" cy="63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233640" y="4597920"/>
                  <a:ext cx="1212480" cy="67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4" name=""/>
              <p:cNvGrpSpPr/>
              <p:nvPr/>
            </p:nvGrpSpPr>
            <p:grpSpPr>
              <a:xfrm>
                <a:off x="1446480" y="4597920"/>
                <a:ext cx="850680" cy="672120"/>
                <a:chOff x="1446480" y="4597920"/>
                <a:chExt cx="850680" cy="67212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1467720" y="4618800"/>
                  <a:ext cx="807840" cy="63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446480" y="4597920"/>
                  <a:ext cx="850680" cy="67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2297520" y="4597920"/>
                <a:ext cx="850680" cy="672120"/>
                <a:chOff x="2297520" y="4597920"/>
                <a:chExt cx="850680" cy="67212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2318760" y="4618800"/>
                  <a:ext cx="807840" cy="63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2297520" y="4597920"/>
                  <a:ext cx="850680" cy="67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3148920" y="4597920"/>
                <a:ext cx="850320" cy="672120"/>
                <a:chOff x="3148920" y="4597920"/>
                <a:chExt cx="850320" cy="67212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3170160" y="4618800"/>
                  <a:ext cx="807480" cy="63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3148920" y="4597920"/>
                  <a:ext cx="850320" cy="67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3" name=""/>
              <p:cNvGrpSpPr/>
              <p:nvPr/>
            </p:nvGrpSpPr>
            <p:grpSpPr>
              <a:xfrm>
                <a:off x="3999600" y="4597920"/>
                <a:ext cx="850680" cy="672120"/>
                <a:chOff x="3999600" y="4597920"/>
                <a:chExt cx="850680" cy="67212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4020840" y="4618800"/>
                  <a:ext cx="807840" cy="63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3999600" y="4597920"/>
                  <a:ext cx="850680" cy="67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" name=""/>
              <p:cNvGrpSpPr/>
              <p:nvPr/>
            </p:nvGrpSpPr>
            <p:grpSpPr>
              <a:xfrm>
                <a:off x="4851000" y="4597920"/>
                <a:ext cx="857520" cy="672120"/>
                <a:chOff x="4851000" y="4597920"/>
                <a:chExt cx="857520" cy="67212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4872240" y="4618800"/>
                  <a:ext cx="814680" cy="63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4851000" y="4597920"/>
                  <a:ext cx="857520" cy="67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9" name=""/>
              <p:cNvGrpSpPr/>
              <p:nvPr/>
            </p:nvGrpSpPr>
            <p:grpSpPr>
              <a:xfrm>
                <a:off x="233640" y="5312520"/>
                <a:ext cx="1212480" cy="672480"/>
                <a:chOff x="233640" y="5312520"/>
                <a:chExt cx="1212480" cy="67248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254880" y="5333400"/>
                  <a:ext cx="116964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6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233640" y="5312520"/>
                  <a:ext cx="1212480" cy="67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" name=""/>
              <p:cNvGrpSpPr/>
              <p:nvPr/>
            </p:nvGrpSpPr>
            <p:grpSpPr>
              <a:xfrm>
                <a:off x="1446480" y="5312520"/>
                <a:ext cx="850680" cy="672480"/>
                <a:chOff x="1446480" y="5312520"/>
                <a:chExt cx="850680" cy="67248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1467720" y="5333400"/>
                  <a:ext cx="80784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1446480" y="5312520"/>
                  <a:ext cx="850680" cy="67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5" name=""/>
              <p:cNvGrpSpPr/>
              <p:nvPr/>
            </p:nvGrpSpPr>
            <p:grpSpPr>
              <a:xfrm>
                <a:off x="2297520" y="5312520"/>
                <a:ext cx="850680" cy="672480"/>
                <a:chOff x="2297520" y="5312520"/>
                <a:chExt cx="850680" cy="67248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2318760" y="5333400"/>
                  <a:ext cx="80784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2297520" y="5312520"/>
                  <a:ext cx="850680" cy="67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8" name=""/>
              <p:cNvGrpSpPr/>
              <p:nvPr/>
            </p:nvGrpSpPr>
            <p:grpSpPr>
              <a:xfrm>
                <a:off x="3148920" y="5312520"/>
                <a:ext cx="850320" cy="672480"/>
                <a:chOff x="3148920" y="5312520"/>
                <a:chExt cx="850320" cy="67248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3170160" y="5333400"/>
                  <a:ext cx="80748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3148920" y="5312520"/>
                  <a:ext cx="850320" cy="67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1" name=""/>
              <p:cNvGrpSpPr/>
              <p:nvPr/>
            </p:nvGrpSpPr>
            <p:grpSpPr>
              <a:xfrm>
                <a:off x="3999600" y="5312520"/>
                <a:ext cx="850680" cy="672480"/>
                <a:chOff x="3999600" y="5312520"/>
                <a:chExt cx="850680" cy="67248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4020840" y="5333400"/>
                  <a:ext cx="80784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3999600" y="5312520"/>
                  <a:ext cx="850680" cy="67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" name=""/>
              <p:cNvGrpSpPr/>
              <p:nvPr/>
            </p:nvGrpSpPr>
            <p:grpSpPr>
              <a:xfrm>
                <a:off x="4851000" y="5312520"/>
                <a:ext cx="857520" cy="672480"/>
                <a:chOff x="4851000" y="5312520"/>
                <a:chExt cx="857520" cy="67248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4872240" y="5333400"/>
                  <a:ext cx="81468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4851000" y="5312520"/>
                  <a:ext cx="857520" cy="67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" name=""/>
              <p:cNvGrpSpPr/>
              <p:nvPr/>
            </p:nvGrpSpPr>
            <p:grpSpPr>
              <a:xfrm>
                <a:off x="233640" y="6027120"/>
                <a:ext cx="1212480" cy="672480"/>
                <a:chOff x="233640" y="6027120"/>
                <a:chExt cx="1212480" cy="67248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254880" y="6048000"/>
                  <a:ext cx="116964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7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233640" y="6027120"/>
                  <a:ext cx="1212480" cy="67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" name=""/>
              <p:cNvGrpSpPr/>
              <p:nvPr/>
            </p:nvGrpSpPr>
            <p:grpSpPr>
              <a:xfrm>
                <a:off x="1446480" y="6027120"/>
                <a:ext cx="850680" cy="672480"/>
                <a:chOff x="1446480" y="6027120"/>
                <a:chExt cx="850680" cy="67248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1467720" y="6048000"/>
                  <a:ext cx="80784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1446480" y="6027120"/>
                  <a:ext cx="850680" cy="67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3" name=""/>
              <p:cNvGrpSpPr/>
              <p:nvPr/>
            </p:nvGrpSpPr>
            <p:grpSpPr>
              <a:xfrm>
                <a:off x="2297520" y="6027120"/>
                <a:ext cx="850680" cy="672480"/>
                <a:chOff x="2297520" y="6027120"/>
                <a:chExt cx="850680" cy="672480"/>
              </a:xfrm>
            </p:grpSpPr>
            <p:sp>
              <p:nvSpPr>
                <p:cNvPr id="384" name=""/>
                <p:cNvSpPr/>
                <p:nvPr/>
              </p:nvSpPr>
              <p:spPr>
                <a:xfrm>
                  <a:off x="2318760" y="6048000"/>
                  <a:ext cx="80784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2297520" y="6027120"/>
                  <a:ext cx="850680" cy="67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6" name=""/>
              <p:cNvGrpSpPr/>
              <p:nvPr/>
            </p:nvGrpSpPr>
            <p:grpSpPr>
              <a:xfrm>
                <a:off x="3148920" y="6027120"/>
                <a:ext cx="850320" cy="672480"/>
                <a:chOff x="3148920" y="6027120"/>
                <a:chExt cx="850320" cy="67248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3170160" y="6048000"/>
                  <a:ext cx="80748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3148920" y="6027120"/>
                  <a:ext cx="850320" cy="67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9" name=""/>
              <p:cNvGrpSpPr/>
              <p:nvPr/>
            </p:nvGrpSpPr>
            <p:grpSpPr>
              <a:xfrm>
                <a:off x="3999600" y="6027120"/>
                <a:ext cx="850680" cy="672480"/>
                <a:chOff x="3999600" y="6027120"/>
                <a:chExt cx="850680" cy="672480"/>
              </a:xfrm>
            </p:grpSpPr>
            <p:sp>
              <p:nvSpPr>
                <p:cNvPr id="390" name=""/>
                <p:cNvSpPr/>
                <p:nvPr/>
              </p:nvSpPr>
              <p:spPr>
                <a:xfrm>
                  <a:off x="4020840" y="6048000"/>
                  <a:ext cx="80784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3999600" y="6027120"/>
                  <a:ext cx="850680" cy="67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2" name=""/>
              <p:cNvGrpSpPr/>
              <p:nvPr/>
            </p:nvGrpSpPr>
            <p:grpSpPr>
              <a:xfrm>
                <a:off x="4851000" y="6027120"/>
                <a:ext cx="857520" cy="672480"/>
                <a:chOff x="4851000" y="6027120"/>
                <a:chExt cx="857520" cy="672480"/>
              </a:xfrm>
            </p:grpSpPr>
            <p:sp>
              <p:nvSpPr>
                <p:cNvPr id="393" name=""/>
                <p:cNvSpPr/>
                <p:nvPr/>
              </p:nvSpPr>
              <p:spPr>
                <a:xfrm>
                  <a:off x="4872240" y="6048000"/>
                  <a:ext cx="81468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20206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4851000" y="6027120"/>
                  <a:ext cx="857520" cy="67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95" name=""/>
            <p:cNvSpPr/>
            <p:nvPr/>
          </p:nvSpPr>
          <p:spPr>
            <a:xfrm>
              <a:off x="228600" y="304920"/>
              <a:ext cx="5486040" cy="64004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6" name=""/>
          <p:cNvSpPr/>
          <p:nvPr/>
        </p:nvSpPr>
        <p:spPr>
          <a:xfrm>
            <a:off x="4214880" y="30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7" name="vorob4" descr=""/>
          <p:cNvPicPr/>
          <p:nvPr/>
        </p:nvPicPr>
        <p:blipFill>
          <a:blip r:embed="rId1"/>
          <a:stretch/>
        </p:blipFill>
        <p:spPr>
          <a:xfrm>
            <a:off x="6324480" y="1600200"/>
            <a:ext cx="266724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609480" y="2286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авнения, описывающие работу полного двоичного сумматора, представленные в совершенной дизъюнктивной нормальной форме (СДНФ), имеют ви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23856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0" name="f_6" descr=""/>
          <p:cNvPicPr/>
          <p:nvPr/>
        </p:nvPicPr>
        <p:blipFill>
          <a:blip r:embed="rId1"/>
          <a:stretch/>
        </p:blipFill>
        <p:spPr>
          <a:xfrm>
            <a:off x="468360" y="2708280"/>
            <a:ext cx="8207280" cy="178740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108000" y="4629240"/>
            <a:ext cx="878508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авнение для переноса может быть минимизировано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 = ab + ap + b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необходимых преобразования получим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=(a+b+p)(P+abp)   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763640" y="645336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СХЕ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1127160" y="74520"/>
            <a:ext cx="57636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127160" y="1432080"/>
            <a:ext cx="57636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127160" y="2789280"/>
            <a:ext cx="57636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136520" y="4145040"/>
            <a:ext cx="57636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136520" y="5518080"/>
            <a:ext cx="57636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036960" y="93600"/>
            <a:ext cx="57636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00720" y="2924280"/>
            <a:ext cx="576000" cy="65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80000" y="2924280"/>
            <a:ext cx="57636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948360" y="2924280"/>
            <a:ext cx="57636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260280"/>
            <a:ext cx="11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9600" y="1628640"/>
            <a:ext cx="11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8440" y="2990880"/>
            <a:ext cx="79848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0" y="333360"/>
            <a:ext cx="104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1700280"/>
            <a:ext cx="104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3141720"/>
            <a:ext cx="104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826920" y="234936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26920" y="2349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611280" y="1052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11280" y="1052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68360" y="1628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68360" y="5805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68360" y="44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68360" y="3213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24000" y="260280"/>
            <a:ext cx="0" cy="590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24000" y="61657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24000" y="4797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24000" y="3573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79280" y="2997360"/>
            <a:ext cx="0" cy="35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79280" y="652464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79280" y="508464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692360" y="260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979640" y="47628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268360" y="765000"/>
            <a:ext cx="7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692360" y="3429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692360" y="198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979640" y="476280"/>
            <a:ext cx="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268360" y="765000"/>
            <a:ext cx="0" cy="266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3605040" y="549000"/>
            <a:ext cx="4638960" cy="5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3924000" y="590400"/>
            <a:ext cx="20520" cy="262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924360" y="3213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076720" y="3213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003640" y="3141720"/>
            <a:ext cx="14292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692360" y="4724280"/>
            <a:ext cx="35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692360" y="6093000"/>
            <a:ext cx="48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5219640" y="357300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219640" y="3573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156360" y="33577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6588000" y="3933720"/>
            <a:ext cx="0" cy="215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588000" y="39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524720" y="35002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667640" y="620640"/>
            <a:ext cx="104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740720" y="3789360"/>
            <a:ext cx="104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выражений (8) следует, что полный двоичный сумматор может быть реализован на двух полусумматорах и одном двухвходовом элементе ИЛ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67200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9" name="vorob5" descr=""/>
          <p:cNvPicPr/>
          <p:nvPr/>
        </p:nvPicPr>
        <p:blipFill>
          <a:blip r:embed="rId1"/>
          <a:stretch/>
        </p:blipFill>
        <p:spPr>
          <a:xfrm>
            <a:off x="1066680" y="2514600"/>
            <a:ext cx="6934320" cy="28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араллельный суммат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разрядно (параллельно) суммируются разряды двоичного чис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95732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8734320" cy="300996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609480" y="5334120"/>
            <a:ext cx="7925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ожно сделать любой длинны, однако суммирование будет закончено тогда, когда истечет время распространения сигналов переноса через всю цепь. (пульсирующий перенос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оследовательный суммат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457200" y="1905120"/>
            <a:ext cx="7848720" cy="4419360"/>
            <a:chOff x="457200" y="1905120"/>
            <a:chExt cx="7848720" cy="4419360"/>
          </a:xfrm>
        </p:grpSpPr>
        <p:sp>
          <p:nvSpPr>
            <p:cNvPr id="467" name=""/>
            <p:cNvSpPr/>
            <p:nvPr/>
          </p:nvSpPr>
          <p:spPr>
            <a:xfrm>
              <a:off x="1295280" y="1905120"/>
              <a:ext cx="2743200" cy="368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Слагаемое 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295280" y="2666880"/>
              <a:ext cx="2819520" cy="368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Слагаемое В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219320" y="4876920"/>
              <a:ext cx="2819160" cy="368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Сумм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105520" y="2819520"/>
              <a:ext cx="990360" cy="1371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181480" y="281952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629400" y="4495680"/>
              <a:ext cx="1219320" cy="1828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010280" y="4495680"/>
              <a:ext cx="0" cy="1828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629400" y="53341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629400" y="46483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629400" y="57150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162920" y="47242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V="1">
              <a:off x="1523880" y="228564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>
              <a:off x="1523880" y="304776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57200" y="2438280"/>
              <a:ext cx="106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33520" y="320040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57200" y="2819520"/>
              <a:ext cx="83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57200" y="2057400"/>
              <a:ext cx="83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114800" y="28195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V="1">
              <a:off x="4572000" y="25142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572000" y="251460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334120" y="2514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038480" y="2133720"/>
              <a:ext cx="1752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791320" y="213372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334120" y="41911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837720" y="4495680"/>
              <a:ext cx="4496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38080" y="449568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38080" y="5105520"/>
              <a:ext cx="38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1600200" y="525744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09480" y="541008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09480" y="5867280"/>
              <a:ext cx="6019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791320" y="419112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791320" y="4876920"/>
              <a:ext cx="83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848720" y="53341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V="1">
              <a:off x="8305920" y="3505320"/>
              <a:ext cx="0" cy="1828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6095520" y="3505320"/>
              <a:ext cx="221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22860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0" y="2133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0" y="3048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28600" y="5029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52280" y="5638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28600" y="2514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105520" y="4648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019920" y="4343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400800" y="28954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438280" y="525780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819520" y="609588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ыход сумм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Классификация сумматоров по количеству одновременно обрабатываемых разрядов складываемых чисел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Классификация сумматоров по числу входов и выходов одноразрядных двоичных сумматоров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Классификация сумматоров по количеству одновременно обрабатываемых разрядов складываемых чисел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Классификация сумматоров по способу организации межразрядных переносов параллельных сумматоров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Классификация сумматоров по способу представления и обработки складываемых чисел многоразрядных сумматоров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Классификация сумматоров по способу выполнения операции сложения и возможности сохранения результата сложения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параметры сумматоров - перечислить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Четверть сумматор таблица истинности, обозначение, логическое выражение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Базис И-НЕ, ИЛИ-НЕ, выражения и схемы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Полусумматор таблица истинности, обозначение, логическое выражение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Полный одноразрядный двоичный сумматор таблица истинности, обозначение, логическое выражение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Базис И, ИЛИ схемы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Параллельный сумматор обозначение, пояснения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Последовательный сумматор обозначение, пояснение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Суммат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сновной узел АЛУ вычислительной машины для поразрядного суммирования двоичных чисе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следовательное соединение одноразрядных двоичных сумматоров, каждый из которых осуществляет сложение в одном разряд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ависимости от системы счисления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2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2060"/>
                </a:solidFill>
                <a:latin typeface="Arial"/>
                <a:ea typeface="Times New Roman"/>
              </a:rPr>
              <a:t>двоичные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2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2060"/>
                </a:solidFill>
                <a:latin typeface="Arial"/>
                <a:ea typeface="Times New Roman"/>
              </a:rPr>
              <a:t>двоично-десятичные (в общем случае двоично-кодированные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2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2060"/>
                </a:solidFill>
                <a:latin typeface="Arial"/>
                <a:ea typeface="Times New Roman"/>
              </a:rPr>
              <a:t>десятичные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2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2060"/>
                </a:solidFill>
                <a:latin typeface="Arial"/>
                <a:ea typeface="Times New Roman"/>
              </a:rPr>
              <a:t>прочие (например, амплитудные).</a:t>
            </a:r>
            <a:r>
              <a:rPr b="0" lang="en-US" sz="3200" spc="-1" strike="noStrike">
                <a:solidFill>
                  <a:srgbClr val="202060"/>
                </a:solidFill>
                <a:latin typeface="Verdan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количеству одновременно обрабатываемых разрядов складываемых чисел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2060"/>
                </a:solidFill>
                <a:latin typeface="Verdana"/>
                <a:ea typeface="Times New Roman"/>
              </a:rPr>
              <a:t>одноразрядные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разрядны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числу входов и выходов одноразрядных двоичных сумматоров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1760" y="2438280"/>
            <a:ext cx="820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2060"/>
                </a:solidFill>
                <a:latin typeface="Verdana"/>
                <a:ea typeface="Times New Roman"/>
              </a:rPr>
              <a:t>четвертьсуммато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2060"/>
                </a:solidFill>
                <a:latin typeface="Verdana"/>
                <a:ea typeface="Times New Roman"/>
              </a:rPr>
              <a:t>полусуммато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2060"/>
                </a:solidFill>
                <a:latin typeface="Verdana"/>
                <a:ea typeface="Times New Roman"/>
              </a:rPr>
              <a:t>полные одноразрядные двоичные суммато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пособу организации межразрядных переносов параллельные сумматоры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лят на сумматоры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3276360"/>
            <a:ext cx="80773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2060"/>
                </a:solidFill>
                <a:latin typeface="Symbol"/>
                <a:ea typeface="Symbol"/>
              </a:rPr>
              <a:t></a:t>
            </a:r>
            <a:r>
              <a:rPr b="0" lang="en-US" sz="3600" spc="-1" strike="noStrike">
                <a:solidFill>
                  <a:srgbClr val="202060"/>
                </a:solidFill>
                <a:latin typeface="Verdana"/>
                <a:ea typeface="Times New Roman"/>
              </a:rPr>
              <a:t>с последовательным переносом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02060"/>
                </a:solidFill>
                <a:latin typeface="Symbol"/>
                <a:ea typeface="Symbol"/>
              </a:rPr>
              <a:t></a:t>
            </a:r>
            <a:r>
              <a:rPr b="0" lang="en-US" sz="3600" spc="-1" strike="noStrike">
                <a:solidFill>
                  <a:srgbClr val="202060"/>
                </a:solidFill>
                <a:latin typeface="Verdana"/>
                <a:ea typeface="Times New Roman"/>
              </a:rPr>
              <a:t>с параллельным переносом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02060"/>
                </a:solidFill>
                <a:latin typeface="Symbol"/>
                <a:ea typeface="Symbol"/>
              </a:rPr>
              <a:t></a:t>
            </a:r>
            <a:r>
              <a:rPr b="0" lang="en-US" sz="3600" spc="-1" strike="noStrike">
                <a:solidFill>
                  <a:srgbClr val="202060"/>
                </a:solidFill>
                <a:latin typeface="Verdana"/>
                <a:ea typeface="Times New Roman"/>
              </a:rPr>
              <a:t>с групповой структурой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02060"/>
                </a:solidFill>
                <a:latin typeface="Symbol"/>
                <a:ea typeface="Symbol"/>
              </a:rPr>
              <a:t></a:t>
            </a:r>
            <a:r>
              <a:rPr b="0" lang="en-US" sz="3600" spc="-1" strike="noStrike">
                <a:solidFill>
                  <a:srgbClr val="202060"/>
                </a:solidFill>
                <a:latin typeface="Times New Roman"/>
              </a:rPr>
              <a:t>со</a:t>
            </a:r>
            <a:r>
              <a:rPr b="0" lang="en-US" sz="3600" spc="-1" strike="noStrike">
                <a:solidFill>
                  <a:srgbClr val="202060"/>
                </a:solidFill>
                <a:latin typeface="Verdana"/>
                <a:ea typeface="Times New Roman"/>
              </a:rPr>
              <a:t> специальной организацией цепей переноса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пособу представления и обработки складываемых чисел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ногоразрядные сумматоры подразделяются на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29718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2060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202060"/>
                </a:solidFill>
                <a:latin typeface="Times New Roman"/>
                <a:ea typeface="Times New Roman"/>
              </a:rPr>
              <a:t> </a:t>
            </a:r>
            <a:r>
              <a:rPr b="0" lang="en-US" sz="2800" spc="-1" strike="noStrike">
                <a:solidFill>
                  <a:srgbClr val="202060"/>
                </a:solidFill>
                <a:latin typeface="Verdana"/>
                <a:ea typeface="Times New Roman"/>
              </a:rPr>
              <a:t>последовательные, в которых обработка чисел ведётся поочерёдно, разряд за разрядом на одном и том же оборудовании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2060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202060"/>
                </a:solidFill>
                <a:latin typeface="Verdana"/>
                <a:ea typeface="Times New Roman"/>
              </a:rPr>
              <a:t>параллельные, в которых слагаемые складываются одновременно по всем разрядам, и для каждого разряда имеется своё оборудование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пособу выполнения операции сложения и возможности сохранения результата сложения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7432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2060"/>
                </a:solidFill>
                <a:latin typeface="Verdana"/>
                <a:ea typeface="Times New Roman"/>
              </a:rPr>
              <a:t>комбинационный, выполняющий микрооперацию “S = A плюс B”, в котором результат выдаётся по мере его образования (это комбинационная схема в общепринятом смысле слова)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2060"/>
                </a:solidFill>
                <a:latin typeface="Verdana"/>
                <a:ea typeface="Times New Roman"/>
              </a:rPr>
              <a:t>сумматор с сохранением результата “S = A плюс B”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2060"/>
                </a:solidFill>
                <a:latin typeface="Verdana"/>
              </a:rPr>
              <a:t>н</a:t>
            </a:r>
            <a:r>
              <a:rPr b="0" lang="en-US" sz="2800" spc="-1" strike="noStrike">
                <a:solidFill>
                  <a:srgbClr val="202060"/>
                </a:solidFill>
                <a:latin typeface="Verdana"/>
                <a:ea typeface="Times New Roman"/>
              </a:rPr>
              <a:t>акапливающий, выполняющий микрооперацию “S = S плюс B”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9T08:44:51Z</dcterms:created>
  <dc:creator>zaslavskOV</dc:creator>
  <dc:description/>
  <dc:language>en-US</dc:language>
  <cp:lastModifiedBy>studtest</cp:lastModifiedBy>
  <dcterms:modified xsi:type="dcterms:W3CDTF">2012-05-21T06:25:45Z</dcterms:modified>
  <cp:revision>40</cp:revision>
  <dc:subject/>
  <dc:title>Сумматоры</dc:title>
</cp:coreProperties>
</file>