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9BC-6F09-4DFD-B880-8D2AE6A8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E4E-0E6E-49CD-A364-79C6905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3C2-EB82-400E-B984-DF157699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E1D-AF86-49F3-95C2-4BE9660A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1A1-7B64-467B-8E06-7D622FC7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F85-1433-4ACA-ABCA-48A28727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182-A331-4A12-BC8D-4882B67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752-0BBE-4A42-9FD6-C70DADE3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5C8-1F91-4CCD-A6AA-1386BE10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5EA-BAEE-4264-9575-BE1DF0A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05A-27B1-4D2B-879E-A1C942E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577-8EEC-447D-A4CB-C6BFBF1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C8B-E9A2-40EF-8F4F-18650A604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регис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ение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характеристики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установки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хран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умножением и де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лог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оследовательным приемом и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дви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араллельным приемом и последоват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араллельным приемом и паралл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оследовательным приемом и паралл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версальный регис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ьцевые счет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620640"/>
            <a:ext cx="1944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4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5    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6   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7 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  8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ми параметрами сумматор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зрядность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статические параметры: Uвх, Uвых, Iвх и так далее, то есть обычные параметры интегральных схе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динамические параметры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тся задержками распространения сигн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т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характеризующиеся наличием двух вход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вух слагаемых )</a:t>
            </a: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, на которые подаются два одноразрядных числа, и одним выходом, на котором реализуется их арифметическая сум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(элементы “сумма по модулю 2”; элементы “исключающее ИЛИ”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в два раза меньше выходов и в два раза меньше строк в таблице истинности по сравнению с полным двоичным одноразрядным суммато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30320" y="171360"/>
            <a:ext cx="2742840" cy="3209760"/>
            <a:chOff x="130320" y="171360"/>
            <a:chExt cx="2742840" cy="3209760"/>
          </a:xfrm>
        </p:grpSpPr>
        <p:grpSp>
          <p:nvGrpSpPr>
            <p:cNvPr id="65" name=""/>
            <p:cNvGrpSpPr/>
            <p:nvPr/>
          </p:nvGrpSpPr>
          <p:grpSpPr>
            <a:xfrm>
              <a:off x="135720" y="176040"/>
              <a:ext cx="2730240" cy="3200400"/>
              <a:chOff x="135720" y="176040"/>
              <a:chExt cx="2730240" cy="32004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35720" y="176040"/>
                <a:ext cx="907560" cy="609480"/>
                <a:chOff x="135720" y="176040"/>
                <a:chExt cx="907560" cy="6094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58400" y="195120"/>
                  <a:ext cx="8618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35720" y="17604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043640" y="176040"/>
                <a:ext cx="907200" cy="609480"/>
                <a:chOff x="1043640" y="176040"/>
                <a:chExt cx="907200" cy="6094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66320" y="195120"/>
                  <a:ext cx="861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43640" y="17604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951200" y="176040"/>
                <a:ext cx="914760" cy="609480"/>
                <a:chOff x="1951200" y="176040"/>
                <a:chExt cx="914760" cy="6094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973880" y="195120"/>
                  <a:ext cx="8694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51200" y="17604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35720" y="823680"/>
                <a:ext cx="907560" cy="609840"/>
                <a:chOff x="135720" y="823680"/>
                <a:chExt cx="907560" cy="609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58400" y="84276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35720" y="823680"/>
                  <a:ext cx="9075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043640" y="823680"/>
                <a:ext cx="907200" cy="609840"/>
                <a:chOff x="1043640" y="823680"/>
                <a:chExt cx="907200" cy="609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066320" y="84276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43640" y="823680"/>
                  <a:ext cx="9072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951200" y="823680"/>
                <a:ext cx="914760" cy="609840"/>
                <a:chOff x="1951200" y="823680"/>
                <a:chExt cx="914760" cy="609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973880" y="84276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951200" y="823680"/>
                  <a:ext cx="9147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35720" y="1471320"/>
                <a:ext cx="907560" cy="609840"/>
                <a:chOff x="135720" y="1471320"/>
                <a:chExt cx="907560" cy="609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8400" y="149040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35720" y="1471320"/>
                  <a:ext cx="9075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043640" y="1471320"/>
                <a:ext cx="907200" cy="609840"/>
                <a:chOff x="1043640" y="1471320"/>
                <a:chExt cx="907200" cy="609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066320" y="149040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043640" y="1471320"/>
                  <a:ext cx="9072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951200" y="1471320"/>
                <a:ext cx="914760" cy="609840"/>
                <a:chOff x="1951200" y="1471320"/>
                <a:chExt cx="914760" cy="609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973880" y="149040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951200" y="1471320"/>
                  <a:ext cx="9147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5720" y="2119320"/>
                <a:ext cx="907560" cy="609480"/>
                <a:chOff x="135720" y="2119320"/>
                <a:chExt cx="907560" cy="609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400" y="213804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35720" y="211932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043640" y="2119320"/>
                <a:ext cx="907200" cy="609480"/>
                <a:chOff x="1043640" y="2119320"/>
                <a:chExt cx="907200" cy="6094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066320" y="213804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43640" y="211932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951200" y="2119320"/>
                <a:ext cx="914760" cy="609480"/>
                <a:chOff x="1951200" y="2119320"/>
                <a:chExt cx="914760" cy="6094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973880" y="213804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51200" y="211932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35720" y="2766960"/>
                <a:ext cx="907560" cy="609480"/>
                <a:chOff x="135720" y="2766960"/>
                <a:chExt cx="907560" cy="6094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8400" y="2786040"/>
                  <a:ext cx="8618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35720" y="276696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043640" y="2766960"/>
                <a:ext cx="907200" cy="609480"/>
                <a:chOff x="1043640" y="2766960"/>
                <a:chExt cx="907200" cy="609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066320" y="2786040"/>
                  <a:ext cx="861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43640" y="276696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951200" y="2766960"/>
                <a:ext cx="914760" cy="609480"/>
                <a:chOff x="1951200" y="2766960"/>
                <a:chExt cx="914760" cy="609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973880" y="2786040"/>
                  <a:ext cx="8694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51200" y="276696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30320" y="171360"/>
              <a:ext cx="2742840" cy="3209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6622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f_1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790960" cy="637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718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vorob1" descr=""/>
          <p:cNvPicPr/>
          <p:nvPr/>
        </p:nvPicPr>
        <p:blipFill>
          <a:blip r:embed="rId2"/>
          <a:stretch/>
        </p:blipFill>
        <p:spPr>
          <a:xfrm>
            <a:off x="2743200" y="3559320"/>
            <a:ext cx="64008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ем четвертьсумматор в базисах И-НЕ, ИЛИ-НЕ и с использованием только одного инвертора, для чего преобразуем уравн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861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_2" descr=""/>
          <p:cNvPicPr/>
          <p:nvPr/>
        </p:nvPicPr>
        <p:blipFill>
          <a:blip r:embed="rId1"/>
          <a:stretch/>
        </p:blipFill>
        <p:spPr>
          <a:xfrm>
            <a:off x="179280" y="2322360"/>
            <a:ext cx="8686800" cy="115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812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_3" descr=""/>
          <p:cNvPicPr/>
          <p:nvPr/>
        </p:nvPicPr>
        <p:blipFill>
          <a:blip r:embed="rId2"/>
          <a:stretch/>
        </p:blipFill>
        <p:spPr>
          <a:xfrm>
            <a:off x="181080" y="3730680"/>
            <a:ext cx="8854920" cy="1360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76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_4" descr=""/>
          <p:cNvPicPr/>
          <p:nvPr/>
        </p:nvPicPr>
        <p:blipFill>
          <a:blip r:embed="rId3"/>
          <a:stretch/>
        </p:blipFill>
        <p:spPr>
          <a:xfrm>
            <a:off x="214200" y="5203800"/>
            <a:ext cx="86979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полученные по уравнения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38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vorob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7123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суммато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щиеся наличием двух входов, на которые подаются одноимённые разряды дву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ых</a:t>
            </a:r>
            <a:r>
              <a:rPr b="0" lang="ru-RU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, и двух выходов: на одном реализуется арифметическая сумма в данном разряде, а на другом — перенос в следующий (более старший разряд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м полусумматора служат буквы HS (half sum — полусумм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, а соответствующие уравнения имеют вид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6668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03320" y="85680"/>
            <a:ext cx="3579480" cy="3309480"/>
            <a:chOff x="103320" y="85680"/>
            <a:chExt cx="3579480" cy="3309480"/>
          </a:xfrm>
        </p:grpSpPr>
        <p:grpSp>
          <p:nvGrpSpPr>
            <p:cNvPr id="132" name=""/>
            <p:cNvGrpSpPr/>
            <p:nvPr/>
          </p:nvGrpSpPr>
          <p:grpSpPr>
            <a:xfrm>
              <a:off x="108720" y="90360"/>
              <a:ext cx="3567960" cy="3299400"/>
              <a:chOff x="108720" y="90360"/>
              <a:chExt cx="3567960" cy="3299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08720" y="90360"/>
                <a:ext cx="889920" cy="627840"/>
                <a:chOff x="108720" y="90360"/>
                <a:chExt cx="889920" cy="627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31040" y="10980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8720" y="9036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999000" y="90360"/>
                <a:ext cx="889560" cy="627840"/>
                <a:chOff x="999000" y="90360"/>
                <a:chExt cx="889560" cy="627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021320" y="109800"/>
                  <a:ext cx="84456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99000" y="9036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888920" y="90360"/>
                <a:ext cx="889920" cy="627840"/>
                <a:chOff x="1888920" y="90360"/>
                <a:chExt cx="889920" cy="627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911240" y="10980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888920" y="9036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779560" y="90360"/>
                <a:ext cx="897120" cy="627840"/>
                <a:chOff x="2779560" y="90360"/>
                <a:chExt cx="897120" cy="627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01880" y="109800"/>
                  <a:ext cx="8521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779560" y="9036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08720" y="758160"/>
                <a:ext cx="889920" cy="628200"/>
                <a:chOff x="108720" y="758160"/>
                <a:chExt cx="889920" cy="628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1040" y="7776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8720" y="7581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999000" y="758160"/>
                <a:ext cx="889560" cy="628200"/>
                <a:chOff x="999000" y="758160"/>
                <a:chExt cx="889560" cy="6282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21320" y="7776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9000" y="758160"/>
                  <a:ext cx="88956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888920" y="758160"/>
                <a:ext cx="889920" cy="628200"/>
                <a:chOff x="1888920" y="758160"/>
                <a:chExt cx="889920" cy="628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911240" y="7776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88920" y="7581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779560" y="758160"/>
                <a:ext cx="897120" cy="628200"/>
                <a:chOff x="2779560" y="758160"/>
                <a:chExt cx="897120" cy="628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01880" y="7776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779560" y="758160"/>
                  <a:ext cx="8971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08720" y="1425960"/>
                <a:ext cx="889920" cy="628200"/>
                <a:chOff x="108720" y="1425960"/>
                <a:chExt cx="889920" cy="628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31040" y="14454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8720" y="14259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999000" y="1425960"/>
                <a:ext cx="889560" cy="628200"/>
                <a:chOff x="999000" y="1425960"/>
                <a:chExt cx="889560" cy="628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021320" y="14454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99000" y="1425960"/>
                  <a:ext cx="88956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888920" y="1425960"/>
                <a:ext cx="889920" cy="628200"/>
                <a:chOff x="1888920" y="1425960"/>
                <a:chExt cx="889920" cy="628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11240" y="14454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88920" y="14259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779560" y="1425960"/>
                <a:ext cx="897120" cy="628200"/>
                <a:chOff x="2779560" y="1425960"/>
                <a:chExt cx="897120" cy="628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801880" y="14454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779560" y="1425960"/>
                  <a:ext cx="8971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08720" y="2094120"/>
                <a:ext cx="889920" cy="627840"/>
                <a:chOff x="108720" y="2094120"/>
                <a:chExt cx="889920" cy="627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040" y="21132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8720" y="20941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999000" y="2094120"/>
                <a:ext cx="889560" cy="627840"/>
                <a:chOff x="999000" y="2094120"/>
                <a:chExt cx="889560" cy="627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021320" y="21132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99000" y="209412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888920" y="2094120"/>
                <a:ext cx="889920" cy="627840"/>
                <a:chOff x="1888920" y="2094120"/>
                <a:chExt cx="889920" cy="627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11240" y="21132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88920" y="20941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779560" y="2094120"/>
                <a:ext cx="897120" cy="627840"/>
                <a:chOff x="2779560" y="2094120"/>
                <a:chExt cx="897120" cy="6278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01880" y="21132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79560" y="209412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08720" y="2761920"/>
                <a:ext cx="889920" cy="627840"/>
                <a:chOff x="108720" y="2761920"/>
                <a:chExt cx="889920" cy="6278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31040" y="278136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8720" y="27619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99000" y="2761920"/>
                <a:ext cx="889560" cy="627840"/>
                <a:chOff x="999000" y="2761920"/>
                <a:chExt cx="889560" cy="6278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021320" y="2781360"/>
                  <a:ext cx="84456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99000" y="276192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88920" y="2761920"/>
                <a:ext cx="889920" cy="627840"/>
                <a:chOff x="1888920" y="2761920"/>
                <a:chExt cx="889920" cy="627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11240" y="278136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88920" y="27619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779560" y="2761920"/>
                <a:ext cx="897120" cy="627840"/>
                <a:chOff x="2779560" y="2761920"/>
                <a:chExt cx="897120" cy="6278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01880" y="2781360"/>
                  <a:ext cx="8521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79560" y="276192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103320" y="85680"/>
              <a:ext cx="3579480" cy="3309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60504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_5" descr=""/>
          <p:cNvPicPr/>
          <p:nvPr/>
        </p:nvPicPr>
        <p:blipFill>
          <a:blip r:embed="rId1"/>
          <a:stretch/>
        </p:blipFill>
        <p:spPr>
          <a:xfrm>
            <a:off x="3848040" y="227160"/>
            <a:ext cx="5168880" cy="1374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24360" y="19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=(ab)(a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2060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2276640"/>
            <a:ext cx="7200720" cy="3744000"/>
            <a:chOff x="539640" y="2276640"/>
            <a:chExt cx="7200720" cy="3744000"/>
          </a:xfrm>
        </p:grpSpPr>
        <p:sp>
          <p:nvSpPr>
            <p:cNvPr id="203" name=""/>
            <p:cNvSpPr/>
            <p:nvPr/>
          </p:nvSpPr>
          <p:spPr>
            <a:xfrm>
              <a:off x="2139120" y="260676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28760" y="260676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120" y="447912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8760" y="447912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28240" y="4479120"/>
              <a:ext cx="711360" cy="769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18600" y="4479120"/>
              <a:ext cx="44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94560" y="447912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4920" y="447912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000" y="2937240"/>
              <a:ext cx="88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95960" y="3488400"/>
              <a:ext cx="44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9200" y="5581440"/>
              <a:ext cx="79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7760" y="5030280"/>
              <a:ext cx="62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5960" y="3488400"/>
              <a:ext cx="0" cy="20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517760" y="2937240"/>
              <a:ext cx="0" cy="20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50120" y="3157920"/>
              <a:ext cx="40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3640" y="3157920"/>
              <a:ext cx="0" cy="165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3640" y="480960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9960" y="4918680"/>
              <a:ext cx="35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0120" y="5581440"/>
              <a:ext cx="20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05920" y="5248800"/>
              <a:ext cx="124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51400" y="4809600"/>
              <a:ext cx="176400" cy="218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7840" y="227664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9640" y="503028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9000" y="249516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29000" y="469980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, классификация, уравнения, структуры и приме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одноразрядный двоичный суммато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щиеся наличием трёх входов, на которые подаются одноимённые разряды двух складываемых чисел и перенос из предыдущего (более младшего) разряда, и двумя выходами: на одном реализуется арифметическая сумма в данном разряде, а на другом — перенос в следующий (более старший разряд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три вход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м полного двоичного сумматора служат буквы S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840" y="28440"/>
            <a:ext cx="24098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28600" y="304920"/>
            <a:ext cx="5486040" cy="6400440"/>
            <a:chOff x="228600" y="304920"/>
            <a:chExt cx="5486040" cy="6400440"/>
          </a:xfrm>
        </p:grpSpPr>
        <p:grpSp>
          <p:nvGrpSpPr>
            <p:cNvPr id="232" name=""/>
            <p:cNvGrpSpPr/>
            <p:nvPr/>
          </p:nvGrpSpPr>
          <p:grpSpPr>
            <a:xfrm>
              <a:off x="233640" y="309960"/>
              <a:ext cx="5474880" cy="6389640"/>
              <a:chOff x="233640" y="309960"/>
              <a:chExt cx="5474880" cy="638964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33640" y="309960"/>
                <a:ext cx="1212480" cy="672120"/>
                <a:chOff x="233640" y="309960"/>
                <a:chExt cx="1212480" cy="6721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54880" y="33084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№ </a:t>
                  </a:r>
                  <a:r>
                    <a:rPr b="0" lang="ru-RU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наб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33640" y="30996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446480" y="309960"/>
                <a:ext cx="850680" cy="672120"/>
                <a:chOff x="1446480" y="309960"/>
                <a:chExt cx="850680" cy="672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46772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4648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297520" y="309960"/>
                <a:ext cx="850680" cy="672120"/>
                <a:chOff x="2297520" y="309960"/>
                <a:chExt cx="850680" cy="6721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31876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9752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48920" y="309960"/>
                <a:ext cx="850320" cy="672120"/>
                <a:chOff x="3148920" y="309960"/>
                <a:chExt cx="850320" cy="672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170160" y="33084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48920" y="30996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999600" y="309960"/>
                <a:ext cx="850680" cy="672120"/>
                <a:chOff x="3999600" y="309960"/>
                <a:chExt cx="850680" cy="672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084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960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851000" y="309960"/>
                <a:ext cx="857520" cy="672120"/>
                <a:chOff x="4851000" y="309960"/>
                <a:chExt cx="857520" cy="6721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872240" y="33084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851000" y="30996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33640" y="1024560"/>
                <a:ext cx="1212480" cy="672480"/>
                <a:chOff x="233640" y="1024560"/>
                <a:chExt cx="1212480" cy="672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54880" y="104544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3640" y="102456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446480" y="1024560"/>
                <a:ext cx="850680" cy="672480"/>
                <a:chOff x="1446480" y="1024560"/>
                <a:chExt cx="850680" cy="672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46772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44648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297520" y="1024560"/>
                <a:ext cx="850680" cy="672480"/>
                <a:chOff x="2297520" y="1024560"/>
                <a:chExt cx="850680" cy="672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1876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9752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148920" y="1024560"/>
                <a:ext cx="850320" cy="672480"/>
                <a:chOff x="3148920" y="1024560"/>
                <a:chExt cx="850320" cy="672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170160" y="104544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48920" y="102456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999600" y="1024560"/>
                <a:ext cx="850680" cy="672480"/>
                <a:chOff x="3999600" y="1024560"/>
                <a:chExt cx="850680" cy="672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02084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99960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851000" y="1024560"/>
                <a:ext cx="857520" cy="672480"/>
                <a:chOff x="4851000" y="1024560"/>
                <a:chExt cx="857520" cy="672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872240" y="104544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851000" y="102456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33640" y="1739160"/>
                <a:ext cx="1212480" cy="672480"/>
                <a:chOff x="233640" y="1739160"/>
                <a:chExt cx="1212480" cy="672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54880" y="176004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3640" y="173916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446480" y="1739160"/>
                <a:ext cx="850680" cy="672480"/>
                <a:chOff x="1446480" y="1739160"/>
                <a:chExt cx="850680" cy="672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46772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44648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297520" y="1739160"/>
                <a:ext cx="850680" cy="672480"/>
                <a:chOff x="2297520" y="1739160"/>
                <a:chExt cx="850680" cy="672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31876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9752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148920" y="1739160"/>
                <a:ext cx="850320" cy="672480"/>
                <a:chOff x="3148920" y="1739160"/>
                <a:chExt cx="850320" cy="672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70160" y="176004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48920" y="173916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999600" y="1739160"/>
                <a:ext cx="850680" cy="672480"/>
                <a:chOff x="3999600" y="1739160"/>
                <a:chExt cx="850680" cy="672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02084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9960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851000" y="1739160"/>
                <a:ext cx="857520" cy="672480"/>
                <a:chOff x="4851000" y="1739160"/>
                <a:chExt cx="857520" cy="6724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72240" y="176004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51000" y="173916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33640" y="2454120"/>
                <a:ext cx="1212480" cy="672120"/>
                <a:chOff x="233640" y="2454120"/>
                <a:chExt cx="1212480" cy="672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4880" y="2474640"/>
                  <a:ext cx="11696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3640" y="24541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446480" y="2454120"/>
                <a:ext cx="850680" cy="672120"/>
                <a:chOff x="1446480" y="2454120"/>
                <a:chExt cx="850680" cy="672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6772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4648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297520" y="2454120"/>
                <a:ext cx="850680" cy="672120"/>
                <a:chOff x="2297520" y="2454120"/>
                <a:chExt cx="850680" cy="672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31876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29752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148920" y="2454120"/>
                <a:ext cx="850320" cy="672120"/>
                <a:chOff x="3148920" y="2454120"/>
                <a:chExt cx="850320" cy="672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170160" y="2474640"/>
                  <a:ext cx="8074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48920" y="24541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999600" y="2454120"/>
                <a:ext cx="850680" cy="672120"/>
                <a:chOff x="3999600" y="2454120"/>
                <a:chExt cx="850680" cy="672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2084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9960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851000" y="2454120"/>
                <a:ext cx="857520" cy="672120"/>
                <a:chOff x="4851000" y="2454120"/>
                <a:chExt cx="857520" cy="672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872240" y="2474640"/>
                  <a:ext cx="8146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851000" y="24541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33640" y="3168720"/>
                <a:ext cx="1212480" cy="672120"/>
                <a:chOff x="233640" y="3168720"/>
                <a:chExt cx="1212480" cy="672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54880" y="31896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33640" y="31687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446480" y="3168720"/>
                <a:ext cx="850680" cy="672120"/>
                <a:chOff x="1446480" y="3168720"/>
                <a:chExt cx="850680" cy="672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46772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4648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297520" y="3168720"/>
                <a:ext cx="850680" cy="672120"/>
                <a:chOff x="2297520" y="3168720"/>
                <a:chExt cx="850680" cy="672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31876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9752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148920" y="3168720"/>
                <a:ext cx="850320" cy="672120"/>
                <a:chOff x="3148920" y="3168720"/>
                <a:chExt cx="850320" cy="672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70160" y="31896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48920" y="31687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999600" y="3168720"/>
                <a:ext cx="850680" cy="672120"/>
                <a:chOff x="3999600" y="3168720"/>
                <a:chExt cx="850680" cy="672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02084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99960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851000" y="3168720"/>
                <a:ext cx="857520" cy="672120"/>
                <a:chOff x="4851000" y="3168720"/>
                <a:chExt cx="857520" cy="672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872240" y="31896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851000" y="31687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33640" y="3883320"/>
                <a:ext cx="1212480" cy="672120"/>
                <a:chOff x="233640" y="3883320"/>
                <a:chExt cx="1212480" cy="672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54880" y="39042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33640" y="38833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446480" y="3883320"/>
                <a:ext cx="850680" cy="672120"/>
                <a:chOff x="1446480" y="3883320"/>
                <a:chExt cx="850680" cy="672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46772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4648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97520" y="3883320"/>
                <a:ext cx="850680" cy="672120"/>
                <a:chOff x="2297520" y="3883320"/>
                <a:chExt cx="850680" cy="672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31876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752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148920" y="3883320"/>
                <a:ext cx="850320" cy="672120"/>
                <a:chOff x="3148920" y="3883320"/>
                <a:chExt cx="850320" cy="672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3170160" y="39042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148920" y="38833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999600" y="3883320"/>
                <a:ext cx="850680" cy="672120"/>
                <a:chOff x="3999600" y="3883320"/>
                <a:chExt cx="850680" cy="672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02084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99960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851000" y="3883320"/>
                <a:ext cx="857520" cy="672120"/>
                <a:chOff x="4851000" y="3883320"/>
                <a:chExt cx="857520" cy="672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872240" y="39042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851000" y="38833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33640" y="4597920"/>
                <a:ext cx="1212480" cy="672120"/>
                <a:chOff x="233640" y="4597920"/>
                <a:chExt cx="1212480" cy="672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4880" y="46188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3640" y="45979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446480" y="4597920"/>
                <a:ext cx="850680" cy="672120"/>
                <a:chOff x="1446480" y="4597920"/>
                <a:chExt cx="850680" cy="672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46772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44648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97520" y="4597920"/>
                <a:ext cx="850680" cy="672120"/>
                <a:chOff x="2297520" y="4597920"/>
                <a:chExt cx="850680" cy="672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1876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9752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148920" y="4597920"/>
                <a:ext cx="850320" cy="672120"/>
                <a:chOff x="3148920" y="4597920"/>
                <a:chExt cx="850320" cy="672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170160" y="46188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148920" y="45979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999600" y="4597920"/>
                <a:ext cx="850680" cy="672120"/>
                <a:chOff x="3999600" y="4597920"/>
                <a:chExt cx="850680" cy="672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02084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9960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851000" y="4597920"/>
                <a:ext cx="857520" cy="672120"/>
                <a:chOff x="4851000" y="4597920"/>
                <a:chExt cx="857520" cy="672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872240" y="46188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851000" y="45979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33640" y="5312520"/>
                <a:ext cx="1212480" cy="672480"/>
                <a:chOff x="233640" y="5312520"/>
                <a:chExt cx="1212480" cy="6724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4880" y="533340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3640" y="531252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446480" y="5312520"/>
                <a:ext cx="850680" cy="672480"/>
                <a:chOff x="1446480" y="5312520"/>
                <a:chExt cx="850680" cy="672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46772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44648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297520" y="5312520"/>
                <a:ext cx="850680" cy="672480"/>
                <a:chOff x="2297520" y="5312520"/>
                <a:chExt cx="850680" cy="6724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31876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9752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148920" y="5312520"/>
                <a:ext cx="850320" cy="672480"/>
                <a:chOff x="3148920" y="5312520"/>
                <a:chExt cx="850320" cy="672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170160" y="533340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148920" y="531252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999600" y="5312520"/>
                <a:ext cx="850680" cy="672480"/>
                <a:chOff x="3999600" y="5312520"/>
                <a:chExt cx="850680" cy="672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02084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99960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851000" y="5312520"/>
                <a:ext cx="857520" cy="672480"/>
                <a:chOff x="4851000" y="5312520"/>
                <a:chExt cx="857520" cy="672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872240" y="533340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51000" y="531252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33640" y="6027120"/>
                <a:ext cx="1212480" cy="672480"/>
                <a:chOff x="233640" y="6027120"/>
                <a:chExt cx="1212480" cy="6724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54880" y="604800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3640" y="602712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446480" y="6027120"/>
                <a:ext cx="850680" cy="672480"/>
                <a:chOff x="1446480" y="6027120"/>
                <a:chExt cx="850680" cy="672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46772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44648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297520" y="6027120"/>
                <a:ext cx="850680" cy="672480"/>
                <a:chOff x="2297520" y="6027120"/>
                <a:chExt cx="850680" cy="6724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31876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29752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148920" y="6027120"/>
                <a:ext cx="850320" cy="672480"/>
                <a:chOff x="3148920" y="6027120"/>
                <a:chExt cx="850320" cy="6724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170160" y="604800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48920" y="602712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999600" y="6027120"/>
                <a:ext cx="850680" cy="672480"/>
                <a:chOff x="3999600" y="6027120"/>
                <a:chExt cx="850680" cy="6724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02084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99960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851000" y="6027120"/>
                <a:ext cx="857520" cy="672480"/>
                <a:chOff x="4851000" y="6027120"/>
                <a:chExt cx="857520" cy="6724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872240" y="604800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851000" y="602712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228600" y="304920"/>
              <a:ext cx="5486040" cy="640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2148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vorob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6672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, описывающие работу полного двоичного сумматора, представленные в совершенной дизъюнктивной нормальной форме (СДНФ), имеют ви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385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_6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1787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08000" y="4629240"/>
            <a:ext cx="87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для переноса может быть минимизировано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= ab + ap + b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еобходимых преобразования получи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(a+b+p)(P+abp)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645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27160" y="7452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27160" y="14320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27160" y="2789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36520" y="414504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36520" y="55180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36960" y="9360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0720" y="2924280"/>
            <a:ext cx="57600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80000" y="2924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48360" y="2924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6028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00" y="162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440" y="2990880"/>
            <a:ext cx="7984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336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7002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14172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2692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3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11280" y="105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58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4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260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79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2997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652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92360" y="260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476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76500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9236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9236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476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68360" y="765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605040" y="549000"/>
            <a:ext cx="463896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924000" y="590400"/>
            <a:ext cx="2052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6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03640" y="314172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92360" y="6093000"/>
            <a:ext cx="48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219640" y="3573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56360" y="33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588000" y="393372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880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2472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67640" y="62064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40720" y="378936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ыражений (8) следует, что полный двоичный сумматор может быть реализован на двух полусумматорах и одном двухвходовом элементе 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720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vorob5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араллель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азрядно (параллельно) суммируются разряды двоич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573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34320" cy="3009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09480" y="53341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но сделать любой длинны, однако суммирование будет закончено тогда, когда истечет время распространения сигналов переноса через всю цепь. (пульсирующий перено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905120"/>
            <a:ext cx="7848720" cy="4419360"/>
            <a:chOff x="457200" y="1905120"/>
            <a:chExt cx="7848720" cy="4419360"/>
          </a:xfrm>
        </p:grpSpPr>
        <p:sp>
          <p:nvSpPr>
            <p:cNvPr id="467" name=""/>
            <p:cNvSpPr/>
            <p:nvPr/>
          </p:nvSpPr>
          <p:spPr>
            <a:xfrm>
              <a:off x="1295280" y="1905120"/>
              <a:ext cx="274320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лагаемое 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666880"/>
              <a:ext cx="2819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лагаемое 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4876920"/>
              <a:ext cx="2819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ум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2819520"/>
              <a:ext cx="99036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28195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4495680"/>
              <a:ext cx="121932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10280" y="4495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9400" y="5334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294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2940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523880" y="2285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523880" y="3047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24382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2004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28195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200" y="2057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14800" y="2819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572000" y="2514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2000" y="2514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4120" y="2514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38480" y="21337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1320" y="2133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4120" y="4191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837720" y="4495680"/>
              <a:ext cx="449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44956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1055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600200" y="52574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9480" y="5410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80" y="5867280"/>
              <a:ext cx="601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1320" y="4191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48769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4872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305920" y="35053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095520" y="350532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286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05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828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ход су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количеству одновременно обрабатываемых разрядов складываемых чисе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числу входов и выходов одноразрядных двоич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количеству одновременно обрабатываемых разрядов складываемых чисе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организации межразрядных переносов параллель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представления и обработки складываемых чисел многоразряд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выполнения операции сложения и возможности сохранения результата сложен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араметры сумматоров - перечисли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етверть 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азис И-НЕ, ИЛИ-НЕ, выражения и схем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у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ный одноразрядный двоичный 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азис И, ИЛИ схем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араллельный сумматор обозначение, пояснени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следовательный сумматор обозначение, поясн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ой узел АЛУ вычислительной машины для поразрядного суммирования двоич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довательное соединение одноразрядных двоичных сумматоров, каждый из которых осуществляет сложение в одном разря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воич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воично-десятичные (в общем случае двоично-кодированные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есятич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прочие (например, амплитудные).</a:t>
            </a:r>
            <a:r>
              <a:rPr b="0" lang="en-US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одновременно обрабатываемых разрядов складываемых чисе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одноразрядны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разрядн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ходов и выходов одноразрядных двоичных сумматор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20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четверть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лу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лные одноразрядные двоичные 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рганизации межразрядных переносов параллельные суммато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ят на суммато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последовательным перенос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параллельным перенос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групповой структурой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Times New Roman"/>
              </a:rPr>
              <a:t>со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 специальной организацией цепей перено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едставления и обработки складываемых чисе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разрядные сумматоры подразделяются 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следовательные, в которых обработка чисел ведётся поочерёдно, разряд за разрядом на одном и том же оборудован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параллельные, в которых слагаемые складываются одновременно по всем разрядам, и для каждого разряда имеется своё оборудова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выполнения операции сложения и возможности сохранения результата слож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комбинационный, выполняющий микрооперацию “S = A плюс B”, в котором результат выдаётся по мере его образования (это комбинационная схема в общепринятом смысле слова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сумматор с сохранением результата “S = A плюс B”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</a:rPr>
              <a:t>н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акапливающий, выполняющий микрооперацию “S = S плюс B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8:44:51Z</dcterms:created>
  <dc:creator>zaslavskOV</dc:creator>
  <dc:description/>
  <dc:language>en-US</dc:language>
  <cp:lastModifiedBy>studtest</cp:lastModifiedBy>
  <dcterms:modified xsi:type="dcterms:W3CDTF">2012-05-21T06:25:45Z</dcterms:modified>
  <cp:revision>40</cp:revision>
  <dc:subject/>
  <dc:title>Сумматоры</dc:title>
</cp:coreProperties>
</file>