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5C67-FDC9-458C-BF2A-31D3C6E1C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A56B-A521-43E4-8632-2DC4D969A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A643-D74F-4F30-A947-D14D3A0D9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0FD2-8A52-42C8-A1CB-FDBBD6047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06AD5-1112-47F0-B361-5243FB164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71DD0-9AFD-4850-912B-CADD97B0D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ABFC8-C79F-4CE0-AEFC-4A989E7B9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51F53-DB8A-4924-AB2B-C401ADE25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FFC10-D053-4E7F-A461-38DED943D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6681B-AB59-431B-97E5-609EE7299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6BC9A-C928-45DF-9860-3832F052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B238-BFE5-4F5B-BFE4-7563566A7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B82C3-BE6A-4970-95C7-0AA5D934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D7B50-94BF-423A-99AC-70DA17D8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97146-8DC0-49E6-9EA0-C5C804862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46814-14BF-4421-8193-95F86F42A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029C9-FF85-42DA-9F23-F50495F6A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63F5-2380-474A-8216-11133F0A1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730D-5998-4342-8064-903C1E403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DF3C-121D-4BCA-B7F9-B5A2E0017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2AAB-5E22-4CB9-9BF5-94836E05B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3AFD-7F8B-43F9-9E20-7E881595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3DD1-A998-442F-B97F-C21F400B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1355-5064-479A-ACED-04850A19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CC50B-9483-4045-996B-E4980A44DE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63E9D-8442-4A54-ABEB-AF6DA97FE8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Противогрибковые средства</a:t>
            </a:r>
            <a:br>
              <a:rPr sz="28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Лекция №1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Флуконазол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ктивен в отношении кандид (кроме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ndida glabrata b C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risei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) и возбудителей криптококкоза, включая криптококковый менингит, достаточно высокая селективность действия и низкая токсичност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Механизм действия: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Ингибируют синтез грибковых стеринов (эргостеролов и др.) за счет связывания гема цитохромов Р-450 При этом нарушается проницаемость мембран, что приводит к цитолизу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Применяют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внутрь и в/в. Хорошо всасывается из ЖКТ, биодоступность 75% не зависит от приема пищи и кислотности желудка. Назначают 1 раз в сут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Показания: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все виды кандидоза, включая висцеральные формы, кандидозный менингит, кандидозный вагини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нтраконазол-в отличие от флуконазола можно назначать только внутрь. В остальном==флуконазол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ffff"/>
                </a:solidFill>
                <a:latin typeface="Tahoma"/>
              </a:rPr>
              <a:t>Противогрибковые препараты разного химического строения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луцитоцин (анкотил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рбинафин (ламизил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иклопироксоламин (батрафен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фтифин (экзотерил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Флуцитозин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пектр действия: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кандида, криптококки, фиалофор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Механизм действия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Проникает внутрь клеток грибка, где под влиянием соответствующего конвертирующего фермента (в клетках человека такого энзима нет) превращается в флуороурацил и флуородезоксиуридиновую кислоту, которые вмешиваются в обмен пиримидинов, нарушая синтез ДНК грибка. Препарат высокоизбирателен в своем действии и низкотоксичен для челове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Фармакологический эффект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фунгицидн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торичная резистентность развивается редк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Фармакокинетика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Назначают внутрь или в/в. Биодоступность 75-90%. Связь с белками 2-4%. Хорошо проникает в ткани и жидкости организма, включая ликвор -88%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Нежелетельные эффекты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Диспепсия, кожная сыпь, лейко-тромбоцитопения, анемия, повышение активности трансаминаз, щелочной фосфатазы, креатинина, редко - галлюцинац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Показания: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урогенитальный кандидоз, криптококковый менингит, хромомикоз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Тербинафин (ламизил)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ладает широким спектром  противогрибковой активности. Оказывает фунгицидное действие  на дерматомицеты, плесневые грибы, и некоторые диморфные и дрожжевые гриб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Механизм действи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связан с угнетением синтеза стерин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именяют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ри грибковых поражениях кожи (трихофития, микроспория), поражениях ногтей 9онхомикозы),  отрубевидный лиша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еносится хорошо, возможны диспепсия, аллерг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кожных поражениях применяют также препараты этой группы: нафтифин, декамин, нитрофунги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пользуют мази на основе действующего вещества производного ундециловой кислоты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: цинкундан, ундецин, микосепти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пасибо за вним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Классификация:</a:t>
            </a:r>
            <a:br>
              <a:rPr sz="4000"/>
            </a:b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Антибиотики: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ризеофульвин,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мфотерицин В, нистатин, натамици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Имидазолы: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кетоконазол (системный), бифоназол, миконазол, клотримазо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Триазолы: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луконазол (дефлюкан), интраконазол (споранокс, орункал) –систем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Аллиламины: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тербинафин (системный), нафтифи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рочие: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ризиофульвин, деквалиниума хлорид, калия хлорид,  хлорнитрофено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Гризеофульвин</a:t>
            </a: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-антибиотик, продуцируемый плесневым грибком. Спектр действия: возбудители эпидермомикозов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Механизм действия: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Препарат связывается с кератином (который содержится в ногтевых ложах, волосяных фолликулах, коже, и т.д.)  и нарушает синтез клеточной стенки грибков, репликацию ДНК и белка, а также образует комплекс с растворимой ДНК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Фармакологический эффект.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Фунгистатический - предотвращается инфицирование вновь образующегося кератин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торичная резистентность  не развивается. Возникновение перекрестной устойчивости с другими препаратами не обнаружено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Фармакокинетика.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Препарат хорошо всавывается из ЖКТ, его биоусвоение увеличивается при употреблении жирной пищи. Максимальная концентрация наступает через 4-5 часов. Связывание с белками 80%. Препарат проникает в печень, жировую ткань, скелетную мускулатуру, а также в кожу и придатки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двергается биотрансформации в печени. При этом происходит индукция ферментов печени, что повышает скорость разрушения эндогенных (витаминов, гормонов и т.п.) и экзогенных (лекарств и т.п.) веществ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Побочные эффекты: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испепсические расстройства, головная боль, тошнота, головокружение, явления дизориентации, крапивница, эозинофилия, лейкопения, реже лейкоцитоз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ля уменьшения побочных эффектов применяют витамины: аскорбиновая к-та, тиамин, рибофлавин к-та никотинова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Противопоказания: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системные заболевания крови, лейкопения, органические заболевания печени и почек, злокачественные заболевания, беременность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ffff"/>
                </a:solidFill>
                <a:latin typeface="Tahoma"/>
              </a:rPr>
              <a:t>Амфотерицин В -</a:t>
            </a:r>
            <a:r>
              <a:rPr b="0" lang="ru-RU" sz="1800" spc="-1" strike="noStrike">
                <a:solidFill>
                  <a:srgbClr val="e5ffff"/>
                </a:solidFill>
                <a:latin typeface="Tahoma"/>
              </a:rPr>
              <a:t> полиеновый антибиотик, обладает широким спектром фунгицидной активности. Препарат  взаимодействует со стеролами (холестерином), входящими в структуру цитоплазматической мембраны грибков, что сопровождается нарушением ее функции, что влияет на их жизнедеятельность. </a:t>
            </a:r>
            <a:br>
              <a:rPr sz="1800"/>
            </a:b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водят  внутривенно, эндолюмбально или в полости. Связь с белками плазмы крови 95%. При снижении уровня белка в крови велика опасность возникновения осложнени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Побочные эффекты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фротоксичн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епатотоксичн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ематотоксичность (анемия, лейко-тромбоцитопения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рушение электролитного баланса крови-гипокалиемия, гипомагнием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рушение деятельности сердца (гипотония, сердечная недостаточность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нижение толерантности к глюкоз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ихорадка, мышечные боли, судороги,флеби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Tahoma"/>
              </a:rPr>
              <a:t>Нистатин</a:t>
            </a: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-первый природный п/грибковый антибиотик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оксичнее амфотерицина В. Назначают местно и внутрь (действует лишь на грибы семейства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ndida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). Практически не всасывается из ЖКТ, с поверхности кожи и при интравагинальном введении, хорошо переносится, иногда вызывает диспептические расстрой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оказания: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местное лечение кандидоза полости рта, пищевода, кишечника, кожи и слизистых оболочек. В связи с эффективностью лишь при непосредственном контакте с грибами, необходимо обеспечить достаточно длительное соприкосновение препарата с пораженной поверхностью (например, при кандидозе полости рта необходимо после еды разжевывать таблетки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5ffff"/>
                </a:solidFill>
                <a:latin typeface="Tahoma"/>
              </a:rPr>
              <a:t>Имидазолы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ля местного и системного (энтерального) введения: кетоконазол (низорал), миконазол (дактарин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ля местного применения: клотримазол (канестен), эконазол, изоконазол, сульконазол, тиоконазол, бифоназол и д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Механизм действия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Главное в механизме действия -  способность препаратов снижать активность ферментов, ингибирующих перекись водорода, поэтому происходит аутолиз клеток грибков. У производных имидазола выше избирательность действия, чем у полиеновых антибиотиков. Отсюда меньше опасность возникновения осложнений, выше активность препарат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Фармакологический эффект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Фунгицидн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торичная резистентность грибков развивается очень медленн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заимодействие: кетоконазол и миконазол нельзя комбинировать с полиеновыми антибиотиками (антагонизм), кетоконазол + гистаминолитики (терфенадин, астемизол)= риск развития кардиомиопат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Кетоконазол (низорал)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пектр действия: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Кандида, аспергиллы, возбудители дерматомикозов (трихофитоны, микроспорум, эпидермофитоны, ахорионы), возбудители глубоких микозов (паракокцидиоиды, криптококки, гистоплазма, бластомицеты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Фармакокинетика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Назначается внутрь, для его всасывания необходима кислая желудочная  среда. Хорошо растворяется в липидах, поэтому у него высокая биодоступность (75-90%). Связь с белками 85%, с эритроцитами 15%. Хорошо проникает в ткани и жидкости, хуже в церебральную жидкость и мочу. Подвергается биотрансформации в печени с последующей экскрецией желчью более 50%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ежелательные эффекты: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гепатоксичность, диспепсия, гинекомастия (снижается уровень тестостерона в плазме крови), лихорадка, фотофобия (проявляется через несколько месяцев после отмены препарата), подавление функции надпочечников (его используют для лечения болезни Кушинга) и гона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Миконазол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Спектр действия: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ндида, аспергиллы и мукор, возбудители дерматомикозов, возбудители глубоких микозов (кроме криптококков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Фармакокинетика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Назначают внутрь, внутривенно и наружно. Из ЖКТ всасывается плохо, меньше 50%. Хуже чем кетоконазол распределяется в тканях и жидкостях организма. Подвергается биотрансформации в печени и полностью выводится с желчью. При патологии печени данный препарат нельзя применять системн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Нежелательные эффекты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: зуд, тошнота, озноб, сыпь, флебит,анемия, тромбоцитопения, гипонатриемия, ХПН, аритмии, психоз, нарушение обмена эндогенных стероид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Показания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дерматомикозы; глубокие микозы; генерализованные формы кандидоза и аспергиллеза. При инвазии ЦНС и мочевыделительной системы препараты мало эффективн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Клотримазол (канестен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меняют только местно (в виде кремов, растворов, интравагинальных таблеток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Спектр действия: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Кандида, аспергиллы, возбудители дерматомикозов, стафилококки, стрептокок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Нежелательные эффекты: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редко-местные реакции (покраснение, раздражение кожи, ощущение жжения и покалывания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оказания: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микозы стоп и урогенитальный кандидоз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afedra</cp:lastModifiedBy>
  <dcterms:modified xsi:type="dcterms:W3CDTF">2009-01-04T08:11:45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