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6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5.jpeg" ContentType="image/jpeg"/>
  <Override PartName="/ppt/media/image63.jpeg" ContentType="image/jpeg"/>
  <Override PartName="/ppt/media/image19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8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  <p:sldId id="329" r:id="rId85"/>
    <p:sldId id="330" r:id="rId86"/>
    <p:sldId id="331" r:id="rId87"/>
    <p:sldId id="332" r:id="rId88"/>
    <p:sldId id="333" r:id="rId89"/>
    <p:sldId id="334" r:id="rId90"/>
    <p:sldId id="335" r:id="rId91"/>
    <p:sldId id="336" r:id="rId92"/>
    <p:sldId id="337" r:id="rId93"/>
    <p:sldId id="338" r:id="rId94"/>
    <p:sldId id="339" r:id="rId95"/>
    <p:sldId id="340" r:id="rId96"/>
    <p:sldId id="341" r:id="rId97"/>
    <p:sldId id="342" r:id="rId98"/>
    <p:sldId id="343" r:id="rId99"/>
    <p:sldId id="344" r:id="rId100"/>
    <p:sldId id="34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slide" Target="slides/slide74.xml"/><Relationship Id="rId86" Type="http://schemas.openxmlformats.org/officeDocument/2006/relationships/slide" Target="slides/slide75.xml"/><Relationship Id="rId87" Type="http://schemas.openxmlformats.org/officeDocument/2006/relationships/slide" Target="slides/slide76.xml"/><Relationship Id="rId88" Type="http://schemas.openxmlformats.org/officeDocument/2006/relationships/slide" Target="slides/slide77.xml"/><Relationship Id="rId89" Type="http://schemas.openxmlformats.org/officeDocument/2006/relationships/slide" Target="slides/slide78.xml"/><Relationship Id="rId90" Type="http://schemas.openxmlformats.org/officeDocument/2006/relationships/slide" Target="slides/slide79.xml"/><Relationship Id="rId91" Type="http://schemas.openxmlformats.org/officeDocument/2006/relationships/slide" Target="slides/slide80.xml"/><Relationship Id="rId92" Type="http://schemas.openxmlformats.org/officeDocument/2006/relationships/slide" Target="slides/slide81.xml"/><Relationship Id="rId93" Type="http://schemas.openxmlformats.org/officeDocument/2006/relationships/slide" Target="slides/slide82.xml"/><Relationship Id="rId94" Type="http://schemas.openxmlformats.org/officeDocument/2006/relationships/slide" Target="slides/slide83.xml"/><Relationship Id="rId95" Type="http://schemas.openxmlformats.org/officeDocument/2006/relationships/slide" Target="slides/slide84.xml"/><Relationship Id="rId96" Type="http://schemas.openxmlformats.org/officeDocument/2006/relationships/slide" Target="slides/slide85.xml"/><Relationship Id="rId97" Type="http://schemas.openxmlformats.org/officeDocument/2006/relationships/slide" Target="slides/slide86.xml"/><Relationship Id="rId98" Type="http://schemas.openxmlformats.org/officeDocument/2006/relationships/slide" Target="slides/slide87.xml"/><Relationship Id="rId99" Type="http://schemas.openxmlformats.org/officeDocument/2006/relationships/slide" Target="slides/slide88.xml"/><Relationship Id="rId100" Type="http://schemas.openxmlformats.org/officeDocument/2006/relationships/slide" Target="slides/slide89.xml"/><Relationship Id="rId101" Type="http://schemas.openxmlformats.org/officeDocument/2006/relationships/slide" Target="slides/slide90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dt" idx="2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2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13EA1A-FF99-446F-B9B4-AC5671BAD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59F674-B5A0-49EA-BA76-848CEB7ABCC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FA4F10-42D1-4485-9B54-29DEA0BCB34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A6E57F-32DC-44DC-AA63-7DF96ECAE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E8F-6CE9-4535-A12C-969224EF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ADF-2EDD-4FA2-A5F5-CC607D0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F2BF9-32EE-4241-B784-55E4859A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DC9ED-F579-49D5-8CC4-9011B135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7738-7649-4CB7-AE9A-368EA043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B6B7C-DCC4-4A73-AE3C-A62603A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0696B-BE9D-4B69-A8BE-9634441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B3251-9231-4303-B232-12EF2B2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5D1A4-F25D-4772-9E86-4390CF4B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138BA-E85F-4492-939F-73B19DE8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DA2BE-6BA6-4DAA-B6B6-4816430C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08A-0B2B-44A7-8B2C-E4583285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AED-7735-4717-8EAD-C0F2259E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1A4C-0E2B-4530-A0FD-8FD14E28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079E-35FE-4B68-B510-F58B182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E2F3-1A57-4D08-905A-18AE460E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A31C-F662-4E37-9EE9-3096A8F6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A23B-CB16-4F9F-A6B2-EC83B1E3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C815-FB0F-405B-95B4-B0F8BF0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A8E5-E708-4A99-851D-D2CE81D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50F-B42C-472D-A410-3DE10258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BFBF-BBE2-42DE-ADFC-E3F345F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5914-8B8A-4EA7-B4BD-F260C19E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BD1D-D079-42F0-BBE8-10932B23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B92E-37FD-480F-9B45-5085BCA4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9F24-9AC4-49FF-8216-357BC479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AF300-7117-4ED8-8471-2858AEA3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1273D-0186-4CFE-BB31-86A71050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985B2-3AD1-4538-943C-0206810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BE8B5-302F-4B26-B2A5-4452130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1DAAF-3D04-479A-B766-76CAF840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D1E-49F3-4B13-BFE5-318521D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61496-45C4-4E3B-BCD4-056E0CD0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6751D-9389-44B7-931A-899AD8A6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EBDCB-7337-4CB9-B67F-3D9D14A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29A27-5A49-48AD-B554-B25EB19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36E91-D7A6-4A20-9A16-05D8D7E7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298C7-A155-4B17-8E76-82A3A7D6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C29D6-8AFB-4184-A44E-E59C2832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AEA5-1EDA-4231-8A52-800F0570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E01F-1405-4898-A3F6-989BB747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4693-4F0B-4C6B-BA7A-E017321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42C-6196-43DE-A629-4AC553A5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56AD-888B-4444-B626-FC6C43C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34BEE-1437-4E74-A0B1-714A073B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96DD-2402-4BA7-B680-76D54BF0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8BE8-F954-4475-9A45-E2433001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B91E-8C6D-4389-8FAD-51EFAA5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E281-4DD0-42E4-ABAD-5269559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458C-2C28-4098-A6A7-2676254A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D0EE-B7B6-4241-8CC5-34BDA42F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8232-047B-4370-A736-54D621D8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46696-2A40-4FBD-BD9E-CE0ED67E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EF3-FB27-431E-A794-C3A8D53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A7DD0-0D66-495B-8DCB-B10B8E1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B250E-319E-49E0-8E65-1D317DD9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31185-BD02-462B-8FB4-E7D4C8AC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5A0C2-E834-4C45-A2B9-6C03CB4E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A14DD-CE64-4B07-8DBC-5CF9DF4F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86A5D-6154-4A3D-B623-A97F344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DE7D8-19D8-4D9B-8819-D7050D9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764C3-218C-4E86-8592-A52FAED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E9375-0175-4DE0-9BAE-797FCA83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BEEF2-6C50-46D6-B28A-F705310E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402-8A21-4D47-BA1E-1550A265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C4DBE-41A6-4D03-A030-FBF8B108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D3C2-33CA-4871-A68B-5CD415AD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1970-34C6-4616-84B1-118F5BD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263E-B2C9-46A7-BA18-8FE30EAB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1DE73-9A88-4BF5-A554-938E0853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E933-8266-4710-82E2-52AA5F95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6FD81-6EA0-4948-85EA-98F184F5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67B0-44A0-4EC1-A690-D69E5DEB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9DF13-96EF-44C9-B318-7B42D9D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D61C-D6E9-482A-8B82-A7C1B42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2BE-BBB6-44E0-B018-313E744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F5D0-61D0-444E-BE4F-00E68120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5CEDB-E69A-478F-BB6F-3117F454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535FA-60AF-4418-AD35-B36B7EB6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EEEBC-ECE5-419F-BAB5-E6559836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23310-E26B-4AED-BC5F-26FFF728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C4BF7-DF31-4AC0-B37A-FDB97E91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E3BB6-685C-4BE4-8C3A-77A76A9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701E3-A8F4-489D-8C3A-F3EC3D6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E7C24-34AB-4B81-AA28-3AC3C002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3099E-FD36-4CB4-92D9-A1E3610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657-F288-486E-8AB3-1AE0917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B27FA-EE0C-4F95-B278-CF7E8F11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64BAF-3F1A-4547-8AE2-04FD814F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80B89-499A-48F8-8FFB-4C64CD6B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68502-5DF1-48BC-BC8E-C9F3CA36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7FCFF-A8FA-41DB-9576-08A93514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F49E-259F-472D-9BEF-0AEF03D2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2197-7574-456D-A4C6-5E969B7E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EC5E2-9B08-41F5-BE36-6B5A14C4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19D83-CE6F-418E-9F24-B1B57DB6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3D7E-AB28-4D28-9DE8-2A5787DF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081-5BF7-4B9E-B398-359697F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71995-944A-4271-BF9B-6AAD973D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9F9C1-F245-455D-9A95-311F3CC2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3193B-756E-49BE-881D-9087E9E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B010-A5A7-411D-AA77-A458563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2DB0-5257-448A-B660-1EF01788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80FA-887D-425D-ACC0-A12FCD73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03326-73F0-4118-88B9-37D1E675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FB721-E829-4034-B965-902885BA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C7C6-FC8C-4BEB-B918-D0EED4F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088B2-F756-4BE7-8CD4-21E6C0ED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7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8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FADE91-9AB9-4C18-8CAF-B62BF47CC5E5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E27FA25-8B13-4601-B7F2-45B816EF9E8D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21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2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63BC6E-1370-4FE9-AA52-9E5C5F2ABA31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79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0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1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4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8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9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96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7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1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D99F38-7510-4D6D-84AC-4ECEB73CE56D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254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5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6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9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0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1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2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3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5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6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8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9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793248-8C08-47A0-9A2C-514A833EE189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12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3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6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29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0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1C25EC-6523-45B5-9F34-5A14F39760E9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87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8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1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8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9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0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1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2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FD850C-DD62-4082-8287-398861561798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360" cy="1523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1640" cy="1294920"/>
            <a:chOff x="8153280" y="152280"/>
            <a:chExt cx="791640" cy="129492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52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400" y="152280"/>
              <a:ext cx="11808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520" y="152280"/>
              <a:ext cx="11376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400"/>
              <a:ext cx="11952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400" y="320400"/>
              <a:ext cx="11808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520" y="320400"/>
              <a:ext cx="11376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640" y="320400"/>
              <a:ext cx="109080" cy="11520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520" cy="10908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400" y="488160"/>
              <a:ext cx="118080" cy="10908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520" y="488160"/>
              <a:ext cx="113760" cy="109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640" y="488160"/>
              <a:ext cx="109080" cy="109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520" cy="109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6280"/>
              <a:ext cx="11952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400" y="656280"/>
              <a:ext cx="11808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520" y="656280"/>
              <a:ext cx="11376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640" y="656280"/>
              <a:ext cx="10908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52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400" y="824040"/>
              <a:ext cx="11808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520" y="824040"/>
              <a:ext cx="11376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640" y="824040"/>
              <a:ext cx="10908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52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520" cy="118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400" y="992160"/>
              <a:ext cx="118080" cy="118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520" y="992160"/>
              <a:ext cx="113760" cy="118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640" y="992160"/>
              <a:ext cx="109080" cy="11808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520" cy="1119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400" y="1159920"/>
              <a:ext cx="118080" cy="1119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520" y="1159920"/>
              <a:ext cx="113760" cy="11196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640" y="1159920"/>
              <a:ext cx="109080" cy="11196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400" y="1327680"/>
              <a:ext cx="11808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640" y="1327680"/>
              <a:ext cx="10908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24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19"/>
              </a:spcBef>
              <a:buClr>
                <a:srgbClr val="f3a447"/>
              </a:buClr>
              <a:buSzPct val="70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59"/>
              </a:spcBef>
              <a:buClr>
                <a:srgbClr val="a5b592"/>
              </a:buClr>
              <a:buSzPct val="70000"/>
              <a:buFont typeface="Wingdings" charset="2"/>
              <a:buChar char="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196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5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100000"/>
              </a:lnSpc>
              <a:spcBef>
                <a:spcPts val="400"/>
              </a:spcBef>
              <a:buClr>
                <a:srgbClr val="7f6f6f"/>
              </a:buClr>
              <a:buSzPct val="8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2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BDB0E7-9C92-4801-848D-FFF0F5A718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DD8D75-8072-4671-9F30-EBD333DF9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4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"/>
          <p:cNvSpPr/>
          <p:nvPr/>
        </p:nvSpPr>
        <p:spPr>
          <a:xfrm>
            <a:off x="467640" y="1340640"/>
            <a:ext cx="7992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ffff00"/>
                </a:solidFill>
                <a:latin typeface="Book Antiqua"/>
              </a:rPr>
              <a:t>Заболевания системы пищеварени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Рисунок 2" descr="п2.JPG"/>
          <p:cNvPicPr/>
          <p:nvPr/>
        </p:nvPicPr>
        <p:blipFill>
          <a:blip r:embed="rId1"/>
          <a:stretch/>
        </p:blipFill>
        <p:spPr>
          <a:xfrm>
            <a:off x="1785960" y="0"/>
            <a:ext cx="5265720" cy="65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1" descr="п3.JPG"/>
          <p:cNvPicPr/>
          <p:nvPr/>
        </p:nvPicPr>
        <p:blipFill>
          <a:blip r:embed="rId1"/>
          <a:stretch/>
        </p:blipFill>
        <p:spPr>
          <a:xfrm>
            <a:off x="1625400" y="0"/>
            <a:ext cx="5661000" cy="65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179640" y="188640"/>
            <a:ext cx="871272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троение стенки желу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лизистая обол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Подслизистая оболо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Мышечная оболо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оединительнотканная осно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Брюш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Рис"/>
          <p:cNvPicPr/>
          <p:nvPr/>
        </p:nvPicPr>
        <p:blipFill>
          <a:blip r:embed="rId1"/>
          <a:stretch/>
        </p:blipFill>
        <p:spPr>
          <a:xfrm rot="16200000">
            <a:off x="1776600" y="-183960"/>
            <a:ext cx="6310080" cy="7344360"/>
          </a:xfrm>
          <a:prstGeom prst="rect">
            <a:avLst/>
          </a:prstGeom>
          <a:ln w="0">
            <a:noFill/>
          </a:ln>
        </p:spPr>
      </p:pic>
      <p:sp>
        <p:nvSpPr>
          <p:cNvPr id="594" name="Левая фигурная скобка 2"/>
          <p:cNvSpPr/>
          <p:nvPr/>
        </p:nvSpPr>
        <p:spPr>
          <a:xfrm>
            <a:off x="571320" y="785880"/>
            <a:ext cx="642600" cy="328572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5" name="Левая фигурная скобка 3"/>
          <p:cNvSpPr/>
          <p:nvPr/>
        </p:nvSpPr>
        <p:spPr>
          <a:xfrm>
            <a:off x="571320" y="4143240"/>
            <a:ext cx="642600" cy="14284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6" name="Левая фигурная скобка 4"/>
          <p:cNvSpPr/>
          <p:nvPr/>
        </p:nvSpPr>
        <p:spPr>
          <a:xfrm>
            <a:off x="571320" y="5643720"/>
            <a:ext cx="642600" cy="4996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7" name="Левая фигурная скобка 5"/>
          <p:cNvSpPr/>
          <p:nvPr/>
        </p:nvSpPr>
        <p:spPr>
          <a:xfrm>
            <a:off x="571320" y="6143760"/>
            <a:ext cx="642600" cy="4996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TextBox 6"/>
          <p:cNvSpPr/>
          <p:nvPr/>
        </p:nvSpPr>
        <p:spPr>
          <a:xfrm>
            <a:off x="0" y="22147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0" y="47149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8"/>
          <p:cNvSpPr/>
          <p:nvPr/>
        </p:nvSpPr>
        <p:spPr>
          <a:xfrm>
            <a:off x="0" y="56437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0" y="6215040"/>
            <a:ext cx="49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4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1"/>
          <p:cNvSpPr/>
          <p:nvPr/>
        </p:nvSpPr>
        <p:spPr>
          <a:xfrm>
            <a:off x="107640" y="188640"/>
            <a:ext cx="885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очный состав слизистой оболочки желуд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Слизеобразующие (добавочные)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Главные клет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Обкладочные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ки желез внутренней секреции </a:t>
            </a:r>
            <a:r>
              <a:rPr b="1" lang="en-US" sz="3600" spc="-1" strike="noStrike">
                <a:solidFill>
                  <a:srgbClr val="ffc000"/>
                </a:solidFill>
                <a:latin typeface="Book Antiqua"/>
              </a:rPr>
              <a:t>(G-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ки)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Рис"/>
          <p:cNvPicPr/>
          <p:nvPr/>
        </p:nvPicPr>
        <p:blipFill>
          <a:blip r:embed="rId1"/>
          <a:stretch/>
        </p:blipFill>
        <p:spPr>
          <a:xfrm>
            <a:off x="179640" y="116640"/>
            <a:ext cx="87346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1"/>
          <p:cNvSpPr/>
          <p:nvPr/>
        </p:nvSpPr>
        <p:spPr>
          <a:xfrm>
            <a:off x="107640" y="260640"/>
            <a:ext cx="903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9600" spc="-1" strike="noStrike">
                <a:solidFill>
                  <a:srgbClr val="ffc000"/>
                </a:solidFill>
                <a:latin typeface="Book Antiqua"/>
              </a:rPr>
              <a:t>Хронический гастри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1"/>
          <p:cNvSpPr/>
          <p:nvPr/>
        </p:nvSpPr>
        <p:spPr>
          <a:xfrm>
            <a:off x="107640" y="260640"/>
            <a:ext cx="88567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Хронический гастрит — хроническое дистрофически-воспалительное заболевание слизистой оболочки желудка, характеризующееся ее клеточной инфильтрацией, нарушением физиологической регенерации и вследствие этого атрофией железистого эпителия (при прогрессирующем течении), кишечной метаплазией, расстройством секреторной, моторной и инкреторной функ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107640" y="260640"/>
            <a:ext cx="885672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з заболеваний органов пищеварения, т. е. желудочно-кишечного тракта, печени, желчного пузыря, желчных путей, у спортсменов чаще всего встречаются хронический гастрит, язвенная болезнь желудка и двенадцатиперстной кишки, хроническое воспаление кишечника, хронические заболевания желчного пузыря и желчных путей, инфекционный гепатит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1"/>
          <p:cNvSpPr/>
          <p:nvPr/>
        </p:nvSpPr>
        <p:spPr>
          <a:xfrm>
            <a:off x="107640" y="260640"/>
            <a:ext cx="88567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 воздействием экзогенных и эндогенных факторов, вызывающих или способствующих возникновению хронического гастрита, спортсмены сталкиваются постоянно. К ним относятс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1) нарушение принципа рационального питания (употребление непривычной или однообразной пищи, нерегулярное питание, большие разрывы между приемами пищи и обильная еда, особенно на сборах, употребление пряностей, несоблюдение достаточных интервалов между приемами пищи и последующей тренировкой, еда «всухомятку» в дни переездов и соревнований, а нередко постоянно, особенно при ежедневных многоразовых тренировках  или  сочетании  тренировок,  учебы  и  работы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2) никотин и алкоголь; 3) употребление аллергизирующих веществ, в частности медика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3"/>
          <p:cNvSpPr/>
          <p:nvPr/>
        </p:nvSpPr>
        <p:spPr>
          <a:xfrm>
            <a:off x="285840" y="0"/>
            <a:ext cx="85687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Цель данной лекции получение базовых знаний об этиологии и патогенезе заболеваний желудочно-кишечного тракта, установить взаимосвязь между общепатологическими процессами и развитием заболеваний ЖКТ, изучить принципы диагностики и л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"/>
          <p:cNvSpPr/>
          <p:nvPr/>
        </p:nvSpPr>
        <p:spPr>
          <a:xfrm>
            <a:off x="285840" y="2714760"/>
            <a:ext cx="8568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1. Сформировать представление об этиологии, и патогенезе заболеваний пищеварительной тру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2. Изучить клинические аспекты проявления болезней, возможных исходов и прогно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3. Изучить принципы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Num" idx="31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9CB46A-BF38-4736-BE22-4336920DB7A9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"/>
          <p:cNvSpPr/>
          <p:nvPr/>
        </p:nvSpPr>
        <p:spPr>
          <a:xfrm>
            <a:off x="0" y="785880"/>
            <a:ext cx="8856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ледует особо подчеркнуть, что чрезмерные и нерациональные тренировочные нагрузки могут явиться одним из важных факторов в возникновении хронического гастрита, особенно если они сочетаются с нарушением режима питания. Так, еще в 1932 г. Т. Adams и соавт. рентгенологически подтвердили тормозящее влияние таких нагрузок на моторные функции желудка. В. Bugyi (1960) выявил, что переутомление и перегрузка при занятиях спортом приводят к секреторной недостаточности желуд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"/>
          <p:cNvSpPr/>
          <p:nvPr/>
        </p:nvSpPr>
        <p:spPr>
          <a:xfrm>
            <a:off x="285840" y="0"/>
            <a:ext cx="8640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Этиология хронического гастр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Хеликобактерная инфекция – 95 % случ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2"/>
          <p:cNvSpPr/>
          <p:nvPr/>
        </p:nvSpPr>
        <p:spPr>
          <a:xfrm>
            <a:off x="214200" y="2000160"/>
            <a:ext cx="864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Аутоиммунный фа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3"/>
          <p:cNvSpPr/>
          <p:nvPr/>
        </p:nvSpPr>
        <p:spPr>
          <a:xfrm>
            <a:off x="285840" y="3857760"/>
            <a:ext cx="8640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ругие причины 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уоденогастральный рефлюкс, лечение гастротропными лекарственными средствами, пищевая аллергия, алиментарный фактор, воздействие эндогенны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1"/>
          <p:cNvSpPr/>
          <p:nvPr/>
        </p:nvSpPr>
        <p:spPr>
          <a:xfrm>
            <a:off x="179640" y="33264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ве стороны развития патологического процесса при Х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09520" y="2061000"/>
            <a:ext cx="4896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Дистрофически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2671560" y="4149000"/>
            <a:ext cx="6480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Воспалительны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В нормальной СО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Рисунок 3" descr=""/>
          <p:cNvPicPr/>
          <p:nvPr/>
        </p:nvPicPr>
        <p:blipFill>
          <a:blip r:embed="rId1"/>
          <a:stretch/>
        </p:blipFill>
        <p:spPr>
          <a:xfrm>
            <a:off x="0" y="1029960"/>
            <a:ext cx="8964000" cy="558900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5220000" y="3039840"/>
            <a:ext cx="329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0" y="2637000"/>
            <a:ext cx="4104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ифференцировка добавочных клеток в главные и обкладо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1" descr=""/>
          <p:cNvPicPr/>
          <p:nvPr/>
        </p:nvPicPr>
        <p:blipFill>
          <a:blip r:embed="rId1"/>
          <a:stretch/>
        </p:blipFill>
        <p:spPr>
          <a:xfrm>
            <a:off x="395640" y="1029960"/>
            <a:ext cx="8424720" cy="5481000"/>
          </a:xfrm>
          <a:prstGeom prst="rect">
            <a:avLst/>
          </a:prstGeom>
          <a:ln w="0">
            <a:noFill/>
          </a:ln>
        </p:spPr>
      </p:pic>
      <p:sp>
        <p:nvSpPr>
          <p:cNvPr id="620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Дистрофические из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285840" y="4214880"/>
            <a:ext cx="329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5214960" y="2214720"/>
            <a:ext cx="4104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ифференцировка добавочных клеток в главные и обклад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179640" y="2349000"/>
            <a:ext cx="32954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Усил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4500000" y="620640"/>
            <a:ext cx="4464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явление неполноценных специализированных клеток и микст-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5220000" y="5229360"/>
            <a:ext cx="329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5238360" y="3789000"/>
            <a:ext cx="329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ишечная метапл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трелка вправо 7"/>
          <p:cNvSpPr/>
          <p:nvPr/>
        </p:nvSpPr>
        <p:spPr>
          <a:xfrm rot="20147400">
            <a:off x="2911320" y="2206800"/>
            <a:ext cx="1583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28" name="Стрелка вправо 8"/>
          <p:cNvSpPr/>
          <p:nvPr/>
        </p:nvSpPr>
        <p:spPr>
          <a:xfrm rot="868200">
            <a:off x="3116520" y="3695400"/>
            <a:ext cx="238536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29" name="Стрелка вправо 9"/>
          <p:cNvSpPr/>
          <p:nvPr/>
        </p:nvSpPr>
        <p:spPr>
          <a:xfrm rot="1267200">
            <a:off x="2561760" y="5003640"/>
            <a:ext cx="335628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2"/>
          <p:cNvSpPr/>
          <p:nvPr/>
        </p:nvSpPr>
        <p:spPr>
          <a:xfrm>
            <a:off x="107640" y="1953360"/>
            <a:ext cx="903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Эри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Оте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Эксуд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Разрыхление слизист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Лимфо-плазмацитарная инфильтр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971640" y="476640"/>
            <a:ext cx="6480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Воспалительны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82440" y="38160"/>
            <a:ext cx="878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атогенез хронического гаст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2"/>
          <p:cNvSpPr/>
          <p:nvPr/>
        </p:nvSpPr>
        <p:spPr>
          <a:xfrm>
            <a:off x="107640" y="381600"/>
            <a:ext cx="3816000" cy="36396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Заражение НР – оральный пу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3"/>
          <p:cNvSpPr/>
          <p:nvPr/>
        </p:nvSpPr>
        <p:spPr>
          <a:xfrm>
            <a:off x="96840" y="9104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Уреаза НР + мочевина желудка = амми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96840" y="174312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азрушение защитного слоя слизи и проникновение НР к гландулоци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5"/>
          <p:cNvSpPr/>
          <p:nvPr/>
        </p:nvSpPr>
        <p:spPr>
          <a:xfrm>
            <a:off x="214200" y="300024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вреждение клеток и выделение медиаторов воспа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4644000" y="3938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ервичный повреждающий ф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7"/>
          <p:cNvSpPr/>
          <p:nvPr/>
        </p:nvSpPr>
        <p:spPr>
          <a:xfrm>
            <a:off x="4644000" y="123372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азрушение защитного слоя слиз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4714920" y="3000240"/>
            <a:ext cx="3816000" cy="118692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вреждение париетальных клеток и выработка аутоантител к париетальным клет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9"/>
          <p:cNvSpPr/>
          <p:nvPr/>
        </p:nvSpPr>
        <p:spPr>
          <a:xfrm>
            <a:off x="250560" y="450900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езкое усиление процессов реген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227160" y="57884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тставание процессов дифференцир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11"/>
          <p:cNvSpPr/>
          <p:nvPr/>
        </p:nvSpPr>
        <p:spPr>
          <a:xfrm>
            <a:off x="4932000" y="500364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бразование неполноценных морфологически и функционально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Выгнутая вправо стрелка 13"/>
          <p:cNvSpPr/>
          <p:nvPr/>
        </p:nvSpPr>
        <p:spPr>
          <a:xfrm>
            <a:off x="3924000" y="40752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4" name="Выгнутая вправо стрелка 14"/>
          <p:cNvSpPr/>
          <p:nvPr/>
        </p:nvSpPr>
        <p:spPr>
          <a:xfrm>
            <a:off x="3924000" y="140760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5" name="Выгнутая вправо стрелка 15"/>
          <p:cNvSpPr/>
          <p:nvPr/>
        </p:nvSpPr>
        <p:spPr>
          <a:xfrm>
            <a:off x="8460360" y="45108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6" name="Выгнутая вправо стрелка 16"/>
          <p:cNvSpPr/>
          <p:nvPr/>
        </p:nvSpPr>
        <p:spPr>
          <a:xfrm>
            <a:off x="8460360" y="1725840"/>
            <a:ext cx="575640" cy="17560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Выгнутая вправо стрелка 17"/>
          <p:cNvSpPr/>
          <p:nvPr/>
        </p:nvSpPr>
        <p:spPr>
          <a:xfrm>
            <a:off x="3898800" y="256392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8" name="Стрелка вниз 18"/>
          <p:cNvSpPr/>
          <p:nvPr/>
        </p:nvSpPr>
        <p:spPr>
          <a:xfrm>
            <a:off x="1547640" y="3943800"/>
            <a:ext cx="456840" cy="564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49" name="Стрелка вниз 19"/>
          <p:cNvSpPr/>
          <p:nvPr/>
        </p:nvSpPr>
        <p:spPr>
          <a:xfrm>
            <a:off x="1547640" y="5154480"/>
            <a:ext cx="456840" cy="564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50" name="Выгнутая вниз стрелка 20"/>
          <p:cNvSpPr/>
          <p:nvPr/>
        </p:nvSpPr>
        <p:spPr>
          <a:xfrm>
            <a:off x="4043520" y="6237360"/>
            <a:ext cx="2508120" cy="50364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Стрелка вверх 21"/>
          <p:cNvSpPr/>
          <p:nvPr/>
        </p:nvSpPr>
        <p:spPr>
          <a:xfrm>
            <a:off x="5297760" y="4077000"/>
            <a:ext cx="569880" cy="754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52" name="Стрелка влево 22"/>
          <p:cNvSpPr/>
          <p:nvPr/>
        </p:nvSpPr>
        <p:spPr>
          <a:xfrm>
            <a:off x="4071960" y="3643200"/>
            <a:ext cx="642600" cy="213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3" name="Таблица 3"/>
          <p:cNvGraphicFramePr/>
          <p:nvPr/>
        </p:nvGraphicFramePr>
        <p:xfrm>
          <a:off x="142920" y="500040"/>
          <a:ext cx="9000720" cy="6520320"/>
        </p:xfrm>
        <a:graphic>
          <a:graphicData uri="http://schemas.openxmlformats.org/drawingml/2006/table">
            <a:tbl>
              <a:tblPr/>
              <a:tblGrid>
                <a:gridCol w="2791080"/>
                <a:gridCol w="2703240"/>
                <a:gridCol w="3506040"/>
              </a:tblGrid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тоиммунный гаст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еликобактерный гаст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имущественная лок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но, тело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нтральный отдел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палительная реа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або выраж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ражена значительно, гастрит ак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трофия желудо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ервичная (развивается изначаль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торичная (развивается в поздней стадии заболе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личие эрозий слизистой оболочки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чень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24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licobacter py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увство тяжести, нет локальной болезн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окальная болезненность, язвенно-подобная симпто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Д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  <a:ea typeface="Arial Unicode MS"/>
                        </a:rPr>
                        <a:t>испепсический синд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рыжка воздухом, изжога не характе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Изжога, отрыжка кисл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ипергастрине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раж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значительна или уровень гастрина в крови норм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00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ислотообразующая функция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езкое снижение, по — анацидное со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 начальной стадии заболевания — нормальная или повышенная, в поз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дии — снижена (но не анацидное состоя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витие В-12-дефицитной ане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четание с язвенной болезн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чень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24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иг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айне ред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107640" y="260640"/>
            <a:ext cx="903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9600" spc="-1" strike="noStrike">
                <a:solidFill>
                  <a:srgbClr val="ffc000"/>
                </a:solidFill>
                <a:latin typeface="Book Antiqua"/>
              </a:rPr>
              <a:t>Язвенная болезн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0" y="0"/>
            <a:ext cx="856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"/>
          <p:cNvSpPr/>
          <p:nvPr/>
        </p:nvSpPr>
        <p:spPr>
          <a:xfrm>
            <a:off x="214200" y="714240"/>
            <a:ext cx="8568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Основные симптомы и синдромы при заболеваниях Ж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285840" y="1857240"/>
            <a:ext cx="8568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Анатомические и физиологические особенности желудка и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357120" y="3000240"/>
            <a:ext cx="82864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Хронический гастрит и язвенная болезнь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елудка и 12-перстной ки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эт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патоген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линические про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нципы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фил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Num" idx="3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66BB7C-4622-44D0-975E-C8CBAF8AFF86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"/>
          <p:cNvSpPr/>
          <p:nvPr/>
        </p:nvSpPr>
        <p:spPr>
          <a:xfrm>
            <a:off x="104040" y="188640"/>
            <a:ext cx="8856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Язвенная болезнь — самостоятельное (первичное) хроническое рецидивирующее заболевание гастродуоденальной области с обра­зованием язв желудка и 12-перстной киш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 индустриально развитых странах язвенной болезнью страдает 6-10% взрослого насе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0" y="3714840"/>
            <a:ext cx="91436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локализ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кардиальной ча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малой кривизны желу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большой кривизны желу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препилорического отдела желуд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луковицы двенадцатиперстной киш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внелуковичного отдела (постбульбарные язв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0" y="857160"/>
            <a:ext cx="5071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клинико-морфологическим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ЯБ желуд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ЯБ двенадцатиперстной ки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214200" y="142920"/>
            <a:ext cx="864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лассификация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4071960" y="2571840"/>
            <a:ext cx="5071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форм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впервые выявл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рецидивирующ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0" y="214200"/>
            <a:ext cx="914364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лассификация.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фазам теч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остр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тихающее обостр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ремисс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тяжести теч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оброкачественно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затяжное (стабильно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грессирующе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доброкачественном течении язвенный дефект небольшой и неглубокий, рецидивы редки, осложнений нет. Консервативное лечение дает четкий эффект приблизительно через месяц. Для затяжного течения характерны неполный эффект лечения, большие сроки его; возможны рецидивы в течение первого года. Прогрессирующее течение характеризуется минимальным эффектом лечения, развитием осложнений; рецидивы час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0" y="0"/>
            <a:ext cx="91436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еобладает дуоденальная язва по сравнению с желудоч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Заболевание чаще встречается у мужчин, чем у женщин (соот­ношение мужчин и женщин составляет 4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 молодом возрасте чаще встречается язва 12-перстной кишки, в старшем возрасте — язва желуд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реди жителей города язвен­ная болезнь встречается чаще, чем среди сельского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-26280" y="1692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Этиолог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нфицирование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licobacter pylo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Острые и хронические психоэмоциональные стрессовые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Алиментарный фа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Злоупотребление алкоголем и кофе, кур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Влияние лекарственных сред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Заболевания, способствующие развитию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-26280" y="16920"/>
            <a:ext cx="914364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Заболевания, способствующие развитию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хронический обструктивный бронхит, бронхиальная астма, эмфизема легких (при этих заболеваниях развивается дыхательная недостаточность, гипоксемия, ишемия слизистой обо­лочки желудка и снижение активности его защитных фактор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болевания сердечно-сосудистой системы, сопровождающиеся развитием гипоксемии и ишемии органов и тканей, в том чис­ле жел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цирроз печ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болевания поджелудочной железы.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-26280" y="16920"/>
            <a:ext cx="91436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венная болезнь желудка и двенадцатиперстной кишки является хроническим рецидивирующим заболеванием, развивающимся у спортсменов в результате расстройств центральной нервной системы и гиперфункции системы «гипофиз — кора надпочечников» под влиянием больших психоэмоциональных напряжений, связанных с соревновательной деятельност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Рисунок 1" descr=""/>
          <p:cNvPicPr/>
          <p:nvPr/>
        </p:nvPicPr>
        <p:blipFill>
          <a:blip r:embed="rId1"/>
          <a:stretch/>
        </p:blipFill>
        <p:spPr>
          <a:xfrm>
            <a:off x="395640" y="1029960"/>
            <a:ext cx="8424720" cy="5481000"/>
          </a:xfrm>
          <a:prstGeom prst="rect">
            <a:avLst/>
          </a:prstGeom>
          <a:ln w="0">
            <a:noFill/>
          </a:ln>
        </p:spPr>
      </p:pic>
      <p:sp>
        <p:nvSpPr>
          <p:cNvPr id="666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ПАТОГЕНЕЗ Я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5292000" y="2493000"/>
            <a:ext cx="329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Факторы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6"/>
          <p:cNvSpPr/>
          <p:nvPr/>
        </p:nvSpPr>
        <p:spPr>
          <a:xfrm>
            <a:off x="0" y="3357000"/>
            <a:ext cx="410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Факторы а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Агрессивные фак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-26280" y="852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Хеликобактерная инф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-26280" y="151740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Гиперпродукция соляной кислоты и пеп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1800" y="223704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улъцерогенные алиментарные фак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0" y="471492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утоиммунная а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6"/>
          <p:cNvSpPr/>
          <p:nvPr/>
        </p:nvSpPr>
        <p:spPr>
          <a:xfrm>
            <a:off x="-48960" y="2895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тная диффузия водородных и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-48960" y="3619080"/>
            <a:ext cx="9143640" cy="821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Гастродуоденальная дисмоторика, дуоденогастральный рефлю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ащитные фак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-26280" y="852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Защитный слизистый барь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Box 3"/>
          <p:cNvSpPr/>
          <p:nvPr/>
        </p:nvSpPr>
        <p:spPr>
          <a:xfrm>
            <a:off x="-26280" y="151740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ктивная регенерация поверхностного эпит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1800" y="2237040"/>
            <a:ext cx="9143640" cy="1186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тимальное кровоснабжение слизистой оболочки желу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 12-перстной ки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0" y="531612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тивоулъцерогенные алиментарные фак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-48960" y="328536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нтродуоденальный кислотный торм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-30240" y="4034520"/>
            <a:ext cx="9143640" cy="821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Локальный синтез защитных простагландинов, эндорфинов и энкефалинов и других медиаторов защ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2"/>
          <p:cNvSpPr/>
          <p:nvPr/>
        </p:nvSpPr>
        <p:spPr>
          <a:xfrm>
            <a:off x="0" y="500040"/>
            <a:ext cx="903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Основные симптомы и синдр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Болевой 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0" y="3429000"/>
            <a:ext cx="903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Диспепсический синдр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07640" y="4857840"/>
            <a:ext cx="903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Другие симптомы и синдро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>
            <a:off x="-26280" y="18864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оль нейроэндокринных факторов в патогенезе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 патогенезе язвенной болезни участву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парасимпатический отдел вегетативной нервной систем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симпатоадреналовая систем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система гипоталамус-гипофиз-периферические эндокринные желез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гастроинтестинальные гормо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5" name="Таблица 4"/>
          <p:cNvGraphicFramePr/>
          <p:nvPr/>
        </p:nvGraphicFramePr>
        <p:xfrm>
          <a:off x="107640" y="369360"/>
          <a:ext cx="8834400" cy="668232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271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Локализация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эпигастральной области, в центре эпигастрия или слева от срединной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эпигастрии справа от срединной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68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атипичная локализация боли за грудиной или слева  при язвах кардиального от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ремя появления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анними называются боли, возникающие через 0.5-1 ч после еды, интен­сивность их постепенно нарастает; боли беспокоят больного в те­чение 1.5-2 ч, постепенно исчезаю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анние боли характерны для язв, локализованных в верхних отделах желуд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здние боли появляются через 1.5-2 ч после еды, ночные — ночью, голодные — через 6-7 ч после еды и прекращаются после приема пищи. Поздние, ноч­ные, голодные боли наиболее характерны для локализации язвы в антральном отделе и 12-перстной кишк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7" name="Таблица 4"/>
          <p:cNvGraphicFramePr/>
          <p:nvPr/>
        </p:nvGraphicFramePr>
        <p:xfrm>
          <a:off x="107640" y="369360"/>
          <a:ext cx="8834400" cy="642492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41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41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83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стрые ноющие, сверлящие, режущие, схваткообраз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ериодичность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Для язвенной болезни характерна перио­дичность появления боли. Обострение язвенной болезни продол­жается от нескольких дней до 6-8 недель, затем наступает фаза ремиссии, во время которой больные чувствуют себя хорошо, боли их не беспокоя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Купирование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сле приема антацидов, молока, антисекреторных препаратов, после рво­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сле еды («голодные» бо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3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Сезонность боли.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 Обострения язвенной болезни чаще наблюда­ется весной и осен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собенн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9" name="Таблица 4"/>
          <p:cNvGraphicFramePr/>
          <p:nvPr/>
        </p:nvGraphicFramePr>
        <p:xfrm>
          <a:off x="107640" y="369360"/>
          <a:ext cx="8834400" cy="629100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Диспептически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Изжо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дин из наиболее частых и характерных симптомов язвенной болезни. Она обусловлена желудочно-пищеводным рефлюксом и раздражением слизистой оболочки пищевода желудоч­ным содержимым, богатым соляной кислотой и пепсин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ры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47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вота и тошн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26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Аппетит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казываются от еды из-за боязни появ­ления боли после приема пищи («ситофобия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наруш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26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апоры и пон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 50 % случа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918200" cy="3673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сложнения язвенной болезни желудка и 12-ти перстной кишки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0" y="-428760"/>
            <a:ext cx="871272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500040" y="21420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Кровотечени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357120" y="128592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рфораци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5"/>
          <p:cNvSpPr/>
          <p:nvPr/>
        </p:nvSpPr>
        <p:spPr>
          <a:xfrm>
            <a:off x="428760" y="228600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нетраци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6"/>
          <p:cNvSpPr/>
          <p:nvPr/>
        </p:nvSpPr>
        <p:spPr>
          <a:xfrm>
            <a:off x="357120" y="4857840"/>
            <a:ext cx="8500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рерождение язвы в ра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7"/>
          <p:cNvSpPr/>
          <p:nvPr/>
        </p:nvSpPr>
        <p:spPr>
          <a:xfrm>
            <a:off x="428760" y="350028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Деформации и стеноз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Box 1"/>
          <p:cNvSpPr/>
          <p:nvPr/>
        </p:nvSpPr>
        <p:spPr>
          <a:xfrm>
            <a:off x="-26280" y="188640"/>
            <a:ext cx="9143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ровотечения из яз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звенная болезнь осложняется кровотечением приблизительно у каждого десятого больн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вные кровотечения возникают у 10-15% больных язвенной болезн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-26280" y="18864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Явные кровотечения из язвы характеризуются трем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основными синдромам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3"/>
          <p:cNvSpPr/>
          <p:nvPr/>
        </p:nvSpPr>
        <p:spPr>
          <a:xfrm>
            <a:off x="428760" y="2500200"/>
            <a:ext cx="821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кровавой рвото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285840" y="3643200"/>
            <a:ext cx="821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дегтеобразным стулом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357120" y="4786200"/>
            <a:ext cx="82148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симптомами острой кровопотер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1"/>
          <p:cNvSpPr/>
          <p:nvPr/>
        </p:nvSpPr>
        <p:spPr>
          <a:xfrm>
            <a:off x="-26280" y="188640"/>
            <a:ext cx="914364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ffff"/>
                </a:solidFill>
                <a:latin typeface="Book Antiqua"/>
              </a:rPr>
              <a:t>Кровавая рвота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наиболее характерна для кровотечения из язвы желудка и значительно реже наблюдается при язве 12-перстной кишки. Желудочное содержимое при кровавой рвоте обычно имеет вид кофейной гущ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"/>
          <p:cNvSpPr/>
          <p:nvPr/>
        </p:nvSpPr>
        <p:spPr>
          <a:xfrm>
            <a:off x="0" y="1357200"/>
            <a:ext cx="914364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Характерным признаком язвенного кровотечения является </a:t>
            </a: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внезапное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исчезновение болевого синдрома — симптом Бергм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3640" y="188640"/>
            <a:ext cx="82087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евой синдро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желудка и 12-перстной ки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печени и ЖВ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кишеч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поджелудочной желе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селез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сосудов брюшной пол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со стороны по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из брю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, иррадиирующие из грудной кле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передней брюшной ст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Box 1"/>
          <p:cNvSpPr/>
          <p:nvPr/>
        </p:nvSpPr>
        <p:spPr>
          <a:xfrm>
            <a:off x="0" y="642960"/>
            <a:ext cx="91436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solidFill>
                  <a:srgbClr val="ffffff"/>
                </a:solidFill>
                <a:latin typeface="Book Antiqua"/>
              </a:rPr>
              <a:t>Д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егтеобразный стул,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lena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меле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лена характеризуется жидкой или кашицеобразной консистенцией кала и его черным цветом. Необходимо отличать мелену от псевдомелены, т.е. черного оформленного стула, связанного с приемом черники, висмута, черемухи, ежевики, препаратов желе­за. В отличие от истинной мелены при псевдомелене стул имеет нормальную консистенцию и фор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"/>
          <p:cNvSpPr/>
          <p:nvPr/>
        </p:nvSpPr>
        <p:spPr>
          <a:xfrm>
            <a:off x="-26280" y="188640"/>
            <a:ext cx="914364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Book Antiqua"/>
              </a:rPr>
              <a:t>Потеря крови около 10% ОЦК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(400-500 мл) либо не вызывает общих симптомов (т.е. явлений шока, падения АД, нарушений сознания и другой симптоматики), либо общие нарушения будут слабо выражены (легкая тошнота, познабливание, сухость и соло­новатый привкус во рту, общая слаб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ебольшая тенденция к снижению АД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Book Antiqua"/>
              </a:rPr>
              <a:t>Потеря крови около 10-15% ОЦК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хорошо и быстро компенси­руется организмом путем выброса в кровоток депонированной кров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-26280" y="188640"/>
            <a:ext cx="9143640" cy="73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Потеря крови около 15-25% ОЦК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(700-1300 мл) вызывает разви­тие I стадии геморрагического шо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й фазе появляется следующая симптомат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льной в сознании, спокоен или иногда несколько возбужд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взволнован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жа бледна, руки и ноги холод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дкожные вены на руках в спавшемся состоя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ульс учащен до 90-100 в 1 мин, слабого на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Д остается нормальным или имеет тенденцию к сн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блюдается олигурия, количество отделяемой мочи снижается наполовину (при норме 1-1.2 мл/мин или 60-70 мл/ч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"/>
          <p:cNvSpPr/>
          <p:nvPr/>
        </p:nvSpPr>
        <p:spPr>
          <a:xfrm>
            <a:off x="-26280" y="188640"/>
            <a:ext cx="914364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Потеря крови около 25-45%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ОДО (1300-1800 мл). При такой ве­личине кровопотери развивается декомпенсированный обратимый геморрагический шок. При этом активация симпатоадреналовой системы и высокое периферическое сопротивление не могут ком­пенсировать резко снизившийся вследствие кровопотери сердеч­ный выброс, что ведет к снижению системного АД и развитию следующей симптомат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бледность кожи выражена значите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цианоз видимых слизистых (губ, нос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дыш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ахикардия, глухие тоны серд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ульс очень слабого наполнения, частота пульса до 120-140 в 1 минут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Ц систолическое ниже 100 мм рт. ст., низкое пульсовое дав­л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лигурия (диурез менее 20 мл/ч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знание сохранено, но больные беспокойны, возбужд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"/>
          <p:cNvSpPr/>
          <p:nvPr/>
        </p:nvSpPr>
        <p:spPr>
          <a:xfrm>
            <a:off x="-26280" y="188640"/>
            <a:ext cx="9143640" cy="64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600" spc="-1" strike="noStrike">
                <a:solidFill>
                  <a:srgbClr val="ffffff"/>
                </a:solidFill>
                <a:latin typeface="Book Antiqua"/>
              </a:rPr>
              <a:t>Кровопотеря 50% ОЦК и более</a:t>
            </a: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 (2000-2500 мл) вызывает разви­тие тяжелейшего геморрагического шока (некоторые авторы назы­вают его декомпенсированным, необратимым). Последний термин в определенной степени условен, так как своевременно и пра­вильно проведенная терапия даже в этой стадии может привести к улучшению состояния больног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Основные клинические симптом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больной без созна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кожа очень бледна, покрыта холодным липким пото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одышк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пульс нитевидный, частота его больше 140 в 1 минуту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систолическое артериальное давление иногда не определяет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характерна олигоанур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1"/>
          <p:cNvSpPr/>
          <p:nvPr/>
        </p:nvSpPr>
        <p:spPr>
          <a:xfrm>
            <a:off x="0" y="188640"/>
            <a:ext cx="914364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ерфорация яз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Перфорация язвы наблюдает­ся у 3% больных язвенной болезнью желудка и 12-перстной кишки. По другим данным — у 6-20% больных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"/>
          <p:cNvSpPr/>
          <p:nvPr/>
        </p:nvSpPr>
        <p:spPr>
          <a:xfrm>
            <a:off x="-26280" y="188640"/>
            <a:ext cx="91436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ипичная перфорация язв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в свободную брюшную полость)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од болевого шока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од мнимого (ложного) благополуч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тонит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-26280" y="18864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енетрация яз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енетрация язвы — это проникновение язвы в смежные орга­ны и ткани. Язвы задней стенки луковицы 12-перстной кишки и постбульбарные язвы пенетрируют преимущественно в головку поджелудочной железы; реже — в крупные желчные пути, печень, печеночно-желудочную связку, очень редко — в толстую кишку и ее брыжей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"/>
          <p:cNvSpPr/>
          <p:nvPr/>
        </p:nvSpPr>
        <p:spPr>
          <a:xfrm>
            <a:off x="0" y="642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Боли в эпигастральной области становятся интенсивными и постоянными, они теряют характерный ранее суточный ритм и связь с приемом пищ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оявляется характерная иррадиация боли в зависимости от того, в какой орган пенетрирует яз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"/>
          <p:cNvSpPr/>
          <p:nvPr/>
        </p:nvSpPr>
        <p:spPr>
          <a:xfrm>
            <a:off x="-26280" y="188640"/>
            <a:ext cx="9143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теноз привратника и 12-перстной ки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звенная болезнь желудка и 12-перстной кишки осложняется стенозом привратника или начального отдела 12-перстной кишки в 6-15% случаев. Различают органический и функциональный пилородуоденальный стеноз. Органический — обусловлен постьяз- венными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рубцовым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изменениями, функциональный — отеком и спазмом пилородуоденальной з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2"/>
          <p:cNvSpPr/>
          <p:nvPr/>
        </p:nvSpPr>
        <p:spPr>
          <a:xfrm>
            <a:off x="285840" y="7858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арактер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285840" y="21430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иодичность б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285840" y="27860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уточный ритм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285840" y="342900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ительность болевого присту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6"/>
          <p:cNvSpPr/>
          <p:nvPr/>
        </p:nvSpPr>
        <p:spPr>
          <a:xfrm>
            <a:off x="285840" y="407196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должительность периода б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"/>
          <p:cNvSpPr/>
          <p:nvPr/>
        </p:nvSpPr>
        <p:spPr>
          <a:xfrm>
            <a:off x="285840" y="150012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окализация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285840" y="48578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висимость от приема пищ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357120" y="55720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счезновение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214200" y="21420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характеристики болевого синдр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"/>
          <p:cNvSpPr/>
          <p:nvPr/>
        </p:nvSpPr>
        <p:spPr>
          <a:xfrm>
            <a:off x="-26280" y="188640"/>
            <a:ext cx="914364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тен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Суб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Де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"/>
          <p:cNvSpPr/>
          <p:nvPr/>
        </p:nvSpPr>
        <p:spPr>
          <a:xfrm>
            <a:off x="-26280" y="188640"/>
            <a:ext cx="9143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Малигн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Боль в подложечной области становится постоянной, иррадиирует в спину, особенно интенсивной боль бывает ноч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чезает симптом локальности боли при пальпации, боль в эпигастрии становится диффузн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тмечается прогрессирующее падение массы тела боль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чезает аппет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оявляется немотивированная нарастающая слаб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характерны прогрессирующая анемия, постоянно положитель­ная реакция Грегерсена (реакция на скрытую кровь в кале) и стойкое снижение кислотности желудочного сока, обнаружение в нем молочной кислоты; стойкое увеличение СОЭ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рентгеноскопии желудка выявляются признаки малигнизации язвы: широкий вход в язвенный кратер, атипичный рельеф слизистой вокруг «ниши», исчезновение складок и перисталь­тики в пораженном сегменте, вал инфильтрации вокруг язвы превышает диаметр кратера язвы, симптом погруженной ниши, появление дефекта наполн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7029000" cy="1949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Лечение хронического гастри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4" descr="I:\11.jpeg"/>
          <p:cNvPicPr/>
          <p:nvPr/>
        </p:nvPicPr>
        <p:blipFill>
          <a:blip r:embed="rId1"/>
          <a:stretch/>
        </p:blipFill>
        <p:spPr>
          <a:xfrm>
            <a:off x="2987640" y="2421000"/>
            <a:ext cx="40716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19280" y="122400"/>
            <a:ext cx="6381360" cy="15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Лечение хронического гастрита зависит от: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7499160" cy="392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а гастрита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орной функции желудка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зы заболева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619280" y="122400"/>
            <a:ext cx="638136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Лечение хронического гастрита включает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643520" cy="392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етотерапию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икаментозное ле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отерапевтическое лечение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32000" y="122400"/>
            <a:ext cx="666864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416360" cy="453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етотерапия – неотъемлемый компонент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я  любого типа хронического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стрита     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сматривает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е дробно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5 – 6 раз в день)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а не долж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ть горяче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Рисунок 3" descr="http://im2-tub-ru.yandex.net/i?id=26529427-54-72&amp;n=21"/>
          <p:cNvPicPr/>
          <p:nvPr/>
        </p:nvPicPr>
        <p:blipFill>
          <a:blip r:embed="rId1"/>
          <a:stretch/>
        </p:blipFill>
        <p:spPr>
          <a:xfrm>
            <a:off x="4356000" y="3068640"/>
            <a:ext cx="3671640" cy="3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160" cy="540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личии атрофии слизистой оболочки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нижении секреторной функции желудка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казана диета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усматривающая механическое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щажение в сочетании с химической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имуляцией секреторной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ктивности желудка: рацион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держит  мясные, рыбные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вощные супы, крепкие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льоны, нежирное мясо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рыбу, овощи, фрукты, соки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Рисунок 3" descr="http://im2-tub-ru.yandex.net/i?id=455354928-43-72&amp;n=21"/>
          <p:cNvPicPr/>
          <p:nvPr/>
        </p:nvPicPr>
        <p:blipFill>
          <a:blip r:embed="rId1"/>
          <a:stretch/>
        </p:blipFill>
        <p:spPr>
          <a:xfrm>
            <a:off x="5580000" y="3429000"/>
            <a:ext cx="2952360" cy="27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87280" y="122400"/>
            <a:ext cx="6813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1280" y="1719360"/>
            <a:ext cx="807516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ету назначают на период обострения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зни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сле наступления ремисси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мендуют полноценное питание с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трудно перевариваемых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уктов (жира, сметаны, сливок), а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же продуктов, вызывающих брожение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цельного молока, свежих изделий из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а, винограда)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03640" cy="158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Медикаментозное лечение хронического гастрита со сниженной секрецией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Содержимое 3" descr="http://im0-tub-ru.yandex.net/i?id=94635939-57-72&amp;n=21"/>
          <p:cNvPicPr/>
          <p:nvPr/>
        </p:nvPicPr>
        <p:blipFill>
          <a:blip r:embed="rId1"/>
          <a:stretch/>
        </p:blipFill>
        <p:spPr>
          <a:xfrm>
            <a:off x="3059280" y="2781360"/>
            <a:ext cx="349992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702900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Стимуляция желудочной секреции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55640" y="2071800"/>
            <a:ext cx="7930800" cy="405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к подорож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ст. л. 3 раза в день до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таглюци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епарат из листьев подорожника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½ - 1 ч.л. в ½ стакана тёплой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ы за 30 минут до еды 3 раза в день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Рисунок 3" descr="http://im1-tub-ru.yandex.net/i?id=225188007-53-72&amp;n=21"/>
          <p:cNvPicPr/>
          <p:nvPr/>
        </p:nvPicPr>
        <p:blipFill>
          <a:blip r:embed="rId1"/>
          <a:stretch/>
        </p:blipFill>
        <p:spPr>
          <a:xfrm>
            <a:off x="5651640" y="1736640"/>
            <a:ext cx="1714320" cy="185688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4" descr="http://im6-tub-ru.yandex.net/i?id=415117779-11-72&amp;n=21"/>
          <p:cNvPicPr/>
          <p:nvPr/>
        </p:nvPicPr>
        <p:blipFill>
          <a:blip r:embed="rId2"/>
          <a:stretch/>
        </p:blipFill>
        <p:spPr>
          <a:xfrm>
            <a:off x="6084720" y="4441680"/>
            <a:ext cx="2133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0" y="0"/>
            <a:ext cx="903600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Диспепсический 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Тошн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Рв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Изжог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Отрыж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Понос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Запор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Метеориз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6913080" cy="929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Заместитель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919640" cy="54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туральный желудочный с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– 2 ст.л. во время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цидин-пепсин (бетацид, аципепсо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25 – 0,5 в ¼ стакана воды во время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бом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 0,2 во время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Рисунок 3" descr="http://im1-tub-ru.yandex.net/i?id=385229807-54-72&amp;n=21"/>
          <p:cNvPicPr/>
          <p:nvPr/>
        </p:nvPicPr>
        <p:blipFill>
          <a:blip r:embed="rId1"/>
          <a:stretch/>
        </p:blipFill>
        <p:spPr>
          <a:xfrm>
            <a:off x="5867280" y="1541520"/>
            <a:ext cx="1714320" cy="1642680"/>
          </a:xfrm>
          <a:prstGeom prst="rect">
            <a:avLst/>
          </a:prstGeom>
          <a:ln w="0">
            <a:noFill/>
          </a:ln>
        </p:spPr>
      </p:pic>
      <p:pic>
        <p:nvPicPr>
          <p:cNvPr id="739" name="Рисунок 4" descr="http://im5-tub-ru.yandex.net/i?id=185791389-24-72&amp;n=21"/>
          <p:cNvPicPr/>
          <p:nvPr/>
        </p:nvPicPr>
        <p:blipFill>
          <a:blip r:embed="rId2"/>
          <a:stretch/>
        </p:blipFill>
        <p:spPr>
          <a:xfrm>
            <a:off x="6748560" y="3441600"/>
            <a:ext cx="1666440" cy="149976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5" descr="http://im4-tub-ru.yandex.net/i?id=291054476-68-72&amp;n=21"/>
          <p:cNvPicPr/>
          <p:nvPr/>
        </p:nvPicPr>
        <p:blipFill>
          <a:blip r:embed="rId3"/>
          <a:stretch/>
        </p:blipFill>
        <p:spPr>
          <a:xfrm>
            <a:off x="5508720" y="508464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16000" y="122400"/>
            <a:ext cx="68846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ерментные препарат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9640" y="1068480"/>
            <a:ext cx="8389440" cy="550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а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др. во время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зим-фор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– 2 таб. во время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перед едой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зинор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1 – 2 др. во время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креа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0,5  г 3 раза в день до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е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капсуле (0,15 или 0,3) 3 – 4 раза в день до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цитрат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– 2 капсулы 3 раза в д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еды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Рисунок 3" descr="http://im0-tub-ru.yandex.net/i?id=238505068-62-72&amp;n=21"/>
          <p:cNvPicPr/>
          <p:nvPr/>
        </p:nvPicPr>
        <p:blipFill>
          <a:blip r:embed="rId1"/>
          <a:stretch/>
        </p:blipFill>
        <p:spPr>
          <a:xfrm>
            <a:off x="4780080" y="2693880"/>
            <a:ext cx="1356840" cy="1285560"/>
          </a:xfrm>
          <a:prstGeom prst="rect">
            <a:avLst/>
          </a:prstGeom>
          <a:ln w="0">
            <a:noFill/>
          </a:ln>
        </p:spPr>
      </p:pic>
      <p:pic>
        <p:nvPicPr>
          <p:cNvPr id="744" name="Рисунок 5" descr="http://im7-tub-ru.yandex.net/i?id=461870482-15-72&amp;n=21"/>
          <p:cNvPicPr/>
          <p:nvPr/>
        </p:nvPicPr>
        <p:blipFill>
          <a:blip r:embed="rId2"/>
          <a:stretch/>
        </p:blipFill>
        <p:spPr>
          <a:xfrm>
            <a:off x="6108840" y="3336840"/>
            <a:ext cx="1928520" cy="157140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6" descr="http://im7-tub-ru.yandex.net/i?id=31025307-53-72&amp;n=21"/>
          <p:cNvPicPr/>
          <p:nvPr/>
        </p:nvPicPr>
        <p:blipFill>
          <a:blip r:embed="rId3"/>
          <a:stretch/>
        </p:blipFill>
        <p:spPr>
          <a:xfrm>
            <a:off x="5292720" y="54291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46" name="Рисунок 7" descr="https://encrypted-tbn1.gstatic.com/images?q=tbn:ANd9GcSE8ZnmiqgHulOkfViMH7gw2G5O3ZMmY72NLWIG_PML3B3uJADu"/>
          <p:cNvPicPr/>
          <p:nvPr/>
        </p:nvPicPr>
        <p:blipFill>
          <a:blip r:embed="rId4"/>
          <a:stretch/>
        </p:blipFill>
        <p:spPr>
          <a:xfrm>
            <a:off x="6280200" y="1795320"/>
            <a:ext cx="2285640" cy="1285560"/>
          </a:xfrm>
          <a:prstGeom prst="rect">
            <a:avLst/>
          </a:prstGeom>
          <a:ln w="0">
            <a:noFill/>
          </a:ln>
        </p:spPr>
      </p:pic>
      <p:pic>
        <p:nvPicPr>
          <p:cNvPr id="747" name="Рисунок 8" descr="http://im4-tub-ru.yandex.net/i?id=221292404-41-72&amp;n=21"/>
          <p:cNvPicPr/>
          <p:nvPr/>
        </p:nvPicPr>
        <p:blipFill>
          <a:blip r:embed="rId5"/>
          <a:stretch/>
        </p:blipFill>
        <p:spPr>
          <a:xfrm>
            <a:off x="4780080" y="1041480"/>
            <a:ext cx="1499760" cy="12139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I:\kreon-277x300.jpg"/>
          <p:cNvPicPr/>
          <p:nvPr/>
        </p:nvPicPr>
        <p:blipFill>
          <a:blip r:embed="rId6"/>
          <a:stretch/>
        </p:blipFill>
        <p:spPr>
          <a:xfrm>
            <a:off x="6721560" y="4853160"/>
            <a:ext cx="1498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Цитопротектор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11280" y="1857240"/>
            <a:ext cx="8075160" cy="427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тер (сукральфат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гр. 3 раза в день до еды и на ночь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-но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смута трикалия дицитрат)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20 мг (1 таблетка) 4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 раза за 30 минут до еды и 4-й раз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сном)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Рисунок 3" descr="http://im6-tub-ru.yandex.net/i?id=14011236-03-72&amp;n=21"/>
          <p:cNvPicPr/>
          <p:nvPr/>
        </p:nvPicPr>
        <p:blipFill>
          <a:blip r:embed="rId1"/>
          <a:stretch/>
        </p:blipFill>
        <p:spPr>
          <a:xfrm>
            <a:off x="6084720" y="1716120"/>
            <a:ext cx="1856880" cy="171432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3" descr="http://im0-tub-ru.yandex.net/i?id=437397861-64-72&amp;n=21"/>
          <p:cNvPicPr/>
          <p:nvPr/>
        </p:nvPicPr>
        <p:blipFill>
          <a:blip r:embed="rId2"/>
          <a:stretch/>
        </p:blipFill>
        <p:spPr>
          <a:xfrm>
            <a:off x="6300720" y="3645000"/>
            <a:ext cx="1856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4360" y="122400"/>
            <a:ext cx="75308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Коррекция моторных нарушений функции желудка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4360" y="1941480"/>
            <a:ext cx="7786440" cy="420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рукал (метоклопрамид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01 за 30 минут до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мперидон (мотилиум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01 за 30 минут до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топрид (итомед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0 мг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раза в сутки до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Рисунок 3" descr="http://im0-tub-ru.yandex.net/i?id=72420737-00-72&amp;n=21"/>
          <p:cNvPicPr/>
          <p:nvPr/>
        </p:nvPicPr>
        <p:blipFill>
          <a:blip r:embed="rId1"/>
          <a:stretch/>
        </p:blipFill>
        <p:spPr>
          <a:xfrm>
            <a:off x="5141880" y="1457280"/>
            <a:ext cx="2295000" cy="1428480"/>
          </a:xfrm>
          <a:prstGeom prst="rect">
            <a:avLst/>
          </a:prstGeom>
          <a:ln w="0">
            <a:noFill/>
          </a:ln>
        </p:spPr>
      </p:pic>
      <p:pic>
        <p:nvPicPr>
          <p:cNvPr id="756" name="Рисунок 5" descr="http://im6-tub-ru.yandex.net/i?id=246408465-53-72&amp;n=21"/>
          <p:cNvPicPr/>
          <p:nvPr/>
        </p:nvPicPr>
        <p:blipFill>
          <a:blip r:embed="rId2"/>
          <a:stretch/>
        </p:blipFill>
        <p:spPr>
          <a:xfrm>
            <a:off x="5292720" y="3009960"/>
            <a:ext cx="2428560" cy="1714320"/>
          </a:xfrm>
          <a:prstGeom prst="rect">
            <a:avLst/>
          </a:prstGeom>
          <a:ln w="0">
            <a:noFill/>
          </a:ln>
        </p:spPr>
      </p:pic>
      <p:pic>
        <p:nvPicPr>
          <p:cNvPr id="757" name="Рисунок 5" descr="http://im2-tub-ru.yandex.net/i?id=261169546-37-72&amp;n=21"/>
          <p:cNvPicPr/>
          <p:nvPr/>
        </p:nvPicPr>
        <p:blipFill>
          <a:blip r:embed="rId3"/>
          <a:stretch/>
        </p:blipFill>
        <p:spPr>
          <a:xfrm>
            <a:off x="5135400" y="4724280"/>
            <a:ext cx="242856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73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и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24000" y="857160"/>
            <a:ext cx="8677080" cy="57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ительные средства, оказывающие противовоспалительное действ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тои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ысячелистника,      зверобоя,      цветков ромашки,        мяты,         подорож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½ стакана за 30 минут до еды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араты, возбуждающие аппетит (горечи)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тои полыни,   корня одуванчика,      трилистника,          корневища аира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¼ стакана за 30 минут до еды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3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812880" y="1952640"/>
            <a:ext cx="1304640" cy="1213920"/>
          </a:xfrm>
          <a:prstGeom prst="rect">
            <a:avLst/>
          </a:prstGeom>
          <a:ln w="0">
            <a:noFill/>
          </a:ln>
        </p:spPr>
      </p:pic>
      <p:pic>
        <p:nvPicPr>
          <p:cNvPr id="761" name="Рисунок 4" descr="http://im4-tub-ru.yandex.net/i?id=144792219-01-72&amp;n=21"/>
          <p:cNvPicPr/>
          <p:nvPr/>
        </p:nvPicPr>
        <p:blipFill>
          <a:blip r:embed="rId2"/>
          <a:stretch/>
        </p:blipFill>
        <p:spPr>
          <a:xfrm>
            <a:off x="2268360" y="1957320"/>
            <a:ext cx="1285560" cy="1213920"/>
          </a:xfrm>
          <a:prstGeom prst="rect">
            <a:avLst/>
          </a:prstGeom>
          <a:ln w="0">
            <a:noFill/>
          </a:ln>
        </p:spPr>
      </p:pic>
      <p:pic>
        <p:nvPicPr>
          <p:cNvPr id="762" name="Рисунок 5" descr="http://im2-tub-ru.yandex.net/i?id=168943923-05-72&amp;n=21"/>
          <p:cNvPicPr/>
          <p:nvPr/>
        </p:nvPicPr>
        <p:blipFill>
          <a:blip r:embed="rId3"/>
          <a:stretch/>
        </p:blipFill>
        <p:spPr>
          <a:xfrm>
            <a:off x="3656160" y="1995480"/>
            <a:ext cx="1785600" cy="1213920"/>
          </a:xfrm>
          <a:prstGeom prst="rect">
            <a:avLst/>
          </a:prstGeom>
          <a:ln w="0">
            <a:noFill/>
          </a:ln>
        </p:spPr>
      </p:pic>
      <p:pic>
        <p:nvPicPr>
          <p:cNvPr id="763" name="Рисунок 6" descr="http://im3-tub-ru.yandex.net/i?id=138537820-00-72&amp;n=21"/>
          <p:cNvPicPr/>
          <p:nvPr/>
        </p:nvPicPr>
        <p:blipFill>
          <a:blip r:embed="rId4"/>
          <a:stretch/>
        </p:blipFill>
        <p:spPr>
          <a:xfrm>
            <a:off x="5556240" y="1995480"/>
            <a:ext cx="1428480" cy="1213920"/>
          </a:xfrm>
          <a:prstGeom prst="rect">
            <a:avLst/>
          </a:prstGeom>
          <a:ln w="0">
            <a:noFill/>
          </a:ln>
        </p:spPr>
      </p:pic>
      <p:pic>
        <p:nvPicPr>
          <p:cNvPr id="764" name="Рисунок 7" descr="http://im4-tub-ru.yandex.net/i?id=446814063-38-72&amp;n=21"/>
          <p:cNvPicPr/>
          <p:nvPr/>
        </p:nvPicPr>
        <p:blipFill>
          <a:blip r:embed="rId5"/>
          <a:stretch/>
        </p:blipFill>
        <p:spPr>
          <a:xfrm>
            <a:off x="7056360" y="1957320"/>
            <a:ext cx="1147320" cy="1213920"/>
          </a:xfrm>
          <a:prstGeom prst="rect">
            <a:avLst/>
          </a:prstGeom>
          <a:ln w="0">
            <a:noFill/>
          </a:ln>
        </p:spPr>
      </p:pic>
      <p:pic>
        <p:nvPicPr>
          <p:cNvPr id="765" name="Рисунок 8" descr="http://im3-tub-ru.yandex.net/i?id=535864681-46-72&amp;n=21"/>
          <p:cNvPicPr/>
          <p:nvPr/>
        </p:nvPicPr>
        <p:blipFill>
          <a:blip r:embed="rId6"/>
          <a:stretch/>
        </p:blipFill>
        <p:spPr>
          <a:xfrm>
            <a:off x="941400" y="45007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66" name="Рисунок 9" descr="http://im2-tub-ru.yandex.net/i?id=111785652-10-72&amp;n=21"/>
          <p:cNvPicPr/>
          <p:nvPr/>
        </p:nvPicPr>
        <p:blipFill>
          <a:blip r:embed="rId7"/>
          <a:stretch/>
        </p:blipFill>
        <p:spPr>
          <a:xfrm>
            <a:off x="2579760" y="450216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767" name="Рисунок 10" descr="http://im1-tub-ru.yandex.net/i?id=106751693-02-72&amp;n=21"/>
          <p:cNvPicPr/>
          <p:nvPr/>
        </p:nvPicPr>
        <p:blipFill>
          <a:blip r:embed="rId8"/>
          <a:stretch/>
        </p:blipFill>
        <p:spPr>
          <a:xfrm>
            <a:off x="3814920" y="4502160"/>
            <a:ext cx="2238120" cy="1428480"/>
          </a:xfrm>
          <a:prstGeom prst="rect">
            <a:avLst/>
          </a:prstGeom>
          <a:ln w="0">
            <a:noFill/>
          </a:ln>
        </p:spPr>
      </p:pic>
      <p:pic>
        <p:nvPicPr>
          <p:cNvPr id="768" name="Рисунок 11" descr="http://im5-tub-ru.yandex.net/i?id=336060593-70-72&amp;n=21"/>
          <p:cNvPicPr/>
          <p:nvPr/>
        </p:nvPicPr>
        <p:blipFill>
          <a:blip r:embed="rId9"/>
          <a:stretch/>
        </p:blipFill>
        <p:spPr>
          <a:xfrm>
            <a:off x="6249960" y="4502160"/>
            <a:ext cx="2142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Витамин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4360" y="1857240"/>
            <a:ext cx="8002080" cy="427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тамины группы В (В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, никотиновая кислота, фолиевая кислот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Рисунок 3" descr="http://im6-tub-ru.yandex.net/i?id=364013652-62-72&amp;n=21"/>
          <p:cNvPicPr/>
          <p:nvPr/>
        </p:nvPicPr>
        <p:blipFill>
          <a:blip r:embed="rId1"/>
          <a:stretch/>
        </p:blipFill>
        <p:spPr>
          <a:xfrm>
            <a:off x="468360" y="3071880"/>
            <a:ext cx="1856880" cy="1785600"/>
          </a:xfrm>
          <a:prstGeom prst="rect">
            <a:avLst/>
          </a:prstGeom>
          <a:ln w="0">
            <a:noFill/>
          </a:ln>
        </p:spPr>
      </p:pic>
      <p:pic>
        <p:nvPicPr>
          <p:cNvPr id="772" name="Рисунок 4" descr="http://www.smed.ru/userfiles/products/original/40763.jpg"/>
          <p:cNvPicPr/>
          <p:nvPr/>
        </p:nvPicPr>
        <p:blipFill>
          <a:blip r:embed="rId2"/>
          <a:stretch/>
        </p:blipFill>
        <p:spPr>
          <a:xfrm>
            <a:off x="2325600" y="3108240"/>
            <a:ext cx="1928520" cy="1785600"/>
          </a:xfrm>
          <a:prstGeom prst="rect">
            <a:avLst/>
          </a:prstGeom>
          <a:ln w="0">
            <a:noFill/>
          </a:ln>
        </p:spPr>
      </p:pic>
      <p:pic>
        <p:nvPicPr>
          <p:cNvPr id="773" name="Рисунок 5" descr="http://im7-tub-ru.yandex.net/i?id=283894863-11-72&amp;n=21"/>
          <p:cNvPicPr/>
          <p:nvPr/>
        </p:nvPicPr>
        <p:blipFill>
          <a:blip r:embed="rId3"/>
          <a:stretch/>
        </p:blipFill>
        <p:spPr>
          <a:xfrm>
            <a:off x="4140360" y="3098880"/>
            <a:ext cx="1928520" cy="1785600"/>
          </a:xfrm>
          <a:prstGeom prst="rect">
            <a:avLst/>
          </a:prstGeom>
          <a:ln w="0">
            <a:noFill/>
          </a:ln>
        </p:spPr>
      </p:pic>
      <p:pic>
        <p:nvPicPr>
          <p:cNvPr id="774" name="Рисунок 6" descr="http://razbolit.ru/uploads/catalog/dsc02721.jpg"/>
          <p:cNvPicPr/>
          <p:nvPr/>
        </p:nvPicPr>
        <p:blipFill>
          <a:blip r:embed="rId4"/>
          <a:stretch/>
        </p:blipFill>
        <p:spPr>
          <a:xfrm>
            <a:off x="6068880" y="3117960"/>
            <a:ext cx="2285640" cy="17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8920" y="122400"/>
            <a:ext cx="674172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При развитии В</a:t>
            </a:r>
            <a:r>
              <a:rPr b="1" lang="ru-RU" sz="1600" spc="-1" strike="noStrike">
                <a:solidFill>
                  <a:srgbClr val="444d26"/>
                </a:solidFill>
                <a:latin typeface="Arial"/>
              </a:rPr>
              <a:t>12</a:t>
            </a: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-дефицитной анемии 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581600" cy="377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аю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ианокобалами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Рисунок 3" descr="http://im4-tub-ru.yandex.net/i?id=584792767-20-72&amp;n=21"/>
          <p:cNvPicPr/>
          <p:nvPr/>
        </p:nvPicPr>
        <p:blipFill>
          <a:blip r:embed="rId1"/>
          <a:stretch/>
        </p:blipFill>
        <p:spPr>
          <a:xfrm>
            <a:off x="4356000" y="2309760"/>
            <a:ext cx="38872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3640" y="1484640"/>
            <a:ext cx="7561080" cy="157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Медикаментозное лечение хронического гастрита с сохраненной и повышенной секрецией и ЯБ желудка и ДПК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4" descr="I:\087.gif"/>
          <p:cNvPicPr/>
          <p:nvPr/>
        </p:nvPicPr>
        <p:blipFill>
          <a:blip r:embed="rId1"/>
          <a:stretch/>
        </p:blipFill>
        <p:spPr>
          <a:xfrm>
            <a:off x="2988000" y="3285000"/>
            <a:ext cx="34286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42920" y="122400"/>
            <a:ext cx="695772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18080" cy="457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сутствии атрофии слизистой оболочки и повышенной секре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исключают продукты и блюда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ражающие слизистую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у желудка (солёные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чёные, жареные блюда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инады, остры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правы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аристые бульоны)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Рисунок 3" descr="http://im5-tub-ru.yandex.net/i?id=82587386-64-72&amp;n=21"/>
          <p:cNvPicPr/>
          <p:nvPr/>
        </p:nvPicPr>
        <p:blipFill>
          <a:blip r:embed="rId1"/>
          <a:stretch/>
        </p:blipFill>
        <p:spPr>
          <a:xfrm>
            <a:off x="5724360" y="3645000"/>
            <a:ext cx="2950920" cy="26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7280" y="122400"/>
            <a:ext cx="6813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    </a:t>
            </a: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Эрадикацион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26920" y="1719360"/>
            <a:ext cx="734508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Стандарты лечения кислотозависимых и ассоциированных с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Helicobacter pylori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болеваний 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сковское соглашение)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съезд Научного общества гастроэнтерологов России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5 марта 2010 год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1"/>
          <p:cNvSpPr/>
          <p:nvPr/>
        </p:nvSpPr>
        <p:spPr>
          <a:xfrm>
            <a:off x="107640" y="116640"/>
            <a:ext cx="878472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00"/>
                </a:solidFill>
                <a:latin typeface="Book Antiqua"/>
              </a:rPr>
              <a:t>Другие симптомы и синдром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Кровавая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Мел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Желт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Асц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Гепатоспленомегалия и гиперсплен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Симптом раздражения брюшины (Щеткина-Блюмберг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«Пузырные симптом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Симптом «головы медуз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Лихорад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Увеличение лимфоуз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3720" cy="85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Эрадикацион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7848360" cy="4717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лечения используютс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две линии антихеликобактерной терапии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начинают лечение с первой линии, при неэффективности  назначают вторую линию. Контрольное исследование для оценки эрадикации проводится через 4 – 6  недель после окончания лечения (в более ранние сроки можно получить ложноотрицательные результаты)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бор варианта лечения (в каждой линии есть несколько вариантов) зависит от наличия индивидуальной непереносимости больными тех или иных препаратов, от чувствительности штаммов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к препаратам, индивидуальных особенностей пациента.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785772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Пример антихеликобактерной терап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68360" y="1357200"/>
            <a:ext cx="8218080" cy="5285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из ингибиторов протонной помпы в стандартной дозе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Омепразол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0 мг 2 раза/сут (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лансопразол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30 мг,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рабепразол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0 мг,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эзомепразол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20 мг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Амоксициллин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1000 мг 2 раза/сут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ларитромицин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500 мг 2 раза/сут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0d0d0d"/>
                </a:solidFill>
                <a:uFillTx/>
                <a:latin typeface="Arial"/>
              </a:rPr>
              <a:t>ил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нифурател (макмирор)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400 мг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 раза/сут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 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 u="sng">
                <a:solidFill>
                  <a:srgbClr val="0d0d0d"/>
                </a:solidFill>
                <a:uFillTx/>
                <a:latin typeface="Arial"/>
              </a:rPr>
              <a:t>Висмута трикалия дицитрат (де-нол)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120 мг  4 раза/сут      или 240 мг  2 раза/сут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в течение 10 – 14 дней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Рисунок 3" descr="http://im0-tub-ru.yandex.net/i?id=437397861-64-72&amp;n=21"/>
          <p:cNvPicPr/>
          <p:nvPr/>
        </p:nvPicPr>
        <p:blipFill>
          <a:blip r:embed="rId1"/>
          <a:stretch/>
        </p:blipFill>
        <p:spPr>
          <a:xfrm>
            <a:off x="5148360" y="4932360"/>
            <a:ext cx="1714320" cy="1785600"/>
          </a:xfrm>
          <a:prstGeom prst="rect">
            <a:avLst/>
          </a:prstGeom>
          <a:ln w="0">
            <a:noFill/>
          </a:ln>
        </p:spPr>
      </p:pic>
      <p:pic>
        <p:nvPicPr>
          <p:cNvPr id="790" name="Рисунок 3" descr="http://im0-tub-ru.yandex.net/i?id=254393833-09-72&amp;n=21"/>
          <p:cNvPicPr/>
          <p:nvPr/>
        </p:nvPicPr>
        <p:blipFill>
          <a:blip r:embed="rId2"/>
          <a:stretch/>
        </p:blipFill>
        <p:spPr>
          <a:xfrm>
            <a:off x="6588000" y="1301760"/>
            <a:ext cx="2071440" cy="128556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4" descr="http://im6-tub-ru.yandex.net/i?id=28766123-04-72&amp;n=21"/>
          <p:cNvPicPr/>
          <p:nvPr/>
        </p:nvPicPr>
        <p:blipFill>
          <a:blip r:embed="rId3"/>
          <a:stretch/>
        </p:blipFill>
        <p:spPr>
          <a:xfrm>
            <a:off x="4821120" y="2071800"/>
            <a:ext cx="1571400" cy="142848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5" descr="http://im3-tub-ru.yandex.net/i?id=450267028-45-72&amp;n=21"/>
          <p:cNvPicPr/>
          <p:nvPr/>
        </p:nvPicPr>
        <p:blipFill>
          <a:blip r:embed="rId4"/>
          <a:stretch/>
        </p:blipFill>
        <p:spPr>
          <a:xfrm>
            <a:off x="4500720" y="3571920"/>
            <a:ext cx="2214360" cy="135684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6" descr="http://im7-tub-ru.yandex.net/i?id=338452644-52-72&amp;n=21"/>
          <p:cNvPicPr/>
          <p:nvPr/>
        </p:nvPicPr>
        <p:blipFill>
          <a:blip r:embed="rId5"/>
          <a:stretch/>
        </p:blipFill>
        <p:spPr>
          <a:xfrm>
            <a:off x="6742080" y="3571920"/>
            <a:ext cx="2066400" cy="121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688464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Антисекретор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26920" y="1928880"/>
            <a:ext cx="7273440" cy="420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исекреторные препараты могут применяться в комплексной терапии хронического гастрита типа В    в качестве симптоматического средства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0064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Антацид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440" cy="4646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льмаг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ч.л. (дозировочные) за 30 минут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еды или через 1,5 часа после еды и на ноч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сфалюг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пакетик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,5 часа после еды и на ноч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ало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таб. через 1,5 часа после еды и на ночь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с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таб. через 1 – 1,5 часа после еды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ночь 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4726080" y="2324160"/>
            <a:ext cx="1574280" cy="156168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5" descr="http://im2-tub-ru.yandex.net/i?id=572661168-56-72&amp;n=21"/>
          <p:cNvPicPr/>
          <p:nvPr/>
        </p:nvPicPr>
        <p:blipFill>
          <a:blip r:embed="rId2"/>
          <a:stretch/>
        </p:blipFill>
        <p:spPr>
          <a:xfrm>
            <a:off x="6696000" y="3554280"/>
            <a:ext cx="1626840" cy="142848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6" descr="http://im0-tub-ru.yandex.net/i?id=207148515-33-72&amp;n=21"/>
          <p:cNvPicPr/>
          <p:nvPr/>
        </p:nvPicPr>
        <p:blipFill>
          <a:blip r:embed="rId3"/>
          <a:stretch/>
        </p:blipFill>
        <p:spPr>
          <a:xfrm>
            <a:off x="6012000" y="4983120"/>
            <a:ext cx="1915920" cy="1628280"/>
          </a:xfrm>
          <a:prstGeom prst="rect">
            <a:avLst/>
          </a:prstGeom>
          <a:ln w="0">
            <a:noFill/>
          </a:ln>
        </p:spPr>
      </p:pic>
      <p:pic>
        <p:nvPicPr>
          <p:cNvPr id="801" name="Рисунок 7" descr="http://im2-tub-ru.yandex.net/i?id=233326586-70-72&amp;n=21"/>
          <p:cNvPicPr/>
          <p:nvPr/>
        </p:nvPicPr>
        <p:blipFill>
          <a:blip r:embed="rId4"/>
          <a:stretch/>
        </p:blipFill>
        <p:spPr>
          <a:xfrm>
            <a:off x="6608880" y="1428840"/>
            <a:ext cx="171432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056000" cy="102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Холинолитик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44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роп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ац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тифилл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ствие незначительное, непродолжительное, вызывают побочные эффекты, используются редко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строцепи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– 50 мг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30 минут до ед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Рисунок 3" descr="http://im6-tub-ru.yandex.net/i?id=14541370-34-72&amp;n=21"/>
          <p:cNvPicPr/>
          <p:nvPr/>
        </p:nvPicPr>
        <p:blipFill>
          <a:blip r:embed="rId1"/>
          <a:stretch/>
        </p:blipFill>
        <p:spPr>
          <a:xfrm>
            <a:off x="6638760" y="1843200"/>
            <a:ext cx="1834920" cy="12981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5508720" y="4135320"/>
            <a:ext cx="2447640" cy="194436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5" descr="http://im0-tub-ru.yandex.net/i?id=182741401-63-72&amp;n=21"/>
          <p:cNvPicPr/>
          <p:nvPr/>
        </p:nvPicPr>
        <p:blipFill>
          <a:blip r:embed="rId3"/>
          <a:stretch/>
        </p:blipFill>
        <p:spPr>
          <a:xfrm>
            <a:off x="2771640" y="1901880"/>
            <a:ext cx="1823760" cy="12394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6" descr="http://im0-tub-ru.yandex.net/i?id=648991401-63-72&amp;n=21"/>
          <p:cNvPicPr/>
          <p:nvPr/>
        </p:nvPicPr>
        <p:blipFill>
          <a:blip r:embed="rId4"/>
          <a:stretch/>
        </p:blipFill>
        <p:spPr>
          <a:xfrm>
            <a:off x="4567320" y="1628640"/>
            <a:ext cx="2071440" cy="17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992720" cy="1506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Блокаторы Н2-гистаминовых рецепторов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360" y="2286000"/>
            <a:ext cx="8218080" cy="384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нити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0,15 г 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моти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0,02 г 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Рисунок 4" descr="http://im2-tub-ru.yandex.net/i?id=109066098-65-72&amp;n=21"/>
          <p:cNvPicPr/>
          <p:nvPr/>
        </p:nvPicPr>
        <p:blipFill>
          <a:blip r:embed="rId1"/>
          <a:stretch/>
        </p:blipFill>
        <p:spPr>
          <a:xfrm>
            <a:off x="5003640" y="1916280"/>
            <a:ext cx="3239640" cy="187128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4" descr="https://encrypted-tbn3.gstatic.com/images?q=tbn:ANd9GcTXBVrWE7rQqOfBiBQNpoRi3aAPNQJZMXVEALgmYoRAnsdPW6xW"/>
          <p:cNvPicPr/>
          <p:nvPr/>
        </p:nvPicPr>
        <p:blipFill>
          <a:blip r:embed="rId2"/>
          <a:stretch/>
        </p:blipFill>
        <p:spPr>
          <a:xfrm>
            <a:off x="5148360" y="4162320"/>
            <a:ext cx="278568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11280" y="122400"/>
            <a:ext cx="7389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Ингибиторы протонного насоса (помпы)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496000" cy="453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м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мг 2 раза в сутки до еды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нсопразо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зом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– 4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Рисунок 3" descr="http://im0-tub-ru.yandex.net/i?id=209606819-12-72&amp;n=21"/>
          <p:cNvPicPr/>
          <p:nvPr/>
        </p:nvPicPr>
        <p:blipFill>
          <a:blip r:embed="rId1"/>
          <a:stretch/>
        </p:blipFill>
        <p:spPr>
          <a:xfrm>
            <a:off x="4194000" y="2386080"/>
            <a:ext cx="2104560" cy="1428480"/>
          </a:xfrm>
          <a:prstGeom prst="rect">
            <a:avLst/>
          </a:prstGeom>
          <a:ln w="0">
            <a:noFill/>
          </a:ln>
        </p:spPr>
      </p:pic>
      <p:pic>
        <p:nvPicPr>
          <p:cNvPr id="815" name="Рисунок 3" descr="http://im0-tub-ru.yandex.net/i?id=254393833-09-72&amp;n=21"/>
          <p:cNvPicPr/>
          <p:nvPr/>
        </p:nvPicPr>
        <p:blipFill>
          <a:blip r:embed="rId2"/>
          <a:stretch/>
        </p:blipFill>
        <p:spPr>
          <a:xfrm>
            <a:off x="6337440" y="1484280"/>
            <a:ext cx="2071440" cy="1285560"/>
          </a:xfrm>
          <a:prstGeom prst="rect">
            <a:avLst/>
          </a:prstGeom>
          <a:ln w="0">
            <a:noFill/>
          </a:ln>
        </p:spPr>
      </p:pic>
      <p:pic>
        <p:nvPicPr>
          <p:cNvPr id="816" name="Рисунок 5" descr="http://im6-tub-ru.yandex.net/i?id=165303825-65-72&amp;n=21"/>
          <p:cNvPicPr/>
          <p:nvPr/>
        </p:nvPicPr>
        <p:blipFill>
          <a:blip r:embed="rId3"/>
          <a:stretch/>
        </p:blipFill>
        <p:spPr>
          <a:xfrm>
            <a:off x="6337440" y="3522600"/>
            <a:ext cx="2390400" cy="1428480"/>
          </a:xfrm>
          <a:prstGeom prst="rect">
            <a:avLst/>
          </a:prstGeom>
          <a:ln w="0">
            <a:noFill/>
          </a:ln>
        </p:spPr>
      </p:pic>
      <p:pic>
        <p:nvPicPr>
          <p:cNvPr id="817" name="Рисунок 6" descr="http://im1-tub-ru.yandex.net/i?id=6532364-47-72&amp;n=21"/>
          <p:cNvPicPr/>
          <p:nvPr/>
        </p:nvPicPr>
        <p:blipFill>
          <a:blip r:embed="rId4"/>
          <a:stretch/>
        </p:blipFill>
        <p:spPr>
          <a:xfrm>
            <a:off x="4859280" y="4981680"/>
            <a:ext cx="2466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372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изиотерапевтическое лечение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71640" y="2035080"/>
            <a:ext cx="6984720" cy="413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купирования болевого синдрома используют электрофорез с новокаином, платифиллином, парафиновые и озокеритовые аппликации, грязелечение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122400"/>
            <a:ext cx="7461000" cy="15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Санаторно-курортное лечение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488000" cy="399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анаторно-курортное лечение с учётом кислотообразующей функции желудка (Ессентуки, Железноводск) показано больным в период ремиссии. 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87280" y="214200"/>
            <a:ext cx="674172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Минеральные вод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75240" cy="5078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оничес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стрите с секреторной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аточность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ют хлоридные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лоридно-гидрокарбонатные натриевые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достаточной минерализации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ссентуки № 4, № 17 и др.)  за 15 – 20 минут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приёма пищи  в тёплом виде по ½ стакана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оническом гастрите с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хранённой и     повышенной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креци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воды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й минерализации (Боржоми,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яновская, Смирновская )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догретом    виде за 1 – 1,5 часа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еды 3 раза в день   по ½ - 1 стакану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Рисунок 3" descr="http://im0-tub-ru.yandex.net/i?id=21553003-61-72&amp;n=21"/>
          <p:cNvPicPr/>
          <p:nvPr/>
        </p:nvPicPr>
        <p:blipFill>
          <a:blip r:embed="rId1"/>
          <a:stretch/>
        </p:blipFill>
        <p:spPr>
          <a:xfrm>
            <a:off x="6181560" y="14400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825" name="Рисунок 4" descr="http://im6-tub-ru.yandex.net/i?id=446632290-65-72&amp;n=21"/>
          <p:cNvPicPr/>
          <p:nvPr/>
        </p:nvPicPr>
        <p:blipFill>
          <a:blip r:embed="rId2"/>
          <a:stretch/>
        </p:blipFill>
        <p:spPr>
          <a:xfrm>
            <a:off x="7264440" y="14400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826" name="Рисунок 6" descr="http://im2-tub-ru.yandex.net/i?id=148078163-39-72&amp;n=21"/>
          <p:cNvPicPr/>
          <p:nvPr/>
        </p:nvPicPr>
        <p:blipFill>
          <a:blip r:embed="rId3"/>
          <a:stretch/>
        </p:blipFill>
        <p:spPr>
          <a:xfrm>
            <a:off x="5332320" y="3990960"/>
            <a:ext cx="1215720" cy="1856880"/>
          </a:xfrm>
          <a:prstGeom prst="rect">
            <a:avLst/>
          </a:prstGeom>
          <a:ln w="0">
            <a:noFill/>
          </a:ln>
        </p:spPr>
      </p:pic>
      <p:pic>
        <p:nvPicPr>
          <p:cNvPr id="827" name="Рисунок 7" descr="http://im5-tub-ru.yandex.net/i?id=113321385-01-72&amp;n=21"/>
          <p:cNvPicPr/>
          <p:nvPr/>
        </p:nvPicPr>
        <p:blipFill>
          <a:blip r:embed="rId4"/>
          <a:stretch/>
        </p:blipFill>
        <p:spPr>
          <a:xfrm>
            <a:off x="6550200" y="3981600"/>
            <a:ext cx="1285560" cy="1856880"/>
          </a:xfrm>
          <a:prstGeom prst="rect">
            <a:avLst/>
          </a:prstGeom>
          <a:ln w="0">
            <a:noFill/>
          </a:ln>
        </p:spPr>
      </p:pic>
      <p:pic>
        <p:nvPicPr>
          <p:cNvPr id="828" name="Рисунок 8" descr="http://im0-tub-ru.yandex.net/i?id=535405739-57-72&amp;n=21"/>
          <p:cNvPicPr/>
          <p:nvPr/>
        </p:nvPicPr>
        <p:blipFill>
          <a:blip r:embed="rId5"/>
          <a:stretch/>
        </p:blipFill>
        <p:spPr>
          <a:xfrm>
            <a:off x="7835760" y="3981600"/>
            <a:ext cx="45216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Рисунок 3" descr="п1.JPG"/>
          <p:cNvPicPr/>
          <p:nvPr/>
        </p:nvPicPr>
        <p:blipFill>
          <a:blip r:embed="rId1"/>
          <a:stretch/>
        </p:blipFill>
        <p:spPr>
          <a:xfrm>
            <a:off x="120600" y="0"/>
            <a:ext cx="90230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"/>
          <p:cNvSpPr/>
          <p:nvPr/>
        </p:nvSpPr>
        <p:spPr>
          <a:xfrm>
            <a:off x="0" y="571320"/>
            <a:ext cx="9143640" cy="638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ание должно быть сбалансированным и полноценным. В пище должно содержаться достаточно углеводов, жиров, клетчатки, белков, витаминов и микро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"/>
          <p:cNvSpPr/>
          <p:nvPr/>
        </p:nvSpPr>
        <p:spPr>
          <a:xfrm>
            <a:off x="0" y="1643040"/>
            <a:ext cx="9143640" cy="39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надо часто и понемногу – не менее четырех раз небольшими пор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4"/>
          <p:cNvSpPr/>
          <p:nvPr/>
        </p:nvSpPr>
        <p:spPr>
          <a:xfrm>
            <a:off x="0" y="2500200"/>
            <a:ext cx="9143640" cy="699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ренний прием пищи обязателен. Ужинать нужно не позднее 6–7 часов, то есть за 4 часа до сна. Избегать переедания на ночь, исключить «сухомят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5"/>
          <p:cNvSpPr/>
          <p:nvPr/>
        </p:nvSpPr>
        <p:spPr>
          <a:xfrm>
            <a:off x="0" y="5572080"/>
            <a:ext cx="9143640" cy="699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людение личной гигиены поможет предотвратить заражение бактерией Helicobacterpylori, являющейся одной из причин появления язвы или гастр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6"/>
          <p:cNvSpPr/>
          <p:nvPr/>
        </p:nvSpPr>
        <p:spPr>
          <a:xfrm>
            <a:off x="0" y="3571920"/>
            <a:ext cx="9143640" cy="91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стфуды, недоброкачественная, трудноперевариваемая пища, а также продукты с большим количеством консервантов и красителей, не обеспечивают полноценное функционирование слизистой жел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7"/>
          <p:cNvSpPr/>
          <p:nvPr/>
        </p:nvSpPr>
        <p:spPr>
          <a:xfrm>
            <a:off x="0" y="4643280"/>
            <a:ext cx="9143640" cy="39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ение слишком горячей и холодной пищи, осторожно с крепким алкого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2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Сеть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  <Words>3492</Words>
  <Paragraphs>62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04:46Z</dcterms:created>
  <dc:creator>Sergey</dc:creator>
  <dc:description/>
  <dc:language>en-US</dc:language>
  <cp:lastModifiedBy>Sergey</cp:lastModifiedBy>
  <dcterms:modified xsi:type="dcterms:W3CDTF">2016-03-29T18:44:4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0</vt:r8>
  </property>
</Properties>
</file>