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E4903-8FE7-42FD-BD10-1AFDA775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величины содержания кальция в сыворотке крови следующ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щ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0—2,5 ммоль/л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онизирован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05—1,30 ммоль/л; в моче —  2,5 –­ 7,5 ммоль/сут; в спинномозговой жидкости — 1,05 – 1,35 ммоль/л; в слюне — 1,15 – 2,75 ммоль/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F960E-CC25-461F-BC08-EAC80B9B5D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763-66E0-458B-B113-B61BC41E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D2A-77AC-4903-9C9A-6A7B0CDD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D64-843D-4B7C-BEE3-78E03CD7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9F2-A875-4035-AF89-110C6F83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8E28-ABE5-400C-9C56-228AF5D8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4939-F7AE-42D2-AF30-B82194A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CD75-32C8-4FB8-A363-36294053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12C0-025B-43AD-8003-1BCA9F9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8F17-C9D0-495C-B7C8-A4C80D5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8BF-32ED-44F8-8AE2-6D3A179D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5692-A710-4D07-9760-A514148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D81-A686-436B-ACF3-96723CF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9A45-68EA-4D2A-8743-A3C7AAB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F025-5376-4A76-AC98-3F5B88BB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5B3C-B9F4-47CA-B46B-9F6480D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0C7-52A9-4A72-A94E-7836A3DF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865-8689-484B-B93D-C059432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BC7-0650-4F89-A0AF-8DD0913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ED9-C31F-4121-AF15-6400676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881-E0D2-45E0-9D74-42EE32FE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2EC-23C4-41A5-8EA6-8B41BE9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EB2-13BF-4760-A120-BFFFD28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D93-33D2-41CE-8890-C716A3EC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BF8-D39C-4A84-AA85-2B7FCD3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C7D7496-DC64-41AD-BC37-B7E4AAC25854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40ADF8-31B9-45D9-A470-ECF979655A46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аркоидо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Bookman Old Style"/>
              </a:rPr>
              <a:t>Выполнила: Гуно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71320" y="42876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ГБОУ ДПО Иркутская государственная медицинская академия последиплом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афедра клинической аллергологии и пульмо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928800" y="6143760"/>
            <a:ext cx="7286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Иркутск,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Анамне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ённость семейного саркоидоза составляла 1,7% в Великобритании, 9,6% – в Ирландии и до 14% в других странах, 3,6% — в Финляндии и 4,3% —  в Япон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ьший риск развития саркоидоза был установлен у братьев и сестёр, за которыми следовали дяди, затем бабушки и дедушки, затем родител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Татарстане случаи семейного саркоидоза составляли 3%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Клиника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8652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аиболее ярко описывают свое состояние пациенты с остро текущим саркоидозом — </a:t>
            </a: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ндромом Лёфгрена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, который распознаётся на основании остро возникшей лихорадки, узловатой эритемы, острого артрита и двусторонней лимфаденопатии корней лёгки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429240" y="4572000"/>
            <a:ext cx="1579320" cy="178308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71320" y="4572000"/>
            <a:ext cx="2901960" cy="1761840"/>
          </a:xfrm>
          <a:prstGeom prst="rect">
            <a:avLst/>
          </a:prstGeom>
          <a:ln w="9525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4071960" y="4572000"/>
            <a:ext cx="1785600" cy="1773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Жалоб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Слабость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(30% до 80%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жет не иметь прямой корреляции с поражением тех или иных органов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Боль и дискомфорт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в грудной клетке являются частыми и необъяснимыми симптомами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оль в груди при саркоидозе не имеет прямой связи с характером и объёмом изменений, выявляемых даже на КТ. Больные нередко в течение всего активного периода болезни отмечают дискомфорт в области спины, жжение в межлопаточной области, тяжесть в груд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Одышка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может иметь различные причины — лёгочного, центрального, метаболического и сердечного генеза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аще всего она является признаком нарастающих рестриктивных нарушений 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 Больной обычно характеризует одышку как чувство нехватки воздуха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920" indent="-2419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600" spc="-1" strike="noStrike">
                <a:solidFill>
                  <a:srgbClr val="000000"/>
                </a:solidFill>
                <a:latin typeface="Gill Sans MT"/>
              </a:rPr>
              <a:t>Кашел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- обычно сухой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увеличении ВГЛУ он может быть обусловлен синдромом сдавления. На поздних стадиях кашель является следствием обширных интерстициальных изменений в лёгких, и относительно редко — следствием поражения плевр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изикальное обслед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не выявлять лёгочной патологии даже при выраженных изменениях на рентгенограммах органов грудной клетк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тето-акустические изменения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стречаются примерно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 20% больных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аркоидозом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Явные клинические признаки дыхательной недостаточности выявляются при саркоидозе органов дыхания сравнительно редко, как правило, в случае развития выраженных пневмосклеротических изменений и стади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н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4240" y="1219320"/>
            <a:ext cx="7572240" cy="52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ределах нормальных значений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ожет быть повышени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СОЭ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Увеличение числа лейкоцитов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периферической крови возможно при остром и подостром течении саркоидоза, к признакам активности относится также </a:t>
            </a: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лимфопения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химический анализ кров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1219320"/>
            <a:ext cx="8715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Ангиотензинпревращающий фермент (АПФ)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Локальная стимуляция макрофагов ведёт к аномальной секреции АПФ. В основу определения АПФ положен радиоиммунный метод. Для лиц старше 20 лет нормальными считаются значения от 18 до 67 единиц в 1 литре (u/l). У людей младшего возраста уровень АПФ значительно колеблется и это исследование обычно не используют. С достаточной степенью достоверности можно определить легочный процесс как саркоидоз только при достижении активности сывороточного АПФ более 150% от нормы. Повышение активности АПФ в сыворотке крови следует трактовать, как маркёр активности саркоидоза, а не значимый диагностический критерий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С-реактивный белок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 — белок острой фазы воспаления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200" spc="-1" strike="noStrike">
                <a:solidFill>
                  <a:srgbClr val="000000"/>
                </a:solidFill>
                <a:latin typeface="Gill Sans MT"/>
              </a:rPr>
              <a:t>Уровень кальция в крови и моче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. Гиперкальциемия при саркоидозе рассматривается, как проявление активного саркоидоза. Гиперкальцийурия встречается гораздо чаще. 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ба Квейма-Зильцбах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i="1" lang="ru-RU" sz="2600" spc="-1" strike="noStrike">
                <a:solidFill>
                  <a:srgbClr val="000000"/>
                </a:solidFill>
                <a:latin typeface="Gill Sans MT"/>
              </a:rPr>
              <a:t>Пробой Квейма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называется внутрикожное введение ткани лимфатического узла, поражённого саркоидозом, в ответ на которое у больных саркоидозом образуется папула, при биопсии которой находят характерные гранулёмы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Луи Зильцбах усовершенствовал этот тест, используя суспензию селезёнк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В настоящее время тест не рекомендован к широкому применению и может использоваться в хорошо оснащённых центрах, специально занимающихся диагностикой саркоидоза. При этой процедуре возможен занос инфекционного агента, если антиген плохо приготовлен или плохо проконтролирован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уберкулиновая проба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перечень обязательных первичных исследований как в международных, так и в отечественных рекомендация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роба Манту с 2 ТЕ ППД-Л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активном саркоидозе даёт отрицательный результа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лечении СКС больных саркоидозом ранее инфицированных туберкулёзом проба может становиться положительной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начимость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Диаскинтеста (внутрикожного введения аллергена туберкулёзного рекомбинантного — белка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PF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10-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SA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 окончательно не установлена, но в большинстве случаев его результат бывает отрицательны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Спирометрия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ледует проводить не реже 1 раза в 3 месяца в активную фазу процесса и ежегодно при последующем наблюдении. Выявляются как обструктивные (при этом БДТ отрицательный), так и рестриктивные изменения (может потребоваться проведение бодиплеизмографии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Гиперреа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ронхов, доказанная пробой с метахолином, часто сопровождает эндобронхиальный саркоидоз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Измерение диффузионной способности лёгких методом одиночного вдоха по оценке степени поглощения окиси углерода (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DLco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 -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более часто нарушения диффузионной способности у больных встречаются со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II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V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стадиями заболевания, с диссеминацией саркоидозных очагов и развитием пневмофиброза.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Функциональные исследова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рушения газообмена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могут быть выявлены при определении насыщения крови кислородом (сатурации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0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во время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теста с 6-минутной ходьбой (6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WT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)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Нагрузочные кардиопульмональные тесты -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менения газообмена при нагрузке может быть наиболее чувствительным методом, отражающим распространённость саркоидоза на его ранних стадиях. При саркоидозе наблюдается снижение максимальной аэробной ёмкост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x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) на 20-30%. Это отмечено у больных как с нормальной, так с нарушенной ФВД, что делает неясным механизм этого феномена. Объяснением гиповентиляции могли быть мышечная слабость или уменьшение стимула, исходящего из ЦНС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аркоидоз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стемное воспалительное заболевание (поражения мультисистемные)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Характеризуется образованием эпителиоидно-клеточных неказеифицирующихся гранулё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3160" indent="-2631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линические признаки саркоидоза многообразны, а отсутствие специфических диагностических тестов затрудняет неинвазивную диагностику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ые рентгенологические методики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наруживают симметричное увеличение лимфатических узлов корней лёгких и/или двусторонние очагово-интерстициальные изменения в лёгки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арактерно несоответствие между относительно удовлетворительным состоянием больного и распространенностью патологического процесса на снимках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озможна атипичная рентгенологическая картина саркоидоза — одностороннее увеличение ВГЛУ или лимфоузлов верхнего средостения, односторонняя диссеминации,  фокусы, инфильтраты, полости, буллы. 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080" indent="-2440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 5-10% случаев саркоидоза какие-либо изменения в лёгких на рентгенограммах вообще отсутствуют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пьютерная томограф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219320"/>
            <a:ext cx="8643600" cy="54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величение лимфатических узлов всех групп центрального средостения и корней лёгк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иссеминации смешанного, очагового и интерстициального характера, преобладают перилимфатические мелкоочаговые измен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имптом «матового стекла» различной протяженности и локализации, мелкие зоны консолидац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левропневмоцирроза, сотовое лёгкое - такие изменения обычно наблюдаются в верхних долях, в прикорневой област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гнитно-резонансная томография (МР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429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У пациентов с саркоидозом имеет схожие с КТ диагностические возможности в выявлении внутригрудной лимфаденопати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Но в оценке состояния лёгочной паренхимы МРТ значительно уступает КТ и поэтому не имеет самостоятельного диагностического знач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МРТ информативна при нейро- и кардиосаркоидоз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дионуклидные мет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006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7000"/>
          </a:bodyPr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з исследования при саркоидозе органов дыхания применяют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ерфузионную пульмоносцинтиграфию с ММА-Тс-99м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позитивную пульмоносцинтиграфию с цитратом Ga-67. 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ческое значение: для характеристики нарушения микроциркуляции лёгких и функции лимфатических узлов, как в зоне локализации процесса, так и в интактных отделах легкого, позволяют уточнить распространенность и степень активности воспалительного процесса у больных с различным течением саркоидоза органов дыхани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днако радионуклидное исследование не является методом нозологической диагностики и  положительный результат пневмосцинтиграфии с цитратом Ga-67 не является диагностическим для саркоидоза, поскольку повышенное накопление РФП в лёгких и ВГЛУ обнаруживается при опухолях, метастатическом поражении, различных воспалительных и гранулёматозных  заболеваниях, туберкулезе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озитронно-эмиссионная томография (ПЭТ)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Является одним из относительно новых методов лучевой диагностик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Наиболее распространенным индикатором является 18-фтор-2-диоксиглюкоза (18FDG). Кроме этого, в клинике используются радиофармпрепараты, меченные 13N и 15O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и саркоидозе ПЭТ позволяет получить достоверную информацию об активности процесса, а в сочетании с КТ, МРТ выявить локализацию повышенной метаболической активности, то есть топографию активного саркоидоза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ндоскопическое ультразвуковое исследование с выполнением  чрезпищеводной тонкоигольной аспирационной биопсии лимфатических узлов средостения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2932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тановится в настоящее время наиболее перспективным методом дифференциальной диагностики лимфаденопатии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саркоидозе: лимфоузлы хорошо отграничены друг от друга; структура узлов изоэхогенная или гипоэхогенная с атипичным кровотоком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Тем не менее, эти особенности не позволяют дифференцировать поражение лимфоузлов при саркоидозе от туберкулёзного или опухолевого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иопсия легки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7120" y="1219320"/>
            <a:ext cx="857232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ронхоскопические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резбронхиальная биопсия лёгких (ЧБЛ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лассическая чрезбронхиальная игловая биопсия внутригрудных лимфатических узлов - КЧИБ ВГЛУ</a:t>
            </a: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TBNA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Эндоскопические тонкоигольные пункции лимфатических узлов средостения под контролем эндосонографи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ямая биопсия слизистой бронхов (прямая 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Щеточная-биопсия слизистой бронхов (браш-биопсия)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Бронхоальвеолярный лаваж  (БАЛ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Хирургические методы биопсии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Торакотомия с биопсией лёгкого и внутригрудных лимфатических узлов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идеоторакоскопия/видео-ассистированная торакоскопия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ATS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8680" indent="-238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Медиастиноскопия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Бронхо-альвеолярный лаваж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4643280"/>
            <a:ext cx="832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Активная стадия: лимфоциты 20-80%, неактивная стадия: число лимфоцитов уменьшается (30%)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4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D8 &gt;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3,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4285800" cy="3218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горитм использования биопсий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40060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начала выполняются эндоскопические (бронхоскопические или чрезпищеводные)  биопсии, если есть изменения слизистой бронхов - прямая биопсия и браш-биопсия участков слизистой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выявлении увеличенных ВГЛУ, доступных для аспирационной биопсии выполняется еще и КЧИП ВГЛУ и/или чрезпищеводная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US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NA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Хирургические биопсии выполняются только  у тех пациентов, у которых не удалось эндоскопическими методами получить диагностически значимый материал, что составляет около 10% от больных саркоидозом. Чаще это ВАТС резекция, как наименее травматичная из операций, реже классическая открытая биопсия, еще реже медиастиноскопия (из-за малого числа доступных групп ВГЛУ)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Летальные исходы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сравнительно редки — от 0,3% от всех наблюдавшихся и до 7,4% от хронически болевших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Их причиной в основном является легочно-сердечная недостаточность, нейросаркоидоз, кардиосаркоидоз, а при проведении иммуносупрессивной терапии — как следствие присоединения неспецифической инфекции и  туберкулёза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Заболеваемость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4071960"/>
            <a:ext cx="814356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России изучена недостаточно, по имеющимся публикациям она в пределах от 2 до 7 на 100 тысяч взрослого населен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4500360" cy="2581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Список литературы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ульмонология. Национальное руководство. / Под. ред. акд. РАМН А.Г. Чучалина. – М.: ГЭОТАР-Медиа, 2009. – 960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Интерстициальные болезни легких. / Ред. Н.А. Мухин. – 2007. 432 с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Диагностика и лечение саркоидоза (Федеральные согласительные клинические рекомендации), 2014 г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Благодарю за внимание!!!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спространенность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России имеет вариации от 22 до 47 на 100 тыс. взрослого населения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В Казани в 2002 году проведён первый активный скрининг этих больных, распространённость составила 64,4 на 100 тыс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Имеются этнические особенности проявления заболевания — частые поражения кожи среди чернокожих больных, высокая распространённость кардиосаркоидоза и нейросаркоидоза — в Японии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Поражение легких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71960"/>
            <a:ext cx="8229240" cy="20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Чаще других органов саркоидоз поражает лёгкие и внутригрудные лимфатические узлы (до 90% наблюдений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5428800" cy="266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Содержимое 3"/>
          <p:cNvGraphicFramePr/>
          <p:nvPr/>
        </p:nvGraphicFramePr>
        <p:xfrm>
          <a:off x="285840" y="214200"/>
          <a:ext cx="8500680" cy="6452280"/>
        </p:xfrm>
        <a:graphic>
          <a:graphicData uri="http://schemas.openxmlformats.org/drawingml/2006/table">
            <a:tbl>
              <a:tblPr/>
              <a:tblGrid>
                <a:gridCol w="1699920"/>
                <a:gridCol w="4462920"/>
                <a:gridCol w="2337480"/>
              </a:tblGrid>
              <a:tr h="84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нтгенологическая кар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Частота встречаем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4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т изменений на рентгенограмме органов грудной клет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075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 паренхима лёгких не измене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283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Лимфаденопатия внутригрудных лимфатических узлов; патологические изменения паренхимы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97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атология лёгочной паренхимы без лимфаденопатии внутригрудных лимфатических узл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708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ТАДИЯ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Необратимый фиброз лёгки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4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описания течения заболевания используют понятия активной фазы (прогрессирования), фазы регрессии (спонтанной или под влиянием лечения) и фазы стабилизации (стационарной фазы)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В качестве осложнений описывают стенозы бронхов, ателектазы, легочную и легочно-сердечную недостаточность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238320" indent="-238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ак исход процесса рассматривают пневмосклероз, эмфизему лёгких, в т.ч. буллезную, фиброзные изменения корн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0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64653"/>
                </a:solidFill>
                <a:latin typeface="Bookman Old Style"/>
              </a:rPr>
              <a:t>Морфология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Субстрат саркоидоза - эпителиоидноклеточная гранулёма – компактное скопление макрофагов и эпителиоидных клеток, с наличием гигантских многоядерных клеток, лимфоцитов (активированные Т-лимфоциты (</a:t>
            </a: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D 4+</a:t>
            </a:r>
            <a:r>
              <a:rPr b="0" lang="ru-RU" sz="3500" spc="-1" strike="noStrike">
                <a:solidFill>
                  <a:srgbClr val="000000"/>
                </a:solidFill>
                <a:latin typeface="Gill Sans MT"/>
              </a:rPr>
              <a:t>)) и гранулоцитов или без них. </a:t>
            </a:r>
            <a:endParaRPr b="0" lang="ru-RU" sz="3500" spc="-1" strike="noStrike">
              <a:solidFill>
                <a:srgbClr val="000000"/>
              </a:solidFill>
              <a:latin typeface="Gill Sans MT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ри поражении паренхимы легких гранулёмы чаще всего локализуются в межальвеолярных перегородках, поражение бронхов и бронхиол встречается часто и описано у 15-55% пациентов ( с/о бронхов может быть не изменена, имеет место ее утолщение, отек, гиперемия), частота гранулёматозного ангиита может достигать 69%.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диагностик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Анамнез (воздействие факторов окружающей среды и профессии, наследственность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Физикальное обследование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зорная рентгенограмма органов грудной клетки в прямой и боковой проекциях, КТ органов грудной клетк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Исследование функции дыхания: спирометрия и D</a:t>
            </a:r>
            <a:r>
              <a:rPr b="0" lang="en-US" sz="31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co; 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Клинический анализ крови: белая кровь, красная кровь, тромбоциты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Содержание в сыворотке крови: кальция, печеночных ферментов (АлАТ, АсАТ, ЩФ), креатинин, азот мочевины кров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щий анализ мочи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ЭКГ (по показаниям мониторирование по Холтеру)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Обследование у офтальмолога;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3100" spc="-1" strike="noStrike">
                <a:solidFill>
                  <a:srgbClr val="000000"/>
                </a:solidFill>
                <a:latin typeface="Gill Sans MT"/>
              </a:rPr>
              <a:t>Туберкулиновые кожные пробы.</a:t>
            </a:r>
            <a:endParaRPr b="0" lang="ru-RU" sz="3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226</TotalTime>
  <Application>LibreOffice/7.4.7.2$Linux_X86_64 LibreOffice_project/40$Build-2</Application>
  <AppVersion>15.0000</AppVersion>
  <Words>2025</Words>
  <Paragraphs>146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28:06Z</dcterms:created>
  <dc:creator>Марина</dc:creator>
  <dc:description/>
  <dc:language>en-US</dc:language>
  <cp:lastModifiedBy>Марина</cp:lastModifiedBy>
  <dcterms:modified xsi:type="dcterms:W3CDTF">2015-05-06T22:50:07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