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276A6B-DF88-4940-839D-14E474428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величины содержания кальция в сыворотке крови следующ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щ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0—2,5 ммоль/л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онизирован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05—1,30 ммоль/л; в моче —  2,5 –­ 7,5 ммоль/сут; в спинномозговой жидкости — 1,05 – 1,35 ммоль/л; в слюне — 1,15 – 2,75 ммоль/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CD16B1-24BA-4AE1-BA3F-0E25AF3689E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A1C-6CD6-46DF-99FA-2154BAF8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795-4187-44AE-95AC-404F4A7D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AF2-968C-4516-AB16-A0580BD4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027-0519-4AE0-BBDC-EAA4AF86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05B-8344-4EE6-8CFB-3A2EB3D7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C89-A3E3-4BBD-A36F-6BC3875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1DD7-A94A-4C83-B2C4-DB000E5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A240-6557-4E7E-BA4A-33808359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8652-13C3-4965-8351-B8FC826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244-889A-4150-8210-C34F8C8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DD6-C131-430F-9B57-67C2903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A5C-CC13-4F2C-899F-D13AC77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2E54-671C-4FC7-A0F3-7B28026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7DB-22B5-401B-BD08-D37BE4A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B16A-183B-4D6B-99FD-72352CFF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786-0852-4826-8BBE-F423A22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012-686E-42D8-9BC2-8FAF97B8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C43-667B-4A89-85C9-98028F76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2F7-65D1-43E1-B0C6-CF6565D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1D9-4896-4485-ACFB-27A8515D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4A3-1FEA-47D0-BDFE-EFCC8B3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3A5-5B72-415F-A570-7C00AF4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A51-5CEF-4296-908C-8454129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F29-EE4F-410D-A598-E07E1A1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28C268-1854-4956-868D-B29DF4BB43DC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9DF296E-2FFB-42CB-87F2-9DF91D6196C3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аркоидо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Bookman Old Style"/>
              </a:rPr>
              <a:t>Выполнила: Гуно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320" y="42876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ГБОУ ДПО Иркутская государственная медицинская академия последиплом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афедра клинической аллергологии и пульмо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928800" y="6143760"/>
            <a:ext cx="728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Иркутск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Анамне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ённость семейного саркоидоза составляла 1,7% в Великобритании, 9,6% – в Ирландии и до 14% в других странах, 3,6% — в Финляндии и 4,3% —  в Япон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ьший риск развития саркоидоза был установлен у братьев и сестёр, за которыми следовали дяди, затем бабушки и дедушки, затем родител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Татарстане случаи семейного саркоидоза составляли 3%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Клиника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8652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ее ярко описывают свое состояние пациенты с остро текущим саркоидозом — 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ндромом Лёфгрен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, который распознаётся на основании остро возникшей лихорадки, узловатой эритемы, острого артрита и двусторонней лимфаденопатии корней лёгки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240" y="4572000"/>
            <a:ext cx="1579320" cy="17830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71320" y="4572000"/>
            <a:ext cx="2901960" cy="176184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4071960" y="4572000"/>
            <a:ext cx="1785600" cy="177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Жалоб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Слабость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(30% до 80%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жет не иметь прямой корреляции с поражением тех или иных органов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Боль и дискомфорт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в грудной клетке являются частыми и необъяснимыми симптомами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оль в груди при саркоидозе не имеет прямой связи с характером и объёмом изменений, выявляемых даже на КТ. Больные нередко в течение всего активного периода болезни отмечают дискомфорт в области спины, жжение в межлопаточной области, тяжесть в груд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Одышка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может иметь различные причины — лёгочного, центрального, метаболического и сердечного генеза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аще всего она является признаком нарастающих рестриктивных нарушений 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Больной обычно характеризует одышку как чувство нехватки воздуха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Кашел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- обычно сухой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увеличении ВГЛУ он может быть обусловлен синдромом сдавления. На поздних стадиях кашель является следствием обширных интерстициальных изменений в лёгких, и относительно редко — следствием поражения плевр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изикальное обслед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не выявлять лёгочной патологии даже при выраженных изменениях на рентгенограммах органов грудной клетк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тето-акустические изменения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речаются примерно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20% больных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аркоидозом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Явные клинические признаки дыхательной недостаточности выявляются при саркоидозе органов дыхания сравнительно редко, как правило, в случае развития выраженных пневмосклеротических изменений и стади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н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4240" y="1219320"/>
            <a:ext cx="757224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ределах нормальных значений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быть повышени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ОЭ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величение числа лейкоцитов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ериферической крови возможно при остром и подостром течении саркоидоза, к признакам активности относится такж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лимфопения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хим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Ангиотензинпревращающий фермент (АПФ)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Локальная стимуляция макрофагов ведёт к аномальной секреции АПФ. В основу определения АПФ положен радиоиммунный метод. Для лиц старше 20 лет нормальными считаются значения от 18 до 67 единиц в 1 литре (u/l). У людей младшего возраста уровень АПФ значительно колеблется и это исследование обычно не используют. С достаточной степенью достоверности можно определить легочный процесс как саркоидоз только при достижении активности сывороточного АПФ более 150% от нормы. Повышение активности АПФ в сыворотке крови следует трактовать, как маркёр активности саркоидоза, а не значимый диагностический критерий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С-реактивный белок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 — белок острой фазы воспаления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Уровень кальция в крови и моче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Гиперкальциемия при саркоидозе рассматривается, как проявление активного саркоидоза. Гиперкальцийурия встречается гораздо чаще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ба Квейма-Зильцбах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Пробой Квейма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называется внутрикожное введение ткани лимфатического узла, поражённого саркоидозом, в ответ на которое у больных саркоидозом образуется папула, при биопсии которой находят характерные гранулём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Луи Зильцбах усовершенствовал этот тест, используя суспензию селезёнк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В настоящее время тест не рекомендован к широкому применению и может использоваться в хорошо оснащённых центрах, специально занимающихся диагностикой саркоидоза. При этой процедуре возможен занос инфекционного агента, если антиген плохо приготовлен или плохо проконтролирован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уберкулиновая проба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перечень обязательных первичных исследований как в международных, так и в отечественных рекомендация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роба Манту с 2 ТЕ ППД-Л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активном саркоидозе даёт отрицательный результ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лечении СКС больных саркоидозом ранее инфицированных туберкулёзом проба может становиться положительной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начимост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Диаскинтеста (внутрикожного введения аллергена туберкулёзного рекомбинантного — белка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PF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SA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 окончательно не установлена, но в большинстве случаев его результат бывает отрицательны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Спирометрия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ледует проводить не реже 1 раза в 3 месяца в активную фазу процесса и ежегодно при последующем наблюдении. Выявляются как обструктивные (при этом БДТ отрицательный), так и рестриктивные изменения (может потребоваться проведение бодиплеизмографии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Гиперреа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ронхов, доказанная пробой с метахолином, часто сопровождает эндобронхиальный саркоидоз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Измерение диффузионной способности лёгких методом одиночного вдоха по оценке степени поглощения окиси углерода (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DLco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 -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олее часто нарушения диффузионной способности у больных встречаются со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тадиями заболевания, с диссеминацией саркоидозных очагов и развитием пневмофиброза.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рушения газообмена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гут быть выявлены при определении насыщения крови кислородом (сатурации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во время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теста с 6-минутной ходьбой (6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W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грузочные кардиопульмональные тесты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менения газообмена при нагрузке может быть наиболее чувствительным методом, отражающим распространённость саркоидоза на его ранних стадиях. При саркоидозе наблюдается снижение максимальной аэробной ёмкост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на 20-30%. Это отмечено у больных как с нормальной, так с нарушенной ФВД, что делает неясным механизм этого феномена. Объяснением гиповентиляции могли быть мышечная слабость или уменьшение стимула, исходящего из ЦНС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аркоидо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стемное воспалительное заболевание (поражения мультисистемные)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Характеризуется образованием эпителиоидно-клеточных неказеифицирующихся гранулё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линические признаки саркоидоза многообразны, а отсутствие специфических диагностических тестов затрудняет неинвазивную диагностику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ые рентгенологические методики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наруживают симметричное увеличение лимфатических узлов корней лёгких и/или двусторонние очагово-интерстициальные изменения в лёгки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арактерно несоответствие между относительно удовлетворительным состоянием больного и распространенностью патологического процесса на снимка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озможна атипичная рентгенологическая картина саркоидоза — одностороннее увеличение ВГЛУ или лимфоузлов верхнего средостения, односторонняя диссеминации,  фокусы, инфильтраты, полости, буллы. 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 5-10% случаев саркоидоза какие-либо изменения в лёгких на рентгенограммах вообще отсутствую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пьютерная томограф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6436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величение лимфатических узлов всех групп центрального средостения и корней лёгк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иссеминации смешанного, очагового и интерстициального характера, преобладают перилимфатические мелкоочаговые измен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мптом «матового стекла» различной протяженности и локализации, мелкие зоны консолидац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левропневмоцирроза, сотовое лёгкое - такие изменения обычно наблюдаются в верхних долях, в прикорневой област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гнитно-резонансная томография (МР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429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 пациентов с саркоидозом имеет схожие с КТ диагностические возможности в выявлении внутригрудной лимфаденопат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о в оценке состояния лёгочной паренхимы МРТ значительно уступает КТ и поэтому не имеет самостоятельного диагностического знач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РТ информативна при нейро- и кардиосаркоидоз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дионуклидные мет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 исследования при саркоидозе органов дыхания применяют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фузионную пульмоносцинтиграфию с ММА-Тс-99м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озитивную пульмоносцинтиграфию с цитратом Ga-67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ческое значение: для характеристики нарушения микроциркуляции лёгких и функции лимфатических узлов, как в зоне локализации процесса, так и в интактных отделах легкого, позволяют уточнить распространенность и степень активности воспалительного процесса у больных с различным течением саркоидоза органов дыхани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днако радионуклидное исследование не является методом нозологической диагностики и  положительный результат пневмосцинтиграфии с цитратом Ga-67 не является диагностическим для саркоидоза, поскольку повышенное накопление РФП в лёгких и ВГЛУ обнаруживается при опухолях, метастатическом поражении, различных воспалительных и гранулёматозных  заболеваниях, туберкулез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озитронно-эмиссионная томография (ПЭ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Является одним из относительно новых методов лучевой диагностик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аиболее распространенным индикатором является 18-фтор-2-диоксиглюкоза (18FDG). Кроме этого, в клинике используются радиофармпрепараты, меченные 13N и 15O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 саркоидозе ПЭТ позволяет получить достоверную информацию об активности процесса, а в сочетании с КТ, МРТ выявить локализацию повышенной метаболической активности, то есть топографию активного саркоидоза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ндоскопическое ультразвуковое исследование с выполнением  чрезпищеводной тонкоигольной аспирационной биопсии лимфатических узлов средостен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293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тановится в настоящее время наиболее перспективным методом дифференциальной диагностики лимфаденопати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: лимфоузлы хорошо отграничены друг от друга; структура узлов изоэхогенная или гипоэхогенная с атипичным кровотоко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ем не менее, эти особенности не позволяют дифференцировать поражение лимфоузлов при саркоидозе от туберкулёзного или опухолевого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псия легки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ронхоскопические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резбронхиальная биопсия лёгких (ЧБЛ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лассическая чрезбронхиальная игловая биопсия внутригрудных лимфатических узлов - КЧИБ ВГЛУ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TBNA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Эндоскопические тонкоигольные пункции лимфатических узлов средостения под контролем эндосонографи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ямая биопсия слизистой бронхов (прямая 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Щеточная-биопсия слизистой бронхов (браш-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Бронхоальвеолярный лаваж  (БАЛ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Хирургические методы биопсии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Торакотомия с биопсией лёгкого и внутригрудных лимфатических узлов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идеоторакоскопия/видео-ассистированная торакоскопия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TS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Медиастиноскопия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ронхо-альвеолярный лаваж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4643280"/>
            <a:ext cx="832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ктивная стадия: лимфоциты 20-80%, неактивная стадия: число лимфоцитов уменьшается (30%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4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8 &gt;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3,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4285800" cy="321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горитм использования биопсий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400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начала выполняются эндоскопические (бронхоскопические или чрезпищеводные)  биопсии, если есть изменения слизистой бронхов - прямая биопсия и браш-биопсия участков слизистой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выявлении увеличенных ВГЛУ, доступных для аспирационной биопсии выполняется еще и КЧИП ВГЛУ и/или чрезпищеводная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US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N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ирургические биопсии выполняются только  у тех пациентов, у которых не удалось эндоскопическими методами получить диагностически значимый материал, что составляет около 10% от больных саркоидозом. Чаще это ВАТС резекция, как наименее травматичная из операций, реже классическая открытая биопсия, еще реже медиастиноскопия (из-за малого числа доступных групп ВГЛУ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Летальные исх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сравнительно редки — от 0,3% от всех наблюдавшихся и до 7,4% от хронически болевш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Их причиной в основном является легочно-сердечная недостаточность, нейросаркоидоз, кардиосаркоидоз, а при проведении иммуносупрессивной терапии — как следствие присоединения неспецифической инфекции и  туберкулёза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Заболеваемость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4071960"/>
            <a:ext cx="814356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изучена недостаточно, по имеющимся публикациям она в пределах от 2 до 7 на 100 тысяч взрослого насел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500360" cy="2581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писок литературы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ульмонология. Национальное руководство. / Под. ред. акд. РАМН А.Г. Чучалина. – М.: ГЭОТАР-Медиа, 2009. – 960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нтерстициальные болезни легких. / Ред. Н.А. Мухин. – 2007. 432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ка и лечение саркоидоза (Федеральные согласительные клинические рекомендации), 2014 г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Благодарю за внимание!!!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спространенность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России имеет вариации от 22 до 47 на 100 тыс. взрослого населения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Казани в 2002 году проведён первый активный скрининг этих больных, распространённость составила 64,4 на 100 тыс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Имеются этнические особенности проявления заболевания — частые поражения кожи среди чернокожих больных, высокая распространённость кардиосаркоидоза и нейросаркоидоза — в Японии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Поражение легких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71960"/>
            <a:ext cx="822924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 других органов саркоидоз поражает лёгкие и внутригрудные лимфатические узлы (до 90% наблюдений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5428800" cy="266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Содержимое 3"/>
          <p:cNvGraphicFramePr/>
          <p:nvPr/>
        </p:nvGraphicFramePr>
        <p:xfrm>
          <a:off x="285840" y="214200"/>
          <a:ext cx="8500680" cy="6452280"/>
        </p:xfrm>
        <a:graphic>
          <a:graphicData uri="http://schemas.openxmlformats.org/drawingml/2006/table">
            <a:tbl>
              <a:tblPr/>
              <a:tblGrid>
                <a:gridCol w="1699920"/>
                <a:gridCol w="4462920"/>
                <a:gridCol w="2337480"/>
              </a:tblGrid>
              <a:tr h="84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нтгенологическая кар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Частота встречаем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4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т изменений на рентгенограмме органов грудной кле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075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 паренхима лёгких не измене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283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патологические изменения паренхимы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97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атология лёгочной паренхимы без лимфаденопатии внутригрудных лимфатических уз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708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обратимый фиброз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описания течения заболевания используют понятия активной фазы (прогрессирования), фазы регрессии (спонтанной или под влиянием лечения) и фазы стабилизации (стационарной фазы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качестве осложнений описывают стенозы бронхов, ателектазы, легочную и легочно-сердечную недостаточность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ак исход процесса рассматривают пневмосклероз, эмфизему лёгких, в т.ч. буллезную, фиброзные изменения корн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Морфолог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Субстрат саркоидоза - эпителиоидноклеточная гранулёма – компактное скопление макрофагов и эпителиоидных клеток, с наличием гигантских многоядерных клеток, лимфоцитов (активированные Т-лимфоциты (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D 4+</a:t>
            </a: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)) и гранулоцитов или без них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поражении паренхимы легких гранулёмы чаще всего локализуются в межальвеолярных перегородках, поражение бронхов и бронхиол встречается часто и описано у 15-55% пациентов ( с/о бронхов может быть не изменена, имеет место ее утолщение, отек, гиперемия), частота гранулёматозного ангиита может достигать 69%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диагности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Анамнез (воздействие факторов окружающей среды и профессии, наследственность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Физикальное обследование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зорная рентгенограмма органов грудной клетки в прямой и боковой проекциях, КТ органов грудной клетк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Исследование функции дыхания: спирометрия и D</a:t>
            </a: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co; 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Клинический анализ крови: белая кровь, красная кровь, тромбоциты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Содержание в сыворотке крови: кальция, печеночных ферментов (АлАТ, АсАТ, ЩФ), креатинин, азот мочевины кров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щий анализ моч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ЭКГ (по показаниям мониторирование по Холтеру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следование у офтальмолога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Туберкулиновые кожные пробы.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226</TotalTime>
  <Application>LibreOffice/7.4.7.2$Linux_X86_64 LibreOffice_project/40$Build-2</Application>
  <AppVersion>15.0000</AppVersion>
  <Words>2025</Words>
  <Paragraphs>146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28:06Z</dcterms:created>
  <dc:creator>Марина</dc:creator>
  <dc:description/>
  <dc:language>en-US</dc:language>
  <cp:lastModifiedBy>Марина</cp:lastModifiedBy>
  <dcterms:modified xsi:type="dcterms:W3CDTF">2015-05-06T22:50:0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