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media/image17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3.wmf" ContentType="image/x-wmf"/>
  <Override PartName="/ppt/media/image1.png" ContentType="image/png"/>
  <Override PartName="/ppt/media/image3.png" ContentType="image/png"/>
  <Override PartName="/ppt/media/image6.jpeg" ContentType="image/jpeg"/>
  <Override PartName="/ppt/media/hdphoto1.wdp" ContentType="image/vnd.ms-photo"/>
  <Override PartName="/ppt/media/image11.jpeg" ContentType="image/jpeg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1DE-9A36-4E05-93FE-7D241E67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20D-5DA3-45E1-AA17-561D8A5B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FD2-73FD-4889-8AD7-AAAFF1D7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698-1DF4-49F4-80FF-68197642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452-CA1C-4744-8AA9-6706AE9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06E-C08B-4D48-A033-FB69DC2D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879-F3BE-4988-BB3C-A6B95F06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E37-EAD8-4202-99D4-8B7A49DD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607-3A44-4621-BF7A-DE40DF2F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453-F351-4CA4-9EB1-4803DD0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D8C-29B5-448D-A0FA-09F32ED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F5A-0635-42B4-AE1B-5DDE6C09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263C97-A898-4566-97DF-FADCA4EB23F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microsoft.com/office/2007/relationships/hdphoto" Target="../media/hdphoto1.wdp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0" y="0"/>
            <a:ext cx="4563360" cy="51433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02560" y="1371600"/>
            <a:ext cx="31896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Meaning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of the wor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change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640" y="699480"/>
            <a:ext cx="1634040" cy="143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2246400" y="826920"/>
            <a:ext cx="2189520" cy="154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466560" y="2355840"/>
            <a:ext cx="1780560" cy="233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2555640" y="2499840"/>
            <a:ext cx="1359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5"/>
          <p:cNvSpPr/>
          <p:nvPr/>
        </p:nvSpPr>
        <p:spPr>
          <a:xfrm>
            <a:off x="0" y="0"/>
            <a:ext cx="4563360" cy="514332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4"/>
          <p:cNvGrpSpPr/>
          <p:nvPr/>
        </p:nvGrpSpPr>
        <p:grpSpPr>
          <a:xfrm>
            <a:off x="611640" y="1083600"/>
            <a:ext cx="3263040" cy="2874960"/>
            <a:chOff x="611640" y="1083600"/>
            <a:chExt cx="3263040" cy="287496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611640" y="1083600"/>
              <a:ext cx="3263040" cy="2874960"/>
              <a:chOff x="611640" y="1083600"/>
              <a:chExt cx="3263040" cy="2874960"/>
            </a:xfrm>
          </p:grpSpPr>
          <p:grpSp>
            <p:nvGrpSpPr>
              <p:cNvPr id="52" name="Группа 2"/>
              <p:cNvGrpSpPr/>
              <p:nvPr/>
            </p:nvGrpSpPr>
            <p:grpSpPr>
              <a:xfrm>
                <a:off x="611640" y="1083600"/>
                <a:ext cx="3263040" cy="2874960"/>
                <a:chOff x="611640" y="1083600"/>
                <a:chExt cx="3263040" cy="2874960"/>
              </a:xfrm>
            </p:grpSpPr>
            <p:pic>
              <p:nvPicPr>
                <p:cNvPr id="53" name="Picture 2" descr="http://www.xa-xa.org/uploads/posts/2013-03/thumbs/1363774241_98711807_00.jpg"/>
                <p:cNvPicPr/>
                <p:nvPr/>
              </p:nvPicPr>
              <p:blipFill>
                <a:blip r:embed="rId1"/>
                <a:srcRect l="9111" t="9921" r="9104" b="0"/>
                <a:stretch/>
              </p:blipFill>
              <p:spPr>
                <a:xfrm>
                  <a:off x="611640" y="1083600"/>
                  <a:ext cx="3263040" cy="2874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4" descr="http://s00.yaplakal.com/pics/pics_original/3/8/6/288683.jpg"/>
                <p:cNvPicPr/>
                <p:nvPr/>
              </p:nvPicPr>
              <p:blipFill>
                <a:blip r:embed="rId2">
                  <a:extLst>
                    <a:ext uri="{BEBA8EAE-BF5A-486C-A8C5-ECC9F3942E4B}">
                      <a14:imgProps xmlns:a14="http://schemas.microsoft.com/office/drawing/2010/main">
                        <a14:imgLayer r:embed="rId3">
                          <a14:imgEffect>
                            <a14:brightnessContrast amount="100000" bright="-12000" contrast="100000"/>
                          </a14:imgEffect>
                        </a14:imgLayer>
                      </a14:imgProps>
                    </a:ext>
                  </a:extLst>
                </a:blip>
                <a:srcRect l="-10007" t="12667" r="-4755" b="-13167"/>
                <a:stretch/>
              </p:blipFill>
              <p:spPr>
                <a:xfrm flipH="1" rot="15822000">
                  <a:off x="2061720" y="2133360"/>
                  <a:ext cx="584280" cy="218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5" name="Picture 7" descr="http://copypast.ru/foto9/3412/igrushechnaja_sumochka_1.jpg"/>
              <p:cNvPicPr/>
              <p:nvPr/>
            </p:nvPicPr>
            <p:blipFill>
              <a:blip r:embed="rId4"/>
              <a:stretch/>
            </p:blipFill>
            <p:spPr>
              <a:xfrm>
                <a:off x="2145240" y="2067840"/>
                <a:ext cx="1150920" cy="115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Picture 8" descr=""/>
            <p:cNvPicPr/>
            <p:nvPr/>
          </p:nvPicPr>
          <p:blipFill>
            <a:blip r:embed="rId5"/>
            <a:srcRect l="14613" t="14439" r="17254" b="20474"/>
            <a:stretch/>
          </p:blipFill>
          <p:spPr>
            <a:xfrm>
              <a:off x="1795320" y="2427840"/>
              <a:ext cx="69912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Группа 8"/>
          <p:cNvGrpSpPr/>
          <p:nvPr/>
        </p:nvGrpSpPr>
        <p:grpSpPr>
          <a:xfrm>
            <a:off x="5508000" y="1067040"/>
            <a:ext cx="2676600" cy="1493640"/>
            <a:chOff x="5508000" y="1067040"/>
            <a:chExt cx="2676600" cy="1493640"/>
          </a:xfrm>
        </p:grpSpPr>
        <p:sp>
          <p:nvSpPr>
            <p:cNvPr id="58" name="Овальная выноска 7"/>
            <p:cNvSpPr/>
            <p:nvPr/>
          </p:nvSpPr>
          <p:spPr>
            <a:xfrm>
              <a:off x="5508000" y="1067040"/>
              <a:ext cx="2676600" cy="1493640"/>
            </a:xfrm>
            <a:prstGeom prst="wedgeEllipseCallout">
              <a:avLst>
                <a:gd name="adj1" fmla="val -153130"/>
                <a:gd name="adj2" fmla="val -29829"/>
              </a:avLst>
            </a:prstGeom>
            <a:gradFill rotWithShape="0">
              <a:gsLst>
                <a:gs pos="0">
                  <a:srgbClr val="d9caee"/>
                </a:gs>
                <a:gs pos="100000">
                  <a:srgbClr val="f1eaf8"/>
                </a:gs>
              </a:gsLst>
              <a:lin ang="16200000"/>
            </a:gradFill>
            <a:ln>
              <a:solidFill>
                <a:srgbClr val="66006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9" name="TextBox 6"/>
            <p:cNvSpPr/>
            <p:nvPr/>
          </p:nvSpPr>
          <p:spPr>
            <a:xfrm>
              <a:off x="5662440" y="1272240"/>
              <a:ext cx="25113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Here is your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ch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9"/>
          <p:cNvSpPr/>
          <p:nvPr/>
        </p:nvSpPr>
        <p:spPr>
          <a:xfrm>
            <a:off x="5215680" y="3218760"/>
            <a:ext cx="326124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660066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Вот ваша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дача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065040" y="4083840"/>
            <a:ext cx="114408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660066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660066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4"/>
          <p:cNvGrpSpPr/>
          <p:nvPr/>
        </p:nvGrpSpPr>
        <p:grpSpPr>
          <a:xfrm>
            <a:off x="0" y="0"/>
            <a:ext cx="6193800" cy="5142960"/>
            <a:chOff x="0" y="0"/>
            <a:chExt cx="6193800" cy="5142960"/>
          </a:xfrm>
        </p:grpSpPr>
        <p:sp>
          <p:nvSpPr>
            <p:cNvPr id="63" name="Прямоугольник 2"/>
            <p:cNvSpPr/>
            <p:nvPr/>
          </p:nvSpPr>
          <p:spPr>
            <a:xfrm>
              <a:off x="0" y="0"/>
              <a:ext cx="4283640" cy="5142960"/>
            </a:xfrm>
            <a:prstGeom prst="rect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pic>
          <p:nvPicPr>
            <p:cNvPr id="64" name="Picture 3" descr=""/>
            <p:cNvPicPr/>
            <p:nvPr/>
          </p:nvPicPr>
          <p:blipFill>
            <a:blip r:embed="rId1"/>
            <a:stretch/>
          </p:blipFill>
          <p:spPr>
            <a:xfrm>
              <a:off x="361440" y="1131480"/>
              <a:ext cx="356076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"/>
            <p:cNvSpPr/>
            <p:nvPr/>
          </p:nvSpPr>
          <p:spPr>
            <a:xfrm>
              <a:off x="2932560" y="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Овальная выноска 3"/>
          <p:cNvSpPr/>
          <p:nvPr/>
        </p:nvSpPr>
        <p:spPr>
          <a:xfrm>
            <a:off x="4644000" y="771480"/>
            <a:ext cx="4032000" cy="2034000"/>
          </a:xfrm>
          <a:prstGeom prst="wedgeEllipseCallout">
            <a:avLst>
              <a:gd name="adj1" fmla="val -92833"/>
              <a:gd name="adj2" fmla="val 1828"/>
            </a:avLst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19050"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Could w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ange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our seats,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731480" y="3164400"/>
            <a:ext cx="3989520" cy="106452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Не могли бы 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меняться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мес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998440" y="4119480"/>
            <a:ext cx="918720" cy="5770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00206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782280" y="3750120"/>
            <a:ext cx="3076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girl wants to 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t the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8"/>
          <p:cNvSpPr/>
          <p:nvPr/>
        </p:nvSpPr>
        <p:spPr>
          <a:xfrm>
            <a:off x="-126720" y="0"/>
            <a:ext cx="4139640" cy="514332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71" name="Группа 25"/>
          <p:cNvGrpSpPr/>
          <p:nvPr/>
        </p:nvGrpSpPr>
        <p:grpSpPr>
          <a:xfrm>
            <a:off x="490680" y="0"/>
            <a:ext cx="5798520" cy="4428360"/>
            <a:chOff x="490680" y="0"/>
            <a:chExt cx="5798520" cy="4428360"/>
          </a:xfrm>
        </p:grpSpPr>
        <p:sp>
          <p:nvSpPr>
            <p:cNvPr id="72" name="TextBox 1"/>
            <p:cNvSpPr/>
            <p:nvPr/>
          </p:nvSpPr>
          <p:spPr>
            <a:xfrm>
              <a:off x="3027960" y="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Группа 23"/>
            <p:cNvGrpSpPr/>
            <p:nvPr/>
          </p:nvGrpSpPr>
          <p:grpSpPr>
            <a:xfrm>
              <a:off x="490680" y="483480"/>
              <a:ext cx="3012120" cy="3944880"/>
              <a:chOff x="490680" y="483480"/>
              <a:chExt cx="3012120" cy="3944880"/>
            </a:xfrm>
          </p:grpSpPr>
          <p:grpSp>
            <p:nvGrpSpPr>
              <p:cNvPr id="74" name="Группа 3"/>
              <p:cNvGrpSpPr/>
              <p:nvPr/>
            </p:nvGrpSpPr>
            <p:grpSpPr>
              <a:xfrm>
                <a:off x="490680" y="483480"/>
                <a:ext cx="3012120" cy="3944880"/>
                <a:chOff x="490680" y="483480"/>
                <a:chExt cx="3012120" cy="3944880"/>
              </a:xfrm>
            </p:grpSpPr>
            <p:pic>
              <p:nvPicPr>
                <p:cNvPr id="75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0680" y="483480"/>
                  <a:ext cx="3012120" cy="394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Прямоугольник 2"/>
                <p:cNvSpPr/>
                <p:nvPr/>
              </p:nvSpPr>
              <p:spPr>
                <a:xfrm>
                  <a:off x="1825200" y="1352520"/>
                  <a:ext cx="1473480" cy="1295640"/>
                </a:xfrm>
                <a:custGeom>
                  <a:avLst/>
                  <a:gdLst>
                    <a:gd name="textAreaLeft" fmla="*/ 0 w 1473480"/>
                    <a:gd name="textAreaRight" fmla="*/ 1473840 w 1473480"/>
                    <a:gd name="textAreaTop" fmla="*/ 0 h 1295640"/>
                    <a:gd name="textAreaBottom" fmla="*/ 1296000 h 1295640"/>
                  </a:gdLst>
                  <a:ahLst/>
                  <a:rect l="textAreaLeft" t="textAreaTop" r="textAreaRight" b="textAreaBottom"/>
                  <a:pathLst>
                    <a:path w="1331671" h="1296144">
                      <a:moveTo>
                        <a:pt x="0" y="15500"/>
                      </a:moveTo>
                      <a:lnTo>
                        <a:pt x="1331671" y="0"/>
                      </a:lnTo>
                      <a:lnTo>
                        <a:pt x="1331671" y="1296144"/>
                      </a:lnTo>
                      <a:lnTo>
                        <a:pt x="92989" y="1288394"/>
                      </a:lnTo>
                      <a:cubicBezTo>
                        <a:pt x="227308" y="853764"/>
                        <a:pt x="121403" y="636110"/>
                        <a:pt x="0" y="1550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>
                  <a:solidFill>
                    <a:srgbClr val="ff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77" name="Picture 6" descr="http://england.turizm-online.ru/images/cult06.jpg"/>
              <p:cNvPicPr/>
              <p:nvPr/>
            </p:nvPicPr>
            <p:blipFill>
              <a:blip r:embed="rId2"/>
              <a:srcRect l="17461" t="-147" r="35335" b="0"/>
              <a:stretch/>
            </p:blipFill>
            <p:spPr>
              <a:xfrm rot="10555200">
                <a:off x="1616760" y="2032920"/>
                <a:ext cx="370440" cy="491400"/>
              </a:xfrm>
              <a:prstGeom prst="rect">
                <a:avLst/>
              </a:prstGeom>
              <a:ln w="0">
                <a:solidFill>
                  <a:srgbClr val="000000"/>
                </a:solidFill>
              </a:ln>
            </p:spPr>
          </p:pic>
        </p:grpSp>
      </p:grpSp>
      <p:grpSp>
        <p:nvGrpSpPr>
          <p:cNvPr id="78" name="Группа 6"/>
          <p:cNvGrpSpPr/>
          <p:nvPr/>
        </p:nvGrpSpPr>
        <p:grpSpPr>
          <a:xfrm>
            <a:off x="1945800" y="1306080"/>
            <a:ext cx="1616760" cy="1308960"/>
            <a:chOff x="1945800" y="1306080"/>
            <a:chExt cx="1616760" cy="1308960"/>
          </a:xfrm>
        </p:grpSpPr>
        <p:sp>
          <p:nvSpPr>
            <p:cNvPr id="79" name="TextBox 4"/>
            <p:cNvSpPr/>
            <p:nvPr/>
          </p:nvSpPr>
          <p:spPr>
            <a:xfrm>
              <a:off x="1945800" y="1306080"/>
              <a:ext cx="1616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xchang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Offi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Штриховая стрелка вправо 5"/>
            <p:cNvSpPr/>
            <p:nvPr/>
          </p:nvSpPr>
          <p:spPr>
            <a:xfrm>
              <a:off x="2056680" y="2231280"/>
              <a:ext cx="1204920" cy="383760"/>
            </a:xfrm>
            <a:prstGeom prst="stripedRightArrow">
              <a:avLst>
                <a:gd name="adj1" fmla="val 50000"/>
                <a:gd name="adj2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1" name="Группа 16"/>
          <p:cNvGrpSpPr/>
          <p:nvPr/>
        </p:nvGrpSpPr>
        <p:grpSpPr>
          <a:xfrm>
            <a:off x="4504680" y="699480"/>
            <a:ext cx="4176000" cy="2141640"/>
            <a:chOff x="4504680" y="699480"/>
            <a:chExt cx="4176000" cy="2141640"/>
          </a:xfrm>
        </p:grpSpPr>
        <p:sp>
          <p:nvSpPr>
            <p:cNvPr id="82" name="Овальная выноска 15"/>
            <p:cNvSpPr/>
            <p:nvPr/>
          </p:nvSpPr>
          <p:spPr>
            <a:xfrm>
              <a:off x="4504680" y="699480"/>
              <a:ext cx="4176000" cy="2141640"/>
            </a:xfrm>
            <a:prstGeom prst="wedgeEllipseCallout">
              <a:avLst>
                <a:gd name="adj1" fmla="val -120840"/>
                <a:gd name="adj2" fmla="val -56160"/>
              </a:avLst>
            </a:prstGeom>
            <a:gradFill rotWithShape="0">
              <a:gsLst>
                <a:gs pos="0">
                  <a:srgbClr val="ffc1be"/>
                </a:gs>
                <a:gs pos="100000">
                  <a:srgbClr val="ffe5e5"/>
                </a:gs>
              </a:gsLst>
              <a:lin ang="16200000"/>
            </a:gradFill>
            <a:ln>
              <a:solidFill>
                <a:srgbClr val="be4b48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83" name="TextBox 14"/>
            <p:cNvSpPr/>
            <p:nvPr/>
          </p:nvSpPr>
          <p:spPr>
            <a:xfrm>
              <a:off x="4578120" y="745560"/>
              <a:ext cx="407664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Where can I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exchange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my poun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or Russian money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7"/>
          <p:cNvSpPr/>
          <p:nvPr/>
        </p:nvSpPr>
        <p:spPr>
          <a:xfrm>
            <a:off x="4308840" y="3003840"/>
            <a:ext cx="288792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енять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фу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2625480" y="2787840"/>
            <a:ext cx="111528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12700"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1869480" y="1306080"/>
            <a:ext cx="1633680" cy="82116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821160"/>
              <a:gd name="textAreaBottom" fmla="*/ 821520 h 821160"/>
            </a:gdLst>
            <a:ahLst/>
            <a:rect l="textAreaLeft" t="textAreaTop" r="textAreaRight" b="textAreaBottom"/>
            <a:pathLst>
              <a:path w="1633972" h="885241">
                <a:moveTo>
                  <a:pt x="0" y="0"/>
                </a:moveTo>
                <a:cubicBezTo>
                  <a:pt x="544657" y="0"/>
                  <a:pt x="1128060" y="85240"/>
                  <a:pt x="1633972" y="0"/>
                </a:cubicBezTo>
                <a:lnTo>
                  <a:pt x="1478989" y="807749"/>
                </a:lnTo>
                <a:lnTo>
                  <a:pt x="271220" y="885241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менный 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4257360" y="3838680"/>
            <a:ext cx="185580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ad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4292280" y="3003840"/>
            <a:ext cx="265788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мен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2719800" y="3548520"/>
            <a:ext cx="124776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Группа 3"/>
          <p:cNvGrpSpPr/>
          <p:nvPr/>
        </p:nvGrpSpPr>
        <p:grpSpPr>
          <a:xfrm>
            <a:off x="-36360" y="-23760"/>
            <a:ext cx="6299280" cy="5167080"/>
            <a:chOff x="-36360" y="-23760"/>
            <a:chExt cx="6299280" cy="5167080"/>
          </a:xfrm>
        </p:grpSpPr>
        <p:sp>
          <p:nvSpPr>
            <p:cNvPr id="91" name="Прямоугольник 2"/>
            <p:cNvSpPr/>
            <p:nvPr/>
          </p:nvSpPr>
          <p:spPr>
            <a:xfrm>
              <a:off x="-36360" y="0"/>
              <a:ext cx="3670200" cy="5143320"/>
            </a:xfrm>
            <a:prstGeom prst="rect">
              <a:avLst/>
            </a:prstGeom>
            <a:gradFill rotWithShape="0">
              <a:gsLst>
                <a:gs pos="0">
                  <a:srgbClr val="bfd4fe"/>
                </a:gs>
                <a:gs pos="100000">
                  <a:srgbClr val="e5efff"/>
                </a:gs>
              </a:gsLst>
              <a:lin ang="16200000"/>
            </a:gradFill>
            <a:ln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92" name="TextBox 1"/>
            <p:cNvSpPr/>
            <p:nvPr/>
          </p:nvSpPr>
          <p:spPr>
            <a:xfrm>
              <a:off x="3001680" y="-23760"/>
              <a:ext cx="326124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5000" spc="-1" strike="noStrike">
                  <a:solidFill>
                    <a:srgbClr val="002060"/>
                  </a:solidFill>
                  <a:latin typeface="Calibri"/>
                </a:rPr>
                <a:t>Word Focu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"/>
            <p:cNvPicPr/>
            <p:nvPr/>
          </p:nvPicPr>
          <p:blipFill>
            <a:blip r:embed="rId1"/>
            <a:stretch/>
          </p:blipFill>
          <p:spPr>
            <a:xfrm>
              <a:off x="539640" y="852840"/>
              <a:ext cx="1962360" cy="33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4"/>
          <p:cNvSpPr/>
          <p:nvPr/>
        </p:nvSpPr>
        <p:spPr>
          <a:xfrm>
            <a:off x="1137960" y="4173480"/>
            <a:ext cx="2115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660066"/>
                </a:solidFill>
                <a:latin typeface="Calibri"/>
              </a:rPr>
              <a:t>Vika is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ьная выноска 7"/>
          <p:cNvSpPr/>
          <p:nvPr/>
        </p:nvSpPr>
        <p:spPr>
          <a:xfrm>
            <a:off x="3919680" y="932400"/>
            <a:ext cx="4752000" cy="1461960"/>
          </a:xfrm>
          <a:prstGeom prst="wedgeEllipseCallout">
            <a:avLst>
              <a:gd name="adj1" fmla="val -96163"/>
              <a:gd name="adj2" fmla="val -54090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124160" y="1047240"/>
            <a:ext cx="4308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`s go to the thea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for a chan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4151160" y="2979000"/>
            <a:ext cx="4464000" cy="118692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Давай сходим в 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                                     </a:t>
            </a:r>
            <a:r>
              <a:rPr b="0" lang="ru-RU" sz="36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507200" y="3527280"/>
            <a:ext cx="3728880" cy="638280"/>
          </a:xfrm>
          <a:prstGeom prst="rect">
            <a:avLst/>
          </a:prstGeom>
          <a:noFill/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ля разнооб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2195640" y="4227840"/>
            <a:ext cx="1209600" cy="63828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5"/>
          <p:cNvSpPr/>
          <p:nvPr/>
        </p:nvSpPr>
        <p:spPr>
          <a:xfrm>
            <a:off x="5580000" y="0"/>
            <a:ext cx="3563640" cy="51433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0" y="0"/>
            <a:ext cx="3853080" cy="514332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932560" y="0"/>
            <a:ext cx="32612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Word Focu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122480" y="861840"/>
            <a:ext cx="1514520" cy="6382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19050"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309000" y="847800"/>
            <a:ext cx="1923120" cy="63828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19050"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dk1"/>
                </a:solidFill>
                <a:latin typeface="Calibri"/>
              </a:rPr>
              <a:t>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145760" y="1633320"/>
            <a:ext cx="1144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o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10400" y="1635480"/>
            <a:ext cx="3139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212000" y="2836080"/>
            <a:ext cx="1011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3790080" y="3791880"/>
            <a:ext cx="185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d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5883120" y="1707480"/>
            <a:ext cx="20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52160" y="2906640"/>
            <a:ext cx="2828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нять(с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925960" y="2828160"/>
            <a:ext cx="2625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926680" y="3791880"/>
            <a:ext cx="2813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м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0" y="0"/>
            <a:ext cx="3275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432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13"/>
          <p:cNvGrpSpPr/>
          <p:nvPr/>
        </p:nvGrpSpPr>
        <p:grpSpPr>
          <a:xfrm>
            <a:off x="572040" y="1809000"/>
            <a:ext cx="1885680" cy="2723400"/>
            <a:chOff x="572040" y="1809000"/>
            <a:chExt cx="1885680" cy="2723400"/>
          </a:xfrm>
        </p:grpSpPr>
        <p:pic>
          <p:nvPicPr>
            <p:cNvPr id="116" name="Picture 2" descr=""/>
            <p:cNvPicPr/>
            <p:nvPr/>
          </p:nvPicPr>
          <p:blipFill>
            <a:blip r:embed="rId1"/>
            <a:srcRect l="0" t="1502" r="47817" b="0"/>
            <a:stretch/>
          </p:blipFill>
          <p:spPr>
            <a:xfrm>
              <a:off x="572040" y="1809000"/>
              <a:ext cx="1885680" cy="2723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7" name="Прямая соединительная линия 11"/>
            <p:cNvCxnSpPr/>
            <p:nvPr/>
          </p:nvCxnSpPr>
          <p:spPr>
            <a:xfrm>
              <a:off x="2457720" y="3939840"/>
              <a:ext cx="360" cy="2163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</p:grpSp>
      <p:sp>
        <p:nvSpPr>
          <p:cNvPr id="118" name="Овальная выноска 5"/>
          <p:cNvSpPr/>
          <p:nvPr/>
        </p:nvSpPr>
        <p:spPr>
          <a:xfrm>
            <a:off x="3492000" y="1664280"/>
            <a:ext cx="4680000" cy="2088000"/>
          </a:xfrm>
          <a:prstGeom prst="wedgeEllipseCallout">
            <a:avLst>
              <a:gd name="adj1" fmla="val -87684"/>
              <a:gd name="adj2" fmla="val -11316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653280" y="2108160"/>
            <a:ext cx="4353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ould like to    …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 dress for the pa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9"/>
          <p:cNvGrpSpPr/>
          <p:nvPr/>
        </p:nvGrpSpPr>
        <p:grpSpPr>
          <a:xfrm>
            <a:off x="6356880" y="2045520"/>
            <a:ext cx="1600560" cy="823320"/>
            <a:chOff x="6356880" y="2045520"/>
            <a:chExt cx="1600560" cy="823320"/>
          </a:xfrm>
        </p:grpSpPr>
        <p:sp>
          <p:nvSpPr>
            <p:cNvPr id="121" name="Облако 8"/>
            <p:cNvSpPr/>
            <p:nvPr/>
          </p:nvSpPr>
          <p:spPr>
            <a:xfrm rot="10951800">
              <a:off x="6372720" y="2079360"/>
              <a:ext cx="1568520" cy="754920"/>
            </a:xfrm>
            <a:prstGeom prst="cloud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555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6394680" y="2108520"/>
              <a:ext cx="1514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chan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0" y="0"/>
            <a:ext cx="3851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468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83640" y="1851840"/>
            <a:ext cx="1717920" cy="3021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195640" y="1707480"/>
            <a:ext cx="1079640" cy="22726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ьная выноска 4"/>
          <p:cNvSpPr/>
          <p:nvPr/>
        </p:nvSpPr>
        <p:spPr>
          <a:xfrm>
            <a:off x="4151880" y="1631160"/>
            <a:ext cx="4752000" cy="2596320"/>
          </a:xfrm>
          <a:prstGeom prst="wedgeEllipseCallout">
            <a:avLst>
              <a:gd name="adj1" fmla="val -74467"/>
              <a:gd name="adj2" fmla="val -46154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50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4257360" y="1939680"/>
            <a:ext cx="4314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e wants to put 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d dress to the pa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              …         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блако 5"/>
          <p:cNvSpPr/>
          <p:nvPr/>
        </p:nvSpPr>
        <p:spPr>
          <a:xfrm rot="370800">
            <a:off x="5198040" y="2990880"/>
            <a:ext cx="2679480" cy="874800"/>
          </a:xfrm>
          <a:prstGeom prst="cloud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566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609160" y="3047760"/>
            <a:ext cx="183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6"/>
          <p:cNvSpPr/>
          <p:nvPr/>
        </p:nvSpPr>
        <p:spPr>
          <a:xfrm>
            <a:off x="0" y="0"/>
            <a:ext cx="4499640" cy="514332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396000" y="0"/>
            <a:ext cx="83710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oose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002060"/>
                </a:solidFill>
                <a:latin typeface="Calibri"/>
              </a:rPr>
              <a:t>change, for a change, exchan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3"/>
          <p:cNvGrpSpPr/>
          <p:nvPr/>
        </p:nvGrpSpPr>
        <p:grpSpPr>
          <a:xfrm>
            <a:off x="539640" y="1977480"/>
            <a:ext cx="1767960" cy="1130040"/>
            <a:chOff x="539640" y="1977480"/>
            <a:chExt cx="1767960" cy="1130040"/>
          </a:xfrm>
        </p:grpSpPr>
        <p:pic>
          <p:nvPicPr>
            <p:cNvPr id="134" name="Picture 3" descr=""/>
            <p:cNvPicPr/>
            <p:nvPr/>
          </p:nvPicPr>
          <p:blipFill>
            <a:blip r:embed="rId1"/>
            <a:srcRect l="0" t="0" r="0" b="21563"/>
            <a:stretch/>
          </p:blipFill>
          <p:spPr>
            <a:xfrm>
              <a:off x="539640" y="1977480"/>
              <a:ext cx="176796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2"/>
            <p:cNvSpPr/>
            <p:nvPr/>
          </p:nvSpPr>
          <p:spPr>
            <a:xfrm rot="1853400">
              <a:off x="1340640" y="2215440"/>
              <a:ext cx="626040" cy="45432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603027" h="438932">
                  <a:moveTo>
                    <a:pt x="0" y="0"/>
                  </a:moveTo>
                  <a:cubicBezTo>
                    <a:pt x="216406" y="13608"/>
                    <a:pt x="395421" y="36424"/>
                    <a:pt x="534414" y="46644"/>
                  </a:cubicBezTo>
                  <a:cubicBezTo>
                    <a:pt x="577627" y="249265"/>
                    <a:pt x="564571" y="288154"/>
                    <a:pt x="603027" y="438932"/>
                  </a:cubicBezTo>
                  <a:cubicBezTo>
                    <a:pt x="192954" y="411883"/>
                    <a:pt x="256679" y="422984"/>
                    <a:pt x="78662" y="424880"/>
                  </a:cubicBezTo>
                  <a:cubicBezTo>
                    <a:pt x="78052" y="187644"/>
                    <a:pt x="34123" y="165131"/>
                    <a:pt x="0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Visi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Russ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5"/>
          <p:cNvGrpSpPr/>
          <p:nvPr/>
        </p:nvGrpSpPr>
        <p:grpSpPr>
          <a:xfrm>
            <a:off x="1423800" y="2562840"/>
            <a:ext cx="2790720" cy="1744920"/>
            <a:chOff x="1423800" y="2562840"/>
            <a:chExt cx="2790720" cy="1744920"/>
          </a:xfrm>
        </p:grpSpPr>
        <p:pic>
          <p:nvPicPr>
            <p:cNvPr id="137" name="Picture 4" descr=""/>
            <p:cNvPicPr/>
            <p:nvPr/>
          </p:nvPicPr>
          <p:blipFill>
            <a:blip r:embed="rId2"/>
            <a:srcRect l="0" t="0" r="0" b="21322"/>
            <a:stretch/>
          </p:blipFill>
          <p:spPr>
            <a:xfrm>
              <a:off x="1423800" y="2562840"/>
              <a:ext cx="2790720" cy="17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4"/>
            <p:cNvSpPr/>
            <p:nvPr/>
          </p:nvSpPr>
          <p:spPr>
            <a:xfrm rot="567000">
              <a:off x="3080520" y="3022200"/>
              <a:ext cx="778680" cy="45468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1525906" h="1284420">
                  <a:moveTo>
                    <a:pt x="82493" y="342455"/>
                  </a:moveTo>
                  <a:cubicBezTo>
                    <a:pt x="112229" y="185323"/>
                    <a:pt x="-134017" y="342303"/>
                    <a:pt x="106552" y="285227"/>
                  </a:cubicBezTo>
                  <a:cubicBezTo>
                    <a:pt x="347121" y="228151"/>
                    <a:pt x="795933" y="209212"/>
                    <a:pt x="1525906" y="0"/>
                  </a:cubicBezTo>
                  <a:lnTo>
                    <a:pt x="1328295" y="961654"/>
                  </a:lnTo>
                  <a:cubicBezTo>
                    <a:pt x="588446" y="1082703"/>
                    <a:pt x="512991" y="1167732"/>
                    <a:pt x="12908" y="1284420"/>
                  </a:cubicBezTo>
                  <a:lnTo>
                    <a:pt x="82493" y="342455"/>
                  </a:lnTo>
                  <a:close/>
                </a:path>
              </a:pathLst>
            </a:custGeom>
            <a:solidFill>
              <a:schemeClr val="bg1"/>
            </a:solidFill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Visi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0000"/>
                  </a:solidFill>
                  <a:latin typeface="Calibri"/>
                </a:rPr>
                <a:t>Engl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7"/>
          <p:cNvSpPr/>
          <p:nvPr/>
        </p:nvSpPr>
        <p:spPr>
          <a:xfrm>
            <a:off x="4658400" y="1510920"/>
            <a:ext cx="410508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term we are going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 to Eng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some English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going to come to Russ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12"/>
          <p:cNvSpPr/>
          <p:nvPr/>
        </p:nvSpPr>
        <p:spPr>
          <a:xfrm flipV="1" rot="10800000">
            <a:off x="4639680" y="3204000"/>
            <a:ext cx="3675960" cy="1311840"/>
          </a:xfrm>
          <a:prstGeom prst="wedgeEllipseCallout">
            <a:avLst>
              <a:gd name="adj1" fmla="val 96460"/>
              <a:gd name="adj2" fmla="val -89963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79646">
                <a:lumMod val="50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874760" y="3231000"/>
            <a:ext cx="2921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`s a students`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…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11"/>
          <p:cNvGrpSpPr/>
          <p:nvPr/>
        </p:nvGrpSpPr>
        <p:grpSpPr>
          <a:xfrm>
            <a:off x="5072760" y="3691800"/>
            <a:ext cx="2346120" cy="822960"/>
            <a:chOff x="5072760" y="3691800"/>
            <a:chExt cx="2346120" cy="822960"/>
          </a:xfrm>
        </p:grpSpPr>
        <p:sp>
          <p:nvSpPr>
            <p:cNvPr id="143" name="Облако 9"/>
            <p:cNvSpPr/>
            <p:nvPr/>
          </p:nvSpPr>
          <p:spPr>
            <a:xfrm rot="255000">
              <a:off x="5093640" y="3776040"/>
              <a:ext cx="2304000" cy="654120"/>
            </a:xfrm>
            <a:prstGeom prst="cloud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452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4" name="TextBox 10"/>
            <p:cNvSpPr/>
            <p:nvPr/>
          </p:nvSpPr>
          <p:spPr>
            <a:xfrm>
              <a:off x="5285880" y="3694680"/>
              <a:ext cx="1923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Calibri"/>
                </a:rPr>
                <a:t>exchan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  <Words>206</Words>
  <Paragraphs>7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2:07:16Z</dcterms:created>
  <dc:creator>user</dc:creator>
  <dc:description/>
  <dc:language>en-US</dc:language>
  <cp:lastModifiedBy>user</cp:lastModifiedBy>
  <dcterms:modified xsi:type="dcterms:W3CDTF">2013-11-04T07:18:15Z</dcterms:modified>
  <cp:revision>27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16:9)</vt:lpwstr>
  </property>
  <property fmtid="{D5CDD505-2E9C-101B-9397-08002B2CF9AE}" pid="3" name="Slides">
    <vt:r8>9</vt:r8>
  </property>
</Properties>
</file>