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E392-7267-45DC-A069-33908FBB3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859644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77160" y="4187520"/>
            <a:ext cx="859644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FA96-C733-4857-9F87-283D075EF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82120" y="21607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77160" y="41875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5082120" y="41875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016A-57E4-444C-A481-7B5112B31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276768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583440" y="2160720"/>
            <a:ext cx="276768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490080" y="2160720"/>
            <a:ext cx="276768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677160" y="4187520"/>
            <a:ext cx="276768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583440" y="4187520"/>
            <a:ext cx="276768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490080" y="4187520"/>
            <a:ext cx="276768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EB90-42D7-4520-ABDB-B8C5B231D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4D8FF-D89C-4986-AAD8-CA4016B27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677160" y="2160720"/>
            <a:ext cx="859644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D84DC-68E2-4435-8194-25D09E9EC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859644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FE3C2-26E3-46DB-A355-5FCB983B1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419472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82120" y="2160720"/>
            <a:ext cx="419472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43AAF-2548-401D-882E-305CDCB49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9759E-3491-4BC7-B01C-204FF16F2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677160" y="609480"/>
            <a:ext cx="8596440" cy="612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902A1-9800-457D-B35E-63B3FA1EA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82120" y="2160720"/>
            <a:ext cx="419472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77160" y="41875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BA76C-27F5-40B9-A22C-FA9055C07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677160" y="2160720"/>
            <a:ext cx="859644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7B02-AF20-49FF-AAE7-1EE0190BE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419472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82120" y="21607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082120" y="41875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FF3FD-6979-4A34-98A1-28F9A99DF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82120" y="21607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77160" y="4187520"/>
            <a:ext cx="859644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DA72E-F336-4982-B725-C636572A6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859644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77160" y="4187520"/>
            <a:ext cx="859644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A36BB-D4C8-4324-B267-D49301096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82120" y="21607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77160" y="41875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5082120" y="41875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4A6B6-61D1-428F-A87F-E226B3B67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276768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583440" y="2160720"/>
            <a:ext cx="276768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490080" y="2160720"/>
            <a:ext cx="276768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677160" y="4187520"/>
            <a:ext cx="276768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583440" y="4187520"/>
            <a:ext cx="276768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490080" y="4187520"/>
            <a:ext cx="276768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7371A-74E3-4673-AE09-05F557BAC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3714FF-2B13-4F05-8411-7680F8625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677160" y="2160720"/>
            <a:ext cx="859644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F79402-09F4-4BCB-8E88-A25A1729C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859644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6FC608-FC38-49E5-A745-BF4B4BAC9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419472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082120" y="2160720"/>
            <a:ext cx="419472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BD7E82-DC0B-448F-8BBF-CBAF19A86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8C155C-75C8-401D-A1F7-5E27E203E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859644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9C48-E553-4441-87E9-C2434BA7A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677160" y="609480"/>
            <a:ext cx="8596440" cy="612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BBAEE7-890C-41BC-8F0B-B31DC7E77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082120" y="2160720"/>
            <a:ext cx="419472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77160" y="41875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A9EC3C-8E74-4279-8A0C-C46874272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419472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082120" y="21607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082120" y="41875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D8CA57-207B-4460-9F87-C31DF621D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082120" y="21607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77160" y="4187520"/>
            <a:ext cx="859644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05EF6C-C969-4AAD-94D4-06369C116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859644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77160" y="4187520"/>
            <a:ext cx="859644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E480BA-6E32-4F54-8074-C61660295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82120" y="21607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77160" y="41875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5082120" y="41875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D1ED7B-4CE9-4C69-A43E-700EFCBF3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276768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583440" y="2160720"/>
            <a:ext cx="276768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490080" y="2160720"/>
            <a:ext cx="276768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677160" y="4187520"/>
            <a:ext cx="276768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583440" y="4187520"/>
            <a:ext cx="276768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490080" y="4187520"/>
            <a:ext cx="276768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5F8DAD-C2EC-475A-8D00-28E36BE9C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9A97AC-13E7-46AA-A91B-8CCCEA7A7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77160" y="2160720"/>
            <a:ext cx="859644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595A81-403C-4A6A-AC81-2C8832763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859644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B0567A-E3F9-4787-9555-C9B8FB52F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419472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82120" y="2160720"/>
            <a:ext cx="419472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3A16-20EE-474F-8D06-7E681B84D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419472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082120" y="2160720"/>
            <a:ext cx="419472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0C8088-DF61-4227-8B3D-608E53888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020316-B846-41E3-A1B7-88BEB83CB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77160" y="609480"/>
            <a:ext cx="8596440" cy="612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5B1943-E831-4911-98D1-E9DA06D80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82120" y="2160720"/>
            <a:ext cx="419472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77160" y="41875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5E6DAC-9D45-48CD-BD8C-7A290DB9E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419472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082120" y="21607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82120" y="41875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855EB5-4060-4C8D-81BE-FF510D11F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082120" y="21607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77160" y="4187520"/>
            <a:ext cx="859644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06814F-9EC5-4166-9DE0-9D5DAAB3F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859644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77160" y="4187520"/>
            <a:ext cx="859644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E173F6-70A5-417E-AA52-6D2604448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082120" y="21607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77160" y="41875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5082120" y="41875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D117D9-C3A7-48FD-87BE-5D2B0616B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276768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583440" y="2160720"/>
            <a:ext cx="276768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490080" y="2160720"/>
            <a:ext cx="276768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77160" y="4187520"/>
            <a:ext cx="276768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583440" y="4187520"/>
            <a:ext cx="276768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490080" y="4187520"/>
            <a:ext cx="276768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B5693C-225A-4AB2-8F5D-230199E02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D568-5F43-420C-939D-970D75923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677160" y="609480"/>
            <a:ext cx="8596440" cy="612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DCCA-1F21-40D2-ABBD-AB46F8D97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82120" y="2160720"/>
            <a:ext cx="419472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77160" y="41875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88D9-016E-4692-9FCB-ED7931700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419472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082120" y="21607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082120" y="41875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E538-B34B-432C-95E5-DF769648B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082120" y="21607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77160" y="4187520"/>
            <a:ext cx="859644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86FC-47C0-451A-8075-FD28C8B58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0" y="-8640"/>
            <a:ext cx="12191760" cy="6866640"/>
            <a:chOff x="0" y="-8640"/>
            <a:chExt cx="12191760" cy="6866640"/>
          </a:xfrm>
        </p:grpSpPr>
        <p:cxnSp>
          <p:nvCxnSpPr>
            <p:cNvPr id="1" name="Straight Connector 19"/>
            <p:cNvCxnSpPr/>
            <p:nvPr/>
          </p:nvCxnSpPr>
          <p:spPr>
            <a:xfrm>
              <a:off x="9370800" y="0"/>
              <a:ext cx="1219680" cy="6858360"/>
            </a:xfrm>
            <a:prstGeom prst="straightConnector1">
              <a:avLst/>
            </a:prstGeom>
            <a:ln cap="rnd" w="9525">
              <a:solidFill>
                <a:srgbClr val="ffffff">
                  <a:lumMod val="75000"/>
                </a:srgbClr>
              </a:solidFill>
              <a:round/>
            </a:ln>
          </p:spPr>
        </p:cxnSp>
        <p:cxnSp>
          <p:nvCxnSpPr>
            <p:cNvPr id="2" name="Straight Connector 20"/>
            <p:cNvCxnSpPr/>
            <p:nvPr/>
          </p:nvCxnSpPr>
          <p:spPr>
            <a:xfrm flipH="1">
              <a:off x="7425000" y="3681360"/>
              <a:ext cx="4763880" cy="3177000"/>
            </a:xfrm>
            <a:prstGeom prst="straightConnector1">
              <a:avLst/>
            </a:prstGeom>
            <a:ln cap="rnd" w="9525">
              <a:solidFill>
                <a:srgbClr val="ffffff">
                  <a:lumMod val="85000"/>
                </a:srgbClr>
              </a:solidFill>
              <a:round/>
            </a:ln>
          </p:spPr>
        </p:cxnSp>
        <p:sp>
          <p:nvSpPr>
            <p:cNvPr id="3" name="Rectangle 23"/>
            <p:cNvSpPr/>
            <p:nvPr/>
          </p:nvSpPr>
          <p:spPr>
            <a:xfrm>
              <a:off x="9181440" y="-8640"/>
              <a:ext cx="3007080" cy="6866280"/>
            </a:xfrm>
            <a:custGeom>
              <a:avLst/>
              <a:gdLst>
                <a:gd name="textAreaLeft" fmla="*/ 0 w 3007080"/>
                <a:gd name="textAreaRight" fmla="*/ 3007440 w 30070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chemeClr val="accent1">
                <a:alpha val="3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25"/>
            <p:cNvSpPr/>
            <p:nvPr/>
          </p:nvSpPr>
          <p:spPr>
            <a:xfrm>
              <a:off x="9603360" y="-8640"/>
              <a:ext cx="2588040" cy="6866280"/>
            </a:xfrm>
            <a:custGeom>
              <a:avLst/>
              <a:gdLst>
                <a:gd name="textAreaLeft" fmla="*/ 0 w 2588040"/>
                <a:gd name="textAreaRight" fmla="*/ 2588400 w 258804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alpha val="2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Isosceles Triangle 23"/>
            <p:cNvSpPr/>
            <p:nvPr/>
          </p:nvSpPr>
          <p:spPr>
            <a:xfrm>
              <a:off x="8932320" y="3048120"/>
              <a:ext cx="3259440" cy="3809520"/>
            </a:xfrm>
            <a:prstGeom prst="triangle">
              <a:avLst>
                <a:gd name="adj" fmla="val 100000"/>
              </a:avLst>
            </a:prstGeom>
            <a:solidFill>
              <a:schemeClr val="accent2">
                <a:alpha val="72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27"/>
            <p:cNvSpPr/>
            <p:nvPr/>
          </p:nvSpPr>
          <p:spPr>
            <a:xfrm>
              <a:off x="9334440" y="-8640"/>
              <a:ext cx="2854080" cy="6866280"/>
            </a:xfrm>
            <a:custGeom>
              <a:avLst/>
              <a:gdLst>
                <a:gd name="textAreaLeft" fmla="*/ 0 w 2854080"/>
                <a:gd name="textAreaRight" fmla="*/ 2854440 w 28540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2">
                <a:lumMod val="75000"/>
                <a:alpha val="7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28"/>
            <p:cNvSpPr/>
            <p:nvPr/>
          </p:nvSpPr>
          <p:spPr>
            <a:xfrm>
              <a:off x="10898640" y="-8640"/>
              <a:ext cx="1289880" cy="6866280"/>
            </a:xfrm>
            <a:custGeom>
              <a:avLst/>
              <a:gdLst>
                <a:gd name="textAreaLeft" fmla="*/ 0 w 1289880"/>
                <a:gd name="textAreaRight" fmla="*/ 1290240 w 12898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chemeClr val="accent1">
                <a:lumMod val="60000"/>
                <a:lumOff val="40000"/>
                <a:alpha val="7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29"/>
            <p:cNvSpPr/>
            <p:nvPr/>
          </p:nvSpPr>
          <p:spPr>
            <a:xfrm>
              <a:off x="10938960" y="-8640"/>
              <a:ext cx="1249560" cy="6866280"/>
            </a:xfrm>
            <a:custGeom>
              <a:avLst/>
              <a:gdLst>
                <a:gd name="textAreaLeft" fmla="*/ 0 w 1249560"/>
                <a:gd name="textAreaRight" fmla="*/ 1249920 w 124956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alpha val="65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Isosceles Triangle 27"/>
            <p:cNvSpPr/>
            <p:nvPr/>
          </p:nvSpPr>
          <p:spPr>
            <a:xfrm>
              <a:off x="10371600" y="358992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chemeClr val="accent1">
                <a:alpha val="8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Isosceles Triangle 28"/>
            <p:cNvSpPr/>
            <p:nvPr/>
          </p:nvSpPr>
          <p:spPr>
            <a:xfrm>
              <a:off x="0" y="4013280"/>
              <a:ext cx="448200" cy="2844360"/>
            </a:xfrm>
            <a:prstGeom prst="triangle">
              <a:avLst>
                <a:gd name="adj" fmla="val 0"/>
              </a:avLst>
            </a:prstGeom>
            <a:solidFill>
              <a:schemeClr val="accent1">
                <a:alpha val="85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Group 6"/>
          <p:cNvGrpSpPr/>
          <p:nvPr/>
        </p:nvGrpSpPr>
        <p:grpSpPr>
          <a:xfrm>
            <a:off x="360" y="-8640"/>
            <a:ext cx="12191400" cy="6866640"/>
            <a:chOff x="360" y="-8640"/>
            <a:chExt cx="12191400" cy="6866640"/>
          </a:xfrm>
        </p:grpSpPr>
        <p:cxnSp>
          <p:nvCxnSpPr>
            <p:cNvPr id="12" name="Straight Connector 31"/>
            <p:cNvCxnSpPr/>
            <p:nvPr/>
          </p:nvCxnSpPr>
          <p:spPr>
            <a:xfrm>
              <a:off x="9370800" y="0"/>
              <a:ext cx="1219680" cy="6858360"/>
            </a:xfrm>
            <a:prstGeom prst="straightConnector1">
              <a:avLst/>
            </a:prstGeom>
            <a:ln cap="rnd" w="9525">
              <a:solidFill>
                <a:srgbClr val="ffffff">
                  <a:lumMod val="75000"/>
                </a:srgbClr>
              </a:solidFill>
              <a:round/>
            </a:ln>
          </p:spPr>
        </p:cxnSp>
        <p:cxnSp>
          <p:nvCxnSpPr>
            <p:cNvPr id="13" name="Straight Connector 20"/>
            <p:cNvCxnSpPr/>
            <p:nvPr/>
          </p:nvCxnSpPr>
          <p:spPr>
            <a:xfrm flipH="1">
              <a:off x="7425000" y="3681360"/>
              <a:ext cx="4763880" cy="3177000"/>
            </a:xfrm>
            <a:prstGeom prst="straightConnector1">
              <a:avLst/>
            </a:prstGeom>
            <a:ln cap="rnd" w="9525">
              <a:solidFill>
                <a:srgbClr val="ffffff">
                  <a:lumMod val="85000"/>
                </a:srgbClr>
              </a:solidFill>
              <a:round/>
            </a:ln>
          </p:spPr>
        </p:cxnSp>
        <p:sp>
          <p:nvSpPr>
            <p:cNvPr id="14" name="Rectangle 23"/>
            <p:cNvSpPr/>
            <p:nvPr/>
          </p:nvSpPr>
          <p:spPr>
            <a:xfrm>
              <a:off x="9181440" y="-8640"/>
              <a:ext cx="3007080" cy="6866280"/>
            </a:xfrm>
            <a:custGeom>
              <a:avLst/>
              <a:gdLst>
                <a:gd name="textAreaLeft" fmla="*/ 0 w 3007080"/>
                <a:gd name="textAreaRight" fmla="*/ 3007440 w 30070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chemeClr val="accent1">
                <a:alpha val="3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Rectangle 25"/>
            <p:cNvSpPr/>
            <p:nvPr/>
          </p:nvSpPr>
          <p:spPr>
            <a:xfrm>
              <a:off x="9603360" y="-8640"/>
              <a:ext cx="2588040" cy="6866280"/>
            </a:xfrm>
            <a:custGeom>
              <a:avLst/>
              <a:gdLst>
                <a:gd name="textAreaLeft" fmla="*/ 0 w 2588040"/>
                <a:gd name="textAreaRight" fmla="*/ 2588400 w 258804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alpha val="2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Isosceles Triangle 26"/>
            <p:cNvSpPr/>
            <p:nvPr/>
          </p:nvSpPr>
          <p:spPr>
            <a:xfrm>
              <a:off x="8932320" y="3048120"/>
              <a:ext cx="3259440" cy="3809520"/>
            </a:xfrm>
            <a:prstGeom prst="triangle">
              <a:avLst>
                <a:gd name="adj" fmla="val 100000"/>
              </a:avLst>
            </a:prstGeom>
            <a:solidFill>
              <a:schemeClr val="accent2">
                <a:alpha val="72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Rectangle 27"/>
            <p:cNvSpPr/>
            <p:nvPr/>
          </p:nvSpPr>
          <p:spPr>
            <a:xfrm>
              <a:off x="9334440" y="-8640"/>
              <a:ext cx="2854080" cy="6866280"/>
            </a:xfrm>
            <a:custGeom>
              <a:avLst/>
              <a:gdLst>
                <a:gd name="textAreaLeft" fmla="*/ 0 w 2854080"/>
                <a:gd name="textAreaRight" fmla="*/ 2854440 w 28540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2">
                <a:lumMod val="75000"/>
                <a:alpha val="7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Rectangle 28"/>
            <p:cNvSpPr/>
            <p:nvPr/>
          </p:nvSpPr>
          <p:spPr>
            <a:xfrm>
              <a:off x="10898640" y="-8640"/>
              <a:ext cx="1289880" cy="6866280"/>
            </a:xfrm>
            <a:custGeom>
              <a:avLst/>
              <a:gdLst>
                <a:gd name="textAreaLeft" fmla="*/ 0 w 1289880"/>
                <a:gd name="textAreaRight" fmla="*/ 1290240 w 12898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chemeClr val="accent1">
                <a:lumMod val="60000"/>
                <a:lumOff val="40000"/>
                <a:alpha val="7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Rectangle 29"/>
            <p:cNvSpPr/>
            <p:nvPr/>
          </p:nvSpPr>
          <p:spPr>
            <a:xfrm>
              <a:off x="10938960" y="-8640"/>
              <a:ext cx="1249560" cy="6866280"/>
            </a:xfrm>
            <a:custGeom>
              <a:avLst/>
              <a:gdLst>
                <a:gd name="textAreaLeft" fmla="*/ 0 w 1249560"/>
                <a:gd name="textAreaRight" fmla="*/ 1249920 w 124956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alpha val="65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Isosceles Triangle 30"/>
            <p:cNvSpPr/>
            <p:nvPr/>
          </p:nvSpPr>
          <p:spPr>
            <a:xfrm>
              <a:off x="10371600" y="358992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chemeClr val="accent1">
                <a:alpha val="8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Isosceles Triangle 18"/>
            <p:cNvSpPr/>
            <p:nvPr/>
          </p:nvSpPr>
          <p:spPr>
            <a:xfrm rot="10800000">
              <a:off x="360" y="360"/>
              <a:ext cx="842400" cy="5665680"/>
            </a:xfrm>
            <a:prstGeom prst="triangle">
              <a:avLst>
                <a:gd name="adj" fmla="val 100000"/>
              </a:avLst>
            </a:prstGeom>
            <a:solidFill>
              <a:schemeClr val="accent1">
                <a:alpha val="85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06960" y="2404440"/>
            <a:ext cx="7766640" cy="164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ru-RU" sz="5400" spc="-1" strike="noStrike">
                <a:solidFill>
                  <a:schemeClr val="accent1"/>
                </a:solidFill>
                <a:latin typeface="Trebuchet MS"/>
              </a:rPr>
              <a:t>Образец заголовка</a:t>
            </a:r>
            <a:endParaRPr b="0" lang="en-US" sz="5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dt" idx="1"/>
          </p:nvPr>
        </p:nvSpPr>
        <p:spPr>
          <a:xfrm>
            <a:off x="7205040" y="6041520"/>
            <a:ext cx="9115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900" spc="-1" strike="noStrike">
                <a:solidFill>
                  <a:srgbClr val="8b8b8b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900" spc="-1" strike="noStrike">
                <a:solidFill>
                  <a:srgbClr val="8b8b8b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2"/>
          </p:nvPr>
        </p:nvSpPr>
        <p:spPr>
          <a:xfrm>
            <a:off x="677160" y="6041520"/>
            <a:ext cx="6297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3"/>
          </p:nvPr>
        </p:nvSpPr>
        <p:spPr>
          <a:xfrm>
            <a:off x="8590680" y="6041520"/>
            <a:ext cx="6829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900" spc="-1" strike="noStrike">
                <a:solidFill>
                  <a:schemeClr val="accent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6CD9A7F-4752-4D3D-9635-72CD9B3AE82A}" type="slidenum">
              <a:rPr b="0" lang="ru-RU" sz="900" spc="-1" strike="noStrike">
                <a:solidFill>
                  <a:schemeClr val="accent1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6"/>
          <p:cNvGrpSpPr/>
          <p:nvPr/>
        </p:nvGrpSpPr>
        <p:grpSpPr>
          <a:xfrm>
            <a:off x="0" y="-8640"/>
            <a:ext cx="12191760" cy="6866640"/>
            <a:chOff x="0" y="-8640"/>
            <a:chExt cx="12191760" cy="6866640"/>
          </a:xfrm>
        </p:grpSpPr>
        <p:cxnSp>
          <p:nvCxnSpPr>
            <p:cNvPr id="64" name="Straight Connector 19"/>
            <p:cNvCxnSpPr/>
            <p:nvPr/>
          </p:nvCxnSpPr>
          <p:spPr>
            <a:xfrm>
              <a:off x="9370800" y="0"/>
              <a:ext cx="1219680" cy="6858360"/>
            </a:xfrm>
            <a:prstGeom prst="straightConnector1">
              <a:avLst/>
            </a:prstGeom>
            <a:ln cap="rnd" w="9525">
              <a:solidFill>
                <a:srgbClr val="ffffff">
                  <a:lumMod val="75000"/>
                </a:srgbClr>
              </a:solidFill>
              <a:round/>
            </a:ln>
          </p:spPr>
        </p:cxnSp>
        <p:cxnSp>
          <p:nvCxnSpPr>
            <p:cNvPr id="65" name="Straight Connector 20"/>
            <p:cNvCxnSpPr/>
            <p:nvPr/>
          </p:nvCxnSpPr>
          <p:spPr>
            <a:xfrm flipH="1">
              <a:off x="7425000" y="3681360"/>
              <a:ext cx="4763880" cy="3177000"/>
            </a:xfrm>
            <a:prstGeom prst="straightConnector1">
              <a:avLst/>
            </a:prstGeom>
            <a:ln cap="rnd" w="9525">
              <a:solidFill>
                <a:srgbClr val="ffffff">
                  <a:lumMod val="85000"/>
                </a:srgbClr>
              </a:solidFill>
              <a:round/>
            </a:ln>
          </p:spPr>
        </p:cxnSp>
        <p:sp>
          <p:nvSpPr>
            <p:cNvPr id="66" name="Rectangle 23"/>
            <p:cNvSpPr/>
            <p:nvPr/>
          </p:nvSpPr>
          <p:spPr>
            <a:xfrm>
              <a:off x="9181440" y="-8640"/>
              <a:ext cx="3007080" cy="6866280"/>
            </a:xfrm>
            <a:custGeom>
              <a:avLst/>
              <a:gdLst>
                <a:gd name="textAreaLeft" fmla="*/ 0 w 3007080"/>
                <a:gd name="textAreaRight" fmla="*/ 3007440 w 30070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chemeClr val="accent1">
                <a:alpha val="3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25"/>
            <p:cNvSpPr/>
            <p:nvPr/>
          </p:nvSpPr>
          <p:spPr>
            <a:xfrm>
              <a:off x="9603360" y="-8640"/>
              <a:ext cx="2588040" cy="6866280"/>
            </a:xfrm>
            <a:custGeom>
              <a:avLst/>
              <a:gdLst>
                <a:gd name="textAreaLeft" fmla="*/ 0 w 2588040"/>
                <a:gd name="textAreaRight" fmla="*/ 2588400 w 258804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alpha val="2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Isosceles Triangle 23"/>
            <p:cNvSpPr/>
            <p:nvPr/>
          </p:nvSpPr>
          <p:spPr>
            <a:xfrm>
              <a:off x="8932320" y="3048120"/>
              <a:ext cx="3259440" cy="3809520"/>
            </a:xfrm>
            <a:prstGeom prst="triangle">
              <a:avLst>
                <a:gd name="adj" fmla="val 100000"/>
              </a:avLst>
            </a:prstGeom>
            <a:solidFill>
              <a:schemeClr val="accent2">
                <a:alpha val="72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27"/>
            <p:cNvSpPr/>
            <p:nvPr/>
          </p:nvSpPr>
          <p:spPr>
            <a:xfrm>
              <a:off x="9334440" y="-8640"/>
              <a:ext cx="2854080" cy="6866280"/>
            </a:xfrm>
            <a:custGeom>
              <a:avLst/>
              <a:gdLst>
                <a:gd name="textAreaLeft" fmla="*/ 0 w 2854080"/>
                <a:gd name="textAreaRight" fmla="*/ 2854440 w 28540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2">
                <a:lumMod val="75000"/>
                <a:alpha val="7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28"/>
            <p:cNvSpPr/>
            <p:nvPr/>
          </p:nvSpPr>
          <p:spPr>
            <a:xfrm>
              <a:off x="10898640" y="-8640"/>
              <a:ext cx="1289880" cy="6866280"/>
            </a:xfrm>
            <a:custGeom>
              <a:avLst/>
              <a:gdLst>
                <a:gd name="textAreaLeft" fmla="*/ 0 w 1289880"/>
                <a:gd name="textAreaRight" fmla="*/ 1290240 w 12898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chemeClr val="accent1">
                <a:lumMod val="60000"/>
                <a:lumOff val="40000"/>
                <a:alpha val="7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29"/>
            <p:cNvSpPr/>
            <p:nvPr/>
          </p:nvSpPr>
          <p:spPr>
            <a:xfrm>
              <a:off x="10938960" y="-8640"/>
              <a:ext cx="1249560" cy="6866280"/>
            </a:xfrm>
            <a:custGeom>
              <a:avLst/>
              <a:gdLst>
                <a:gd name="textAreaLeft" fmla="*/ 0 w 1249560"/>
                <a:gd name="textAreaRight" fmla="*/ 1249920 w 124956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alpha val="65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Isosceles Triangle 27"/>
            <p:cNvSpPr/>
            <p:nvPr/>
          </p:nvSpPr>
          <p:spPr>
            <a:xfrm>
              <a:off x="10371600" y="358992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chemeClr val="accent1">
                <a:alpha val="8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Isosceles Triangle 28"/>
            <p:cNvSpPr/>
            <p:nvPr/>
          </p:nvSpPr>
          <p:spPr>
            <a:xfrm>
              <a:off x="0" y="4013280"/>
              <a:ext cx="448200" cy="2844360"/>
            </a:xfrm>
            <a:prstGeom prst="triangle">
              <a:avLst>
                <a:gd name="adj" fmla="val 0"/>
              </a:avLst>
            </a:prstGeom>
            <a:solidFill>
              <a:schemeClr val="accent1">
                <a:alpha val="85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chemeClr val="accent1"/>
                </a:solidFill>
                <a:latin typeface="Trebuchet MS"/>
              </a:rPr>
              <a:t>Образец заголовк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77160" y="2160720"/>
            <a:ext cx="8596440" cy="388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бразец текст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Второй уровень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Третий уровень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200" spc="-1" strike="noStrike">
                <a:solidFill>
                  <a:srgbClr val="404040"/>
                </a:solidFill>
                <a:latin typeface="Trebuchet MS"/>
              </a:rPr>
              <a:t>Четвертый уровень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200" spc="-1" strike="noStrike">
                <a:solidFill>
                  <a:srgbClr val="404040"/>
                </a:solidFill>
                <a:latin typeface="Trebuchet MS"/>
              </a:rPr>
              <a:t>Пятый уровень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dt" idx="4"/>
          </p:nvPr>
        </p:nvSpPr>
        <p:spPr>
          <a:xfrm>
            <a:off x="7205040" y="6041520"/>
            <a:ext cx="9115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900" spc="-1" strike="noStrike">
                <a:solidFill>
                  <a:srgbClr val="8b8b8b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900" spc="-1" strike="noStrike">
                <a:solidFill>
                  <a:srgbClr val="8b8b8b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ftr" idx="5"/>
          </p:nvPr>
        </p:nvSpPr>
        <p:spPr>
          <a:xfrm>
            <a:off x="677160" y="6041520"/>
            <a:ext cx="6297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sldNum" idx="6"/>
          </p:nvPr>
        </p:nvSpPr>
        <p:spPr>
          <a:xfrm>
            <a:off x="8590680" y="6041520"/>
            <a:ext cx="6829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900" spc="-1" strike="noStrike">
                <a:solidFill>
                  <a:schemeClr val="accent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CC533B8-CF3B-412B-B7C1-22293E60ECF7}" type="slidenum">
              <a:rPr b="0" lang="ru-RU" sz="900" spc="-1" strike="noStrike">
                <a:solidFill>
                  <a:schemeClr val="accent1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Group 6"/>
          <p:cNvGrpSpPr/>
          <p:nvPr/>
        </p:nvGrpSpPr>
        <p:grpSpPr>
          <a:xfrm>
            <a:off x="0" y="-8640"/>
            <a:ext cx="12191760" cy="6866640"/>
            <a:chOff x="0" y="-8640"/>
            <a:chExt cx="12191760" cy="6866640"/>
          </a:xfrm>
        </p:grpSpPr>
        <p:cxnSp>
          <p:nvCxnSpPr>
            <p:cNvPr id="116" name="Straight Connector 19"/>
            <p:cNvCxnSpPr/>
            <p:nvPr/>
          </p:nvCxnSpPr>
          <p:spPr>
            <a:xfrm>
              <a:off x="9370800" y="0"/>
              <a:ext cx="1219680" cy="6858360"/>
            </a:xfrm>
            <a:prstGeom prst="straightConnector1">
              <a:avLst/>
            </a:prstGeom>
            <a:ln cap="rnd" w="9525">
              <a:solidFill>
                <a:srgbClr val="ffffff">
                  <a:lumMod val="75000"/>
                </a:srgbClr>
              </a:solidFill>
              <a:round/>
            </a:ln>
          </p:spPr>
        </p:cxnSp>
        <p:cxnSp>
          <p:nvCxnSpPr>
            <p:cNvPr id="117" name="Straight Connector 20"/>
            <p:cNvCxnSpPr/>
            <p:nvPr/>
          </p:nvCxnSpPr>
          <p:spPr>
            <a:xfrm flipH="1">
              <a:off x="7425000" y="3681360"/>
              <a:ext cx="4763880" cy="3177000"/>
            </a:xfrm>
            <a:prstGeom prst="straightConnector1">
              <a:avLst/>
            </a:prstGeom>
            <a:ln cap="rnd" w="9525">
              <a:solidFill>
                <a:srgbClr val="ffffff">
                  <a:lumMod val="85000"/>
                </a:srgbClr>
              </a:solidFill>
              <a:round/>
            </a:ln>
          </p:spPr>
        </p:cxnSp>
        <p:sp>
          <p:nvSpPr>
            <p:cNvPr id="118" name="Rectangle 23"/>
            <p:cNvSpPr/>
            <p:nvPr/>
          </p:nvSpPr>
          <p:spPr>
            <a:xfrm>
              <a:off x="9181440" y="-8640"/>
              <a:ext cx="3007080" cy="6866280"/>
            </a:xfrm>
            <a:custGeom>
              <a:avLst/>
              <a:gdLst>
                <a:gd name="textAreaLeft" fmla="*/ 0 w 3007080"/>
                <a:gd name="textAreaRight" fmla="*/ 3007440 w 30070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chemeClr val="accent1">
                <a:alpha val="3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25"/>
            <p:cNvSpPr/>
            <p:nvPr/>
          </p:nvSpPr>
          <p:spPr>
            <a:xfrm>
              <a:off x="9603360" y="-8640"/>
              <a:ext cx="2588040" cy="6866280"/>
            </a:xfrm>
            <a:custGeom>
              <a:avLst/>
              <a:gdLst>
                <a:gd name="textAreaLeft" fmla="*/ 0 w 2588040"/>
                <a:gd name="textAreaRight" fmla="*/ 2588400 w 258804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alpha val="2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Isosceles Triangle 23"/>
            <p:cNvSpPr/>
            <p:nvPr/>
          </p:nvSpPr>
          <p:spPr>
            <a:xfrm>
              <a:off x="8932320" y="3048120"/>
              <a:ext cx="3259440" cy="3809520"/>
            </a:xfrm>
            <a:prstGeom prst="triangle">
              <a:avLst>
                <a:gd name="adj" fmla="val 100000"/>
              </a:avLst>
            </a:prstGeom>
            <a:solidFill>
              <a:schemeClr val="accent2">
                <a:alpha val="72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27"/>
            <p:cNvSpPr/>
            <p:nvPr/>
          </p:nvSpPr>
          <p:spPr>
            <a:xfrm>
              <a:off x="9334440" y="-8640"/>
              <a:ext cx="2854080" cy="6866280"/>
            </a:xfrm>
            <a:custGeom>
              <a:avLst/>
              <a:gdLst>
                <a:gd name="textAreaLeft" fmla="*/ 0 w 2854080"/>
                <a:gd name="textAreaRight" fmla="*/ 2854440 w 28540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2">
                <a:lumMod val="75000"/>
                <a:alpha val="7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28"/>
            <p:cNvSpPr/>
            <p:nvPr/>
          </p:nvSpPr>
          <p:spPr>
            <a:xfrm>
              <a:off x="10898640" y="-8640"/>
              <a:ext cx="1289880" cy="6866280"/>
            </a:xfrm>
            <a:custGeom>
              <a:avLst/>
              <a:gdLst>
                <a:gd name="textAreaLeft" fmla="*/ 0 w 1289880"/>
                <a:gd name="textAreaRight" fmla="*/ 1290240 w 12898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chemeClr val="accent1">
                <a:lumMod val="60000"/>
                <a:lumOff val="40000"/>
                <a:alpha val="7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29"/>
            <p:cNvSpPr/>
            <p:nvPr/>
          </p:nvSpPr>
          <p:spPr>
            <a:xfrm>
              <a:off x="10938960" y="-8640"/>
              <a:ext cx="1249560" cy="6866280"/>
            </a:xfrm>
            <a:custGeom>
              <a:avLst/>
              <a:gdLst>
                <a:gd name="textAreaLeft" fmla="*/ 0 w 1249560"/>
                <a:gd name="textAreaRight" fmla="*/ 1249920 w 124956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alpha val="65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Isosceles Triangle 27"/>
            <p:cNvSpPr/>
            <p:nvPr/>
          </p:nvSpPr>
          <p:spPr>
            <a:xfrm>
              <a:off x="10371600" y="358992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chemeClr val="accent1">
                <a:alpha val="8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Isosceles Triangle 28"/>
            <p:cNvSpPr/>
            <p:nvPr/>
          </p:nvSpPr>
          <p:spPr>
            <a:xfrm>
              <a:off x="0" y="4013280"/>
              <a:ext cx="448200" cy="2844360"/>
            </a:xfrm>
            <a:prstGeom prst="triangle">
              <a:avLst>
                <a:gd name="adj" fmla="val 0"/>
              </a:avLst>
            </a:prstGeom>
            <a:solidFill>
              <a:schemeClr val="accent1">
                <a:alpha val="85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77160" y="2700720"/>
            <a:ext cx="8596440" cy="182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chemeClr val="accent1"/>
                </a:solidFill>
                <a:latin typeface="Trebuchet MS"/>
              </a:rPr>
              <a:t>Образец заголовка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77160" y="4527360"/>
            <a:ext cx="8596440" cy="86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808080"/>
                </a:solidFill>
                <a:latin typeface="Trebuchet MS"/>
              </a:rPr>
              <a:t>Образец текста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7"/>
          </p:nvPr>
        </p:nvSpPr>
        <p:spPr>
          <a:xfrm>
            <a:off x="7205040" y="6041520"/>
            <a:ext cx="9115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900" spc="-1" strike="noStrike">
                <a:solidFill>
                  <a:srgbClr val="8b8b8b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900" spc="-1" strike="noStrike">
                <a:solidFill>
                  <a:srgbClr val="8b8b8b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8"/>
          </p:nvPr>
        </p:nvSpPr>
        <p:spPr>
          <a:xfrm>
            <a:off x="677160" y="6041520"/>
            <a:ext cx="6297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9"/>
          </p:nvPr>
        </p:nvSpPr>
        <p:spPr>
          <a:xfrm>
            <a:off x="8590680" y="6041520"/>
            <a:ext cx="6829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900" spc="-1" strike="noStrike">
                <a:solidFill>
                  <a:schemeClr val="accent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DD0452B-671C-46BB-AC57-6F6A840496E6}" type="slidenum">
              <a:rPr b="0" lang="ru-RU" sz="900" spc="-1" strike="noStrike">
                <a:solidFill>
                  <a:schemeClr val="accent1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6"/>
          <p:cNvGrpSpPr/>
          <p:nvPr/>
        </p:nvGrpSpPr>
        <p:grpSpPr>
          <a:xfrm>
            <a:off x="0" y="-8640"/>
            <a:ext cx="12191760" cy="6866640"/>
            <a:chOff x="0" y="-8640"/>
            <a:chExt cx="12191760" cy="6866640"/>
          </a:xfrm>
        </p:grpSpPr>
        <p:cxnSp>
          <p:nvCxnSpPr>
            <p:cNvPr id="168" name="Straight Connector 19"/>
            <p:cNvCxnSpPr/>
            <p:nvPr/>
          </p:nvCxnSpPr>
          <p:spPr>
            <a:xfrm>
              <a:off x="9370800" y="0"/>
              <a:ext cx="1219680" cy="6858360"/>
            </a:xfrm>
            <a:prstGeom prst="straightConnector1">
              <a:avLst/>
            </a:prstGeom>
            <a:ln cap="rnd" w="9525">
              <a:solidFill>
                <a:srgbClr val="ffffff">
                  <a:lumMod val="75000"/>
                </a:srgbClr>
              </a:solidFill>
              <a:round/>
            </a:ln>
          </p:spPr>
        </p:cxnSp>
        <p:cxnSp>
          <p:nvCxnSpPr>
            <p:cNvPr id="169" name="Straight Connector 20"/>
            <p:cNvCxnSpPr/>
            <p:nvPr/>
          </p:nvCxnSpPr>
          <p:spPr>
            <a:xfrm flipH="1">
              <a:off x="7425000" y="3681360"/>
              <a:ext cx="4763880" cy="3177000"/>
            </a:xfrm>
            <a:prstGeom prst="straightConnector1">
              <a:avLst/>
            </a:prstGeom>
            <a:ln cap="rnd" w="9525">
              <a:solidFill>
                <a:srgbClr val="ffffff">
                  <a:lumMod val="85000"/>
                </a:srgbClr>
              </a:solidFill>
              <a:round/>
            </a:ln>
          </p:spPr>
        </p:cxnSp>
        <p:sp>
          <p:nvSpPr>
            <p:cNvPr id="170" name="Rectangle 23"/>
            <p:cNvSpPr/>
            <p:nvPr/>
          </p:nvSpPr>
          <p:spPr>
            <a:xfrm>
              <a:off x="9181440" y="-8640"/>
              <a:ext cx="3007080" cy="6866280"/>
            </a:xfrm>
            <a:custGeom>
              <a:avLst/>
              <a:gdLst>
                <a:gd name="textAreaLeft" fmla="*/ 0 w 3007080"/>
                <a:gd name="textAreaRight" fmla="*/ 3007440 w 30070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chemeClr val="accent1">
                <a:alpha val="3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25"/>
            <p:cNvSpPr/>
            <p:nvPr/>
          </p:nvSpPr>
          <p:spPr>
            <a:xfrm>
              <a:off x="9603360" y="-8640"/>
              <a:ext cx="2588040" cy="6866280"/>
            </a:xfrm>
            <a:custGeom>
              <a:avLst/>
              <a:gdLst>
                <a:gd name="textAreaLeft" fmla="*/ 0 w 2588040"/>
                <a:gd name="textAreaRight" fmla="*/ 2588400 w 258804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alpha val="2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Isosceles Triangle 23"/>
            <p:cNvSpPr/>
            <p:nvPr/>
          </p:nvSpPr>
          <p:spPr>
            <a:xfrm>
              <a:off x="8932320" y="3048120"/>
              <a:ext cx="3259440" cy="3809520"/>
            </a:xfrm>
            <a:prstGeom prst="triangle">
              <a:avLst>
                <a:gd name="adj" fmla="val 100000"/>
              </a:avLst>
            </a:prstGeom>
            <a:solidFill>
              <a:schemeClr val="accent2">
                <a:alpha val="72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27"/>
            <p:cNvSpPr/>
            <p:nvPr/>
          </p:nvSpPr>
          <p:spPr>
            <a:xfrm>
              <a:off x="9334440" y="-8640"/>
              <a:ext cx="2854080" cy="6866280"/>
            </a:xfrm>
            <a:custGeom>
              <a:avLst/>
              <a:gdLst>
                <a:gd name="textAreaLeft" fmla="*/ 0 w 2854080"/>
                <a:gd name="textAreaRight" fmla="*/ 2854440 w 28540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2">
                <a:lumMod val="75000"/>
                <a:alpha val="7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28"/>
            <p:cNvSpPr/>
            <p:nvPr/>
          </p:nvSpPr>
          <p:spPr>
            <a:xfrm>
              <a:off x="10898640" y="-8640"/>
              <a:ext cx="1289880" cy="6866280"/>
            </a:xfrm>
            <a:custGeom>
              <a:avLst/>
              <a:gdLst>
                <a:gd name="textAreaLeft" fmla="*/ 0 w 1289880"/>
                <a:gd name="textAreaRight" fmla="*/ 1290240 w 12898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chemeClr val="accent1">
                <a:lumMod val="60000"/>
                <a:lumOff val="40000"/>
                <a:alpha val="7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ectangle 29"/>
            <p:cNvSpPr/>
            <p:nvPr/>
          </p:nvSpPr>
          <p:spPr>
            <a:xfrm>
              <a:off x="10938960" y="-8640"/>
              <a:ext cx="1249560" cy="6866280"/>
            </a:xfrm>
            <a:custGeom>
              <a:avLst/>
              <a:gdLst>
                <a:gd name="textAreaLeft" fmla="*/ 0 w 1249560"/>
                <a:gd name="textAreaRight" fmla="*/ 1249920 w 124956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alpha val="65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Isosceles Triangle 27"/>
            <p:cNvSpPr/>
            <p:nvPr/>
          </p:nvSpPr>
          <p:spPr>
            <a:xfrm>
              <a:off x="10371600" y="358992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chemeClr val="accent1">
                <a:alpha val="8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Isosceles Triangle 28"/>
            <p:cNvSpPr/>
            <p:nvPr/>
          </p:nvSpPr>
          <p:spPr>
            <a:xfrm>
              <a:off x="0" y="4013280"/>
              <a:ext cx="448200" cy="2844360"/>
            </a:xfrm>
            <a:prstGeom prst="triangle">
              <a:avLst>
                <a:gd name="adj" fmla="val 0"/>
              </a:avLst>
            </a:prstGeom>
            <a:solidFill>
              <a:schemeClr val="accent1">
                <a:alpha val="85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chemeClr val="accent1"/>
                </a:solidFill>
                <a:latin typeface="Trebuchet MS"/>
              </a:rPr>
              <a:t>Образец заголовк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77160" y="2160720"/>
            <a:ext cx="4183560" cy="388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бразец текст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Второй уровень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Третий уровень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200" spc="-1" strike="noStrike">
                <a:solidFill>
                  <a:srgbClr val="404040"/>
                </a:solidFill>
                <a:latin typeface="Trebuchet MS"/>
              </a:rPr>
              <a:t>Четвертый уровень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200" spc="-1" strike="noStrike">
                <a:solidFill>
                  <a:srgbClr val="404040"/>
                </a:solidFill>
                <a:latin typeface="Trebuchet MS"/>
              </a:rPr>
              <a:t>Пятый уровень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body"/>
          </p:nvPr>
        </p:nvSpPr>
        <p:spPr>
          <a:xfrm>
            <a:off x="5090040" y="2160720"/>
            <a:ext cx="4183560" cy="388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бразец текст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Второй уровень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Третий уровень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200" spc="-1" strike="noStrike">
                <a:solidFill>
                  <a:srgbClr val="404040"/>
                </a:solidFill>
                <a:latin typeface="Trebuchet MS"/>
              </a:rPr>
              <a:t>Четвертый уровень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200" spc="-1" strike="noStrike">
                <a:solidFill>
                  <a:srgbClr val="404040"/>
                </a:solidFill>
                <a:latin typeface="Trebuchet MS"/>
              </a:rPr>
              <a:t>Пятый уровень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dt" idx="10"/>
          </p:nvPr>
        </p:nvSpPr>
        <p:spPr>
          <a:xfrm>
            <a:off x="7205040" y="6041520"/>
            <a:ext cx="9115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900" spc="-1" strike="noStrike">
                <a:solidFill>
                  <a:srgbClr val="8b8b8b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900" spc="-1" strike="noStrike">
                <a:solidFill>
                  <a:srgbClr val="8b8b8b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ftr" idx="11"/>
          </p:nvPr>
        </p:nvSpPr>
        <p:spPr>
          <a:xfrm>
            <a:off x="677160" y="6041520"/>
            <a:ext cx="6297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 type="sldNum" idx="12"/>
          </p:nvPr>
        </p:nvSpPr>
        <p:spPr>
          <a:xfrm>
            <a:off x="8590680" y="6041520"/>
            <a:ext cx="6829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900" spc="-1" strike="noStrike">
                <a:solidFill>
                  <a:schemeClr val="accent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00D978C-090A-4540-8216-2C64CAEF3025}" type="slidenum">
              <a:rPr b="0" lang="ru-RU" sz="900" spc="-1" strike="noStrike">
                <a:solidFill>
                  <a:schemeClr val="accent1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vproizvodstvo.ru/proizvodstvennye_idei/3_sekreta_kak_organizovat_shvejnoe_proizvodstvo/" TargetMode="External"/><Relationship Id="rId2" Type="http://schemas.openxmlformats.org/officeDocument/2006/relationships/hyperlink" Target="http://vproizvodstvo.ru/klassifikator/vidy_gofrokartona_sfery_primeneniya/" TargetMode="External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40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1560" y="1951560"/>
            <a:ext cx="7766640" cy="164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2000"/>
          </a:bodyPr>
          <a:p>
            <a:pPr indent="0" algn="r">
              <a:lnSpc>
                <a:spcPct val="100000"/>
              </a:lnSpc>
              <a:buNone/>
            </a:pPr>
            <a:r>
              <a:rPr b="0" lang="ru-RU" sz="5400" spc="-1" strike="noStrike">
                <a:solidFill>
                  <a:schemeClr val="accent1"/>
                </a:solidFill>
                <a:latin typeface="Trebuchet MS"/>
              </a:rPr>
              <a:t>Бизнес-план </a:t>
            </a:r>
            <a:br>
              <a:rPr sz="5400"/>
            </a:br>
            <a:r>
              <a:rPr b="0" lang="ru-RU" sz="5400" spc="-1" strike="noStrike">
                <a:solidFill>
                  <a:schemeClr val="accent1"/>
                </a:solidFill>
                <a:latin typeface="Trebuchet MS"/>
              </a:rPr>
              <a:t>производства мягкой мебели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2822400" y="2927880"/>
            <a:ext cx="519876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5400" spc="-1" strike="noStrike">
                <a:solidFill>
                  <a:srgbClr val="808080"/>
                </a:solidFill>
                <a:latin typeface="Trebuchet MS"/>
              </a:rPr>
              <a:t>Фирма «</a:t>
            </a:r>
            <a:r>
              <a:rPr b="0" lang="en-US" sz="5400" spc="-1" strike="noStrike">
                <a:solidFill>
                  <a:srgbClr val="808080"/>
                </a:solidFill>
                <a:latin typeface="Trebuchet MS"/>
              </a:rPr>
              <a:t>VISTA</a:t>
            </a:r>
            <a:r>
              <a:rPr b="0" lang="ru-RU" sz="5400" spc="-1" strike="noStrike">
                <a:solidFill>
                  <a:srgbClr val="808080"/>
                </a:solidFill>
                <a:latin typeface="Trebuchet MS"/>
              </a:rPr>
              <a:t>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Рисунок 3" descr=""/>
          <p:cNvPicPr/>
          <p:nvPr/>
        </p:nvPicPr>
        <p:blipFill>
          <a:blip r:embed="rId1"/>
          <a:stretch/>
        </p:blipFill>
        <p:spPr>
          <a:xfrm>
            <a:off x="451440" y="4220280"/>
            <a:ext cx="3428640" cy="2285640"/>
          </a:xfrm>
          <a:prstGeom prst="rect">
            <a:avLst/>
          </a:prstGeom>
          <a:ln w="0">
            <a:noFill/>
          </a:ln>
        </p:spPr>
      </p:pic>
      <p:pic>
        <p:nvPicPr>
          <p:cNvPr id="223" name="Рисунок 4" descr=""/>
          <p:cNvPicPr/>
          <p:nvPr/>
        </p:nvPicPr>
        <p:blipFill>
          <a:blip r:embed="rId2"/>
          <a:stretch/>
        </p:blipFill>
        <p:spPr>
          <a:xfrm>
            <a:off x="9605520" y="3512160"/>
            <a:ext cx="2511360" cy="33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chemeClr val="accent1"/>
                </a:solidFill>
                <a:latin typeface="Trebuchet MS"/>
              </a:rPr>
              <a:t>Себестоимость и цена продажи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8596440" cy="388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Расчет себестоимости на 1 продукции = (Материальные затраты на 1 продукции + затраты на оплату труда + другие затраты) / количество продукции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ебестоимость = (2987,5 руб * 100 штук + 166 000 руб + 114 075,77 руб)/100 штук = 5788, 26 руб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родажная цена = себестоимость 1 продукции + норма прибыли (25%) = 7235,33 руб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51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chemeClr val="accent1"/>
                </a:solidFill>
                <a:latin typeface="Trebuchet MS"/>
              </a:rPr>
              <a:t>Расчет прогнозируемой чистой прибыли и термина окупаемости производства мягкой мебели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38080" y="2001600"/>
            <a:ext cx="10515240" cy="41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Выручка за месяц – 100 штук * 7235,33 руб = 723 533 руб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Затраты за месяц (материальные + зарплата + другие затраты) = 2987,5 руб * 100 штук + 166 000 руб + 114 075,77 руб = 578 825,77 руб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Налоги на прибыль – (Выручка - Затраты) * 20% = 28 941,45 руб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Чистая прибыль (Выручка – Затраты - Налоги) = 115 765,78 руб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Рентабельность производства – 25%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купаемость инвестиций = Чистая прибыль/капитальные затраты = 4 мес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3600" spc="-1" strike="noStrike">
              <a:solidFill>
                <a:schemeClr val="accent1"/>
              </a:solidFill>
              <a:latin typeface="Trebuchet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8596440" cy="388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Товар будет поставляться  непосредственно в магазин 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VISTA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и в магазины розничной продажи, где будет реклама нашей мягкой мебели через сайт, каталог. Доставка будет осуществляться на нашей машине. Доставку будет оплачивать покупатель, заказчик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8" name="Прямоугольник 4"/>
          <p:cNvSpPr/>
          <p:nvPr/>
        </p:nvSpPr>
        <p:spPr>
          <a:xfrm>
            <a:off x="1252080" y="3629520"/>
            <a:ext cx="2053440" cy="1490760"/>
          </a:xfrm>
          <a:prstGeom prst="rect">
            <a:avLst/>
          </a:prstGeom>
          <a:solidFill>
            <a:srgbClr val="90c226"/>
          </a:solidFill>
          <a:ln cap="rnd">
            <a:solidFill>
              <a:srgbClr val="6a8f1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Trebuchet MS"/>
              </a:rPr>
              <a:t>Изготовление мягкой мебе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Trebuchet MS"/>
              </a:rPr>
              <a:t>Це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Стрелка вправо 5"/>
          <p:cNvSpPr/>
          <p:nvPr/>
        </p:nvSpPr>
        <p:spPr>
          <a:xfrm>
            <a:off x="3291840" y="3977640"/>
            <a:ext cx="2334960" cy="45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0c226"/>
          </a:solidFill>
          <a:ln cap="rnd">
            <a:solidFill>
              <a:srgbClr val="6a8f1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250" name="Стрелка вправо 6"/>
          <p:cNvSpPr/>
          <p:nvPr/>
        </p:nvSpPr>
        <p:spPr>
          <a:xfrm>
            <a:off x="3319920" y="4853520"/>
            <a:ext cx="2686680" cy="83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0c226"/>
          </a:solidFill>
          <a:ln cap="rnd">
            <a:solidFill>
              <a:srgbClr val="6a8f1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2880" bIns="-288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251" name="Прямоугольник 7"/>
          <p:cNvSpPr/>
          <p:nvPr/>
        </p:nvSpPr>
        <p:spPr>
          <a:xfrm>
            <a:off x="5922360" y="3263760"/>
            <a:ext cx="2236320" cy="914040"/>
          </a:xfrm>
          <a:prstGeom prst="rect">
            <a:avLst/>
          </a:prstGeom>
          <a:solidFill>
            <a:srgbClr val="90c226"/>
          </a:solidFill>
          <a:ln cap="rnd">
            <a:solidFill>
              <a:srgbClr val="6a8f1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Trebuchet MS"/>
              </a:rPr>
              <a:t>Магазин </a:t>
            </a:r>
            <a:r>
              <a:rPr b="0" lang="en-US" sz="1800" spc="-1" strike="noStrike">
                <a:solidFill>
                  <a:schemeClr val="lt1"/>
                </a:solidFill>
                <a:latin typeface="Trebuchet MS"/>
              </a:rPr>
              <a:t>VI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Прямоугольник 8"/>
          <p:cNvSpPr/>
          <p:nvPr/>
        </p:nvSpPr>
        <p:spPr>
          <a:xfrm>
            <a:off x="6091200" y="4782960"/>
            <a:ext cx="2264400" cy="1012680"/>
          </a:xfrm>
          <a:prstGeom prst="rect">
            <a:avLst/>
          </a:prstGeom>
          <a:solidFill>
            <a:srgbClr val="90c226"/>
          </a:solidFill>
          <a:ln cap="rnd">
            <a:solidFill>
              <a:srgbClr val="6a8f1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Trebuchet MS"/>
              </a:rPr>
              <a:t>Магазины розничной продаж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3600" spc="-1" strike="noStrike">
              <a:solidFill>
                <a:schemeClr val="accent1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8596440" cy="388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Чтоб реализовать наши товары с высокой потребительской ценностью и </a:t>
            </a:r>
            <a:br>
              <a:rPr sz="1800"/>
            </a:b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не сдавать своих позиций на конкурирующем рынке, наша фирма планирует:</a:t>
            </a:r>
            <a:br>
              <a:rPr sz="1800"/>
            </a:b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1) более глубокое изучение потребностей клиентов;</a:t>
            </a:r>
            <a:br>
              <a:rPr sz="1800"/>
            </a:b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2) разработка новых моделей более экономичной и доступной мебели;</a:t>
            </a:r>
            <a:br>
              <a:rPr sz="1800"/>
            </a:b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3) расширение ассортимента продукции;</a:t>
            </a:r>
            <a:br>
              <a:rPr sz="1800"/>
            </a:b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4) обмен опытом;</a:t>
            </a:r>
            <a:br>
              <a:rPr sz="1800"/>
            </a:b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5) расширение доли рынк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677160" y="844200"/>
            <a:ext cx="8596440" cy="51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сновными элементами системы ФОССТИС у нас будут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1" i="1" lang="ru-RU" sz="1800" spc="-1" strike="noStrike">
                <a:solidFill>
                  <a:srgbClr val="404040"/>
                </a:solidFill>
                <a:latin typeface="Trebuchet MS"/>
              </a:rPr>
              <a:t>Личная продажа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редставление товара в ходе непосредственного взаимодействия (беседы, презентации) с одним или несколькими потенциальными покупателями с целью последующей продажи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1" i="1" lang="ru-RU" sz="1800" spc="-1" strike="noStrike">
                <a:solidFill>
                  <a:srgbClr val="404040"/>
                </a:solidFill>
                <a:latin typeface="Trebuchet MS"/>
              </a:rPr>
              <a:t>Стимулирование сбыта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оощрительные меры, направленные на стимулирование покупки илиапробирование товара или услуги такие как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сихологическое ценообразование, при котором устанавливаются психологически привлекательные цены ниже круглых сумм;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тсрочка платежа на некоторый срок (оговаривается с каждым клиентом индивидуально)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гарантийные условия и договоры о техническом обслуживании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редоставление товара на тестирование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677160" y="872280"/>
            <a:ext cx="8596440" cy="51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334800" indent="-3348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1" i="1" lang="ru-RU" sz="1800" spc="-1" strike="noStrike">
                <a:solidFill>
                  <a:srgbClr val="404040"/>
                </a:solidFill>
                <a:latin typeface="Trebuchet MS"/>
              </a:rPr>
              <a:t>Реклам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34800" indent="-3348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У нас будет свой каталог, где представлено множество моделей мягкой и корпусной мебели. Потребитель сможет сам выбрать цвет, ткань, размер. Вместе с каталогом будут представлены образцы ткани, которые нам предоставит магазин тканей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34800" indent="-3348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1" lang="ru-RU" sz="1800" spc="-1" strike="noStrike">
                <a:solidFill>
                  <a:srgbClr val="404040"/>
                </a:solidFill>
                <a:latin typeface="Trebuchet MS"/>
              </a:rPr>
              <a:t> 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34800" indent="-3348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1" i="1" lang="ru-RU" sz="1800" spc="-1" strike="noStrike">
                <a:solidFill>
                  <a:srgbClr val="404040"/>
                </a:solidFill>
                <a:latin typeface="Trebuchet MS"/>
              </a:rPr>
              <a:t>Связь с общественностью и пропаганда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34800" indent="-3348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резентации на предприятиях по производству мягкой мебели(мероприятия по формированию благоприятного общественного мнения о предприятии и товара)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34800" indent="-3348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1" i="1" lang="ru-RU" sz="1800" spc="-1" strike="noStrike">
                <a:solidFill>
                  <a:srgbClr val="404040"/>
                </a:solidFill>
                <a:latin typeface="Trebuchet MS"/>
              </a:rPr>
              <a:t>5. Средства прямой коммуникации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34800" indent="-3348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ри продвижении продукции будут использоваться следующие методы: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34800" indent="-3348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выставки,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34800" indent="-3348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ярмарки и салоны,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34800" indent="-3348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глобально информационно-электронные системы (типа Интернет),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34800" indent="-3348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родажа по каталогам (создание своего сайта, где представлена информация о нас и наша продукция)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34800" indent="-3348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Так же к методам стимулирования продаж будет относиться гарантия, сервисное обслуживание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677160" y="464400"/>
            <a:ext cx="859644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8" name="Прямоугольник 3"/>
          <p:cNvSpPr/>
          <p:nvPr/>
        </p:nvSpPr>
        <p:spPr>
          <a:xfrm>
            <a:off x="787680" y="1603800"/>
            <a:ext cx="8355960" cy="36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Уникальность услуг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Обращаясь в нашу фирму, по поводу приобретения мебели клиент,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прежде всего, выигрывает в том, что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1) он получает бесплатную консультацию специалиста по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интересующему его вопросу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2) приобретает многофункциональную мебель при незначительной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разнице цен по сравнению с мебелью другого производства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3) возможность изготовление мебели по заказу клиента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4) фирма делает скидки для пенсионеров и новобрачным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5) мебель доставляется непосредственно по месту назначения и если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требуется со сборкой по месту установки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6) возможна продажа в рассрочку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7) индивидуальность подхода к клиент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chemeClr val="accent1"/>
                </a:solidFill>
                <a:latin typeface="Trebuchet MS"/>
              </a:rPr>
              <a:t>Цели и задачи производства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8596440" cy="388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Цель: Главной целью фирмы «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VISTA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» является предоставление людям недорогой удобной, комфортной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,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красивой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,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мягкой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,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гипоаллергенной мебели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Задачи: Предоставление потребителю возможности максимально широкого выбора - наша первоочередная задача. Став однажды нашим клиентом, заказчик не должен искать других исполнителей. Продвижение и стимулирование сбыта продукции преобразуются и проявляются в поддержке делового постоянного сотрудничества с заказчиками. Не дожидаясь насыщения местного рынка мебелью, нами планируется привлечение дилеров в близлежащих регионах. Сбор заказов будет осуществляться рекламным агентством и сетью менеджеров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1960" y="408600"/>
            <a:ext cx="10515240" cy="63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9000"/>
          </a:bodyPr>
          <a:p>
            <a:pPr indent="0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chemeClr val="accent1"/>
                </a:solidFill>
                <a:latin typeface="Trebuchet MS"/>
              </a:rPr>
              <a:t>                       </a:t>
            </a:r>
            <a:r>
              <a:rPr b="0" lang="ru-RU" sz="4000" spc="-1" strike="noStrike">
                <a:solidFill>
                  <a:schemeClr val="accent1"/>
                </a:solidFill>
                <a:latin typeface="Trebuchet MS"/>
              </a:rPr>
              <a:t>Матрица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31960" y="1046160"/>
            <a:ext cx="10515240" cy="504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808080"/>
              </a:solidFill>
              <a:latin typeface="Trebuchet MS"/>
            </a:endParaRPr>
          </a:p>
        </p:txBody>
      </p:sp>
      <p:graphicFrame>
        <p:nvGraphicFramePr>
          <p:cNvPr id="228" name="Таблица 3"/>
          <p:cNvGraphicFramePr/>
          <p:nvPr/>
        </p:nvGraphicFramePr>
        <p:xfrm>
          <a:off x="357120" y="1036440"/>
          <a:ext cx="10515240" cy="5045400"/>
        </p:xfrm>
        <a:graphic>
          <a:graphicData uri="http://schemas.openxmlformats.org/drawingml/2006/table">
            <a:tbl>
              <a:tblPr/>
              <a:tblGrid>
                <a:gridCol w="3191400"/>
                <a:gridCol w="1250280"/>
                <a:gridCol w="1172160"/>
                <a:gridCol w="1315440"/>
                <a:gridCol w="1146240"/>
                <a:gridCol w="1240560"/>
                <a:gridCol w="1198080"/>
              </a:tblGrid>
              <a:tr h="4582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ef4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Директо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ef4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Финансис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ef4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Бухгалтер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ef4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Менедже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ef4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Маркетолог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ef4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Технолог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ef4e7"/>
                    </a:solidFill>
                  </a:tcPr>
                </a:tc>
              </a:tr>
              <a:tr h="4582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Оценка рынка сбыт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ef4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ef4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ef4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ef4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ef4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ef4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ef4e7"/>
                    </a:solidFill>
                  </a:tcPr>
                </a:tc>
              </a:tr>
              <a:tr h="4582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Конкуренц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ef4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ef4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ef4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ef4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ef4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ef4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ef4e7"/>
                    </a:solidFill>
                  </a:tcPr>
                </a:tc>
              </a:tr>
              <a:tr h="4582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Стратегия маркетинг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ef4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ef4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ef4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ef4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ef4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ef4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ef4e7"/>
                    </a:solidFill>
                  </a:tcPr>
                </a:tc>
              </a:tr>
              <a:tr h="4608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План производства продукци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ef4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ef4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ef4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ef4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ef4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ef4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ef4e7"/>
                    </a:solidFill>
                  </a:tcPr>
                </a:tc>
              </a:tr>
              <a:tr h="4582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Организационный пла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ef4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ef4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ef4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ef4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ef4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ef4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ef4e7"/>
                    </a:solidFill>
                  </a:tcPr>
                </a:tc>
              </a:tr>
              <a:tr h="4582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Оценка риск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ef4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ef4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ef4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ef4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ef4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ef4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ef4e7"/>
                    </a:solidFill>
                  </a:tcPr>
                </a:tc>
              </a:tr>
              <a:tr h="4582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Финансовый пла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ef4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ef4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ef4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ef4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ef4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ef4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ef4e7"/>
                    </a:solidFill>
                  </a:tcPr>
                </a:tc>
              </a:tr>
              <a:tr h="4582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Стартегия финансирова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ef4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ef4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ef4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ef4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ef4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ef4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ef4e7"/>
                    </a:solidFill>
                  </a:tcPr>
                </a:tc>
              </a:tr>
              <a:tr h="9169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Расчет срока окупаемости инвестицийи точки безубыточности проект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ef4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ef4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ef4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ef4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ef4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ef4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ef4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49960" y="25956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chemeClr val="accent1"/>
                </a:solidFill>
                <a:latin typeface="Trebuchet MS"/>
              </a:rPr>
              <a:t>Анализ исследования рынка мягкой                           </a:t>
            </a:r>
            <a:r>
              <a:rPr b="0" lang="ru-RU" sz="3600" spc="-1" strike="noStrike">
                <a:solidFill>
                  <a:schemeClr val="accent1"/>
                </a:solidFill>
                <a:latin typeface="Trebuchet MS"/>
              </a:rPr>
              <a:t>	</a:t>
            </a:r>
            <a:r>
              <a:rPr b="0" lang="ru-RU" sz="3600" spc="-1" strike="noStrike">
                <a:solidFill>
                  <a:schemeClr val="accent1"/>
                </a:solidFill>
                <a:latin typeface="Trebuchet MS"/>
              </a:rPr>
              <a:t>	</a:t>
            </a:r>
            <a:r>
              <a:rPr b="0" lang="ru-RU" sz="3600" spc="-1" strike="noStrike">
                <a:solidFill>
                  <a:schemeClr val="accent1"/>
                </a:solidFill>
                <a:latin typeface="Trebuchet MS"/>
              </a:rPr>
              <a:t>	</a:t>
            </a:r>
            <a:r>
              <a:rPr b="0" lang="ru-RU" sz="3600" spc="-1" strike="noStrike">
                <a:solidFill>
                  <a:schemeClr val="accent1"/>
                </a:solidFill>
                <a:latin typeface="Trebuchet MS"/>
              </a:rPr>
              <a:t>мебели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10515240" cy="53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marL="323280" indent="-3232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В настоящее время перед мебельной промышленностью поставлены задачи повышения качества и улучшения ее ассортимента, а также снизить материалоемкость и трудоемкость выпускаемых изделий. Эти мероприятия планируется выполнить главным образом за счет широкого внедрения в мебельной промышленности последних достижений науки и техники. На конструкцию и форму мебели оказывает влияние выбранный стиль. Под стилем понимают единство применения определенных принципов архитектуры и форм украшений в разных областях жизни. Применительно к истории развития форм и конструкции мебели существуют следующие основные важнейшие эпохи стилей мебели, а именно: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23280" indent="-3232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- народная мебель - первая четверть 18 в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23280" indent="-3232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- барокко - середина 18 в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23280" indent="-3232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- русский классицизм - конец 18 в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23280" indent="-3232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- русский ампир - с 1830 г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23280" indent="-3232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- бидермайер - с 1850 г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23280" indent="-3232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- элементы различных стилей - конец 19 в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23280" indent="-3232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- модерн и псевдорусский стиль - начало 20 в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23280" indent="-3232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- функционально-конструкторский - настоящее время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23280" indent="-3232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Экономический кризис, который овладел реальным сектором экономики т.е. промышленностью, коснулся и деревообрабатывающих отрасли производства. Сложившееся бедственное положение предприятий деревообрабатывающей отрасли вызвано, прежде всего, падением объемов производства, ослаблением научно-технического потенциала, сокращением инвестиционной деятельности и другими причинами. Для того, чтобы стабилизировать сложившеюся обстановку, необходимо проводить политику поддержки отечественных производителей, одним из 7 элементов которой является увеличение объемов инвестиций в производство. Инвестиции являются основным движущим инструментом развития производства. Они влекут за собой внедрение новых технологий, повышение квалификации работников, в целом – оживление отрасли. Выбранную нами область деятельности мы считаем одной из наиболее перспективных. На всех этапах развития люди пытались по мере возможности как-то благоустроить свой быт. С годами потребности и требования людей увеличились и усовершенствовались. Наша фирма готова выполнить любые требования и угодить самому разборчивому клиенту. К тому же в городе Нефтекамске производство мебели является неразвитым и нашей фирме предстоит большой фронт работы, к которой мы готовы приступить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98640"/>
            <a:ext cx="10515240" cy="159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chemeClr val="accent1"/>
                </a:solidFill>
                <a:latin typeface="Trebuchet MS"/>
              </a:rPr>
              <a:t>Технологический процесс производства мягкой мебели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266840"/>
            <a:ext cx="10515240" cy="54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Рассмотрим производство диванов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Рассмотрим на примере изготовление самого популярного и технологически сложного представителя категории «мягкая мебель» — </a:t>
            </a:r>
            <a:r>
              <a:rPr b="1" lang="ru-RU" sz="2200" spc="-1" strike="noStrike">
                <a:solidFill>
                  <a:srgbClr val="404040"/>
                </a:solidFill>
                <a:latin typeface="Trebuchet MS"/>
              </a:rPr>
              <a:t>дивана</a:t>
            </a: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. В отличие от кресел, стульев и прочей мебели, здесь предполагается использование трансформирующего механизма, который превращает диван в кровать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Trebuchet MS"/>
              </a:rPr>
              <a:t>Итак, все диваны имеют общую структуру компонентов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27960" indent="-32796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каркас – главный элемент конструкции, на который крепятся остальные части дивана. Он выполняет основные прочностные функции при эксплуатации мебели, является базой для крепления остальных частей при формировании внешнего вида и придания мягкости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27960" indent="-32796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элементы «упругости» (мягкие наполнители и пружинные блоки)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27960" indent="-32796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механизм трансформации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27960" indent="-32796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чехол с обивочной тканью. 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Trebuchet MS"/>
              </a:rPr>
              <a:t>Заготовительные операции проходят по следующим этапам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27960" indent="-32796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На торцовочном станке пиломатериал (фанера) раскраивается по длине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27960" indent="-32796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На круглопильном станке происходит раскрой фанеры по ширине; 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27960" indent="-32796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Полученная деталь шлифуется на четырехстороннем станке, после чего шипорезный станок вырезает в ней шипы и проушины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27960" indent="-32796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С помощью ручного электроинструмента вырезаются внутренние детали из плит (ДВП, ДСП)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27960" indent="-32796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Крепится механизм трансформации (для раскладных диванов)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27960" indent="-32796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Собирается каркас-основа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1216440" y="179640"/>
            <a:ext cx="10515240" cy="659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400" spc="-1" strike="noStrike">
                <a:solidFill>
                  <a:schemeClr val="accent6">
                    <a:lumMod val="75000"/>
                  </a:schemeClr>
                </a:solidFill>
                <a:latin typeface="Trebuchet MS"/>
              </a:rPr>
              <a:t>Технология изготовления: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1) </a:t>
            </a:r>
            <a:r>
              <a:rPr b="1" lang="ru-RU" sz="1400" spc="-1" strike="noStrike">
                <a:solidFill>
                  <a:srgbClr val="404040"/>
                </a:solidFill>
                <a:latin typeface="Trebuchet MS"/>
              </a:rPr>
              <a:t>В столярном цехе производится распил фанеры и досок на деревянные заготовки</a:t>
            </a: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, которые здесь же собираются в каркас будущей мягкой мебели.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2) </a:t>
            </a:r>
            <a:r>
              <a:rPr b="1" lang="ru-RU" sz="1400" spc="-1" strike="noStrike">
                <a:solidFill>
                  <a:srgbClr val="404040"/>
                </a:solidFill>
                <a:latin typeface="Trebuchet MS"/>
              </a:rPr>
              <a:t>Готовые каркасы поступают в обивочный цех</a:t>
            </a: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, где они обклеиваются поролоном и обстреливаются обивочным материалом. Для начала на деревянную основу, наклеивается специальный нетканый материал – </a:t>
            </a:r>
            <a:r>
              <a:rPr b="0" i="1" lang="ru-RU" sz="1400" spc="-1" strike="noStrike">
                <a:solidFill>
                  <a:srgbClr val="404040"/>
                </a:solidFill>
                <a:latin typeface="Trebuchet MS"/>
              </a:rPr>
              <a:t>дарнит</a:t>
            </a: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. Это помогает избежать стуков и скрипов при эксплуатации готового изделия.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3) Устанавливаются элементы мягкости – </a:t>
            </a:r>
            <a:r>
              <a:rPr b="1" lang="ru-RU" sz="1400" spc="-1" strike="noStrike">
                <a:solidFill>
                  <a:srgbClr val="404040"/>
                </a:solidFill>
                <a:latin typeface="Trebuchet MS"/>
              </a:rPr>
              <a:t>пружинные блоки</a:t>
            </a: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, которые осуществляют ортопедическую функцию. Блоки фиксируются равномерно по всему периметру и в центральной части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500" spc="-1" strike="noStrike">
                <a:solidFill>
                  <a:srgbClr val="404040"/>
                </a:solidFill>
                <a:latin typeface="Trebuchet MS"/>
              </a:rPr>
              <a:t>4) По периметру блока </a:t>
            </a:r>
            <a:r>
              <a:rPr b="1" lang="ru-RU" sz="1500" spc="-1" strike="noStrike">
                <a:solidFill>
                  <a:srgbClr val="404040"/>
                </a:solidFill>
                <a:latin typeface="Trebuchet MS"/>
              </a:rPr>
              <a:t>клеится поролон</a:t>
            </a:r>
            <a:r>
              <a:rPr b="0" lang="ru-RU" sz="1500" spc="-1" strike="noStrike">
                <a:solidFill>
                  <a:srgbClr val="404040"/>
                </a:solidFill>
                <a:latin typeface="Trebuchet MS"/>
              </a:rPr>
              <a:t>, что исключает возможность контакта с твердой рамкой каркаса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500" spc="-1" strike="noStrike">
                <a:solidFill>
                  <a:srgbClr val="404040"/>
                </a:solidFill>
                <a:latin typeface="Trebuchet MS"/>
              </a:rPr>
              <a:t>5) Сверху пружинного блока </a:t>
            </a:r>
            <a:r>
              <a:rPr b="1" lang="ru-RU" sz="1500" spc="-1" strike="noStrike">
                <a:solidFill>
                  <a:srgbClr val="404040"/>
                </a:solidFill>
                <a:latin typeface="Trebuchet MS"/>
              </a:rPr>
              <a:t>клеится плотный тканый материал</a:t>
            </a:r>
            <a:r>
              <a:rPr b="0" lang="ru-RU" sz="1500" spc="-1" strike="noStrike">
                <a:solidFill>
                  <a:srgbClr val="404040"/>
                </a:solidFill>
                <a:latin typeface="Trebuchet MS"/>
              </a:rPr>
              <a:t>, который препятствует истиранию об пружины блока вышележащего слоя прокладочного материала.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500" spc="-1" strike="noStrike">
                <a:solidFill>
                  <a:srgbClr val="404040"/>
                </a:solidFill>
                <a:latin typeface="Trebuchet MS"/>
              </a:rPr>
              <a:t>6) В качестве прокладочного материала чаще всего используют </a:t>
            </a:r>
            <a:r>
              <a:rPr b="0" i="1" lang="ru-RU" sz="1500" spc="-1" strike="noStrike">
                <a:solidFill>
                  <a:srgbClr val="404040"/>
                </a:solidFill>
                <a:latin typeface="Trebuchet MS"/>
              </a:rPr>
              <a:t>спангон</a:t>
            </a:r>
            <a:r>
              <a:rPr b="0" lang="ru-RU" sz="1500" spc="-1" strike="noStrike">
                <a:solidFill>
                  <a:srgbClr val="404040"/>
                </a:solidFill>
                <a:latin typeface="Trebuchet MS"/>
              </a:rPr>
              <a:t>, </a:t>
            </a:r>
            <a:r>
              <a:rPr b="0" i="1" lang="ru-RU" sz="1500" spc="-1" strike="noStrike">
                <a:solidFill>
                  <a:srgbClr val="404040"/>
                </a:solidFill>
                <a:latin typeface="Trebuchet MS"/>
              </a:rPr>
              <a:t>поролон</a:t>
            </a:r>
            <a:r>
              <a:rPr b="0" lang="ru-RU" sz="1500" spc="-1" strike="noStrike">
                <a:solidFill>
                  <a:srgbClr val="404040"/>
                </a:solidFill>
                <a:latin typeface="Trebuchet MS"/>
              </a:rPr>
              <a:t>или </a:t>
            </a:r>
            <a:r>
              <a:rPr b="0" i="1" lang="ru-RU" sz="1500" spc="-1" strike="noStrike">
                <a:solidFill>
                  <a:srgbClr val="404040"/>
                </a:solidFill>
                <a:latin typeface="Trebuchet MS"/>
              </a:rPr>
              <a:t>кокосовую койру</a:t>
            </a:r>
            <a:r>
              <a:rPr b="0" lang="ru-RU" sz="1500" spc="-1" strike="noStrike">
                <a:solidFill>
                  <a:srgbClr val="404040"/>
                </a:solidFill>
                <a:latin typeface="Trebuchet MS"/>
              </a:rPr>
              <a:t>, 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marL="322200" indent="-3222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0"/>
              </a:tabLst>
            </a:pPr>
            <a:r>
              <a:rPr b="1" lang="ru-RU" sz="1500" spc="-1" strike="noStrike">
                <a:solidFill>
                  <a:srgbClr val="404040"/>
                </a:solidFill>
                <a:latin typeface="Trebuchet MS"/>
              </a:rPr>
              <a:t>Спангон и поролон</a:t>
            </a:r>
            <a:r>
              <a:rPr b="0" lang="ru-RU" sz="1500" spc="-1" strike="noStrike">
                <a:solidFill>
                  <a:srgbClr val="404040"/>
                </a:solidFill>
                <a:latin typeface="Trebuchet MS"/>
              </a:rPr>
              <a:t> (вторичного вспенивания) — более дешевый вариант, но уже через год-два активной эксплуатации такой диван начинает «проседать» и выходить из строя.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marL="322200" indent="-3222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0"/>
              </a:tabLst>
            </a:pPr>
            <a:r>
              <a:rPr b="1" lang="ru-RU" sz="1500" spc="-1" strike="noStrike">
                <a:solidFill>
                  <a:srgbClr val="404040"/>
                </a:solidFill>
                <a:latin typeface="Trebuchet MS"/>
              </a:rPr>
              <a:t>Кокосовая койра</a:t>
            </a:r>
            <a:r>
              <a:rPr b="0" lang="ru-RU" sz="1500" spc="-1" strike="noStrike">
                <a:solidFill>
                  <a:srgbClr val="404040"/>
                </a:solidFill>
                <a:latin typeface="Trebuchet MS"/>
              </a:rPr>
              <a:t> – более жесткий и долговечный материал, который прослужит около 7-8 лет.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7) После прокладочного материала располагается ещё один элемент мягкости – поролон высотой 40 мм, плотностью – 35-42. Между поролоном и обивочным материалом необходимо установить синтепон, который позволит поролону «дышать»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500" spc="-1" strike="noStrike">
                <a:solidFill>
                  <a:srgbClr val="404040"/>
                </a:solidFill>
                <a:latin typeface="Trebuchet MS"/>
              </a:rPr>
              <a:t>8) В </a:t>
            </a:r>
            <a:r>
              <a:rPr b="0" lang="ru-RU" sz="1500" spc="-1" strike="noStrike" u="sng">
                <a:solidFill>
                  <a:srgbClr val="b2d76d"/>
                </a:solidFill>
                <a:uFillTx/>
                <a:latin typeface="Trebuchet MS"/>
                <a:hlinkClick r:id="rId1"/>
              </a:rPr>
              <a:t>швейном цеху</a:t>
            </a:r>
            <a:r>
              <a:rPr b="0" lang="ru-RU" sz="1500" spc="-1" strike="noStrike">
                <a:solidFill>
                  <a:srgbClr val="404040"/>
                </a:solidFill>
                <a:latin typeface="Trebuchet MS"/>
              </a:rPr>
              <a:t> используется оборудование для работы с любыми видами отделки – от искусственного меха до натуральной кожи. Здесь осуществляется раскрой обивочной ткани для будущих диванов, которую в обивочном цехе «пристреливают» к многослойной основе.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500" spc="-1" strike="noStrike">
                <a:solidFill>
                  <a:srgbClr val="404040"/>
                </a:solidFill>
                <a:latin typeface="Trebuchet MS"/>
              </a:rPr>
              <a:t>9) Здесь </a:t>
            </a:r>
            <a:r>
              <a:rPr b="1" lang="ru-RU" sz="1500" spc="-1" strike="noStrike">
                <a:solidFill>
                  <a:srgbClr val="404040"/>
                </a:solidFill>
                <a:latin typeface="Trebuchet MS"/>
              </a:rPr>
              <a:t>шьют чехлы под определенные элементы мягкой мебели</a:t>
            </a:r>
            <a:r>
              <a:rPr b="0" lang="ru-RU" sz="1500" spc="-1" strike="noStrike">
                <a:solidFill>
                  <a:srgbClr val="404040"/>
                </a:solidFill>
                <a:latin typeface="Trebuchet MS"/>
              </a:rPr>
              <a:t> (подушки, спинки, подлокотники, сидения). Их «одевают» на каркас-основу с приклеенным мягким наполнителем – поролоном, синтепоном.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10) После контрольной сборки и финишного оформления, </a:t>
            </a:r>
            <a:r>
              <a:rPr b="1" lang="ru-RU" sz="1400" spc="-1" strike="noStrike">
                <a:solidFill>
                  <a:srgbClr val="404040"/>
                </a:solidFill>
                <a:latin typeface="Trebuchet MS"/>
              </a:rPr>
              <a:t>изделие упаковывается</a:t>
            </a: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 с помощью полиэтилена, </a:t>
            </a:r>
            <a:r>
              <a:rPr b="0" lang="ru-RU" sz="1400" spc="-1" strike="noStrike" u="sng">
                <a:solidFill>
                  <a:srgbClr val="b2d76d"/>
                </a:solidFill>
                <a:uFillTx/>
                <a:latin typeface="Trebuchet MS"/>
                <a:hlinkClick r:id="rId2"/>
              </a:rPr>
              <a:t>картона</a:t>
            </a: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 и отправляется на склад готовой продукции.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4718880" cy="72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chemeClr val="accent1"/>
                </a:solidFill>
                <a:latin typeface="Trebuchet MS"/>
              </a:rPr>
              <a:t>Финансовый план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Объект 10" descr=""/>
          <p:cNvPicPr/>
          <p:nvPr/>
        </p:nvPicPr>
        <p:blipFill>
          <a:blip r:embed="rId1"/>
          <a:stretch/>
        </p:blipFill>
        <p:spPr>
          <a:xfrm>
            <a:off x="6026760" y="175680"/>
            <a:ext cx="5461560" cy="4350960"/>
          </a:xfrm>
          <a:prstGeom prst="rect">
            <a:avLst/>
          </a:prstGeom>
          <a:ln w="0">
            <a:noFill/>
          </a:ln>
        </p:spPr>
      </p:pic>
      <p:pic>
        <p:nvPicPr>
          <p:cNvPr id="236" name="Объект 8" descr=""/>
          <p:cNvPicPr/>
          <p:nvPr/>
        </p:nvPicPr>
        <p:blipFill>
          <a:blip r:embed="rId2"/>
          <a:stretch/>
        </p:blipFill>
        <p:spPr>
          <a:xfrm>
            <a:off x="101520" y="4070160"/>
            <a:ext cx="5176080" cy="260424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2" descr=""/>
          <p:cNvPicPr/>
          <p:nvPr/>
        </p:nvPicPr>
        <p:blipFill>
          <a:blip r:embed="rId3"/>
          <a:stretch/>
        </p:blipFill>
        <p:spPr>
          <a:xfrm>
            <a:off x="101520" y="1210680"/>
            <a:ext cx="5176080" cy="29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98320" y="203040"/>
            <a:ext cx="10515240" cy="117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ru-RU" sz="2700" spc="-1" strike="noStrike">
                <a:solidFill>
                  <a:schemeClr val="accent1"/>
                </a:solidFill>
                <a:latin typeface="Trebuchet MS"/>
              </a:rPr>
              <a:t>Расчет расхода материалов и сырья на изготовление единицы продукции (мягкий диван):</a:t>
            </a:r>
            <a:endParaRPr b="0" lang="en-US" sz="2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62200" y="1605240"/>
            <a:ext cx="4969080" cy="392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rebuchet MS"/>
              </a:rPr>
              <a:t>фанера – 1 м</a:t>
            </a:r>
            <a:r>
              <a:rPr b="0" lang="ru-RU" sz="1200" spc="-1" strike="noStrike" baseline="30000">
                <a:solidFill>
                  <a:srgbClr val="000000"/>
                </a:solidFill>
                <a:latin typeface="Trebuchet MS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Trebuchet MS"/>
              </a:rPr>
              <a:t>*59 руб = 59 руб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rebuchet MS"/>
              </a:rPr>
              <a:t>доска обрезная – 0,08 м</a:t>
            </a:r>
            <a:r>
              <a:rPr b="0" lang="ru-RU" sz="1200" spc="-1" strike="noStrike" baseline="30000">
                <a:solidFill>
                  <a:srgbClr val="000000"/>
                </a:solidFill>
                <a:latin typeface="Trebuchet MS"/>
              </a:rPr>
              <a:t>3 </a:t>
            </a:r>
            <a:r>
              <a:rPr b="0" lang="ru-RU" sz="1200" spc="-1" strike="noStrike">
                <a:solidFill>
                  <a:srgbClr val="000000"/>
                </a:solidFill>
                <a:latin typeface="Trebuchet MS"/>
              </a:rPr>
              <a:t>* 600 руб = 48 руб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rebuchet MS"/>
              </a:rPr>
              <a:t>ДВП – 2 листа * 70 руб = 140 руб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rebuchet MS"/>
              </a:rPr>
              <a:t>гвозди – 0,7 кг * 12 руб = 8,40 руб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rebuchet MS"/>
              </a:rPr>
              <a:t>болты – 0,5 кг  * 20 руб = 10 руб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rebuchet MS"/>
              </a:rPr>
              <a:t>шурупы – 0,2 кг * 20 руб = 4 руб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rebuchet MS"/>
              </a:rPr>
              <a:t>гобелен – 8,4 п.м. * 220 руб = 1848 руб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rebuchet MS"/>
              </a:rPr>
              <a:t>нитки – 0,1б * 6 руб = 0,60 руб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rebuchet MS"/>
              </a:rPr>
              <a:t>клей – 0,2 кг * 15 руб = 3 руб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rebuchet MS"/>
              </a:rPr>
              <a:t>картон – 2 кг * 12 руб = 24 руб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rebuchet MS"/>
              </a:rPr>
              <a:t>полиэтилен – 13 м</a:t>
            </a:r>
            <a:r>
              <a:rPr b="0" lang="ru-RU" sz="1200" spc="-1" strike="noStrike" baseline="30000">
                <a:solidFill>
                  <a:srgbClr val="000000"/>
                </a:solidFill>
                <a:latin typeface="Trebuchet MS"/>
              </a:rPr>
              <a:t>2 </a:t>
            </a:r>
            <a:r>
              <a:rPr b="0" lang="ru-RU" sz="1200" spc="-1" strike="noStrike">
                <a:solidFill>
                  <a:srgbClr val="000000"/>
                </a:solidFill>
                <a:latin typeface="Trebuchet MS"/>
              </a:rPr>
              <a:t>* 9 = 117 руб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rebuchet MS"/>
              </a:rPr>
              <a:t>поролон – 0,3 кг * 45 руб = 13,50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rebuchet MS"/>
              </a:rPr>
              <a:t>ватин – 4 п.м. * 28 руб = 112 руб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rebuchet MS"/>
              </a:rPr>
              <a:t>фурнитура - 30 руб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rebuchet MS"/>
              </a:rPr>
              <a:t>подушки – 6 штук * 80 руб = 480 руб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rebuchet MS"/>
              </a:rPr>
              <a:t>ткань 1 м * 90 руб = 90 руб.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rebuchet MS"/>
              </a:rPr>
              <a:t>Итого: 2987,50 руб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45000" y="746280"/>
            <a:ext cx="10403640" cy="1346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6000"/>
          </a:bodyPr>
          <a:p>
            <a:pPr indent="0" algn="r">
              <a:lnSpc>
                <a:spcPct val="100000"/>
              </a:lnSpc>
              <a:buNone/>
            </a:pPr>
            <a:r>
              <a:rPr b="1" lang="ru-RU" sz="5400" spc="-1" strike="noStrike">
                <a:solidFill>
                  <a:schemeClr val="accent1"/>
                </a:solidFill>
                <a:latin typeface="Trebuchet MS"/>
              </a:rPr>
              <a:t>Расчет прочих материальных затрат:</a:t>
            </a:r>
            <a:endParaRPr b="0" lang="en-US" sz="5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1523880" y="2153880"/>
            <a:ext cx="6664680" cy="341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808080"/>
                </a:solidFill>
                <a:latin typeface="Trebuchet MS"/>
              </a:rPr>
              <a:t>затраты на рекламу – 30 000 руб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808080"/>
                </a:solidFill>
                <a:latin typeface="Trebuchet MS"/>
              </a:rPr>
              <a:t>оплата за водоснабжение – 82,23 м3 * 5,3 руб = 440,00 руб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808080"/>
                </a:solidFill>
                <a:latin typeface="Trebuchet MS"/>
              </a:rPr>
              <a:t>электроэнергия – 2191 кВт/час * 0,25 руб = 547,75 руб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808080"/>
                </a:solidFill>
                <a:latin typeface="Trebuchet MS"/>
              </a:rPr>
              <a:t>производственный сток – 61,9 м</a:t>
            </a:r>
            <a:r>
              <a:rPr b="0" lang="ru-RU" sz="1800" spc="-1" strike="noStrike" baseline="30000">
                <a:solidFill>
                  <a:srgbClr val="808080"/>
                </a:solidFill>
                <a:latin typeface="Trebuchet MS"/>
              </a:rPr>
              <a:t>3</a:t>
            </a:r>
            <a:r>
              <a:rPr b="0" lang="ru-RU" sz="1800" spc="-1" strike="noStrike">
                <a:solidFill>
                  <a:srgbClr val="808080"/>
                </a:solidFill>
                <a:latin typeface="Trebuchet MS"/>
              </a:rPr>
              <a:t> * 20 руб = 1238 руб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808080"/>
                </a:solidFill>
                <a:latin typeface="Trebuchet MS"/>
              </a:rPr>
              <a:t>отопление – 4,099 Гкал * 102,47 руб = 420,02 руб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808080"/>
                </a:solidFill>
                <a:latin typeface="Trebuchet MS"/>
              </a:rPr>
              <a:t>оплата за охрану и сигнализацию – 1700 руб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808080"/>
                </a:solidFill>
                <a:latin typeface="Trebuchet MS"/>
              </a:rPr>
              <a:t>телефон и интернет – 3100 руб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808080"/>
                </a:solidFill>
                <a:latin typeface="Trebuchet MS"/>
              </a:rPr>
              <a:t>налоги на зарплату – 62 250 руб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808080"/>
                </a:solidFill>
                <a:latin typeface="Trebuchet MS"/>
              </a:rPr>
              <a:t>амортизация – 14 380 ру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ru-RU" sz="1800" spc="-1" strike="noStrike">
                <a:solidFill>
                  <a:srgbClr val="808080"/>
                </a:solidFill>
                <a:latin typeface="Trebuchet MS"/>
              </a:rPr>
              <a:t>Итого: 114 075,77 руб/месяц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Аспект">
  <a:themeElements>
    <a:clrScheme name="Аспект">
      <a:dk1>
        <a:srgbClr val="000000"/>
      </a:dk1>
      <a:lt1>
        <a:srgbClr val="ffffff"/>
      </a:lt1>
      <a:dk2>
        <a:srgbClr val="2c3c43"/>
      </a:dk2>
      <a:lt2>
        <a:srgbClr val="ebebeb"/>
      </a:lt2>
      <a:accent1>
        <a:srgbClr val="90c226"/>
      </a:accent1>
      <a:accent2>
        <a:srgbClr val="54a021"/>
      </a:accent2>
      <a:accent3>
        <a:srgbClr val="e6b91e"/>
      </a:accent3>
      <a:accent4>
        <a:srgbClr val="e76618"/>
      </a:accent4>
      <a:accent5>
        <a:srgbClr val="c42f1a"/>
      </a:accent5>
      <a:accent6>
        <a:srgbClr val="918655"/>
      </a:accent6>
      <a:hlink>
        <a:srgbClr val="99ca3c"/>
      </a:hlink>
      <a:folHlink>
        <a:srgbClr val="b9d18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Аспект">
  <a:themeElements>
    <a:clrScheme name="Аспект">
      <a:dk1>
        <a:srgbClr val="000000"/>
      </a:dk1>
      <a:lt1>
        <a:srgbClr val="ffffff"/>
      </a:lt1>
      <a:dk2>
        <a:srgbClr val="2c3c43"/>
      </a:dk2>
      <a:lt2>
        <a:srgbClr val="ebebeb"/>
      </a:lt2>
      <a:accent1>
        <a:srgbClr val="90c226"/>
      </a:accent1>
      <a:accent2>
        <a:srgbClr val="54a021"/>
      </a:accent2>
      <a:accent3>
        <a:srgbClr val="e6b91e"/>
      </a:accent3>
      <a:accent4>
        <a:srgbClr val="e76618"/>
      </a:accent4>
      <a:accent5>
        <a:srgbClr val="c42f1a"/>
      </a:accent5>
      <a:accent6>
        <a:srgbClr val="918655"/>
      </a:accent6>
      <a:hlink>
        <a:srgbClr val="99ca3c"/>
      </a:hlink>
      <a:folHlink>
        <a:srgbClr val="b9d18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Аспект">
  <a:themeElements>
    <a:clrScheme name="Аспект">
      <a:dk1>
        <a:srgbClr val="000000"/>
      </a:dk1>
      <a:lt1>
        <a:srgbClr val="ffffff"/>
      </a:lt1>
      <a:dk2>
        <a:srgbClr val="2c3c43"/>
      </a:dk2>
      <a:lt2>
        <a:srgbClr val="ebebeb"/>
      </a:lt2>
      <a:accent1>
        <a:srgbClr val="90c226"/>
      </a:accent1>
      <a:accent2>
        <a:srgbClr val="54a021"/>
      </a:accent2>
      <a:accent3>
        <a:srgbClr val="e6b91e"/>
      </a:accent3>
      <a:accent4>
        <a:srgbClr val="e76618"/>
      </a:accent4>
      <a:accent5>
        <a:srgbClr val="c42f1a"/>
      </a:accent5>
      <a:accent6>
        <a:srgbClr val="918655"/>
      </a:accent6>
      <a:hlink>
        <a:srgbClr val="99ca3c"/>
      </a:hlink>
      <a:folHlink>
        <a:srgbClr val="b9d18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Аспект">
  <a:themeElements>
    <a:clrScheme name="Аспект">
      <a:dk1>
        <a:srgbClr val="000000"/>
      </a:dk1>
      <a:lt1>
        <a:srgbClr val="ffffff"/>
      </a:lt1>
      <a:dk2>
        <a:srgbClr val="2c3c43"/>
      </a:dk2>
      <a:lt2>
        <a:srgbClr val="ebebeb"/>
      </a:lt2>
      <a:accent1>
        <a:srgbClr val="90c226"/>
      </a:accent1>
      <a:accent2>
        <a:srgbClr val="54a021"/>
      </a:accent2>
      <a:accent3>
        <a:srgbClr val="e6b91e"/>
      </a:accent3>
      <a:accent4>
        <a:srgbClr val="e76618"/>
      </a:accent4>
      <a:accent5>
        <a:srgbClr val="c42f1a"/>
      </a:accent5>
      <a:accent6>
        <a:srgbClr val="918655"/>
      </a:accent6>
      <a:hlink>
        <a:srgbClr val="99ca3c"/>
      </a:hlink>
      <a:folHlink>
        <a:srgbClr val="b9d18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TM02900688[[fn=Аспект]]</Template>
  <TotalTime>223</TotalTime>
  <Application>LibreOffice/7.4.7.2$Linux_X86_64 LibreOffice_project/40$Build-2</Application>
  <AppVersion>15.0000</AppVersion>
  <Words>769</Words>
  <Paragraphs>184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09T09:22:37Z</dcterms:created>
  <dc:creator>notebook</dc:creator>
  <dc:description/>
  <dc:language>en-US</dc:language>
  <cp:lastModifiedBy>Татьяна</cp:lastModifiedBy>
  <dcterms:modified xsi:type="dcterms:W3CDTF">2016-04-27T07:54:27Z</dcterms:modified>
  <cp:revision>22</cp:revision>
  <dc:subject/>
  <dc:title>Бизнес-план  производства мягкой мебел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Произвольный</vt:lpwstr>
  </property>
  <property fmtid="{D5CDD505-2E9C-101B-9397-08002B2CF9AE}" pid="3" name="Slides">
    <vt:r8>16</vt:r8>
  </property>
</Properties>
</file>