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467-2E65-4007-AA4F-B66F8219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5FF-C5B0-4C36-B6BB-FE027554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4E1-A598-4E16-A241-EAB1EE0E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940-990D-4B60-8FAF-4D504943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487C-E6C1-4C63-BDBB-104D1AAF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D3D7-651F-4964-BAE1-6F599CAA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28B2-8DF3-4420-8A37-2CC0889D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EE1D-509D-4D08-B65D-92773F7C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CD31-06C3-4B84-9DEC-E1E78F01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8DC8-9A98-4111-863F-AE31EE38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45D9-CE66-4DDD-870D-878B35CF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CBA-EB05-4CE0-8278-A1CC0F43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7B97-4700-4AFC-9763-EFE09073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A951-4DE6-47EB-8065-E3DA1389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9C91-C52A-498C-BD47-27176E77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815B-EB15-49FE-B69A-15AFF50A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3DF4-7678-424D-86C3-888477C3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C2FDE-BA3F-4BC7-B911-DB8D69C4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CC55D-B681-4DB4-AC75-5A43798A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5B26-E301-4A35-A403-B6E9BEA9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D1D9-BE4A-46DC-AA03-B88D1C5C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F51CD-EC81-4E70-BFD0-611FFBAB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AF2-6F3D-42C4-82FB-1952AD30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458A7-2336-4D65-B9C3-FA9E4A19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BD912-1B78-4033-A8EA-3A1A2A3A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CB277-7118-487C-98F8-731FB776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4851E-3C1D-471F-8254-781A82E0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0A323-B5B1-4805-8B9C-5DC820D9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6A45-3E25-4B11-9BEE-B5AB96A0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C5059-26ED-4E0D-B27E-CDEA63CE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C8CD2-774D-492D-A0A7-B790B6F1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AF973-52E2-4E40-88EF-9601694A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0A16E-DA0C-4B85-A2DF-E67CF2CE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97E-3469-41C8-A557-894BE3F8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7A31C-B92E-47F5-BD38-5C0E8060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D0886-BC6F-4B4D-8F39-4A444910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ACD4E-9B6B-4284-B1C0-E46460D7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C29A6-2FDC-46EA-A5B2-28FEACB0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4599C-0D7D-4894-BD51-060F9C5B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91034-580F-4A88-A44B-3A078449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31EC5-A428-4171-B5B4-0DB13FFF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68358-F3DE-413E-BE49-E50C6FA8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8344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490080" y="21607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7716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8344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490080" y="4187520"/>
            <a:ext cx="276768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1AD7D-6D9E-4952-94CE-D1A1B2FC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843-6DEE-4000-AA1C-1D973BBD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77160" y="609480"/>
            <a:ext cx="8596440" cy="612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9EF-4D13-4217-B028-7AF22CCD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3808-8A94-44D1-B193-3FB6DDE5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388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82120" y="41875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2B8-D595-4F43-B22D-4B7E974D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82120" y="2160720"/>
            <a:ext cx="419472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77160" y="4187520"/>
            <a:ext cx="8596440" cy="18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CA04-1EFE-4948-A78A-2A70935A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2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3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Group 6"/>
          <p:cNvGrpSpPr/>
          <p:nvPr/>
        </p:nvGrpSpPr>
        <p:grpSpPr>
          <a:xfrm>
            <a:off x="360" y="-8640"/>
            <a:ext cx="12191400" cy="6866640"/>
            <a:chOff x="360" y="-8640"/>
            <a:chExt cx="12191400" cy="6866640"/>
          </a:xfrm>
        </p:grpSpPr>
        <p:cxnSp>
          <p:nvCxnSpPr>
            <p:cNvPr id="12" name="Straight Connector 31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3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4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Isosceles Triangle 26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Isosceles Triangle 30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Isosceles Triangle 18"/>
            <p:cNvSpPr/>
            <p:nvPr/>
          </p:nvSpPr>
          <p:spPr>
            <a:xfrm rot="10800000">
              <a:off x="36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06960" y="240444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5B4117-5FCD-4FBA-978C-76C1FBC889A5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64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65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66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D4D19D-100E-4BAA-897B-E55AFEB5A62D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16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17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18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160" y="2700720"/>
            <a:ext cx="8596440" cy="182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7160" y="4527360"/>
            <a:ext cx="8596440" cy="8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Trebuchet MS"/>
              </a:rPr>
              <a:t>Образец текст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3B1CE2-3ADB-4DE9-8CE5-70D97B06A0D5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"/>
          <p:cNvGrpSpPr/>
          <p:nvPr/>
        </p:nvGrpSpPr>
        <p:grpSpPr>
          <a:xfrm>
            <a:off x="0" y="-8640"/>
            <a:ext cx="12191760" cy="6866640"/>
            <a:chOff x="0" y="-8640"/>
            <a:chExt cx="12191760" cy="6866640"/>
          </a:xfrm>
        </p:grpSpPr>
        <p:cxnSp>
          <p:nvCxnSpPr>
            <p:cNvPr id="168" name="Straight Connector 19"/>
            <p:cNvCxnSpPr/>
            <p:nvPr/>
          </p:nvCxnSpPr>
          <p:spPr>
            <a:xfrm>
              <a:off x="9370800" y="0"/>
              <a:ext cx="1219680" cy="6858360"/>
            </a:xfrm>
            <a:prstGeom prst="straightConnector1">
              <a:avLst/>
            </a:prstGeom>
            <a:ln cap="rnd" w="9525">
              <a:solidFill>
                <a:srgbClr val="ffffff">
                  <a:lumMod val="75000"/>
                </a:srgbClr>
              </a:solidFill>
              <a:round/>
            </a:ln>
          </p:spPr>
        </p:cxnSp>
        <p:cxnSp>
          <p:nvCxnSpPr>
            <p:cNvPr id="169" name="Straight Connector 20"/>
            <p:cNvCxnSpPr/>
            <p:nvPr/>
          </p:nvCxnSpPr>
          <p:spPr>
            <a:xfrm flipH="1">
              <a:off x="7425000" y="3681360"/>
              <a:ext cx="4763880" cy="3177000"/>
            </a:xfrm>
            <a:prstGeom prst="straightConnector1">
              <a:avLst/>
            </a:prstGeom>
            <a:ln cap="rnd" w="9525">
              <a:solidFill>
                <a:srgbClr val="ffffff">
                  <a:lumMod val="85000"/>
                </a:srgbClr>
              </a:solidFill>
              <a:round/>
            </a:ln>
          </p:spPr>
        </p:cxnSp>
        <p:sp>
          <p:nvSpPr>
            <p:cNvPr id="170" name="Rectangle 23"/>
            <p:cNvSpPr/>
            <p:nvPr/>
          </p:nvSpPr>
          <p:spPr>
            <a:xfrm>
              <a:off x="9181440" y="-8640"/>
              <a:ext cx="3007080" cy="6866280"/>
            </a:xfrm>
            <a:custGeom>
              <a:avLst/>
              <a:gdLst>
                <a:gd name="textAreaLeft" fmla="*/ 0 w 3007080"/>
                <a:gd name="textAreaRight" fmla="*/ 3007440 w 3007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chemeClr val="accent1">
                <a:alpha val="3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9603360" y="-8640"/>
              <a:ext cx="2588040" cy="6866280"/>
            </a:xfrm>
            <a:custGeom>
              <a:avLst/>
              <a:gdLst>
                <a:gd name="textAreaLeft" fmla="*/ 0 w 2588040"/>
                <a:gd name="textAreaRight" fmla="*/ 2588400 w 258804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2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Isosceles Triangle 23"/>
            <p:cNvSpPr/>
            <p:nvPr/>
          </p:nvSpPr>
          <p:spPr>
            <a:xfrm>
              <a:off x="8932320" y="3048120"/>
              <a:ext cx="3259440" cy="3809520"/>
            </a:xfrm>
            <a:prstGeom prst="triangle">
              <a:avLst>
                <a:gd name="adj" fmla="val 100000"/>
              </a:avLst>
            </a:prstGeom>
            <a:solidFill>
              <a:schemeClr val="accent2">
                <a:alpha val="72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7"/>
            <p:cNvSpPr/>
            <p:nvPr/>
          </p:nvSpPr>
          <p:spPr>
            <a:xfrm>
              <a:off x="9334440" y="-8640"/>
              <a:ext cx="2854080" cy="6866280"/>
            </a:xfrm>
            <a:custGeom>
              <a:avLst/>
              <a:gdLst>
                <a:gd name="textAreaLeft" fmla="*/ 0 w 2854080"/>
                <a:gd name="textAreaRight" fmla="*/ 2854440 w 28540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2">
                <a:lumMod val="75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8"/>
            <p:cNvSpPr/>
            <p:nvPr/>
          </p:nvSpPr>
          <p:spPr>
            <a:xfrm>
              <a:off x="10898640" y="-8640"/>
              <a:ext cx="1289880" cy="6866280"/>
            </a:xfrm>
            <a:custGeom>
              <a:avLst/>
              <a:gdLst>
                <a:gd name="textAreaLeft" fmla="*/ 0 w 1289880"/>
                <a:gd name="textAreaRight" fmla="*/ 1290240 w 128988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chemeClr val="accent1">
                <a:lumMod val="60000"/>
                <a:lumOff val="40000"/>
                <a:alpha val="7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9"/>
            <p:cNvSpPr/>
            <p:nvPr/>
          </p:nvSpPr>
          <p:spPr>
            <a:xfrm>
              <a:off x="10938960" y="-8640"/>
              <a:ext cx="1249560" cy="686628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6866280"/>
                <a:gd name="textAreaBottom" fmla="*/ 6866640 h 6866280"/>
              </a:gdLst>
              <a:ahLst/>
              <a:rect l="textAreaLeft" t="textAreaTop" r="textAreaRight" b="textAreaBottom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accent1">
                <a:alpha val="6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Isosceles Triangle 27"/>
            <p:cNvSpPr/>
            <p:nvPr/>
          </p:nvSpPr>
          <p:spPr>
            <a:xfrm>
              <a:off x="10371600" y="358992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chemeClr val="accent1">
                <a:alpha val="80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Isosceles Triangle 28"/>
            <p:cNvSpPr/>
            <p:nvPr/>
          </p:nvSpPr>
          <p:spPr>
            <a:xfrm>
              <a:off x="0" y="4013280"/>
              <a:ext cx="448200" cy="2844360"/>
            </a:xfrm>
            <a:prstGeom prst="triangle">
              <a:avLst>
                <a:gd name="adj" fmla="val 0"/>
              </a:avLst>
            </a:prstGeom>
            <a:solidFill>
              <a:schemeClr val="accent1">
                <a:alpha val="85000"/>
              </a:schemeClr>
            </a:solidFill>
            <a:ln>
              <a:noFill/>
            </a:ln>
            <a:effectLst>
              <a:outerShdw blurRad="38160" dir="5400000" dist="2556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716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body"/>
          </p:nvPr>
        </p:nvSpPr>
        <p:spPr>
          <a:xfrm>
            <a:off x="5090040" y="2160720"/>
            <a:ext cx="418356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бразец текст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торой уровень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Третий уровень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Четвер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404040"/>
                </a:solidFill>
                <a:latin typeface="Trebuchet MS"/>
              </a:rPr>
              <a:t>Пятый уровень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0"/>
          </p:nvPr>
        </p:nvSpPr>
        <p:spPr>
          <a:xfrm>
            <a:off x="7205040" y="6041520"/>
            <a:ext cx="911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1"/>
          </p:nvPr>
        </p:nvSpPr>
        <p:spPr>
          <a:xfrm>
            <a:off x="677160" y="6041520"/>
            <a:ext cx="6297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2"/>
          </p:nvPr>
        </p:nvSpPr>
        <p:spPr>
          <a:xfrm>
            <a:off x="8590680" y="6041520"/>
            <a:ext cx="682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chemeClr val="accent1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7A067A-5E44-4A00-8E0A-F23C22D6534C}" type="slidenum">
              <a:rPr b="0" lang="ru-RU" sz="900" spc="-1" strike="noStrike">
                <a:solidFill>
                  <a:schemeClr val="accent1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proizvodstvo.ru/proizvodstvennye_idei/3_sekreta_kak_organizovat_shvejnoe_proizvodstvo/" TargetMode="External"/><Relationship Id="rId2" Type="http://schemas.openxmlformats.org/officeDocument/2006/relationships/hyperlink" Target="http://vproizvodstvo.ru/klassifikator/vidy_gofrokartona_sfery_primeneniya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1560" y="1951560"/>
            <a:ext cx="7766640" cy="16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2000"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Бизнес-план </a:t>
            </a:r>
            <a:br>
              <a:rPr sz="5400"/>
            </a:br>
            <a:r>
              <a:rPr b="0" lang="ru-RU" sz="5400" spc="-1" strike="noStrike">
                <a:solidFill>
                  <a:schemeClr val="accent1"/>
                </a:solidFill>
                <a:latin typeface="Trebuchet MS"/>
              </a:rPr>
              <a:t>производства мягкой мебел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822400" y="2927880"/>
            <a:ext cx="51987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808080"/>
                </a:solidFill>
                <a:latin typeface="Trebuchet MS"/>
              </a:rPr>
              <a:t>Фирма «</a:t>
            </a:r>
            <a:r>
              <a:rPr b="0" lang="en-US" sz="5400" spc="-1" strike="noStrike">
                <a:solidFill>
                  <a:srgbClr val="808080"/>
                </a:solidFill>
                <a:latin typeface="Trebuchet MS"/>
              </a:rPr>
              <a:t>VISTA</a:t>
            </a:r>
            <a:r>
              <a:rPr b="0" lang="ru-RU" sz="5400" spc="-1" strike="noStrike">
                <a:solidFill>
                  <a:srgbClr val="808080"/>
                </a:solidFill>
                <a:latin typeface="Trebuchet MS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3" descr=""/>
          <p:cNvPicPr/>
          <p:nvPr/>
        </p:nvPicPr>
        <p:blipFill>
          <a:blip r:embed="rId1"/>
          <a:stretch/>
        </p:blipFill>
        <p:spPr>
          <a:xfrm>
            <a:off x="451440" y="4220280"/>
            <a:ext cx="3428640" cy="22856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4" descr=""/>
          <p:cNvPicPr/>
          <p:nvPr/>
        </p:nvPicPr>
        <p:blipFill>
          <a:blip r:embed="rId2"/>
          <a:stretch/>
        </p:blipFill>
        <p:spPr>
          <a:xfrm>
            <a:off x="9605520" y="3512160"/>
            <a:ext cx="2511360" cy="33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Себестоимость и цена продаж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чет себестоимости на 1 продукции = (Материальные затраты на 1 продукции + затраты на оплату труда + другие затраты) / количество продук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ебестоимость = (2987,5 руб * 100 штук + 166 000 руб + 114 075,77 руб)/100 штук = 5788, 26 руб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дажная цена = себестоимость 1 продукции + норма прибыли (25%) = 7235,33 ру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5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chemeClr val="accent1"/>
                </a:solidFill>
                <a:latin typeface="Trebuchet MS"/>
              </a:rPr>
              <a:t>Расчет прогнозируемой чистой прибыли и термина окупаемости производства мягкой мебел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2001600"/>
            <a:ext cx="105152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ручка за месяц – 100 штук * 7235,33 руб = 723 533 руб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траты за месяц (материальные + зарплата + другие затраты) = 2987,5 руб * 100 штук + 166 000 руб + 114 075,77 руб = 578 825,77 ру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алоги на прибыль – (Выручка - Затраты) * 20% = 28 941,45 руб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истая прибыль (Выручка – Затраты - Налоги) = 115 765,78 ру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ентабельность производства – 25%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купаемость инвестиций = Чистая прибыль/капитальные затраты = 4 мес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36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овар будет поставляться  непосредственно в магазин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STA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и в магазины розничной продажи, где будет реклама нашей мягкой мебели через сайт, каталог. Доставка будет осуществляться на нашей машине. Доставку будет оплачивать покупатель, заказчи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1252080" y="3629520"/>
            <a:ext cx="2053440" cy="1490760"/>
          </a:xfrm>
          <a:prstGeom prst="rect">
            <a:avLst/>
          </a:prstGeom>
          <a:solidFill>
            <a:srgbClr val="90c226"/>
          </a:solidFill>
          <a:ln cap="rnd">
            <a:solidFill>
              <a:srgbClr val="6a8f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Изготовление мягкой меб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Ц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трелка вправо 5"/>
          <p:cNvSpPr/>
          <p:nvPr/>
        </p:nvSpPr>
        <p:spPr>
          <a:xfrm>
            <a:off x="3291840" y="3977640"/>
            <a:ext cx="2334960" cy="45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>
            <a:solidFill>
              <a:srgbClr val="6a8f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50" name="Стрелка вправо 6"/>
          <p:cNvSpPr/>
          <p:nvPr/>
        </p:nvSpPr>
        <p:spPr>
          <a:xfrm>
            <a:off x="3319920" y="4853520"/>
            <a:ext cx="2686680" cy="83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0c226"/>
          </a:solidFill>
          <a:ln cap="rnd">
            <a:solidFill>
              <a:srgbClr val="6a8f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51" name="Прямоугольник 7"/>
          <p:cNvSpPr/>
          <p:nvPr/>
        </p:nvSpPr>
        <p:spPr>
          <a:xfrm>
            <a:off x="5922360" y="3263760"/>
            <a:ext cx="2236320" cy="914040"/>
          </a:xfrm>
          <a:prstGeom prst="rect">
            <a:avLst/>
          </a:prstGeom>
          <a:solidFill>
            <a:srgbClr val="90c226"/>
          </a:solidFill>
          <a:ln cap="rnd">
            <a:solidFill>
              <a:srgbClr val="6a8f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Магазин </a:t>
            </a:r>
            <a:r>
              <a:rPr b="0" lang="en-US" sz="1800" spc="-1" strike="noStrike">
                <a:solidFill>
                  <a:schemeClr val="lt1"/>
                </a:solidFill>
                <a:latin typeface="Trebuchet MS"/>
              </a:rPr>
              <a:t>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8"/>
          <p:cNvSpPr/>
          <p:nvPr/>
        </p:nvSpPr>
        <p:spPr>
          <a:xfrm>
            <a:off x="6091200" y="4782960"/>
            <a:ext cx="2264400" cy="1012680"/>
          </a:xfrm>
          <a:prstGeom prst="rect">
            <a:avLst/>
          </a:prstGeom>
          <a:solidFill>
            <a:srgbClr val="90c226"/>
          </a:solidFill>
          <a:ln cap="rnd">
            <a:solidFill>
              <a:srgbClr val="6a8f1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rebuchet MS"/>
              </a:rPr>
              <a:t>Магазины розничной продаж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3600" spc="-1" strike="noStrike">
              <a:solidFill>
                <a:schemeClr val="accent1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б реализовать наши товары с высокой потребительской ценностью и 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е сдавать своих позиций на конкурирующем рынке, наша фирма планирует: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1) более глубокое изучение потребностей клиентов;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2) разработка новых моделей более экономичной и доступной мебели;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3) расширение ассортимента продукции;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4) обмен опытом;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5) расширение доли рын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77160" y="844200"/>
            <a:ext cx="8596440" cy="51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сновными элементами системы ФОССТИС у нас будут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Личная продаж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ставление товара в ходе непосредственного взаимодействия (беседы, презентации) с одним или несколькими потенциальными покупателями с целью последующей продаж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Стимулирование сбыта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ощрительные меры, направленные на стимулирование покупки илиапробирование товара или услуги такие как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сихологическое ценообразование, при котором устанавливаются психологически привлекательные цены ниже круглых сумм;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тсрочка платежа на некоторый срок (оговаривается с каждым клиентом индивидуально)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арантийные условия и договоры о техническом обслуживан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доставление товара на тестирован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77160" y="872280"/>
            <a:ext cx="8596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Реклам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 нас будет свой каталог, где представлено множество моделей мягкой и корпусной мебели. Потребитель сможет сам выбрать цвет, ткань, размер. Вместе с каталогом будут представлены образцы ткани, которые нам предоставит магазин тканей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Связь с общественностью и пропаганд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езентации на предприятиях по производству мягкой мебели(мероприятия по формированию благоприятного общественного мнения о предприятии и товара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1" i="1" lang="ru-RU" sz="1800" spc="-1" strike="noStrike">
                <a:solidFill>
                  <a:srgbClr val="404040"/>
                </a:solidFill>
                <a:latin typeface="Trebuchet MS"/>
              </a:rPr>
              <a:t>5. Средства прямой коммуникаци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и продвижении продукции будут использоваться следующие методы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ыставки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ярмарки и салоны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глобально информационно-электронные системы (типа Интернет)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родажа по каталогам (создание своего сайта, где представлена информация о нас и наша продукция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4800" indent="-334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Так же к методам стимулирования продаж будет относиться гарантия, сервисное обслуживание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77160" y="464400"/>
            <a:ext cx="85964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Прямоугольник 3"/>
          <p:cNvSpPr/>
          <p:nvPr/>
        </p:nvSpPr>
        <p:spPr>
          <a:xfrm>
            <a:off x="787680" y="1603800"/>
            <a:ext cx="835596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никальность услуг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ращаясь в нашу фирму, по поводу приобретения мебели клиент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жде всего, выигрывает в том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) он получает бесплатную консультацию специалиста по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нтересующему его вопросу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) приобретает многофункциональную мебель при незначительной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разнице цен по сравнению с мебелью другого производств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) возможность изготовление мебели по заказу клиент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) фирма делает скидки для пенсионеров и новобрачным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) мебель доставляется непосредственно по месту назначения и если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требуется со сборкой по месту установ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) возможна продажа в рассрочку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) индивидуальность подхода к клие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160" y="60948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Цели и задачи производств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77160" y="2160720"/>
            <a:ext cx="8596440" cy="388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Цель: Главной целью фирмы «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ISTA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» является предоставление людям недорогой удобной, комфортной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красивой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мягкой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,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гипоаллергенной мебел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дачи: Предоставление потребителю возможности максимально широкого выбора - наша первоочередная задача. Став однажды нашим клиентом, заказчик не должен искать других исполнителей. Продвижение и стимулирование сбыта продукции преобразуются и проявляются в поддержке делового постоянного сотрудничества с заказчиками. Не дожидаясь насыщения местного рынка мебелью, нами планируется привлечение дилеров в близлежащих регионах. Сбор заказов будет осуществляться рекламным агентством и сетью менеджеро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1960" y="408600"/>
            <a:ext cx="10515240" cy="63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                       </a:t>
            </a:r>
            <a:r>
              <a:rPr b="0" lang="ru-RU" sz="4000" spc="-1" strike="noStrike">
                <a:solidFill>
                  <a:schemeClr val="accent1"/>
                </a:solidFill>
                <a:latin typeface="Trebuchet MS"/>
              </a:rPr>
              <a:t>Матрица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1960" y="1046160"/>
            <a:ext cx="10515240" cy="50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808080"/>
              </a:solidFill>
              <a:latin typeface="Trebuchet MS"/>
            </a:endParaRPr>
          </a:p>
        </p:txBody>
      </p:sp>
      <p:graphicFrame>
        <p:nvGraphicFramePr>
          <p:cNvPr id="228" name="Таблица 3"/>
          <p:cNvGraphicFramePr/>
          <p:nvPr/>
        </p:nvGraphicFramePr>
        <p:xfrm>
          <a:off x="357120" y="1036440"/>
          <a:ext cx="10515240" cy="5045400"/>
        </p:xfrm>
        <a:graphic>
          <a:graphicData uri="http://schemas.openxmlformats.org/drawingml/2006/table">
            <a:tbl>
              <a:tblPr/>
              <a:tblGrid>
                <a:gridCol w="3191400"/>
                <a:gridCol w="1250280"/>
                <a:gridCol w="1172160"/>
                <a:gridCol w="1315440"/>
                <a:gridCol w="1146240"/>
                <a:gridCol w="1240560"/>
                <a:gridCol w="1198080"/>
              </a:tblGrid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Директ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Финансис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Бухгалтер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Менедже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Маркетоло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Техноло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ценка рынка сбы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Конкурен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Стратегия маркетин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6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План производства продук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рганизационный 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Оценка рис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Финансовый пл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458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Стартегия финансир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  <a:tr h="916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Расчет срока окупаемости инвестицийи точки безубыточности прое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ef4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49960" y="25956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Анализ исследования рынка мягкой                           </a:t>
            </a: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	</a:t>
            </a: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мебели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10515240" cy="53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 настоящее время перед мебельной промышленностью поставлены задачи повышения качества и улучшения ее ассортимента, а также снизить материалоемкость и трудоемкость выпускаемых изделий. Эти мероприятия планируется выполнить главным образом за счет широкого внедрения в мебельной промышленности последних достижений науки и техники. На конструкцию и форму мебели оказывает влияние выбранный стиль. Под стилем понимают единство применения определенных принципов архитектуры и форм украшений в разных областях жизни. Применительно к истории развития форм и конструкции мебели существуют следующие основные важнейшие эпохи стилей мебели, а именно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народная мебель - первая четверть 18 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барокко - середина 18 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русский классицизм - конец 18 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русский ампир - с 1830 г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бидермайер - с 1850 г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элементы различных стилей - конец 19 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модерн и псевдорусский стиль - начало 20 в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- функционально-конструкторский - настоящее врем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кономический кризис, который овладел реальным сектором экономики т.е. промышленностью, коснулся и деревообрабатывающих отрасли производства. Сложившееся бедственное положение предприятий деревообрабатывающей отрасли вызвано, прежде всего, падением объемов производства, ослаблением научно-технического потенциала, сокращением инвестиционной деятельности и другими причинами. Для того, чтобы стабилизировать сложившеюся обстановку, необходимо проводить политику поддержки отечественных производителей, одним из 7 элементов которой является увеличение объемов инвестиций в производство. Инвестиции являются основным движущим инструментом развития производства. Они влекут за собой внедрение новых технологий, повышение квалификации работников, в целом – оживление отрасли. Выбранную нами область деятельности мы считаем одной из наиболее перспективных. На всех этапах развития люди пытались по мере возможности как-то благоустроить свой быт. С годами потребности и требования людей увеличились и усовершенствовались. Наша фирма готова выполнить любые требования и угодить самому разборчивому клиенту. К тому же в городе Нефтекамске производство мебели является неразвитым и нашей фирме предстоит большой фронт работы, к которой мы готовы приступить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98640"/>
            <a:ext cx="10515240" cy="159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Технологический процесс производства мягкой мебел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266840"/>
            <a:ext cx="10515240" cy="54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ссмотрим производство дивано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Рассмотрим на примере изготовление самого популярного и технологически сложного представителя категории «мягкая мебель» — </a:t>
            </a: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дивана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. В отличие от кресел, стульев и прочей мебели, здесь предполагается использование трансформирующего механизма, который превращает диван в кровать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Итак, все диваны имеют общую структуру компонентов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аркас – главный элемент конструкции, на который крепятся остальные части дивана. Он выполняет основные прочностные функции при эксплуатации мебели, является базой для крепления остальных частей при формировании внешнего вида и придания мягкост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элементы «упругости» (мягкие наполнители и пружинные блоки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механизм трансформаци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чехол с обивочной тканью.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Заготовительные операции проходят по следующим этапам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а торцовочном станке пиломатериал (фанера) раскраивается по длине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а круглопильном станке происходит раскрой фанеры по ширине; 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Полученная деталь шлифуется на четырехстороннем станке, после чего шипорезный станок вырезает в ней шипы и проушины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 помощью ручного электроинструмента вырезаются внутренние детали из плит (ДВП, ДСП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Крепится механизм трансформации (для раскладных диванов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7960" indent="-327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Собирается каркас-основ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216440" y="179640"/>
            <a:ext cx="10515240" cy="65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chemeClr val="accent6">
                    <a:lumMod val="75000"/>
                  </a:schemeClr>
                </a:solidFill>
                <a:latin typeface="Trebuchet MS"/>
              </a:rPr>
              <a:t>Технология изготовления: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) </a:t>
            </a:r>
            <a:r>
              <a:rPr b="1" lang="ru-RU" sz="1400" spc="-1" strike="noStrike">
                <a:solidFill>
                  <a:srgbClr val="404040"/>
                </a:solidFill>
                <a:latin typeface="Trebuchet MS"/>
              </a:rPr>
              <a:t>В столярном цехе производится распил фанеры и досок на деревянные заготовки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, которые здесь же собираются в каркас будущей мягкой мебели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2) </a:t>
            </a:r>
            <a:r>
              <a:rPr b="1" lang="ru-RU" sz="1400" spc="-1" strike="noStrike">
                <a:solidFill>
                  <a:srgbClr val="404040"/>
                </a:solidFill>
                <a:latin typeface="Trebuchet MS"/>
              </a:rPr>
              <a:t>Готовые каркасы поступают в обивочный цех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, где они обклеиваются поролоном и обстреливаются обивочным материалом. Для начала на деревянную основу, наклеивается специальный нетканый материал – </a:t>
            </a:r>
            <a:r>
              <a:rPr b="0" i="1" lang="ru-RU" sz="1400" spc="-1" strike="noStrike">
                <a:solidFill>
                  <a:srgbClr val="404040"/>
                </a:solidFill>
                <a:latin typeface="Trebuchet MS"/>
              </a:rPr>
              <a:t>дарнит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. Это помогает избежать стуков и скрипов при эксплуатации готового изделия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3) Устанавливаются элементы мягкости – </a:t>
            </a:r>
            <a:r>
              <a:rPr b="1" lang="ru-RU" sz="1400" spc="-1" strike="noStrike">
                <a:solidFill>
                  <a:srgbClr val="404040"/>
                </a:solidFill>
                <a:latin typeface="Trebuchet MS"/>
              </a:rPr>
              <a:t>пружинные блоки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, которые осуществляют ортопедическую функцию. Блоки фиксируются равномерно по всему периметру и в центральной части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4) По периметру блока </a:t>
            </a: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клеится поролон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, что исключает возможность контакта с твердой рамкой каркаса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5) Сверху пружинного блока </a:t>
            </a: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клеится плотный тканый материал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, который препятствует истиранию об пружины блока вышележащего слоя прокладочного материала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6) В качестве прокладочного материала чаще всего используют </a:t>
            </a:r>
            <a:r>
              <a:rPr b="0" i="1" lang="ru-RU" sz="1500" spc="-1" strike="noStrike">
                <a:solidFill>
                  <a:srgbClr val="404040"/>
                </a:solidFill>
                <a:latin typeface="Trebuchet MS"/>
              </a:rPr>
              <a:t>спангон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, </a:t>
            </a:r>
            <a:r>
              <a:rPr b="0" i="1" lang="ru-RU" sz="1500" spc="-1" strike="noStrike">
                <a:solidFill>
                  <a:srgbClr val="404040"/>
                </a:solidFill>
                <a:latin typeface="Trebuchet MS"/>
              </a:rPr>
              <a:t>поролон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или </a:t>
            </a:r>
            <a:r>
              <a:rPr b="0" i="1" lang="ru-RU" sz="1500" spc="-1" strike="noStrike">
                <a:solidFill>
                  <a:srgbClr val="404040"/>
                </a:solidFill>
                <a:latin typeface="Trebuchet MS"/>
              </a:rPr>
              <a:t>кокосовую койру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Спангон и поролон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 (вторичного вспенивания) — более дешевый вариант, но уже через год-два активной эксплуатации такой диван начинает «проседать» и выходить из строя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Кокосовая койра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 – более жесткий и долговечный материал, который прослужит около 7-8 лет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7) После прокладочного материала располагается ещё один элемент мягкости – поролон высотой 40 мм, плотностью – 35-42. Между поролоном и обивочным материалом необходимо установить синтепон, который позволит поролону «дышать»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8) В </a:t>
            </a:r>
            <a:r>
              <a:rPr b="0" lang="ru-RU" sz="1500" spc="-1" strike="noStrike" u="sng">
                <a:solidFill>
                  <a:srgbClr val="b2d76d"/>
                </a:solidFill>
                <a:uFillTx/>
                <a:latin typeface="Trebuchet MS"/>
                <a:hlinkClick r:id="rId1"/>
              </a:rPr>
              <a:t>швейном цеху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 используется оборудование для работы с любыми видами отделки – от искусственного меха до натуральной кожи. Здесь осуществляется раскрой обивочной ткани для будущих диванов, которую в обивочном цехе «пристреливают» к многослойной основе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9) Здесь </a:t>
            </a:r>
            <a:r>
              <a:rPr b="1" lang="ru-RU" sz="1500" spc="-1" strike="noStrike">
                <a:solidFill>
                  <a:srgbClr val="404040"/>
                </a:solidFill>
                <a:latin typeface="Trebuchet MS"/>
              </a:rPr>
              <a:t>шьют чехлы под определенные элементы мягкой мебели</a:t>
            </a:r>
            <a:r>
              <a:rPr b="0" lang="ru-RU" sz="1500" spc="-1" strike="noStrike">
                <a:solidFill>
                  <a:srgbClr val="404040"/>
                </a:solidFill>
                <a:latin typeface="Trebuchet MS"/>
              </a:rPr>
              <a:t> (подушки, спинки, подлокотники, сидения). Их «одевают» на каркас-основу с приклеенным мягким наполнителем – поролоном, синтепоном.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10) После контрольной сборки и финишного оформления, </a:t>
            </a:r>
            <a:r>
              <a:rPr b="1" lang="ru-RU" sz="1400" spc="-1" strike="noStrike">
                <a:solidFill>
                  <a:srgbClr val="404040"/>
                </a:solidFill>
                <a:latin typeface="Trebuchet MS"/>
              </a:rPr>
              <a:t>изделие упаковывается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 с помощью полиэтилена, </a:t>
            </a:r>
            <a:r>
              <a:rPr b="0" lang="ru-RU" sz="1400" spc="-1" strike="noStrike" u="sng">
                <a:solidFill>
                  <a:srgbClr val="b2d76d"/>
                </a:solidFill>
                <a:uFillTx/>
                <a:latin typeface="Trebuchet MS"/>
                <a:hlinkClick r:id="rId2"/>
              </a:rPr>
              <a:t>картона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 и отправляется на склад готовой продукции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4718880" cy="72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chemeClr val="accent1"/>
                </a:solidFill>
                <a:latin typeface="Trebuchet MS"/>
              </a:rPr>
              <a:t>Финансовый план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Объект 10" descr=""/>
          <p:cNvPicPr/>
          <p:nvPr/>
        </p:nvPicPr>
        <p:blipFill>
          <a:blip r:embed="rId1"/>
          <a:stretch/>
        </p:blipFill>
        <p:spPr>
          <a:xfrm>
            <a:off x="6026760" y="175680"/>
            <a:ext cx="5461560" cy="4350960"/>
          </a:xfrm>
          <a:prstGeom prst="rect">
            <a:avLst/>
          </a:prstGeom>
          <a:ln w="0">
            <a:noFill/>
          </a:ln>
        </p:spPr>
      </p:pic>
      <p:pic>
        <p:nvPicPr>
          <p:cNvPr id="236" name="Объект 8" descr=""/>
          <p:cNvPicPr/>
          <p:nvPr/>
        </p:nvPicPr>
        <p:blipFill>
          <a:blip r:embed="rId2"/>
          <a:stretch/>
        </p:blipFill>
        <p:spPr>
          <a:xfrm>
            <a:off x="101520" y="4070160"/>
            <a:ext cx="5176080" cy="260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3"/>
          <a:stretch/>
        </p:blipFill>
        <p:spPr>
          <a:xfrm>
            <a:off x="101520" y="1210680"/>
            <a:ext cx="517608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98320" y="203040"/>
            <a:ext cx="10515240" cy="117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700" spc="-1" strike="noStrike">
                <a:solidFill>
                  <a:schemeClr val="accent1"/>
                </a:solidFill>
                <a:latin typeface="Trebuchet MS"/>
              </a:rPr>
              <a:t>Расчет расхода материалов и сырья на изготовление единицы продукции (мягкий диван):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62200" y="1605240"/>
            <a:ext cx="4969080" cy="39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фанера – 1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*59 руб = 59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доска обрезная – 0,08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rebuchet MS"/>
              </a:rPr>
              <a:t>3 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* 600 руб = 48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ДВП – 2 листа * 70 руб = 14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гвозди – 0,7 кг * 12 руб = 8,4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болты – 0,5 кг  * 20 руб = 1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шурупы – 0,2 кг * 20 руб = 4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гобелен – 8,4 п.м. * 220 руб = 1848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итки – 0,1б * 6 руб = 0,6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клей – 0,2 кг * 15 руб = 3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картон – 2 кг * 12 руб = 24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олиэтилен – 13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rebuchet MS"/>
              </a:rPr>
              <a:t>2 </a:t>
            </a: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* 9 = 117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оролон – 0,3 кг * 45 руб = 13,50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ватин – 4 п.м. * 28 руб = 112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фурнитура - 3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подушки – 6 штук * 80 руб = 480 руб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ткань 1 м * 90 руб = 90 руб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Итого: 2987,50 руб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45000" y="746280"/>
            <a:ext cx="10403640" cy="13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chemeClr val="accent1"/>
                </a:solidFill>
                <a:latin typeface="Trebuchet MS"/>
              </a:rPr>
              <a:t>Расчет прочих материальных затрат: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523880" y="2153880"/>
            <a:ext cx="6664680" cy="34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затраты на рекламу – 30 000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оплата за водоснабжение – 82,23 м3 * 5,3 руб = 440,00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электроэнергия – 2191 кВт/час * 0,25 руб = 547,75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производственный сток – 61,9 м</a:t>
            </a:r>
            <a:r>
              <a:rPr b="0" lang="ru-RU" sz="1800" spc="-1" strike="noStrike" baseline="30000">
                <a:solidFill>
                  <a:srgbClr val="808080"/>
                </a:solidFill>
                <a:latin typeface="Trebuchet MS"/>
              </a:rPr>
              <a:t>3</a:t>
            </a: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 * 20 руб = 1238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отопление – 4,099 Гкал * 102,47 руб = 420,02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оплата за охрану и сигнализацию – 1700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телефон и интернет – 3100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налоги на зарплату – 62 250 руб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Trebuchet MS"/>
              </a:rPr>
              <a:t>амортизация – 14 380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rebuchet MS"/>
              </a:rPr>
              <a:t>Итого: 114 075,77 руб/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Аспект">
  <a:themeElements>
    <a:clrScheme name="Аспект">
      <a:dk1>
        <a:srgbClr val="000000"/>
      </a:dk1>
      <a:lt1>
        <a:srgbClr val="ffffff"/>
      </a:lt1>
      <a:dk2>
        <a:srgbClr val="2c3c43"/>
      </a:dk2>
      <a:lt2>
        <a:srgbClr val="ebebeb"/>
      </a:lt2>
      <a:accent1>
        <a:srgbClr val="90c226"/>
      </a:accent1>
      <a:accent2>
        <a:srgbClr val="54a021"/>
      </a:accent2>
      <a:accent3>
        <a:srgbClr val="e6b91e"/>
      </a:accent3>
      <a:accent4>
        <a:srgbClr val="e76618"/>
      </a:accent4>
      <a:accent5>
        <a:srgbClr val="c42f1a"/>
      </a:accent5>
      <a:accent6>
        <a:srgbClr val="918655"/>
      </a:accent6>
      <a:hlink>
        <a:srgbClr val="99ca3c"/>
      </a:hlink>
      <a:folHlink>
        <a:srgbClr val="b9d18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2900688[[fn=Аспект]]</Template>
  <TotalTime>223</TotalTime>
  <Application>LibreOffice/7.4.7.2$Linux_X86_64 LibreOffice_project/40$Build-2</Application>
  <AppVersion>15.0000</AppVersion>
  <Words>769</Words>
  <Paragraphs>18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9T09:22:37Z</dcterms:created>
  <dc:creator>notebook</dc:creator>
  <dc:description/>
  <dc:language>en-US</dc:language>
  <cp:lastModifiedBy>Татьяна</cp:lastModifiedBy>
  <dcterms:modified xsi:type="dcterms:W3CDTF">2016-04-27T07:54:27Z</dcterms:modified>
  <cp:revision>22</cp:revision>
  <dc:subject/>
  <dc:title>Бизнес-план  производства мягкой мебе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6</vt:r8>
  </property>
</Properties>
</file>