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F06-7B8B-4E45-8614-BEA86BBA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0EF-4ABE-4760-8FB6-F6B6F914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8E0-8F02-4E96-8341-2392E3B5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20B-5FBF-4512-872D-5EE80489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F1E1-71E8-4A27-9023-39290A46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6D95-B22E-4C9A-A080-AF234F51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D6D2-1E5D-4A6C-9835-DA102193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4ABB-7347-4247-8AD0-7E53DAE9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90A3-E395-4880-BB11-F26E0426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32C8-3E56-4F4A-B7AD-FC62C095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DFFC-369F-4001-AFD3-5359BB42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F82-46E7-4982-8822-C6157AFF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3FDB-493B-45CD-80DD-2B1687EE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475C-32FD-4BD6-A9B9-A9A297E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4A02-56E3-4841-AF07-D511743D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55B3-DC44-475A-BA01-C0A542A8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2519-0BCB-4D47-8EE1-E5EF7B8D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08F91-D387-4C47-A3A4-BB5D4CA6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B28B6-1B2A-406C-8ECF-839D56D7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4058-CE74-496D-9255-65EA209E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3814A-0172-48E0-AB1F-3FFB9569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A518A-AD82-428A-849C-2EF4B878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AA4-7172-483B-83F7-95F13A9C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43EA-8ADA-43F8-9FE6-DFA58277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668CF-5232-429B-8A3D-C895268C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3ABA4-4DE5-4834-AA0A-FC41E474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BF5ED-7117-400D-B584-094D44EA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E6A94-E29D-4ED2-A0EF-ED7B647A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7E3D4-20E2-492B-9D0E-7CCC1B10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70A3-31F4-49CD-B711-FD58913F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00835-E91A-4B0B-9296-95E4463B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027E7-E194-4319-81B3-3CCE7B94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19AF3-361C-48B3-A711-195CA0DF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087-90AC-4FAD-B8D1-75BF98B8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ECAB-B34E-4FED-A8B9-BA2DF9CE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B7F4B-C4B3-4815-A735-382735F2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7CA5E-94D1-4853-9835-492D3FF2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F430B-98A2-4A2E-BEED-61E0BE35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E078F-B5E8-4DA0-B807-62463A9C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DDA1E-D989-412C-BF43-27A0219F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77EC-5386-4892-B3BE-AED48EA1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9E8CF-6DA5-4E9D-976F-D5AF8D22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C5379-AF6E-47F3-894E-3129F0FB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EBD-5057-427E-8B70-C0ACD000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956-5668-4744-8819-97FEC8E7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F78-BF33-4DD6-AE16-01B2A07D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324-628F-4214-B9D8-2C4498E5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47F-5AD2-49FF-841D-8410C0E6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BBB94D-FB87-49F3-9308-CC7E8786885B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A5FE01-973A-4F4D-BF55-4EC1E05372AB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16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17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18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160" y="2700720"/>
            <a:ext cx="8596440" cy="182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7160" y="4527360"/>
            <a:ext cx="8596440" cy="8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Trebuchet MS"/>
              </a:rPr>
              <a:t>Образец текст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2E6254-F2CD-41FE-9BAC-AAB828E0DC3D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68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69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70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body"/>
          </p:nvPr>
        </p:nvSpPr>
        <p:spPr>
          <a:xfrm>
            <a:off x="509004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0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1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2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953E83-7B39-47C9-A060-1E23C66558AB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proizvodstvo.ru/proizvodstvennye_idei/3_sekreta_kak_organizovat_shvejnoe_proizvodstvo/" TargetMode="External"/><Relationship Id="rId2" Type="http://schemas.openxmlformats.org/officeDocument/2006/relationships/hyperlink" Target="http://vproizvodstvo.ru/klassifikator/vidy_gofrokartona_sfery_primeneniya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1560" y="195156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2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Бизнес-план </a:t>
            </a:r>
            <a:br>
              <a:rPr sz="5400"/>
            </a:b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производства мягкой мебел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822400" y="2927880"/>
            <a:ext cx="51987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808080"/>
                </a:solidFill>
                <a:latin typeface="Trebuchet MS"/>
              </a:rPr>
              <a:t>Фирма «</a:t>
            </a:r>
            <a:r>
              <a:rPr b="0" lang="en-US" sz="5400" spc="-1" strike="noStrike">
                <a:solidFill>
                  <a:srgbClr val="808080"/>
                </a:solidFill>
                <a:latin typeface="Trebuchet MS"/>
              </a:rPr>
              <a:t>VISTA</a:t>
            </a:r>
            <a:r>
              <a:rPr b="0" lang="ru-RU" sz="5400" spc="-1" strike="noStrike">
                <a:solidFill>
                  <a:srgbClr val="808080"/>
                </a:solidFill>
                <a:latin typeface="Trebuchet MS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3" descr=""/>
          <p:cNvPicPr/>
          <p:nvPr/>
        </p:nvPicPr>
        <p:blipFill>
          <a:blip r:embed="rId1"/>
          <a:stretch/>
        </p:blipFill>
        <p:spPr>
          <a:xfrm>
            <a:off x="451440" y="4220280"/>
            <a:ext cx="3428640" cy="22856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4" descr=""/>
          <p:cNvPicPr/>
          <p:nvPr/>
        </p:nvPicPr>
        <p:blipFill>
          <a:blip r:embed="rId2"/>
          <a:stretch/>
        </p:blipFill>
        <p:spPr>
          <a:xfrm>
            <a:off x="9605520" y="3512160"/>
            <a:ext cx="2511360" cy="33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Себестоимость и цена продаж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чет себестоимости на 1 продукции = (Материальные затраты на 1 продукции + затраты на оплату труда + другие затраты) / количество продук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ебестоимость = (2987,5 руб * 100 штук + 166 000 руб + 114 075,77 руб)/100 штук = 5788, 26 руб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дажная цена = себестоимость 1 продукции + норма прибыли (25%) = 7235,33 ру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5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Расчет прогнозируемой чистой прибыли и термина окупаемости производства мягкой мебел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2001600"/>
            <a:ext cx="105152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ручка за месяц – 100 штук * 7235,33 руб = 723 533 руб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траты за месяц (материальные + зарплата + другие затраты) = 2987,5 руб * 100 штук + 166 000 руб + 114 075,77 руб = 578 825,77 ру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логи на прибыль – (Выручка - Затраты) * 20% = 28 941,45 руб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истая прибыль (Выручка – Затраты - Налоги) = 115 765,78 ру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нтабельность производства – 25%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купаемость инвестиций = Чистая прибыль/капитальные затраты = 4 мес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36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овар будет поставляться  непосредственно в магазин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STA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и в магазины розничной продажи, где будет реклама нашей мягкой мебели через сайт, каталог. Доставка будет осуществляться на нашей машине. Доставку будет оплачивать покупатель, заказчи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1252080" y="3629520"/>
            <a:ext cx="2053440" cy="1490760"/>
          </a:xfrm>
          <a:prstGeom prst="rect">
            <a:avLst/>
          </a:prstGeom>
          <a:solidFill>
            <a:srgbClr val="90c226"/>
          </a:solidFill>
          <a:ln cap="rnd">
            <a:solidFill>
              <a:srgbClr val="6a8f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Изготовление мягкой меб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Ц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право 5"/>
          <p:cNvSpPr/>
          <p:nvPr/>
        </p:nvSpPr>
        <p:spPr>
          <a:xfrm>
            <a:off x="3291840" y="3977640"/>
            <a:ext cx="2334960" cy="4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>
            <a:solidFill>
              <a:srgbClr val="6a8f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50" name="Стрелка вправо 6"/>
          <p:cNvSpPr/>
          <p:nvPr/>
        </p:nvSpPr>
        <p:spPr>
          <a:xfrm>
            <a:off x="3319920" y="4853520"/>
            <a:ext cx="2686680" cy="83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>
            <a:solidFill>
              <a:srgbClr val="6a8f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51" name="Прямоугольник 7"/>
          <p:cNvSpPr/>
          <p:nvPr/>
        </p:nvSpPr>
        <p:spPr>
          <a:xfrm>
            <a:off x="5922360" y="3263760"/>
            <a:ext cx="2236320" cy="914040"/>
          </a:xfrm>
          <a:prstGeom prst="rect">
            <a:avLst/>
          </a:prstGeom>
          <a:solidFill>
            <a:srgbClr val="90c226"/>
          </a:solidFill>
          <a:ln cap="rnd">
            <a:solidFill>
              <a:srgbClr val="6a8f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Магазин </a:t>
            </a:r>
            <a:r>
              <a:rPr b="0" lang="en-US" sz="1800" spc="-1" strike="noStrike">
                <a:solidFill>
                  <a:schemeClr val="lt1"/>
                </a:solidFill>
                <a:latin typeface="Trebuchet MS"/>
              </a:rPr>
              <a:t>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8"/>
          <p:cNvSpPr/>
          <p:nvPr/>
        </p:nvSpPr>
        <p:spPr>
          <a:xfrm>
            <a:off x="6091200" y="4782960"/>
            <a:ext cx="2264400" cy="1012680"/>
          </a:xfrm>
          <a:prstGeom prst="rect">
            <a:avLst/>
          </a:prstGeom>
          <a:solidFill>
            <a:srgbClr val="90c226"/>
          </a:solidFill>
          <a:ln cap="rnd">
            <a:solidFill>
              <a:srgbClr val="6a8f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Магазины розничной продаж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36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б реализовать наши товары с высокой потребительской ценностью и 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 сдавать своих позиций на конкурирующем рынке, наша фирма планирует: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1) более глубокое изучение потребностей клиентов;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2) разработка новых моделей более экономичной и доступной мебели;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3) расширение ассортимента продукции;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4) обмен опытом;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5) расширение доли рын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77160" y="844200"/>
            <a:ext cx="8596440" cy="51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новными элементами системы ФОССТИС у нас буду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Личная продаж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ставление товара в ходе непосредственного взаимодействия (беседы, презентации) с одним или несколькими потенциальными покупателями с целью последующей продаж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Стимулирование сбыт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ощрительные меры, направленные на стимулирование покупки илиапробирование товара или услуги такие как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сихологическое ценообразование, при котором устанавливаются психологически привлекательные цены ниже круглых сумм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срочка платежа на некоторый срок (оговаривается с каждым клиентом индивидуально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арантийные условия и договоры о техническом обслужива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оставление товара на тестирован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77160" y="872280"/>
            <a:ext cx="8596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Реклам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 нас будет свой каталог, где представлено множество моделей мягкой и корпусной мебели. Потребитель сможет сам выбрать цвет, ткань, размер. Вместе с каталогом будут представлены образцы ткани, которые нам предоставит магазин тканей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Связь с общественностью и пропаганд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зентации на предприятиях по производству мягкой мебели(мероприятия по формированию благоприятного общественного мнения о предприятии и товара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5. Средства прямой коммуникаци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продвижении продукции будут использоваться следующие методы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ставки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рмарки и салоны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лобально информационно-электронные системы (типа Интернет)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дажа по каталогам (создание своего сайта, где представлена информация о нас и наша продукция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к же к методам стимулирования продаж будет относиться гарантия, сервисное обслужива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77160" y="464400"/>
            <a:ext cx="8596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Прямоугольник 3"/>
          <p:cNvSpPr/>
          <p:nvPr/>
        </p:nvSpPr>
        <p:spPr>
          <a:xfrm>
            <a:off x="787680" y="1603800"/>
            <a:ext cx="835596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никальность услуг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ращаясь в нашу фирму, по поводу приобретения мебели клиент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жде всего, выигрывает в том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) он получает бесплатную консультацию специалиста по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нтересующему его вопросу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) приобретает многофункциональную мебель при незначительной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знице цен по сравнению с мебелью другого производств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) возможность изготовление мебели по заказу клиент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) фирма делает скидки для пенсионеров и новобрачны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) мебель доставляется непосредственно по месту назначения и если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ребуется со сборкой по месту установ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) возможна продажа в рассрочку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) индивидуальность подхода к клие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Цели и задачи производств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Цель: Главной целью фирмы «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STA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» является предоставление людям недорогой удобной, комфортной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красивой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мягкой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гипоаллергенной мебе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дачи: Предоставление потребителю возможности максимально широкого выбора - наша первоочередная задача. Став однажды нашим клиентом, заказчик не должен искать других исполнителей. Продвижение и стимулирование сбыта продукции преобразуются и проявляются в поддержке делового постоянного сотрудничества с заказчиками. Не дожидаясь насыщения местного рынка мебелью, нами планируется привлечение дилеров в близлежащих регионах. Сбор заказов будет осуществляться рекламным агентством и сетью менеджеро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1960" y="408600"/>
            <a:ext cx="10515240" cy="63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                       </a:t>
            </a: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Матриц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1960" y="1046160"/>
            <a:ext cx="10515240" cy="50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</p:txBody>
      </p:sp>
      <p:graphicFrame>
        <p:nvGraphicFramePr>
          <p:cNvPr id="228" name="Таблица 3"/>
          <p:cNvGraphicFramePr/>
          <p:nvPr/>
        </p:nvGraphicFramePr>
        <p:xfrm>
          <a:off x="357120" y="1036440"/>
          <a:ext cx="10515240" cy="5045400"/>
        </p:xfrm>
        <a:graphic>
          <a:graphicData uri="http://schemas.openxmlformats.org/drawingml/2006/table">
            <a:tbl>
              <a:tblPr/>
              <a:tblGrid>
                <a:gridCol w="3191400"/>
                <a:gridCol w="1250280"/>
                <a:gridCol w="1172160"/>
                <a:gridCol w="1315440"/>
                <a:gridCol w="1146240"/>
                <a:gridCol w="1240560"/>
                <a:gridCol w="1198080"/>
              </a:tblGrid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Директ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Финанс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Бухгалте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Менедже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Маркетоло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Техноло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ценка рынка сбы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Конкурен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Стратегия маркетин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6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План производства проду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рганизационный 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ценка рис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Финансовый 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Стартегия финансир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916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Расчет срока окупаемости инвестицийи точки безубыточности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49960" y="25956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Анализ исследования рынка мягкой                           </a:t>
            </a: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мебели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10515240" cy="53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настоящее время перед мебельной промышленностью поставлены задачи повышения качества и улучшения ее ассортимента, а также снизить материалоемкость и трудоемкость выпускаемых изделий. Эти мероприятия планируется выполнить главным образом за счет широкого внедрения в мебельной промышленности последних достижений науки и техники. На конструкцию и форму мебели оказывает влияние выбранный стиль. Под стилем понимают единство применения определенных принципов архитектуры и форм украшений в разных областях жизни. Применительно к истории развития форм и конструкции мебели существуют следующие основные важнейшие эпохи стилей мебели, а именно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народная мебель - первая четверть 18 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барокко - середина 18 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русский классицизм - конец 18 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русский ампир - с 1830 г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бидермайер - с 1850 г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лементы различных стилей - конец 19 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модерн и псевдорусский стиль - начало 20 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функционально-конструкторский - настоящее врем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кономический кризис, который овладел реальным сектором экономики т.е. промышленностью, коснулся и деревообрабатывающих отрасли производства. Сложившееся бедственное положение предприятий деревообрабатывающей отрасли вызвано, прежде всего, падением объемов производства, ослаблением научно-технического потенциала, сокращением инвестиционной деятельности и другими причинами. Для того, чтобы стабилизировать сложившеюся обстановку, необходимо проводить политику поддержки отечественных производителей, одним из 7 элементов которой является увеличение объемов инвестиций в производство. Инвестиции являются основным движущим инструментом развития производства. Они влекут за собой внедрение новых технологий, повышение квалификации работников, в целом – оживление отрасли. Выбранную нами область деятельности мы считаем одной из наиболее перспективных. На всех этапах развития люди пытались по мере возможности как-то благоустроить свой быт. С годами потребности и требования людей увеличились и усовершенствовались. Наша фирма готова выполнить любые требования и угодить самому разборчивому клиенту. К тому же в городе Нефтекамске производство мебели является неразвитым и нашей фирме предстоит большой фронт работы, к которой мы готовы приступить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98640"/>
            <a:ext cx="10515240" cy="159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Технологический процесс производства мягкой мебел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266840"/>
            <a:ext cx="10515240" cy="54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ссмотрим производство дивано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ссмотрим на примере изготовление самого популярного и технологически сложного представителя категории «мягкая мебель» — 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дивана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. В отличие от кресел, стульев и прочей мебели, здесь предполагается использование трансформирующего механизма, который превращает диван в кровать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Итак, все диваны имеют общую структуру компонентов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аркас – главный элемент конструкции, на который крепятся остальные части дивана. Он выполняет основные прочностные функции при эксплуатации мебели, является базой для крепления остальных частей при формировании внешнего вида и придания мягкост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элементы «упругости» (мягкие наполнители и пружинные блоки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механизм трансформаци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чехол с обивочной тканью.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Заготовительные операции проходят по следующим этапам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а торцовочном станке пиломатериал (фанера) раскраивается по длине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а круглопильном станке происходит раскрой фанеры по ширине;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лученная деталь шлифуется на четырехстороннем станке, после чего шипорезный станок вырезает в ней шипы и проушины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 помощью ручного электроинструмента вырезаются внутренние детали из плит (ДВП, ДСП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репится механизм трансформации (для раскладных дивано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обирается каркас-основ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216440" y="179640"/>
            <a:ext cx="10515240" cy="65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chemeClr val="accent6">
                    <a:lumMod val="75000"/>
                  </a:schemeClr>
                </a:solidFill>
                <a:latin typeface="Trebuchet MS"/>
              </a:rPr>
              <a:t>Технология изготовления: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) </a:t>
            </a:r>
            <a:r>
              <a:rPr b="1" lang="ru-RU" sz="1400" spc="-1" strike="noStrike">
                <a:solidFill>
                  <a:srgbClr val="404040"/>
                </a:solidFill>
                <a:latin typeface="Trebuchet MS"/>
              </a:rPr>
              <a:t>В столярном цехе производится распил фанеры и досок на деревянные заготовки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, которые здесь же собираются в каркас будущей мягкой мебели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2) </a:t>
            </a:r>
            <a:r>
              <a:rPr b="1" lang="ru-RU" sz="1400" spc="-1" strike="noStrike">
                <a:solidFill>
                  <a:srgbClr val="404040"/>
                </a:solidFill>
                <a:latin typeface="Trebuchet MS"/>
              </a:rPr>
              <a:t>Готовые каркасы поступают в обивочный цех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, где они обклеиваются поролоном и обстреливаются обивочным материалом. Для начала на деревянную основу, наклеивается специальный нетканый материал – </a:t>
            </a:r>
            <a:r>
              <a:rPr b="0" i="1" lang="ru-RU" sz="1400" spc="-1" strike="noStrike">
                <a:solidFill>
                  <a:srgbClr val="404040"/>
                </a:solidFill>
                <a:latin typeface="Trebuchet MS"/>
              </a:rPr>
              <a:t>дарнит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. Это помогает избежать стуков и скрипов при эксплуатации готового изделия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3) Устанавливаются элементы мягкости – </a:t>
            </a:r>
            <a:r>
              <a:rPr b="1" lang="ru-RU" sz="1400" spc="-1" strike="noStrike">
                <a:solidFill>
                  <a:srgbClr val="404040"/>
                </a:solidFill>
                <a:latin typeface="Trebuchet MS"/>
              </a:rPr>
              <a:t>пружинные блоки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, которые осуществляют ортопедическую функцию. Блоки фиксируются равномерно по всему периметру и в центральной част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4) По периметру блока </a:t>
            </a: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клеится поролон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, что исключает возможность контакта с твердой рамкой каркаса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5) Сверху пружинного блока </a:t>
            </a: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клеится плотный тканый материал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, который препятствует истиранию об пружины блока вышележащего слоя прокладочного материала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6) В качестве прокладочного материала чаще всего используют </a:t>
            </a:r>
            <a:r>
              <a:rPr b="0" i="1" lang="ru-RU" sz="1500" spc="-1" strike="noStrike">
                <a:solidFill>
                  <a:srgbClr val="404040"/>
                </a:solidFill>
                <a:latin typeface="Trebuchet MS"/>
              </a:rPr>
              <a:t>спангон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, </a:t>
            </a:r>
            <a:r>
              <a:rPr b="0" i="1" lang="ru-RU" sz="1500" spc="-1" strike="noStrike">
                <a:solidFill>
                  <a:srgbClr val="404040"/>
                </a:solidFill>
                <a:latin typeface="Trebuchet MS"/>
              </a:rPr>
              <a:t>поролон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или </a:t>
            </a:r>
            <a:r>
              <a:rPr b="0" i="1" lang="ru-RU" sz="1500" spc="-1" strike="noStrike">
                <a:solidFill>
                  <a:srgbClr val="404040"/>
                </a:solidFill>
                <a:latin typeface="Trebuchet MS"/>
              </a:rPr>
              <a:t>кокосовую койру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Спангон и поролон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 (вторичного вспенивания) — более дешевый вариант, но уже через год-два активной эксплуатации такой диван начинает «проседать» и выходить из строя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Кокосовая койра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 – более жесткий и долговечный материал, который прослужит около 7-8 лет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7) После прокладочного материала располагается ещё один элемент мягкости – поролон высотой 40 мм, плотностью – 35-42. Между поролоном и обивочным материалом необходимо установить синтепон, который позволит поролону «дышать»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8) В </a:t>
            </a:r>
            <a:r>
              <a:rPr b="0" lang="ru-RU" sz="1500" spc="-1" strike="noStrike" u="sng">
                <a:solidFill>
                  <a:srgbClr val="b2d76d"/>
                </a:solidFill>
                <a:uFillTx/>
                <a:latin typeface="Trebuchet MS"/>
                <a:hlinkClick r:id="rId1"/>
              </a:rPr>
              <a:t>швейном цеху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 используется оборудование для работы с любыми видами отделки – от искусственного меха до натуральной кожи. Здесь осуществляется раскрой обивочной ткани для будущих диванов, которую в обивочном цехе «пристреливают» к многослойной основе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9) Здесь </a:t>
            </a: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шьют чехлы под определенные элементы мягкой мебели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 (подушки, спинки, подлокотники, сидения). Их «одевают» на каркас-основу с приклеенным мягким наполнителем – поролоном, синтепоном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0) После контрольной сборки и финишного оформления, </a:t>
            </a:r>
            <a:r>
              <a:rPr b="1" lang="ru-RU" sz="1400" spc="-1" strike="noStrike">
                <a:solidFill>
                  <a:srgbClr val="404040"/>
                </a:solidFill>
                <a:latin typeface="Trebuchet MS"/>
              </a:rPr>
              <a:t>изделие упаковывается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 с помощью полиэтилена, </a:t>
            </a:r>
            <a:r>
              <a:rPr b="0" lang="ru-RU" sz="1400" spc="-1" strike="noStrike" u="sng">
                <a:solidFill>
                  <a:srgbClr val="b2d76d"/>
                </a:solidFill>
                <a:uFillTx/>
                <a:latin typeface="Trebuchet MS"/>
                <a:hlinkClick r:id="rId2"/>
              </a:rPr>
              <a:t>картона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 и отправляется на склад готовой продукции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4718880" cy="72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Финансовый план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Объект 10" descr=""/>
          <p:cNvPicPr/>
          <p:nvPr/>
        </p:nvPicPr>
        <p:blipFill>
          <a:blip r:embed="rId1"/>
          <a:stretch/>
        </p:blipFill>
        <p:spPr>
          <a:xfrm>
            <a:off x="6026760" y="175680"/>
            <a:ext cx="5461560" cy="435096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8" descr=""/>
          <p:cNvPicPr/>
          <p:nvPr/>
        </p:nvPicPr>
        <p:blipFill>
          <a:blip r:embed="rId2"/>
          <a:stretch/>
        </p:blipFill>
        <p:spPr>
          <a:xfrm>
            <a:off x="101520" y="4070160"/>
            <a:ext cx="5176080" cy="260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3"/>
          <a:stretch/>
        </p:blipFill>
        <p:spPr>
          <a:xfrm>
            <a:off x="101520" y="1210680"/>
            <a:ext cx="517608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98320" y="203040"/>
            <a:ext cx="10515240" cy="117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700" spc="-1" strike="noStrike">
                <a:solidFill>
                  <a:schemeClr val="accent1"/>
                </a:solidFill>
                <a:latin typeface="Trebuchet MS"/>
              </a:rPr>
              <a:t>Расчет расхода материалов и сырья на изготовление единицы продукции (мягкий диван):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62200" y="1605240"/>
            <a:ext cx="4969080" cy="39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фанера – 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*59 руб = 59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доска обрезная – 0,08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rebuchet MS"/>
              </a:rPr>
              <a:t>3 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* 600 руб = 48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ДВП – 2 листа * 70 руб = 14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гвозди – 0,7 кг * 12 руб = 8,4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болты – 0,5 кг  * 20 руб = 1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шурупы – 0,2 кг * 20 руб = 4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гобелен – 8,4 п.м. * 220 руб = 1848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итки – 0,1б * 6 руб = 0,6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клей – 0,2 кг * 15 руб = 3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картон – 2 кг * 12 руб = 24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олиэтилен – 13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rebuchet MS"/>
              </a:rPr>
              <a:t>2 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* 9 = 117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оролон – 0,3 кг * 45 руб = 13,50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ватин – 4 п.м. * 28 руб = 112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фурнитура - 3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одушки – 6 штук * 80 руб = 48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ткань 1 м * 90 руб = 90 руб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Итого: 2987,50 руб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45000" y="746280"/>
            <a:ext cx="10403640" cy="13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chemeClr val="accent1"/>
                </a:solidFill>
                <a:latin typeface="Trebuchet MS"/>
              </a:rPr>
              <a:t>Расчет прочих материальных затрат: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523880" y="2153880"/>
            <a:ext cx="6664680" cy="34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затраты на рекламу – 30 000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оплата за водоснабжение – 82,23 м3 * 5,3 руб = 440,00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электроэнергия – 2191 кВт/час * 0,25 руб = 547,75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производственный сток – 61,9 м</a:t>
            </a:r>
            <a:r>
              <a:rPr b="0" lang="ru-RU" sz="1800" spc="-1" strike="noStrike" baseline="30000">
                <a:solidFill>
                  <a:srgbClr val="808080"/>
                </a:solidFill>
                <a:latin typeface="Trebuchet MS"/>
              </a:rPr>
              <a:t>3</a:t>
            </a: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 * 20 руб = 1238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отопление – 4,099 Гкал * 102,47 руб = 420,02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оплата за охрану и сигнализацию – 1700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телефон и интернет – 3100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налоги на зарплату – 62 250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амортизация – 14 38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rebuchet MS"/>
              </a:rPr>
              <a:t>Итого: 114 075,77 руб/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2900688[[fn=Аспект]]</Template>
  <TotalTime>223</TotalTime>
  <Application>LibreOffice/7.4.7.2$Linux_X86_64 LibreOffice_project/40$Build-2</Application>
  <AppVersion>15.0000</AppVersion>
  <Words>769</Words>
  <Paragraphs>1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9T09:22:37Z</dcterms:created>
  <dc:creator>notebook</dc:creator>
  <dc:description/>
  <dc:language>en-US</dc:language>
  <cp:lastModifiedBy>Татьяна</cp:lastModifiedBy>
  <dcterms:modified xsi:type="dcterms:W3CDTF">2016-04-27T07:54:27Z</dcterms:modified>
  <cp:revision>22</cp:revision>
  <dc:subject/>
  <dc:title>Бизнес-план  производства мягкой мебе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6</vt:r8>
  </property>
</Properties>
</file>