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E8B674-F86D-4052-AEF0-813936A8B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3560B1-15CD-47CD-968B-EB884D20462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551-F413-425B-A173-0EEBE1EA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897-7426-4438-A61A-85435517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206-C13E-44CE-8936-A394B63A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B171-A813-4181-8B47-BECE8074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42F7-F39C-4FFA-A525-92E07C4B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BF30-5A74-4362-B248-7460C0A9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CC07-F8C6-4C98-8D4D-E3C7DCB6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13DD-29A3-4106-90E9-6A639F26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FC83-4934-4E82-A674-867E4ABE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83B6-9451-4E71-95BC-421D4456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1137-55DC-4E17-BE47-454C2D53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8A89-5C94-449A-8A9C-9F5F0B69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7F9F-86C7-4486-B4F0-E4D4F4C7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AEF2-B2DB-4506-A87D-812487C1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DFB0-2276-4E85-B7C6-23E0ACD4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B06D-4699-4165-97ED-DCFFE6CB8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6256-93CC-430C-8713-FB01F352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1879F-4797-48E1-8648-E6EF7589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F368F-8537-45CD-A94B-15A09577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CED04-3645-4325-85FC-4761100A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D2F8C-7706-4D37-B9DC-7B7EC09E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E2E4E-2AB6-4DD4-B3EA-51081B97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7FF-F22A-4A2A-BC25-32C3F5E4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A8BA6-5110-4B4B-B3C9-627D6E0D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A8E0-E83C-4146-9BB5-2CA96F6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2E827-08CB-48BC-BA39-756C70EB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2EC7-4A52-42CF-BE97-113A5463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F4AD-0241-4CC5-9398-227E5A89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244A-1A2A-436C-9943-58DB2F47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0AA34-03A2-44C2-819B-5E1FA013A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03C-04C5-47EF-BA76-63616E20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8BC-05E9-4E29-9A6F-9379571E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02F-1A34-43AB-80E9-8A701A57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958-1C62-49B6-B61C-41241EED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FF5-BA5E-4CDD-93C5-CCCD3992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332-0099-4693-9965-F619CB79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 cap="all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907A3E-F83E-4F3D-9D05-25F38E6E5109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F84A39-9EC4-4208-8E90-49DD20A25DDB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AF59EE-B9C6-418E-B125-810749707AE6}" type="slidenum">
              <a:rPr b="0" lang="ru-RU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ru-RU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2292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rgbClr val="000000"/>
                </a:solidFill>
                <a:latin typeface="Lucida Sans"/>
              </a:rPr>
              <a:t>Литературное чтение</a:t>
            </a:r>
            <a:br>
              <a:rPr sz="2400"/>
            </a:br>
            <a:r>
              <a:rPr b="1" lang="ru-RU" sz="2400" spc="-1" strike="noStrike" cap="all">
                <a:solidFill>
                  <a:srgbClr val="000000"/>
                </a:solidFill>
                <a:latin typeface="Lucida Sans"/>
              </a:rPr>
              <a:t>4 класс.</a:t>
            </a:r>
            <a:endParaRPr b="0" lang="ru-RU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В.П.Астафьев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Book Antiqua"/>
              </a:rPr>
              <a:t>«Стрижонок Скрип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J:\Савина\Птицы2.jpg"/>
          <p:cNvPicPr/>
          <p:nvPr/>
        </p:nvPicPr>
        <p:blipFill>
          <a:blip r:embed="rId1">
            <a:lum bright="-49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J:\Савина\Птицы3 001.jpg"/>
          <p:cNvPicPr/>
          <p:nvPr/>
        </p:nvPicPr>
        <p:blipFill>
          <a:blip r:embed="rId1">
            <a:lum bright="-50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J:\Савина\Птицы6 001.jpg"/>
          <p:cNvPicPr/>
          <p:nvPr/>
        </p:nvPicPr>
        <p:blipFill>
          <a:blip r:embed="rId1">
            <a:lum bright="-43000"/>
          </a:blip>
          <a:stretch/>
        </p:blipFill>
        <p:spPr>
          <a:xfrm>
            <a:off x="1071360" y="0"/>
            <a:ext cx="74293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J:\Савина\Птицы12.jpg"/>
          <p:cNvPicPr/>
          <p:nvPr/>
        </p:nvPicPr>
        <p:blipFill>
          <a:blip r:embed="rId1">
            <a:lum bright="-28000"/>
          </a:blip>
          <a:stretch/>
        </p:blipFill>
        <p:spPr>
          <a:xfrm>
            <a:off x="1071360" y="0"/>
            <a:ext cx="771480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2"/>
          <p:cNvSpPr/>
          <p:nvPr/>
        </p:nvSpPr>
        <p:spPr>
          <a:xfrm>
            <a:off x="1000080" y="571320"/>
            <a:ext cx="71434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План</a:t>
            </a: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   I 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части расск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Рождение Скрип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Стрижата од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Возвращение мамы – стрижихи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1285920" y="642960"/>
            <a:ext cx="700056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План</a:t>
            </a: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   II </a:t>
            </a:r>
            <a:r>
              <a:rPr b="0" lang="ru-RU" sz="3600" spc="-1" strike="noStrike">
                <a:solidFill>
                  <a:srgbClr val="ffff00"/>
                </a:solidFill>
                <a:latin typeface="Book Antiqua"/>
              </a:rPr>
              <a:t> части расск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Кормление птенц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Скрип обиж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Жизнь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Законы природы у животных.</a:t>
            </a: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2" descr="J:\Савина\Птицы13.jpg"/>
          <p:cNvPicPr/>
          <p:nvPr/>
        </p:nvPicPr>
        <p:blipFill>
          <a:blip r:embed="rId1"/>
          <a:stretch/>
        </p:blipFill>
        <p:spPr>
          <a:xfrm>
            <a:off x="785880" y="1428840"/>
            <a:ext cx="2356920" cy="2857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J:\Савина\Птицы7 001.jpg"/>
          <p:cNvPicPr/>
          <p:nvPr/>
        </p:nvPicPr>
        <p:blipFill>
          <a:blip r:embed="rId2"/>
          <a:stretch/>
        </p:blipFill>
        <p:spPr>
          <a:xfrm>
            <a:off x="2428920" y="1857240"/>
            <a:ext cx="2950920" cy="4061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"/>
          <p:cNvPicPr/>
          <p:nvPr/>
        </p:nvPicPr>
        <p:blipFill>
          <a:blip r:embed="rId3"/>
          <a:stretch/>
        </p:blipFill>
        <p:spPr>
          <a:xfrm>
            <a:off x="5072040" y="3857760"/>
            <a:ext cx="3355560" cy="2586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6000"/>
          </a:bodyPr>
          <a:p>
            <a:pPr indent="0">
              <a:lnSpc>
                <a:spcPct val="100000"/>
              </a:lnSpc>
              <a:buNone/>
            </a:pPr>
            <a:r>
              <a:rPr b="1" i="1" lang="ru-RU" sz="4100" spc="-1" strike="noStrike">
                <a:solidFill>
                  <a:srgbClr val="000000"/>
                </a:solidFill>
                <a:latin typeface="Lucida Sans"/>
              </a:rPr>
              <a:t>Пословица :</a:t>
            </a:r>
            <a:br>
              <a:rPr sz="4100"/>
            </a:br>
            <a:r>
              <a:rPr b="1" i="1" lang="ru-RU" sz="4100" spc="-1" strike="noStrike">
                <a:solidFill>
                  <a:srgbClr val="000000"/>
                </a:solidFill>
                <a:latin typeface="Lucida Sans"/>
              </a:rPr>
              <a:t>            «</a:t>
            </a: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При солнышке тепло –</a:t>
            </a:r>
            <a:br>
              <a:rPr sz="4100"/>
            </a:b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                   про матери добро.»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1447560" cy="1819080"/>
          </a:xfrm>
          <a:prstGeom prst="rect">
            <a:avLst/>
          </a:prstGeom>
          <a:ln w="9525">
            <a:noFill/>
          </a:ln>
        </p:spPr>
      </p:pic>
      <p:sp>
        <p:nvSpPr>
          <p:cNvPr id="161" name="Солнце 3"/>
          <p:cNvSpPr/>
          <p:nvPr/>
        </p:nvSpPr>
        <p:spPr>
          <a:xfrm>
            <a:off x="6643800" y="500040"/>
            <a:ext cx="1714320" cy="1571400"/>
          </a:xfrm>
          <a:prstGeom prst="sun">
            <a:avLst>
              <a:gd name="adj" fmla="val 25000"/>
            </a:avLst>
          </a:prstGeom>
          <a:solidFill>
            <a:srgbClr val="ef9c2d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4200" y="2428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000" spc="-1" strike="noStrike">
                <a:solidFill>
                  <a:srgbClr val="000000"/>
                </a:solidFill>
                <a:latin typeface="Lucida Sans"/>
              </a:rPr>
              <a:t>Это интересно!!!</a:t>
            </a:r>
            <a:endParaRPr b="0" lang="ru-RU" sz="8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J:\Савина\Птицы17.jpg"/>
          <p:cNvPicPr/>
          <p:nvPr/>
        </p:nvPicPr>
        <p:blipFill>
          <a:blip r:embed="rId1">
            <a:lum bright="-33000"/>
          </a:blip>
          <a:stretch/>
        </p:blipFill>
        <p:spPr>
          <a:xfrm>
            <a:off x="571320" y="357120"/>
            <a:ext cx="2612520" cy="24998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"/>
          <p:cNvSpPr/>
          <p:nvPr/>
        </p:nvSpPr>
        <p:spPr>
          <a:xfrm>
            <a:off x="4071960" y="357120"/>
            <a:ext cx="464328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Нас называют ласточками-береговушками. Не все наверное, знают, как ласточка в жёстком глиняном берегу выкапывает   нору длиной до 6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571320" y="3357720"/>
            <a:ext cx="77864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Пьют   и едят на лету:  в их широко раскрытый клюв как будто сами залетают мелкие букашки.  На землю садятся только за строительным  материалом для гнёзд: илом, гли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507204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Lucida Sans"/>
              </a:rPr>
              <a:t>В.П.Астафьев</a:t>
            </a:r>
            <a:endParaRPr b="0" lang="ru-RU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2" descr="J:\Савина\Портрет.jpg"/>
          <p:cNvPicPr/>
          <p:nvPr/>
        </p:nvPicPr>
        <p:blipFill>
          <a:blip r:embed="rId1">
            <a:lum contrast="-34000"/>
          </a:blip>
          <a:stretch/>
        </p:blipFill>
        <p:spPr>
          <a:xfrm>
            <a:off x="1428840" y="432360"/>
            <a:ext cx="4428720" cy="57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J:\Савина\Птицы16.jpg"/>
          <p:cNvPicPr/>
          <p:nvPr/>
        </p:nvPicPr>
        <p:blipFill>
          <a:blip r:embed="rId1">
            <a:lum bright="-31000"/>
          </a:blip>
          <a:stretch/>
        </p:blipFill>
        <p:spPr>
          <a:xfrm>
            <a:off x="500040" y="357120"/>
            <a:ext cx="3142800" cy="34668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4000320" y="1500120"/>
            <a:ext cx="4714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Ходить по земле и взлетать с неё не могут. Ноги у них настолько малы, что если птица окажется на земле, в лучшем случае проползет несколько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3929040" y="3857760"/>
            <a:ext cx="49287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летев, сразу начинают строить гнездо, строят неделю и больше. Затем сразу откладывают яички. Основной скрепляющий материал для гнезда – слюна. Она быстро застывает на воз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J:\Савина\Птицы15.jpg"/>
          <p:cNvPicPr/>
          <p:nvPr/>
        </p:nvPicPr>
        <p:blipFill>
          <a:blip r:embed="rId1">
            <a:lum bright="-33000"/>
          </a:blip>
          <a:stretch/>
        </p:blipFill>
        <p:spPr>
          <a:xfrm>
            <a:off x="4559040" y="3567240"/>
            <a:ext cx="4584600" cy="3290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428760" y="357120"/>
            <a:ext cx="84294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лёт быстрый, стремительный. Скорость до 100 км/час. За время вскармливания пролетает расстояние  равное кругосветному путешествию. В  сутки летает по 16-17 часов. На лету стрижи пьют и куп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500040" y="2857320"/>
            <a:ext cx="3428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Иглохвостый стриж развивает скорость до 170 км/час, а самая большая ласточка – 70 км/ч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Мы кинооператоры.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857160" y="1571760"/>
            <a:ext cx="6786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акие пейзажи вы выбрали бы для съём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J:\Савина\Птицы5.jpg"/>
          <p:cNvPicPr/>
          <p:nvPr/>
        </p:nvPicPr>
        <p:blipFill>
          <a:blip r:embed="rId1">
            <a:lum bright="-53000"/>
          </a:blip>
          <a:stretch/>
        </p:blipFill>
        <p:spPr>
          <a:xfrm rot="5400000">
            <a:off x="464760" y="1821240"/>
            <a:ext cx="2785680" cy="3714480"/>
          </a:xfrm>
          <a:prstGeom prst="rect">
            <a:avLst/>
          </a:prstGeom>
          <a:ln w="0">
            <a:noFill/>
          </a:ln>
          <a:scene3d>
            <a:camera prst="orthographicFront">
              <a:rot lat="0" lon="900000" rev="0"/>
            </a:camera>
            <a:lightRig dir="t" rig="threePt"/>
          </a:scene3d>
        </p:spPr>
      </p:pic>
      <p:pic>
        <p:nvPicPr>
          <p:cNvPr id="175" name="Picture 2" descr="J:\Савина\Птицы3.jpg"/>
          <p:cNvPicPr/>
          <p:nvPr/>
        </p:nvPicPr>
        <p:blipFill>
          <a:blip r:embed="rId2">
            <a:lum bright="-49000"/>
          </a:blip>
          <a:stretch/>
        </p:blipFill>
        <p:spPr>
          <a:xfrm rot="5400000">
            <a:off x="2768400" y="3518280"/>
            <a:ext cx="2714400" cy="3393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J:\Савина\Птицы3 001.jpg"/>
          <p:cNvPicPr/>
          <p:nvPr/>
        </p:nvPicPr>
        <p:blipFill>
          <a:blip r:embed="rId3">
            <a:lum bright="-50000"/>
          </a:blip>
          <a:stretch/>
        </p:blipFill>
        <p:spPr>
          <a:xfrm rot="5400000">
            <a:off x="5584320" y="2202120"/>
            <a:ext cx="26427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Как бы вы озвучили  свои снимки?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928800" y="2786040"/>
            <a:ext cx="74293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1.Щебет  пт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2.Тревожный  крик стриж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3.Шум р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4.Писк новорождённого птен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428760" y="1785960"/>
            <a:ext cx="767952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 cap="all">
                <a:solidFill>
                  <a:schemeClr val="accent4"/>
                </a:solidFill>
                <a:latin typeface="Book Antiqua"/>
              </a:rPr>
              <a:t>Молодцы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64312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Произведения В.П.Астафьев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(домашнее задание)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Lucida Sans"/>
              </a:rPr>
              <a:t>Рассказы:</a:t>
            </a:r>
            <a:br>
              <a:rPr sz="3600"/>
            </a:br>
            <a:br>
              <a:rPr sz="3600"/>
            </a:br>
            <a:endParaRPr b="0" lang="ru-RU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000160" y="4071960"/>
            <a:ext cx="492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«Берегите свои кос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571760" y="4857840"/>
            <a:ext cx="6143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3200" spc="-1" strike="noStrike">
                <a:solidFill>
                  <a:srgbClr val="ffffff"/>
                </a:solidFill>
                <a:latin typeface="Book Antiqua"/>
              </a:rPr>
              <a:t>«Зачем я убил коростел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3143160" y="5643720"/>
            <a:ext cx="4785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«Фотогра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Стрижонок Скрип</a:t>
            </a:r>
            <a:endParaRPr b="0" lang="ru-RU" sz="41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2" descr="J:\Савина\Птицы15.jpg"/>
          <p:cNvPicPr/>
          <p:nvPr/>
        </p:nvPicPr>
        <p:blipFill>
          <a:blip r:embed="rId1"/>
          <a:stretch/>
        </p:blipFill>
        <p:spPr>
          <a:xfrm>
            <a:off x="1143000" y="1500120"/>
            <a:ext cx="6973560" cy="50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J:\Савина\Птицы14.jpg"/>
          <p:cNvPicPr/>
          <p:nvPr/>
        </p:nvPicPr>
        <p:blipFill>
          <a:blip r:embed="rId1">
            <a:lum bright="-34000"/>
          </a:blip>
          <a:stretch/>
        </p:blipFill>
        <p:spPr>
          <a:xfrm>
            <a:off x="1084320" y="1038240"/>
            <a:ext cx="6973560" cy="4779720"/>
          </a:xfrm>
          <a:prstGeom prst="rect">
            <a:avLst/>
          </a:prstGeom>
          <a:ln w="0">
            <a:noFill/>
          </a:ln>
        </p:spPr>
      </p:pic>
      <p:grpSp>
        <p:nvGrpSpPr>
          <p:cNvPr id="140" name="Группа 8"/>
          <p:cNvGrpSpPr/>
          <p:nvPr/>
        </p:nvGrpSpPr>
        <p:grpSpPr>
          <a:xfrm>
            <a:off x="214560" y="2571480"/>
            <a:ext cx="3570840" cy="3410280"/>
            <a:chOff x="214560" y="2571480"/>
            <a:chExt cx="3570840" cy="3410280"/>
          </a:xfrm>
        </p:grpSpPr>
        <p:grpSp>
          <p:nvGrpSpPr>
            <p:cNvPr id="141" name="Группа 7"/>
            <p:cNvGrpSpPr/>
            <p:nvPr/>
          </p:nvGrpSpPr>
          <p:grpSpPr>
            <a:xfrm>
              <a:off x="214560" y="2571480"/>
              <a:ext cx="3570840" cy="3410280"/>
              <a:chOff x="214560" y="2571480"/>
              <a:chExt cx="3570840" cy="3410280"/>
            </a:xfrm>
          </p:grpSpPr>
          <p:sp>
            <p:nvSpPr>
              <p:cNvPr id="142" name="Прямоугольник 2"/>
              <p:cNvSpPr/>
              <p:nvPr/>
            </p:nvSpPr>
            <p:spPr>
              <a:xfrm rot="2150400">
                <a:off x="571320" y="3205440"/>
                <a:ext cx="2857320" cy="2142720"/>
              </a:xfrm>
              <a:prstGeom prst="rect">
                <a:avLst/>
              </a:prstGeom>
              <a:solidFill>
                <a:srgbClr val="ceb966"/>
              </a:solidFill>
              <a:ln>
                <a:solidFill>
                  <a:srgbClr val="98884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Book Antiqua"/>
                </a:endParaRPr>
              </a:p>
            </p:txBody>
          </p:sp>
          <p:cxnSp>
            <p:nvCxnSpPr>
              <p:cNvPr id="143" name="Прямая соединительная линия 4"/>
              <p:cNvCxnSpPr/>
              <p:nvPr/>
            </p:nvCxnSpPr>
            <p:spPr>
              <a:xfrm>
                <a:off x="1468800" y="2571480"/>
                <a:ext cx="489600" cy="1763640"/>
              </a:xfrm>
              <a:prstGeom prst="straightConnector1">
                <a:avLst/>
              </a:prstGeom>
              <a:ln>
                <a:solidFill>
                  <a:srgbClr val="998846"/>
                </a:solidFill>
                <a:round/>
              </a:ln>
            </p:spPr>
          </p:cxnSp>
        </p:grpSp>
        <p:cxnSp>
          <p:nvCxnSpPr>
            <p:cNvPr id="144" name="Прямая соединительная линия 6"/>
            <p:cNvCxnSpPr/>
            <p:nvPr/>
          </p:nvCxnSpPr>
          <p:spPr>
            <a:xfrm flipV="1">
              <a:off x="1958040" y="4244760"/>
              <a:ext cx="1827720" cy="90360"/>
            </a:xfrm>
            <a:prstGeom prst="straightConnector1">
              <a:avLst/>
            </a:prstGeom>
            <a:ln>
              <a:solidFill>
                <a:srgbClr val="998846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J:\Савина\Птицы5.jpg"/>
          <p:cNvPicPr/>
          <p:nvPr/>
        </p:nvPicPr>
        <p:blipFill>
          <a:blip r:embed="rId1">
            <a:lum bright="-53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  <a:scene3d>
            <a:camera prst="orthographicFront">
              <a:rot lat="0" lon="900000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J:\Савина\4.jpg"/>
          <p:cNvPicPr/>
          <p:nvPr/>
        </p:nvPicPr>
        <p:blipFill>
          <a:blip r:embed="rId1">
            <a:lum bright="-43000"/>
          </a:blip>
          <a:stretch/>
        </p:blipFill>
        <p:spPr>
          <a:xfrm rot="5400000">
            <a:off x="1143360" y="-1143000"/>
            <a:ext cx="68576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J:\Савина\Птицы1.jpg"/>
          <p:cNvPicPr/>
          <p:nvPr/>
        </p:nvPicPr>
        <p:blipFill>
          <a:blip r:embed="rId1">
            <a:lum bright="-50000"/>
          </a:blip>
          <a:stretch/>
        </p:blipFill>
        <p:spPr>
          <a:xfrm rot="5400000">
            <a:off x="1154160" y="-1153800"/>
            <a:ext cx="68360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J:\Савина\Птицы3.jpg"/>
          <p:cNvPicPr/>
          <p:nvPr/>
        </p:nvPicPr>
        <p:blipFill>
          <a:blip r:embed="rId1">
            <a:lum bright="-49000"/>
          </a:blip>
          <a:stretch/>
        </p:blipFill>
        <p:spPr>
          <a:xfrm rot="5400000">
            <a:off x="914760" y="-914400"/>
            <a:ext cx="7314840" cy="91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99</TotalTime>
  <Application>LibreOffice/7.4.7.2$Linux_X86_64 LibreOffice_project/40$Build-2</Application>
  <AppVersion>15.0000</AppVersion>
  <Words>259</Words>
  <Paragraphs>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1:28:42Z</dcterms:created>
  <dc:creator>Васильева</dc:creator>
  <dc:description/>
  <dc:language>en-US</dc:language>
  <cp:lastModifiedBy>1</cp:lastModifiedBy>
  <dcterms:modified xsi:type="dcterms:W3CDTF">2016-02-28T17:40:33Z</dcterms:modified>
  <cp:revision>33</cp:revision>
  <dc:subject/>
  <dc:title>Литературное чтение 4 класс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