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8EBECD-8BAA-4341-93CB-5930294B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5B149-45FD-4B4B-B1AB-BC69A365BF6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727-3B25-453C-A8A3-DBF87704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44E-8676-4704-9402-9D0AC4C7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A07-A2B5-48FA-B748-C59BFAF2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359-516D-4098-91E9-02D90BC3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D1B7-8EDC-4195-865C-510125F8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6383-E92C-4FA4-956E-7EE68B4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E77-65E5-4E52-8E52-4921283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582-7CE4-4E33-9638-C186C03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59C2-66CE-426C-B216-C333672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D559-F231-4BAC-9B09-E06E16B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A364-7CC4-4163-B40D-8F8A65B8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155-3FC8-4025-859D-AFA3C833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72AC-7DDC-44B6-B46F-0C900F8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13BA-1484-4CFF-A4C3-2F7881C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B02-44D0-412D-A61D-4AD443B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6154-06B1-4295-A1AD-8D06798B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0451-2423-4EFB-81D7-AC98C778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B900-12AF-4002-B52D-6DBE4BC4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85DD-306A-461C-8103-93847F1E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0CC8-9D43-44BD-9F9F-5802ED63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4396-47F0-48BD-AEBD-DCF6572D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9B62-DE6D-4136-91F4-9A502E4A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437-F6DE-48F0-AF89-649C1D2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2FEE-7E02-450C-8967-69A3ED78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36E04-5BC6-408C-9410-950A8DE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871D-8842-4608-B16C-FCF9F32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4676-2A19-4716-8E83-14BC1B8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B0CDD-B926-4B43-8505-9DC21A5C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44DC-5607-4ACE-9F54-289D419D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56040-128B-41D4-B6EE-ED1F20D5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C3B-E2D0-4E75-A11C-5543DD20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546-3EC8-436F-B4F4-1713BB6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F16-9219-4503-856F-16ACDC67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AD2-F133-4095-85A0-6FA922B8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EC2-26C2-483C-AD10-F6A99E9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D43-BC92-4926-A7B2-6CEAA6B7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9750D7-17C8-46B9-8EAA-2D94EF6F4BB9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A43C8-58B4-49CD-AF83-7FA2517F3BF2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5012C-9AF5-482C-92B7-EE9A7B9C2FAD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Литературное чтение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4 класс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В.П.Астафье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«Стрижонок Скри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:\Савина\Птицы2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J:\Савина\Птицы3 00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J:\Савина\Птицы6 001.jpg"/>
          <p:cNvPicPr/>
          <p:nvPr/>
        </p:nvPicPr>
        <p:blipFill>
          <a:blip r:embed="rId1">
            <a:lum bright="-43000"/>
          </a:blip>
          <a:stretch/>
        </p:blipFill>
        <p:spPr>
          <a:xfrm>
            <a:off x="1071360" y="0"/>
            <a:ext cx="7429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J:\Савина\Птицы12.jpg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071360" y="0"/>
            <a:ext cx="771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000080" y="571320"/>
            <a:ext cx="71434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ждение Скри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Стрижата од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озвращение мамы – стрижих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285920" y="642960"/>
            <a:ext cx="700056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ормление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крип оби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Жизнь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Законы природы у животных.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J:\Савина\Птицы13.jpg"/>
          <p:cNvPicPr/>
          <p:nvPr/>
        </p:nvPicPr>
        <p:blipFill>
          <a:blip r:embed="rId1"/>
          <a:stretch/>
        </p:blipFill>
        <p:spPr>
          <a:xfrm>
            <a:off x="785880" y="1428840"/>
            <a:ext cx="2356920" cy="285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:\Савина\Птицы7 001.jpg"/>
          <p:cNvPicPr/>
          <p:nvPr/>
        </p:nvPicPr>
        <p:blipFill>
          <a:blip r:embed="rId2"/>
          <a:stretch/>
        </p:blipFill>
        <p:spPr>
          <a:xfrm>
            <a:off x="2428920" y="1857240"/>
            <a:ext cx="2950920" cy="406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5072040" y="3857760"/>
            <a:ext cx="3355560" cy="25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Пословица :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            «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и солнышке тепло –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                  про матери добро.»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1447560" cy="1819080"/>
          </a:xfrm>
          <a:prstGeom prst="rect">
            <a:avLst/>
          </a:prstGeom>
          <a:ln w="9525">
            <a:noFill/>
          </a:ln>
        </p:spPr>
      </p:pic>
      <p:sp>
        <p:nvSpPr>
          <p:cNvPr id="161" name="Солнце 3"/>
          <p:cNvSpPr/>
          <p:nvPr/>
        </p:nvSpPr>
        <p:spPr>
          <a:xfrm>
            <a:off x="6643800" y="500040"/>
            <a:ext cx="1714320" cy="1571400"/>
          </a:xfrm>
          <a:prstGeom prst="sun">
            <a:avLst>
              <a:gd name="adj" fmla="val 25000"/>
            </a:avLst>
          </a:prstGeom>
          <a:solidFill>
            <a:srgbClr val="ef9c2d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4200" y="2428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000000"/>
                </a:solidFill>
                <a:latin typeface="Lucida Sans"/>
              </a:rPr>
              <a:t>Это интересно!!!</a:t>
            </a:r>
            <a:endParaRPr b="0" lang="ru-RU" sz="8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J:\Савина\Птицы17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571320" y="357120"/>
            <a:ext cx="2612520" cy="249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4071960" y="357120"/>
            <a:ext cx="46432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с называют ласточками-береговушками. Не все наверное, знают, как ласточка в жёстком глиняном берегу выкапывает   нору длиной до 6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71320" y="3357720"/>
            <a:ext cx="7786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ьют   и едят на лету:  в их широко раскрытый клюв как будто сами залетают мелкие букашки.  На землю садятся только за строительным  материалом для гнёзд: илом, гл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Lucida Sans"/>
              </a:rPr>
              <a:t>В.П.Астафье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J:\Савина\Портрет.jpg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1428840" y="432360"/>
            <a:ext cx="4428720" cy="57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:\Савина\Птицы16.jpg"/>
          <p:cNvPicPr/>
          <p:nvPr/>
        </p:nvPicPr>
        <p:blipFill>
          <a:blip r:embed="rId1">
            <a:lum bright="-31000"/>
          </a:blip>
          <a:stretch/>
        </p:blipFill>
        <p:spPr>
          <a:xfrm>
            <a:off x="500040" y="357120"/>
            <a:ext cx="3142800" cy="3466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4000320" y="1500120"/>
            <a:ext cx="4714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Ходить по земле и взлетать с неё не могут. Ноги у них настолько малы, что если птица окажется на земле, в лучшем случае проползет несколько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929040" y="3857760"/>
            <a:ext cx="49287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летев, сразу начинают строить гнездо, строят неделю и больше. Затем сразу откладывают яички. Основной скрепляющий материал для гнезда – слюна. Она быстро застывает на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:\Савина\Птицы15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4559040" y="3567240"/>
            <a:ext cx="4584600" cy="3290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428760" y="357120"/>
            <a:ext cx="8429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лёт быстрый, стремительный. Скорость до 100 км/час. За время вскармливания пролетает расстояние  равное кругосветному путешествию. В  сутки летает по 16-17 часов. На лету стрижи пьют и куп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00040" y="2857320"/>
            <a:ext cx="3428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глохвостый стриж развивает скорость до 170 км/час, а самая большая ласточка – 7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Мы кинооператоры.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857160" y="1571760"/>
            <a:ext cx="678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акие пейзажи вы выбрали бы для съём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464760" y="1821240"/>
            <a:ext cx="2785680" cy="371448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  <p:pic>
        <p:nvPicPr>
          <p:cNvPr id="175" name="Picture 2" descr="J:\Савина\Птицы3.jpg"/>
          <p:cNvPicPr/>
          <p:nvPr/>
        </p:nvPicPr>
        <p:blipFill>
          <a:blip r:embed="rId2">
            <a:lum bright="-49000"/>
          </a:blip>
          <a:stretch/>
        </p:blipFill>
        <p:spPr>
          <a:xfrm rot="5400000">
            <a:off x="2768400" y="3518280"/>
            <a:ext cx="2714400" cy="339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J:\Савина\Птицы3 001.jpg"/>
          <p:cNvPicPr/>
          <p:nvPr/>
        </p:nvPicPr>
        <p:blipFill>
          <a:blip r:embed="rId3">
            <a:lum bright="-50000"/>
          </a:blip>
          <a:stretch/>
        </p:blipFill>
        <p:spPr>
          <a:xfrm rot="5400000">
            <a:off x="5584320" y="2202120"/>
            <a:ext cx="2642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к бы вы озвучили  свои снимки?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928800" y="2786040"/>
            <a:ext cx="74293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.Щебет 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2.Тревожный  крик стри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3.Шум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4.Писк новорождённого пт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428760" y="1785960"/>
            <a:ext cx="7679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 cap="all">
                <a:solidFill>
                  <a:schemeClr val="accent4"/>
                </a:solidFill>
                <a:latin typeface="Book Antiqua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64312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Произведения В.П.Астафьев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(домашнее задание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Рассказы: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000160" y="4071960"/>
            <a:ext cx="492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Берегите свои ко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571760" y="4857840"/>
            <a:ext cx="614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Зачем я убил корос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143160" y="5643720"/>
            <a:ext cx="4785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Фотогра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трижонок Скрип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2" descr="J:\Савина\Птицы15.jpg"/>
          <p:cNvPicPr/>
          <p:nvPr/>
        </p:nvPicPr>
        <p:blipFill>
          <a:blip r:embed="rId1"/>
          <a:stretch/>
        </p:blipFill>
        <p:spPr>
          <a:xfrm>
            <a:off x="1143000" y="1500120"/>
            <a:ext cx="697356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:\Савина\Птицы14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084320" y="1038240"/>
            <a:ext cx="6973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8"/>
          <p:cNvGrpSpPr/>
          <p:nvPr/>
        </p:nvGrpSpPr>
        <p:grpSpPr>
          <a:xfrm>
            <a:off x="214560" y="2571480"/>
            <a:ext cx="3570840" cy="3410280"/>
            <a:chOff x="214560" y="2571480"/>
            <a:chExt cx="3570840" cy="3410280"/>
          </a:xfrm>
        </p:grpSpPr>
        <p:grpSp>
          <p:nvGrpSpPr>
            <p:cNvPr id="141" name="Группа 7"/>
            <p:cNvGrpSpPr/>
            <p:nvPr/>
          </p:nvGrpSpPr>
          <p:grpSpPr>
            <a:xfrm>
              <a:off x="214560" y="2571480"/>
              <a:ext cx="3570840" cy="3410280"/>
              <a:chOff x="214560" y="2571480"/>
              <a:chExt cx="3570840" cy="3410280"/>
            </a:xfrm>
          </p:grpSpPr>
          <p:sp>
            <p:nvSpPr>
              <p:cNvPr id="142" name="Прямоугольник 2"/>
              <p:cNvSpPr/>
              <p:nvPr/>
            </p:nvSpPr>
            <p:spPr>
              <a:xfrm rot="2150400">
                <a:off x="571320" y="3205440"/>
                <a:ext cx="2857320" cy="2142720"/>
              </a:xfrm>
              <a:prstGeom prst="rect">
                <a:avLst/>
              </a:prstGeom>
              <a:solidFill>
                <a:srgbClr val="ceb966"/>
              </a:solidFill>
              <a:ln>
                <a:solidFill>
                  <a:srgbClr val="98884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Book Antiqua"/>
                </a:endParaRPr>
              </a:p>
            </p:txBody>
          </p:sp>
          <p:cxnSp>
            <p:nvCxnSpPr>
              <p:cNvPr id="143" name="Прямая соединительная линия 4"/>
              <p:cNvCxnSpPr/>
              <p:nvPr/>
            </p:nvCxnSpPr>
            <p:spPr>
              <a:xfrm>
                <a:off x="1468800" y="2571480"/>
                <a:ext cx="489600" cy="1763640"/>
              </a:xfrm>
              <a:prstGeom prst="straightConnector1">
                <a:avLst/>
              </a:prstGeom>
              <a:ln>
                <a:solidFill>
                  <a:srgbClr val="998846"/>
                </a:solidFill>
                <a:round/>
              </a:ln>
            </p:spPr>
          </p:cxnSp>
        </p:grpSp>
        <p:cxnSp>
          <p:nvCxnSpPr>
            <p:cNvPr id="144" name="Прямая соединительная линия 6"/>
            <p:cNvCxnSpPr/>
            <p:nvPr/>
          </p:nvCxnSpPr>
          <p:spPr>
            <a:xfrm flipV="1">
              <a:off x="1958040" y="4244760"/>
              <a:ext cx="1827720" cy="90360"/>
            </a:xfrm>
            <a:prstGeom prst="straightConnector1">
              <a:avLst/>
            </a:prstGeom>
            <a:ln>
              <a:solidFill>
                <a:srgbClr val="99884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:\Савина\4.jpg"/>
          <p:cNvPicPr/>
          <p:nvPr/>
        </p:nvPicPr>
        <p:blipFill>
          <a:blip r:embed="rId1">
            <a:lum bright="-4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:\Савина\Птицы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54160" y="-1153800"/>
            <a:ext cx="68360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J:\Савина\Птицы3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914760" y="-914400"/>
            <a:ext cx="73148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99</TotalTime>
  <Application>LibreOffice/7.4.7.2$Linux_X86_64 LibreOffice_project/40$Build-2</Application>
  <AppVersion>15.0000</AppVersion>
  <Words>259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1:28:42Z</dcterms:created>
  <dc:creator>Васильева</dc:creator>
  <dc:description/>
  <dc:language>en-US</dc:language>
  <cp:lastModifiedBy>1</cp:lastModifiedBy>
  <dcterms:modified xsi:type="dcterms:W3CDTF">2016-02-28T17:40:33Z</dcterms:modified>
  <cp:revision>33</cp:revision>
  <dc:subject/>
  <dc:title>Литературное чтение 4 клас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