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072F6-E260-47FE-9745-86C675C8C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1E35C2-18D5-480B-880B-3E202927400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6EE-B6BE-4D33-A670-D24C9101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044-F86F-4CB5-A078-A4D14CD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9C2-2740-4F4D-A2E6-83643462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277-BAC6-43E8-A6D3-A899529C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BD8F-1525-4651-BCFE-2CE7158B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CA46-BBFA-400E-84C3-30A6FBCA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128F-94E2-4917-A4FC-0A36F4BA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D5F1-89E5-4D1D-AB51-0CD66D0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C4BB-5C85-479E-A6AB-0E6194B3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FB06-E5EC-44DA-8661-7FA87FFC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98F9-8870-4348-AB93-DEC6F38C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FC4-D909-4B63-9A73-DC704C0A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DC39-D181-4A66-A639-0E7470A0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6F20-5E0B-4813-B71E-0B24DB6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FADA-9B11-41A9-8B3D-3DE4E5D6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723F-68EE-4740-9BA8-1AFAFA90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B37B-6788-41BD-A4F3-76BD706A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578E-8CD9-4DF6-9BC1-49A7BCA3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6A9E-DC88-401A-B93A-9BD12B3D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DF11-2E6C-46E1-B36C-2975AEBE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192F-A800-4802-9965-A69ECFBB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0CE4-4416-44DC-87A6-97D2DA0A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A94-E766-444B-AE4B-F83CF9F9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2909-FCDC-4B68-8236-7393D5FB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1C64-BAA3-42EA-AB17-E1184C6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0749-7BCE-49EB-9DA8-718CA295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0156-7411-4CFC-A173-F9EF05B4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6A2B-141C-4801-9A34-F02066D3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7C61-746E-4464-A765-2343A855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F4CB-3258-4FD4-AC03-5BDED1B5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E2E-67DE-4A4D-9B96-461EEC2B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7AE-F8FF-4267-8B83-33861692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5B7-45A2-46DA-857F-E5B205AA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809-B8C9-4CA1-93C2-D809C8D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EEB-3477-42A0-ACC6-0576230A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E22-0131-4CE8-8112-9957FD48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3C8F3F-CD4A-4D5B-B751-C5848122A3BB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695E4B-E605-418F-B5BB-B7D8BB239000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FF7F2D-4C45-42B0-9B2A-D8FA0FDF41EB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000000"/>
                </a:solidFill>
                <a:latin typeface="Lucida Sans"/>
              </a:rPr>
              <a:t>Литературное чтение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Lucida Sans"/>
              </a:rPr>
              <a:t>4 класс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В.П.Астафьев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«Стрижонок Скрип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J:\Савина\Птицы2.jpg"/>
          <p:cNvPicPr/>
          <p:nvPr/>
        </p:nvPicPr>
        <p:blipFill>
          <a:blip r:embed="rId1">
            <a:lum bright="-49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J:\Савина\Птицы3 001.jpg"/>
          <p:cNvPicPr/>
          <p:nvPr/>
        </p:nvPicPr>
        <p:blipFill>
          <a:blip r:embed="rId1">
            <a:lum bright="-50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J:\Савина\Птицы6 001.jpg"/>
          <p:cNvPicPr/>
          <p:nvPr/>
        </p:nvPicPr>
        <p:blipFill>
          <a:blip r:embed="rId1">
            <a:lum bright="-43000"/>
          </a:blip>
          <a:stretch/>
        </p:blipFill>
        <p:spPr>
          <a:xfrm>
            <a:off x="1071360" y="0"/>
            <a:ext cx="7429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J:\Савина\Птицы12.jpg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1071360" y="0"/>
            <a:ext cx="7714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000080" y="571320"/>
            <a:ext cx="71434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План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  I 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части расск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ождение Скрип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Стрижата од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Возвращение мамы – стрижих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285920" y="642960"/>
            <a:ext cx="700056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План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  II 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части расск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Кормление птен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крип обиж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Жизнь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Законы природы у животных.</a:t>
            </a: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2" descr="J:\Савина\Птицы13.jpg"/>
          <p:cNvPicPr/>
          <p:nvPr/>
        </p:nvPicPr>
        <p:blipFill>
          <a:blip r:embed="rId1"/>
          <a:stretch/>
        </p:blipFill>
        <p:spPr>
          <a:xfrm>
            <a:off x="785880" y="1428840"/>
            <a:ext cx="2356920" cy="2857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J:\Савина\Птицы7 001.jpg"/>
          <p:cNvPicPr/>
          <p:nvPr/>
        </p:nvPicPr>
        <p:blipFill>
          <a:blip r:embed="rId2"/>
          <a:stretch/>
        </p:blipFill>
        <p:spPr>
          <a:xfrm>
            <a:off x="2428920" y="1857240"/>
            <a:ext cx="2950920" cy="406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3"/>
          <a:stretch/>
        </p:blipFill>
        <p:spPr>
          <a:xfrm>
            <a:off x="5072040" y="3857760"/>
            <a:ext cx="3355560" cy="258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6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100" spc="-1" strike="noStrike">
                <a:solidFill>
                  <a:srgbClr val="000000"/>
                </a:solidFill>
                <a:latin typeface="Lucida Sans"/>
              </a:rPr>
              <a:t>Пословица :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Lucida Sans"/>
              </a:rPr>
              <a:t>            «</a:t>
            </a: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ри солнышке тепло –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                  про матери добро.»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1447560" cy="1819080"/>
          </a:xfrm>
          <a:prstGeom prst="rect">
            <a:avLst/>
          </a:prstGeom>
          <a:ln w="9525">
            <a:noFill/>
          </a:ln>
        </p:spPr>
      </p:pic>
      <p:sp>
        <p:nvSpPr>
          <p:cNvPr id="161" name="Солнце 3"/>
          <p:cNvSpPr/>
          <p:nvPr/>
        </p:nvSpPr>
        <p:spPr>
          <a:xfrm>
            <a:off x="6643800" y="500040"/>
            <a:ext cx="1714320" cy="1571400"/>
          </a:xfrm>
          <a:prstGeom prst="sun">
            <a:avLst>
              <a:gd name="adj" fmla="val 25000"/>
            </a:avLst>
          </a:prstGeom>
          <a:solidFill>
            <a:srgbClr val="ef9c2d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4200" y="2428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000" spc="-1" strike="noStrike">
                <a:solidFill>
                  <a:srgbClr val="000000"/>
                </a:solidFill>
                <a:latin typeface="Lucida Sans"/>
              </a:rPr>
              <a:t>Это интересно!!!</a:t>
            </a:r>
            <a:endParaRPr b="0" lang="ru-RU" sz="8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J:\Савина\Птицы17.jpg"/>
          <p:cNvPicPr/>
          <p:nvPr/>
        </p:nvPicPr>
        <p:blipFill>
          <a:blip r:embed="rId1">
            <a:lum bright="-33000"/>
          </a:blip>
          <a:stretch/>
        </p:blipFill>
        <p:spPr>
          <a:xfrm>
            <a:off x="571320" y="357120"/>
            <a:ext cx="2612520" cy="2499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4071960" y="357120"/>
            <a:ext cx="46432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с называют ласточками-береговушками. Не все наверное, знают, как ласточка в жёстком глиняном берегу выкапывает   нору длиной до 6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571320" y="3357720"/>
            <a:ext cx="77864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ьют   и едят на лету:  в их широко раскрытый клюв как будто сами залетают мелкие букашки.  На землю садятся только за строительным  материалом для гнёзд: илом, гл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507204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Lucida Sans"/>
              </a:rPr>
              <a:t>В.П.Астафьев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2" descr="J:\Савина\Портрет.jpg"/>
          <p:cNvPicPr/>
          <p:nvPr/>
        </p:nvPicPr>
        <p:blipFill>
          <a:blip r:embed="rId1">
            <a:lum contrast="-34000"/>
          </a:blip>
          <a:stretch/>
        </p:blipFill>
        <p:spPr>
          <a:xfrm>
            <a:off x="1428840" y="432360"/>
            <a:ext cx="4428720" cy="57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:\Савина\Птицы16.jpg"/>
          <p:cNvPicPr/>
          <p:nvPr/>
        </p:nvPicPr>
        <p:blipFill>
          <a:blip r:embed="rId1">
            <a:lum bright="-31000"/>
          </a:blip>
          <a:stretch/>
        </p:blipFill>
        <p:spPr>
          <a:xfrm>
            <a:off x="500040" y="357120"/>
            <a:ext cx="3142800" cy="3466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4000320" y="1500120"/>
            <a:ext cx="4714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Ходить по земле и взлетать с неё не могут. Ноги у них настолько малы, что если птица окажется на земле, в лучшем случае проползет несколько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929040" y="3857760"/>
            <a:ext cx="49287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летев, сразу начинают строить гнездо, строят неделю и больше. Затем сразу откладывают яички. Основной скрепляющий материал для гнезда – слюна. Она быстро застывает на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:\Савина\Птицы15.jpg"/>
          <p:cNvPicPr/>
          <p:nvPr/>
        </p:nvPicPr>
        <p:blipFill>
          <a:blip r:embed="rId1">
            <a:lum bright="-33000"/>
          </a:blip>
          <a:stretch/>
        </p:blipFill>
        <p:spPr>
          <a:xfrm>
            <a:off x="4559040" y="3567240"/>
            <a:ext cx="4584600" cy="3290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428760" y="357120"/>
            <a:ext cx="84294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лёт быстрый, стремительный. Скорость до 100 км/час. За время вскармливания пролетает расстояние  равное кругосветному путешествию. В  сутки летает по 16-17 часов. На лету стрижи пьют и куп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00040" y="2857320"/>
            <a:ext cx="3428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Иглохвостый стриж развивает скорость до 170 км/час, а самая большая ласточка – 70 км/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Мы кинооператоры.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857160" y="1571760"/>
            <a:ext cx="678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акие пейзажи вы выбрали бы для съём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J:\Савина\Птицы5.jpg"/>
          <p:cNvPicPr/>
          <p:nvPr/>
        </p:nvPicPr>
        <p:blipFill>
          <a:blip r:embed="rId1">
            <a:lum bright="-53000"/>
          </a:blip>
          <a:stretch/>
        </p:blipFill>
        <p:spPr>
          <a:xfrm rot="5400000">
            <a:off x="464760" y="1821240"/>
            <a:ext cx="2785680" cy="3714480"/>
          </a:xfrm>
          <a:prstGeom prst="rect">
            <a:avLst/>
          </a:prstGeom>
          <a:ln w="0">
            <a:noFill/>
          </a:ln>
          <a:scene3d>
            <a:camera prst="orthographicFront">
              <a:rot lat="0" lon="900000" rev="0"/>
            </a:camera>
            <a:lightRig dir="t" rig="threePt"/>
          </a:scene3d>
        </p:spPr>
      </p:pic>
      <p:pic>
        <p:nvPicPr>
          <p:cNvPr id="175" name="Picture 2" descr="J:\Савина\Птицы3.jpg"/>
          <p:cNvPicPr/>
          <p:nvPr/>
        </p:nvPicPr>
        <p:blipFill>
          <a:blip r:embed="rId2">
            <a:lum bright="-49000"/>
          </a:blip>
          <a:stretch/>
        </p:blipFill>
        <p:spPr>
          <a:xfrm rot="5400000">
            <a:off x="2768400" y="3518280"/>
            <a:ext cx="2714400" cy="339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J:\Савина\Птицы3 001.jpg"/>
          <p:cNvPicPr/>
          <p:nvPr/>
        </p:nvPicPr>
        <p:blipFill>
          <a:blip r:embed="rId3">
            <a:lum bright="-50000"/>
          </a:blip>
          <a:stretch/>
        </p:blipFill>
        <p:spPr>
          <a:xfrm rot="5400000">
            <a:off x="5584320" y="2202120"/>
            <a:ext cx="26427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Как бы вы озвучили  свои снимки?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928800" y="2786040"/>
            <a:ext cx="74293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.Щебет 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2.Тревожный  крик стриж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3.Шум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4.Писк новорождённого пт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428760" y="1785960"/>
            <a:ext cx="76795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 cap="all">
                <a:solidFill>
                  <a:schemeClr val="accent4"/>
                </a:solidFill>
                <a:latin typeface="Book Antiqua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64312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Произведения В.П.Астафьев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(домашнее задание)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Рассказы:</a:t>
            </a:r>
            <a:br>
              <a:rPr sz="3600"/>
            </a:br>
            <a:br>
              <a:rPr sz="3600"/>
            </a:br>
            <a:endParaRPr b="0" lang="ru-RU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000160" y="4071960"/>
            <a:ext cx="492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«Берегите свои кос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571760" y="4857840"/>
            <a:ext cx="614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«Зачем я убил коросте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143160" y="5643720"/>
            <a:ext cx="4785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«Фотогра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Стрижонок Скрип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2" descr="J:\Савина\Птицы15.jpg"/>
          <p:cNvPicPr/>
          <p:nvPr/>
        </p:nvPicPr>
        <p:blipFill>
          <a:blip r:embed="rId1"/>
          <a:stretch/>
        </p:blipFill>
        <p:spPr>
          <a:xfrm>
            <a:off x="1143000" y="1500120"/>
            <a:ext cx="697356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J:\Савина\Птицы14.jpg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1084320" y="1038240"/>
            <a:ext cx="6973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40" name="Группа 8"/>
          <p:cNvGrpSpPr/>
          <p:nvPr/>
        </p:nvGrpSpPr>
        <p:grpSpPr>
          <a:xfrm>
            <a:off x="214560" y="2571480"/>
            <a:ext cx="3570840" cy="3410280"/>
            <a:chOff x="214560" y="2571480"/>
            <a:chExt cx="3570840" cy="3410280"/>
          </a:xfrm>
        </p:grpSpPr>
        <p:grpSp>
          <p:nvGrpSpPr>
            <p:cNvPr id="141" name="Группа 7"/>
            <p:cNvGrpSpPr/>
            <p:nvPr/>
          </p:nvGrpSpPr>
          <p:grpSpPr>
            <a:xfrm>
              <a:off x="214560" y="2571480"/>
              <a:ext cx="3570840" cy="3410280"/>
              <a:chOff x="214560" y="2571480"/>
              <a:chExt cx="3570840" cy="3410280"/>
            </a:xfrm>
          </p:grpSpPr>
          <p:sp>
            <p:nvSpPr>
              <p:cNvPr id="142" name="Прямоугольник 2"/>
              <p:cNvSpPr/>
              <p:nvPr/>
            </p:nvSpPr>
            <p:spPr>
              <a:xfrm rot="2150400">
                <a:off x="571320" y="3205440"/>
                <a:ext cx="2857320" cy="2142720"/>
              </a:xfrm>
              <a:prstGeom prst="rect">
                <a:avLst/>
              </a:prstGeom>
              <a:solidFill>
                <a:srgbClr val="ceb966"/>
              </a:solidFill>
              <a:ln>
                <a:solidFill>
                  <a:srgbClr val="98884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Book Antiqua"/>
                </a:endParaRPr>
              </a:p>
            </p:txBody>
          </p:sp>
          <p:cxnSp>
            <p:nvCxnSpPr>
              <p:cNvPr id="143" name="Прямая соединительная линия 4"/>
              <p:cNvCxnSpPr/>
              <p:nvPr/>
            </p:nvCxnSpPr>
            <p:spPr>
              <a:xfrm>
                <a:off x="1468800" y="2571480"/>
                <a:ext cx="489600" cy="1763640"/>
              </a:xfrm>
              <a:prstGeom prst="straightConnector1">
                <a:avLst/>
              </a:prstGeom>
              <a:ln>
                <a:solidFill>
                  <a:srgbClr val="998846"/>
                </a:solidFill>
                <a:round/>
              </a:ln>
            </p:spPr>
          </p:cxnSp>
        </p:grpSp>
        <p:cxnSp>
          <p:nvCxnSpPr>
            <p:cNvPr id="144" name="Прямая соединительная линия 6"/>
            <p:cNvCxnSpPr/>
            <p:nvPr/>
          </p:nvCxnSpPr>
          <p:spPr>
            <a:xfrm flipV="1">
              <a:off x="1958040" y="4244760"/>
              <a:ext cx="1827720" cy="90360"/>
            </a:xfrm>
            <a:prstGeom prst="straightConnector1">
              <a:avLst/>
            </a:prstGeom>
            <a:ln>
              <a:solidFill>
                <a:srgbClr val="998846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J:\Савина\Птицы5.jpg"/>
          <p:cNvPicPr/>
          <p:nvPr/>
        </p:nvPicPr>
        <p:blipFill>
          <a:blip r:embed="rId1">
            <a:lum bright="-53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  <a:scene3d>
            <a:camera prst="orthographicFront">
              <a:rot lat="0" lon="90000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J:\Савина\4.jpg"/>
          <p:cNvPicPr/>
          <p:nvPr/>
        </p:nvPicPr>
        <p:blipFill>
          <a:blip r:embed="rId1">
            <a:lum bright="-43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J:\Савина\Птицы1.jpg"/>
          <p:cNvPicPr/>
          <p:nvPr/>
        </p:nvPicPr>
        <p:blipFill>
          <a:blip r:embed="rId1">
            <a:lum bright="-50000"/>
          </a:blip>
          <a:stretch/>
        </p:blipFill>
        <p:spPr>
          <a:xfrm rot="5400000">
            <a:off x="1154160" y="-1153800"/>
            <a:ext cx="68360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J:\Савина\Птицы3.jpg"/>
          <p:cNvPicPr/>
          <p:nvPr/>
        </p:nvPicPr>
        <p:blipFill>
          <a:blip r:embed="rId1">
            <a:lum bright="-49000"/>
          </a:blip>
          <a:stretch/>
        </p:blipFill>
        <p:spPr>
          <a:xfrm rot="5400000">
            <a:off x="914760" y="-914400"/>
            <a:ext cx="73148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99</TotalTime>
  <Application>LibreOffice/7.4.7.2$Linux_X86_64 LibreOffice_project/40$Build-2</Application>
  <AppVersion>15.0000</AppVersion>
  <Words>259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1:28:42Z</dcterms:created>
  <dc:creator>Васильева</dc:creator>
  <dc:description/>
  <dc:language>en-US</dc:language>
  <cp:lastModifiedBy>1</cp:lastModifiedBy>
  <dcterms:modified xsi:type="dcterms:W3CDTF">2016-02-28T17:40:33Z</dcterms:modified>
  <cp:revision>33</cp:revision>
  <dc:subject/>
  <dc:title>Литературное чтение 4 класс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