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layout12.xml" ContentType="application/vnd.openxmlformats-officedocument.drawingml.diagramLayout+xml"/>
  <Override PartName="/ppt/diagrams/data12.xml" ContentType="application/vnd.openxmlformats-officedocument.drawingml.diagramData+xml"/>
  <Override PartName="/ppt/diagrams/drawing15.xml" ContentType="application/vnd.ms-office.drawingml.diagramDrawing+xml"/>
  <Override PartName="/ppt/diagrams/quickStyle11.xml" ContentType="application/vnd.openxmlformats-officedocument.drawingml.diagramStyle+xml"/>
  <Override PartName="/ppt/diagrams/colors3.xml" ContentType="application/vnd.openxmlformats-officedocument.drawingml.diagramColors+xml"/>
  <Override PartName="/ppt/diagrams/layout11.xml" ContentType="application/vnd.openxmlformats-officedocument.drawingml.diagramLayout+xml"/>
  <Override PartName="/ppt/diagrams/data11.xml" ContentType="application/vnd.openxmlformats-officedocument.drawingml.diagramData+xml"/>
  <Override PartName="/ppt/diagrams/drawing14.xml" ContentType="application/vnd.ms-office.drawingml.diagramDrawing+xml"/>
  <Override PartName="/ppt/diagrams/quickStyle10.xml" ContentType="application/vnd.openxmlformats-officedocument.drawingml.diagramStyle+xml"/>
  <Override PartName="/ppt/diagrams/colors2.xml" ContentType="application/vnd.openxmlformats-officedocument.drawingml.diagramColors+xml"/>
  <Override PartName="/ppt/diagrams/layout10.xml" ContentType="application/vnd.openxmlformats-officedocument.drawingml.diagramLayout+xml"/>
  <Override PartName="/ppt/diagrams/data10.xml" ContentType="application/vnd.openxmlformats-officedocument.drawingml.diagramData+xml"/>
  <Override PartName="/ppt/diagrams/drawing13.xml" ContentType="application/vnd.ms-office.drawingml.diagramDrawing+xml"/>
  <Override PartName="/ppt/diagrams/drawing9.xml" ContentType="application/vnd.ms-office.drawingml.diagramDrawing+xml"/>
  <Override PartName="/ppt/diagrams/quickStyle9.xml" ContentType="application/vnd.openxmlformats-officedocument.drawingml.diagramStyle+xml"/>
  <Override PartName="/ppt/diagrams/layout9.xml" ContentType="application/vnd.openxmlformats-officedocument.drawingml.diagramLayout+xml"/>
  <Override PartName="/ppt/diagrams/colors9.xml" ContentType="application/vnd.openxmlformats-officedocument.drawingml.diagramColors+xml"/>
  <Override PartName="/ppt/diagrams/quickStyle17.xml" ContentType="application/vnd.openxmlformats-officedocument.drawingml.diagramStyle+xml"/>
  <Override PartName="/ppt/diagrams/drawing8.xml" ContentType="application/vnd.ms-office.drawingml.diagramDrawing+xml"/>
  <Override PartName="/ppt/diagrams/quickStyle8.xml" ContentType="application/vnd.openxmlformats-officedocument.drawingml.diagramStyle+xml"/>
  <Override PartName="/ppt/diagrams/layout8.xml" ContentType="application/vnd.openxmlformats-officedocument.drawingml.diagramLayout+xml"/>
  <Override PartName="/ppt/diagrams/data8.xml" ContentType="application/vnd.openxmlformats-officedocument.drawingml.diagramData+xml"/>
  <Override PartName="/ppt/diagrams/colors8.xml" ContentType="application/vnd.openxmlformats-officedocument.drawingml.diagramColors+xml"/>
  <Override PartName="/ppt/diagrams/quickStyle16.xml" ContentType="application/vnd.openxmlformats-officedocument.drawingml.diagramStyle+xml"/>
  <Override PartName="/ppt/diagrams/drawing7.xml" ContentType="application/vnd.ms-office.drawingml.diagramDrawing+xml"/>
  <Override PartName="/ppt/diagrams/colors12.xml" ContentType="application/vnd.openxmlformats-officedocument.drawingml.diagramColors+xml"/>
  <Override PartName="/ppt/diagrams/quickStyle7.xml" ContentType="application/vnd.openxmlformats-officedocument.drawingml.diagramStyle+xml"/>
  <Override PartName="/ppt/diagrams/layout7.xml" ContentType="application/vnd.openxmlformats-officedocument.drawingml.diagramLayout+xml"/>
  <Override PartName="/ppt/diagrams/data7.xml" ContentType="application/vnd.openxmlformats-officedocument.drawingml.diagramData+xml"/>
  <Override PartName="/ppt/diagrams/drawing11.xml" ContentType="application/vnd.ms-office.drawingml.diagramDrawing+xml"/>
  <Override PartName="/ppt/diagrams/colors7.xml" ContentType="application/vnd.openxmlformats-officedocument.drawingml.diagramColors+xml"/>
  <Override PartName="/ppt/diagrams/quickStyle15.xml" ContentType="application/vnd.openxmlformats-officedocument.drawingml.diagramStyle+xml"/>
  <Override PartName="/ppt/diagrams/drawing6.xml" ContentType="application/vnd.ms-office.drawingml.diagramDrawing+xml"/>
  <Override PartName="/ppt/diagrams/quickStyle3.xml" ContentType="application/vnd.openxmlformats-officedocument.drawingml.diagramStyle+xml"/>
  <Override PartName="/ppt/diagrams/data3.xml" ContentType="application/vnd.openxmlformats-officedocument.drawingml.diagramData+xml"/>
  <Override PartName="/ppt/diagrams/quickStyle2.xml" ContentType="application/vnd.openxmlformats-officedocument.drawingml.diagramStyle+xml"/>
  <Override PartName="/ppt/diagrams/data6.xml" ContentType="application/vnd.openxmlformats-officedocument.drawingml.diagramData+xml"/>
  <Override PartName="/ppt/diagrams/drawing5.xml" ContentType="application/vnd.ms-office.drawingml.diagramDrawing+xml"/>
  <Override PartName="/ppt/diagrams/drawing10.xml" ContentType="application/vnd.ms-office.drawingml.diagramDrawing+xml"/>
  <Override PartName="/ppt/diagrams/quickStyle1.xml" ContentType="application/vnd.openxmlformats-officedocument.drawingml.diagramStyle+xml"/>
  <Override PartName="/ppt/diagrams/layout6.xml" ContentType="application/vnd.openxmlformats-officedocument.drawingml.diagramLayout+xml"/>
  <Override PartName="/ppt/diagrams/data13.xml" ContentType="application/vnd.openxmlformats-officedocument.drawingml.diagramData+xml"/>
  <Override PartName="/ppt/diagrams/drawing16.xml" ContentType="application/vnd.ms-office.drawingml.diagramDrawing+xml"/>
  <Override PartName="/ppt/diagrams/colors6.xml" ContentType="application/vnd.openxmlformats-officedocument.drawingml.diagramColors+xml"/>
  <Override PartName="/ppt/diagrams/quickStyle14.xml" ContentType="application/vnd.openxmlformats-officedocument.drawingml.diagramStyle+xml"/>
  <Override PartName="/ppt/diagrams/drawing18.xml" ContentType="application/vnd.ms-office.drawingml.diagramDrawing+xml"/>
  <Override PartName="/ppt/diagrams/data15.xml" ContentType="application/vnd.openxmlformats-officedocument.drawingml.diagramData+xml"/>
  <Override PartName="/ppt/diagrams/layout13.xml" ContentType="application/vnd.openxmlformats-officedocument.drawingml.diagramLayout+xml"/>
  <Override PartName="/ppt/diagrams/data14.xml" ContentType="application/vnd.openxmlformats-officedocument.drawingml.diagramData+xml"/>
  <Override PartName="/ppt/diagrams/drawing17.xml" ContentType="application/vnd.ms-office.drawingml.diagramDrawing+xml"/>
  <Override PartName="/ppt/diagrams/colors13.xml" ContentType="application/vnd.openxmlformats-officedocument.drawingml.diagramColors+xml"/>
  <Override PartName="/ppt/diagrams/quickStyle19.xml" ContentType="application/vnd.openxmlformats-officedocument.drawingml.diagramStyle+xml"/>
  <Override PartName="/ppt/diagrams/layout14.xml" ContentType="application/vnd.openxmlformats-officedocument.drawingml.diagramLayout+xml"/>
  <Override PartName="/ppt/diagrams/layout19.xml" ContentType="application/vnd.openxmlformats-officedocument.drawingml.diagramLayout+xml"/>
  <Override PartName="/ppt/diagrams/drawing3.xml" ContentType="application/vnd.ms-office.drawingml.diagramDrawing+xml"/>
  <Override PartName="/ppt/diagrams/quickStyle12.xml" ContentType="application/vnd.openxmlformats-officedocument.drawingml.diagramStyle+xml"/>
  <Override PartName="/ppt/diagrams/colors4.xml" ContentType="application/vnd.openxmlformats-officedocument.drawingml.diagramColors+xml"/>
  <Override PartName="/ppt/diagrams/drawing12.xml" ContentType="application/vnd.ms-office.drawingml.diagramDrawing+xml"/>
  <Override PartName="/ppt/diagrams/layout18.xml" ContentType="application/vnd.openxmlformats-officedocument.drawingml.diagramLayout+xml"/>
  <Override PartName="/ppt/diagrams/drawing2.xml" ContentType="application/vnd.ms-office.drawingml.diagramDrawing+xml"/>
  <Override PartName="/ppt/diagrams/quickStyle18.xml" ContentType="application/vnd.openxmlformats-officedocument.drawingml.diagramStyle+xml"/>
  <Override PartName="/ppt/diagrams/data18.xml" ContentType="application/vnd.openxmlformats-officedocument.drawingml.diagramData+xml"/>
  <Override PartName="/ppt/diagrams/quickStyle6.xml" ContentType="application/vnd.openxmlformats-officedocument.drawingml.diagramStyle+xml"/>
  <Override PartName="/ppt/diagrams/colors11.xml" ContentType="application/vnd.openxmlformats-officedocument.drawingml.diagramColors+xml"/>
  <Override PartName="/ppt/diagrams/layout17.xml" ContentType="application/vnd.openxmlformats-officedocument.drawingml.diagramLayout+xml"/>
  <Override PartName="/ppt/diagrams/drawing1.xml" ContentType="application/vnd.ms-office.drawingml.diagramDrawing+xml"/>
  <Override PartName="/ppt/diagrams/data17.xml" ContentType="application/vnd.openxmlformats-officedocument.drawingml.diagramData+xml"/>
  <Override PartName="/ppt/diagrams/quickStyle5.xml" ContentType="application/vnd.openxmlformats-officedocument.drawingml.diagramStyle+xml"/>
  <Override PartName="/ppt/diagrams/colors10.xml" ContentType="application/vnd.openxmlformats-officedocument.drawingml.diagramColors+xml"/>
  <Override PartName="/ppt/diagrams/layout16.xml" ContentType="application/vnd.openxmlformats-officedocument.drawingml.diagramLayout+xml"/>
  <Override PartName="/ppt/diagrams/colors1.xml" ContentType="application/vnd.openxmlformats-officedocument.drawingml.diagramColors+xml"/>
  <Override PartName="/ppt/diagrams/colors15.xml" ContentType="application/vnd.openxmlformats-officedocument.drawingml.diagramColors+xml"/>
  <Override PartName="/ppt/diagrams/colors14.xml" ContentType="application/vnd.openxmlformats-officedocument.drawingml.diagramColors+xml"/>
  <Override PartName="/ppt/diagrams/drawing19.xml" ContentType="application/vnd.ms-office.drawingml.diagramDrawing+xml"/>
  <Override PartName="/ppt/diagrams/data16.xml" ContentType="application/vnd.openxmlformats-officedocument.drawingml.diagramData+xml"/>
  <Override PartName="/ppt/diagrams/quickStyle4.xml" ContentType="application/vnd.openxmlformats-officedocument.drawingml.diagramStyle+xml"/>
  <Override PartName="/ppt/diagrams/layout15.xml" ContentType="application/vnd.openxmlformats-officedocument.drawingml.diagramLayout+xml"/>
  <Override PartName="/ppt/diagrams/quickStyle13.xml" ContentType="application/vnd.openxmlformats-officedocument.drawingml.diagramStyle+xml"/>
  <Override PartName="/ppt/diagrams/colors5.xml" ContentType="application/vnd.openxmlformats-officedocument.drawingml.diagramColors+xml"/>
  <Override PartName="/ppt/diagrams/drawing4.xml" ContentType="application/vnd.ms-office.drawingml.diagramDrawing+xml"/>
  <Override PartName="/ppt/diagrams/layout5.xml" ContentType="application/vnd.openxmlformats-officedocument.drawingml.diagramLayout+xml"/>
  <Override PartName="/ppt/diagrams/data5.xml" ContentType="application/vnd.openxmlformats-officedocument.drawingml.diagramData+xml"/>
  <Override PartName="/ppt/diagrams/colors19.xml" ContentType="application/vnd.openxmlformats-officedocument.drawingml.diagramColors+xml"/>
  <Override PartName="/ppt/diagrams/layout4.xml" ContentType="application/vnd.openxmlformats-officedocument.drawingml.diagramLayout+xml"/>
  <Override PartName="/ppt/diagrams/data4.xml" ContentType="application/vnd.openxmlformats-officedocument.drawingml.diagramData+xml"/>
  <Override PartName="/ppt/diagrams/data19.xml" ContentType="application/vnd.openxmlformats-officedocument.drawingml.diagramData+xml"/>
  <Override PartName="/ppt/diagrams/data1.xml" ContentType="application/vnd.openxmlformats-officedocument.drawingml.diagramData+xml"/>
  <Override PartName="/ppt/diagrams/colors17.xml" ContentType="application/vnd.openxmlformats-officedocument.drawingml.diagramColors+xml"/>
  <Override PartName="/ppt/diagrams/layout2.xml" ContentType="application/vnd.openxmlformats-officedocument.drawingml.diagramLayout+xml"/>
  <Override PartName="/ppt/diagrams/colors16.xml" ContentType="application/vnd.openxmlformats-officedocument.drawingml.diagramColors+xml"/>
  <Override PartName="/ppt/diagrams/layout1.xml" ContentType="application/vnd.openxmlformats-officedocument.drawingml.diagramLayout+xml"/>
  <Override PartName="/ppt/diagrams/data9.xml" ContentType="application/vnd.openxmlformats-officedocument.drawingml.diagramData+xml"/>
  <Override PartName="/ppt/diagrams/data2.xml" ContentType="application/vnd.openxmlformats-officedocument.drawingml.diagramData+xml"/>
  <Override PartName="/ppt/diagrams/colors18.xml" ContentType="application/vnd.openxmlformats-officedocument.drawingml.diagramColors+xml"/>
  <Override PartName="/ppt/diagrams/layout3.xml" ContentType="application/vnd.openxmlformats-officedocument.drawingml.diagramLayout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0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3.xml><?xml version="1.0" encoding="utf-8"?>
<dgm:colorsDef xmlns:dgm="http://schemas.openxmlformats.org/drawingml/2006/diagram" xmlns:a="http://schemas.openxmlformats.org/drawingml/2006/main" uniqueId="urn:microsoft.com/office/officeart/2005/8/colors/accent3_1">
  <dgm:title val=""/>
  <dgm:desc val=""/>
  <dgm:catLst>
    <dgm:cat type="accent3" pri="11100"/>
  </dgm:catLst>
  <dgm:styleLbl name="node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3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3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4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3">
        <a:alpha val="4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8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4.xml><?xml version="1.0" encoding="utf-8"?>
<dgm:colorsDef xmlns:dgm="http://schemas.openxmlformats.org/drawingml/2006/diagram" xmlns:a="http://schemas.openxmlformats.org/drawingml/2006/main" uniqueId="urn:microsoft.com/office/officeart/2005/8/colors/accent1_1">
  <dgm:title val=""/>
  <dgm:desc val=""/>
  <dgm:catLst>
    <dgm:cat type="accent1" pri="11100"/>
  </dgm:catLst>
  <dgm:styleLbl name="node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1">
        <a:alpha val="4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5.xml><?xml version="1.0" encoding="utf-8"?>
<dgm:colorsDef xmlns:dgm="http://schemas.openxmlformats.org/drawingml/2006/diagram" xmlns:a="http://schemas.openxmlformats.org/drawingml/2006/main" uniqueId="urn:microsoft.com/office/officeart/2005/8/colors/accent1_1">
  <dgm:title val=""/>
  <dgm:desc val=""/>
  <dgm:catLst>
    <dgm:cat type="accent1" pri="11100"/>
  </dgm:catLst>
  <dgm:styleLbl name="node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1">
        <a:alpha val="4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6.xml><?xml version="1.0" encoding="utf-8"?>
<dgm:colorsDef xmlns:dgm="http://schemas.openxmlformats.org/drawingml/2006/diagram" xmlns:a="http://schemas.openxmlformats.org/drawingml/2006/main" uniqueId="urn:microsoft.com/office/officeart/2005/8/colors/accent1_1">
  <dgm:title val=""/>
  <dgm:desc val=""/>
  <dgm:catLst>
    <dgm:cat type="accent1" pri="11100"/>
  </dgm:catLst>
  <dgm:styleLbl name="node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1">
        <a:alpha val="4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7.xml><?xml version="1.0" encoding="utf-8"?>
<dgm:colorsDef xmlns:dgm="http://schemas.openxmlformats.org/drawingml/2006/diagram" xmlns:a="http://schemas.openxmlformats.org/drawingml/2006/main" uniqueId="urn:microsoft.com/office/officeart/2005/8/colors/accent1_1">
  <dgm:title val=""/>
  <dgm:desc val=""/>
  <dgm:catLst>
    <dgm:cat type="accent1" pri="11100"/>
  </dgm:catLst>
  <dgm:styleLbl name="node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1">
        <a:alpha val="4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8.xml><?xml version="1.0" encoding="utf-8"?>
<dgm:colorsDef xmlns:dgm="http://schemas.openxmlformats.org/drawingml/2006/diagram" xmlns:a="http://schemas.openxmlformats.org/drawingml/2006/main" uniqueId="urn:microsoft.com/office/officeart/2005/8/colors/accent1_1">
  <dgm:title val=""/>
  <dgm:desc val=""/>
  <dgm:catLst>
    <dgm:cat type="accent1" pri="11100"/>
  </dgm:catLst>
  <dgm:styleLbl name="node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1">
        <a:alpha val="4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9.xml><?xml version="1.0" encoding="utf-8"?>
<dgm:colorsDef xmlns:dgm="http://schemas.openxmlformats.org/drawingml/2006/diagram" xmlns:a="http://schemas.openxmlformats.org/drawingml/2006/main" uniqueId="urn:microsoft.com/office/officeart/2005/8/colors/accent1_1">
  <dgm:title val=""/>
  <dgm:desc val=""/>
  <dgm:catLst>
    <dgm:cat type="accent1" pri="11100"/>
  </dgm:catLst>
  <dgm:styleLbl name="node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1">
        <a:alpha val="4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3_1">
  <dgm:title val=""/>
  <dgm:desc val=""/>
  <dgm:catLst>
    <dgm:cat type="accent3" pri="11100"/>
  </dgm:catLst>
  <dgm:styleLbl name="node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3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3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4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3">
        <a:alpha val="4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8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2_1">
  <dgm:title val=""/>
  <dgm:desc val=""/>
  <dgm:catLst>
    <dgm:cat type="accent2" pri="11100"/>
  </dgm:catLst>
  <dgm:styleLbl name="node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3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4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2">
        <a:alpha val="4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8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3_1">
  <dgm:title val=""/>
  <dgm:desc val=""/>
  <dgm:catLst>
    <dgm:cat type="accent3" pri="11100"/>
  </dgm:catLst>
  <dgm:styleLbl name="node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3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3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4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3">
        <a:alpha val="4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8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2_1">
  <dgm:title val=""/>
  <dgm:desc val=""/>
  <dgm:catLst>
    <dgm:cat type="accent2" pri="11100"/>
  </dgm:catLst>
  <dgm:styleLbl name="node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3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4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2">
        <a:alpha val="4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8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.xml><?xml version="1.0" encoding="utf-8"?>
<dgm:colorsDef xmlns:dgm="http://schemas.openxmlformats.org/drawingml/2006/diagram" xmlns:a="http://schemas.openxmlformats.org/drawingml/2006/main" uniqueId="urn:microsoft.com/office/officeart/2005/8/colors/accent2_1">
  <dgm:title val=""/>
  <dgm:desc val=""/>
  <dgm:catLst>
    <dgm:cat type="accent2" pri="11100"/>
  </dgm:catLst>
  <dgm:styleLbl name="node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2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2">
        <a:tint val="40000"/>
      </a:schemeClr>
    </dgm:fillClrLst>
    <dgm:linClrLst meth="repeat">
      <a:schemeClr val="accent2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2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3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parChTrans2D4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2">
        <a:alpha val="4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2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2">
        <a:alpha val="90000"/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8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CBC35105-786F-49FC-914A-A0304F9C5492}" type="doc">
      <dgm:prSet loTypeId="urn:microsoft.com/office/officeart/2005/8/layout/pyramid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2BAC1A87-C0C5-4460-ADC7-7E234639FFEE}">
      <dgm:prSet custT="1"/>
      <dgm:spPr/>
      <dgm:t>
        <a:bodyPr/>
        <a:lstStyle/>
        <a:p>
          <a:pPr rtl="0"/>
          <a:r>
            <a:rPr lang="uk-UA" sz="2400" b="1" i="1" dirty="0" smtClean="0"/>
            <a:t>Торгівля - </a:t>
          </a:r>
          <a:r>
            <a:rPr lang="uk-UA" sz="2400" b="1" dirty="0" smtClean="0"/>
            <a:t>(від лат. </a:t>
          </a:r>
          <a:r>
            <a:rPr lang="en-US" sz="2400" b="1" dirty="0" err="1" smtClean="0"/>
            <a:t>comercium</a:t>
          </a:r>
          <a:r>
            <a:rPr lang="uk-UA" sz="2400" b="1" dirty="0" smtClean="0"/>
            <a:t>) - </a:t>
          </a:r>
          <a:r>
            <a:rPr lang="uk-UA" sz="2400" dirty="0" smtClean="0"/>
            <a:t>це та галузь бізнесової діяльності, за якої дохід і прибуток створюються не в результаті виробничої, а посередницької діяльності, тобто в результаті різниці в цінах: між ціною, яку отримує виробник, та ціною, яку платить споживач.</a:t>
          </a:r>
          <a:endParaRPr lang="ru-RU" sz="2400" dirty="0"/>
        </a:p>
      </dgm:t>
    </dgm:pt>
    <dgm:pt modelId="{87CA709B-0C9A-4FA9-B8F8-74B8FBDF0A49}" type="parTrans" cxnId="{F7903EC4-B352-45A6-AD3D-AE28E091741C}">
      <dgm:prSet/>
      <dgm:spPr/>
      <dgm:t>
        <a:bodyPr/>
        <a:lstStyle/>
        <a:p>
          <a:endParaRPr lang="ru-RU"/>
        </a:p>
      </dgm:t>
    </dgm:pt>
    <dgm:pt modelId="{F45AE8BD-2293-48DB-B322-908C3402FB6C}" type="sibTrans" cxnId="{F7903EC4-B352-45A6-AD3D-AE28E091741C}">
      <dgm:prSet/>
      <dgm:spPr/>
      <dgm:t>
        <a:bodyPr/>
        <a:lstStyle/>
        <a:p>
          <a:endParaRPr lang="ru-RU"/>
        </a:p>
      </dgm:t>
    </dgm:pt>
    <dgm:pt modelId="{3D821B38-5884-47F0-839B-B876435ADBF7}" type="pres">
      <dgm:prSet presAssocID="{CBC35105-786F-49FC-914A-A0304F9C5492}" presName="compositeShape" presStyleCnt="0">
        <dgm:presLayoutVars>
          <dgm:dir/>
          <dgm:resizeHandles/>
        </dgm:presLayoutVars>
      </dgm:prSet>
      <dgm:spPr/>
      <dgm:t>
        <a:bodyPr/>
        <a:lstStyle/>
        <a:p>
          <a:endParaRPr lang="ru-RU"/>
        </a:p>
      </dgm:t>
    </dgm:pt>
    <dgm:pt modelId="{E79443C5-86DA-4BCD-9129-94796AAC6910}" type="pres">
      <dgm:prSet presAssocID="{CBC35105-786F-49FC-914A-A0304F9C5492}" presName="pyramid" presStyleLbl="node1" presStyleIdx="0" presStyleCnt="1"/>
      <dgm:spPr/>
    </dgm:pt>
    <dgm:pt modelId="{78806A49-A0D8-4D83-9276-0C956B002E08}" type="pres">
      <dgm:prSet presAssocID="{CBC35105-786F-49FC-914A-A0304F9C5492}" presName="theList" presStyleCnt="0"/>
      <dgm:spPr/>
    </dgm:pt>
    <dgm:pt modelId="{C9E3E549-DDF7-4444-87C7-ED13C27955F4}" type="pres">
      <dgm:prSet presAssocID="{2BAC1A87-C0C5-4460-ADC7-7E234639FFEE}" presName="aNode" presStyleLbl="fgAcc1" presStyleIdx="0" presStyleCnt="1" custScaleX="12430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63207C2-8234-4F19-B2BC-7E8CF19DC75D}" type="pres">
      <dgm:prSet presAssocID="{2BAC1A87-C0C5-4460-ADC7-7E234639FFEE}" presName="aSpace" presStyleCnt="0"/>
      <dgm:spPr/>
    </dgm:pt>
  </dgm:ptLst>
  <dgm:cxnLst>
    <dgm:cxn modelId="{7B4694C7-E4EB-484A-85E6-89400E81FFD7}" type="presOf" srcId="{2BAC1A87-C0C5-4460-ADC7-7E234639FFEE}" destId="{C9E3E549-DDF7-4444-87C7-ED13C27955F4}" srcOrd="0" destOrd="0" presId="urn:microsoft.com/office/officeart/2005/8/layout/pyramid2"/>
    <dgm:cxn modelId="{F7903EC4-B352-45A6-AD3D-AE28E091741C}" srcId="{CBC35105-786F-49FC-914A-A0304F9C5492}" destId="{2BAC1A87-C0C5-4460-ADC7-7E234639FFEE}" srcOrd="0" destOrd="0" parTransId="{87CA709B-0C9A-4FA9-B8F8-74B8FBDF0A49}" sibTransId="{F45AE8BD-2293-48DB-B322-908C3402FB6C}"/>
    <dgm:cxn modelId="{74BAB606-8482-4928-8A38-1FA29E12A606}" type="presOf" srcId="{CBC35105-786F-49FC-914A-A0304F9C5492}" destId="{3D821B38-5884-47F0-839B-B876435ADBF7}" srcOrd="0" destOrd="0" presId="urn:microsoft.com/office/officeart/2005/8/layout/pyramid2"/>
    <dgm:cxn modelId="{497175A8-9C99-46C0-898D-C1C51C6C113D}" type="presParOf" srcId="{3D821B38-5884-47F0-839B-B876435ADBF7}" destId="{E79443C5-86DA-4BCD-9129-94796AAC6910}" srcOrd="0" destOrd="0" presId="urn:microsoft.com/office/officeart/2005/8/layout/pyramid2"/>
    <dgm:cxn modelId="{AFB4D495-951F-4092-A2E0-437253AEDD53}" type="presParOf" srcId="{3D821B38-5884-47F0-839B-B876435ADBF7}" destId="{78806A49-A0D8-4D83-9276-0C956B002E08}" srcOrd="1" destOrd="0" presId="urn:microsoft.com/office/officeart/2005/8/layout/pyramid2"/>
    <dgm:cxn modelId="{ABA154C6-30A7-4B35-8647-52D9D140E726}" type="presParOf" srcId="{78806A49-A0D8-4D83-9276-0C956B002E08}" destId="{C9E3E549-DDF7-4444-87C7-ED13C27955F4}" srcOrd="0" destOrd="0" presId="urn:microsoft.com/office/officeart/2005/8/layout/pyramid2"/>
    <dgm:cxn modelId="{A3DA3ABD-1240-4BF6-BD60-F619BA716C78}" type="presParOf" srcId="{78806A49-A0D8-4D83-9276-0C956B002E08}" destId="{B63207C2-8234-4F19-B2BC-7E8CF19DC75D}" srcOrd="1" destOrd="0" presId="urn:microsoft.com/office/officeart/2005/8/layout/pyramid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0.xml><?xml version="1.0" encoding="utf-8"?>
<dgm:dataModel xmlns:dgm="http://schemas.openxmlformats.org/drawingml/2006/diagram" xmlns:a="http://schemas.openxmlformats.org/drawingml/2006/main">
  <dgm:ptLst>
    <dgm:pt modelId="{A3877195-46EA-49F4-B182-89BB870533A9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/>
      <dgm:spPr/>
      <dgm:t>
        <a:bodyPr/>
        <a:lstStyle/>
        <a:p>
          <a:endParaRPr lang="ru-RU"/>
        </a:p>
      </dgm:t>
    </dgm:pt>
    <dgm:pt modelId="{0F8CBE75-94DB-46C6-8263-72397F2E730B}">
      <dgm:prSet/>
      <dgm:spPr/>
      <dgm:t>
        <a:bodyPr/>
        <a:lstStyle/>
        <a:p>
          <a:pPr rtl="0"/>
          <a:r>
            <a:rPr lang="ru-RU" dirty="0" err="1" smtClean="0">
              <a:solidFill>
                <a:schemeClr val="tx1"/>
              </a:solidFill>
            </a:rPr>
            <a:t>інвестиційне</a:t>
          </a:r>
          <a:r>
            <a:rPr lang="ru-RU" dirty="0" smtClean="0">
              <a:solidFill>
                <a:schemeClr val="tx1"/>
              </a:solidFill>
            </a:rPr>
            <a:t> </a:t>
          </a:r>
          <a:r>
            <a:rPr lang="ru-RU" dirty="0" err="1" smtClean="0">
              <a:solidFill>
                <a:schemeClr val="tx1"/>
              </a:solidFill>
            </a:rPr>
            <a:t>забезпечення</a:t>
          </a:r>
          <a:r>
            <a:rPr lang="ru-RU" dirty="0" smtClean="0">
              <a:solidFill>
                <a:schemeClr val="tx1"/>
              </a:solidFill>
            </a:rPr>
            <a:t> </a:t>
          </a:r>
          <a:r>
            <a:rPr lang="ru-RU" dirty="0" err="1" smtClean="0">
              <a:solidFill>
                <a:schemeClr val="tx1"/>
              </a:solidFill>
            </a:rPr>
            <a:t>процесу</a:t>
          </a:r>
          <a:r>
            <a:rPr lang="ru-RU" dirty="0" smtClean="0">
              <a:solidFill>
                <a:schemeClr val="tx1"/>
              </a:solidFill>
            </a:rPr>
            <a:t> </a:t>
          </a:r>
          <a:r>
            <a:rPr lang="ru-RU" dirty="0" err="1" smtClean="0">
              <a:solidFill>
                <a:schemeClr val="tx1"/>
              </a:solidFill>
            </a:rPr>
            <a:t>переміщення</a:t>
          </a:r>
          <a:r>
            <a:rPr lang="ru-RU" dirty="0" smtClean="0">
              <a:solidFill>
                <a:schemeClr val="tx1"/>
              </a:solidFill>
            </a:rPr>
            <a:t> товарів;</a:t>
          </a:r>
          <a:endParaRPr lang="ru-RU" dirty="0">
            <a:solidFill>
              <a:schemeClr val="tx1"/>
            </a:solidFill>
          </a:endParaRPr>
        </a:p>
      </dgm:t>
    </dgm:pt>
    <dgm:pt modelId="{35371856-65A6-4145-AC2E-626AF1EA7653}" type="parTrans" cxnId="{3E85220C-C625-459F-A38A-26C51E604356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3176A7B6-5F15-4CC2-8FAD-B1A40CCEB44A}" type="sibTrans" cxnId="{3E85220C-C625-459F-A38A-26C51E604356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C9A4B3AA-0C37-4AD2-8854-4FE8E7BAE49E}">
      <dgm:prSet/>
      <dgm:spPr/>
      <dgm:t>
        <a:bodyPr/>
        <a:lstStyle/>
        <a:p>
          <a:pPr rtl="0"/>
          <a:r>
            <a:rPr lang="ru-RU" dirty="0" err="1" smtClean="0">
              <a:solidFill>
                <a:schemeClr val="tx1"/>
              </a:solidFill>
            </a:rPr>
            <a:t>мінімізація</a:t>
          </a:r>
          <a:r>
            <a:rPr lang="ru-RU" dirty="0" smtClean="0">
              <a:solidFill>
                <a:schemeClr val="tx1"/>
              </a:solidFill>
            </a:rPr>
            <a:t> </a:t>
          </a:r>
          <a:r>
            <a:rPr lang="ru-RU" dirty="0" err="1" smtClean="0">
              <a:solidFill>
                <a:schemeClr val="tx1"/>
              </a:solidFill>
            </a:rPr>
            <a:t>комерційного</a:t>
          </a:r>
          <a:r>
            <a:rPr lang="ru-RU" dirty="0" smtClean="0">
              <a:solidFill>
                <a:schemeClr val="tx1"/>
              </a:solidFill>
            </a:rPr>
            <a:t> </a:t>
          </a:r>
          <a:r>
            <a:rPr lang="ru-RU" dirty="0" err="1" smtClean="0">
              <a:solidFill>
                <a:schemeClr val="tx1"/>
              </a:solidFill>
            </a:rPr>
            <a:t>ризику</a:t>
          </a:r>
          <a:r>
            <a:rPr lang="ru-RU" dirty="0" smtClean="0">
              <a:solidFill>
                <a:schemeClr val="tx1"/>
              </a:solidFill>
            </a:rPr>
            <a:t>;</a:t>
          </a:r>
          <a:endParaRPr lang="ru-RU" dirty="0">
            <a:solidFill>
              <a:schemeClr val="tx1"/>
            </a:solidFill>
          </a:endParaRPr>
        </a:p>
      </dgm:t>
    </dgm:pt>
    <dgm:pt modelId="{DF056296-83E3-415F-91F6-3E2556CB8C36}" type="parTrans" cxnId="{79EB2333-2A52-4080-A2BF-35A791B84CC9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58642C47-86CA-4088-AA89-89A411716766}" type="sibTrans" cxnId="{79EB2333-2A52-4080-A2BF-35A791B84CC9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4AC80F6B-E42A-4C20-9DA4-0173F63D9793}">
      <dgm:prSet/>
      <dgm:spPr/>
      <dgm:t>
        <a:bodyPr/>
        <a:lstStyle/>
        <a:p>
          <a:pPr rtl="0"/>
          <a:r>
            <a:rPr lang="ru-RU" dirty="0" err="1" smtClean="0">
              <a:solidFill>
                <a:schemeClr val="tx1"/>
              </a:solidFill>
            </a:rPr>
            <a:t>маркетингове</a:t>
          </a:r>
          <a:r>
            <a:rPr lang="ru-RU" dirty="0" smtClean="0">
              <a:solidFill>
                <a:schemeClr val="tx1"/>
              </a:solidFill>
            </a:rPr>
            <a:t> </a:t>
          </a:r>
          <a:r>
            <a:rPr lang="ru-RU" dirty="0" err="1" smtClean="0">
              <a:solidFill>
                <a:schemeClr val="tx1"/>
              </a:solidFill>
            </a:rPr>
            <a:t>обслуговування</a:t>
          </a:r>
          <a:r>
            <a:rPr lang="ru-RU" dirty="0" smtClean="0">
              <a:solidFill>
                <a:schemeClr val="tx1"/>
              </a:solidFill>
            </a:rPr>
            <a:t>.</a:t>
          </a:r>
          <a:endParaRPr lang="ru-RU" dirty="0">
            <a:solidFill>
              <a:schemeClr val="tx1"/>
            </a:solidFill>
          </a:endParaRPr>
        </a:p>
      </dgm:t>
    </dgm:pt>
    <dgm:pt modelId="{3F2DE1F0-2A14-4D98-BA85-4D506DBD5866}" type="parTrans" cxnId="{70ED392D-1B90-4C74-9ACE-9916C9360F0D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D45316DA-6222-4D93-9F16-71B0E3942848}" type="sibTrans" cxnId="{70ED392D-1B90-4C74-9ACE-9916C9360F0D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16D3CA13-5049-4B6A-AB3D-919CF18AE515}" type="pres">
      <dgm:prSet presAssocID="{A3877195-46EA-49F4-B182-89BB870533A9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0828F83D-D1DF-47DE-BA36-84B6A5BC15FC}" type="pres">
      <dgm:prSet presAssocID="{0F8CBE75-94DB-46C6-8263-72397F2E730B}" presName="parentLin" presStyleCnt="0"/>
      <dgm:spPr/>
    </dgm:pt>
    <dgm:pt modelId="{FB82FCCF-AFF2-42AA-A24B-AE6D7F048306}" type="pres">
      <dgm:prSet presAssocID="{0F8CBE75-94DB-46C6-8263-72397F2E730B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29F6F65A-D698-441E-BE73-CE342963E36F}" type="pres">
      <dgm:prSet presAssocID="{0F8CBE75-94DB-46C6-8263-72397F2E730B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740F2EA-1523-48B2-8870-D9885A297D55}" type="pres">
      <dgm:prSet presAssocID="{0F8CBE75-94DB-46C6-8263-72397F2E730B}" presName="negativeSpace" presStyleCnt="0"/>
      <dgm:spPr/>
    </dgm:pt>
    <dgm:pt modelId="{C0808DB4-CAF0-4E1B-AE1D-7F61707F92BC}" type="pres">
      <dgm:prSet presAssocID="{0F8CBE75-94DB-46C6-8263-72397F2E730B}" presName="childText" presStyleLbl="conFgAcc1" presStyleIdx="0" presStyleCnt="3">
        <dgm:presLayoutVars>
          <dgm:bulletEnabled val="1"/>
        </dgm:presLayoutVars>
      </dgm:prSet>
      <dgm:spPr/>
    </dgm:pt>
    <dgm:pt modelId="{27051A75-3BF1-4634-88B6-C26772E4C541}" type="pres">
      <dgm:prSet presAssocID="{3176A7B6-5F15-4CC2-8FAD-B1A40CCEB44A}" presName="spaceBetweenRectangles" presStyleCnt="0"/>
      <dgm:spPr/>
    </dgm:pt>
    <dgm:pt modelId="{ED77632B-0F87-42AD-B83B-3D6EFFE94F8A}" type="pres">
      <dgm:prSet presAssocID="{C9A4B3AA-0C37-4AD2-8854-4FE8E7BAE49E}" presName="parentLin" presStyleCnt="0"/>
      <dgm:spPr/>
    </dgm:pt>
    <dgm:pt modelId="{55F7D451-EAE6-4EC1-9C5E-BFF3901FAE06}" type="pres">
      <dgm:prSet presAssocID="{C9A4B3AA-0C37-4AD2-8854-4FE8E7BAE49E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5CE30C61-F903-4B3E-8388-F9FCD2BA2BEC}" type="pres">
      <dgm:prSet presAssocID="{C9A4B3AA-0C37-4AD2-8854-4FE8E7BAE49E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AEADC14-7056-4E6E-8936-D79A12A43C2E}" type="pres">
      <dgm:prSet presAssocID="{C9A4B3AA-0C37-4AD2-8854-4FE8E7BAE49E}" presName="negativeSpace" presStyleCnt="0"/>
      <dgm:spPr/>
    </dgm:pt>
    <dgm:pt modelId="{BA1AAC33-4120-494B-939C-CA3AA2F9E91A}" type="pres">
      <dgm:prSet presAssocID="{C9A4B3AA-0C37-4AD2-8854-4FE8E7BAE49E}" presName="childText" presStyleLbl="conFgAcc1" presStyleIdx="1" presStyleCnt="3">
        <dgm:presLayoutVars>
          <dgm:bulletEnabled val="1"/>
        </dgm:presLayoutVars>
      </dgm:prSet>
      <dgm:spPr/>
    </dgm:pt>
    <dgm:pt modelId="{1F610F75-FEE5-4DC2-AD08-51AE81F295B3}" type="pres">
      <dgm:prSet presAssocID="{58642C47-86CA-4088-AA89-89A411716766}" presName="spaceBetweenRectangles" presStyleCnt="0"/>
      <dgm:spPr/>
    </dgm:pt>
    <dgm:pt modelId="{753D38E2-0156-4284-B2C4-2D7A1E54CF57}" type="pres">
      <dgm:prSet presAssocID="{4AC80F6B-E42A-4C20-9DA4-0173F63D9793}" presName="parentLin" presStyleCnt="0"/>
      <dgm:spPr/>
    </dgm:pt>
    <dgm:pt modelId="{6B64226F-205E-4B8C-8D34-B210148DCB92}" type="pres">
      <dgm:prSet presAssocID="{4AC80F6B-E42A-4C20-9DA4-0173F63D9793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D375D9ED-C218-4D21-B7B0-7A84CCEB5475}" type="pres">
      <dgm:prSet presAssocID="{4AC80F6B-E42A-4C20-9DA4-0173F63D9793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89CA3DE-4ACA-4378-9978-33A0762D57D2}" type="pres">
      <dgm:prSet presAssocID="{4AC80F6B-E42A-4C20-9DA4-0173F63D9793}" presName="negativeSpace" presStyleCnt="0"/>
      <dgm:spPr/>
    </dgm:pt>
    <dgm:pt modelId="{11220C93-9D9A-4F06-AFF3-C13D33D78CBE}" type="pres">
      <dgm:prSet presAssocID="{4AC80F6B-E42A-4C20-9DA4-0173F63D9793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B6BFEFC4-47CE-4E18-A5BF-3B312BAC0B75}" type="presOf" srcId="{4AC80F6B-E42A-4C20-9DA4-0173F63D9793}" destId="{6B64226F-205E-4B8C-8D34-B210148DCB92}" srcOrd="0" destOrd="0" presId="urn:microsoft.com/office/officeart/2005/8/layout/list1"/>
    <dgm:cxn modelId="{648982D2-DFF2-4672-AE6D-1021130C6F0C}" type="presOf" srcId="{A3877195-46EA-49F4-B182-89BB870533A9}" destId="{16D3CA13-5049-4B6A-AB3D-919CF18AE515}" srcOrd="0" destOrd="0" presId="urn:microsoft.com/office/officeart/2005/8/layout/list1"/>
    <dgm:cxn modelId="{9313891D-EA7A-4EA3-8CDE-D79308145119}" type="presOf" srcId="{4AC80F6B-E42A-4C20-9DA4-0173F63D9793}" destId="{D375D9ED-C218-4D21-B7B0-7A84CCEB5475}" srcOrd="1" destOrd="0" presId="urn:microsoft.com/office/officeart/2005/8/layout/list1"/>
    <dgm:cxn modelId="{75B664CA-9556-4A79-8B96-E9EF8280C44A}" type="presOf" srcId="{C9A4B3AA-0C37-4AD2-8854-4FE8E7BAE49E}" destId="{5CE30C61-F903-4B3E-8388-F9FCD2BA2BEC}" srcOrd="1" destOrd="0" presId="urn:microsoft.com/office/officeart/2005/8/layout/list1"/>
    <dgm:cxn modelId="{8F3AE209-1DFC-479A-9E2B-F598BB91ED4F}" type="presOf" srcId="{0F8CBE75-94DB-46C6-8263-72397F2E730B}" destId="{29F6F65A-D698-441E-BE73-CE342963E36F}" srcOrd="1" destOrd="0" presId="urn:microsoft.com/office/officeart/2005/8/layout/list1"/>
    <dgm:cxn modelId="{F4074240-8B91-423E-B4F7-34268DC01C6B}" type="presOf" srcId="{0F8CBE75-94DB-46C6-8263-72397F2E730B}" destId="{FB82FCCF-AFF2-42AA-A24B-AE6D7F048306}" srcOrd="0" destOrd="0" presId="urn:microsoft.com/office/officeart/2005/8/layout/list1"/>
    <dgm:cxn modelId="{70ED392D-1B90-4C74-9ACE-9916C9360F0D}" srcId="{A3877195-46EA-49F4-B182-89BB870533A9}" destId="{4AC80F6B-E42A-4C20-9DA4-0173F63D9793}" srcOrd="2" destOrd="0" parTransId="{3F2DE1F0-2A14-4D98-BA85-4D506DBD5866}" sibTransId="{D45316DA-6222-4D93-9F16-71B0E3942848}"/>
    <dgm:cxn modelId="{3E85220C-C625-459F-A38A-26C51E604356}" srcId="{A3877195-46EA-49F4-B182-89BB870533A9}" destId="{0F8CBE75-94DB-46C6-8263-72397F2E730B}" srcOrd="0" destOrd="0" parTransId="{35371856-65A6-4145-AC2E-626AF1EA7653}" sibTransId="{3176A7B6-5F15-4CC2-8FAD-B1A40CCEB44A}"/>
    <dgm:cxn modelId="{79EB2333-2A52-4080-A2BF-35A791B84CC9}" srcId="{A3877195-46EA-49F4-B182-89BB870533A9}" destId="{C9A4B3AA-0C37-4AD2-8854-4FE8E7BAE49E}" srcOrd="1" destOrd="0" parTransId="{DF056296-83E3-415F-91F6-3E2556CB8C36}" sibTransId="{58642C47-86CA-4088-AA89-89A411716766}"/>
    <dgm:cxn modelId="{035E95EA-DFE8-49E1-B811-8F3A0FB59403}" type="presOf" srcId="{C9A4B3AA-0C37-4AD2-8854-4FE8E7BAE49E}" destId="{55F7D451-EAE6-4EC1-9C5E-BFF3901FAE06}" srcOrd="0" destOrd="0" presId="urn:microsoft.com/office/officeart/2005/8/layout/list1"/>
    <dgm:cxn modelId="{A4EE6FCB-7893-486D-963D-DF63BD1D9E64}" type="presParOf" srcId="{16D3CA13-5049-4B6A-AB3D-919CF18AE515}" destId="{0828F83D-D1DF-47DE-BA36-84B6A5BC15FC}" srcOrd="0" destOrd="0" presId="urn:microsoft.com/office/officeart/2005/8/layout/list1"/>
    <dgm:cxn modelId="{0619B9E7-C905-4ABE-A14B-63A04B1A812F}" type="presParOf" srcId="{0828F83D-D1DF-47DE-BA36-84B6A5BC15FC}" destId="{FB82FCCF-AFF2-42AA-A24B-AE6D7F048306}" srcOrd="0" destOrd="0" presId="urn:microsoft.com/office/officeart/2005/8/layout/list1"/>
    <dgm:cxn modelId="{8736555F-883D-4FF8-A432-4C6E5D6FB278}" type="presParOf" srcId="{0828F83D-D1DF-47DE-BA36-84B6A5BC15FC}" destId="{29F6F65A-D698-441E-BE73-CE342963E36F}" srcOrd="1" destOrd="0" presId="urn:microsoft.com/office/officeart/2005/8/layout/list1"/>
    <dgm:cxn modelId="{E74663EC-5BE1-46BA-818B-E2C6AA42B7FA}" type="presParOf" srcId="{16D3CA13-5049-4B6A-AB3D-919CF18AE515}" destId="{1740F2EA-1523-48B2-8870-D9885A297D55}" srcOrd="1" destOrd="0" presId="urn:microsoft.com/office/officeart/2005/8/layout/list1"/>
    <dgm:cxn modelId="{6C036818-82A2-4BCD-9F28-A0626B0E916C}" type="presParOf" srcId="{16D3CA13-5049-4B6A-AB3D-919CF18AE515}" destId="{C0808DB4-CAF0-4E1B-AE1D-7F61707F92BC}" srcOrd="2" destOrd="0" presId="urn:microsoft.com/office/officeart/2005/8/layout/list1"/>
    <dgm:cxn modelId="{447183BF-9665-4B7B-94C1-7924ABC17E63}" type="presParOf" srcId="{16D3CA13-5049-4B6A-AB3D-919CF18AE515}" destId="{27051A75-3BF1-4634-88B6-C26772E4C541}" srcOrd="3" destOrd="0" presId="urn:microsoft.com/office/officeart/2005/8/layout/list1"/>
    <dgm:cxn modelId="{1E6217C3-16DE-40F6-9C4A-46D455EE2BE8}" type="presParOf" srcId="{16D3CA13-5049-4B6A-AB3D-919CF18AE515}" destId="{ED77632B-0F87-42AD-B83B-3D6EFFE94F8A}" srcOrd="4" destOrd="0" presId="urn:microsoft.com/office/officeart/2005/8/layout/list1"/>
    <dgm:cxn modelId="{84E72744-FE4C-473D-9A38-62A30F698A0E}" type="presParOf" srcId="{ED77632B-0F87-42AD-B83B-3D6EFFE94F8A}" destId="{55F7D451-EAE6-4EC1-9C5E-BFF3901FAE06}" srcOrd="0" destOrd="0" presId="urn:microsoft.com/office/officeart/2005/8/layout/list1"/>
    <dgm:cxn modelId="{D10FA0E9-F305-4298-A125-F4407AD5E4A8}" type="presParOf" srcId="{ED77632B-0F87-42AD-B83B-3D6EFFE94F8A}" destId="{5CE30C61-F903-4B3E-8388-F9FCD2BA2BEC}" srcOrd="1" destOrd="0" presId="urn:microsoft.com/office/officeart/2005/8/layout/list1"/>
    <dgm:cxn modelId="{6F5F9F31-FBD2-4114-AADD-EA25BF12E945}" type="presParOf" srcId="{16D3CA13-5049-4B6A-AB3D-919CF18AE515}" destId="{2AEADC14-7056-4E6E-8936-D79A12A43C2E}" srcOrd="5" destOrd="0" presId="urn:microsoft.com/office/officeart/2005/8/layout/list1"/>
    <dgm:cxn modelId="{DBC55F23-50A2-428C-B9C9-F278B721A9AA}" type="presParOf" srcId="{16D3CA13-5049-4B6A-AB3D-919CF18AE515}" destId="{BA1AAC33-4120-494B-939C-CA3AA2F9E91A}" srcOrd="6" destOrd="0" presId="urn:microsoft.com/office/officeart/2005/8/layout/list1"/>
    <dgm:cxn modelId="{2BC42717-C758-476B-B83E-179921353D91}" type="presParOf" srcId="{16D3CA13-5049-4B6A-AB3D-919CF18AE515}" destId="{1F610F75-FEE5-4DC2-AD08-51AE81F295B3}" srcOrd="7" destOrd="0" presId="urn:microsoft.com/office/officeart/2005/8/layout/list1"/>
    <dgm:cxn modelId="{34C41F38-DB82-478D-8859-D9ED89D24090}" type="presParOf" srcId="{16D3CA13-5049-4B6A-AB3D-919CF18AE515}" destId="{753D38E2-0156-4284-B2C4-2D7A1E54CF57}" srcOrd="8" destOrd="0" presId="urn:microsoft.com/office/officeart/2005/8/layout/list1"/>
    <dgm:cxn modelId="{6E85FF42-3D93-41AD-BDFD-95CD1BBE22A5}" type="presParOf" srcId="{753D38E2-0156-4284-B2C4-2D7A1E54CF57}" destId="{6B64226F-205E-4B8C-8D34-B210148DCB92}" srcOrd="0" destOrd="0" presId="urn:microsoft.com/office/officeart/2005/8/layout/list1"/>
    <dgm:cxn modelId="{76FFC458-D5EF-42B4-9444-51510FE90F98}" type="presParOf" srcId="{753D38E2-0156-4284-B2C4-2D7A1E54CF57}" destId="{D375D9ED-C218-4D21-B7B0-7A84CCEB5475}" srcOrd="1" destOrd="0" presId="urn:microsoft.com/office/officeart/2005/8/layout/list1"/>
    <dgm:cxn modelId="{D7DD32ED-AF48-419B-B487-081A2C12A2E5}" type="presParOf" srcId="{16D3CA13-5049-4B6A-AB3D-919CF18AE515}" destId="{D89CA3DE-4ACA-4378-9978-33A0762D57D2}" srcOrd="9" destOrd="0" presId="urn:microsoft.com/office/officeart/2005/8/layout/list1"/>
    <dgm:cxn modelId="{F1507BEB-72A8-4A35-B028-AFC67DA3C41B}" type="presParOf" srcId="{16D3CA13-5049-4B6A-AB3D-919CF18AE515}" destId="{11220C93-9D9A-4F06-AFF3-C13D33D78CBE}" srcOrd="10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1.xml><?xml version="1.0" encoding="utf-8"?>
<dgm:dataModel xmlns:dgm="http://schemas.openxmlformats.org/drawingml/2006/diagram" xmlns:a="http://schemas.openxmlformats.org/drawingml/2006/main">
  <dgm:ptLst>
    <dgm:pt modelId="{ADD9E002-4DB3-49E5-9BCE-A01D14879951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281C2CD4-AAD5-45D5-BA8F-F6F67280B306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Нарощування обсягів виробництва вітчизняних виробників, постачання імпортної продукції</a:t>
          </a:r>
          <a:endParaRPr lang="ru-RU" dirty="0">
            <a:solidFill>
              <a:schemeClr val="tx1"/>
            </a:solidFill>
          </a:endParaRPr>
        </a:p>
      </dgm:t>
    </dgm:pt>
    <dgm:pt modelId="{01816478-663B-4DB6-8149-524106B901F6}" type="parTrans" cxnId="{927EF521-F8CC-4994-BA0A-58DD94460390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E74EA12F-26DB-4D57-8115-E38FAD67B5E4}" type="sibTrans" cxnId="{927EF521-F8CC-4994-BA0A-58DD94460390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F1BB6C59-A9B5-4442-A815-24587D890830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Збільшення дрібних роздрібних торговців, які потребують регулярного постачання малими партіями</a:t>
          </a:r>
          <a:endParaRPr lang="ru-RU" dirty="0">
            <a:solidFill>
              <a:schemeClr val="tx1"/>
            </a:solidFill>
          </a:endParaRPr>
        </a:p>
      </dgm:t>
    </dgm:pt>
    <dgm:pt modelId="{04617611-1ED8-4C2C-A1DF-099AB93CF2E3}" type="parTrans" cxnId="{53542261-083D-446B-8883-B17035D3700B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03A455B3-CA14-4D21-8EF4-DE50E658AA6D}" type="sibTrans" cxnId="{53542261-083D-446B-8883-B17035D3700B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925E5BC8-9648-4286-92A5-3E9782A3BC3B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Розширення асортименту продукції та його оновлення</a:t>
          </a:r>
          <a:endParaRPr lang="ru-RU" dirty="0">
            <a:solidFill>
              <a:schemeClr val="tx1"/>
            </a:solidFill>
          </a:endParaRPr>
        </a:p>
      </dgm:t>
    </dgm:pt>
    <dgm:pt modelId="{13327026-E0ED-4869-8003-4F4C61FFE43E}" type="parTrans" cxnId="{D82F3786-5F8B-40AD-BBC2-4E2B76449BF9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552EAF58-9190-43C1-87E5-CC363B108AFB}" type="sibTrans" cxnId="{D82F3786-5F8B-40AD-BBC2-4E2B76449BF9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BF7F377A-3F5D-4981-B718-D613AA9AB7E5}" type="pres">
      <dgm:prSet presAssocID="{ADD9E002-4DB3-49E5-9BCE-A01D14879951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D071791-1773-4DF0-A8D8-BA3C0924CCA4}" type="pres">
      <dgm:prSet presAssocID="{281C2CD4-AAD5-45D5-BA8F-F6F67280B306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63B8D59-33F1-4EB5-ABC8-B24CEC074FF2}" type="pres">
      <dgm:prSet presAssocID="{E74EA12F-26DB-4D57-8115-E38FAD67B5E4}" presName="spacer" presStyleCnt="0"/>
      <dgm:spPr/>
    </dgm:pt>
    <dgm:pt modelId="{66EC0285-5EB0-4DC0-A99C-1923CF6BB98C}" type="pres">
      <dgm:prSet presAssocID="{F1BB6C59-A9B5-4442-A815-24587D890830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A3B666D-B69D-42D1-AFF4-1B1497B31658}" type="pres">
      <dgm:prSet presAssocID="{03A455B3-CA14-4D21-8EF4-DE50E658AA6D}" presName="spacer" presStyleCnt="0"/>
      <dgm:spPr/>
    </dgm:pt>
    <dgm:pt modelId="{10D27F98-3B07-41EF-B094-6354C0BD3BAD}" type="pres">
      <dgm:prSet presAssocID="{925E5BC8-9648-4286-92A5-3E9782A3BC3B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927EF521-F8CC-4994-BA0A-58DD94460390}" srcId="{ADD9E002-4DB3-49E5-9BCE-A01D14879951}" destId="{281C2CD4-AAD5-45D5-BA8F-F6F67280B306}" srcOrd="0" destOrd="0" parTransId="{01816478-663B-4DB6-8149-524106B901F6}" sibTransId="{E74EA12F-26DB-4D57-8115-E38FAD67B5E4}"/>
    <dgm:cxn modelId="{C4BF8EB6-DBBE-4C04-ABCE-23E3D1156C00}" type="presOf" srcId="{F1BB6C59-A9B5-4442-A815-24587D890830}" destId="{66EC0285-5EB0-4DC0-A99C-1923CF6BB98C}" srcOrd="0" destOrd="0" presId="urn:microsoft.com/office/officeart/2005/8/layout/vList2"/>
    <dgm:cxn modelId="{F70D1F32-216B-4691-96AB-8BA237DDCDE7}" type="presOf" srcId="{281C2CD4-AAD5-45D5-BA8F-F6F67280B306}" destId="{BD071791-1773-4DF0-A8D8-BA3C0924CCA4}" srcOrd="0" destOrd="0" presId="urn:microsoft.com/office/officeart/2005/8/layout/vList2"/>
    <dgm:cxn modelId="{1D5703D0-2B64-4EFB-8078-5495C0419A7E}" type="presOf" srcId="{ADD9E002-4DB3-49E5-9BCE-A01D14879951}" destId="{BF7F377A-3F5D-4981-B718-D613AA9AB7E5}" srcOrd="0" destOrd="0" presId="urn:microsoft.com/office/officeart/2005/8/layout/vList2"/>
    <dgm:cxn modelId="{F0E4DABD-359D-4F6E-A9D7-A36CA6E42A6E}" type="presOf" srcId="{925E5BC8-9648-4286-92A5-3E9782A3BC3B}" destId="{10D27F98-3B07-41EF-B094-6354C0BD3BAD}" srcOrd="0" destOrd="0" presId="urn:microsoft.com/office/officeart/2005/8/layout/vList2"/>
    <dgm:cxn modelId="{53542261-083D-446B-8883-B17035D3700B}" srcId="{ADD9E002-4DB3-49E5-9BCE-A01D14879951}" destId="{F1BB6C59-A9B5-4442-A815-24587D890830}" srcOrd="1" destOrd="0" parTransId="{04617611-1ED8-4C2C-A1DF-099AB93CF2E3}" sibTransId="{03A455B3-CA14-4D21-8EF4-DE50E658AA6D}"/>
    <dgm:cxn modelId="{D82F3786-5F8B-40AD-BBC2-4E2B76449BF9}" srcId="{ADD9E002-4DB3-49E5-9BCE-A01D14879951}" destId="{925E5BC8-9648-4286-92A5-3E9782A3BC3B}" srcOrd="2" destOrd="0" parTransId="{13327026-E0ED-4869-8003-4F4C61FFE43E}" sibTransId="{552EAF58-9190-43C1-87E5-CC363B108AFB}"/>
    <dgm:cxn modelId="{FE0CEDF7-B29C-4976-8399-4B6C4195E23B}" type="presParOf" srcId="{BF7F377A-3F5D-4981-B718-D613AA9AB7E5}" destId="{BD071791-1773-4DF0-A8D8-BA3C0924CCA4}" srcOrd="0" destOrd="0" presId="urn:microsoft.com/office/officeart/2005/8/layout/vList2"/>
    <dgm:cxn modelId="{D6037A0D-4D30-47CA-8469-34648A35D69C}" type="presParOf" srcId="{BF7F377A-3F5D-4981-B718-D613AA9AB7E5}" destId="{B63B8D59-33F1-4EB5-ABC8-B24CEC074FF2}" srcOrd="1" destOrd="0" presId="urn:microsoft.com/office/officeart/2005/8/layout/vList2"/>
    <dgm:cxn modelId="{CBE8C217-95C0-4026-B6ED-3D723BC2FBD4}" type="presParOf" srcId="{BF7F377A-3F5D-4981-B718-D613AA9AB7E5}" destId="{66EC0285-5EB0-4DC0-A99C-1923CF6BB98C}" srcOrd="2" destOrd="0" presId="urn:microsoft.com/office/officeart/2005/8/layout/vList2"/>
    <dgm:cxn modelId="{C626D945-225D-4955-BC04-DFD5147782B8}" type="presParOf" srcId="{BF7F377A-3F5D-4981-B718-D613AA9AB7E5}" destId="{CA3B666D-B69D-42D1-AFF4-1B1497B31658}" srcOrd="3" destOrd="0" presId="urn:microsoft.com/office/officeart/2005/8/layout/vList2"/>
    <dgm:cxn modelId="{A8BAC7B1-C067-475A-A7B8-65153AB7A412}" type="presParOf" srcId="{BF7F377A-3F5D-4981-B718-D613AA9AB7E5}" destId="{10D27F98-3B07-41EF-B094-6354C0BD3BAD}" srcOrd="4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2.xml><?xml version="1.0" encoding="utf-8"?>
<dgm:dataModel xmlns:dgm="http://schemas.openxmlformats.org/drawingml/2006/diagram" xmlns:a="http://schemas.openxmlformats.org/drawingml/2006/main">
  <dgm:ptLst>
    <dgm:pt modelId="{0DEA5E1B-9DB0-4A97-B26C-58936A203282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/>
      <dgm:spPr/>
      <dgm:t>
        <a:bodyPr/>
        <a:lstStyle/>
        <a:p>
          <a:endParaRPr lang="ru-RU"/>
        </a:p>
      </dgm:t>
    </dgm:pt>
    <dgm:pt modelId="{60DC776C-1D09-4F12-BEF6-3E4B8C5F4C1C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Збільшення кількості підприємств, які займаються виробництвом товарів народного споживання</a:t>
          </a:r>
          <a:endParaRPr lang="ru-RU" dirty="0">
            <a:solidFill>
              <a:schemeClr val="tx1"/>
            </a:solidFill>
          </a:endParaRPr>
        </a:p>
      </dgm:t>
    </dgm:pt>
    <dgm:pt modelId="{12D9066A-ABAB-40D5-AE63-741AECD7AE27}" type="parTrans" cxnId="{60A0AEBF-8923-44C0-B048-C10A8948770E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74236508-7DA3-4667-8007-5CED72EFF896}" type="sibTrans" cxnId="{60A0AEBF-8923-44C0-B048-C10A8948770E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DF7BB9DB-D8D1-4459-B768-016C6D2A9EF5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Наявність оптових, дрібнооптових та роздрібних підприємств, віддалених  від місць виробництва</a:t>
          </a:r>
          <a:endParaRPr lang="ru-RU" dirty="0">
            <a:solidFill>
              <a:schemeClr val="tx1"/>
            </a:solidFill>
          </a:endParaRPr>
        </a:p>
      </dgm:t>
    </dgm:pt>
    <dgm:pt modelId="{2F21E38C-F7FC-431A-BC17-8B3481291AC5}" type="parTrans" cxnId="{55329FF3-CABE-48DF-9D48-F971A28A2FF4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B04066B0-3C41-4D2E-BB04-CB452233CA60}" type="sibTrans" cxnId="{55329FF3-CABE-48DF-9D48-F971A28A2FF4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C9F4E239-E838-4AC6-999A-E2DFB27E9F81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Розвиток міжнародної торгівлі</a:t>
          </a:r>
          <a:endParaRPr lang="ru-RU" dirty="0">
            <a:solidFill>
              <a:schemeClr val="tx1"/>
            </a:solidFill>
          </a:endParaRPr>
        </a:p>
      </dgm:t>
    </dgm:pt>
    <dgm:pt modelId="{EB367F2F-5721-4D05-84E5-0FABC8F9D020}" type="parTrans" cxnId="{27AC8BE5-2DC2-46CF-A67C-701B5F8D74B0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0489FFB1-5802-4163-A985-C448164ADB87}" type="sibTrans" cxnId="{27AC8BE5-2DC2-46CF-A67C-701B5F8D74B0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64DB2E34-D3C2-4D38-A6AE-F5BEE70C83A4}" type="pres">
      <dgm:prSet presAssocID="{0DEA5E1B-9DB0-4A97-B26C-58936A203282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5D9FA2C-3A4C-4E91-AF42-4896708175DA}" type="pres">
      <dgm:prSet presAssocID="{60DC776C-1D09-4F12-BEF6-3E4B8C5F4C1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8B7ABFE-BB58-4DE0-B3DC-8D9ACBADEE08}" type="pres">
      <dgm:prSet presAssocID="{74236508-7DA3-4667-8007-5CED72EFF896}" presName="spacer" presStyleCnt="0"/>
      <dgm:spPr/>
    </dgm:pt>
    <dgm:pt modelId="{C43D6478-F2A1-4EDC-934C-036789DB55ED}" type="pres">
      <dgm:prSet presAssocID="{DF7BB9DB-D8D1-4459-B768-016C6D2A9EF5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3966DAF-2248-4292-BD20-DF0E905B5C8B}" type="pres">
      <dgm:prSet presAssocID="{B04066B0-3C41-4D2E-BB04-CB452233CA60}" presName="spacer" presStyleCnt="0"/>
      <dgm:spPr/>
    </dgm:pt>
    <dgm:pt modelId="{6EC52D9E-4C59-42A7-A998-84F3173079AC}" type="pres">
      <dgm:prSet presAssocID="{C9F4E239-E838-4AC6-999A-E2DFB27E9F81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B9B6F70-A841-457A-B1C7-C41A6817D89F}" type="presOf" srcId="{C9F4E239-E838-4AC6-999A-E2DFB27E9F81}" destId="{6EC52D9E-4C59-42A7-A998-84F3173079AC}" srcOrd="0" destOrd="0" presId="urn:microsoft.com/office/officeart/2005/8/layout/vList2"/>
    <dgm:cxn modelId="{27AC8BE5-2DC2-46CF-A67C-701B5F8D74B0}" srcId="{0DEA5E1B-9DB0-4A97-B26C-58936A203282}" destId="{C9F4E239-E838-4AC6-999A-E2DFB27E9F81}" srcOrd="2" destOrd="0" parTransId="{EB367F2F-5721-4D05-84E5-0FABC8F9D020}" sibTransId="{0489FFB1-5802-4163-A985-C448164ADB87}"/>
    <dgm:cxn modelId="{60A0AEBF-8923-44C0-B048-C10A8948770E}" srcId="{0DEA5E1B-9DB0-4A97-B26C-58936A203282}" destId="{60DC776C-1D09-4F12-BEF6-3E4B8C5F4C1C}" srcOrd="0" destOrd="0" parTransId="{12D9066A-ABAB-40D5-AE63-741AECD7AE27}" sibTransId="{74236508-7DA3-4667-8007-5CED72EFF896}"/>
    <dgm:cxn modelId="{498DA6E4-3501-4190-A06D-A04D5231DA32}" type="presOf" srcId="{60DC776C-1D09-4F12-BEF6-3E4B8C5F4C1C}" destId="{55D9FA2C-3A4C-4E91-AF42-4896708175DA}" srcOrd="0" destOrd="0" presId="urn:microsoft.com/office/officeart/2005/8/layout/vList2"/>
    <dgm:cxn modelId="{EA9D4F5C-B3AE-4D36-BCCD-5A7EDC9D46B4}" type="presOf" srcId="{DF7BB9DB-D8D1-4459-B768-016C6D2A9EF5}" destId="{C43D6478-F2A1-4EDC-934C-036789DB55ED}" srcOrd="0" destOrd="0" presId="urn:microsoft.com/office/officeart/2005/8/layout/vList2"/>
    <dgm:cxn modelId="{55329FF3-CABE-48DF-9D48-F971A28A2FF4}" srcId="{0DEA5E1B-9DB0-4A97-B26C-58936A203282}" destId="{DF7BB9DB-D8D1-4459-B768-016C6D2A9EF5}" srcOrd="1" destOrd="0" parTransId="{2F21E38C-F7FC-431A-BC17-8B3481291AC5}" sibTransId="{B04066B0-3C41-4D2E-BB04-CB452233CA60}"/>
    <dgm:cxn modelId="{187656D7-C1E0-4B75-BC1A-24AF5A4E8440}" type="presOf" srcId="{0DEA5E1B-9DB0-4A97-B26C-58936A203282}" destId="{64DB2E34-D3C2-4D38-A6AE-F5BEE70C83A4}" srcOrd="0" destOrd="0" presId="urn:microsoft.com/office/officeart/2005/8/layout/vList2"/>
    <dgm:cxn modelId="{A8FAC377-4D39-4927-9833-6D7B83411F3D}" type="presParOf" srcId="{64DB2E34-D3C2-4D38-A6AE-F5BEE70C83A4}" destId="{55D9FA2C-3A4C-4E91-AF42-4896708175DA}" srcOrd="0" destOrd="0" presId="urn:microsoft.com/office/officeart/2005/8/layout/vList2"/>
    <dgm:cxn modelId="{5AEB9A96-1233-4A1A-99DB-8CEFAAF44D6B}" type="presParOf" srcId="{64DB2E34-D3C2-4D38-A6AE-F5BEE70C83A4}" destId="{D8B7ABFE-BB58-4DE0-B3DC-8D9ACBADEE08}" srcOrd="1" destOrd="0" presId="urn:microsoft.com/office/officeart/2005/8/layout/vList2"/>
    <dgm:cxn modelId="{AA9D0475-334E-4DFE-8C83-4E9F873C00CC}" type="presParOf" srcId="{64DB2E34-D3C2-4D38-A6AE-F5BEE70C83A4}" destId="{C43D6478-F2A1-4EDC-934C-036789DB55ED}" srcOrd="2" destOrd="0" presId="urn:microsoft.com/office/officeart/2005/8/layout/vList2"/>
    <dgm:cxn modelId="{25B6CB98-6671-4009-A10D-9225F68C9244}" type="presParOf" srcId="{64DB2E34-D3C2-4D38-A6AE-F5BEE70C83A4}" destId="{33966DAF-2248-4292-BD20-DF0E905B5C8B}" srcOrd="3" destOrd="0" presId="urn:microsoft.com/office/officeart/2005/8/layout/vList2"/>
    <dgm:cxn modelId="{5AD9D428-93E8-4B35-91C3-DE9097E58C58}" type="presParOf" srcId="{64DB2E34-D3C2-4D38-A6AE-F5BEE70C83A4}" destId="{6EC52D9E-4C59-42A7-A998-84F3173079AC}" srcOrd="4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3.xml><?xml version="1.0" encoding="utf-8"?>
<dgm:dataModel xmlns:dgm="http://schemas.openxmlformats.org/drawingml/2006/diagram" xmlns:a="http://schemas.openxmlformats.org/drawingml/2006/main">
  <dgm:ptLst>
    <dgm:pt modelId="{79AB3AFB-C0AD-41F3-875C-F96671664369}" type="doc">
      <dgm:prSet loTypeId="urn:microsoft.com/office/officeart/2005/8/layout/vList2" loCatId="list" qsTypeId="urn:microsoft.com/office/officeart/2005/8/quickstyle/simple2" qsCatId="simple" csTypeId="urn:microsoft.com/office/officeart/2005/8/colors/accent3_1" csCatId="accent3"/>
      <dgm:spPr/>
      <dgm:t>
        <a:bodyPr/>
        <a:lstStyle/>
        <a:p>
          <a:endParaRPr lang="uk-UA"/>
        </a:p>
      </dgm:t>
    </dgm:pt>
    <dgm:pt modelId="{AC230BF7-C5AE-408C-8157-F2DD8B68C1FE}">
      <dgm:prSet/>
      <dgm:spPr/>
      <dgm:t>
        <a:bodyPr/>
        <a:lstStyle/>
        <a:p>
          <a:pPr rtl="0"/>
          <a:r>
            <a:rPr lang="uk-UA" noProof="0" smtClean="0"/>
            <a:t>створення стабільної територіально розгалуженої мережі оптових підприємств;</a:t>
          </a:r>
          <a:endParaRPr lang="uk-UA" noProof="0"/>
        </a:p>
      </dgm:t>
    </dgm:pt>
    <dgm:pt modelId="{011FD8F2-6D00-47FC-96D7-BF956F6E625E}" type="parTrans" cxnId="{D11A97CF-EAC9-466B-B6D4-7BFEE3C70484}">
      <dgm:prSet/>
      <dgm:spPr/>
      <dgm:t>
        <a:bodyPr/>
        <a:lstStyle/>
        <a:p>
          <a:endParaRPr lang="uk-UA" noProof="0"/>
        </a:p>
      </dgm:t>
    </dgm:pt>
    <dgm:pt modelId="{23E76555-5D94-41E9-8FCB-91464144D75A}" type="sibTrans" cxnId="{D11A97CF-EAC9-466B-B6D4-7BFEE3C70484}">
      <dgm:prSet/>
      <dgm:spPr/>
      <dgm:t>
        <a:bodyPr/>
        <a:lstStyle/>
        <a:p>
          <a:endParaRPr lang="uk-UA" noProof="0"/>
        </a:p>
      </dgm:t>
    </dgm:pt>
    <dgm:pt modelId="{58B5E788-D8E1-4A73-BE64-223EB5151390}">
      <dgm:prSet/>
      <dgm:spPr/>
      <dgm:t>
        <a:bodyPr/>
        <a:lstStyle/>
        <a:p>
          <a:pPr rtl="0"/>
          <a:r>
            <a:rPr lang="uk-UA" noProof="0" smtClean="0"/>
            <a:t>демонополізація каналів переміщення товарів і створення конкурентного середовища в оптовій ланці;</a:t>
          </a:r>
          <a:endParaRPr lang="uk-UA" noProof="0"/>
        </a:p>
      </dgm:t>
    </dgm:pt>
    <dgm:pt modelId="{87B2DD9B-9E3C-4D30-8736-6958A6AEC2C6}" type="parTrans" cxnId="{9C8B779B-8C3C-4998-9BCE-61C1C057EC4A}">
      <dgm:prSet/>
      <dgm:spPr/>
      <dgm:t>
        <a:bodyPr/>
        <a:lstStyle/>
        <a:p>
          <a:endParaRPr lang="uk-UA" noProof="0"/>
        </a:p>
      </dgm:t>
    </dgm:pt>
    <dgm:pt modelId="{305E67EC-715D-40B1-8A2E-44B64B46C189}" type="sibTrans" cxnId="{9C8B779B-8C3C-4998-9BCE-61C1C057EC4A}">
      <dgm:prSet/>
      <dgm:spPr/>
      <dgm:t>
        <a:bodyPr/>
        <a:lstStyle/>
        <a:p>
          <a:endParaRPr lang="uk-UA" noProof="0"/>
        </a:p>
      </dgm:t>
    </dgm:pt>
    <dgm:pt modelId="{CA550D46-DD73-4B7F-89DA-C1B5DF16F7A1}">
      <dgm:prSet/>
      <dgm:spPr/>
      <dgm:t>
        <a:bodyPr/>
        <a:lstStyle/>
        <a:p>
          <a:pPr rtl="0"/>
          <a:r>
            <a:rPr lang="uk-UA" noProof="0" smtClean="0"/>
            <a:t>інтенсивне формування інфраструктури оптового ринку;</a:t>
          </a:r>
          <a:endParaRPr lang="uk-UA" noProof="0"/>
        </a:p>
      </dgm:t>
    </dgm:pt>
    <dgm:pt modelId="{8BCCA499-E6CF-4351-89DC-06E5710102FC}" type="parTrans" cxnId="{5CA8EEA5-FAF2-4B7F-9C8D-EDBBF75EC213}">
      <dgm:prSet/>
      <dgm:spPr/>
      <dgm:t>
        <a:bodyPr/>
        <a:lstStyle/>
        <a:p>
          <a:endParaRPr lang="uk-UA" noProof="0"/>
        </a:p>
      </dgm:t>
    </dgm:pt>
    <dgm:pt modelId="{0643A1E3-F2B5-47F8-AECC-2BB4DCE278B6}" type="sibTrans" cxnId="{5CA8EEA5-FAF2-4B7F-9C8D-EDBBF75EC213}">
      <dgm:prSet/>
      <dgm:spPr/>
      <dgm:t>
        <a:bodyPr/>
        <a:lstStyle/>
        <a:p>
          <a:endParaRPr lang="uk-UA" noProof="0"/>
        </a:p>
      </dgm:t>
    </dgm:pt>
    <dgm:pt modelId="{61C5322B-C2F7-493E-9EC0-F6ED001C065F}">
      <dgm:prSet/>
      <dgm:spPr/>
      <dgm:t>
        <a:bodyPr/>
        <a:lstStyle/>
        <a:p>
          <a:pPr rtl="0"/>
          <a:r>
            <a:rPr lang="uk-UA" noProof="0" smtClean="0"/>
            <a:t>впорядкування організації і ведення оптової торговельної діяльності.</a:t>
          </a:r>
          <a:endParaRPr lang="uk-UA" noProof="0"/>
        </a:p>
      </dgm:t>
    </dgm:pt>
    <dgm:pt modelId="{24CD219B-106E-4225-A83A-DE7883815D67}" type="parTrans" cxnId="{6512BAAB-B04C-487A-B55B-8D446D98AAE0}">
      <dgm:prSet/>
      <dgm:spPr/>
      <dgm:t>
        <a:bodyPr/>
        <a:lstStyle/>
        <a:p>
          <a:endParaRPr lang="uk-UA" noProof="0"/>
        </a:p>
      </dgm:t>
    </dgm:pt>
    <dgm:pt modelId="{706AFC49-10C8-4177-A9B8-0CFB22B840C3}" type="sibTrans" cxnId="{6512BAAB-B04C-487A-B55B-8D446D98AAE0}">
      <dgm:prSet/>
      <dgm:spPr/>
      <dgm:t>
        <a:bodyPr/>
        <a:lstStyle/>
        <a:p>
          <a:endParaRPr lang="uk-UA" noProof="0"/>
        </a:p>
      </dgm:t>
    </dgm:pt>
    <dgm:pt modelId="{0311BDE6-DB1C-4006-B5E1-1ED3C2E389C9}" type="pres">
      <dgm:prSet presAssocID="{79AB3AFB-C0AD-41F3-875C-F96671664369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98A41E4C-1C74-42F2-A699-90FA3C46622A}" type="pres">
      <dgm:prSet presAssocID="{AC230BF7-C5AE-408C-8157-F2DD8B68C1FE}" presName="parentText" presStyleLbl="node1" presStyleIdx="0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2A4C942-3C69-406E-BD16-140E2A89AF54}" type="pres">
      <dgm:prSet presAssocID="{23E76555-5D94-41E9-8FCB-91464144D75A}" presName="spacer" presStyleCnt="0"/>
      <dgm:spPr/>
    </dgm:pt>
    <dgm:pt modelId="{A492EA14-88D4-4034-8958-84673610EE0D}" type="pres">
      <dgm:prSet presAssocID="{58B5E788-D8E1-4A73-BE64-223EB5151390}" presName="parentText" presStyleLbl="node1" presStyleIdx="1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8B3C74A-15F1-4441-AF26-79553FE67E94}" type="pres">
      <dgm:prSet presAssocID="{305E67EC-715D-40B1-8A2E-44B64B46C189}" presName="spacer" presStyleCnt="0"/>
      <dgm:spPr/>
    </dgm:pt>
    <dgm:pt modelId="{EEE78A91-ADA4-4657-AA38-3C7CC261ED25}" type="pres">
      <dgm:prSet presAssocID="{CA550D46-DD73-4B7F-89DA-C1B5DF16F7A1}" presName="parentText" presStyleLbl="node1" presStyleIdx="2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0071004-D946-4165-A4C4-B4D92041B51B}" type="pres">
      <dgm:prSet presAssocID="{0643A1E3-F2B5-47F8-AECC-2BB4DCE278B6}" presName="spacer" presStyleCnt="0"/>
      <dgm:spPr/>
    </dgm:pt>
    <dgm:pt modelId="{FCA01C4B-DA11-40F7-9219-C56BF49731CC}" type="pres">
      <dgm:prSet presAssocID="{61C5322B-C2F7-493E-9EC0-F6ED001C065F}" presName="parentText" presStyleLbl="node1" presStyleIdx="3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F6A49976-9D7A-4CE9-B637-A797C7910D51}" type="presOf" srcId="{AC230BF7-C5AE-408C-8157-F2DD8B68C1FE}" destId="{98A41E4C-1C74-42F2-A699-90FA3C46622A}" srcOrd="0" destOrd="0" presId="urn:microsoft.com/office/officeart/2005/8/layout/vList2"/>
    <dgm:cxn modelId="{BB035E04-609F-4BF6-8E51-FE00444FDF0C}" type="presOf" srcId="{58B5E788-D8E1-4A73-BE64-223EB5151390}" destId="{A492EA14-88D4-4034-8958-84673610EE0D}" srcOrd="0" destOrd="0" presId="urn:microsoft.com/office/officeart/2005/8/layout/vList2"/>
    <dgm:cxn modelId="{D11A97CF-EAC9-466B-B6D4-7BFEE3C70484}" srcId="{79AB3AFB-C0AD-41F3-875C-F96671664369}" destId="{AC230BF7-C5AE-408C-8157-F2DD8B68C1FE}" srcOrd="0" destOrd="0" parTransId="{011FD8F2-6D00-47FC-96D7-BF956F6E625E}" sibTransId="{23E76555-5D94-41E9-8FCB-91464144D75A}"/>
    <dgm:cxn modelId="{572B07C1-46EA-4166-9ACF-76D0FB0DD54E}" type="presOf" srcId="{CA550D46-DD73-4B7F-89DA-C1B5DF16F7A1}" destId="{EEE78A91-ADA4-4657-AA38-3C7CC261ED25}" srcOrd="0" destOrd="0" presId="urn:microsoft.com/office/officeart/2005/8/layout/vList2"/>
    <dgm:cxn modelId="{6512BAAB-B04C-487A-B55B-8D446D98AAE0}" srcId="{79AB3AFB-C0AD-41F3-875C-F96671664369}" destId="{61C5322B-C2F7-493E-9EC0-F6ED001C065F}" srcOrd="3" destOrd="0" parTransId="{24CD219B-106E-4225-A83A-DE7883815D67}" sibTransId="{706AFC49-10C8-4177-A9B8-0CFB22B840C3}"/>
    <dgm:cxn modelId="{1B99BB4F-0709-4846-BA09-90731EB508F6}" type="presOf" srcId="{79AB3AFB-C0AD-41F3-875C-F96671664369}" destId="{0311BDE6-DB1C-4006-B5E1-1ED3C2E389C9}" srcOrd="0" destOrd="0" presId="urn:microsoft.com/office/officeart/2005/8/layout/vList2"/>
    <dgm:cxn modelId="{9C8B779B-8C3C-4998-9BCE-61C1C057EC4A}" srcId="{79AB3AFB-C0AD-41F3-875C-F96671664369}" destId="{58B5E788-D8E1-4A73-BE64-223EB5151390}" srcOrd="1" destOrd="0" parTransId="{87B2DD9B-9E3C-4D30-8736-6958A6AEC2C6}" sibTransId="{305E67EC-715D-40B1-8A2E-44B64B46C189}"/>
    <dgm:cxn modelId="{C896CC9B-4012-4A97-A904-D9CC10558124}" type="presOf" srcId="{61C5322B-C2F7-493E-9EC0-F6ED001C065F}" destId="{FCA01C4B-DA11-40F7-9219-C56BF49731CC}" srcOrd="0" destOrd="0" presId="urn:microsoft.com/office/officeart/2005/8/layout/vList2"/>
    <dgm:cxn modelId="{5CA8EEA5-FAF2-4B7F-9C8D-EDBBF75EC213}" srcId="{79AB3AFB-C0AD-41F3-875C-F96671664369}" destId="{CA550D46-DD73-4B7F-89DA-C1B5DF16F7A1}" srcOrd="2" destOrd="0" parTransId="{8BCCA499-E6CF-4351-89DC-06E5710102FC}" sibTransId="{0643A1E3-F2B5-47F8-AECC-2BB4DCE278B6}"/>
    <dgm:cxn modelId="{4B81EA21-90D7-4B72-B640-29FBCFDC4022}" type="presParOf" srcId="{0311BDE6-DB1C-4006-B5E1-1ED3C2E389C9}" destId="{98A41E4C-1C74-42F2-A699-90FA3C46622A}" srcOrd="0" destOrd="0" presId="urn:microsoft.com/office/officeart/2005/8/layout/vList2"/>
    <dgm:cxn modelId="{4A86C2E9-D044-4BA9-9860-64A09ABE30DB}" type="presParOf" srcId="{0311BDE6-DB1C-4006-B5E1-1ED3C2E389C9}" destId="{92A4C942-3C69-406E-BD16-140E2A89AF54}" srcOrd="1" destOrd="0" presId="urn:microsoft.com/office/officeart/2005/8/layout/vList2"/>
    <dgm:cxn modelId="{59AADA8C-69F3-4F19-8790-EDC79A7061D3}" type="presParOf" srcId="{0311BDE6-DB1C-4006-B5E1-1ED3C2E389C9}" destId="{A492EA14-88D4-4034-8958-84673610EE0D}" srcOrd="2" destOrd="0" presId="urn:microsoft.com/office/officeart/2005/8/layout/vList2"/>
    <dgm:cxn modelId="{44A043B2-E177-4C5C-A27D-2084EF3B0B84}" type="presParOf" srcId="{0311BDE6-DB1C-4006-B5E1-1ED3C2E389C9}" destId="{D8B3C74A-15F1-4441-AF26-79553FE67E94}" srcOrd="3" destOrd="0" presId="urn:microsoft.com/office/officeart/2005/8/layout/vList2"/>
    <dgm:cxn modelId="{FB99CD0F-A26D-4033-BD7F-EDFA93E6F562}" type="presParOf" srcId="{0311BDE6-DB1C-4006-B5E1-1ED3C2E389C9}" destId="{EEE78A91-ADA4-4657-AA38-3C7CC261ED25}" srcOrd="4" destOrd="0" presId="urn:microsoft.com/office/officeart/2005/8/layout/vList2"/>
    <dgm:cxn modelId="{9462F101-955C-4832-9470-E8BD362EB0FF}" type="presParOf" srcId="{0311BDE6-DB1C-4006-B5E1-1ED3C2E389C9}" destId="{40071004-D946-4165-A4C4-B4D92041B51B}" srcOrd="5" destOrd="0" presId="urn:microsoft.com/office/officeart/2005/8/layout/vList2"/>
    <dgm:cxn modelId="{499B6F59-637F-4C51-AF71-A40FC9F04A67}" type="presParOf" srcId="{0311BDE6-DB1C-4006-B5E1-1ED3C2E389C9}" destId="{FCA01C4B-DA11-40F7-9219-C56BF49731CC}" srcOrd="6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4.xml><?xml version="1.0" encoding="utf-8"?>
<dgm:dataModel xmlns:dgm="http://schemas.openxmlformats.org/drawingml/2006/diagram" xmlns:a="http://schemas.openxmlformats.org/drawingml/2006/main">
  <dgm:ptLst>
    <dgm:pt modelId="{B48DE38B-590D-4037-AFBC-5A2B9EA45003}" type="doc">
      <dgm:prSet loTypeId="urn:microsoft.com/office/officeart/2005/8/layout/vList2" loCatId="list" qsTypeId="urn:microsoft.com/office/officeart/2005/8/quickstyle/simple1" qsCatId="simple" csTypeId="urn:microsoft.com/office/officeart/2005/8/colors/accent1_1" csCatId="accent1"/>
      <dgm:spPr/>
      <dgm:t>
        <a:bodyPr/>
        <a:lstStyle/>
        <a:p>
          <a:endParaRPr lang="uk-UA"/>
        </a:p>
      </dgm:t>
    </dgm:pt>
    <dgm:pt modelId="{FA7644CA-AA20-4A9A-83EF-7EF817E2DF71}">
      <dgm:prSet custT="1"/>
      <dgm:spPr/>
      <dgm:t>
        <a:bodyPr/>
        <a:lstStyle/>
        <a:p>
          <a:pPr rtl="0"/>
          <a:r>
            <a:rPr lang="uk-UA" sz="2400" noProof="0" dirty="0" smtClean="0"/>
            <a:t>посередництво в пошуку потрібних товарів, товаровиробників, постачальників, оптових покупців;</a:t>
          </a:r>
          <a:endParaRPr lang="uk-UA" sz="2400" noProof="0" dirty="0"/>
        </a:p>
      </dgm:t>
    </dgm:pt>
    <dgm:pt modelId="{96F0D21E-F607-4012-A98A-6A7C0E65714E}" type="parTrans" cxnId="{35A00036-5BCF-45E1-9130-20D0290F7035}">
      <dgm:prSet/>
      <dgm:spPr/>
      <dgm:t>
        <a:bodyPr/>
        <a:lstStyle/>
        <a:p>
          <a:endParaRPr lang="uk-UA" sz="2400" noProof="0"/>
        </a:p>
      </dgm:t>
    </dgm:pt>
    <dgm:pt modelId="{8BBCC57D-B094-4DF0-9628-534B49705D0B}" type="sibTrans" cxnId="{35A00036-5BCF-45E1-9130-20D0290F7035}">
      <dgm:prSet/>
      <dgm:spPr/>
      <dgm:t>
        <a:bodyPr/>
        <a:lstStyle/>
        <a:p>
          <a:endParaRPr lang="uk-UA" sz="2400" noProof="0"/>
        </a:p>
      </dgm:t>
    </dgm:pt>
    <dgm:pt modelId="{CDA62F30-9610-403C-92F0-41445863F3FA}">
      <dgm:prSet custT="1"/>
      <dgm:spPr/>
      <dgm:t>
        <a:bodyPr/>
        <a:lstStyle/>
        <a:p>
          <a:pPr rtl="0"/>
          <a:r>
            <a:rPr lang="uk-UA" sz="2400" noProof="0" smtClean="0"/>
            <a:t>вивчення й надання інформації стосовно попиту на товари;</a:t>
          </a:r>
          <a:endParaRPr lang="uk-UA" sz="2400" noProof="0"/>
        </a:p>
      </dgm:t>
    </dgm:pt>
    <dgm:pt modelId="{3629C617-EA0A-40B4-8692-3200331B8AAC}" type="parTrans" cxnId="{7BC1FA89-2DC9-4CFB-B404-1023FA92878E}">
      <dgm:prSet/>
      <dgm:spPr/>
      <dgm:t>
        <a:bodyPr/>
        <a:lstStyle/>
        <a:p>
          <a:endParaRPr lang="uk-UA" sz="2400" noProof="0"/>
        </a:p>
      </dgm:t>
    </dgm:pt>
    <dgm:pt modelId="{ACBAF82F-A817-416C-A400-33F24241449C}" type="sibTrans" cxnId="{7BC1FA89-2DC9-4CFB-B404-1023FA92878E}">
      <dgm:prSet/>
      <dgm:spPr/>
      <dgm:t>
        <a:bodyPr/>
        <a:lstStyle/>
        <a:p>
          <a:endParaRPr lang="uk-UA" sz="2400" noProof="0"/>
        </a:p>
      </dgm:t>
    </dgm:pt>
    <dgm:pt modelId="{3939175B-F67B-454F-B342-E9692114E810}">
      <dgm:prSet custT="1"/>
      <dgm:spPr/>
      <dgm:t>
        <a:bodyPr/>
        <a:lstStyle/>
        <a:p>
          <a:pPr rtl="0"/>
          <a:r>
            <a:rPr lang="uk-UA" sz="2400" noProof="0" smtClean="0"/>
            <a:t>послуги з реклами товарів;</a:t>
          </a:r>
          <a:endParaRPr lang="uk-UA" sz="2400" noProof="0"/>
        </a:p>
      </dgm:t>
    </dgm:pt>
    <dgm:pt modelId="{C3025012-55FB-4B03-906C-914E45B942DB}" type="parTrans" cxnId="{DD82F317-2053-41A3-9B2C-D8A44FC15C0F}">
      <dgm:prSet/>
      <dgm:spPr/>
      <dgm:t>
        <a:bodyPr/>
        <a:lstStyle/>
        <a:p>
          <a:endParaRPr lang="uk-UA" sz="2400" noProof="0"/>
        </a:p>
      </dgm:t>
    </dgm:pt>
    <dgm:pt modelId="{EB76D8A8-3D14-4CEF-A48B-82D83ECD8AA2}" type="sibTrans" cxnId="{DD82F317-2053-41A3-9B2C-D8A44FC15C0F}">
      <dgm:prSet/>
      <dgm:spPr/>
      <dgm:t>
        <a:bodyPr/>
        <a:lstStyle/>
        <a:p>
          <a:endParaRPr lang="uk-UA" sz="2400" noProof="0"/>
        </a:p>
      </dgm:t>
    </dgm:pt>
    <dgm:pt modelId="{7445EB48-531E-411E-B1CD-AD54DC9EFDF9}">
      <dgm:prSet custT="1"/>
      <dgm:spPr/>
      <dgm:t>
        <a:bodyPr/>
        <a:lstStyle/>
        <a:p>
          <a:pPr rtl="0"/>
          <a:r>
            <a:rPr lang="uk-UA" sz="2400" noProof="0" smtClean="0"/>
            <a:t>маркетингові дослідження на замовлення клієнтів;</a:t>
          </a:r>
          <a:endParaRPr lang="uk-UA" sz="2400" noProof="0"/>
        </a:p>
      </dgm:t>
    </dgm:pt>
    <dgm:pt modelId="{B2EC85BE-B94C-4BA9-A44F-5B6345EEB329}" type="parTrans" cxnId="{4D6685B9-00DE-4FB7-AED7-31C2585D98CC}">
      <dgm:prSet/>
      <dgm:spPr/>
      <dgm:t>
        <a:bodyPr/>
        <a:lstStyle/>
        <a:p>
          <a:endParaRPr lang="uk-UA" sz="2400" noProof="0"/>
        </a:p>
      </dgm:t>
    </dgm:pt>
    <dgm:pt modelId="{47C6D18D-2624-4EC3-915D-A7BE4A0B9E30}" type="sibTrans" cxnId="{4D6685B9-00DE-4FB7-AED7-31C2585D98CC}">
      <dgm:prSet/>
      <dgm:spPr/>
      <dgm:t>
        <a:bodyPr/>
        <a:lstStyle/>
        <a:p>
          <a:endParaRPr lang="uk-UA" sz="2400" noProof="0"/>
        </a:p>
      </dgm:t>
    </dgm:pt>
    <dgm:pt modelId="{2A0C28C5-81A4-4926-AA17-0328C5D84964}">
      <dgm:prSet custT="1"/>
      <dgm:spPr/>
      <dgm:t>
        <a:bodyPr/>
        <a:lstStyle/>
        <a:p>
          <a:pPr rtl="0"/>
          <a:r>
            <a:rPr lang="uk-UA" sz="2400" noProof="0" smtClean="0"/>
            <a:t>організацію оптових ярмарок;</a:t>
          </a:r>
          <a:endParaRPr lang="uk-UA" sz="2400" noProof="0"/>
        </a:p>
      </dgm:t>
    </dgm:pt>
    <dgm:pt modelId="{0D9E823E-CE8B-4178-8D66-62C2E304EFFE}" type="parTrans" cxnId="{855DA2A9-2B7F-431A-A2D7-1EE91D408823}">
      <dgm:prSet/>
      <dgm:spPr/>
      <dgm:t>
        <a:bodyPr/>
        <a:lstStyle/>
        <a:p>
          <a:endParaRPr lang="uk-UA" sz="2400" noProof="0"/>
        </a:p>
      </dgm:t>
    </dgm:pt>
    <dgm:pt modelId="{60615A2C-F17E-470D-BE84-B459D29596EE}" type="sibTrans" cxnId="{855DA2A9-2B7F-431A-A2D7-1EE91D408823}">
      <dgm:prSet/>
      <dgm:spPr/>
      <dgm:t>
        <a:bodyPr/>
        <a:lstStyle/>
        <a:p>
          <a:endParaRPr lang="uk-UA" sz="2400" noProof="0"/>
        </a:p>
      </dgm:t>
    </dgm:pt>
    <dgm:pt modelId="{B053AE68-B93E-41BB-A9E8-CBAA66FC8368}">
      <dgm:prSet custT="1"/>
      <dgm:spPr/>
      <dgm:t>
        <a:bodyPr/>
        <a:lstStyle/>
        <a:p>
          <a:pPr rtl="0"/>
          <a:r>
            <a:rPr lang="uk-UA" sz="2400" noProof="0" smtClean="0"/>
            <a:t>демонстрацію товарів у демонстраційних залах та асортиментних кабінетах;</a:t>
          </a:r>
          <a:endParaRPr lang="uk-UA" sz="2400" noProof="0"/>
        </a:p>
      </dgm:t>
    </dgm:pt>
    <dgm:pt modelId="{A0093CB5-107E-4A99-87CE-220F17ED5370}" type="parTrans" cxnId="{03450ACF-E9A4-4377-94F0-D0DD266F44C2}">
      <dgm:prSet/>
      <dgm:spPr/>
      <dgm:t>
        <a:bodyPr/>
        <a:lstStyle/>
        <a:p>
          <a:endParaRPr lang="uk-UA" sz="2400" noProof="0"/>
        </a:p>
      </dgm:t>
    </dgm:pt>
    <dgm:pt modelId="{5B83C4DB-DAC0-4F25-AEEA-2BCB9F9ADED7}" type="sibTrans" cxnId="{03450ACF-E9A4-4377-94F0-D0DD266F44C2}">
      <dgm:prSet/>
      <dgm:spPr/>
      <dgm:t>
        <a:bodyPr/>
        <a:lstStyle/>
        <a:p>
          <a:endParaRPr lang="uk-UA" sz="2400" noProof="0"/>
        </a:p>
      </dgm:t>
    </dgm:pt>
    <dgm:pt modelId="{5DB6887E-8261-41FD-B54A-8343D5EFD8CC}">
      <dgm:prSet custT="1"/>
      <dgm:spPr/>
      <dgm:t>
        <a:bodyPr/>
        <a:lstStyle/>
        <a:p>
          <a:pPr rtl="0"/>
          <a:r>
            <a:rPr lang="uk-UA" sz="2400" noProof="0" smtClean="0"/>
            <a:t>складання й розміщення замовлень покупців на поставку продукції </a:t>
          </a:r>
          <a:endParaRPr lang="uk-UA" sz="2400" noProof="0"/>
        </a:p>
      </dgm:t>
    </dgm:pt>
    <dgm:pt modelId="{86FAC15E-A15C-4A46-8103-9B2F4C636960}" type="parTrans" cxnId="{3B3A8DA0-229D-416C-840A-DD668E12DE49}">
      <dgm:prSet/>
      <dgm:spPr/>
      <dgm:t>
        <a:bodyPr/>
        <a:lstStyle/>
        <a:p>
          <a:endParaRPr lang="uk-UA" sz="2400" noProof="0"/>
        </a:p>
      </dgm:t>
    </dgm:pt>
    <dgm:pt modelId="{73785A1A-2328-4FE0-9CD2-8BB88A088ECB}" type="sibTrans" cxnId="{3B3A8DA0-229D-416C-840A-DD668E12DE49}">
      <dgm:prSet/>
      <dgm:spPr/>
      <dgm:t>
        <a:bodyPr/>
        <a:lstStyle/>
        <a:p>
          <a:endParaRPr lang="uk-UA" sz="2400" noProof="0"/>
        </a:p>
      </dgm:t>
    </dgm:pt>
    <dgm:pt modelId="{AA748013-04F1-4A53-BC79-1DEA122EA4DB}" type="pres">
      <dgm:prSet presAssocID="{B48DE38B-590D-4037-AFBC-5A2B9EA45003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614BCBCF-C07A-43D0-B230-205ACED6D697}" type="pres">
      <dgm:prSet presAssocID="{FA7644CA-AA20-4A9A-83EF-7EF817E2DF71}" presName="parentText" presStyleLbl="node1" presStyleIdx="0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F090E99-D04B-4DD4-8DBF-3AE081DEE968}" type="pres">
      <dgm:prSet presAssocID="{8BBCC57D-B094-4DF0-9628-534B49705D0B}" presName="spacer" presStyleCnt="0"/>
      <dgm:spPr/>
    </dgm:pt>
    <dgm:pt modelId="{C0CE292D-FB0D-4556-80C1-8D27AB936CD8}" type="pres">
      <dgm:prSet presAssocID="{CDA62F30-9610-403C-92F0-41445863F3FA}" presName="parentText" presStyleLbl="node1" presStyleIdx="1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CB1ADF4-EA8A-4948-9065-DFE24E29A51B}" type="pres">
      <dgm:prSet presAssocID="{ACBAF82F-A817-416C-A400-33F24241449C}" presName="spacer" presStyleCnt="0"/>
      <dgm:spPr/>
    </dgm:pt>
    <dgm:pt modelId="{7C751E96-D4E1-47C3-BA61-8E1C033E866B}" type="pres">
      <dgm:prSet presAssocID="{3939175B-F67B-454F-B342-E9692114E810}" presName="parentText" presStyleLbl="node1" presStyleIdx="2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841276A-A62F-4093-A9A9-B0A79D181112}" type="pres">
      <dgm:prSet presAssocID="{EB76D8A8-3D14-4CEF-A48B-82D83ECD8AA2}" presName="spacer" presStyleCnt="0"/>
      <dgm:spPr/>
    </dgm:pt>
    <dgm:pt modelId="{23DDDBC3-3386-45D5-8FD9-41EC262C0963}" type="pres">
      <dgm:prSet presAssocID="{7445EB48-531E-411E-B1CD-AD54DC9EFDF9}" presName="parentText" presStyleLbl="node1" presStyleIdx="3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F789A5C-9FE3-40F6-A2CC-0E91D9B134B3}" type="pres">
      <dgm:prSet presAssocID="{47C6D18D-2624-4EC3-915D-A7BE4A0B9E30}" presName="spacer" presStyleCnt="0"/>
      <dgm:spPr/>
    </dgm:pt>
    <dgm:pt modelId="{323BDD9B-A8B1-4B20-AD5D-CF850AD53451}" type="pres">
      <dgm:prSet presAssocID="{2A0C28C5-81A4-4926-AA17-0328C5D84964}" presName="parentText" presStyleLbl="node1" presStyleIdx="4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2FEDA6E-C5A1-4929-A8EA-27444807A34D}" type="pres">
      <dgm:prSet presAssocID="{60615A2C-F17E-470D-BE84-B459D29596EE}" presName="spacer" presStyleCnt="0"/>
      <dgm:spPr/>
    </dgm:pt>
    <dgm:pt modelId="{9F6E1047-3EE7-4B48-B527-C6D6A7C3B1E9}" type="pres">
      <dgm:prSet presAssocID="{B053AE68-B93E-41BB-A9E8-CBAA66FC8368}" presName="parentText" presStyleLbl="node1" presStyleIdx="5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6B515C2-E239-4C45-A8F7-E5083D5451AA}" type="pres">
      <dgm:prSet presAssocID="{5B83C4DB-DAC0-4F25-AEEA-2BCB9F9ADED7}" presName="spacer" presStyleCnt="0"/>
      <dgm:spPr/>
    </dgm:pt>
    <dgm:pt modelId="{D5ABDDE5-635F-4775-BB16-E272512EEB27}" type="pres">
      <dgm:prSet presAssocID="{5DB6887E-8261-41FD-B54A-8343D5EFD8CC}" presName="parentText" presStyleLbl="node1" presStyleIdx="6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22F7161-D8D0-4489-BA68-5289B1AF5411}" type="presOf" srcId="{B48DE38B-590D-4037-AFBC-5A2B9EA45003}" destId="{AA748013-04F1-4A53-BC79-1DEA122EA4DB}" srcOrd="0" destOrd="0" presId="urn:microsoft.com/office/officeart/2005/8/layout/vList2"/>
    <dgm:cxn modelId="{7BC1FA89-2DC9-4CFB-B404-1023FA92878E}" srcId="{B48DE38B-590D-4037-AFBC-5A2B9EA45003}" destId="{CDA62F30-9610-403C-92F0-41445863F3FA}" srcOrd="1" destOrd="0" parTransId="{3629C617-EA0A-40B4-8692-3200331B8AAC}" sibTransId="{ACBAF82F-A817-416C-A400-33F24241449C}"/>
    <dgm:cxn modelId="{DD82F317-2053-41A3-9B2C-D8A44FC15C0F}" srcId="{B48DE38B-590D-4037-AFBC-5A2B9EA45003}" destId="{3939175B-F67B-454F-B342-E9692114E810}" srcOrd="2" destOrd="0" parTransId="{C3025012-55FB-4B03-906C-914E45B942DB}" sibTransId="{EB76D8A8-3D14-4CEF-A48B-82D83ECD8AA2}"/>
    <dgm:cxn modelId="{35A00036-5BCF-45E1-9130-20D0290F7035}" srcId="{B48DE38B-590D-4037-AFBC-5A2B9EA45003}" destId="{FA7644CA-AA20-4A9A-83EF-7EF817E2DF71}" srcOrd="0" destOrd="0" parTransId="{96F0D21E-F607-4012-A98A-6A7C0E65714E}" sibTransId="{8BBCC57D-B094-4DF0-9628-534B49705D0B}"/>
    <dgm:cxn modelId="{B78BFD04-2CD4-4B86-B4AF-EE07E5517D9A}" type="presOf" srcId="{3939175B-F67B-454F-B342-E9692114E810}" destId="{7C751E96-D4E1-47C3-BA61-8E1C033E866B}" srcOrd="0" destOrd="0" presId="urn:microsoft.com/office/officeart/2005/8/layout/vList2"/>
    <dgm:cxn modelId="{855DA2A9-2B7F-431A-A2D7-1EE91D408823}" srcId="{B48DE38B-590D-4037-AFBC-5A2B9EA45003}" destId="{2A0C28C5-81A4-4926-AA17-0328C5D84964}" srcOrd="4" destOrd="0" parTransId="{0D9E823E-CE8B-4178-8D66-62C2E304EFFE}" sibTransId="{60615A2C-F17E-470D-BE84-B459D29596EE}"/>
    <dgm:cxn modelId="{3142CF74-28F0-4A93-BFAC-FD3142DA1A9E}" type="presOf" srcId="{CDA62F30-9610-403C-92F0-41445863F3FA}" destId="{C0CE292D-FB0D-4556-80C1-8D27AB936CD8}" srcOrd="0" destOrd="0" presId="urn:microsoft.com/office/officeart/2005/8/layout/vList2"/>
    <dgm:cxn modelId="{52C1AC71-197D-4362-B29C-249F34D804FE}" type="presOf" srcId="{B053AE68-B93E-41BB-A9E8-CBAA66FC8368}" destId="{9F6E1047-3EE7-4B48-B527-C6D6A7C3B1E9}" srcOrd="0" destOrd="0" presId="urn:microsoft.com/office/officeart/2005/8/layout/vList2"/>
    <dgm:cxn modelId="{D60CD4CB-4FB3-4738-BD83-FEF1142690C1}" type="presOf" srcId="{5DB6887E-8261-41FD-B54A-8343D5EFD8CC}" destId="{D5ABDDE5-635F-4775-BB16-E272512EEB27}" srcOrd="0" destOrd="0" presId="urn:microsoft.com/office/officeart/2005/8/layout/vList2"/>
    <dgm:cxn modelId="{02887828-E3EA-4C9D-BF0A-B8F178E5D847}" type="presOf" srcId="{2A0C28C5-81A4-4926-AA17-0328C5D84964}" destId="{323BDD9B-A8B1-4B20-AD5D-CF850AD53451}" srcOrd="0" destOrd="0" presId="urn:microsoft.com/office/officeart/2005/8/layout/vList2"/>
    <dgm:cxn modelId="{AFC66AC1-B728-491C-8F23-B4E1AB056884}" type="presOf" srcId="{7445EB48-531E-411E-B1CD-AD54DC9EFDF9}" destId="{23DDDBC3-3386-45D5-8FD9-41EC262C0963}" srcOrd="0" destOrd="0" presId="urn:microsoft.com/office/officeart/2005/8/layout/vList2"/>
    <dgm:cxn modelId="{4D6685B9-00DE-4FB7-AED7-31C2585D98CC}" srcId="{B48DE38B-590D-4037-AFBC-5A2B9EA45003}" destId="{7445EB48-531E-411E-B1CD-AD54DC9EFDF9}" srcOrd="3" destOrd="0" parTransId="{B2EC85BE-B94C-4BA9-A44F-5B6345EEB329}" sibTransId="{47C6D18D-2624-4EC3-915D-A7BE4A0B9E30}"/>
    <dgm:cxn modelId="{3B3A8DA0-229D-416C-840A-DD668E12DE49}" srcId="{B48DE38B-590D-4037-AFBC-5A2B9EA45003}" destId="{5DB6887E-8261-41FD-B54A-8343D5EFD8CC}" srcOrd="6" destOrd="0" parTransId="{86FAC15E-A15C-4A46-8103-9B2F4C636960}" sibTransId="{73785A1A-2328-4FE0-9CD2-8BB88A088ECB}"/>
    <dgm:cxn modelId="{58075F5F-7BD6-41DA-A757-235B27B6768E}" type="presOf" srcId="{FA7644CA-AA20-4A9A-83EF-7EF817E2DF71}" destId="{614BCBCF-C07A-43D0-B230-205ACED6D697}" srcOrd="0" destOrd="0" presId="urn:microsoft.com/office/officeart/2005/8/layout/vList2"/>
    <dgm:cxn modelId="{03450ACF-E9A4-4377-94F0-D0DD266F44C2}" srcId="{B48DE38B-590D-4037-AFBC-5A2B9EA45003}" destId="{B053AE68-B93E-41BB-A9E8-CBAA66FC8368}" srcOrd="5" destOrd="0" parTransId="{A0093CB5-107E-4A99-87CE-220F17ED5370}" sibTransId="{5B83C4DB-DAC0-4F25-AEEA-2BCB9F9ADED7}"/>
    <dgm:cxn modelId="{7AB61F66-98F2-42D0-AC69-80264A27AFC5}" type="presParOf" srcId="{AA748013-04F1-4A53-BC79-1DEA122EA4DB}" destId="{614BCBCF-C07A-43D0-B230-205ACED6D697}" srcOrd="0" destOrd="0" presId="urn:microsoft.com/office/officeart/2005/8/layout/vList2"/>
    <dgm:cxn modelId="{2E85A515-A9B4-41FF-8537-A812AEAAF476}" type="presParOf" srcId="{AA748013-04F1-4A53-BC79-1DEA122EA4DB}" destId="{9F090E99-D04B-4DD4-8DBF-3AE081DEE968}" srcOrd="1" destOrd="0" presId="urn:microsoft.com/office/officeart/2005/8/layout/vList2"/>
    <dgm:cxn modelId="{50000F51-3F90-48EF-B93E-90C9B5179355}" type="presParOf" srcId="{AA748013-04F1-4A53-BC79-1DEA122EA4DB}" destId="{C0CE292D-FB0D-4556-80C1-8D27AB936CD8}" srcOrd="2" destOrd="0" presId="urn:microsoft.com/office/officeart/2005/8/layout/vList2"/>
    <dgm:cxn modelId="{DD5BF927-4F21-4B6A-A2AC-6EEA5ADF289F}" type="presParOf" srcId="{AA748013-04F1-4A53-BC79-1DEA122EA4DB}" destId="{ECB1ADF4-EA8A-4948-9065-DFE24E29A51B}" srcOrd="3" destOrd="0" presId="urn:microsoft.com/office/officeart/2005/8/layout/vList2"/>
    <dgm:cxn modelId="{A8AE9490-0754-4C71-8CD3-C51BEDE66933}" type="presParOf" srcId="{AA748013-04F1-4A53-BC79-1DEA122EA4DB}" destId="{7C751E96-D4E1-47C3-BA61-8E1C033E866B}" srcOrd="4" destOrd="0" presId="urn:microsoft.com/office/officeart/2005/8/layout/vList2"/>
    <dgm:cxn modelId="{23B44DE4-D52E-4F67-9D6F-44DDCD0374CB}" type="presParOf" srcId="{AA748013-04F1-4A53-BC79-1DEA122EA4DB}" destId="{1841276A-A62F-4093-A9A9-B0A79D181112}" srcOrd="5" destOrd="0" presId="urn:microsoft.com/office/officeart/2005/8/layout/vList2"/>
    <dgm:cxn modelId="{D74584C5-2479-44A0-941C-0EC3E6A1CC17}" type="presParOf" srcId="{AA748013-04F1-4A53-BC79-1DEA122EA4DB}" destId="{23DDDBC3-3386-45D5-8FD9-41EC262C0963}" srcOrd="6" destOrd="0" presId="urn:microsoft.com/office/officeart/2005/8/layout/vList2"/>
    <dgm:cxn modelId="{C9BEEE59-5DE7-411D-A425-D627E563270D}" type="presParOf" srcId="{AA748013-04F1-4A53-BC79-1DEA122EA4DB}" destId="{AF789A5C-9FE3-40F6-A2CC-0E91D9B134B3}" srcOrd="7" destOrd="0" presId="urn:microsoft.com/office/officeart/2005/8/layout/vList2"/>
    <dgm:cxn modelId="{9824AC35-EE58-4794-A524-288AC916827F}" type="presParOf" srcId="{AA748013-04F1-4A53-BC79-1DEA122EA4DB}" destId="{323BDD9B-A8B1-4B20-AD5D-CF850AD53451}" srcOrd="8" destOrd="0" presId="urn:microsoft.com/office/officeart/2005/8/layout/vList2"/>
    <dgm:cxn modelId="{942F64EB-48E5-4BD8-945B-6AF1610D407D}" type="presParOf" srcId="{AA748013-04F1-4A53-BC79-1DEA122EA4DB}" destId="{52FEDA6E-C5A1-4929-A8EA-27444807A34D}" srcOrd="9" destOrd="0" presId="urn:microsoft.com/office/officeart/2005/8/layout/vList2"/>
    <dgm:cxn modelId="{402B5671-C737-456E-8882-6E6D788C2844}" type="presParOf" srcId="{AA748013-04F1-4A53-BC79-1DEA122EA4DB}" destId="{9F6E1047-3EE7-4B48-B527-C6D6A7C3B1E9}" srcOrd="10" destOrd="0" presId="urn:microsoft.com/office/officeart/2005/8/layout/vList2"/>
    <dgm:cxn modelId="{B811CB0E-FCC3-4731-A24E-23BB47081F47}" type="presParOf" srcId="{AA748013-04F1-4A53-BC79-1DEA122EA4DB}" destId="{66B515C2-E239-4C45-A8F7-E5083D5451AA}" srcOrd="11" destOrd="0" presId="urn:microsoft.com/office/officeart/2005/8/layout/vList2"/>
    <dgm:cxn modelId="{5DB05F30-5C1A-4907-8AF9-993EA3AEB759}" type="presParOf" srcId="{AA748013-04F1-4A53-BC79-1DEA122EA4DB}" destId="{D5ABDDE5-635F-4775-BB16-E272512EEB27}" srcOrd="12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5.xml><?xml version="1.0" encoding="utf-8"?>
<dgm:dataModel xmlns:dgm="http://schemas.openxmlformats.org/drawingml/2006/diagram" xmlns:a="http://schemas.openxmlformats.org/drawingml/2006/main">
  <dgm:ptLst>
    <dgm:pt modelId="{49C7697F-EE6B-4258-B45A-AE378408BD4C}" type="doc">
      <dgm:prSet loTypeId="urn:microsoft.com/office/officeart/2005/8/layout/vList2" loCatId="list" qsTypeId="urn:microsoft.com/office/officeart/2005/8/quickstyle/simple1" qsCatId="simple" csTypeId="urn:microsoft.com/office/officeart/2005/8/colors/accent1_1" csCatId="accent1"/>
      <dgm:spPr/>
      <dgm:t>
        <a:bodyPr/>
        <a:lstStyle/>
        <a:p>
          <a:endParaRPr lang="uk-UA"/>
        </a:p>
      </dgm:t>
    </dgm:pt>
    <dgm:pt modelId="{983F1659-443A-45D6-BCDB-CB29FDED15CC}">
      <dgm:prSet custT="1"/>
      <dgm:spPr/>
      <dgm:t>
        <a:bodyPr/>
        <a:lstStyle/>
        <a:p>
          <a:pPr rtl="0"/>
          <a:r>
            <a:rPr lang="uk-UA" sz="2400" noProof="0" smtClean="0"/>
            <a:t>надання виробникам та покупцям науково-технічної, економічної, правової інформації як стосовно ринку, так і за конкретними групами товарів; </a:t>
          </a:r>
          <a:endParaRPr lang="uk-UA" sz="2400" noProof="0"/>
        </a:p>
      </dgm:t>
    </dgm:pt>
    <dgm:pt modelId="{75D798CA-6F89-4D80-BF35-F8538C8A8A62}" type="parTrans" cxnId="{80A0E34D-71AB-4B18-A7A5-ABFDFEEF4730}">
      <dgm:prSet/>
      <dgm:spPr/>
      <dgm:t>
        <a:bodyPr/>
        <a:lstStyle/>
        <a:p>
          <a:endParaRPr lang="uk-UA" sz="2400"/>
        </a:p>
      </dgm:t>
    </dgm:pt>
    <dgm:pt modelId="{3CA83708-96D2-48BD-875F-AEAB1697EF9F}" type="sibTrans" cxnId="{80A0E34D-71AB-4B18-A7A5-ABFDFEEF4730}">
      <dgm:prSet/>
      <dgm:spPr/>
      <dgm:t>
        <a:bodyPr/>
        <a:lstStyle/>
        <a:p>
          <a:endParaRPr lang="uk-UA" sz="2400"/>
        </a:p>
      </dgm:t>
    </dgm:pt>
    <dgm:pt modelId="{0A51E537-E18C-4C06-B6DD-6CE7531EB334}">
      <dgm:prSet custT="1"/>
      <dgm:spPr/>
      <dgm:t>
        <a:bodyPr/>
        <a:lstStyle/>
        <a:p>
          <a:pPr rtl="0"/>
          <a:r>
            <a:rPr lang="ru-RU" sz="2400" dirty="0" smtClean="0"/>
            <a:t>участь у </a:t>
          </a:r>
          <a:r>
            <a:rPr lang="ru-RU" sz="2400" dirty="0" err="1" smtClean="0"/>
            <a:t>розробленні</a:t>
          </a:r>
          <a:r>
            <a:rPr lang="ru-RU" sz="2400" dirty="0" smtClean="0"/>
            <a:t> </a:t>
          </a:r>
          <a:r>
            <a:rPr lang="ru-RU" sz="2400" dirty="0" err="1" smtClean="0"/>
            <a:t>стандартів</a:t>
          </a:r>
          <a:r>
            <a:rPr lang="ru-RU" sz="2400" dirty="0" smtClean="0"/>
            <a:t> та </a:t>
          </a:r>
          <a:r>
            <a:rPr lang="ru-RU" sz="2400" dirty="0" err="1" smtClean="0"/>
            <a:t>іншої</a:t>
          </a:r>
          <a:r>
            <a:rPr lang="ru-RU" sz="2400" dirty="0" smtClean="0"/>
            <a:t> </a:t>
          </a:r>
          <a:r>
            <a:rPr lang="ru-RU" sz="2400" dirty="0" err="1" smtClean="0"/>
            <a:t>нормативно-технічної</a:t>
          </a:r>
          <a:r>
            <a:rPr lang="ru-RU" sz="2400" dirty="0" smtClean="0"/>
            <a:t> </a:t>
          </a:r>
          <a:r>
            <a:rPr lang="ru-RU" sz="2400" dirty="0" err="1" smtClean="0"/>
            <a:t>документації</a:t>
          </a:r>
          <a:r>
            <a:rPr lang="ru-RU" sz="2400" dirty="0" smtClean="0"/>
            <a:t>; </a:t>
          </a:r>
          <a:endParaRPr lang="ru-RU" sz="2400" dirty="0"/>
        </a:p>
      </dgm:t>
    </dgm:pt>
    <dgm:pt modelId="{D47F1B82-207E-4FE1-9D03-B9B743CE280A}" type="parTrans" cxnId="{90DCAD0F-5C8C-400D-A3A0-5432ABC4CB69}">
      <dgm:prSet/>
      <dgm:spPr/>
      <dgm:t>
        <a:bodyPr/>
        <a:lstStyle/>
        <a:p>
          <a:endParaRPr lang="uk-UA" sz="2400"/>
        </a:p>
      </dgm:t>
    </dgm:pt>
    <dgm:pt modelId="{8150AFE7-AE8D-4B3B-B102-CBDDFDB9A02A}" type="sibTrans" cxnId="{90DCAD0F-5C8C-400D-A3A0-5432ABC4CB69}">
      <dgm:prSet/>
      <dgm:spPr/>
      <dgm:t>
        <a:bodyPr/>
        <a:lstStyle/>
        <a:p>
          <a:endParaRPr lang="uk-UA" sz="2400"/>
        </a:p>
      </dgm:t>
    </dgm:pt>
    <dgm:pt modelId="{69D9E147-E880-4CB8-B4D1-9024A7E97A0B}">
      <dgm:prSet custT="1"/>
      <dgm:spPr/>
      <dgm:t>
        <a:bodyPr/>
        <a:lstStyle/>
        <a:p>
          <a:pPr rtl="0"/>
          <a:r>
            <a:rPr lang="ru-RU" sz="2400" dirty="0" err="1" smtClean="0"/>
            <a:t>науково-технічне</a:t>
          </a:r>
          <a:r>
            <a:rPr lang="ru-RU" sz="2400" dirty="0" smtClean="0"/>
            <a:t> </a:t>
          </a:r>
          <a:r>
            <a:rPr lang="ru-RU" sz="2400" dirty="0" err="1" smtClean="0"/>
            <a:t>й</a:t>
          </a:r>
          <a:r>
            <a:rPr lang="ru-RU" sz="2400" dirty="0" smtClean="0"/>
            <a:t> </a:t>
          </a:r>
          <a:r>
            <a:rPr lang="ru-RU" sz="2400" dirty="0" err="1" smtClean="0"/>
            <a:t>організаційно-правове</a:t>
          </a:r>
          <a:r>
            <a:rPr lang="ru-RU" sz="2400" dirty="0" smtClean="0"/>
            <a:t> </a:t>
          </a:r>
          <a:r>
            <a:rPr lang="ru-RU" sz="2400" dirty="0" err="1" smtClean="0"/>
            <a:t>консультування</a:t>
          </a:r>
          <a:r>
            <a:rPr lang="ru-RU" sz="2400" dirty="0" smtClean="0"/>
            <a:t>.</a:t>
          </a:r>
          <a:endParaRPr lang="ru-RU" sz="2400" dirty="0"/>
        </a:p>
      </dgm:t>
    </dgm:pt>
    <dgm:pt modelId="{408D41AE-2672-4677-9A39-102DE2C8FD0F}" type="parTrans" cxnId="{E8F60070-E89D-4815-ACC6-6386CEF56704}">
      <dgm:prSet/>
      <dgm:spPr/>
      <dgm:t>
        <a:bodyPr/>
        <a:lstStyle/>
        <a:p>
          <a:endParaRPr lang="uk-UA" sz="2400"/>
        </a:p>
      </dgm:t>
    </dgm:pt>
    <dgm:pt modelId="{A35BE7D7-D464-4E1F-A2ED-E7D2060991C3}" type="sibTrans" cxnId="{E8F60070-E89D-4815-ACC6-6386CEF56704}">
      <dgm:prSet/>
      <dgm:spPr/>
      <dgm:t>
        <a:bodyPr/>
        <a:lstStyle/>
        <a:p>
          <a:endParaRPr lang="uk-UA" sz="2400"/>
        </a:p>
      </dgm:t>
    </dgm:pt>
    <dgm:pt modelId="{EE790576-3558-4273-BBA6-7AE86C068564}" type="pres">
      <dgm:prSet presAssocID="{49C7697F-EE6B-4258-B45A-AE378408BD4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7EDA072-8967-4777-88F4-BB329CC7BF2B}" type="pres">
      <dgm:prSet presAssocID="{983F1659-443A-45D6-BCDB-CB29FDED15CC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DEC84D7-1543-42B5-9A1C-2C3B86C65649}" type="pres">
      <dgm:prSet presAssocID="{3CA83708-96D2-48BD-875F-AEAB1697EF9F}" presName="spacer" presStyleCnt="0"/>
      <dgm:spPr/>
    </dgm:pt>
    <dgm:pt modelId="{B9D41303-9C97-4363-8B61-1D6C3FF9F8B3}" type="pres">
      <dgm:prSet presAssocID="{0A51E537-E18C-4C06-B6DD-6CE7531EB334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2FAE995-AF4A-4E3E-AB8A-13053862E4DD}" type="pres">
      <dgm:prSet presAssocID="{8150AFE7-AE8D-4B3B-B102-CBDDFDB9A02A}" presName="spacer" presStyleCnt="0"/>
      <dgm:spPr/>
    </dgm:pt>
    <dgm:pt modelId="{A967026F-204A-40AE-9C1E-50F2ACE54F23}" type="pres">
      <dgm:prSet presAssocID="{69D9E147-E880-4CB8-B4D1-9024A7E97A0B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DB43A86-50EA-4C0C-B6F1-2DB85978A041}" type="presOf" srcId="{983F1659-443A-45D6-BCDB-CB29FDED15CC}" destId="{57EDA072-8967-4777-88F4-BB329CC7BF2B}" srcOrd="0" destOrd="0" presId="urn:microsoft.com/office/officeart/2005/8/layout/vList2"/>
    <dgm:cxn modelId="{90DCAD0F-5C8C-400D-A3A0-5432ABC4CB69}" srcId="{49C7697F-EE6B-4258-B45A-AE378408BD4C}" destId="{0A51E537-E18C-4C06-B6DD-6CE7531EB334}" srcOrd="1" destOrd="0" parTransId="{D47F1B82-207E-4FE1-9D03-B9B743CE280A}" sibTransId="{8150AFE7-AE8D-4B3B-B102-CBDDFDB9A02A}"/>
    <dgm:cxn modelId="{02F23B6B-0B81-4E54-B989-9FB44BB055BA}" type="presOf" srcId="{69D9E147-E880-4CB8-B4D1-9024A7E97A0B}" destId="{A967026F-204A-40AE-9C1E-50F2ACE54F23}" srcOrd="0" destOrd="0" presId="urn:microsoft.com/office/officeart/2005/8/layout/vList2"/>
    <dgm:cxn modelId="{E8F60070-E89D-4815-ACC6-6386CEF56704}" srcId="{49C7697F-EE6B-4258-B45A-AE378408BD4C}" destId="{69D9E147-E880-4CB8-B4D1-9024A7E97A0B}" srcOrd="2" destOrd="0" parTransId="{408D41AE-2672-4677-9A39-102DE2C8FD0F}" sibTransId="{A35BE7D7-D464-4E1F-A2ED-E7D2060991C3}"/>
    <dgm:cxn modelId="{11003BE8-A642-4E1B-ABF1-A1C3BB472ECF}" type="presOf" srcId="{49C7697F-EE6B-4258-B45A-AE378408BD4C}" destId="{EE790576-3558-4273-BBA6-7AE86C068564}" srcOrd="0" destOrd="0" presId="urn:microsoft.com/office/officeart/2005/8/layout/vList2"/>
    <dgm:cxn modelId="{80A0E34D-71AB-4B18-A7A5-ABFDFEEF4730}" srcId="{49C7697F-EE6B-4258-B45A-AE378408BD4C}" destId="{983F1659-443A-45D6-BCDB-CB29FDED15CC}" srcOrd="0" destOrd="0" parTransId="{75D798CA-6F89-4D80-BF35-F8538C8A8A62}" sibTransId="{3CA83708-96D2-48BD-875F-AEAB1697EF9F}"/>
    <dgm:cxn modelId="{5C348DD2-6691-43AA-BCF5-325A92A829B0}" type="presOf" srcId="{0A51E537-E18C-4C06-B6DD-6CE7531EB334}" destId="{B9D41303-9C97-4363-8B61-1D6C3FF9F8B3}" srcOrd="0" destOrd="0" presId="urn:microsoft.com/office/officeart/2005/8/layout/vList2"/>
    <dgm:cxn modelId="{82600FDC-EA84-4F60-99A4-8DED812996BB}" type="presParOf" srcId="{EE790576-3558-4273-BBA6-7AE86C068564}" destId="{57EDA072-8967-4777-88F4-BB329CC7BF2B}" srcOrd="0" destOrd="0" presId="urn:microsoft.com/office/officeart/2005/8/layout/vList2"/>
    <dgm:cxn modelId="{FCCE3495-B2D4-491F-AE17-ECFBD78D87BA}" type="presParOf" srcId="{EE790576-3558-4273-BBA6-7AE86C068564}" destId="{3DEC84D7-1543-42B5-9A1C-2C3B86C65649}" srcOrd="1" destOrd="0" presId="urn:microsoft.com/office/officeart/2005/8/layout/vList2"/>
    <dgm:cxn modelId="{D6A98E0D-D8CB-420A-862E-977E92C2665A}" type="presParOf" srcId="{EE790576-3558-4273-BBA6-7AE86C068564}" destId="{B9D41303-9C97-4363-8B61-1D6C3FF9F8B3}" srcOrd="2" destOrd="0" presId="urn:microsoft.com/office/officeart/2005/8/layout/vList2"/>
    <dgm:cxn modelId="{73D7916B-A934-47DF-918C-118F7FC2005F}" type="presParOf" srcId="{EE790576-3558-4273-BBA6-7AE86C068564}" destId="{02FAE995-AF4A-4E3E-AB8A-13053862E4DD}" srcOrd="3" destOrd="0" presId="urn:microsoft.com/office/officeart/2005/8/layout/vList2"/>
    <dgm:cxn modelId="{5635B129-29D3-44B1-845A-7B78DA5A72DE}" type="presParOf" srcId="{EE790576-3558-4273-BBA6-7AE86C068564}" destId="{A967026F-204A-40AE-9C1E-50F2ACE54F23}" srcOrd="4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6.xml><?xml version="1.0" encoding="utf-8"?>
<dgm:dataModel xmlns:dgm="http://schemas.openxmlformats.org/drawingml/2006/diagram" xmlns:a="http://schemas.openxmlformats.org/drawingml/2006/main">
  <dgm:ptLst>
    <dgm:pt modelId="{906B0932-DFA6-4288-828B-9F6216743A73}" type="doc">
      <dgm:prSet loTypeId="urn:microsoft.com/office/officeart/2005/8/layout/vList2" loCatId="list" qsTypeId="urn:microsoft.com/office/officeart/2005/8/quickstyle/simple1" qsCatId="simple" csTypeId="urn:microsoft.com/office/officeart/2005/8/colors/accent1_1" csCatId="accent1"/>
      <dgm:spPr/>
      <dgm:t>
        <a:bodyPr/>
        <a:lstStyle/>
        <a:p>
          <a:endParaRPr lang="uk-UA"/>
        </a:p>
      </dgm:t>
    </dgm:pt>
    <dgm:pt modelId="{60BF57DF-67BB-4F7E-AFE3-56DB1A35384F}">
      <dgm:prSet custT="1"/>
      <dgm:spPr/>
      <dgm:t>
        <a:bodyPr/>
        <a:lstStyle/>
        <a:p>
          <a:pPr rtl="0"/>
          <a:r>
            <a:rPr lang="uk-UA" sz="2400" noProof="0" smtClean="0"/>
            <a:t>оплату товарів, участь оптових підприємств у розрахунках;</a:t>
          </a:r>
          <a:endParaRPr lang="uk-UA" sz="2400" noProof="0"/>
        </a:p>
      </dgm:t>
    </dgm:pt>
    <dgm:pt modelId="{8D7E8531-AD98-4E37-9557-F4BFCE581051}" type="parTrans" cxnId="{B9819993-AC5F-4F1D-99E2-62F1E8D88557}">
      <dgm:prSet/>
      <dgm:spPr/>
      <dgm:t>
        <a:bodyPr/>
        <a:lstStyle/>
        <a:p>
          <a:endParaRPr lang="uk-UA" sz="2400" noProof="0"/>
        </a:p>
      </dgm:t>
    </dgm:pt>
    <dgm:pt modelId="{5E1D1435-F680-4255-8F2F-E9637ABE9C8C}" type="sibTrans" cxnId="{B9819993-AC5F-4F1D-99E2-62F1E8D88557}">
      <dgm:prSet/>
      <dgm:spPr/>
      <dgm:t>
        <a:bodyPr/>
        <a:lstStyle/>
        <a:p>
          <a:endParaRPr lang="uk-UA" sz="2400" noProof="0"/>
        </a:p>
      </dgm:t>
    </dgm:pt>
    <dgm:pt modelId="{32C4E2C4-6F97-4D23-B39C-7AFC39917711}">
      <dgm:prSet custT="1"/>
      <dgm:spPr/>
      <dgm:t>
        <a:bodyPr/>
        <a:lstStyle/>
        <a:p>
          <a:pPr rtl="0"/>
          <a:r>
            <a:rPr lang="uk-UA" sz="2400" noProof="0" smtClean="0"/>
            <a:t>надання кредитів виробникам і покупцям товарів; </a:t>
          </a:r>
          <a:endParaRPr lang="uk-UA" sz="2400" noProof="0"/>
        </a:p>
      </dgm:t>
    </dgm:pt>
    <dgm:pt modelId="{1CB01741-8AC6-4863-9EDB-20C2EA16B2CF}" type="parTrans" cxnId="{C9C52E03-614A-4BF5-9DFC-75AA5DEC2196}">
      <dgm:prSet/>
      <dgm:spPr/>
      <dgm:t>
        <a:bodyPr/>
        <a:lstStyle/>
        <a:p>
          <a:endParaRPr lang="uk-UA" sz="2400" noProof="0"/>
        </a:p>
      </dgm:t>
    </dgm:pt>
    <dgm:pt modelId="{7166C1FB-ABCF-48C9-B17D-C3DEB23ADE99}" type="sibTrans" cxnId="{C9C52E03-614A-4BF5-9DFC-75AA5DEC2196}">
      <dgm:prSet/>
      <dgm:spPr/>
      <dgm:t>
        <a:bodyPr/>
        <a:lstStyle/>
        <a:p>
          <a:endParaRPr lang="uk-UA" sz="2400" noProof="0"/>
        </a:p>
      </dgm:t>
    </dgm:pt>
    <dgm:pt modelId="{214E0AAB-D38A-4568-ACF7-5578FD9E1518}">
      <dgm:prSet custT="1"/>
      <dgm:spPr/>
      <dgm:t>
        <a:bodyPr/>
        <a:lstStyle/>
        <a:p>
          <a:pPr rtl="0"/>
          <a:r>
            <a:rPr lang="uk-UA" sz="2400" noProof="0" smtClean="0"/>
            <a:t>інвестування виробництва найдефіцитніших і найперспективніших видів товарної продукції </a:t>
          </a:r>
          <a:endParaRPr lang="uk-UA" sz="2400" noProof="0"/>
        </a:p>
      </dgm:t>
    </dgm:pt>
    <dgm:pt modelId="{EBB41CC6-233C-441B-9CE1-7025E22BE459}" type="parTrans" cxnId="{A3AD60B5-DFEE-4DA4-8618-EC0FFEB5B80D}">
      <dgm:prSet/>
      <dgm:spPr/>
      <dgm:t>
        <a:bodyPr/>
        <a:lstStyle/>
        <a:p>
          <a:endParaRPr lang="uk-UA" sz="2400" noProof="0"/>
        </a:p>
      </dgm:t>
    </dgm:pt>
    <dgm:pt modelId="{EE1D6088-1406-4663-8B3D-887E23FDE041}" type="sibTrans" cxnId="{A3AD60B5-DFEE-4DA4-8618-EC0FFEB5B80D}">
      <dgm:prSet/>
      <dgm:spPr/>
      <dgm:t>
        <a:bodyPr/>
        <a:lstStyle/>
        <a:p>
          <a:endParaRPr lang="uk-UA" sz="2400" noProof="0"/>
        </a:p>
      </dgm:t>
    </dgm:pt>
    <dgm:pt modelId="{11906C1C-24E1-469E-96B7-F3E2D5369171}" type="pres">
      <dgm:prSet presAssocID="{906B0932-DFA6-4288-828B-9F6216743A73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17CFE7C1-C26D-49C7-B0AA-D58BA0FD69FC}" type="pres">
      <dgm:prSet presAssocID="{60BF57DF-67BB-4F7E-AFE3-56DB1A35384F}" presName="parentText" presStyleLbl="node1" presStyleIdx="0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A434032-0D5E-464D-8D54-99AF9CD078D5}" type="pres">
      <dgm:prSet presAssocID="{5E1D1435-F680-4255-8F2F-E9637ABE9C8C}" presName="spacer" presStyleCnt="0"/>
      <dgm:spPr/>
    </dgm:pt>
    <dgm:pt modelId="{11F8AA01-3874-4C4C-B229-C877C8905F51}" type="pres">
      <dgm:prSet presAssocID="{32C4E2C4-6F97-4D23-B39C-7AFC39917711}" presName="parentText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564844C-97B8-4B9B-ACFF-37CE9B337C44}" type="pres">
      <dgm:prSet presAssocID="{7166C1FB-ABCF-48C9-B17D-C3DEB23ADE99}" presName="spacer" presStyleCnt="0"/>
      <dgm:spPr/>
    </dgm:pt>
    <dgm:pt modelId="{59993BE6-508D-40B0-88C2-31F9CF66206D}" type="pres">
      <dgm:prSet presAssocID="{214E0AAB-D38A-4568-ACF7-5578FD9E1518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9819993-AC5F-4F1D-99E2-62F1E8D88557}" srcId="{906B0932-DFA6-4288-828B-9F6216743A73}" destId="{60BF57DF-67BB-4F7E-AFE3-56DB1A35384F}" srcOrd="0" destOrd="0" parTransId="{8D7E8531-AD98-4E37-9557-F4BFCE581051}" sibTransId="{5E1D1435-F680-4255-8F2F-E9637ABE9C8C}"/>
    <dgm:cxn modelId="{276314E5-1EF7-46C2-A0F5-63E462FB74E5}" type="presOf" srcId="{906B0932-DFA6-4288-828B-9F6216743A73}" destId="{11906C1C-24E1-469E-96B7-F3E2D5369171}" srcOrd="0" destOrd="0" presId="urn:microsoft.com/office/officeart/2005/8/layout/vList2"/>
    <dgm:cxn modelId="{C9C52E03-614A-4BF5-9DFC-75AA5DEC2196}" srcId="{906B0932-DFA6-4288-828B-9F6216743A73}" destId="{32C4E2C4-6F97-4D23-B39C-7AFC39917711}" srcOrd="1" destOrd="0" parTransId="{1CB01741-8AC6-4863-9EDB-20C2EA16B2CF}" sibTransId="{7166C1FB-ABCF-48C9-B17D-C3DEB23ADE99}"/>
    <dgm:cxn modelId="{C89D8652-735A-4D83-91E4-A6999D0534FA}" type="presOf" srcId="{60BF57DF-67BB-4F7E-AFE3-56DB1A35384F}" destId="{17CFE7C1-C26D-49C7-B0AA-D58BA0FD69FC}" srcOrd="0" destOrd="0" presId="urn:microsoft.com/office/officeart/2005/8/layout/vList2"/>
    <dgm:cxn modelId="{A3AD60B5-DFEE-4DA4-8618-EC0FFEB5B80D}" srcId="{906B0932-DFA6-4288-828B-9F6216743A73}" destId="{214E0AAB-D38A-4568-ACF7-5578FD9E1518}" srcOrd="2" destOrd="0" parTransId="{EBB41CC6-233C-441B-9CE1-7025E22BE459}" sibTransId="{EE1D6088-1406-4663-8B3D-887E23FDE041}"/>
    <dgm:cxn modelId="{5715B01B-1265-4B53-9B5C-7F05E17DECF2}" type="presOf" srcId="{214E0AAB-D38A-4568-ACF7-5578FD9E1518}" destId="{59993BE6-508D-40B0-88C2-31F9CF66206D}" srcOrd="0" destOrd="0" presId="urn:microsoft.com/office/officeart/2005/8/layout/vList2"/>
    <dgm:cxn modelId="{47F497E7-9497-4A19-B578-F6C8D8BC478A}" type="presOf" srcId="{32C4E2C4-6F97-4D23-B39C-7AFC39917711}" destId="{11F8AA01-3874-4C4C-B229-C877C8905F51}" srcOrd="0" destOrd="0" presId="urn:microsoft.com/office/officeart/2005/8/layout/vList2"/>
    <dgm:cxn modelId="{EC2038F6-6E3F-48D2-A73B-F2E42C03780E}" type="presParOf" srcId="{11906C1C-24E1-469E-96B7-F3E2D5369171}" destId="{17CFE7C1-C26D-49C7-B0AA-D58BA0FD69FC}" srcOrd="0" destOrd="0" presId="urn:microsoft.com/office/officeart/2005/8/layout/vList2"/>
    <dgm:cxn modelId="{4E085A76-30D3-4698-A569-DD7CA08E141F}" type="presParOf" srcId="{11906C1C-24E1-469E-96B7-F3E2D5369171}" destId="{5A434032-0D5E-464D-8D54-99AF9CD078D5}" srcOrd="1" destOrd="0" presId="urn:microsoft.com/office/officeart/2005/8/layout/vList2"/>
    <dgm:cxn modelId="{16DFAE91-0302-4051-8169-CD91791BBE1C}" type="presParOf" srcId="{11906C1C-24E1-469E-96B7-F3E2D5369171}" destId="{11F8AA01-3874-4C4C-B229-C877C8905F51}" srcOrd="2" destOrd="0" presId="urn:microsoft.com/office/officeart/2005/8/layout/vList2"/>
    <dgm:cxn modelId="{5BD5CF96-B21A-426E-A1B2-8060A3173C6B}" type="presParOf" srcId="{11906C1C-24E1-469E-96B7-F3E2D5369171}" destId="{0564844C-97B8-4B9B-ACFF-37CE9B337C44}" srcOrd="3" destOrd="0" presId="urn:microsoft.com/office/officeart/2005/8/layout/vList2"/>
    <dgm:cxn modelId="{088AFB54-7D1D-4EEB-8AB7-91DDBD6BEA4E}" type="presParOf" srcId="{11906C1C-24E1-469E-96B7-F3E2D5369171}" destId="{59993BE6-508D-40B0-88C2-31F9CF66206D}" srcOrd="4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7.xml><?xml version="1.0" encoding="utf-8"?>
<dgm:dataModel xmlns:dgm="http://schemas.openxmlformats.org/drawingml/2006/diagram" xmlns:a="http://schemas.openxmlformats.org/drawingml/2006/main">
  <dgm:ptLst>
    <dgm:pt modelId="{B3E9357C-899D-4481-968B-C26B0BFD11E5}" type="doc">
      <dgm:prSet loTypeId="urn:microsoft.com/office/officeart/2005/8/layout/vList2" loCatId="list" qsTypeId="urn:microsoft.com/office/officeart/2005/8/quickstyle/simple1" qsCatId="simple" csTypeId="urn:microsoft.com/office/officeart/2005/8/colors/accent1_1" csCatId="accent1"/>
      <dgm:spPr/>
      <dgm:t>
        <a:bodyPr/>
        <a:lstStyle/>
        <a:p>
          <a:endParaRPr lang="uk-UA"/>
        </a:p>
      </dgm:t>
    </dgm:pt>
    <dgm:pt modelId="{7F213ECD-47AB-4848-891A-2C4FF8DFBB8C}">
      <dgm:prSet custT="1"/>
      <dgm:spPr/>
      <dgm:t>
        <a:bodyPr/>
        <a:lstStyle/>
        <a:p>
          <a:pPr rtl="0"/>
          <a:r>
            <a:rPr lang="uk-UA" sz="2400" noProof="0" smtClean="0"/>
            <a:t>надання в оренду складських, виробничих, службових та інших площ, машин та обладнання;</a:t>
          </a:r>
          <a:endParaRPr lang="uk-UA" sz="2400" noProof="0"/>
        </a:p>
      </dgm:t>
    </dgm:pt>
    <dgm:pt modelId="{EB12C4EE-1DF2-4A07-92D8-C8DB4C40C766}" type="parTrans" cxnId="{D344A643-0EB1-4C47-B140-8C53F72B20F3}">
      <dgm:prSet/>
      <dgm:spPr/>
      <dgm:t>
        <a:bodyPr/>
        <a:lstStyle/>
        <a:p>
          <a:endParaRPr lang="uk-UA" sz="2400" noProof="0"/>
        </a:p>
      </dgm:t>
    </dgm:pt>
    <dgm:pt modelId="{EE0BC87E-BBA8-46F0-A537-CF68BFD522CE}" type="sibTrans" cxnId="{D344A643-0EB1-4C47-B140-8C53F72B20F3}">
      <dgm:prSet/>
      <dgm:spPr/>
      <dgm:t>
        <a:bodyPr/>
        <a:lstStyle/>
        <a:p>
          <a:endParaRPr lang="uk-UA" sz="2400" noProof="0"/>
        </a:p>
      </dgm:t>
    </dgm:pt>
    <dgm:pt modelId="{D50209D5-2A79-4F91-8CB6-FB3D3536CACF}">
      <dgm:prSet custT="1"/>
      <dgm:spPr/>
      <dgm:t>
        <a:bodyPr/>
        <a:lstStyle/>
        <a:p>
          <a:pPr rtl="0"/>
          <a:r>
            <a:rPr lang="uk-UA" sz="2400" noProof="0" smtClean="0"/>
            <a:t>прокат обладнання, приладів інструментів, тари, контейнерів, підйомно-транспортних машин, механізмів, транспортних засобів </a:t>
          </a:r>
          <a:endParaRPr lang="uk-UA" sz="2400" noProof="0"/>
        </a:p>
      </dgm:t>
    </dgm:pt>
    <dgm:pt modelId="{D2E2380D-D998-4F51-9789-F392589F91E6}" type="parTrans" cxnId="{AB835C55-56A8-4F0F-BF11-EF84BB555935}">
      <dgm:prSet/>
      <dgm:spPr/>
      <dgm:t>
        <a:bodyPr/>
        <a:lstStyle/>
        <a:p>
          <a:endParaRPr lang="uk-UA" sz="2400" noProof="0"/>
        </a:p>
      </dgm:t>
    </dgm:pt>
    <dgm:pt modelId="{DBD6823B-229E-4E0B-9E80-F87E4DFF9837}" type="sibTrans" cxnId="{AB835C55-56A8-4F0F-BF11-EF84BB555935}">
      <dgm:prSet/>
      <dgm:spPr/>
      <dgm:t>
        <a:bodyPr/>
        <a:lstStyle/>
        <a:p>
          <a:endParaRPr lang="uk-UA" sz="2400" noProof="0"/>
        </a:p>
      </dgm:t>
    </dgm:pt>
    <dgm:pt modelId="{14642B91-F9C9-426D-A91A-8C04D1DB0DAE}" type="pres">
      <dgm:prSet presAssocID="{B3E9357C-899D-4481-968B-C26B0BFD11E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E9D2ACE0-F022-4DB5-812A-27609D3E2B92}" type="pres">
      <dgm:prSet presAssocID="{7F213ECD-47AB-4848-891A-2C4FF8DFBB8C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1823275-7A97-4BA5-B00A-E6625708560F}" type="pres">
      <dgm:prSet presAssocID="{EE0BC87E-BBA8-46F0-A537-CF68BFD522CE}" presName="spacer" presStyleCnt="0"/>
      <dgm:spPr/>
    </dgm:pt>
    <dgm:pt modelId="{3AE85C13-C2BF-4AC8-B022-4F61E814A925}" type="pres">
      <dgm:prSet presAssocID="{D50209D5-2A79-4F91-8CB6-FB3D3536CACF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721D6AD-CF38-4DF8-87F1-A57885B0AB1D}" type="presOf" srcId="{D50209D5-2A79-4F91-8CB6-FB3D3536CACF}" destId="{3AE85C13-C2BF-4AC8-B022-4F61E814A925}" srcOrd="0" destOrd="0" presId="urn:microsoft.com/office/officeart/2005/8/layout/vList2"/>
    <dgm:cxn modelId="{0B784368-BE5B-4F12-94EF-FD6BC916CFD0}" type="presOf" srcId="{B3E9357C-899D-4481-968B-C26B0BFD11E5}" destId="{14642B91-F9C9-426D-A91A-8C04D1DB0DAE}" srcOrd="0" destOrd="0" presId="urn:microsoft.com/office/officeart/2005/8/layout/vList2"/>
    <dgm:cxn modelId="{AB835C55-56A8-4F0F-BF11-EF84BB555935}" srcId="{B3E9357C-899D-4481-968B-C26B0BFD11E5}" destId="{D50209D5-2A79-4F91-8CB6-FB3D3536CACF}" srcOrd="1" destOrd="0" parTransId="{D2E2380D-D998-4F51-9789-F392589F91E6}" sibTransId="{DBD6823B-229E-4E0B-9E80-F87E4DFF9837}"/>
    <dgm:cxn modelId="{456DB848-B8D6-4B09-A739-8AD789A63E3D}" type="presOf" srcId="{7F213ECD-47AB-4848-891A-2C4FF8DFBB8C}" destId="{E9D2ACE0-F022-4DB5-812A-27609D3E2B92}" srcOrd="0" destOrd="0" presId="urn:microsoft.com/office/officeart/2005/8/layout/vList2"/>
    <dgm:cxn modelId="{D344A643-0EB1-4C47-B140-8C53F72B20F3}" srcId="{B3E9357C-899D-4481-968B-C26B0BFD11E5}" destId="{7F213ECD-47AB-4848-891A-2C4FF8DFBB8C}" srcOrd="0" destOrd="0" parTransId="{EB12C4EE-1DF2-4A07-92D8-C8DB4C40C766}" sibTransId="{EE0BC87E-BBA8-46F0-A537-CF68BFD522CE}"/>
    <dgm:cxn modelId="{EEB312D0-22B7-4279-B2B4-1BA59FAE7686}" type="presParOf" srcId="{14642B91-F9C9-426D-A91A-8C04D1DB0DAE}" destId="{E9D2ACE0-F022-4DB5-812A-27609D3E2B92}" srcOrd="0" destOrd="0" presId="urn:microsoft.com/office/officeart/2005/8/layout/vList2"/>
    <dgm:cxn modelId="{7520D478-0A36-4E2C-ADF6-045B6B22FE69}" type="presParOf" srcId="{14642B91-F9C9-426D-A91A-8C04D1DB0DAE}" destId="{11823275-7A97-4BA5-B00A-E6625708560F}" srcOrd="1" destOrd="0" presId="urn:microsoft.com/office/officeart/2005/8/layout/vList2"/>
    <dgm:cxn modelId="{D862F1BA-5B6A-44F6-9983-69D6EF396D18}" type="presParOf" srcId="{14642B91-F9C9-426D-A91A-8C04D1DB0DAE}" destId="{3AE85C13-C2BF-4AC8-B022-4F61E814A925}" srcOrd="2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8.xml><?xml version="1.0" encoding="utf-8"?>
<dgm:dataModel xmlns:dgm="http://schemas.openxmlformats.org/drawingml/2006/diagram" xmlns:a="http://schemas.openxmlformats.org/drawingml/2006/main">
  <dgm:ptLst>
    <dgm:pt modelId="{BB7593A3-898A-4291-86D5-60149DDFC00A}" type="doc">
      <dgm:prSet loTypeId="urn:microsoft.com/office/officeart/2005/8/layout/vList2" loCatId="list" qsTypeId="urn:microsoft.com/office/officeart/2005/8/quickstyle/simple1" qsCatId="simple" csTypeId="urn:microsoft.com/office/officeart/2005/8/colors/accent1_1" csCatId="accent1"/>
      <dgm:spPr/>
      <dgm:t>
        <a:bodyPr/>
        <a:lstStyle/>
        <a:p>
          <a:endParaRPr lang="uk-UA"/>
        </a:p>
      </dgm:t>
    </dgm:pt>
    <dgm:pt modelId="{D3B395C4-7F69-4621-8617-C95908240AA0}">
      <dgm:prSet custT="1"/>
      <dgm:spPr/>
      <dgm:t>
        <a:bodyPr/>
        <a:lstStyle/>
        <a:p>
          <a:pPr rtl="0"/>
          <a:r>
            <a:rPr lang="uk-UA" sz="2000" noProof="0" dirty="0" smtClean="0"/>
            <a:t>сортування, пакування та перепакування штучних товарів; розфасування сипучих товарів у меншу тару;</a:t>
          </a:r>
          <a:endParaRPr lang="uk-UA" sz="2000" noProof="0" dirty="0"/>
        </a:p>
      </dgm:t>
    </dgm:pt>
    <dgm:pt modelId="{1564EC66-962A-489F-82CB-98FE3D639AF1}" type="parTrans" cxnId="{8BE44DE5-60C8-4115-B70B-DA9383D10FCC}">
      <dgm:prSet/>
      <dgm:spPr/>
      <dgm:t>
        <a:bodyPr/>
        <a:lstStyle/>
        <a:p>
          <a:endParaRPr lang="uk-UA" sz="2000" noProof="0"/>
        </a:p>
      </dgm:t>
    </dgm:pt>
    <dgm:pt modelId="{E92E37BD-86A5-4614-9151-BCA41A4ABC62}" type="sibTrans" cxnId="{8BE44DE5-60C8-4115-B70B-DA9383D10FCC}">
      <dgm:prSet/>
      <dgm:spPr/>
      <dgm:t>
        <a:bodyPr/>
        <a:lstStyle/>
        <a:p>
          <a:endParaRPr lang="uk-UA" sz="2000" noProof="0"/>
        </a:p>
      </dgm:t>
    </dgm:pt>
    <dgm:pt modelId="{ABA728F4-BEAB-446F-949A-DE7F69E1AF68}">
      <dgm:prSet custT="1"/>
      <dgm:spPr/>
      <dgm:t>
        <a:bodyPr/>
        <a:lstStyle/>
        <a:p>
          <a:pPr rtl="0"/>
          <a:r>
            <a:rPr lang="uk-UA" sz="2000" noProof="0" smtClean="0"/>
            <a:t>розлив у менший посуд рідинних товарів;</a:t>
          </a:r>
          <a:endParaRPr lang="uk-UA" sz="2000" noProof="0"/>
        </a:p>
      </dgm:t>
    </dgm:pt>
    <dgm:pt modelId="{C727AE6D-BB26-4A37-A834-1EA73427E783}" type="parTrans" cxnId="{2737FE5D-5B6A-48D9-A570-057B3CFA9E1B}">
      <dgm:prSet/>
      <dgm:spPr/>
      <dgm:t>
        <a:bodyPr/>
        <a:lstStyle/>
        <a:p>
          <a:endParaRPr lang="uk-UA" sz="2000" noProof="0"/>
        </a:p>
      </dgm:t>
    </dgm:pt>
    <dgm:pt modelId="{A6CE1D64-BDE1-4D02-AEFB-623FE64D4C94}" type="sibTrans" cxnId="{2737FE5D-5B6A-48D9-A570-057B3CFA9E1B}">
      <dgm:prSet/>
      <dgm:spPr/>
      <dgm:t>
        <a:bodyPr/>
        <a:lstStyle/>
        <a:p>
          <a:endParaRPr lang="uk-UA" sz="2000" noProof="0"/>
        </a:p>
      </dgm:t>
    </dgm:pt>
    <dgm:pt modelId="{6A052D33-448E-4B90-9594-C6AE4AB8EB9B}">
      <dgm:prSet custT="1"/>
      <dgm:spPr/>
      <dgm:t>
        <a:bodyPr/>
        <a:lstStyle/>
        <a:p>
          <a:pPr rtl="0"/>
          <a:r>
            <a:rPr lang="uk-UA" sz="2000" noProof="0" smtClean="0"/>
            <a:t>розподіл на дрібні партії або на кілька частин матеріалів у рулонах, барабанах, тощо;</a:t>
          </a:r>
          <a:endParaRPr lang="uk-UA" sz="2000" noProof="0"/>
        </a:p>
      </dgm:t>
    </dgm:pt>
    <dgm:pt modelId="{5F518C0D-80AC-4853-83CD-BCD9EBE7BFB7}" type="parTrans" cxnId="{AD0B4D37-88E7-4681-A897-EC737F4209A1}">
      <dgm:prSet/>
      <dgm:spPr/>
      <dgm:t>
        <a:bodyPr/>
        <a:lstStyle/>
        <a:p>
          <a:endParaRPr lang="uk-UA" sz="2000" noProof="0"/>
        </a:p>
      </dgm:t>
    </dgm:pt>
    <dgm:pt modelId="{5E7D23B4-EF17-4F91-B089-832F83B28887}" type="sibTrans" cxnId="{AD0B4D37-88E7-4681-A897-EC737F4209A1}">
      <dgm:prSet/>
      <dgm:spPr/>
      <dgm:t>
        <a:bodyPr/>
        <a:lstStyle/>
        <a:p>
          <a:endParaRPr lang="uk-UA" sz="2000" noProof="0"/>
        </a:p>
      </dgm:t>
    </dgm:pt>
    <dgm:pt modelId="{46E2FA92-4792-4143-9EE9-AD75CE706F65}">
      <dgm:prSet custT="1"/>
      <dgm:spPr/>
      <dgm:t>
        <a:bodyPr/>
        <a:lstStyle/>
        <a:p>
          <a:pPr rtl="0"/>
          <a:r>
            <a:rPr lang="uk-UA" sz="2000" noProof="0" smtClean="0"/>
            <a:t>виготовлення тари, нестандартних виробів;</a:t>
          </a:r>
          <a:endParaRPr lang="uk-UA" sz="2000" noProof="0"/>
        </a:p>
      </dgm:t>
    </dgm:pt>
    <dgm:pt modelId="{37C63A7F-1BB7-48C1-833A-7891AF45F643}" type="parTrans" cxnId="{428354CC-8205-4608-8443-195B8B0610C0}">
      <dgm:prSet/>
      <dgm:spPr/>
      <dgm:t>
        <a:bodyPr/>
        <a:lstStyle/>
        <a:p>
          <a:endParaRPr lang="uk-UA" sz="2000" noProof="0"/>
        </a:p>
      </dgm:t>
    </dgm:pt>
    <dgm:pt modelId="{002CAD0A-6412-43BF-BA15-05DE30C05D7E}" type="sibTrans" cxnId="{428354CC-8205-4608-8443-195B8B0610C0}">
      <dgm:prSet/>
      <dgm:spPr/>
      <dgm:t>
        <a:bodyPr/>
        <a:lstStyle/>
        <a:p>
          <a:endParaRPr lang="uk-UA" sz="2000" noProof="0"/>
        </a:p>
      </dgm:t>
    </dgm:pt>
    <dgm:pt modelId="{17005672-808D-47F1-806C-6B98EEA56181}">
      <dgm:prSet custT="1"/>
      <dgm:spPr/>
      <dgm:t>
        <a:bodyPr/>
        <a:lstStyle/>
        <a:p>
          <a:pPr rtl="0"/>
          <a:r>
            <a:rPr lang="uk-UA" sz="2000" noProof="0" smtClean="0"/>
            <a:t>збирання й налагодження складної техніки;</a:t>
          </a:r>
          <a:endParaRPr lang="uk-UA" sz="2000" noProof="0"/>
        </a:p>
      </dgm:t>
    </dgm:pt>
    <dgm:pt modelId="{57575BDF-471A-478A-AA85-5071A40200E5}" type="parTrans" cxnId="{5D38C74F-30ED-43F2-9C92-3239F7B63A27}">
      <dgm:prSet/>
      <dgm:spPr/>
      <dgm:t>
        <a:bodyPr/>
        <a:lstStyle/>
        <a:p>
          <a:endParaRPr lang="uk-UA" sz="2000" noProof="0"/>
        </a:p>
      </dgm:t>
    </dgm:pt>
    <dgm:pt modelId="{BA744EA5-202A-4E5E-8602-4B28C972310D}" type="sibTrans" cxnId="{5D38C74F-30ED-43F2-9C92-3239F7B63A27}">
      <dgm:prSet/>
      <dgm:spPr/>
      <dgm:t>
        <a:bodyPr/>
        <a:lstStyle/>
        <a:p>
          <a:endParaRPr lang="uk-UA" sz="2000" noProof="0"/>
        </a:p>
      </dgm:t>
    </dgm:pt>
    <dgm:pt modelId="{94F97AF4-099F-4964-8F44-05134AB4F5D3}">
      <dgm:prSet custT="1"/>
      <dgm:spPr/>
      <dgm:t>
        <a:bodyPr/>
        <a:lstStyle/>
        <a:p>
          <a:pPr rtl="0"/>
          <a:r>
            <a:rPr lang="uk-UA" sz="2000" noProof="0" smtClean="0"/>
            <a:t>установлення, монтування обладнання;</a:t>
          </a:r>
          <a:endParaRPr lang="uk-UA" sz="2000" noProof="0"/>
        </a:p>
      </dgm:t>
    </dgm:pt>
    <dgm:pt modelId="{6F39A06B-CF72-4E92-858C-709FE1640BAE}" type="parTrans" cxnId="{22D6F57C-DD13-4249-A1C9-672A8FFE1F7B}">
      <dgm:prSet/>
      <dgm:spPr/>
      <dgm:t>
        <a:bodyPr/>
        <a:lstStyle/>
        <a:p>
          <a:endParaRPr lang="uk-UA" sz="2000" noProof="0"/>
        </a:p>
      </dgm:t>
    </dgm:pt>
    <dgm:pt modelId="{65E3A17F-B2AD-4337-AD27-1CA32BB41613}" type="sibTrans" cxnId="{22D6F57C-DD13-4249-A1C9-672A8FFE1F7B}">
      <dgm:prSet/>
      <dgm:spPr/>
      <dgm:t>
        <a:bodyPr/>
        <a:lstStyle/>
        <a:p>
          <a:endParaRPr lang="uk-UA" sz="2000" noProof="0"/>
        </a:p>
      </dgm:t>
    </dgm:pt>
    <dgm:pt modelId="{767B678F-317D-4029-8871-D572B0230B3B}">
      <dgm:prSet custT="1"/>
      <dgm:spPr/>
      <dgm:t>
        <a:bodyPr/>
        <a:lstStyle/>
        <a:p>
          <a:pPr rtl="0"/>
          <a:r>
            <a:rPr lang="uk-UA" sz="2000" noProof="0" smtClean="0"/>
            <a:t>налагодження, обкатка, регулювання машин, механізмів, устаткування.</a:t>
          </a:r>
          <a:endParaRPr lang="uk-UA" sz="2000" noProof="0"/>
        </a:p>
      </dgm:t>
    </dgm:pt>
    <dgm:pt modelId="{27F3D490-AADB-4BFC-AADE-99BAF1271FDD}" type="parTrans" cxnId="{35BB27C7-2BA5-4AA6-B1C3-7CB9C34D5CDA}">
      <dgm:prSet/>
      <dgm:spPr/>
      <dgm:t>
        <a:bodyPr/>
        <a:lstStyle/>
        <a:p>
          <a:endParaRPr lang="uk-UA" sz="2000" noProof="0"/>
        </a:p>
      </dgm:t>
    </dgm:pt>
    <dgm:pt modelId="{F2E5898E-FC76-445F-BE62-486B4B62E1A0}" type="sibTrans" cxnId="{35BB27C7-2BA5-4AA6-B1C3-7CB9C34D5CDA}">
      <dgm:prSet/>
      <dgm:spPr/>
      <dgm:t>
        <a:bodyPr/>
        <a:lstStyle/>
        <a:p>
          <a:endParaRPr lang="uk-UA" sz="2000" noProof="0"/>
        </a:p>
      </dgm:t>
    </dgm:pt>
    <dgm:pt modelId="{AA4CC2FE-5A86-4026-9BD4-06A8173CE032}" type="pres">
      <dgm:prSet presAssocID="{BB7593A3-898A-4291-86D5-60149DDFC00A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CCAFFD14-5729-4CA5-BF49-50C6999C81CD}" type="pres">
      <dgm:prSet presAssocID="{D3B395C4-7F69-4621-8617-C95908240AA0}" presName="parentText" presStyleLbl="node1" presStyleIdx="0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3F18210-0C31-40E1-86EB-629078AD86BA}" type="pres">
      <dgm:prSet presAssocID="{E92E37BD-86A5-4614-9151-BCA41A4ABC62}" presName="spacer" presStyleCnt="0"/>
      <dgm:spPr/>
    </dgm:pt>
    <dgm:pt modelId="{09F9E960-A26B-4016-9495-EF4DF6DA676A}" type="pres">
      <dgm:prSet presAssocID="{ABA728F4-BEAB-446F-949A-DE7F69E1AF68}" presName="parentText" presStyleLbl="node1" presStyleIdx="1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6D8179B-5A4F-45D0-9631-6A71D15F948A}" type="pres">
      <dgm:prSet presAssocID="{A6CE1D64-BDE1-4D02-AEFB-623FE64D4C94}" presName="spacer" presStyleCnt="0"/>
      <dgm:spPr/>
    </dgm:pt>
    <dgm:pt modelId="{7BBDED80-0387-48DB-BA56-00667A1DA947}" type="pres">
      <dgm:prSet presAssocID="{6A052D33-448E-4B90-9594-C6AE4AB8EB9B}" presName="parentText" presStyleLbl="node1" presStyleIdx="2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9C00230-574C-4C46-8AB9-135CA3BCA879}" type="pres">
      <dgm:prSet presAssocID="{5E7D23B4-EF17-4F91-B089-832F83B28887}" presName="spacer" presStyleCnt="0"/>
      <dgm:spPr/>
    </dgm:pt>
    <dgm:pt modelId="{CD7F34E3-3951-48E9-97D5-34B2FD2CF01C}" type="pres">
      <dgm:prSet presAssocID="{46E2FA92-4792-4143-9EE9-AD75CE706F65}" presName="parentText" presStyleLbl="node1" presStyleIdx="3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03057ED-AC91-4B78-8236-7C7914A0110D}" type="pres">
      <dgm:prSet presAssocID="{002CAD0A-6412-43BF-BA15-05DE30C05D7E}" presName="spacer" presStyleCnt="0"/>
      <dgm:spPr/>
    </dgm:pt>
    <dgm:pt modelId="{5B94DEF5-13F0-4CBD-AFB0-7D1C97AB3B60}" type="pres">
      <dgm:prSet presAssocID="{17005672-808D-47F1-806C-6B98EEA56181}" presName="parentText" presStyleLbl="node1" presStyleIdx="4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83B163A-BCDD-4F99-9411-A74C2F44B591}" type="pres">
      <dgm:prSet presAssocID="{BA744EA5-202A-4E5E-8602-4B28C972310D}" presName="spacer" presStyleCnt="0"/>
      <dgm:spPr/>
    </dgm:pt>
    <dgm:pt modelId="{4DEB29DB-ADAE-4799-A78B-0C98C7CA924F}" type="pres">
      <dgm:prSet presAssocID="{94F97AF4-099F-4964-8F44-05134AB4F5D3}" presName="parentText" presStyleLbl="node1" presStyleIdx="5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72CA429-25D7-4D2E-B18E-6FD1A35C1D49}" type="pres">
      <dgm:prSet presAssocID="{65E3A17F-B2AD-4337-AD27-1CA32BB41613}" presName="spacer" presStyleCnt="0"/>
      <dgm:spPr/>
    </dgm:pt>
    <dgm:pt modelId="{7EC25A60-B746-4607-BF27-C45CA10E4361}" type="pres">
      <dgm:prSet presAssocID="{767B678F-317D-4029-8871-D572B0230B3B}" presName="parentText" presStyleLbl="node1" presStyleIdx="6" presStyleCnt="7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22D6F57C-DD13-4249-A1C9-672A8FFE1F7B}" srcId="{BB7593A3-898A-4291-86D5-60149DDFC00A}" destId="{94F97AF4-099F-4964-8F44-05134AB4F5D3}" srcOrd="5" destOrd="0" parTransId="{6F39A06B-CF72-4E92-858C-709FE1640BAE}" sibTransId="{65E3A17F-B2AD-4337-AD27-1CA32BB41613}"/>
    <dgm:cxn modelId="{35BB27C7-2BA5-4AA6-B1C3-7CB9C34D5CDA}" srcId="{BB7593A3-898A-4291-86D5-60149DDFC00A}" destId="{767B678F-317D-4029-8871-D572B0230B3B}" srcOrd="6" destOrd="0" parTransId="{27F3D490-AADB-4BFC-AADE-99BAF1271FDD}" sibTransId="{F2E5898E-FC76-445F-BE62-486B4B62E1A0}"/>
    <dgm:cxn modelId="{B24367FC-9A24-4F3A-BA34-2C705E31B570}" type="presOf" srcId="{767B678F-317D-4029-8871-D572B0230B3B}" destId="{7EC25A60-B746-4607-BF27-C45CA10E4361}" srcOrd="0" destOrd="0" presId="urn:microsoft.com/office/officeart/2005/8/layout/vList2"/>
    <dgm:cxn modelId="{7609FFCC-0D86-4CE9-B8F3-978E84228EAB}" type="presOf" srcId="{94F97AF4-099F-4964-8F44-05134AB4F5D3}" destId="{4DEB29DB-ADAE-4799-A78B-0C98C7CA924F}" srcOrd="0" destOrd="0" presId="urn:microsoft.com/office/officeart/2005/8/layout/vList2"/>
    <dgm:cxn modelId="{5D38C74F-30ED-43F2-9C92-3239F7B63A27}" srcId="{BB7593A3-898A-4291-86D5-60149DDFC00A}" destId="{17005672-808D-47F1-806C-6B98EEA56181}" srcOrd="4" destOrd="0" parTransId="{57575BDF-471A-478A-AA85-5071A40200E5}" sibTransId="{BA744EA5-202A-4E5E-8602-4B28C972310D}"/>
    <dgm:cxn modelId="{74232078-A6E0-4220-9AD7-515A4A47DDE2}" type="presOf" srcId="{46E2FA92-4792-4143-9EE9-AD75CE706F65}" destId="{CD7F34E3-3951-48E9-97D5-34B2FD2CF01C}" srcOrd="0" destOrd="0" presId="urn:microsoft.com/office/officeart/2005/8/layout/vList2"/>
    <dgm:cxn modelId="{2883F167-41B7-4C37-A8AE-981066BFD4AB}" type="presOf" srcId="{6A052D33-448E-4B90-9594-C6AE4AB8EB9B}" destId="{7BBDED80-0387-48DB-BA56-00667A1DA947}" srcOrd="0" destOrd="0" presId="urn:microsoft.com/office/officeart/2005/8/layout/vList2"/>
    <dgm:cxn modelId="{C70392F0-9F56-45BA-AA01-FA71CC94FA72}" type="presOf" srcId="{BB7593A3-898A-4291-86D5-60149DDFC00A}" destId="{AA4CC2FE-5A86-4026-9BD4-06A8173CE032}" srcOrd="0" destOrd="0" presId="urn:microsoft.com/office/officeart/2005/8/layout/vList2"/>
    <dgm:cxn modelId="{AD0B4D37-88E7-4681-A897-EC737F4209A1}" srcId="{BB7593A3-898A-4291-86D5-60149DDFC00A}" destId="{6A052D33-448E-4B90-9594-C6AE4AB8EB9B}" srcOrd="2" destOrd="0" parTransId="{5F518C0D-80AC-4853-83CD-BCD9EBE7BFB7}" sibTransId="{5E7D23B4-EF17-4F91-B089-832F83B28887}"/>
    <dgm:cxn modelId="{2737FE5D-5B6A-48D9-A570-057B3CFA9E1B}" srcId="{BB7593A3-898A-4291-86D5-60149DDFC00A}" destId="{ABA728F4-BEAB-446F-949A-DE7F69E1AF68}" srcOrd="1" destOrd="0" parTransId="{C727AE6D-BB26-4A37-A834-1EA73427E783}" sibTransId="{A6CE1D64-BDE1-4D02-AEFB-623FE64D4C94}"/>
    <dgm:cxn modelId="{41DAC3F4-7F98-4AC5-A433-CAAC2B0BAE85}" type="presOf" srcId="{D3B395C4-7F69-4621-8617-C95908240AA0}" destId="{CCAFFD14-5729-4CA5-BF49-50C6999C81CD}" srcOrd="0" destOrd="0" presId="urn:microsoft.com/office/officeart/2005/8/layout/vList2"/>
    <dgm:cxn modelId="{8BE44DE5-60C8-4115-B70B-DA9383D10FCC}" srcId="{BB7593A3-898A-4291-86D5-60149DDFC00A}" destId="{D3B395C4-7F69-4621-8617-C95908240AA0}" srcOrd="0" destOrd="0" parTransId="{1564EC66-962A-489F-82CB-98FE3D639AF1}" sibTransId="{E92E37BD-86A5-4614-9151-BCA41A4ABC62}"/>
    <dgm:cxn modelId="{428354CC-8205-4608-8443-195B8B0610C0}" srcId="{BB7593A3-898A-4291-86D5-60149DDFC00A}" destId="{46E2FA92-4792-4143-9EE9-AD75CE706F65}" srcOrd="3" destOrd="0" parTransId="{37C63A7F-1BB7-48C1-833A-7891AF45F643}" sibTransId="{002CAD0A-6412-43BF-BA15-05DE30C05D7E}"/>
    <dgm:cxn modelId="{8F2E75FF-FC38-4653-811A-F837EEBDE7A7}" type="presOf" srcId="{17005672-808D-47F1-806C-6B98EEA56181}" destId="{5B94DEF5-13F0-4CBD-AFB0-7D1C97AB3B60}" srcOrd="0" destOrd="0" presId="urn:microsoft.com/office/officeart/2005/8/layout/vList2"/>
    <dgm:cxn modelId="{9C52CC36-6B94-44D7-ACE1-5AED9C9615BF}" type="presOf" srcId="{ABA728F4-BEAB-446F-949A-DE7F69E1AF68}" destId="{09F9E960-A26B-4016-9495-EF4DF6DA676A}" srcOrd="0" destOrd="0" presId="urn:microsoft.com/office/officeart/2005/8/layout/vList2"/>
    <dgm:cxn modelId="{5A1AF32D-5F43-4861-B721-95C5256F42F6}" type="presParOf" srcId="{AA4CC2FE-5A86-4026-9BD4-06A8173CE032}" destId="{CCAFFD14-5729-4CA5-BF49-50C6999C81CD}" srcOrd="0" destOrd="0" presId="urn:microsoft.com/office/officeart/2005/8/layout/vList2"/>
    <dgm:cxn modelId="{D53B0A4C-2F0D-431A-95A1-BDF9B3E4E514}" type="presParOf" srcId="{AA4CC2FE-5A86-4026-9BD4-06A8173CE032}" destId="{43F18210-0C31-40E1-86EB-629078AD86BA}" srcOrd="1" destOrd="0" presId="urn:microsoft.com/office/officeart/2005/8/layout/vList2"/>
    <dgm:cxn modelId="{A2C38B95-588F-46A5-AF53-107755680AEF}" type="presParOf" srcId="{AA4CC2FE-5A86-4026-9BD4-06A8173CE032}" destId="{09F9E960-A26B-4016-9495-EF4DF6DA676A}" srcOrd="2" destOrd="0" presId="urn:microsoft.com/office/officeart/2005/8/layout/vList2"/>
    <dgm:cxn modelId="{55A1DEB7-043A-4C64-B6C8-B485A842AE97}" type="presParOf" srcId="{AA4CC2FE-5A86-4026-9BD4-06A8173CE032}" destId="{46D8179B-5A4F-45D0-9631-6A71D15F948A}" srcOrd="3" destOrd="0" presId="urn:microsoft.com/office/officeart/2005/8/layout/vList2"/>
    <dgm:cxn modelId="{43AE1F4D-616D-4126-B7EF-B4AACFC7C618}" type="presParOf" srcId="{AA4CC2FE-5A86-4026-9BD4-06A8173CE032}" destId="{7BBDED80-0387-48DB-BA56-00667A1DA947}" srcOrd="4" destOrd="0" presId="urn:microsoft.com/office/officeart/2005/8/layout/vList2"/>
    <dgm:cxn modelId="{F20FD83B-0A33-43CE-8D37-ED4A5773B207}" type="presParOf" srcId="{AA4CC2FE-5A86-4026-9BD4-06A8173CE032}" destId="{29C00230-574C-4C46-8AB9-135CA3BCA879}" srcOrd="5" destOrd="0" presId="urn:microsoft.com/office/officeart/2005/8/layout/vList2"/>
    <dgm:cxn modelId="{60269DAD-D194-4EEE-8401-E290128AB17D}" type="presParOf" srcId="{AA4CC2FE-5A86-4026-9BD4-06A8173CE032}" destId="{CD7F34E3-3951-48E9-97D5-34B2FD2CF01C}" srcOrd="6" destOrd="0" presId="urn:microsoft.com/office/officeart/2005/8/layout/vList2"/>
    <dgm:cxn modelId="{C6670BF3-026F-45B4-87A6-68E0E5E83A68}" type="presParOf" srcId="{AA4CC2FE-5A86-4026-9BD4-06A8173CE032}" destId="{E03057ED-AC91-4B78-8236-7C7914A0110D}" srcOrd="7" destOrd="0" presId="urn:microsoft.com/office/officeart/2005/8/layout/vList2"/>
    <dgm:cxn modelId="{B039E93D-E5A0-466A-AF4E-33610949DBD0}" type="presParOf" srcId="{AA4CC2FE-5A86-4026-9BD4-06A8173CE032}" destId="{5B94DEF5-13F0-4CBD-AFB0-7D1C97AB3B60}" srcOrd="8" destOrd="0" presId="urn:microsoft.com/office/officeart/2005/8/layout/vList2"/>
    <dgm:cxn modelId="{C0C77BF3-D32E-4283-BDDA-72A6AC1F8E5C}" type="presParOf" srcId="{AA4CC2FE-5A86-4026-9BD4-06A8173CE032}" destId="{D83B163A-BCDD-4F99-9411-A74C2F44B591}" srcOrd="9" destOrd="0" presId="urn:microsoft.com/office/officeart/2005/8/layout/vList2"/>
    <dgm:cxn modelId="{A86DBC9B-DA25-4607-8258-20DFFE91E4A3}" type="presParOf" srcId="{AA4CC2FE-5A86-4026-9BD4-06A8173CE032}" destId="{4DEB29DB-ADAE-4799-A78B-0C98C7CA924F}" srcOrd="10" destOrd="0" presId="urn:microsoft.com/office/officeart/2005/8/layout/vList2"/>
    <dgm:cxn modelId="{374DEAD2-EBE2-46EB-9980-C83117EE8A84}" type="presParOf" srcId="{AA4CC2FE-5A86-4026-9BD4-06A8173CE032}" destId="{172CA429-25D7-4D2E-B18E-6FD1A35C1D49}" srcOrd="11" destOrd="0" presId="urn:microsoft.com/office/officeart/2005/8/layout/vList2"/>
    <dgm:cxn modelId="{151B3DCD-81C9-4692-B662-A721CF74F2B4}" type="presParOf" srcId="{AA4CC2FE-5A86-4026-9BD4-06A8173CE032}" destId="{7EC25A60-B746-4607-BF27-C45CA10E4361}" srcOrd="12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19.xml><?xml version="1.0" encoding="utf-8"?>
<dgm:dataModel xmlns:dgm="http://schemas.openxmlformats.org/drawingml/2006/diagram" xmlns:a="http://schemas.openxmlformats.org/drawingml/2006/main">
  <dgm:ptLst>
    <dgm:pt modelId="{BD1F300F-BFA3-4613-AC26-5650476E2148}" type="doc">
      <dgm:prSet loTypeId="urn:microsoft.com/office/officeart/2005/8/layout/vList2" loCatId="list" qsTypeId="urn:microsoft.com/office/officeart/2005/8/quickstyle/simple1" qsCatId="simple" csTypeId="urn:microsoft.com/office/officeart/2005/8/colors/accent1_1" csCatId="accent1"/>
      <dgm:spPr/>
      <dgm:t>
        <a:bodyPr/>
        <a:lstStyle/>
        <a:p>
          <a:endParaRPr lang="uk-UA"/>
        </a:p>
      </dgm:t>
    </dgm:pt>
    <dgm:pt modelId="{6DDC7D57-31D5-4D57-B296-366C6EC3D2C2}">
      <dgm:prSet custT="1"/>
      <dgm:spPr/>
      <dgm:t>
        <a:bodyPr/>
        <a:lstStyle/>
        <a:p>
          <a:pPr rtl="0"/>
          <a:r>
            <a:rPr lang="uk-UA" sz="2400" noProof="0" smtClean="0"/>
            <a:t>доставка товарів клієнтам за узгодженими графіками силами й транспортом оптовика; </a:t>
          </a:r>
          <a:endParaRPr lang="uk-UA" sz="2400" noProof="0"/>
        </a:p>
      </dgm:t>
    </dgm:pt>
    <dgm:pt modelId="{2A4DBECC-AAB6-4614-BA2E-D42302EA4E34}" type="parTrans" cxnId="{327CA97B-0939-4D29-9AF7-A7BADB766DB3}">
      <dgm:prSet/>
      <dgm:spPr/>
      <dgm:t>
        <a:bodyPr/>
        <a:lstStyle/>
        <a:p>
          <a:endParaRPr lang="uk-UA" sz="2400" noProof="0"/>
        </a:p>
      </dgm:t>
    </dgm:pt>
    <dgm:pt modelId="{A3473A29-F77C-4E05-B954-B7CB0E332246}" type="sibTrans" cxnId="{327CA97B-0939-4D29-9AF7-A7BADB766DB3}">
      <dgm:prSet/>
      <dgm:spPr/>
      <dgm:t>
        <a:bodyPr/>
        <a:lstStyle/>
        <a:p>
          <a:endParaRPr lang="uk-UA" sz="2400" noProof="0"/>
        </a:p>
      </dgm:t>
    </dgm:pt>
    <dgm:pt modelId="{09D4ED58-FC52-43BE-83CF-88077CA63A3F}">
      <dgm:prSet custT="1"/>
      <dgm:spPr/>
      <dgm:t>
        <a:bodyPr/>
        <a:lstStyle/>
        <a:p>
          <a:pPr rtl="0"/>
          <a:r>
            <a:rPr lang="uk-UA" sz="2400" noProof="0" smtClean="0"/>
            <a:t>організація транспортування окремих товарів (токсичних, тих, що швидко псуються, вогненебезпечних тощо) спеціальними транспортними засобами; </a:t>
          </a:r>
          <a:endParaRPr lang="uk-UA" sz="2400" noProof="0"/>
        </a:p>
      </dgm:t>
    </dgm:pt>
    <dgm:pt modelId="{205512B2-A7A1-4CEA-8011-0E3396179AD7}" type="parTrans" cxnId="{53AB40C9-04CD-4E57-A65C-034B2078459F}">
      <dgm:prSet/>
      <dgm:spPr/>
      <dgm:t>
        <a:bodyPr/>
        <a:lstStyle/>
        <a:p>
          <a:endParaRPr lang="uk-UA" sz="2400" noProof="0"/>
        </a:p>
      </dgm:t>
    </dgm:pt>
    <dgm:pt modelId="{D5E2A97D-237F-4995-9304-CDF2DC34DD6F}" type="sibTrans" cxnId="{53AB40C9-04CD-4E57-A65C-034B2078459F}">
      <dgm:prSet/>
      <dgm:spPr/>
      <dgm:t>
        <a:bodyPr/>
        <a:lstStyle/>
        <a:p>
          <a:endParaRPr lang="uk-UA" sz="2400" noProof="0"/>
        </a:p>
      </dgm:t>
    </dgm:pt>
    <dgm:pt modelId="{69305C5B-68C9-4255-A700-9C7E86F30DC7}">
      <dgm:prSet custT="1"/>
      <dgm:spPr/>
      <dgm:t>
        <a:bodyPr/>
        <a:lstStyle/>
        <a:p>
          <a:pPr rtl="0"/>
          <a:r>
            <a:rPr lang="uk-UA" sz="2400" noProof="0" smtClean="0"/>
            <a:t>отримання вантажів у пунктах відправлення та пунктах призначення за дорученням покупців; </a:t>
          </a:r>
          <a:endParaRPr lang="uk-UA" sz="2400" noProof="0"/>
        </a:p>
      </dgm:t>
    </dgm:pt>
    <dgm:pt modelId="{3B8E3776-AFB3-4CA4-8E75-3DA9352F4C67}" type="parTrans" cxnId="{E311AE10-7C5E-4F2F-96AD-46DEB9E545C4}">
      <dgm:prSet/>
      <dgm:spPr/>
      <dgm:t>
        <a:bodyPr/>
        <a:lstStyle/>
        <a:p>
          <a:endParaRPr lang="uk-UA" sz="2400" noProof="0"/>
        </a:p>
      </dgm:t>
    </dgm:pt>
    <dgm:pt modelId="{70FD2E00-ABF6-435A-B9C3-4EBDE520AA73}" type="sibTrans" cxnId="{E311AE10-7C5E-4F2F-96AD-46DEB9E545C4}">
      <dgm:prSet/>
      <dgm:spPr/>
      <dgm:t>
        <a:bodyPr/>
        <a:lstStyle/>
        <a:p>
          <a:endParaRPr lang="uk-UA" sz="2400" noProof="0"/>
        </a:p>
      </dgm:t>
    </dgm:pt>
    <dgm:pt modelId="{253832C8-4AFB-4357-9B9D-6A8960BCD52D}">
      <dgm:prSet custT="1"/>
      <dgm:spPr/>
      <dgm:t>
        <a:bodyPr/>
        <a:lstStyle/>
        <a:p>
          <a:pPr rtl="0"/>
          <a:r>
            <a:rPr lang="uk-UA" sz="2400" noProof="0" smtClean="0"/>
            <a:t>посилкове відправлення штучних та дрібних партій товарної продукції.</a:t>
          </a:r>
          <a:endParaRPr lang="uk-UA" sz="2400" noProof="0"/>
        </a:p>
      </dgm:t>
    </dgm:pt>
    <dgm:pt modelId="{EAA05684-B9C4-47A6-9E2D-91C8EEC364BF}" type="parTrans" cxnId="{0EF9E91C-A5A5-4448-A4F1-C92038924678}">
      <dgm:prSet/>
      <dgm:spPr/>
      <dgm:t>
        <a:bodyPr/>
        <a:lstStyle/>
        <a:p>
          <a:endParaRPr lang="uk-UA" sz="2400" noProof="0"/>
        </a:p>
      </dgm:t>
    </dgm:pt>
    <dgm:pt modelId="{CAAB7EDD-5D69-4628-B953-23CE8E67C717}" type="sibTrans" cxnId="{0EF9E91C-A5A5-4448-A4F1-C92038924678}">
      <dgm:prSet/>
      <dgm:spPr/>
      <dgm:t>
        <a:bodyPr/>
        <a:lstStyle/>
        <a:p>
          <a:endParaRPr lang="uk-UA" sz="2400" noProof="0"/>
        </a:p>
      </dgm:t>
    </dgm:pt>
    <dgm:pt modelId="{D97DDD46-C6E5-4A5D-981F-8F062101845A}" type="pres">
      <dgm:prSet presAssocID="{BD1F300F-BFA3-4613-AC26-5650476E2148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9F2BA4B-7024-465C-9634-0196CCE5736A}" type="pres">
      <dgm:prSet presAssocID="{6DDC7D57-31D5-4D57-B296-366C6EC3D2C2}" presName="parentText" presStyleLbl="node1" presStyleIdx="0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3BCDF6F-08B7-49DD-B68C-315BF33C07A7}" type="pres">
      <dgm:prSet presAssocID="{A3473A29-F77C-4E05-B954-B7CB0E332246}" presName="spacer" presStyleCnt="0"/>
      <dgm:spPr/>
    </dgm:pt>
    <dgm:pt modelId="{880C4109-0B9F-40B5-92D2-5B0D3356AF58}" type="pres">
      <dgm:prSet presAssocID="{09D4ED58-FC52-43BE-83CF-88077CA63A3F}" presName="parentText" presStyleLbl="node1" presStyleIdx="1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AEA51D8-2D14-463E-9701-455B2B82C054}" type="pres">
      <dgm:prSet presAssocID="{D5E2A97D-237F-4995-9304-CDF2DC34DD6F}" presName="spacer" presStyleCnt="0"/>
      <dgm:spPr/>
    </dgm:pt>
    <dgm:pt modelId="{3DE00911-7491-4742-8BA8-BB0CD9BB1448}" type="pres">
      <dgm:prSet presAssocID="{69305C5B-68C9-4255-A700-9C7E86F30DC7}" presName="parentText" presStyleLbl="node1" presStyleIdx="2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DBBFE9A-33F2-4DE3-823E-B356CD5FB327}" type="pres">
      <dgm:prSet presAssocID="{70FD2E00-ABF6-435A-B9C3-4EBDE520AA73}" presName="spacer" presStyleCnt="0"/>
      <dgm:spPr/>
    </dgm:pt>
    <dgm:pt modelId="{8025D92A-A905-4283-A2B8-A19957613C7D}" type="pres">
      <dgm:prSet presAssocID="{253832C8-4AFB-4357-9B9D-6A8960BCD52D}" presName="parentText" presStyleLbl="node1" presStyleIdx="3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3F265CE-5429-4A8A-A109-CBEE0C3E9FBE}" type="presOf" srcId="{69305C5B-68C9-4255-A700-9C7E86F30DC7}" destId="{3DE00911-7491-4742-8BA8-BB0CD9BB1448}" srcOrd="0" destOrd="0" presId="urn:microsoft.com/office/officeart/2005/8/layout/vList2"/>
    <dgm:cxn modelId="{2CD8565A-246E-42BF-925D-019FB8DB0799}" type="presOf" srcId="{253832C8-4AFB-4357-9B9D-6A8960BCD52D}" destId="{8025D92A-A905-4283-A2B8-A19957613C7D}" srcOrd="0" destOrd="0" presId="urn:microsoft.com/office/officeart/2005/8/layout/vList2"/>
    <dgm:cxn modelId="{53AB40C9-04CD-4E57-A65C-034B2078459F}" srcId="{BD1F300F-BFA3-4613-AC26-5650476E2148}" destId="{09D4ED58-FC52-43BE-83CF-88077CA63A3F}" srcOrd="1" destOrd="0" parTransId="{205512B2-A7A1-4CEA-8011-0E3396179AD7}" sibTransId="{D5E2A97D-237F-4995-9304-CDF2DC34DD6F}"/>
    <dgm:cxn modelId="{0EF9E91C-A5A5-4448-A4F1-C92038924678}" srcId="{BD1F300F-BFA3-4613-AC26-5650476E2148}" destId="{253832C8-4AFB-4357-9B9D-6A8960BCD52D}" srcOrd="3" destOrd="0" parTransId="{EAA05684-B9C4-47A6-9E2D-91C8EEC364BF}" sibTransId="{CAAB7EDD-5D69-4628-B953-23CE8E67C717}"/>
    <dgm:cxn modelId="{E311AE10-7C5E-4F2F-96AD-46DEB9E545C4}" srcId="{BD1F300F-BFA3-4613-AC26-5650476E2148}" destId="{69305C5B-68C9-4255-A700-9C7E86F30DC7}" srcOrd="2" destOrd="0" parTransId="{3B8E3776-AFB3-4CA4-8E75-3DA9352F4C67}" sibTransId="{70FD2E00-ABF6-435A-B9C3-4EBDE520AA73}"/>
    <dgm:cxn modelId="{2E827E62-07A3-4EAF-B139-D5696F5313B2}" type="presOf" srcId="{BD1F300F-BFA3-4613-AC26-5650476E2148}" destId="{D97DDD46-C6E5-4A5D-981F-8F062101845A}" srcOrd="0" destOrd="0" presId="urn:microsoft.com/office/officeart/2005/8/layout/vList2"/>
    <dgm:cxn modelId="{327CA97B-0939-4D29-9AF7-A7BADB766DB3}" srcId="{BD1F300F-BFA3-4613-AC26-5650476E2148}" destId="{6DDC7D57-31D5-4D57-B296-366C6EC3D2C2}" srcOrd="0" destOrd="0" parTransId="{2A4DBECC-AAB6-4614-BA2E-D42302EA4E34}" sibTransId="{A3473A29-F77C-4E05-B954-B7CB0E332246}"/>
    <dgm:cxn modelId="{5D195D56-F328-422F-B332-E31B091F0021}" type="presOf" srcId="{6DDC7D57-31D5-4D57-B296-366C6EC3D2C2}" destId="{59F2BA4B-7024-465C-9634-0196CCE5736A}" srcOrd="0" destOrd="0" presId="urn:microsoft.com/office/officeart/2005/8/layout/vList2"/>
    <dgm:cxn modelId="{1AA4A792-BC5B-405B-BC3E-E47D06D046FC}" type="presOf" srcId="{09D4ED58-FC52-43BE-83CF-88077CA63A3F}" destId="{880C4109-0B9F-40B5-92D2-5B0D3356AF58}" srcOrd="0" destOrd="0" presId="urn:microsoft.com/office/officeart/2005/8/layout/vList2"/>
    <dgm:cxn modelId="{7C90A190-7757-470E-81FF-EFE7D85500F7}" type="presParOf" srcId="{D97DDD46-C6E5-4A5D-981F-8F062101845A}" destId="{59F2BA4B-7024-465C-9634-0196CCE5736A}" srcOrd="0" destOrd="0" presId="urn:microsoft.com/office/officeart/2005/8/layout/vList2"/>
    <dgm:cxn modelId="{262A71FB-697F-4459-A28B-BDF273F3A226}" type="presParOf" srcId="{D97DDD46-C6E5-4A5D-981F-8F062101845A}" destId="{33BCDF6F-08B7-49DD-B68C-315BF33C07A7}" srcOrd="1" destOrd="0" presId="urn:microsoft.com/office/officeart/2005/8/layout/vList2"/>
    <dgm:cxn modelId="{67AE0D2F-2139-4291-A5CE-806BA24A2FEF}" type="presParOf" srcId="{D97DDD46-C6E5-4A5D-981F-8F062101845A}" destId="{880C4109-0B9F-40B5-92D2-5B0D3356AF58}" srcOrd="2" destOrd="0" presId="urn:microsoft.com/office/officeart/2005/8/layout/vList2"/>
    <dgm:cxn modelId="{B65ED80E-4093-4071-8053-0A64FDE9E036}" type="presParOf" srcId="{D97DDD46-C6E5-4A5D-981F-8F062101845A}" destId="{EAEA51D8-2D14-463E-9701-455B2B82C054}" srcOrd="3" destOrd="0" presId="urn:microsoft.com/office/officeart/2005/8/layout/vList2"/>
    <dgm:cxn modelId="{443948A5-F5EB-4FBA-B1E8-A6FD8439A692}" type="presParOf" srcId="{D97DDD46-C6E5-4A5D-981F-8F062101845A}" destId="{3DE00911-7491-4742-8BA8-BB0CD9BB1448}" srcOrd="4" destOrd="0" presId="urn:microsoft.com/office/officeart/2005/8/layout/vList2"/>
    <dgm:cxn modelId="{90EA912D-2A54-4401-9205-000A3D1E9976}" type="presParOf" srcId="{D97DDD46-C6E5-4A5D-981F-8F062101845A}" destId="{6DBBFE9A-33F2-4DE3-823E-B356CD5FB327}" srcOrd="5" destOrd="0" presId="urn:microsoft.com/office/officeart/2005/8/layout/vList2"/>
    <dgm:cxn modelId="{5FC3556F-4034-4A69-A7E4-CBCA73F2CFFB}" type="presParOf" srcId="{D97DDD46-C6E5-4A5D-981F-8F062101845A}" destId="{8025D92A-A905-4283-A2B8-A19957613C7D}" srcOrd="6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CF0C8ED5-D493-430B-BB68-796E179AD296}" type="doc">
      <dgm:prSet loTypeId="urn:microsoft.com/office/officeart/2005/8/layout/vList2" loCatId="list" qsTypeId="urn:microsoft.com/office/officeart/2005/8/quickstyle/simple1" qsCatId="simple" csTypeId="urn:microsoft.com/office/officeart/2005/8/colors/accent0_1" csCatId="mainScheme"/>
      <dgm:spPr/>
      <dgm:t>
        <a:bodyPr/>
        <a:lstStyle/>
        <a:p>
          <a:endParaRPr lang="ru-RU"/>
        </a:p>
      </dgm:t>
    </dgm:pt>
    <dgm:pt modelId="{9C43434D-56B0-48EA-B9DA-CE6EE0D3DE55}">
      <dgm:prSet/>
      <dgm:spPr/>
      <dgm:t>
        <a:bodyPr/>
        <a:lstStyle/>
        <a:p>
          <a:pPr rtl="0"/>
          <a:r>
            <a:rPr lang="ru-RU" dirty="0" err="1" smtClean="0"/>
            <a:t>Торгівля</a:t>
          </a:r>
          <a:r>
            <a:rPr lang="ru-RU" dirty="0" smtClean="0"/>
            <a:t> – форма </a:t>
          </a:r>
          <a:r>
            <a:rPr lang="ru-RU" dirty="0" err="1" smtClean="0"/>
            <a:t>економічного</a:t>
          </a:r>
          <a:r>
            <a:rPr lang="ru-RU" dirty="0" smtClean="0"/>
            <a:t> </a:t>
          </a:r>
          <a:r>
            <a:rPr lang="ru-RU" dirty="0" err="1" smtClean="0"/>
            <a:t>зв’язку</a:t>
          </a:r>
          <a:r>
            <a:rPr lang="ru-RU" dirty="0" smtClean="0"/>
            <a:t> </a:t>
          </a:r>
          <a:r>
            <a:rPr lang="ru-RU" dirty="0" err="1" smtClean="0"/>
            <a:t>між</a:t>
          </a:r>
          <a:r>
            <a:rPr lang="ru-RU" dirty="0" smtClean="0"/>
            <a:t> </a:t>
          </a:r>
          <a:r>
            <a:rPr lang="ru-RU" dirty="0" err="1" smtClean="0"/>
            <a:t>виробництвом</a:t>
          </a:r>
          <a:r>
            <a:rPr lang="ru-RU" dirty="0" smtClean="0"/>
            <a:t> і </a:t>
          </a:r>
          <a:r>
            <a:rPr lang="ru-RU" dirty="0" err="1" smtClean="0"/>
            <a:t>споживанням</a:t>
          </a:r>
          <a:r>
            <a:rPr lang="ru-RU" dirty="0" smtClean="0"/>
            <a:t>, що </a:t>
          </a:r>
          <a:r>
            <a:rPr lang="ru-RU" dirty="0" err="1" smtClean="0"/>
            <a:t>здійснюється</a:t>
          </a:r>
          <a:r>
            <a:rPr lang="ru-RU" dirty="0" smtClean="0"/>
            <a:t> безпосередньо ринком.</a:t>
          </a:r>
          <a:endParaRPr lang="ru-RU" dirty="0"/>
        </a:p>
      </dgm:t>
    </dgm:pt>
    <dgm:pt modelId="{4B002797-8580-48B9-B7F6-AFD8E8EBBABA}" type="parTrans" cxnId="{BE877224-C467-4643-B619-4BEF3653F3F8}">
      <dgm:prSet/>
      <dgm:spPr/>
      <dgm:t>
        <a:bodyPr/>
        <a:lstStyle/>
        <a:p>
          <a:endParaRPr lang="ru-RU"/>
        </a:p>
      </dgm:t>
    </dgm:pt>
    <dgm:pt modelId="{43AB0EB1-310C-43D0-AD9E-C8DE2D6C9EAB}" type="sibTrans" cxnId="{BE877224-C467-4643-B619-4BEF3653F3F8}">
      <dgm:prSet/>
      <dgm:spPr/>
      <dgm:t>
        <a:bodyPr/>
        <a:lstStyle/>
        <a:p>
          <a:endParaRPr lang="ru-RU"/>
        </a:p>
      </dgm:t>
    </dgm:pt>
    <dgm:pt modelId="{FD435B6C-C8F3-42AB-A9D4-5A722774BE60}">
      <dgm:prSet/>
      <dgm:spPr/>
      <dgm:t>
        <a:bodyPr/>
        <a:lstStyle/>
        <a:p>
          <a:pPr rtl="0"/>
          <a:r>
            <a:rPr lang="ru-RU" dirty="0" smtClean="0"/>
            <a:t>Сфера товарного </a:t>
          </a:r>
          <a:r>
            <a:rPr lang="ru-RU" dirty="0" err="1" smtClean="0"/>
            <a:t>виробництва</a:t>
          </a:r>
          <a:r>
            <a:rPr lang="ru-RU" dirty="0" smtClean="0"/>
            <a:t> → Сфера товарного </a:t>
          </a:r>
          <a:r>
            <a:rPr lang="ru-RU" dirty="0" err="1" smtClean="0"/>
            <a:t>обігу</a:t>
          </a:r>
          <a:r>
            <a:rPr lang="ru-RU" dirty="0" smtClean="0"/>
            <a:t> → Сфера </a:t>
          </a:r>
          <a:r>
            <a:rPr lang="ru-RU" dirty="0" err="1" smtClean="0"/>
            <a:t>споживання</a:t>
          </a:r>
          <a:endParaRPr lang="ru-RU" dirty="0"/>
        </a:p>
      </dgm:t>
    </dgm:pt>
    <dgm:pt modelId="{B62E4128-4450-40D5-B976-745AA5956822}" type="parTrans" cxnId="{86A7AE81-706C-452D-95DE-046F64BA0BCA}">
      <dgm:prSet/>
      <dgm:spPr/>
      <dgm:t>
        <a:bodyPr/>
        <a:lstStyle/>
        <a:p>
          <a:endParaRPr lang="ru-RU"/>
        </a:p>
      </dgm:t>
    </dgm:pt>
    <dgm:pt modelId="{63A436CA-391F-4FE4-A450-7169B3D637C3}" type="sibTrans" cxnId="{86A7AE81-706C-452D-95DE-046F64BA0BCA}">
      <dgm:prSet/>
      <dgm:spPr/>
      <dgm:t>
        <a:bodyPr/>
        <a:lstStyle/>
        <a:p>
          <a:endParaRPr lang="ru-RU"/>
        </a:p>
      </dgm:t>
    </dgm:pt>
    <dgm:pt modelId="{536BB85A-C245-46B5-9F57-03DF0CAF8372}" type="pres">
      <dgm:prSet presAssocID="{CF0C8ED5-D493-430B-BB68-796E179AD296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5F74BB8-C19F-4513-9123-ACB530545E41}" type="pres">
      <dgm:prSet presAssocID="{9C43434D-56B0-48EA-B9DA-CE6EE0D3DE55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FF5DD49-C93B-442B-965C-B3FEBE3CF804}" type="pres">
      <dgm:prSet presAssocID="{43AB0EB1-310C-43D0-AD9E-C8DE2D6C9EAB}" presName="spacer" presStyleCnt="0"/>
      <dgm:spPr/>
    </dgm:pt>
    <dgm:pt modelId="{207B4E49-D6A4-43FA-9898-E01A02D7CF62}" type="pres">
      <dgm:prSet presAssocID="{FD435B6C-C8F3-42AB-A9D4-5A722774BE60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E877224-C467-4643-B619-4BEF3653F3F8}" srcId="{CF0C8ED5-D493-430B-BB68-796E179AD296}" destId="{9C43434D-56B0-48EA-B9DA-CE6EE0D3DE55}" srcOrd="0" destOrd="0" parTransId="{4B002797-8580-48B9-B7F6-AFD8E8EBBABA}" sibTransId="{43AB0EB1-310C-43D0-AD9E-C8DE2D6C9EAB}"/>
    <dgm:cxn modelId="{BCC1E203-94B4-4648-9F3C-BE4E2019D5F1}" type="presOf" srcId="{CF0C8ED5-D493-430B-BB68-796E179AD296}" destId="{536BB85A-C245-46B5-9F57-03DF0CAF8372}" srcOrd="0" destOrd="0" presId="urn:microsoft.com/office/officeart/2005/8/layout/vList2"/>
    <dgm:cxn modelId="{93E21B6E-68D6-4DCF-91AD-FAFAFCA4DA53}" type="presOf" srcId="{FD435B6C-C8F3-42AB-A9D4-5A722774BE60}" destId="{207B4E49-D6A4-43FA-9898-E01A02D7CF62}" srcOrd="0" destOrd="0" presId="urn:microsoft.com/office/officeart/2005/8/layout/vList2"/>
    <dgm:cxn modelId="{86A7AE81-706C-452D-95DE-046F64BA0BCA}" srcId="{CF0C8ED5-D493-430B-BB68-796E179AD296}" destId="{FD435B6C-C8F3-42AB-A9D4-5A722774BE60}" srcOrd="1" destOrd="0" parTransId="{B62E4128-4450-40D5-B976-745AA5956822}" sibTransId="{63A436CA-391F-4FE4-A450-7169B3D637C3}"/>
    <dgm:cxn modelId="{F841AFCA-407A-4551-8254-94288B746650}" type="presOf" srcId="{9C43434D-56B0-48EA-B9DA-CE6EE0D3DE55}" destId="{55F74BB8-C19F-4513-9123-ACB530545E41}" srcOrd="0" destOrd="0" presId="urn:microsoft.com/office/officeart/2005/8/layout/vList2"/>
    <dgm:cxn modelId="{E859EA92-984A-425B-9428-405168A97C92}" type="presParOf" srcId="{536BB85A-C245-46B5-9F57-03DF0CAF8372}" destId="{55F74BB8-C19F-4513-9123-ACB530545E41}" srcOrd="0" destOrd="0" presId="urn:microsoft.com/office/officeart/2005/8/layout/vList2"/>
    <dgm:cxn modelId="{DEB1E745-7445-4856-BAE2-83BA016F22E4}" type="presParOf" srcId="{536BB85A-C245-46B5-9F57-03DF0CAF8372}" destId="{0FF5DD49-C93B-442B-965C-B3FEBE3CF804}" srcOrd="1" destOrd="0" presId="urn:microsoft.com/office/officeart/2005/8/layout/vList2"/>
    <dgm:cxn modelId="{8592E5BF-FC10-43D8-9D3B-D35BD089DBA3}" type="presParOf" srcId="{536BB85A-C245-46B5-9F57-03DF0CAF8372}" destId="{207B4E49-D6A4-43FA-9898-E01A02D7CF62}" srcOrd="2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2C789A64-11ED-40C6-925E-AE0BB52D1EB5}" type="doc">
      <dgm:prSet loTypeId="urn:microsoft.com/office/officeart/2005/8/layout/vList2" loCatId="list" qsTypeId="urn:microsoft.com/office/officeart/2005/8/quickstyle/simple1" qsCatId="simple" csTypeId="urn:microsoft.com/office/officeart/2005/8/colors/accent3_1" csCatId="accent3"/>
      <dgm:spPr/>
      <dgm:t>
        <a:bodyPr/>
        <a:lstStyle/>
        <a:p>
          <a:endParaRPr lang="ru-RU"/>
        </a:p>
      </dgm:t>
    </dgm:pt>
    <dgm:pt modelId="{2BBDC613-0A67-4334-B565-94DE3747CA98}">
      <dgm:prSet custT="1"/>
      <dgm:spPr/>
      <dgm:t>
        <a:bodyPr/>
        <a:lstStyle/>
        <a:p>
          <a:pPr rtl="0"/>
          <a:r>
            <a:rPr lang="uk-UA" sz="2400" noProof="0" dirty="0" smtClean="0"/>
            <a:t>1) суттєво розширилися сфери діяльності торгівлі;</a:t>
          </a:r>
          <a:endParaRPr lang="uk-UA" sz="2400" noProof="0" dirty="0"/>
        </a:p>
      </dgm:t>
    </dgm:pt>
    <dgm:pt modelId="{0ACF8328-2E74-4C04-8171-F884BC461B36}" type="parTrans" cxnId="{14FF47D0-293E-41F8-8EC9-B63CA17FC54D}">
      <dgm:prSet/>
      <dgm:spPr/>
      <dgm:t>
        <a:bodyPr/>
        <a:lstStyle/>
        <a:p>
          <a:endParaRPr lang="uk-UA" sz="2400" noProof="0"/>
        </a:p>
      </dgm:t>
    </dgm:pt>
    <dgm:pt modelId="{A67C9EB8-8A97-46A4-88AB-AF15517C65B0}" type="sibTrans" cxnId="{14FF47D0-293E-41F8-8EC9-B63CA17FC54D}">
      <dgm:prSet/>
      <dgm:spPr/>
      <dgm:t>
        <a:bodyPr/>
        <a:lstStyle/>
        <a:p>
          <a:endParaRPr lang="uk-UA" sz="2400" noProof="0"/>
        </a:p>
      </dgm:t>
    </dgm:pt>
    <dgm:pt modelId="{DA741B54-85B5-4F98-82C9-B80CCC8DB77C}">
      <dgm:prSet custT="1"/>
      <dgm:spPr/>
      <dgm:t>
        <a:bodyPr/>
        <a:lstStyle/>
        <a:p>
          <a:pPr rtl="0"/>
          <a:r>
            <a:rPr lang="uk-UA" sz="2400" noProof="0" smtClean="0"/>
            <a:t>2) відбувається злиття сфер промислової та торговельної діяльності;</a:t>
          </a:r>
          <a:endParaRPr lang="uk-UA" sz="2400" noProof="0"/>
        </a:p>
      </dgm:t>
    </dgm:pt>
    <dgm:pt modelId="{A111E35B-FDBE-44BB-8DFC-71DB74B11C33}" type="parTrans" cxnId="{F781D63D-6A1F-41C5-A0ED-784518EA42E8}">
      <dgm:prSet/>
      <dgm:spPr/>
      <dgm:t>
        <a:bodyPr/>
        <a:lstStyle/>
        <a:p>
          <a:endParaRPr lang="uk-UA" sz="2400" noProof="0"/>
        </a:p>
      </dgm:t>
    </dgm:pt>
    <dgm:pt modelId="{416923DE-2533-4B1C-9D55-079E5ED17F56}" type="sibTrans" cxnId="{F781D63D-6A1F-41C5-A0ED-784518EA42E8}">
      <dgm:prSet/>
      <dgm:spPr/>
      <dgm:t>
        <a:bodyPr/>
        <a:lstStyle/>
        <a:p>
          <a:endParaRPr lang="uk-UA" sz="2400" noProof="0"/>
        </a:p>
      </dgm:t>
    </dgm:pt>
    <dgm:pt modelId="{BFE07A54-6CCA-415D-B3D5-E591281A7D66}">
      <dgm:prSet custT="1"/>
      <dgm:spPr/>
      <dgm:t>
        <a:bodyPr/>
        <a:lstStyle/>
        <a:p>
          <a:pPr rtl="0"/>
          <a:r>
            <a:rPr lang="uk-UA" sz="2400" noProof="0" smtClean="0"/>
            <a:t>3) відбувається розвиток торговельно-сервісних комплексів;</a:t>
          </a:r>
          <a:endParaRPr lang="uk-UA" sz="2400" noProof="0"/>
        </a:p>
      </dgm:t>
    </dgm:pt>
    <dgm:pt modelId="{9F2619C0-5072-4DD9-BF08-76232E0BEDD2}" type="parTrans" cxnId="{64EEF79D-70DF-4F28-8281-0C019F60E78B}">
      <dgm:prSet/>
      <dgm:spPr/>
      <dgm:t>
        <a:bodyPr/>
        <a:lstStyle/>
        <a:p>
          <a:endParaRPr lang="uk-UA" sz="2400" noProof="0"/>
        </a:p>
      </dgm:t>
    </dgm:pt>
    <dgm:pt modelId="{AE6C1A3A-E473-48EB-A260-CC5C6DADDD6A}" type="sibTrans" cxnId="{64EEF79D-70DF-4F28-8281-0C019F60E78B}">
      <dgm:prSet/>
      <dgm:spPr/>
      <dgm:t>
        <a:bodyPr/>
        <a:lstStyle/>
        <a:p>
          <a:endParaRPr lang="uk-UA" sz="2400" noProof="0"/>
        </a:p>
      </dgm:t>
    </dgm:pt>
    <dgm:pt modelId="{2C6EA1C8-81FD-4F33-9BEF-8CF11BF221AF}">
      <dgm:prSet custT="1"/>
      <dgm:spPr/>
      <dgm:t>
        <a:bodyPr/>
        <a:lstStyle/>
        <a:p>
          <a:pPr rtl="0"/>
          <a:r>
            <a:rPr lang="uk-UA" sz="2400" noProof="0" smtClean="0"/>
            <a:t>4) розвиток організованих (спеціалізованих) міні-ринків замість стихійних;</a:t>
          </a:r>
          <a:endParaRPr lang="uk-UA" sz="2400" noProof="0"/>
        </a:p>
      </dgm:t>
    </dgm:pt>
    <dgm:pt modelId="{11191B52-1E25-493B-85B2-AB360094E7D9}" type="parTrans" cxnId="{80DB77D4-A14A-4BA2-9E4E-8E22AB2783C4}">
      <dgm:prSet/>
      <dgm:spPr/>
      <dgm:t>
        <a:bodyPr/>
        <a:lstStyle/>
        <a:p>
          <a:endParaRPr lang="uk-UA" sz="2400" noProof="0"/>
        </a:p>
      </dgm:t>
    </dgm:pt>
    <dgm:pt modelId="{98B43B83-4042-4FD2-B66F-A13A75581DB7}" type="sibTrans" cxnId="{80DB77D4-A14A-4BA2-9E4E-8E22AB2783C4}">
      <dgm:prSet/>
      <dgm:spPr/>
      <dgm:t>
        <a:bodyPr/>
        <a:lstStyle/>
        <a:p>
          <a:endParaRPr lang="uk-UA" sz="2400" noProof="0"/>
        </a:p>
      </dgm:t>
    </dgm:pt>
    <dgm:pt modelId="{18884612-8324-4FF8-B35C-24BBDC02A940}">
      <dgm:prSet custT="1"/>
      <dgm:spPr/>
      <dgm:t>
        <a:bodyPr/>
        <a:lstStyle/>
        <a:p>
          <a:pPr rtl="0"/>
          <a:r>
            <a:rPr lang="uk-UA" sz="2400" noProof="0" smtClean="0"/>
            <a:t>5) створення спеціалізованих підприємств, орієнтованих на окремі контингенти споживачів залежно від їх доходів;</a:t>
          </a:r>
          <a:endParaRPr lang="uk-UA" sz="2400" noProof="0"/>
        </a:p>
      </dgm:t>
    </dgm:pt>
    <dgm:pt modelId="{B173C70B-18E7-4A64-8631-D6E76D0670DC}" type="parTrans" cxnId="{EE0A8D17-E5C1-4D4C-BCF8-16D3A7AB595E}">
      <dgm:prSet/>
      <dgm:spPr/>
      <dgm:t>
        <a:bodyPr/>
        <a:lstStyle/>
        <a:p>
          <a:endParaRPr lang="uk-UA" sz="2400" noProof="0"/>
        </a:p>
      </dgm:t>
    </dgm:pt>
    <dgm:pt modelId="{95922B40-DE03-43B3-AA69-00551B27E3E3}" type="sibTrans" cxnId="{EE0A8D17-E5C1-4D4C-BCF8-16D3A7AB595E}">
      <dgm:prSet/>
      <dgm:spPr/>
      <dgm:t>
        <a:bodyPr/>
        <a:lstStyle/>
        <a:p>
          <a:endParaRPr lang="uk-UA" sz="2400" noProof="0"/>
        </a:p>
      </dgm:t>
    </dgm:pt>
    <dgm:pt modelId="{7033E758-0723-4E85-8C2C-CD463395BE3C}">
      <dgm:prSet custT="1"/>
      <dgm:spPr/>
      <dgm:t>
        <a:bodyPr/>
        <a:lstStyle/>
        <a:p>
          <a:pPr rtl="0"/>
          <a:r>
            <a:rPr lang="uk-UA" sz="2400" noProof="0" smtClean="0"/>
            <a:t>6) впровадження новітніх інноваційних, інвестиційних та технологічних підходів у практику роботи оптових підприємств.</a:t>
          </a:r>
          <a:endParaRPr lang="uk-UA" sz="2400" noProof="0"/>
        </a:p>
      </dgm:t>
    </dgm:pt>
    <dgm:pt modelId="{F52D8676-2E8D-4850-961A-B9D055CC713C}" type="parTrans" cxnId="{388BCF3A-DE99-437F-8726-1B03DB76D627}">
      <dgm:prSet/>
      <dgm:spPr/>
      <dgm:t>
        <a:bodyPr/>
        <a:lstStyle/>
        <a:p>
          <a:endParaRPr lang="uk-UA" sz="2400" noProof="0"/>
        </a:p>
      </dgm:t>
    </dgm:pt>
    <dgm:pt modelId="{54063209-9BC3-4809-ABFE-8BD28F7A85C4}" type="sibTrans" cxnId="{388BCF3A-DE99-437F-8726-1B03DB76D627}">
      <dgm:prSet/>
      <dgm:spPr/>
      <dgm:t>
        <a:bodyPr/>
        <a:lstStyle/>
        <a:p>
          <a:endParaRPr lang="uk-UA" sz="2400" noProof="0"/>
        </a:p>
      </dgm:t>
    </dgm:pt>
    <dgm:pt modelId="{70D6A174-8EB1-4A54-AF18-4E09A9B32F8E}" type="pres">
      <dgm:prSet presAssocID="{2C789A64-11ED-40C6-925E-AE0BB52D1EB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26C6A5E-D76E-4AD6-9EBB-29D89F043D4E}" type="pres">
      <dgm:prSet presAssocID="{2BBDC613-0A67-4334-B565-94DE3747CA98}" presName="parentText" presStyleLbl="node1" presStyleIdx="0" presStyleCnt="6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A6EC789-37A9-4E42-8F68-E993C69C776D}" type="pres">
      <dgm:prSet presAssocID="{A67C9EB8-8A97-46A4-88AB-AF15517C65B0}" presName="spacer" presStyleCnt="0"/>
      <dgm:spPr/>
    </dgm:pt>
    <dgm:pt modelId="{5383866E-0BC9-4340-852C-C19366852A20}" type="pres">
      <dgm:prSet presAssocID="{DA741B54-85B5-4F98-82C9-B80CCC8DB77C}" presName="parentText" presStyleLbl="node1" presStyleIdx="1" presStyleCnt="6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693DB62-4626-4449-91A7-96A5C2CDD1F2}" type="pres">
      <dgm:prSet presAssocID="{416923DE-2533-4B1C-9D55-079E5ED17F56}" presName="spacer" presStyleCnt="0"/>
      <dgm:spPr/>
    </dgm:pt>
    <dgm:pt modelId="{27D1D9D4-6513-4E96-88E3-F6441601F7BA}" type="pres">
      <dgm:prSet presAssocID="{BFE07A54-6CCA-415D-B3D5-E591281A7D66}" presName="parentText" presStyleLbl="node1" presStyleIdx="2" presStyleCnt="6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C67896F-ED8F-42F3-BFFF-7AD3164B6B79}" type="pres">
      <dgm:prSet presAssocID="{AE6C1A3A-E473-48EB-A260-CC5C6DADDD6A}" presName="spacer" presStyleCnt="0"/>
      <dgm:spPr/>
    </dgm:pt>
    <dgm:pt modelId="{F3EBE54E-48DC-44E0-A83A-7190B6D4C0EC}" type="pres">
      <dgm:prSet presAssocID="{2C6EA1C8-81FD-4F33-9BEF-8CF11BF221AF}" presName="parentText" presStyleLbl="node1" presStyleIdx="3" presStyleCnt="6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57DD84C-ED89-4193-BE43-5A0E251F377B}" type="pres">
      <dgm:prSet presAssocID="{98B43B83-4042-4FD2-B66F-A13A75581DB7}" presName="spacer" presStyleCnt="0"/>
      <dgm:spPr/>
    </dgm:pt>
    <dgm:pt modelId="{3DA5E230-B07A-4161-9E7C-11330D4B3F77}" type="pres">
      <dgm:prSet presAssocID="{18884612-8324-4FF8-B35C-24BBDC02A940}" presName="parentText" presStyleLbl="node1" presStyleIdx="4" presStyleCnt="6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644FD71-1A06-4DCD-88A1-7B00FCFD7012}" type="pres">
      <dgm:prSet presAssocID="{95922B40-DE03-43B3-AA69-00551B27E3E3}" presName="spacer" presStyleCnt="0"/>
      <dgm:spPr/>
    </dgm:pt>
    <dgm:pt modelId="{FE9068C7-036E-435F-B6AC-A956992A3DE3}" type="pres">
      <dgm:prSet presAssocID="{7033E758-0723-4E85-8C2C-CD463395BE3C}" presName="parentText" presStyleLbl="node1" presStyleIdx="5" presStyleCnt="6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09859E6-34F8-45EC-838E-BAEB4F3E4930}" type="presOf" srcId="{2C6EA1C8-81FD-4F33-9BEF-8CF11BF221AF}" destId="{F3EBE54E-48DC-44E0-A83A-7190B6D4C0EC}" srcOrd="0" destOrd="0" presId="urn:microsoft.com/office/officeart/2005/8/layout/vList2"/>
    <dgm:cxn modelId="{1E0193F6-3117-4698-A2A5-2B736C6892AE}" type="presOf" srcId="{2BBDC613-0A67-4334-B565-94DE3747CA98}" destId="{226C6A5E-D76E-4AD6-9EBB-29D89F043D4E}" srcOrd="0" destOrd="0" presId="urn:microsoft.com/office/officeart/2005/8/layout/vList2"/>
    <dgm:cxn modelId="{0CCA0633-A317-46D2-8B6D-A0D6C90B46AC}" type="presOf" srcId="{18884612-8324-4FF8-B35C-24BBDC02A940}" destId="{3DA5E230-B07A-4161-9E7C-11330D4B3F77}" srcOrd="0" destOrd="0" presId="urn:microsoft.com/office/officeart/2005/8/layout/vList2"/>
    <dgm:cxn modelId="{D99DE0F0-F54A-40C0-94DA-EA8B8F07FCAE}" type="presOf" srcId="{DA741B54-85B5-4F98-82C9-B80CCC8DB77C}" destId="{5383866E-0BC9-4340-852C-C19366852A20}" srcOrd="0" destOrd="0" presId="urn:microsoft.com/office/officeart/2005/8/layout/vList2"/>
    <dgm:cxn modelId="{14FF47D0-293E-41F8-8EC9-B63CA17FC54D}" srcId="{2C789A64-11ED-40C6-925E-AE0BB52D1EB5}" destId="{2BBDC613-0A67-4334-B565-94DE3747CA98}" srcOrd="0" destOrd="0" parTransId="{0ACF8328-2E74-4C04-8171-F884BC461B36}" sibTransId="{A67C9EB8-8A97-46A4-88AB-AF15517C65B0}"/>
    <dgm:cxn modelId="{EE0A8D17-E5C1-4D4C-BCF8-16D3A7AB595E}" srcId="{2C789A64-11ED-40C6-925E-AE0BB52D1EB5}" destId="{18884612-8324-4FF8-B35C-24BBDC02A940}" srcOrd="4" destOrd="0" parTransId="{B173C70B-18E7-4A64-8631-D6E76D0670DC}" sibTransId="{95922B40-DE03-43B3-AA69-00551B27E3E3}"/>
    <dgm:cxn modelId="{B006BDC6-1640-443F-920C-DA289D3A4217}" type="presOf" srcId="{7033E758-0723-4E85-8C2C-CD463395BE3C}" destId="{FE9068C7-036E-435F-B6AC-A956992A3DE3}" srcOrd="0" destOrd="0" presId="urn:microsoft.com/office/officeart/2005/8/layout/vList2"/>
    <dgm:cxn modelId="{80DB77D4-A14A-4BA2-9E4E-8E22AB2783C4}" srcId="{2C789A64-11ED-40C6-925E-AE0BB52D1EB5}" destId="{2C6EA1C8-81FD-4F33-9BEF-8CF11BF221AF}" srcOrd="3" destOrd="0" parTransId="{11191B52-1E25-493B-85B2-AB360094E7D9}" sibTransId="{98B43B83-4042-4FD2-B66F-A13A75581DB7}"/>
    <dgm:cxn modelId="{64EEF79D-70DF-4F28-8281-0C019F60E78B}" srcId="{2C789A64-11ED-40C6-925E-AE0BB52D1EB5}" destId="{BFE07A54-6CCA-415D-B3D5-E591281A7D66}" srcOrd="2" destOrd="0" parTransId="{9F2619C0-5072-4DD9-BF08-76232E0BEDD2}" sibTransId="{AE6C1A3A-E473-48EB-A260-CC5C6DADDD6A}"/>
    <dgm:cxn modelId="{F781D63D-6A1F-41C5-A0ED-784518EA42E8}" srcId="{2C789A64-11ED-40C6-925E-AE0BB52D1EB5}" destId="{DA741B54-85B5-4F98-82C9-B80CCC8DB77C}" srcOrd="1" destOrd="0" parTransId="{A111E35B-FDBE-44BB-8DFC-71DB74B11C33}" sibTransId="{416923DE-2533-4B1C-9D55-079E5ED17F56}"/>
    <dgm:cxn modelId="{469AC146-05C2-4E55-B3AE-083A0E6D0C45}" type="presOf" srcId="{BFE07A54-6CCA-415D-B3D5-E591281A7D66}" destId="{27D1D9D4-6513-4E96-88E3-F6441601F7BA}" srcOrd="0" destOrd="0" presId="urn:microsoft.com/office/officeart/2005/8/layout/vList2"/>
    <dgm:cxn modelId="{388BCF3A-DE99-437F-8726-1B03DB76D627}" srcId="{2C789A64-11ED-40C6-925E-AE0BB52D1EB5}" destId="{7033E758-0723-4E85-8C2C-CD463395BE3C}" srcOrd="5" destOrd="0" parTransId="{F52D8676-2E8D-4850-961A-B9D055CC713C}" sibTransId="{54063209-9BC3-4809-ABFE-8BD28F7A85C4}"/>
    <dgm:cxn modelId="{F5FBC0D6-1CC7-4862-904B-47D05A5AC3C7}" type="presOf" srcId="{2C789A64-11ED-40C6-925E-AE0BB52D1EB5}" destId="{70D6A174-8EB1-4A54-AF18-4E09A9B32F8E}" srcOrd="0" destOrd="0" presId="urn:microsoft.com/office/officeart/2005/8/layout/vList2"/>
    <dgm:cxn modelId="{FC4F7192-C4B3-4AFE-86F8-A53C2D4BCCBF}" type="presParOf" srcId="{70D6A174-8EB1-4A54-AF18-4E09A9B32F8E}" destId="{226C6A5E-D76E-4AD6-9EBB-29D89F043D4E}" srcOrd="0" destOrd="0" presId="urn:microsoft.com/office/officeart/2005/8/layout/vList2"/>
    <dgm:cxn modelId="{B7F2A997-BE71-4B73-A8C5-BA150EBC47D9}" type="presParOf" srcId="{70D6A174-8EB1-4A54-AF18-4E09A9B32F8E}" destId="{9A6EC789-37A9-4E42-8F68-E993C69C776D}" srcOrd="1" destOrd="0" presId="urn:microsoft.com/office/officeart/2005/8/layout/vList2"/>
    <dgm:cxn modelId="{CA627779-0C9D-4891-8589-6F6F82C5E325}" type="presParOf" srcId="{70D6A174-8EB1-4A54-AF18-4E09A9B32F8E}" destId="{5383866E-0BC9-4340-852C-C19366852A20}" srcOrd="2" destOrd="0" presId="urn:microsoft.com/office/officeart/2005/8/layout/vList2"/>
    <dgm:cxn modelId="{63821101-2E92-42D5-906C-F264E4F81B62}" type="presParOf" srcId="{70D6A174-8EB1-4A54-AF18-4E09A9B32F8E}" destId="{B693DB62-4626-4449-91A7-96A5C2CDD1F2}" srcOrd="3" destOrd="0" presId="urn:microsoft.com/office/officeart/2005/8/layout/vList2"/>
    <dgm:cxn modelId="{8630CEF7-D2F8-4303-B0CB-A2850492F9A3}" type="presParOf" srcId="{70D6A174-8EB1-4A54-AF18-4E09A9B32F8E}" destId="{27D1D9D4-6513-4E96-88E3-F6441601F7BA}" srcOrd="4" destOrd="0" presId="urn:microsoft.com/office/officeart/2005/8/layout/vList2"/>
    <dgm:cxn modelId="{1F47FB8D-F387-4668-B5C6-E6A46041F2ED}" type="presParOf" srcId="{70D6A174-8EB1-4A54-AF18-4E09A9B32F8E}" destId="{9C67896F-ED8F-42F3-BFFF-7AD3164B6B79}" srcOrd="5" destOrd="0" presId="urn:microsoft.com/office/officeart/2005/8/layout/vList2"/>
    <dgm:cxn modelId="{BC2B9A8C-EA8D-4C21-8475-FA0CC29ACDFC}" type="presParOf" srcId="{70D6A174-8EB1-4A54-AF18-4E09A9B32F8E}" destId="{F3EBE54E-48DC-44E0-A83A-7190B6D4C0EC}" srcOrd="6" destOrd="0" presId="urn:microsoft.com/office/officeart/2005/8/layout/vList2"/>
    <dgm:cxn modelId="{0A5E62D0-B4B9-4D47-93C8-0C6252CE12D5}" type="presParOf" srcId="{70D6A174-8EB1-4A54-AF18-4E09A9B32F8E}" destId="{457DD84C-ED89-4193-BE43-5A0E251F377B}" srcOrd="7" destOrd="0" presId="urn:microsoft.com/office/officeart/2005/8/layout/vList2"/>
    <dgm:cxn modelId="{AA795031-D85A-4863-8EC2-95D9F7BDCE74}" type="presParOf" srcId="{70D6A174-8EB1-4A54-AF18-4E09A9B32F8E}" destId="{3DA5E230-B07A-4161-9E7C-11330D4B3F77}" srcOrd="8" destOrd="0" presId="urn:microsoft.com/office/officeart/2005/8/layout/vList2"/>
    <dgm:cxn modelId="{B954A694-00E4-4261-A2C8-8D1A2337442F}" type="presParOf" srcId="{70D6A174-8EB1-4A54-AF18-4E09A9B32F8E}" destId="{B644FD71-1A06-4DCD-88A1-7B00FCFD7012}" srcOrd="9" destOrd="0" presId="urn:microsoft.com/office/officeart/2005/8/layout/vList2"/>
    <dgm:cxn modelId="{3906D971-A9F4-4F43-ADCD-D2D5288207A5}" type="presParOf" srcId="{70D6A174-8EB1-4A54-AF18-4E09A9B32F8E}" destId="{FE9068C7-036E-435F-B6AC-A956992A3DE3}" srcOrd="1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BC836F14-43DB-41B6-8B31-B0602F540A6A}" type="doc">
      <dgm:prSet loTypeId="urn:microsoft.com/office/officeart/2005/8/layout/list1" loCatId="list" qsTypeId="urn:microsoft.com/office/officeart/2005/8/quickstyle/simple1" qsCatId="simple" csTypeId="urn:microsoft.com/office/officeart/2005/8/colors/accent2_1" csCatId="accent2"/>
      <dgm:spPr/>
      <dgm:t>
        <a:bodyPr/>
        <a:lstStyle/>
        <a:p>
          <a:endParaRPr lang="ru-RU"/>
        </a:p>
      </dgm:t>
    </dgm:pt>
    <dgm:pt modelId="{8744254D-C68B-4C2D-9670-42EFF6835F4B}">
      <dgm:prSet custT="1"/>
      <dgm:spPr/>
      <dgm:t>
        <a:bodyPr/>
        <a:lstStyle/>
        <a:p>
          <a:pPr rtl="0"/>
          <a:r>
            <a:rPr lang="ru-RU" sz="2400" dirty="0" smtClean="0"/>
            <a:t>1) </a:t>
          </a:r>
          <a:r>
            <a:rPr lang="ru-RU" sz="2400" dirty="0" err="1" smtClean="0"/>
            <a:t>доведення</a:t>
          </a:r>
          <a:r>
            <a:rPr lang="ru-RU" sz="2400" dirty="0" smtClean="0"/>
            <a:t> товарів до споживачів;</a:t>
          </a:r>
          <a:endParaRPr lang="ru-RU" sz="2400" dirty="0"/>
        </a:p>
      </dgm:t>
    </dgm:pt>
    <dgm:pt modelId="{24A0AD12-82D5-423B-A3A5-BCA0E2E69977}" type="parTrans" cxnId="{1A862EA4-C9EA-49B5-A7F6-DA7392ED1B4E}">
      <dgm:prSet/>
      <dgm:spPr/>
      <dgm:t>
        <a:bodyPr/>
        <a:lstStyle/>
        <a:p>
          <a:endParaRPr lang="ru-RU" sz="2400"/>
        </a:p>
      </dgm:t>
    </dgm:pt>
    <dgm:pt modelId="{F1669A6C-1D5F-4DF4-B091-35F2AC4DC69C}" type="sibTrans" cxnId="{1A862EA4-C9EA-49B5-A7F6-DA7392ED1B4E}">
      <dgm:prSet/>
      <dgm:spPr/>
      <dgm:t>
        <a:bodyPr/>
        <a:lstStyle/>
        <a:p>
          <a:endParaRPr lang="ru-RU" sz="2400"/>
        </a:p>
      </dgm:t>
    </dgm:pt>
    <dgm:pt modelId="{D99B5C21-C6E5-4E2F-9E26-1139AD0ECC81}">
      <dgm:prSet custT="1"/>
      <dgm:spPr/>
      <dgm:t>
        <a:bodyPr/>
        <a:lstStyle/>
        <a:p>
          <a:pPr rtl="0"/>
          <a:r>
            <a:rPr lang="ru-RU" sz="2400" dirty="0" smtClean="0"/>
            <a:t>2) </a:t>
          </a:r>
          <a:r>
            <a:rPr lang="ru-RU" sz="2400" dirty="0" err="1" smtClean="0"/>
            <a:t>продовження</a:t>
          </a:r>
          <a:r>
            <a:rPr lang="ru-RU" sz="2400" dirty="0" smtClean="0"/>
            <a:t> </a:t>
          </a:r>
          <a:r>
            <a:rPr lang="ru-RU" sz="2400" dirty="0" err="1" smtClean="0"/>
            <a:t>процесу</a:t>
          </a:r>
          <a:r>
            <a:rPr lang="ru-RU" sz="2400" dirty="0" smtClean="0"/>
            <a:t> </a:t>
          </a:r>
          <a:r>
            <a:rPr lang="ru-RU" sz="2400" dirty="0" err="1" smtClean="0"/>
            <a:t>виробництва</a:t>
          </a:r>
          <a:r>
            <a:rPr lang="ru-RU" sz="2400" dirty="0" smtClean="0"/>
            <a:t> у </a:t>
          </a:r>
          <a:r>
            <a:rPr lang="ru-RU" sz="2400" dirty="0" err="1" smtClean="0"/>
            <a:t>сфері</a:t>
          </a:r>
          <a:r>
            <a:rPr lang="ru-RU" sz="2400" dirty="0" smtClean="0"/>
            <a:t> товарного </a:t>
          </a:r>
          <a:r>
            <a:rPr lang="ru-RU" sz="2400" dirty="0" err="1" smtClean="0"/>
            <a:t>обігу</a:t>
          </a:r>
          <a:r>
            <a:rPr lang="ru-RU" sz="2400" dirty="0" smtClean="0"/>
            <a:t> (</a:t>
          </a:r>
          <a:r>
            <a:rPr lang="ru-RU" sz="2400" dirty="0" err="1" smtClean="0"/>
            <a:t>сортування</a:t>
          </a:r>
          <a:r>
            <a:rPr lang="ru-RU" sz="2400" dirty="0" smtClean="0"/>
            <a:t>, </a:t>
          </a:r>
          <a:r>
            <a:rPr lang="ru-RU" sz="2400" dirty="0" err="1" smtClean="0"/>
            <a:t>комплектування</a:t>
          </a:r>
          <a:r>
            <a:rPr lang="ru-RU" sz="2400" dirty="0" smtClean="0"/>
            <a:t>, </a:t>
          </a:r>
          <a:r>
            <a:rPr lang="ru-RU" sz="2400" dirty="0" err="1" smtClean="0"/>
            <a:t>пакування</a:t>
          </a:r>
          <a:r>
            <a:rPr lang="ru-RU" sz="2400" dirty="0" smtClean="0"/>
            <a:t>);</a:t>
          </a:r>
          <a:endParaRPr lang="ru-RU" sz="2400" dirty="0"/>
        </a:p>
      </dgm:t>
    </dgm:pt>
    <dgm:pt modelId="{E3D8A0A6-0AB0-46F7-87EE-C8954FD261FA}" type="parTrans" cxnId="{358C0728-460E-47F3-A37C-E361A981A92C}">
      <dgm:prSet/>
      <dgm:spPr/>
      <dgm:t>
        <a:bodyPr/>
        <a:lstStyle/>
        <a:p>
          <a:endParaRPr lang="ru-RU" sz="2400"/>
        </a:p>
      </dgm:t>
    </dgm:pt>
    <dgm:pt modelId="{DBCF5590-8672-4529-9069-2562375F7021}" type="sibTrans" cxnId="{358C0728-460E-47F3-A37C-E361A981A92C}">
      <dgm:prSet/>
      <dgm:spPr/>
      <dgm:t>
        <a:bodyPr/>
        <a:lstStyle/>
        <a:p>
          <a:endParaRPr lang="ru-RU" sz="2400"/>
        </a:p>
      </dgm:t>
    </dgm:pt>
    <dgm:pt modelId="{A5874E27-9ED9-497C-AE1C-8EAF0B2DFA4A}">
      <dgm:prSet custT="1"/>
      <dgm:spPr/>
      <dgm:t>
        <a:bodyPr/>
        <a:lstStyle/>
        <a:p>
          <a:pPr rtl="0"/>
          <a:r>
            <a:rPr lang="ru-RU" sz="2400" dirty="0" smtClean="0"/>
            <a:t>3) </a:t>
          </a:r>
          <a:r>
            <a:rPr lang="ru-RU" sz="2400" dirty="0" err="1" smtClean="0"/>
            <a:t>зміна</a:t>
          </a:r>
          <a:r>
            <a:rPr lang="ru-RU" sz="2400" dirty="0" smtClean="0"/>
            <a:t> форм </a:t>
          </a:r>
          <a:r>
            <a:rPr lang="ru-RU" sz="2400" dirty="0" err="1" smtClean="0"/>
            <a:t>вартості</a:t>
          </a:r>
          <a:r>
            <a:rPr lang="ru-RU" sz="2400" dirty="0" smtClean="0"/>
            <a:t> </a:t>
          </a:r>
          <a:r>
            <a:rPr lang="ru-RU" sz="2400" dirty="0" err="1" smtClean="0"/>
            <a:t>з</a:t>
          </a:r>
          <a:r>
            <a:rPr lang="ru-RU" sz="2400" dirty="0" smtClean="0"/>
            <a:t> </a:t>
          </a:r>
          <a:r>
            <a:rPr lang="ru-RU" sz="2400" dirty="0" err="1" smtClean="0"/>
            <a:t>товарної</a:t>
          </a:r>
          <a:r>
            <a:rPr lang="ru-RU" sz="2400" dirty="0" smtClean="0"/>
            <a:t> на </a:t>
          </a:r>
          <a:r>
            <a:rPr lang="ru-RU" sz="2400" dirty="0" err="1" smtClean="0"/>
            <a:t>грошову</a:t>
          </a:r>
          <a:r>
            <a:rPr lang="ru-RU" sz="2400" dirty="0" smtClean="0"/>
            <a:t>;</a:t>
          </a:r>
          <a:endParaRPr lang="ru-RU" sz="2400" dirty="0"/>
        </a:p>
      </dgm:t>
    </dgm:pt>
    <dgm:pt modelId="{E9546370-991F-4973-824B-DA3E1C1A0BA0}" type="parTrans" cxnId="{0ADD1205-075B-4346-BA0B-63503F26DD0C}">
      <dgm:prSet/>
      <dgm:spPr/>
      <dgm:t>
        <a:bodyPr/>
        <a:lstStyle/>
        <a:p>
          <a:endParaRPr lang="ru-RU" sz="2400"/>
        </a:p>
      </dgm:t>
    </dgm:pt>
    <dgm:pt modelId="{8E2C4292-876C-4476-A5B3-5A50AA16E797}" type="sibTrans" cxnId="{0ADD1205-075B-4346-BA0B-63503F26DD0C}">
      <dgm:prSet/>
      <dgm:spPr/>
      <dgm:t>
        <a:bodyPr/>
        <a:lstStyle/>
        <a:p>
          <a:endParaRPr lang="ru-RU" sz="2400"/>
        </a:p>
      </dgm:t>
    </dgm:pt>
    <dgm:pt modelId="{F70D41DD-6405-402D-AD46-AD800F49F839}">
      <dgm:prSet custT="1"/>
      <dgm:spPr/>
      <dgm:t>
        <a:bodyPr/>
        <a:lstStyle/>
        <a:p>
          <a:pPr rtl="0"/>
          <a:r>
            <a:rPr lang="ru-RU" sz="2400" dirty="0" smtClean="0"/>
            <a:t>4) </a:t>
          </a:r>
          <a:r>
            <a:rPr lang="ru-RU" sz="2400" dirty="0" err="1" smtClean="0"/>
            <a:t>надання</a:t>
          </a:r>
          <a:r>
            <a:rPr lang="ru-RU" sz="2400" dirty="0" smtClean="0"/>
            <a:t> </a:t>
          </a:r>
          <a:r>
            <a:rPr lang="ru-RU" sz="2400" dirty="0" err="1" smtClean="0"/>
            <a:t>торгових</a:t>
          </a:r>
          <a:r>
            <a:rPr lang="ru-RU" sz="2400" dirty="0" smtClean="0"/>
            <a:t> </a:t>
          </a:r>
          <a:r>
            <a:rPr lang="ru-RU" sz="2400" dirty="0" err="1" smtClean="0"/>
            <a:t>послуг</a:t>
          </a:r>
          <a:r>
            <a:rPr lang="ru-RU" sz="2400" dirty="0" smtClean="0"/>
            <a:t> </a:t>
          </a:r>
          <a:r>
            <a:rPr lang="ru-RU" sz="2400" dirty="0" err="1" smtClean="0"/>
            <a:t>населенню</a:t>
          </a:r>
          <a:r>
            <a:rPr lang="ru-RU" sz="2400" dirty="0" smtClean="0"/>
            <a:t> в </a:t>
          </a:r>
          <a:r>
            <a:rPr lang="ru-RU" sz="2400" dirty="0" err="1" smtClean="0"/>
            <a:t>процесі</a:t>
          </a:r>
          <a:r>
            <a:rPr lang="ru-RU" sz="2400" dirty="0" smtClean="0"/>
            <a:t> </a:t>
          </a:r>
          <a:r>
            <a:rPr lang="ru-RU" sz="2400" dirty="0" err="1" smtClean="0"/>
            <a:t>реалізації</a:t>
          </a:r>
          <a:r>
            <a:rPr lang="ru-RU" sz="2400" dirty="0" smtClean="0"/>
            <a:t> товарів.</a:t>
          </a:r>
          <a:endParaRPr lang="ru-RU" sz="2400" dirty="0"/>
        </a:p>
      </dgm:t>
    </dgm:pt>
    <dgm:pt modelId="{54D40BB1-3667-4FDC-9286-64745FEA52AD}" type="parTrans" cxnId="{AFF18217-40E6-40BD-948A-DCB081A0B031}">
      <dgm:prSet/>
      <dgm:spPr/>
      <dgm:t>
        <a:bodyPr/>
        <a:lstStyle/>
        <a:p>
          <a:endParaRPr lang="ru-RU" sz="2400"/>
        </a:p>
      </dgm:t>
    </dgm:pt>
    <dgm:pt modelId="{A0EB3E8E-7016-4023-98A3-C849B298A733}" type="sibTrans" cxnId="{AFF18217-40E6-40BD-948A-DCB081A0B031}">
      <dgm:prSet/>
      <dgm:spPr/>
      <dgm:t>
        <a:bodyPr/>
        <a:lstStyle/>
        <a:p>
          <a:endParaRPr lang="ru-RU" sz="2400"/>
        </a:p>
      </dgm:t>
    </dgm:pt>
    <dgm:pt modelId="{2881A67D-9B4B-4774-8465-CE62F8297AF7}" type="pres">
      <dgm:prSet presAssocID="{BC836F14-43DB-41B6-8B31-B0602F540A6A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FBBF2329-E927-4C89-8364-8587DB7FC4B8}" type="pres">
      <dgm:prSet presAssocID="{8744254D-C68B-4C2D-9670-42EFF6835F4B}" presName="parentLin" presStyleCnt="0"/>
      <dgm:spPr/>
    </dgm:pt>
    <dgm:pt modelId="{38244CEF-5C86-4CED-B593-0EC6433854F0}" type="pres">
      <dgm:prSet presAssocID="{8744254D-C68B-4C2D-9670-42EFF6835F4B}" presName="parentLeftMargin" presStyleLbl="node1" presStyleIdx="0" presStyleCnt="4"/>
      <dgm:spPr/>
      <dgm:t>
        <a:bodyPr/>
        <a:lstStyle/>
        <a:p>
          <a:endParaRPr lang="ru-RU"/>
        </a:p>
      </dgm:t>
    </dgm:pt>
    <dgm:pt modelId="{3FFA999D-EF30-4456-A9EF-B1C6E4D848CD}" type="pres">
      <dgm:prSet presAssocID="{8744254D-C68B-4C2D-9670-42EFF6835F4B}" presName="parentText" presStyleLbl="node1" presStyleIdx="0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663A562-6F6C-4D7E-AFE8-34B6708690A8}" type="pres">
      <dgm:prSet presAssocID="{8744254D-C68B-4C2D-9670-42EFF6835F4B}" presName="negativeSpace" presStyleCnt="0"/>
      <dgm:spPr/>
    </dgm:pt>
    <dgm:pt modelId="{D9AAE78F-1A3A-49C2-9023-DDBDF0EAF1A3}" type="pres">
      <dgm:prSet presAssocID="{8744254D-C68B-4C2D-9670-42EFF6835F4B}" presName="childText" presStyleLbl="conFgAcc1" presStyleIdx="0" presStyleCnt="4">
        <dgm:presLayoutVars>
          <dgm:bulletEnabled val="1"/>
        </dgm:presLayoutVars>
      </dgm:prSet>
      <dgm:spPr/>
    </dgm:pt>
    <dgm:pt modelId="{83BF5B6D-2FA7-4741-B8E2-6B32F41A3E2D}" type="pres">
      <dgm:prSet presAssocID="{F1669A6C-1D5F-4DF4-B091-35F2AC4DC69C}" presName="spaceBetweenRectangles" presStyleCnt="0"/>
      <dgm:spPr/>
    </dgm:pt>
    <dgm:pt modelId="{8F490FC7-ECB6-4580-963A-9A1BB066A166}" type="pres">
      <dgm:prSet presAssocID="{D99B5C21-C6E5-4E2F-9E26-1139AD0ECC81}" presName="parentLin" presStyleCnt="0"/>
      <dgm:spPr/>
    </dgm:pt>
    <dgm:pt modelId="{E48F4A8F-7859-4EA9-B3D1-E496D3661A96}" type="pres">
      <dgm:prSet presAssocID="{D99B5C21-C6E5-4E2F-9E26-1139AD0ECC81}" presName="parentLeftMargin" presStyleLbl="node1" presStyleIdx="0" presStyleCnt="4"/>
      <dgm:spPr/>
      <dgm:t>
        <a:bodyPr/>
        <a:lstStyle/>
        <a:p>
          <a:endParaRPr lang="ru-RU"/>
        </a:p>
      </dgm:t>
    </dgm:pt>
    <dgm:pt modelId="{6DDCFB12-B6A4-4F9F-8B61-6649DDB88F5C}" type="pres">
      <dgm:prSet presAssocID="{D99B5C21-C6E5-4E2F-9E26-1139AD0ECC81}" presName="parentText" presStyleLbl="node1" presStyleIdx="1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25737D-565A-464E-959A-DB875C6A85EA}" type="pres">
      <dgm:prSet presAssocID="{D99B5C21-C6E5-4E2F-9E26-1139AD0ECC81}" presName="negativeSpace" presStyleCnt="0"/>
      <dgm:spPr/>
    </dgm:pt>
    <dgm:pt modelId="{C6B839A7-073A-4F24-9F19-2024B2539125}" type="pres">
      <dgm:prSet presAssocID="{D99B5C21-C6E5-4E2F-9E26-1139AD0ECC81}" presName="childText" presStyleLbl="conFgAcc1" presStyleIdx="1" presStyleCnt="4">
        <dgm:presLayoutVars>
          <dgm:bulletEnabled val="1"/>
        </dgm:presLayoutVars>
      </dgm:prSet>
      <dgm:spPr/>
    </dgm:pt>
    <dgm:pt modelId="{A6A39D3F-D9DE-4C13-BBE1-9D7D2C10B0B5}" type="pres">
      <dgm:prSet presAssocID="{DBCF5590-8672-4529-9069-2562375F7021}" presName="spaceBetweenRectangles" presStyleCnt="0"/>
      <dgm:spPr/>
    </dgm:pt>
    <dgm:pt modelId="{1195C2AD-1E0D-4026-AE1C-0E96CBA38206}" type="pres">
      <dgm:prSet presAssocID="{A5874E27-9ED9-497C-AE1C-8EAF0B2DFA4A}" presName="parentLin" presStyleCnt="0"/>
      <dgm:spPr/>
    </dgm:pt>
    <dgm:pt modelId="{8AD0E9C6-F6D6-4FD5-8FDB-66504E6C8B64}" type="pres">
      <dgm:prSet presAssocID="{A5874E27-9ED9-497C-AE1C-8EAF0B2DFA4A}" presName="parentLeftMargin" presStyleLbl="node1" presStyleIdx="1" presStyleCnt="4"/>
      <dgm:spPr/>
      <dgm:t>
        <a:bodyPr/>
        <a:lstStyle/>
        <a:p>
          <a:endParaRPr lang="ru-RU"/>
        </a:p>
      </dgm:t>
    </dgm:pt>
    <dgm:pt modelId="{CAE1C84C-DCB2-44F1-A88C-BBA4ABC51C3B}" type="pres">
      <dgm:prSet presAssocID="{A5874E27-9ED9-497C-AE1C-8EAF0B2DFA4A}" presName="parentText" presStyleLbl="node1" presStyleIdx="2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F10A19C-BDDB-481A-B220-C8D9B466971A}" type="pres">
      <dgm:prSet presAssocID="{A5874E27-9ED9-497C-AE1C-8EAF0B2DFA4A}" presName="negativeSpace" presStyleCnt="0"/>
      <dgm:spPr/>
    </dgm:pt>
    <dgm:pt modelId="{B93F9841-038A-40C4-A924-1383ABCCC6B4}" type="pres">
      <dgm:prSet presAssocID="{A5874E27-9ED9-497C-AE1C-8EAF0B2DFA4A}" presName="childText" presStyleLbl="conFgAcc1" presStyleIdx="2" presStyleCnt="4">
        <dgm:presLayoutVars>
          <dgm:bulletEnabled val="1"/>
        </dgm:presLayoutVars>
      </dgm:prSet>
      <dgm:spPr/>
    </dgm:pt>
    <dgm:pt modelId="{526A2E38-81AB-4CBD-B6DD-23B925BCA279}" type="pres">
      <dgm:prSet presAssocID="{8E2C4292-876C-4476-A5B3-5A50AA16E797}" presName="spaceBetweenRectangles" presStyleCnt="0"/>
      <dgm:spPr/>
    </dgm:pt>
    <dgm:pt modelId="{77FD4F1A-43F5-4EAE-9295-6C739E78CD16}" type="pres">
      <dgm:prSet presAssocID="{F70D41DD-6405-402D-AD46-AD800F49F839}" presName="parentLin" presStyleCnt="0"/>
      <dgm:spPr/>
    </dgm:pt>
    <dgm:pt modelId="{FD0EFC34-ABD3-486A-B633-4BB5F66B8D13}" type="pres">
      <dgm:prSet presAssocID="{F70D41DD-6405-402D-AD46-AD800F49F839}" presName="parentLeftMargin" presStyleLbl="node1" presStyleIdx="2" presStyleCnt="4"/>
      <dgm:spPr/>
      <dgm:t>
        <a:bodyPr/>
        <a:lstStyle/>
        <a:p>
          <a:endParaRPr lang="ru-RU"/>
        </a:p>
      </dgm:t>
    </dgm:pt>
    <dgm:pt modelId="{28DC11CB-6ADA-456B-B6FA-547D51A206FE}" type="pres">
      <dgm:prSet presAssocID="{F70D41DD-6405-402D-AD46-AD800F49F839}" presName="parentText" presStyleLbl="node1" presStyleIdx="3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34287FC-B15C-4F9B-8568-2CF73B311801}" type="pres">
      <dgm:prSet presAssocID="{F70D41DD-6405-402D-AD46-AD800F49F839}" presName="negativeSpace" presStyleCnt="0"/>
      <dgm:spPr/>
    </dgm:pt>
    <dgm:pt modelId="{DCBC8C02-E06E-4BA9-A0C4-A386EE94B5E7}" type="pres">
      <dgm:prSet presAssocID="{F70D41DD-6405-402D-AD46-AD800F49F839}" presName="childText" presStyleLbl="conFgAcc1" presStyleIdx="3" presStyleCnt="4">
        <dgm:presLayoutVars>
          <dgm:bulletEnabled val="1"/>
        </dgm:presLayoutVars>
      </dgm:prSet>
      <dgm:spPr/>
    </dgm:pt>
  </dgm:ptLst>
  <dgm:cxnLst>
    <dgm:cxn modelId="{69AA05B0-542C-477D-BAFE-C05357735F65}" type="presOf" srcId="{D99B5C21-C6E5-4E2F-9E26-1139AD0ECC81}" destId="{6DDCFB12-B6A4-4F9F-8B61-6649DDB88F5C}" srcOrd="1" destOrd="0" presId="urn:microsoft.com/office/officeart/2005/8/layout/list1"/>
    <dgm:cxn modelId="{FE81FE3B-4CF1-4920-BC62-E600241AD969}" type="presOf" srcId="{F70D41DD-6405-402D-AD46-AD800F49F839}" destId="{28DC11CB-6ADA-456B-B6FA-547D51A206FE}" srcOrd="1" destOrd="0" presId="urn:microsoft.com/office/officeart/2005/8/layout/list1"/>
    <dgm:cxn modelId="{1A862EA4-C9EA-49B5-A7F6-DA7392ED1B4E}" srcId="{BC836F14-43DB-41B6-8B31-B0602F540A6A}" destId="{8744254D-C68B-4C2D-9670-42EFF6835F4B}" srcOrd="0" destOrd="0" parTransId="{24A0AD12-82D5-423B-A3A5-BCA0E2E69977}" sibTransId="{F1669A6C-1D5F-4DF4-B091-35F2AC4DC69C}"/>
    <dgm:cxn modelId="{9D310722-6E80-4EC0-B41D-DA0A36189687}" type="presOf" srcId="{A5874E27-9ED9-497C-AE1C-8EAF0B2DFA4A}" destId="{CAE1C84C-DCB2-44F1-A88C-BBA4ABC51C3B}" srcOrd="1" destOrd="0" presId="urn:microsoft.com/office/officeart/2005/8/layout/list1"/>
    <dgm:cxn modelId="{AFF18217-40E6-40BD-948A-DCB081A0B031}" srcId="{BC836F14-43DB-41B6-8B31-B0602F540A6A}" destId="{F70D41DD-6405-402D-AD46-AD800F49F839}" srcOrd="3" destOrd="0" parTransId="{54D40BB1-3667-4FDC-9286-64745FEA52AD}" sibTransId="{A0EB3E8E-7016-4023-98A3-C849B298A733}"/>
    <dgm:cxn modelId="{5BD2F2E8-419B-44A5-9C97-B965A5103C5C}" type="presOf" srcId="{8744254D-C68B-4C2D-9670-42EFF6835F4B}" destId="{3FFA999D-EF30-4456-A9EF-B1C6E4D848CD}" srcOrd="1" destOrd="0" presId="urn:microsoft.com/office/officeart/2005/8/layout/list1"/>
    <dgm:cxn modelId="{0ADD1205-075B-4346-BA0B-63503F26DD0C}" srcId="{BC836F14-43DB-41B6-8B31-B0602F540A6A}" destId="{A5874E27-9ED9-497C-AE1C-8EAF0B2DFA4A}" srcOrd="2" destOrd="0" parTransId="{E9546370-991F-4973-824B-DA3E1C1A0BA0}" sibTransId="{8E2C4292-876C-4476-A5B3-5A50AA16E797}"/>
    <dgm:cxn modelId="{CEBE2610-DA13-4C65-B7AE-64E391D0F9D0}" type="presOf" srcId="{8744254D-C68B-4C2D-9670-42EFF6835F4B}" destId="{38244CEF-5C86-4CED-B593-0EC6433854F0}" srcOrd="0" destOrd="0" presId="urn:microsoft.com/office/officeart/2005/8/layout/list1"/>
    <dgm:cxn modelId="{8009098D-9458-4188-BC7D-BE875D8244DF}" type="presOf" srcId="{F70D41DD-6405-402D-AD46-AD800F49F839}" destId="{FD0EFC34-ABD3-486A-B633-4BB5F66B8D13}" srcOrd="0" destOrd="0" presId="urn:microsoft.com/office/officeart/2005/8/layout/list1"/>
    <dgm:cxn modelId="{F666ADBD-CEA5-4D04-B6A1-DC7C349F9C90}" type="presOf" srcId="{A5874E27-9ED9-497C-AE1C-8EAF0B2DFA4A}" destId="{8AD0E9C6-F6D6-4FD5-8FDB-66504E6C8B64}" srcOrd="0" destOrd="0" presId="urn:microsoft.com/office/officeart/2005/8/layout/list1"/>
    <dgm:cxn modelId="{4C937BE6-7E95-4CC9-A709-15462270BD96}" type="presOf" srcId="{BC836F14-43DB-41B6-8B31-B0602F540A6A}" destId="{2881A67D-9B4B-4774-8465-CE62F8297AF7}" srcOrd="0" destOrd="0" presId="urn:microsoft.com/office/officeart/2005/8/layout/list1"/>
    <dgm:cxn modelId="{358C0728-460E-47F3-A37C-E361A981A92C}" srcId="{BC836F14-43DB-41B6-8B31-B0602F540A6A}" destId="{D99B5C21-C6E5-4E2F-9E26-1139AD0ECC81}" srcOrd="1" destOrd="0" parTransId="{E3D8A0A6-0AB0-46F7-87EE-C8954FD261FA}" sibTransId="{DBCF5590-8672-4529-9069-2562375F7021}"/>
    <dgm:cxn modelId="{68AC4AC2-A72E-4857-A645-995CA65241B6}" type="presOf" srcId="{D99B5C21-C6E5-4E2F-9E26-1139AD0ECC81}" destId="{E48F4A8F-7859-4EA9-B3D1-E496D3661A96}" srcOrd="0" destOrd="0" presId="urn:microsoft.com/office/officeart/2005/8/layout/list1"/>
    <dgm:cxn modelId="{BC9A1D15-DB6F-45E6-98BA-C0F2743666BA}" type="presParOf" srcId="{2881A67D-9B4B-4774-8465-CE62F8297AF7}" destId="{FBBF2329-E927-4C89-8364-8587DB7FC4B8}" srcOrd="0" destOrd="0" presId="urn:microsoft.com/office/officeart/2005/8/layout/list1"/>
    <dgm:cxn modelId="{7874E215-281E-4619-9355-1CCF08337109}" type="presParOf" srcId="{FBBF2329-E927-4C89-8364-8587DB7FC4B8}" destId="{38244CEF-5C86-4CED-B593-0EC6433854F0}" srcOrd="0" destOrd="0" presId="urn:microsoft.com/office/officeart/2005/8/layout/list1"/>
    <dgm:cxn modelId="{655918CA-E107-4ADC-AE8D-086D8ACAE1F5}" type="presParOf" srcId="{FBBF2329-E927-4C89-8364-8587DB7FC4B8}" destId="{3FFA999D-EF30-4456-A9EF-B1C6E4D848CD}" srcOrd="1" destOrd="0" presId="urn:microsoft.com/office/officeart/2005/8/layout/list1"/>
    <dgm:cxn modelId="{C3A5A2F1-70F9-4C79-80D9-9537B71453CC}" type="presParOf" srcId="{2881A67D-9B4B-4774-8465-CE62F8297AF7}" destId="{C663A562-6F6C-4D7E-AFE8-34B6708690A8}" srcOrd="1" destOrd="0" presId="urn:microsoft.com/office/officeart/2005/8/layout/list1"/>
    <dgm:cxn modelId="{074CE113-7F13-4E3A-9694-B506E291170D}" type="presParOf" srcId="{2881A67D-9B4B-4774-8465-CE62F8297AF7}" destId="{D9AAE78F-1A3A-49C2-9023-DDBDF0EAF1A3}" srcOrd="2" destOrd="0" presId="urn:microsoft.com/office/officeart/2005/8/layout/list1"/>
    <dgm:cxn modelId="{B9FC032B-8950-4B51-A0EB-81F97EB4C7D7}" type="presParOf" srcId="{2881A67D-9B4B-4774-8465-CE62F8297AF7}" destId="{83BF5B6D-2FA7-4741-B8E2-6B32F41A3E2D}" srcOrd="3" destOrd="0" presId="urn:microsoft.com/office/officeart/2005/8/layout/list1"/>
    <dgm:cxn modelId="{755066E1-2D6E-485F-B82A-2E55FB097967}" type="presParOf" srcId="{2881A67D-9B4B-4774-8465-CE62F8297AF7}" destId="{8F490FC7-ECB6-4580-963A-9A1BB066A166}" srcOrd="4" destOrd="0" presId="urn:microsoft.com/office/officeart/2005/8/layout/list1"/>
    <dgm:cxn modelId="{F7EBE5E3-D5CD-4844-9995-D37C6F384206}" type="presParOf" srcId="{8F490FC7-ECB6-4580-963A-9A1BB066A166}" destId="{E48F4A8F-7859-4EA9-B3D1-E496D3661A96}" srcOrd="0" destOrd="0" presId="urn:microsoft.com/office/officeart/2005/8/layout/list1"/>
    <dgm:cxn modelId="{41543658-FFDA-49E4-8FBC-1F3FA7468132}" type="presParOf" srcId="{8F490FC7-ECB6-4580-963A-9A1BB066A166}" destId="{6DDCFB12-B6A4-4F9F-8B61-6649DDB88F5C}" srcOrd="1" destOrd="0" presId="urn:microsoft.com/office/officeart/2005/8/layout/list1"/>
    <dgm:cxn modelId="{F7FB9802-E420-4248-ADFF-6709DE353BE1}" type="presParOf" srcId="{2881A67D-9B4B-4774-8465-CE62F8297AF7}" destId="{D425737D-565A-464E-959A-DB875C6A85EA}" srcOrd="5" destOrd="0" presId="urn:microsoft.com/office/officeart/2005/8/layout/list1"/>
    <dgm:cxn modelId="{C7F51B58-1AFC-4EBF-BE96-B477E8DE559A}" type="presParOf" srcId="{2881A67D-9B4B-4774-8465-CE62F8297AF7}" destId="{C6B839A7-073A-4F24-9F19-2024B2539125}" srcOrd="6" destOrd="0" presId="urn:microsoft.com/office/officeart/2005/8/layout/list1"/>
    <dgm:cxn modelId="{3E598044-4A2D-439C-8FB2-F24543C8B206}" type="presParOf" srcId="{2881A67D-9B4B-4774-8465-CE62F8297AF7}" destId="{A6A39D3F-D9DE-4C13-BBE1-9D7D2C10B0B5}" srcOrd="7" destOrd="0" presId="urn:microsoft.com/office/officeart/2005/8/layout/list1"/>
    <dgm:cxn modelId="{45CD2658-49E8-49BC-B56E-3D47D019B6A9}" type="presParOf" srcId="{2881A67D-9B4B-4774-8465-CE62F8297AF7}" destId="{1195C2AD-1E0D-4026-AE1C-0E96CBA38206}" srcOrd="8" destOrd="0" presId="urn:microsoft.com/office/officeart/2005/8/layout/list1"/>
    <dgm:cxn modelId="{05FB0BBD-C0C6-4577-ABD0-A9C72DDADC65}" type="presParOf" srcId="{1195C2AD-1E0D-4026-AE1C-0E96CBA38206}" destId="{8AD0E9C6-F6D6-4FD5-8FDB-66504E6C8B64}" srcOrd="0" destOrd="0" presId="urn:microsoft.com/office/officeart/2005/8/layout/list1"/>
    <dgm:cxn modelId="{DE3D7504-F418-415A-8C42-1B0ED95AF2EB}" type="presParOf" srcId="{1195C2AD-1E0D-4026-AE1C-0E96CBA38206}" destId="{CAE1C84C-DCB2-44F1-A88C-BBA4ABC51C3B}" srcOrd="1" destOrd="0" presId="urn:microsoft.com/office/officeart/2005/8/layout/list1"/>
    <dgm:cxn modelId="{C04BBD4B-2FDA-43AA-B3AB-56A17CC8009F}" type="presParOf" srcId="{2881A67D-9B4B-4774-8465-CE62F8297AF7}" destId="{BF10A19C-BDDB-481A-B220-C8D9B466971A}" srcOrd="9" destOrd="0" presId="urn:microsoft.com/office/officeart/2005/8/layout/list1"/>
    <dgm:cxn modelId="{3E04FC86-37A9-4EF1-A3D6-E13307864530}" type="presParOf" srcId="{2881A67D-9B4B-4774-8465-CE62F8297AF7}" destId="{B93F9841-038A-40C4-A924-1383ABCCC6B4}" srcOrd="10" destOrd="0" presId="urn:microsoft.com/office/officeart/2005/8/layout/list1"/>
    <dgm:cxn modelId="{18DE7BAB-3A42-4926-9D45-F8A487F10CD6}" type="presParOf" srcId="{2881A67D-9B4B-4774-8465-CE62F8297AF7}" destId="{526A2E38-81AB-4CBD-B6DD-23B925BCA279}" srcOrd="11" destOrd="0" presId="urn:microsoft.com/office/officeart/2005/8/layout/list1"/>
    <dgm:cxn modelId="{5D83D740-7B25-41FD-AE9A-A06CF34DA9D4}" type="presParOf" srcId="{2881A67D-9B4B-4774-8465-CE62F8297AF7}" destId="{77FD4F1A-43F5-4EAE-9295-6C739E78CD16}" srcOrd="12" destOrd="0" presId="urn:microsoft.com/office/officeart/2005/8/layout/list1"/>
    <dgm:cxn modelId="{8F204989-024C-4572-9130-96143C184BCA}" type="presParOf" srcId="{77FD4F1A-43F5-4EAE-9295-6C739E78CD16}" destId="{FD0EFC34-ABD3-486A-B633-4BB5F66B8D13}" srcOrd="0" destOrd="0" presId="urn:microsoft.com/office/officeart/2005/8/layout/list1"/>
    <dgm:cxn modelId="{AB144121-2D57-429D-92FB-6BF94EFB8948}" type="presParOf" srcId="{77FD4F1A-43F5-4EAE-9295-6C739E78CD16}" destId="{28DC11CB-6ADA-456B-B6FA-547D51A206FE}" srcOrd="1" destOrd="0" presId="urn:microsoft.com/office/officeart/2005/8/layout/list1"/>
    <dgm:cxn modelId="{8CD0E5C0-4EE2-4EDF-AD6E-C563A44946B3}" type="presParOf" srcId="{2881A67D-9B4B-4774-8465-CE62F8297AF7}" destId="{034287FC-B15C-4F9B-8568-2CF73B311801}" srcOrd="13" destOrd="0" presId="urn:microsoft.com/office/officeart/2005/8/layout/list1"/>
    <dgm:cxn modelId="{CBE275C3-E58A-4B16-B27D-A881B9235831}" type="presParOf" srcId="{2881A67D-9B4B-4774-8465-CE62F8297AF7}" destId="{DCBC8C02-E06E-4BA9-A0C4-A386EE94B5E7}" srcOrd="14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750E0BCF-A862-4D24-9BB2-6B55FB2B22FD}" type="doc">
      <dgm:prSet loTypeId="urn:microsoft.com/office/officeart/2005/8/layout/vList2" loCatId="list" qsTypeId="urn:microsoft.com/office/officeart/2005/8/quickstyle/simple1" qsCatId="simple" csTypeId="urn:microsoft.com/office/officeart/2005/8/colors/accent3_1" csCatId="accent3"/>
      <dgm:spPr/>
      <dgm:t>
        <a:bodyPr/>
        <a:lstStyle/>
        <a:p>
          <a:endParaRPr lang="ru-RU"/>
        </a:p>
      </dgm:t>
    </dgm:pt>
    <dgm:pt modelId="{0B814D9F-2837-44B2-8F0B-5F25F34819A1}">
      <dgm:prSet/>
      <dgm:spPr/>
      <dgm:t>
        <a:bodyPr/>
        <a:lstStyle/>
        <a:p>
          <a:pPr rtl="0"/>
          <a:r>
            <a:rPr lang="ru-RU" dirty="0" smtClean="0"/>
            <a:t>1) </a:t>
          </a:r>
          <a:r>
            <a:rPr lang="ru-RU" dirty="0" err="1" smtClean="0"/>
            <a:t>торгівля</a:t>
          </a:r>
          <a:r>
            <a:rPr lang="ru-RU" dirty="0" smtClean="0"/>
            <a:t> </a:t>
          </a:r>
          <a:r>
            <a:rPr lang="ru-RU" dirty="0" err="1" smtClean="0"/>
            <a:t>забезпечує</a:t>
          </a:r>
          <a:r>
            <a:rPr lang="ru-RU" dirty="0" smtClean="0"/>
            <a:t> </a:t>
          </a:r>
          <a:r>
            <a:rPr lang="ru-RU" dirty="0" err="1" smtClean="0"/>
            <a:t>задоволення</a:t>
          </a:r>
          <a:r>
            <a:rPr lang="ru-RU" dirty="0" smtClean="0"/>
            <a:t> </a:t>
          </a:r>
          <a:r>
            <a:rPr lang="ru-RU" dirty="0" err="1" smtClean="0"/>
            <a:t>попиту</a:t>
          </a:r>
          <a:r>
            <a:rPr lang="ru-RU" dirty="0" smtClean="0"/>
            <a:t> споживачів в </a:t>
          </a:r>
          <a:r>
            <a:rPr lang="ru-RU" dirty="0" err="1" smtClean="0"/>
            <a:t>різноманітних</a:t>
          </a:r>
          <a:r>
            <a:rPr lang="ru-RU" dirty="0" smtClean="0"/>
            <a:t> товарах;</a:t>
          </a:r>
          <a:endParaRPr lang="ru-RU" dirty="0"/>
        </a:p>
      </dgm:t>
    </dgm:pt>
    <dgm:pt modelId="{DA30E4BD-FAD7-40B5-BEBE-7DA8C1F05483}" type="parTrans" cxnId="{574E33D5-300F-4599-9687-ED35BC8F6802}">
      <dgm:prSet/>
      <dgm:spPr/>
      <dgm:t>
        <a:bodyPr/>
        <a:lstStyle/>
        <a:p>
          <a:endParaRPr lang="ru-RU"/>
        </a:p>
      </dgm:t>
    </dgm:pt>
    <dgm:pt modelId="{BF6F60A1-C2E5-4BE8-BEC3-ED96C5FC727D}" type="sibTrans" cxnId="{574E33D5-300F-4599-9687-ED35BC8F6802}">
      <dgm:prSet/>
      <dgm:spPr/>
      <dgm:t>
        <a:bodyPr/>
        <a:lstStyle/>
        <a:p>
          <a:endParaRPr lang="ru-RU"/>
        </a:p>
      </dgm:t>
    </dgm:pt>
    <dgm:pt modelId="{C581A2F1-94B5-4E1E-A8B5-AB92B878D4C8}">
      <dgm:prSet/>
      <dgm:spPr/>
      <dgm:t>
        <a:bodyPr/>
        <a:lstStyle/>
        <a:p>
          <a:pPr rtl="0"/>
          <a:r>
            <a:rPr lang="ru-RU" dirty="0" smtClean="0"/>
            <a:t>2) </a:t>
          </a:r>
          <a:r>
            <a:rPr lang="ru-RU" dirty="0" err="1" smtClean="0"/>
            <a:t>забезпечує</a:t>
          </a:r>
          <a:r>
            <a:rPr lang="ru-RU" dirty="0" smtClean="0"/>
            <a:t> </a:t>
          </a:r>
          <a:r>
            <a:rPr lang="ru-RU" dirty="0" err="1" smtClean="0"/>
            <a:t>найбільш</a:t>
          </a:r>
          <a:r>
            <a:rPr lang="ru-RU" dirty="0" smtClean="0"/>
            <a:t> </a:t>
          </a:r>
          <a:r>
            <a:rPr lang="ru-RU" dirty="0" err="1" smtClean="0"/>
            <a:t>ефективний</a:t>
          </a:r>
          <a:r>
            <a:rPr lang="ru-RU" dirty="0" smtClean="0"/>
            <a:t> </a:t>
          </a:r>
          <a:r>
            <a:rPr lang="ru-RU" dirty="0" err="1" smtClean="0"/>
            <a:t>зв’язок</a:t>
          </a:r>
          <a:r>
            <a:rPr lang="ru-RU" dirty="0" smtClean="0"/>
            <a:t> </a:t>
          </a:r>
          <a:r>
            <a:rPr lang="ru-RU" dirty="0" err="1" smtClean="0"/>
            <a:t>між</a:t>
          </a:r>
          <a:r>
            <a:rPr lang="ru-RU" dirty="0" smtClean="0"/>
            <a:t> </a:t>
          </a:r>
          <a:r>
            <a:rPr lang="ru-RU" dirty="0" err="1" smtClean="0"/>
            <a:t>виробництвом</a:t>
          </a:r>
          <a:r>
            <a:rPr lang="ru-RU" dirty="0" smtClean="0"/>
            <a:t> і </a:t>
          </a:r>
          <a:r>
            <a:rPr lang="ru-RU" dirty="0" err="1" smtClean="0"/>
            <a:t>споживанням</a:t>
          </a:r>
          <a:r>
            <a:rPr lang="ru-RU" dirty="0" smtClean="0"/>
            <a:t>;</a:t>
          </a:r>
          <a:endParaRPr lang="ru-RU" dirty="0"/>
        </a:p>
      </dgm:t>
    </dgm:pt>
    <dgm:pt modelId="{D6188A90-E3B7-48D5-B9D5-8B505B7FD076}" type="parTrans" cxnId="{3E3B2C06-38EA-433D-9A6B-47F7CC7115F6}">
      <dgm:prSet/>
      <dgm:spPr/>
      <dgm:t>
        <a:bodyPr/>
        <a:lstStyle/>
        <a:p>
          <a:endParaRPr lang="ru-RU"/>
        </a:p>
      </dgm:t>
    </dgm:pt>
    <dgm:pt modelId="{4AC89F7B-DA9A-4FEA-B7AF-DCF0C2197A05}" type="sibTrans" cxnId="{3E3B2C06-38EA-433D-9A6B-47F7CC7115F6}">
      <dgm:prSet/>
      <dgm:spPr/>
      <dgm:t>
        <a:bodyPr/>
        <a:lstStyle/>
        <a:p>
          <a:endParaRPr lang="ru-RU"/>
        </a:p>
      </dgm:t>
    </dgm:pt>
    <dgm:pt modelId="{57CF5B8B-C9D1-4684-9F3B-4B2A0477C8A1}">
      <dgm:prSet/>
      <dgm:spPr/>
      <dgm:t>
        <a:bodyPr/>
        <a:lstStyle/>
        <a:p>
          <a:pPr rtl="0"/>
          <a:r>
            <a:rPr lang="ru-RU" dirty="0" smtClean="0"/>
            <a:t>3) </a:t>
          </a:r>
          <a:r>
            <a:rPr lang="ru-RU" dirty="0" err="1" smtClean="0"/>
            <a:t>сприяє</a:t>
          </a:r>
          <a:r>
            <a:rPr lang="ru-RU" dirty="0" smtClean="0"/>
            <a:t> </a:t>
          </a:r>
          <a:r>
            <a:rPr lang="ru-RU" dirty="0" err="1" smtClean="0"/>
            <a:t>підвищенню</a:t>
          </a:r>
          <a:r>
            <a:rPr lang="ru-RU" dirty="0" smtClean="0"/>
            <a:t> </a:t>
          </a:r>
          <a:r>
            <a:rPr lang="ru-RU" dirty="0" err="1" smtClean="0"/>
            <a:t>ефективності</a:t>
          </a:r>
          <a:r>
            <a:rPr lang="ru-RU" dirty="0" smtClean="0"/>
            <a:t> </a:t>
          </a:r>
          <a:r>
            <a:rPr lang="ru-RU" dirty="0" err="1" smtClean="0"/>
            <a:t>економічних</a:t>
          </a:r>
          <a:r>
            <a:rPr lang="ru-RU" dirty="0" smtClean="0"/>
            <a:t> </a:t>
          </a:r>
          <a:r>
            <a:rPr lang="ru-RU" dirty="0" err="1" smtClean="0"/>
            <a:t>зв’язків</a:t>
          </a:r>
          <a:r>
            <a:rPr lang="ru-RU" dirty="0" smtClean="0"/>
            <a:t> </a:t>
          </a:r>
          <a:r>
            <a:rPr lang="ru-RU" dirty="0" err="1" smtClean="0"/>
            <a:t>між</a:t>
          </a:r>
          <a:r>
            <a:rPr lang="ru-RU" dirty="0" smtClean="0"/>
            <a:t> </a:t>
          </a:r>
          <a:r>
            <a:rPr lang="ru-RU" dirty="0" err="1" smtClean="0"/>
            <a:t>галузями</a:t>
          </a:r>
          <a:r>
            <a:rPr lang="ru-RU" dirty="0" smtClean="0"/>
            <a:t> народного </a:t>
          </a:r>
          <a:r>
            <a:rPr lang="ru-RU" dirty="0" err="1" smtClean="0"/>
            <a:t>господарства</a:t>
          </a:r>
          <a:r>
            <a:rPr lang="ru-RU" dirty="0" smtClean="0"/>
            <a:t>;</a:t>
          </a:r>
          <a:endParaRPr lang="ru-RU" dirty="0"/>
        </a:p>
      </dgm:t>
    </dgm:pt>
    <dgm:pt modelId="{2C82DE54-9C24-4ADD-9EBB-9C446A24059E}" type="parTrans" cxnId="{70BFC093-3B3C-4987-ABD2-FD33FE59999B}">
      <dgm:prSet/>
      <dgm:spPr/>
      <dgm:t>
        <a:bodyPr/>
        <a:lstStyle/>
        <a:p>
          <a:endParaRPr lang="ru-RU"/>
        </a:p>
      </dgm:t>
    </dgm:pt>
    <dgm:pt modelId="{D950375A-CACD-44D4-AABA-0BD19018CD62}" type="sibTrans" cxnId="{70BFC093-3B3C-4987-ABD2-FD33FE59999B}">
      <dgm:prSet/>
      <dgm:spPr/>
      <dgm:t>
        <a:bodyPr/>
        <a:lstStyle/>
        <a:p>
          <a:endParaRPr lang="ru-RU"/>
        </a:p>
      </dgm:t>
    </dgm:pt>
    <dgm:pt modelId="{455FEBC2-5F68-46CB-B199-68012ED8258A}">
      <dgm:prSet/>
      <dgm:spPr/>
      <dgm:t>
        <a:bodyPr/>
        <a:lstStyle/>
        <a:p>
          <a:pPr rtl="0"/>
          <a:r>
            <a:rPr lang="ru-RU" dirty="0" smtClean="0"/>
            <a:t>4) </a:t>
          </a:r>
          <a:r>
            <a:rPr lang="ru-RU" dirty="0" err="1" smtClean="0"/>
            <a:t>забезпечує</a:t>
          </a:r>
          <a:r>
            <a:rPr lang="ru-RU" dirty="0" smtClean="0"/>
            <a:t> </a:t>
          </a:r>
          <a:r>
            <a:rPr lang="ru-RU" dirty="0" err="1" smtClean="0"/>
            <a:t>зайнятість</a:t>
          </a:r>
          <a:r>
            <a:rPr lang="ru-RU" dirty="0" smtClean="0"/>
            <a:t> </a:t>
          </a:r>
          <a:r>
            <a:rPr lang="ru-RU" dirty="0" err="1" smtClean="0"/>
            <a:t>населення</a:t>
          </a:r>
          <a:r>
            <a:rPr lang="ru-RU" dirty="0" smtClean="0"/>
            <a:t>, </a:t>
          </a:r>
          <a:r>
            <a:rPr lang="ru-RU" dirty="0" err="1" smtClean="0"/>
            <a:t>створення</a:t>
          </a:r>
          <a:r>
            <a:rPr lang="ru-RU" dirty="0" smtClean="0"/>
            <a:t> </a:t>
          </a:r>
          <a:r>
            <a:rPr lang="ru-RU" dirty="0" err="1" smtClean="0"/>
            <a:t>робочих</a:t>
          </a:r>
          <a:r>
            <a:rPr lang="ru-RU" dirty="0" smtClean="0"/>
            <a:t> </a:t>
          </a:r>
          <a:r>
            <a:rPr lang="ru-RU" dirty="0" err="1" smtClean="0"/>
            <a:t>місць</a:t>
          </a:r>
          <a:r>
            <a:rPr lang="ru-RU" dirty="0" smtClean="0"/>
            <a:t>;</a:t>
          </a:r>
          <a:endParaRPr lang="ru-RU" dirty="0"/>
        </a:p>
      </dgm:t>
    </dgm:pt>
    <dgm:pt modelId="{FCAC3090-3C2E-4565-B189-11CEE84945C0}" type="parTrans" cxnId="{DB3DF21E-5530-41EF-974D-5E38520A4C65}">
      <dgm:prSet/>
      <dgm:spPr/>
      <dgm:t>
        <a:bodyPr/>
        <a:lstStyle/>
        <a:p>
          <a:endParaRPr lang="ru-RU"/>
        </a:p>
      </dgm:t>
    </dgm:pt>
    <dgm:pt modelId="{C764B9C6-9E3D-4AF2-94B7-D92BAC150473}" type="sibTrans" cxnId="{DB3DF21E-5530-41EF-974D-5E38520A4C65}">
      <dgm:prSet/>
      <dgm:spPr/>
      <dgm:t>
        <a:bodyPr/>
        <a:lstStyle/>
        <a:p>
          <a:endParaRPr lang="ru-RU"/>
        </a:p>
      </dgm:t>
    </dgm:pt>
    <dgm:pt modelId="{BAD7D953-0868-4919-942D-FDBEEDAA2449}">
      <dgm:prSet/>
      <dgm:spPr/>
      <dgm:t>
        <a:bodyPr/>
        <a:lstStyle/>
        <a:p>
          <a:pPr rtl="0"/>
          <a:r>
            <a:rPr lang="ru-RU" dirty="0" smtClean="0"/>
            <a:t>5) </a:t>
          </a:r>
          <a:r>
            <a:rPr lang="ru-RU" dirty="0" err="1" smtClean="0"/>
            <a:t>забезпечує</a:t>
          </a:r>
          <a:r>
            <a:rPr lang="ru-RU" dirty="0" smtClean="0"/>
            <a:t> </a:t>
          </a:r>
          <a:r>
            <a:rPr lang="ru-RU" dirty="0" err="1" smtClean="0"/>
            <a:t>стійкість</a:t>
          </a:r>
          <a:r>
            <a:rPr lang="ru-RU" dirty="0" smtClean="0"/>
            <a:t> грошового </a:t>
          </a:r>
          <a:r>
            <a:rPr lang="ru-RU" dirty="0" err="1" smtClean="0"/>
            <a:t>обігу</a:t>
          </a:r>
          <a:r>
            <a:rPr lang="ru-RU" dirty="0" smtClean="0"/>
            <a:t>;</a:t>
          </a:r>
          <a:endParaRPr lang="ru-RU" dirty="0"/>
        </a:p>
      </dgm:t>
    </dgm:pt>
    <dgm:pt modelId="{8482D274-D056-4FD9-89CA-C5EEE671A342}" type="parTrans" cxnId="{661CE6BD-84F5-4A72-8286-0DE3705FA73C}">
      <dgm:prSet/>
      <dgm:spPr/>
      <dgm:t>
        <a:bodyPr/>
        <a:lstStyle/>
        <a:p>
          <a:endParaRPr lang="ru-RU"/>
        </a:p>
      </dgm:t>
    </dgm:pt>
    <dgm:pt modelId="{7A338D98-5547-4D58-AC7B-43659E4BFD78}" type="sibTrans" cxnId="{661CE6BD-84F5-4A72-8286-0DE3705FA73C}">
      <dgm:prSet/>
      <dgm:spPr/>
      <dgm:t>
        <a:bodyPr/>
        <a:lstStyle/>
        <a:p>
          <a:endParaRPr lang="ru-RU"/>
        </a:p>
      </dgm:t>
    </dgm:pt>
    <dgm:pt modelId="{CA363216-14D6-42FE-A238-A6C77A8AE1B1}" type="pres">
      <dgm:prSet presAssocID="{750E0BCF-A862-4D24-9BB2-6B55FB2B22FD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BD28E17C-0ED3-491B-BA14-FF6BD5B1964D}" type="pres">
      <dgm:prSet presAssocID="{0B814D9F-2837-44B2-8F0B-5F25F34819A1}" presName="parentText" presStyleLbl="node1" presStyleIdx="0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0758BC0-590B-42DB-9A6A-FCEE2D94AC9D}" type="pres">
      <dgm:prSet presAssocID="{BF6F60A1-C2E5-4BE8-BEC3-ED96C5FC727D}" presName="spacer" presStyleCnt="0"/>
      <dgm:spPr/>
    </dgm:pt>
    <dgm:pt modelId="{873778C8-7D6A-4DDD-8C5C-A40CFF085993}" type="pres">
      <dgm:prSet presAssocID="{C581A2F1-94B5-4E1E-A8B5-AB92B878D4C8}" presName="parentText" presStyleLbl="node1" presStyleIdx="1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C870EA9-EF19-4883-AAD9-D1E0086C33BC}" type="pres">
      <dgm:prSet presAssocID="{4AC89F7B-DA9A-4FEA-B7AF-DCF0C2197A05}" presName="spacer" presStyleCnt="0"/>
      <dgm:spPr/>
    </dgm:pt>
    <dgm:pt modelId="{83F8CAF4-A641-486B-BF28-0B76FA569F63}" type="pres">
      <dgm:prSet presAssocID="{57CF5B8B-C9D1-4684-9F3B-4B2A0477C8A1}" presName="parentText" presStyleLbl="node1" presStyleIdx="2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A99EB0A-FB98-46AB-9CD1-34D07EF43B84}" type="pres">
      <dgm:prSet presAssocID="{D950375A-CACD-44D4-AABA-0BD19018CD62}" presName="spacer" presStyleCnt="0"/>
      <dgm:spPr/>
    </dgm:pt>
    <dgm:pt modelId="{49469272-3583-440B-9B48-64A55048EA06}" type="pres">
      <dgm:prSet presAssocID="{455FEBC2-5F68-46CB-B199-68012ED8258A}" presName="parentText" presStyleLbl="node1" presStyleIdx="3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8C0EB2C-BD59-47DC-AE94-2AD3D283B767}" type="pres">
      <dgm:prSet presAssocID="{C764B9C6-9E3D-4AF2-94B7-D92BAC150473}" presName="spacer" presStyleCnt="0"/>
      <dgm:spPr/>
    </dgm:pt>
    <dgm:pt modelId="{ADD0E80D-3EE8-44AA-98CC-AF50A0009AEE}" type="pres">
      <dgm:prSet presAssocID="{BAD7D953-0868-4919-942D-FDBEEDAA2449}" presName="parentText" presStyleLbl="node1" presStyleIdx="4" presStyleCnt="5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7ECAE5D-42BC-4E0E-B628-AF345C58D53B}" type="presOf" srcId="{C581A2F1-94B5-4E1E-A8B5-AB92B878D4C8}" destId="{873778C8-7D6A-4DDD-8C5C-A40CFF085993}" srcOrd="0" destOrd="0" presId="urn:microsoft.com/office/officeart/2005/8/layout/vList2"/>
    <dgm:cxn modelId="{A80327E2-15CC-4618-8101-1F1D2E645344}" type="presOf" srcId="{750E0BCF-A862-4D24-9BB2-6B55FB2B22FD}" destId="{CA363216-14D6-42FE-A238-A6C77A8AE1B1}" srcOrd="0" destOrd="0" presId="urn:microsoft.com/office/officeart/2005/8/layout/vList2"/>
    <dgm:cxn modelId="{1C13CAC9-1331-404B-BD3A-48D9BE3AA3F2}" type="presOf" srcId="{BAD7D953-0868-4919-942D-FDBEEDAA2449}" destId="{ADD0E80D-3EE8-44AA-98CC-AF50A0009AEE}" srcOrd="0" destOrd="0" presId="urn:microsoft.com/office/officeart/2005/8/layout/vList2"/>
    <dgm:cxn modelId="{9843C86C-C810-4084-AC06-3A1CB95ADB43}" type="presOf" srcId="{0B814D9F-2837-44B2-8F0B-5F25F34819A1}" destId="{BD28E17C-0ED3-491B-BA14-FF6BD5B1964D}" srcOrd="0" destOrd="0" presId="urn:microsoft.com/office/officeart/2005/8/layout/vList2"/>
    <dgm:cxn modelId="{574E33D5-300F-4599-9687-ED35BC8F6802}" srcId="{750E0BCF-A862-4D24-9BB2-6B55FB2B22FD}" destId="{0B814D9F-2837-44B2-8F0B-5F25F34819A1}" srcOrd="0" destOrd="0" parTransId="{DA30E4BD-FAD7-40B5-BEBE-7DA8C1F05483}" sibTransId="{BF6F60A1-C2E5-4BE8-BEC3-ED96C5FC727D}"/>
    <dgm:cxn modelId="{70BFC093-3B3C-4987-ABD2-FD33FE59999B}" srcId="{750E0BCF-A862-4D24-9BB2-6B55FB2B22FD}" destId="{57CF5B8B-C9D1-4684-9F3B-4B2A0477C8A1}" srcOrd="2" destOrd="0" parTransId="{2C82DE54-9C24-4ADD-9EBB-9C446A24059E}" sibTransId="{D950375A-CACD-44D4-AABA-0BD19018CD62}"/>
    <dgm:cxn modelId="{CC84F005-F5EF-47BC-AD44-F9E0915C8DB9}" type="presOf" srcId="{455FEBC2-5F68-46CB-B199-68012ED8258A}" destId="{49469272-3583-440B-9B48-64A55048EA06}" srcOrd="0" destOrd="0" presId="urn:microsoft.com/office/officeart/2005/8/layout/vList2"/>
    <dgm:cxn modelId="{DB3DF21E-5530-41EF-974D-5E38520A4C65}" srcId="{750E0BCF-A862-4D24-9BB2-6B55FB2B22FD}" destId="{455FEBC2-5F68-46CB-B199-68012ED8258A}" srcOrd="3" destOrd="0" parTransId="{FCAC3090-3C2E-4565-B189-11CEE84945C0}" sibTransId="{C764B9C6-9E3D-4AF2-94B7-D92BAC150473}"/>
    <dgm:cxn modelId="{3E3B2C06-38EA-433D-9A6B-47F7CC7115F6}" srcId="{750E0BCF-A862-4D24-9BB2-6B55FB2B22FD}" destId="{C581A2F1-94B5-4E1E-A8B5-AB92B878D4C8}" srcOrd="1" destOrd="0" parTransId="{D6188A90-E3B7-48D5-B9D5-8B505B7FD076}" sibTransId="{4AC89F7B-DA9A-4FEA-B7AF-DCF0C2197A05}"/>
    <dgm:cxn modelId="{661CE6BD-84F5-4A72-8286-0DE3705FA73C}" srcId="{750E0BCF-A862-4D24-9BB2-6B55FB2B22FD}" destId="{BAD7D953-0868-4919-942D-FDBEEDAA2449}" srcOrd="4" destOrd="0" parTransId="{8482D274-D056-4FD9-89CA-C5EEE671A342}" sibTransId="{7A338D98-5547-4D58-AC7B-43659E4BFD78}"/>
    <dgm:cxn modelId="{2B0E6EF4-B199-44ED-861C-9B367BD75366}" type="presOf" srcId="{57CF5B8B-C9D1-4684-9F3B-4B2A0477C8A1}" destId="{83F8CAF4-A641-486B-BF28-0B76FA569F63}" srcOrd="0" destOrd="0" presId="urn:microsoft.com/office/officeart/2005/8/layout/vList2"/>
    <dgm:cxn modelId="{E065E155-C8E8-414E-89EA-2EB3508FACE5}" type="presParOf" srcId="{CA363216-14D6-42FE-A238-A6C77A8AE1B1}" destId="{BD28E17C-0ED3-491B-BA14-FF6BD5B1964D}" srcOrd="0" destOrd="0" presId="urn:microsoft.com/office/officeart/2005/8/layout/vList2"/>
    <dgm:cxn modelId="{76A24ED0-BF9D-457A-AC1E-1A66F7D6F33D}" type="presParOf" srcId="{CA363216-14D6-42FE-A238-A6C77A8AE1B1}" destId="{F0758BC0-590B-42DB-9A6A-FCEE2D94AC9D}" srcOrd="1" destOrd="0" presId="urn:microsoft.com/office/officeart/2005/8/layout/vList2"/>
    <dgm:cxn modelId="{714E9894-2C59-4B81-A976-1BDE2BB60B45}" type="presParOf" srcId="{CA363216-14D6-42FE-A238-A6C77A8AE1B1}" destId="{873778C8-7D6A-4DDD-8C5C-A40CFF085993}" srcOrd="2" destOrd="0" presId="urn:microsoft.com/office/officeart/2005/8/layout/vList2"/>
    <dgm:cxn modelId="{95D50728-562C-475D-95D7-933047DC453C}" type="presParOf" srcId="{CA363216-14D6-42FE-A238-A6C77A8AE1B1}" destId="{4C870EA9-EF19-4883-AAD9-D1E0086C33BC}" srcOrd="3" destOrd="0" presId="urn:microsoft.com/office/officeart/2005/8/layout/vList2"/>
    <dgm:cxn modelId="{B3233DCB-0984-43AB-B30A-40AED8DEE7A5}" type="presParOf" srcId="{CA363216-14D6-42FE-A238-A6C77A8AE1B1}" destId="{83F8CAF4-A641-486B-BF28-0B76FA569F63}" srcOrd="4" destOrd="0" presId="urn:microsoft.com/office/officeart/2005/8/layout/vList2"/>
    <dgm:cxn modelId="{8BA0150D-F28E-48E4-B422-952A2E980102}" type="presParOf" srcId="{CA363216-14D6-42FE-A238-A6C77A8AE1B1}" destId="{FA99EB0A-FB98-46AB-9CD1-34D07EF43B84}" srcOrd="5" destOrd="0" presId="urn:microsoft.com/office/officeart/2005/8/layout/vList2"/>
    <dgm:cxn modelId="{0787E50E-A9EE-4448-8798-A0BD7208621E}" type="presParOf" srcId="{CA363216-14D6-42FE-A238-A6C77A8AE1B1}" destId="{49469272-3583-440B-9B48-64A55048EA06}" srcOrd="6" destOrd="0" presId="urn:microsoft.com/office/officeart/2005/8/layout/vList2"/>
    <dgm:cxn modelId="{6EE24E78-375E-415E-846B-DFC67D388B58}" type="presParOf" srcId="{CA363216-14D6-42FE-A238-A6C77A8AE1B1}" destId="{A8C0EB2C-BD59-47DC-AE94-2AD3D283B767}" srcOrd="7" destOrd="0" presId="urn:microsoft.com/office/officeart/2005/8/layout/vList2"/>
    <dgm:cxn modelId="{59741D96-A1B6-4AA9-A201-C2AFD1D0EF4E}" type="presParOf" srcId="{CA363216-14D6-42FE-A238-A6C77A8AE1B1}" destId="{ADD0E80D-3EE8-44AA-98CC-AF50A0009AEE}" srcOrd="8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7050AE1E-958D-499E-A097-D22D88D8D10C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/>
      <dgm:spPr/>
      <dgm:t>
        <a:bodyPr/>
        <a:lstStyle/>
        <a:p>
          <a:endParaRPr lang="uk-UA"/>
        </a:p>
      </dgm:t>
    </dgm:pt>
    <dgm:pt modelId="{7B944E1C-9BC5-4A36-8B31-D37281B1F572}">
      <dgm:prSet/>
      <dgm:spPr/>
      <dgm:t>
        <a:bodyPr/>
        <a:lstStyle/>
        <a:p>
          <a:pPr rtl="0"/>
          <a:r>
            <a:rPr lang="ru-RU" b="1" dirty="0" err="1" smtClean="0">
              <a:solidFill>
                <a:schemeClr val="accent2">
                  <a:lumMod val="50000"/>
                </a:schemeClr>
              </a:solidFill>
            </a:rPr>
            <a:t>Оптова</a:t>
          </a:r>
          <a:r>
            <a:rPr lang="ru-RU" b="1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b="1" dirty="0" err="1" smtClean="0">
              <a:solidFill>
                <a:schemeClr val="accent2">
                  <a:lumMod val="50000"/>
                </a:schemeClr>
              </a:solidFill>
            </a:rPr>
            <a:t>торгівля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--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це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форма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економічних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зв'язків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між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підприємствами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й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організаціями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,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які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здійснюються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з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метою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доведення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товарів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від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підприємства-виробника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до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роздрібної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торгівлі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або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dirty="0" err="1" smtClean="0">
              <a:solidFill>
                <a:schemeClr val="accent2">
                  <a:lumMod val="50000"/>
                </a:schemeClr>
              </a:solidFill>
            </a:rPr>
            <a:t>підприємств-споживачів</a:t>
          </a:r>
          <a:r>
            <a:rPr lang="ru-RU" dirty="0" smtClean="0">
              <a:solidFill>
                <a:schemeClr val="accent2">
                  <a:lumMod val="50000"/>
                </a:schemeClr>
              </a:solidFill>
            </a:rPr>
            <a:t>.</a:t>
          </a:r>
          <a:endParaRPr lang="ru-RU" dirty="0">
            <a:solidFill>
              <a:schemeClr val="accent2">
                <a:lumMod val="50000"/>
              </a:schemeClr>
            </a:solidFill>
          </a:endParaRPr>
        </a:p>
      </dgm:t>
    </dgm:pt>
    <dgm:pt modelId="{498658D1-804A-4F00-88E7-5956BFDA07FA}" type="parTrans" cxnId="{855BC77E-7CEE-4033-B00A-81B61EC3FC9B}">
      <dgm:prSet/>
      <dgm:spPr/>
      <dgm:t>
        <a:bodyPr/>
        <a:lstStyle/>
        <a:p>
          <a:endParaRPr lang="uk-UA"/>
        </a:p>
      </dgm:t>
    </dgm:pt>
    <dgm:pt modelId="{3903DBDF-D4E6-4A4E-B739-F4FFE4ADC343}" type="sibTrans" cxnId="{855BC77E-7CEE-4033-B00A-81B61EC3FC9B}">
      <dgm:prSet/>
      <dgm:spPr/>
      <dgm:t>
        <a:bodyPr/>
        <a:lstStyle/>
        <a:p>
          <a:endParaRPr lang="uk-UA"/>
        </a:p>
      </dgm:t>
    </dgm:pt>
    <dgm:pt modelId="{E59CB87F-A0DE-48D7-B2C0-6CB8711AC97F}" type="pres">
      <dgm:prSet presAssocID="{7050AE1E-958D-499E-A097-D22D88D8D10C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B2A1035-829D-45BD-87EF-9F36F6DE4B31}" type="pres">
      <dgm:prSet presAssocID="{7B944E1C-9BC5-4A36-8B31-D37281B1F572}" presName="parentText" presStyleLbl="node1" presStyleIdx="0" presStyleCnt="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DD834680-0238-48C3-8BCA-53A5DAE6C8E8}" type="presOf" srcId="{7B944E1C-9BC5-4A36-8B31-D37281B1F572}" destId="{5B2A1035-829D-45BD-87EF-9F36F6DE4B31}" srcOrd="0" destOrd="0" presId="urn:microsoft.com/office/officeart/2005/8/layout/vList2"/>
    <dgm:cxn modelId="{855BC77E-7CEE-4033-B00A-81B61EC3FC9B}" srcId="{7050AE1E-958D-499E-A097-D22D88D8D10C}" destId="{7B944E1C-9BC5-4A36-8B31-D37281B1F572}" srcOrd="0" destOrd="0" parTransId="{498658D1-804A-4F00-88E7-5956BFDA07FA}" sibTransId="{3903DBDF-D4E6-4A4E-B739-F4FFE4ADC343}"/>
    <dgm:cxn modelId="{7B4452E0-A93C-4CC7-9A56-ACE15A0C9716}" type="presOf" srcId="{7050AE1E-958D-499E-A097-D22D88D8D10C}" destId="{E59CB87F-A0DE-48D7-B2C0-6CB8711AC97F}" srcOrd="0" destOrd="0" presId="urn:microsoft.com/office/officeart/2005/8/layout/vList2"/>
    <dgm:cxn modelId="{FA8DF6F0-73E3-4DCF-B78C-766AFB72EAF6}" type="presParOf" srcId="{E59CB87F-A0DE-48D7-B2C0-6CB8711AC97F}" destId="{5B2A1035-829D-45BD-87EF-9F36F6DE4B31}" srcOrd="0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83C76DA2-EBE0-499F-B66F-ACC67683B4DF}" type="doc">
      <dgm:prSet loTypeId="urn:microsoft.com/office/officeart/2005/8/layout/list1" loCatId="list" qsTypeId="urn:microsoft.com/office/officeart/2005/8/quickstyle/simple1" qsCatId="simple" csTypeId="urn:microsoft.com/office/officeart/2005/8/colors/accent2_1" csCatId="accent2" phldr="1"/>
      <dgm:spPr/>
      <dgm:t>
        <a:bodyPr/>
        <a:lstStyle/>
        <a:p>
          <a:endParaRPr lang="uk-UA"/>
        </a:p>
      </dgm:t>
    </dgm:pt>
    <dgm:pt modelId="{992BDFA9-81CF-441F-A516-6CA4723C931F}">
      <dgm:prSet custT="1"/>
      <dgm:spPr/>
      <dgm:t>
        <a:bodyPr/>
        <a:lstStyle/>
        <a:p>
          <a:pPr rtl="0"/>
          <a:r>
            <a:rPr lang="uk-UA" sz="2400" b="1" i="1" noProof="0" dirty="0" smtClean="0"/>
            <a:t>соціальні</a:t>
          </a:r>
          <a:r>
            <a:rPr lang="uk-UA" sz="2400" noProof="0" dirty="0" smtClean="0"/>
            <a:t> - насичення внутрішнього споживчого ринку конкурентоспроможними товарами, що задовольняють попит різних верств населення;</a:t>
          </a:r>
          <a:endParaRPr lang="uk-UA" sz="2400" noProof="0" dirty="0"/>
        </a:p>
      </dgm:t>
    </dgm:pt>
    <dgm:pt modelId="{A932A40F-1FAE-4F7F-8017-7443F6CC905F}" type="parTrans" cxnId="{00687A9D-E989-452D-A430-C4BEFB8365B2}">
      <dgm:prSet/>
      <dgm:spPr/>
      <dgm:t>
        <a:bodyPr/>
        <a:lstStyle/>
        <a:p>
          <a:endParaRPr lang="uk-UA" sz="2400" noProof="0"/>
        </a:p>
      </dgm:t>
    </dgm:pt>
    <dgm:pt modelId="{49FB4236-92A7-4172-9119-08E95B20A849}" type="sibTrans" cxnId="{00687A9D-E989-452D-A430-C4BEFB8365B2}">
      <dgm:prSet/>
      <dgm:spPr/>
      <dgm:t>
        <a:bodyPr/>
        <a:lstStyle/>
        <a:p>
          <a:endParaRPr lang="uk-UA" sz="2400" noProof="0"/>
        </a:p>
      </dgm:t>
    </dgm:pt>
    <dgm:pt modelId="{D08CFCB1-8345-4423-8847-84679EFE6370}">
      <dgm:prSet custT="1"/>
      <dgm:spPr/>
      <dgm:t>
        <a:bodyPr/>
        <a:lstStyle/>
        <a:p>
          <a:pPr rtl="0"/>
          <a:r>
            <a:rPr lang="uk-UA" sz="2400" b="1" i="1" noProof="0" dirty="0" smtClean="0"/>
            <a:t>економічні</a:t>
          </a:r>
          <a:r>
            <a:rPr lang="uk-UA" sz="2400" noProof="0" dirty="0" smtClean="0"/>
            <a:t> - розвиток оптового товарообороту на внутрішньому та зовнішньому ринках, оптимізація його структури та витрат обігу, стабілізація цін і досягнення їх відповідності стану товарної пропозиції та споживчому попиту;</a:t>
          </a:r>
          <a:endParaRPr lang="uk-UA" sz="2400" noProof="0" dirty="0"/>
        </a:p>
      </dgm:t>
    </dgm:pt>
    <dgm:pt modelId="{342701D3-C487-40C1-9ECD-01F99B4E74F5}" type="parTrans" cxnId="{D62AAE3D-E913-478A-A1E8-ECC5BC4CBC5B}">
      <dgm:prSet/>
      <dgm:spPr/>
      <dgm:t>
        <a:bodyPr/>
        <a:lstStyle/>
        <a:p>
          <a:endParaRPr lang="uk-UA" sz="2400" noProof="0"/>
        </a:p>
      </dgm:t>
    </dgm:pt>
    <dgm:pt modelId="{D36CCE31-127D-4923-A36E-FA6EFA27998D}" type="sibTrans" cxnId="{D62AAE3D-E913-478A-A1E8-ECC5BC4CBC5B}">
      <dgm:prSet/>
      <dgm:spPr/>
      <dgm:t>
        <a:bodyPr/>
        <a:lstStyle/>
        <a:p>
          <a:endParaRPr lang="uk-UA" sz="2400" noProof="0"/>
        </a:p>
      </dgm:t>
    </dgm:pt>
    <dgm:pt modelId="{BFE0258F-07B4-42CC-800C-EB9F6A9E344E}" type="pres">
      <dgm:prSet presAssocID="{83C76DA2-EBE0-499F-B66F-ACC67683B4DF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A17E7A3B-5FFB-4660-83C1-17C5A71D40BD}" type="pres">
      <dgm:prSet presAssocID="{992BDFA9-81CF-441F-A516-6CA4723C931F}" presName="parentLin" presStyleCnt="0"/>
      <dgm:spPr/>
    </dgm:pt>
    <dgm:pt modelId="{02C15027-4751-49A0-948D-09C7BA9C149E}" type="pres">
      <dgm:prSet presAssocID="{992BDFA9-81CF-441F-A516-6CA4723C931F}" presName="parentLeftMargin" presStyleLbl="node1" presStyleIdx="0" presStyleCnt="2"/>
      <dgm:spPr/>
      <dgm:t>
        <a:bodyPr/>
        <a:lstStyle/>
        <a:p>
          <a:endParaRPr lang="ru-RU"/>
        </a:p>
      </dgm:t>
    </dgm:pt>
    <dgm:pt modelId="{1CFF0E49-83F8-44F4-86FC-E64D37BCDEBC}" type="pres">
      <dgm:prSet presAssocID="{992BDFA9-81CF-441F-A516-6CA4723C931F}" presName="parentText" presStyleLbl="node1" presStyleIdx="0" presStyleCnt="2" custScaleX="129101">
        <dgm:presLayoutVars>
          <dgm:chMax val="0"/>
          <dgm:bulletEnabled val="1"/>
        </dgm:presLayoutVars>
      </dgm:prSet>
      <dgm:spPr/>
      <dgm:t>
        <a:bodyPr/>
        <a:lstStyle/>
        <a:p>
          <a:endParaRPr lang="uk-UA"/>
        </a:p>
      </dgm:t>
    </dgm:pt>
    <dgm:pt modelId="{CA186D9E-E241-4439-B79B-C46EC1D1B236}" type="pres">
      <dgm:prSet presAssocID="{992BDFA9-81CF-441F-A516-6CA4723C931F}" presName="negativeSpace" presStyleCnt="0"/>
      <dgm:spPr/>
    </dgm:pt>
    <dgm:pt modelId="{B8E3C312-5BF6-4683-9277-0BE46D459626}" type="pres">
      <dgm:prSet presAssocID="{992BDFA9-81CF-441F-A516-6CA4723C931F}" presName="childText" presStyleLbl="conFgAcc1" presStyleIdx="0" presStyleCnt="2">
        <dgm:presLayoutVars>
          <dgm:bulletEnabled val="1"/>
        </dgm:presLayoutVars>
      </dgm:prSet>
      <dgm:spPr/>
    </dgm:pt>
    <dgm:pt modelId="{1804963C-602F-4CB1-9E13-4EBDF3894EDB}" type="pres">
      <dgm:prSet presAssocID="{49FB4236-92A7-4172-9119-08E95B20A849}" presName="spaceBetweenRectangles" presStyleCnt="0"/>
      <dgm:spPr/>
    </dgm:pt>
    <dgm:pt modelId="{7C703063-AE48-44B0-B2FA-30D22E0C085A}" type="pres">
      <dgm:prSet presAssocID="{D08CFCB1-8345-4423-8847-84679EFE6370}" presName="parentLin" presStyleCnt="0"/>
      <dgm:spPr/>
    </dgm:pt>
    <dgm:pt modelId="{F77543F5-6D99-4087-A221-362C44BD0668}" type="pres">
      <dgm:prSet presAssocID="{D08CFCB1-8345-4423-8847-84679EFE6370}" presName="parentLeftMargin" presStyleLbl="node1" presStyleIdx="0" presStyleCnt="2"/>
      <dgm:spPr/>
      <dgm:t>
        <a:bodyPr/>
        <a:lstStyle/>
        <a:p>
          <a:endParaRPr lang="ru-RU"/>
        </a:p>
      </dgm:t>
    </dgm:pt>
    <dgm:pt modelId="{CBDC5352-A8F9-46C8-BFD5-7972E766EA6A}" type="pres">
      <dgm:prSet presAssocID="{D08CFCB1-8345-4423-8847-84679EFE6370}" presName="parentText" presStyleLbl="node1" presStyleIdx="1" presStyleCnt="2" custScaleX="129100">
        <dgm:presLayoutVars>
          <dgm:chMax val="0"/>
          <dgm:bulletEnabled val="1"/>
        </dgm:presLayoutVars>
      </dgm:prSet>
      <dgm:spPr/>
      <dgm:t>
        <a:bodyPr/>
        <a:lstStyle/>
        <a:p>
          <a:endParaRPr lang="uk-UA"/>
        </a:p>
      </dgm:t>
    </dgm:pt>
    <dgm:pt modelId="{F5DA6DBA-BA9A-4FCE-8943-A6916916D5CB}" type="pres">
      <dgm:prSet presAssocID="{D08CFCB1-8345-4423-8847-84679EFE6370}" presName="negativeSpace" presStyleCnt="0"/>
      <dgm:spPr/>
    </dgm:pt>
    <dgm:pt modelId="{42D323DD-8898-4874-B2C9-752B9C61BC88}" type="pres">
      <dgm:prSet presAssocID="{D08CFCB1-8345-4423-8847-84679EFE6370}" presName="childText" presStyleLbl="conFgAcc1" presStyleIdx="1" presStyleCnt="2" custLinFactNeighborX="5556" custLinFactNeighborY="-1327">
        <dgm:presLayoutVars>
          <dgm:bulletEnabled val="1"/>
        </dgm:presLayoutVars>
      </dgm:prSet>
      <dgm:spPr/>
    </dgm:pt>
  </dgm:ptLst>
  <dgm:cxnLst>
    <dgm:cxn modelId="{D62AAE3D-E913-478A-A1E8-ECC5BC4CBC5B}" srcId="{83C76DA2-EBE0-499F-B66F-ACC67683B4DF}" destId="{D08CFCB1-8345-4423-8847-84679EFE6370}" srcOrd="1" destOrd="0" parTransId="{342701D3-C487-40C1-9ECD-01F99B4E74F5}" sibTransId="{D36CCE31-127D-4923-A36E-FA6EFA27998D}"/>
    <dgm:cxn modelId="{AE065A55-754B-4F81-A598-547C89F7353F}" type="presOf" srcId="{D08CFCB1-8345-4423-8847-84679EFE6370}" destId="{CBDC5352-A8F9-46C8-BFD5-7972E766EA6A}" srcOrd="1" destOrd="0" presId="urn:microsoft.com/office/officeart/2005/8/layout/list1"/>
    <dgm:cxn modelId="{D799119F-1A05-4B73-8544-51C35EB30286}" type="presOf" srcId="{83C76DA2-EBE0-499F-B66F-ACC67683B4DF}" destId="{BFE0258F-07B4-42CC-800C-EB9F6A9E344E}" srcOrd="0" destOrd="0" presId="urn:microsoft.com/office/officeart/2005/8/layout/list1"/>
    <dgm:cxn modelId="{00687A9D-E989-452D-A430-C4BEFB8365B2}" srcId="{83C76DA2-EBE0-499F-B66F-ACC67683B4DF}" destId="{992BDFA9-81CF-441F-A516-6CA4723C931F}" srcOrd="0" destOrd="0" parTransId="{A932A40F-1FAE-4F7F-8017-7443F6CC905F}" sibTransId="{49FB4236-92A7-4172-9119-08E95B20A849}"/>
    <dgm:cxn modelId="{A0024023-C35D-4D24-8A3C-B9A7CBCFFA82}" type="presOf" srcId="{D08CFCB1-8345-4423-8847-84679EFE6370}" destId="{F77543F5-6D99-4087-A221-362C44BD0668}" srcOrd="0" destOrd="0" presId="urn:microsoft.com/office/officeart/2005/8/layout/list1"/>
    <dgm:cxn modelId="{C095EE8C-A549-43CA-A9C0-50AF23B4471E}" type="presOf" srcId="{992BDFA9-81CF-441F-A516-6CA4723C931F}" destId="{1CFF0E49-83F8-44F4-86FC-E64D37BCDEBC}" srcOrd="1" destOrd="0" presId="urn:microsoft.com/office/officeart/2005/8/layout/list1"/>
    <dgm:cxn modelId="{4FB841E0-8B64-4FF7-A94B-19C0C0503E1D}" type="presOf" srcId="{992BDFA9-81CF-441F-A516-6CA4723C931F}" destId="{02C15027-4751-49A0-948D-09C7BA9C149E}" srcOrd="0" destOrd="0" presId="urn:microsoft.com/office/officeart/2005/8/layout/list1"/>
    <dgm:cxn modelId="{D492D737-84FE-4249-95AC-0D8CB45C0D32}" type="presParOf" srcId="{BFE0258F-07B4-42CC-800C-EB9F6A9E344E}" destId="{A17E7A3B-5FFB-4660-83C1-17C5A71D40BD}" srcOrd="0" destOrd="0" presId="urn:microsoft.com/office/officeart/2005/8/layout/list1"/>
    <dgm:cxn modelId="{3EBDA89D-ABCA-4E94-AFCC-F8856E3DF546}" type="presParOf" srcId="{A17E7A3B-5FFB-4660-83C1-17C5A71D40BD}" destId="{02C15027-4751-49A0-948D-09C7BA9C149E}" srcOrd="0" destOrd="0" presId="urn:microsoft.com/office/officeart/2005/8/layout/list1"/>
    <dgm:cxn modelId="{DF5EA6E5-673B-489F-A130-139BF426BFD9}" type="presParOf" srcId="{A17E7A3B-5FFB-4660-83C1-17C5A71D40BD}" destId="{1CFF0E49-83F8-44F4-86FC-E64D37BCDEBC}" srcOrd="1" destOrd="0" presId="urn:microsoft.com/office/officeart/2005/8/layout/list1"/>
    <dgm:cxn modelId="{9500F2F7-A9F4-40AE-A55D-427DDFE423CD}" type="presParOf" srcId="{BFE0258F-07B4-42CC-800C-EB9F6A9E344E}" destId="{CA186D9E-E241-4439-B79B-C46EC1D1B236}" srcOrd="1" destOrd="0" presId="urn:microsoft.com/office/officeart/2005/8/layout/list1"/>
    <dgm:cxn modelId="{A6878121-F264-4318-84EF-074D20782A7C}" type="presParOf" srcId="{BFE0258F-07B4-42CC-800C-EB9F6A9E344E}" destId="{B8E3C312-5BF6-4683-9277-0BE46D459626}" srcOrd="2" destOrd="0" presId="urn:microsoft.com/office/officeart/2005/8/layout/list1"/>
    <dgm:cxn modelId="{6A99E610-E5D6-4D7F-83FC-D69AF2115105}" type="presParOf" srcId="{BFE0258F-07B4-42CC-800C-EB9F6A9E344E}" destId="{1804963C-602F-4CB1-9E13-4EBDF3894EDB}" srcOrd="3" destOrd="0" presId="urn:microsoft.com/office/officeart/2005/8/layout/list1"/>
    <dgm:cxn modelId="{EC4DE35C-0089-470B-A3B5-7A7396950EE6}" type="presParOf" srcId="{BFE0258F-07B4-42CC-800C-EB9F6A9E344E}" destId="{7C703063-AE48-44B0-B2FA-30D22E0C085A}" srcOrd="4" destOrd="0" presId="urn:microsoft.com/office/officeart/2005/8/layout/list1"/>
    <dgm:cxn modelId="{5326DA92-F656-48D2-AD15-7D3926F0E4D9}" type="presParOf" srcId="{7C703063-AE48-44B0-B2FA-30D22E0C085A}" destId="{F77543F5-6D99-4087-A221-362C44BD0668}" srcOrd="0" destOrd="0" presId="urn:microsoft.com/office/officeart/2005/8/layout/list1"/>
    <dgm:cxn modelId="{4045760A-9F9C-4F59-A6EC-8A786CAC2A4F}" type="presParOf" srcId="{7C703063-AE48-44B0-B2FA-30D22E0C085A}" destId="{CBDC5352-A8F9-46C8-BFD5-7972E766EA6A}" srcOrd="1" destOrd="0" presId="urn:microsoft.com/office/officeart/2005/8/layout/list1"/>
    <dgm:cxn modelId="{8A8F8941-5275-427D-B48D-01C562AF0582}" type="presParOf" srcId="{BFE0258F-07B4-42CC-800C-EB9F6A9E344E}" destId="{F5DA6DBA-BA9A-4FCE-8943-A6916916D5CB}" srcOrd="5" destOrd="0" presId="urn:microsoft.com/office/officeart/2005/8/layout/list1"/>
    <dgm:cxn modelId="{0DEB41C6-F62A-4390-9FF4-7A17C5679E43}" type="presParOf" srcId="{BFE0258F-07B4-42CC-800C-EB9F6A9E344E}" destId="{42D323DD-8898-4874-B2C9-752B9C61BC88}" srcOrd="6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8.xml><?xml version="1.0" encoding="utf-8"?>
<dgm:dataModel xmlns:dgm="http://schemas.openxmlformats.org/drawingml/2006/diagram" xmlns:a="http://schemas.openxmlformats.org/drawingml/2006/main">
  <dgm:ptLst>
    <dgm:pt modelId="{C24FD1D1-B0CB-4887-9439-2AA8A20970B1}" type="doc">
      <dgm:prSet loTypeId="urn:microsoft.com/office/officeart/2005/8/layout/list1" loCatId="list" qsTypeId="urn:microsoft.com/office/officeart/2005/8/quickstyle/simple1" qsCatId="simple" csTypeId="urn:microsoft.com/office/officeart/2005/8/colors/accent2_1" csCatId="accent2" phldr="1"/>
      <dgm:spPr/>
      <dgm:t>
        <a:bodyPr/>
        <a:lstStyle/>
        <a:p>
          <a:endParaRPr lang="uk-UA"/>
        </a:p>
      </dgm:t>
    </dgm:pt>
    <dgm:pt modelId="{7A2BC31A-7F1F-45E3-B71F-547DF31DE859}">
      <dgm:prSet custT="1"/>
      <dgm:spPr/>
      <dgm:t>
        <a:bodyPr/>
        <a:lstStyle/>
        <a:p>
          <a:pPr rtl="0"/>
          <a:r>
            <a:rPr lang="uk-UA" sz="2400" b="1" i="1" noProof="0" dirty="0" smtClean="0"/>
            <a:t>організаційні</a:t>
          </a:r>
          <a:r>
            <a:rPr lang="uk-UA" sz="2400" noProof="0" dirty="0" smtClean="0"/>
            <a:t> - формування оптимальних каналів товароруху, забезпечення стабільних та інтенсивних товаропотоків, інтеграція та координація дій суб'єктів оптового ринку, створення на товарних ринках, відповідних їхнім особливостям, логістичних систем;</a:t>
          </a:r>
          <a:endParaRPr lang="uk-UA" sz="2400" noProof="0" dirty="0"/>
        </a:p>
      </dgm:t>
    </dgm:pt>
    <dgm:pt modelId="{D67DDEE9-FCF4-4FC3-A968-5B2B5F2A7FD8}" type="parTrans" cxnId="{AF0515C2-C8B5-421B-89D1-D4046DD2BB53}">
      <dgm:prSet/>
      <dgm:spPr/>
      <dgm:t>
        <a:bodyPr/>
        <a:lstStyle/>
        <a:p>
          <a:endParaRPr lang="uk-UA" sz="2400" noProof="0"/>
        </a:p>
      </dgm:t>
    </dgm:pt>
    <dgm:pt modelId="{6DBBA3FE-96F9-4DF1-8572-BC6A25969006}" type="sibTrans" cxnId="{AF0515C2-C8B5-421B-89D1-D4046DD2BB53}">
      <dgm:prSet/>
      <dgm:spPr/>
      <dgm:t>
        <a:bodyPr/>
        <a:lstStyle/>
        <a:p>
          <a:endParaRPr lang="uk-UA" sz="2400" noProof="0"/>
        </a:p>
      </dgm:t>
    </dgm:pt>
    <dgm:pt modelId="{2865FF62-F249-4CE3-A63C-19B61BF2A076}">
      <dgm:prSet custT="1"/>
      <dgm:spPr/>
      <dgm:t>
        <a:bodyPr/>
        <a:lstStyle/>
        <a:p>
          <a:pPr rtl="0"/>
          <a:r>
            <a:rPr lang="uk-UA" sz="2400" b="1" i="1" noProof="0" dirty="0" smtClean="0"/>
            <a:t>технологічні</a:t>
          </a:r>
          <a:r>
            <a:rPr lang="uk-UA" sz="2400" noProof="0" dirty="0" smtClean="0"/>
            <a:t> - перетворення виробничого асортименту в торговий і забезпечення доставки необхідного товару у визначене місце і в обумовлений термін.</a:t>
          </a:r>
          <a:endParaRPr lang="uk-UA" sz="2400" noProof="0" dirty="0"/>
        </a:p>
      </dgm:t>
    </dgm:pt>
    <dgm:pt modelId="{5A27FBB7-8DAA-4B31-B2FD-F8F58C54D561}" type="parTrans" cxnId="{8A1FC05F-86A2-4B0F-8756-96CF5F96F411}">
      <dgm:prSet/>
      <dgm:spPr/>
      <dgm:t>
        <a:bodyPr/>
        <a:lstStyle/>
        <a:p>
          <a:endParaRPr lang="uk-UA" sz="2400" noProof="0"/>
        </a:p>
      </dgm:t>
    </dgm:pt>
    <dgm:pt modelId="{9C9D1320-DDB8-4CB9-A25D-18842A795475}" type="sibTrans" cxnId="{8A1FC05F-86A2-4B0F-8756-96CF5F96F411}">
      <dgm:prSet/>
      <dgm:spPr/>
      <dgm:t>
        <a:bodyPr/>
        <a:lstStyle/>
        <a:p>
          <a:endParaRPr lang="uk-UA" sz="2400" noProof="0"/>
        </a:p>
      </dgm:t>
    </dgm:pt>
    <dgm:pt modelId="{9CD2D35A-EB07-4BCD-95E3-DC01F27C20B3}" type="pres">
      <dgm:prSet presAssocID="{C24FD1D1-B0CB-4887-9439-2AA8A20970B1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DF6F5BF0-2BA0-44A1-9DE5-9BF62D90DAC1}" type="pres">
      <dgm:prSet presAssocID="{7A2BC31A-7F1F-45E3-B71F-547DF31DE859}" presName="parentLin" presStyleCnt="0"/>
      <dgm:spPr/>
    </dgm:pt>
    <dgm:pt modelId="{B179A8E6-EF35-41F5-A1BD-1945666E294D}" type="pres">
      <dgm:prSet presAssocID="{7A2BC31A-7F1F-45E3-B71F-547DF31DE859}" presName="parentLeftMargin" presStyleLbl="node1" presStyleIdx="0" presStyleCnt="2"/>
      <dgm:spPr/>
      <dgm:t>
        <a:bodyPr/>
        <a:lstStyle/>
        <a:p>
          <a:endParaRPr lang="ru-RU"/>
        </a:p>
      </dgm:t>
    </dgm:pt>
    <dgm:pt modelId="{39464A58-8217-404B-B318-B8146E3E1CFB}" type="pres">
      <dgm:prSet presAssocID="{7A2BC31A-7F1F-45E3-B71F-547DF31DE859}" presName="parentText" presStyleLbl="node1" presStyleIdx="0" presStyleCnt="2" custScaleX="39529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447D875-A23F-444A-B006-E5D117928B31}" type="pres">
      <dgm:prSet presAssocID="{7A2BC31A-7F1F-45E3-B71F-547DF31DE859}" presName="negativeSpace" presStyleCnt="0"/>
      <dgm:spPr/>
    </dgm:pt>
    <dgm:pt modelId="{83F8AADE-5BFA-4A51-B98B-FFD147845275}" type="pres">
      <dgm:prSet presAssocID="{7A2BC31A-7F1F-45E3-B71F-547DF31DE859}" presName="childText" presStyleLbl="conFgAcc1" presStyleIdx="0" presStyleCnt="2">
        <dgm:presLayoutVars>
          <dgm:bulletEnabled val="1"/>
        </dgm:presLayoutVars>
      </dgm:prSet>
      <dgm:spPr/>
    </dgm:pt>
    <dgm:pt modelId="{FFCAC8EC-7CF6-43D7-B5A0-0BAEA336F731}" type="pres">
      <dgm:prSet presAssocID="{6DBBA3FE-96F9-4DF1-8572-BC6A25969006}" presName="spaceBetweenRectangles" presStyleCnt="0"/>
      <dgm:spPr/>
    </dgm:pt>
    <dgm:pt modelId="{60489199-E085-4A0C-B71C-6DC665F4740D}" type="pres">
      <dgm:prSet presAssocID="{2865FF62-F249-4CE3-A63C-19B61BF2A076}" presName="parentLin" presStyleCnt="0"/>
      <dgm:spPr/>
    </dgm:pt>
    <dgm:pt modelId="{EB41EF01-8D50-4CF5-B4C4-8B7930ECFCEF}" type="pres">
      <dgm:prSet presAssocID="{2865FF62-F249-4CE3-A63C-19B61BF2A076}" presName="parentLeftMargin" presStyleLbl="node1" presStyleIdx="0" presStyleCnt="2"/>
      <dgm:spPr/>
      <dgm:t>
        <a:bodyPr/>
        <a:lstStyle/>
        <a:p>
          <a:endParaRPr lang="ru-RU"/>
        </a:p>
      </dgm:t>
    </dgm:pt>
    <dgm:pt modelId="{453C741A-A933-41E3-B7F2-A8DB04F537CC}" type="pres">
      <dgm:prSet presAssocID="{2865FF62-F249-4CE3-A63C-19B61BF2A076}" presName="parentText" presStyleLbl="node1" presStyleIdx="1" presStyleCnt="2" custScaleX="314362">
        <dgm:presLayoutVars>
          <dgm:chMax val="0"/>
          <dgm:bulletEnabled val="1"/>
        </dgm:presLayoutVars>
      </dgm:prSet>
      <dgm:spPr/>
      <dgm:t>
        <a:bodyPr/>
        <a:lstStyle/>
        <a:p>
          <a:endParaRPr lang="uk-UA"/>
        </a:p>
      </dgm:t>
    </dgm:pt>
    <dgm:pt modelId="{A9C8F0FE-FA1A-486E-A9FE-2C3B7075BCC1}" type="pres">
      <dgm:prSet presAssocID="{2865FF62-F249-4CE3-A63C-19B61BF2A076}" presName="negativeSpace" presStyleCnt="0"/>
      <dgm:spPr/>
    </dgm:pt>
    <dgm:pt modelId="{A3278152-FEC7-45F5-95C6-24AB2ECDA1ED}" type="pres">
      <dgm:prSet presAssocID="{2865FF62-F249-4CE3-A63C-19B61BF2A076}" presName="childText" presStyleLbl="conFgAcc1" presStyleIdx="1" presStyleCnt="2">
        <dgm:presLayoutVars>
          <dgm:bulletEnabled val="1"/>
        </dgm:presLayoutVars>
      </dgm:prSet>
      <dgm:spPr/>
    </dgm:pt>
  </dgm:ptLst>
  <dgm:cxnLst>
    <dgm:cxn modelId="{32D3A12A-881D-45C3-9CE5-169C16BD8A7C}" type="presOf" srcId="{C24FD1D1-B0CB-4887-9439-2AA8A20970B1}" destId="{9CD2D35A-EB07-4BCD-95E3-DC01F27C20B3}" srcOrd="0" destOrd="0" presId="urn:microsoft.com/office/officeart/2005/8/layout/list1"/>
    <dgm:cxn modelId="{DDEC86D0-759A-411A-8A6D-ADC8260677C1}" type="presOf" srcId="{2865FF62-F249-4CE3-A63C-19B61BF2A076}" destId="{EB41EF01-8D50-4CF5-B4C4-8B7930ECFCEF}" srcOrd="0" destOrd="0" presId="urn:microsoft.com/office/officeart/2005/8/layout/list1"/>
    <dgm:cxn modelId="{8A1FC05F-86A2-4B0F-8756-96CF5F96F411}" srcId="{C24FD1D1-B0CB-4887-9439-2AA8A20970B1}" destId="{2865FF62-F249-4CE3-A63C-19B61BF2A076}" srcOrd="1" destOrd="0" parTransId="{5A27FBB7-8DAA-4B31-B2FD-F8F58C54D561}" sibTransId="{9C9D1320-DDB8-4CB9-A25D-18842A795475}"/>
    <dgm:cxn modelId="{1E6E18D0-5686-40F3-8876-C5BAF6D846DC}" type="presOf" srcId="{7A2BC31A-7F1F-45E3-B71F-547DF31DE859}" destId="{39464A58-8217-404B-B318-B8146E3E1CFB}" srcOrd="1" destOrd="0" presId="urn:microsoft.com/office/officeart/2005/8/layout/list1"/>
    <dgm:cxn modelId="{AF0515C2-C8B5-421B-89D1-D4046DD2BB53}" srcId="{C24FD1D1-B0CB-4887-9439-2AA8A20970B1}" destId="{7A2BC31A-7F1F-45E3-B71F-547DF31DE859}" srcOrd="0" destOrd="0" parTransId="{D67DDEE9-FCF4-4FC3-A968-5B2B5F2A7FD8}" sibTransId="{6DBBA3FE-96F9-4DF1-8572-BC6A25969006}"/>
    <dgm:cxn modelId="{D0E76A1C-C4CD-4B0B-8D97-378DF6801B17}" type="presOf" srcId="{2865FF62-F249-4CE3-A63C-19B61BF2A076}" destId="{453C741A-A933-41E3-B7F2-A8DB04F537CC}" srcOrd="1" destOrd="0" presId="urn:microsoft.com/office/officeart/2005/8/layout/list1"/>
    <dgm:cxn modelId="{6401FB93-9FE5-4E79-84FA-97A151C4CB44}" type="presOf" srcId="{7A2BC31A-7F1F-45E3-B71F-547DF31DE859}" destId="{B179A8E6-EF35-41F5-A1BD-1945666E294D}" srcOrd="0" destOrd="0" presId="urn:microsoft.com/office/officeart/2005/8/layout/list1"/>
    <dgm:cxn modelId="{0A8E77F0-9FBF-4D0D-B4DF-18067CF6E712}" type="presParOf" srcId="{9CD2D35A-EB07-4BCD-95E3-DC01F27C20B3}" destId="{DF6F5BF0-2BA0-44A1-9DE5-9BF62D90DAC1}" srcOrd="0" destOrd="0" presId="urn:microsoft.com/office/officeart/2005/8/layout/list1"/>
    <dgm:cxn modelId="{597FAF07-0575-4299-9FD9-E550908CA45A}" type="presParOf" srcId="{DF6F5BF0-2BA0-44A1-9DE5-9BF62D90DAC1}" destId="{B179A8E6-EF35-41F5-A1BD-1945666E294D}" srcOrd="0" destOrd="0" presId="urn:microsoft.com/office/officeart/2005/8/layout/list1"/>
    <dgm:cxn modelId="{A83B45AE-CDE9-470F-A7D6-DD30E6E8EF9D}" type="presParOf" srcId="{DF6F5BF0-2BA0-44A1-9DE5-9BF62D90DAC1}" destId="{39464A58-8217-404B-B318-B8146E3E1CFB}" srcOrd="1" destOrd="0" presId="urn:microsoft.com/office/officeart/2005/8/layout/list1"/>
    <dgm:cxn modelId="{133BAB9F-A3D2-47D3-A212-34C2B90DA162}" type="presParOf" srcId="{9CD2D35A-EB07-4BCD-95E3-DC01F27C20B3}" destId="{C447D875-A23F-444A-B006-E5D117928B31}" srcOrd="1" destOrd="0" presId="urn:microsoft.com/office/officeart/2005/8/layout/list1"/>
    <dgm:cxn modelId="{DCFED19A-31DE-49DE-AF5F-D5C4856491DA}" type="presParOf" srcId="{9CD2D35A-EB07-4BCD-95E3-DC01F27C20B3}" destId="{83F8AADE-5BFA-4A51-B98B-FFD147845275}" srcOrd="2" destOrd="0" presId="urn:microsoft.com/office/officeart/2005/8/layout/list1"/>
    <dgm:cxn modelId="{ACC47533-10BC-4BE1-8AB4-AB382895F536}" type="presParOf" srcId="{9CD2D35A-EB07-4BCD-95E3-DC01F27C20B3}" destId="{FFCAC8EC-7CF6-43D7-B5A0-0BAEA336F731}" srcOrd="3" destOrd="0" presId="urn:microsoft.com/office/officeart/2005/8/layout/list1"/>
    <dgm:cxn modelId="{CCD2171B-952A-4069-B8FD-894F1E69AAA5}" type="presParOf" srcId="{9CD2D35A-EB07-4BCD-95E3-DC01F27C20B3}" destId="{60489199-E085-4A0C-B71C-6DC665F4740D}" srcOrd="4" destOrd="0" presId="urn:microsoft.com/office/officeart/2005/8/layout/list1"/>
    <dgm:cxn modelId="{A3AC0C3A-AC11-4E7E-BE3F-B4E1CD9D9894}" type="presParOf" srcId="{60489199-E085-4A0C-B71C-6DC665F4740D}" destId="{EB41EF01-8D50-4CF5-B4C4-8B7930ECFCEF}" srcOrd="0" destOrd="0" presId="urn:microsoft.com/office/officeart/2005/8/layout/list1"/>
    <dgm:cxn modelId="{B147E56B-EC3C-4EB8-AA32-A3433581FFD6}" type="presParOf" srcId="{60489199-E085-4A0C-B71C-6DC665F4740D}" destId="{453C741A-A933-41E3-B7F2-A8DB04F537CC}" srcOrd="1" destOrd="0" presId="urn:microsoft.com/office/officeart/2005/8/layout/list1"/>
    <dgm:cxn modelId="{5AE7BFA0-EBDB-4291-9291-BA92ACFBBE3C}" type="presParOf" srcId="{9CD2D35A-EB07-4BCD-95E3-DC01F27C20B3}" destId="{A9C8F0FE-FA1A-486E-A9FE-2C3B7075BCC1}" srcOrd="5" destOrd="0" presId="urn:microsoft.com/office/officeart/2005/8/layout/list1"/>
    <dgm:cxn modelId="{292C7112-0B3F-407B-A81A-6D1F15D82917}" type="presParOf" srcId="{9CD2D35A-EB07-4BCD-95E3-DC01F27C20B3}" destId="{A3278152-FEC7-45F5-95C6-24AB2ECDA1ED}" srcOrd="6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9.xml><?xml version="1.0" encoding="utf-8"?>
<dgm:dataModel xmlns:dgm="http://schemas.openxmlformats.org/drawingml/2006/diagram" xmlns:a="http://schemas.openxmlformats.org/drawingml/2006/main">
  <dgm:ptLst>
    <dgm:pt modelId="{2128D13A-3844-4FFA-83EF-0A314B83A143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/>
      <dgm:spPr/>
      <dgm:t>
        <a:bodyPr/>
        <a:lstStyle/>
        <a:p>
          <a:endParaRPr lang="ru-RU"/>
        </a:p>
      </dgm:t>
    </dgm:pt>
    <dgm:pt modelId="{C3AA4E48-6C7F-445C-9884-082E23E290F4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оцінка кон’юнктури і попиту;</a:t>
          </a:r>
          <a:endParaRPr lang="ru-RU" dirty="0">
            <a:solidFill>
              <a:schemeClr val="tx1"/>
            </a:solidFill>
          </a:endParaRPr>
        </a:p>
      </dgm:t>
    </dgm:pt>
    <dgm:pt modelId="{3BE17DA3-3C9F-4C49-8D99-5B9994D0FD0C}" type="parTrans" cxnId="{C222E8FB-6038-4982-BDAD-2D1A7B85F918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FAF581FB-E89C-498C-B037-71B8BF663BF6}" type="sibTrans" cxnId="{C222E8FB-6038-4982-BDAD-2D1A7B85F918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8FB469DB-19DD-4800-8D24-672756F6DA6E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перетворення промислового асортименту в торговельний;</a:t>
          </a:r>
          <a:endParaRPr lang="ru-RU" dirty="0">
            <a:solidFill>
              <a:schemeClr val="tx1"/>
            </a:solidFill>
          </a:endParaRPr>
        </a:p>
      </dgm:t>
    </dgm:pt>
    <dgm:pt modelId="{A041586A-37A7-4FDA-87E3-78290D8BC405}" type="parTrans" cxnId="{422A9DCA-D2B5-417D-9EDF-35F569D4DC4C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3B98E3D1-7DF0-457D-8AB3-185E0241996C}" type="sibTrans" cxnId="{422A9DCA-D2B5-417D-9EDF-35F569D4DC4C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8F6EDDFA-22A2-4557-8E2C-2F0478D3D798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концентрація товарної маси, зберігання товарних запасів, доставка товарів;</a:t>
          </a:r>
          <a:endParaRPr lang="ru-RU" dirty="0">
            <a:solidFill>
              <a:schemeClr val="tx1"/>
            </a:solidFill>
          </a:endParaRPr>
        </a:p>
      </dgm:t>
    </dgm:pt>
    <dgm:pt modelId="{53CFF4B0-EFD6-4AB9-8130-C50AF89223FD}" type="parTrans" cxnId="{6368BA53-1345-45B7-98B8-55E88A81AFF4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F1012A22-FF2D-4429-A2FA-229D7BCE431E}" type="sibTrans" cxnId="{6368BA53-1345-45B7-98B8-55E88A81AFF4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257EC484-0E8B-4E36-8DE0-ABAF81B6FD00}">
      <dgm:prSet/>
      <dgm:spPr/>
      <dgm:t>
        <a:bodyPr/>
        <a:lstStyle/>
        <a:p>
          <a:pPr rtl="0"/>
          <a:r>
            <a:rPr lang="uk-UA" dirty="0" smtClean="0">
              <a:solidFill>
                <a:schemeClr val="tx1"/>
              </a:solidFill>
            </a:rPr>
            <a:t>інформаційне і консалтингове обслуговування.</a:t>
          </a:r>
          <a:endParaRPr lang="ru-RU" dirty="0">
            <a:solidFill>
              <a:schemeClr val="tx1"/>
            </a:solidFill>
          </a:endParaRPr>
        </a:p>
      </dgm:t>
    </dgm:pt>
    <dgm:pt modelId="{7866D6D3-5F9D-4D4D-8509-64371D49F616}" type="parTrans" cxnId="{EB68BFD1-5D94-43FD-A2DF-312774953D9A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B4A9B021-8C5F-4B4E-99A2-2C0E2917FCED}" type="sibTrans" cxnId="{EB68BFD1-5D94-43FD-A2DF-312774953D9A}">
      <dgm:prSet/>
      <dgm:spPr/>
      <dgm:t>
        <a:bodyPr/>
        <a:lstStyle/>
        <a:p>
          <a:endParaRPr lang="ru-RU">
            <a:solidFill>
              <a:schemeClr val="tx1"/>
            </a:solidFill>
          </a:endParaRPr>
        </a:p>
      </dgm:t>
    </dgm:pt>
    <dgm:pt modelId="{32F651FC-B855-4FA5-B44A-2D838BAA3CC3}" type="pres">
      <dgm:prSet presAssocID="{2128D13A-3844-4FFA-83EF-0A314B83A143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96F09B3C-A313-4B3A-BAB7-E4743F30ED0A}" type="pres">
      <dgm:prSet presAssocID="{C3AA4E48-6C7F-445C-9884-082E23E290F4}" presName="parentLin" presStyleCnt="0"/>
      <dgm:spPr/>
    </dgm:pt>
    <dgm:pt modelId="{444E2A0D-CFD7-4F0D-8AAB-AFC6C14AD9B3}" type="pres">
      <dgm:prSet presAssocID="{C3AA4E48-6C7F-445C-9884-082E23E290F4}" presName="parentLeftMargin" presStyleLbl="node1" presStyleIdx="0" presStyleCnt="4"/>
      <dgm:spPr/>
      <dgm:t>
        <a:bodyPr/>
        <a:lstStyle/>
        <a:p>
          <a:endParaRPr lang="ru-RU"/>
        </a:p>
      </dgm:t>
    </dgm:pt>
    <dgm:pt modelId="{2671AAEC-5FDE-4B71-A4D8-448C9E3F15E2}" type="pres">
      <dgm:prSet presAssocID="{C3AA4E48-6C7F-445C-9884-082E23E290F4}" presName="parentText" presStyleLbl="node1" presStyleIdx="0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CA558F-0669-4DA5-A056-FE6AF4A510B6}" type="pres">
      <dgm:prSet presAssocID="{C3AA4E48-6C7F-445C-9884-082E23E290F4}" presName="negativeSpace" presStyleCnt="0"/>
      <dgm:spPr/>
    </dgm:pt>
    <dgm:pt modelId="{D4E7A764-00E0-458F-AA71-626D7C2E6AB6}" type="pres">
      <dgm:prSet presAssocID="{C3AA4E48-6C7F-445C-9884-082E23E290F4}" presName="childText" presStyleLbl="conFgAcc1" presStyleIdx="0" presStyleCnt="4">
        <dgm:presLayoutVars>
          <dgm:bulletEnabled val="1"/>
        </dgm:presLayoutVars>
      </dgm:prSet>
      <dgm:spPr/>
    </dgm:pt>
    <dgm:pt modelId="{C93662BC-6A1A-4D73-B631-67AD89709634}" type="pres">
      <dgm:prSet presAssocID="{FAF581FB-E89C-498C-B037-71B8BF663BF6}" presName="spaceBetweenRectangles" presStyleCnt="0"/>
      <dgm:spPr/>
    </dgm:pt>
    <dgm:pt modelId="{DC6D191B-8CD1-4837-B841-7D34922F6DCF}" type="pres">
      <dgm:prSet presAssocID="{8FB469DB-19DD-4800-8D24-672756F6DA6E}" presName="parentLin" presStyleCnt="0"/>
      <dgm:spPr/>
    </dgm:pt>
    <dgm:pt modelId="{1E1B84FD-FDF0-4BA2-BFD3-F83B08D60F83}" type="pres">
      <dgm:prSet presAssocID="{8FB469DB-19DD-4800-8D24-672756F6DA6E}" presName="parentLeftMargin" presStyleLbl="node1" presStyleIdx="0" presStyleCnt="4"/>
      <dgm:spPr/>
      <dgm:t>
        <a:bodyPr/>
        <a:lstStyle/>
        <a:p>
          <a:endParaRPr lang="ru-RU"/>
        </a:p>
      </dgm:t>
    </dgm:pt>
    <dgm:pt modelId="{B7C400AF-DD70-4BED-9B5A-71ACDEF8EBF0}" type="pres">
      <dgm:prSet presAssocID="{8FB469DB-19DD-4800-8D24-672756F6DA6E}" presName="parentText" presStyleLbl="node1" presStyleIdx="1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22644C5-F79F-4764-ADEB-4CD4C7D57387}" type="pres">
      <dgm:prSet presAssocID="{8FB469DB-19DD-4800-8D24-672756F6DA6E}" presName="negativeSpace" presStyleCnt="0"/>
      <dgm:spPr/>
    </dgm:pt>
    <dgm:pt modelId="{5F1C2443-799B-4B9B-9B20-21E81E7D4D17}" type="pres">
      <dgm:prSet presAssocID="{8FB469DB-19DD-4800-8D24-672756F6DA6E}" presName="childText" presStyleLbl="conFgAcc1" presStyleIdx="1" presStyleCnt="4">
        <dgm:presLayoutVars>
          <dgm:bulletEnabled val="1"/>
        </dgm:presLayoutVars>
      </dgm:prSet>
      <dgm:spPr/>
    </dgm:pt>
    <dgm:pt modelId="{DF587591-D712-4D51-A708-02170082D7DB}" type="pres">
      <dgm:prSet presAssocID="{3B98E3D1-7DF0-457D-8AB3-185E0241996C}" presName="spaceBetweenRectangles" presStyleCnt="0"/>
      <dgm:spPr/>
    </dgm:pt>
    <dgm:pt modelId="{8D43FF14-C6C9-4F6A-BA74-10B305178F56}" type="pres">
      <dgm:prSet presAssocID="{8F6EDDFA-22A2-4557-8E2C-2F0478D3D798}" presName="parentLin" presStyleCnt="0"/>
      <dgm:spPr/>
    </dgm:pt>
    <dgm:pt modelId="{F385CFC6-1E8F-4F2E-9F8F-29B1633AC95A}" type="pres">
      <dgm:prSet presAssocID="{8F6EDDFA-22A2-4557-8E2C-2F0478D3D798}" presName="parentLeftMargin" presStyleLbl="node1" presStyleIdx="1" presStyleCnt="4"/>
      <dgm:spPr/>
      <dgm:t>
        <a:bodyPr/>
        <a:lstStyle/>
        <a:p>
          <a:endParaRPr lang="ru-RU"/>
        </a:p>
      </dgm:t>
    </dgm:pt>
    <dgm:pt modelId="{F5086597-BE11-4439-BA7A-084D52B1BE80}" type="pres">
      <dgm:prSet presAssocID="{8F6EDDFA-22A2-4557-8E2C-2F0478D3D798}" presName="parentText" presStyleLbl="node1" presStyleIdx="2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986BEF1-FABC-4B1B-BC6E-5DE5FFFE73A1}" type="pres">
      <dgm:prSet presAssocID="{8F6EDDFA-22A2-4557-8E2C-2F0478D3D798}" presName="negativeSpace" presStyleCnt="0"/>
      <dgm:spPr/>
    </dgm:pt>
    <dgm:pt modelId="{75267AA7-6B87-48E1-8E5D-DA2258D4A656}" type="pres">
      <dgm:prSet presAssocID="{8F6EDDFA-22A2-4557-8E2C-2F0478D3D798}" presName="childText" presStyleLbl="conFgAcc1" presStyleIdx="2" presStyleCnt="4">
        <dgm:presLayoutVars>
          <dgm:bulletEnabled val="1"/>
        </dgm:presLayoutVars>
      </dgm:prSet>
      <dgm:spPr/>
    </dgm:pt>
    <dgm:pt modelId="{E8422FFC-55D0-4C1D-80CD-9A76CB2EB317}" type="pres">
      <dgm:prSet presAssocID="{F1012A22-FF2D-4429-A2FA-229D7BCE431E}" presName="spaceBetweenRectangles" presStyleCnt="0"/>
      <dgm:spPr/>
    </dgm:pt>
    <dgm:pt modelId="{931A273F-3598-4A9C-934B-D54650920F60}" type="pres">
      <dgm:prSet presAssocID="{257EC484-0E8B-4E36-8DE0-ABAF81B6FD00}" presName="parentLin" presStyleCnt="0"/>
      <dgm:spPr/>
    </dgm:pt>
    <dgm:pt modelId="{A046DFE5-DFE5-432D-9563-40F0A191D30E}" type="pres">
      <dgm:prSet presAssocID="{257EC484-0E8B-4E36-8DE0-ABAF81B6FD00}" presName="parentLeftMargin" presStyleLbl="node1" presStyleIdx="2" presStyleCnt="4"/>
      <dgm:spPr/>
      <dgm:t>
        <a:bodyPr/>
        <a:lstStyle/>
        <a:p>
          <a:endParaRPr lang="ru-RU"/>
        </a:p>
      </dgm:t>
    </dgm:pt>
    <dgm:pt modelId="{E26F35AC-E458-40C1-A921-4A5DA7B61B11}" type="pres">
      <dgm:prSet presAssocID="{257EC484-0E8B-4E36-8DE0-ABAF81B6FD00}" presName="parentText" presStyleLbl="node1" presStyleIdx="3" presStyleCnt="4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5B3CEF6-D7CF-4F00-8A4B-6FABCEA0C3F0}" type="pres">
      <dgm:prSet presAssocID="{257EC484-0E8B-4E36-8DE0-ABAF81B6FD00}" presName="negativeSpace" presStyleCnt="0"/>
      <dgm:spPr/>
    </dgm:pt>
    <dgm:pt modelId="{DF06B23B-2C86-40B2-B494-F8F6E05F24F8}" type="pres">
      <dgm:prSet presAssocID="{257EC484-0E8B-4E36-8DE0-ABAF81B6FD00}" presName="childText" presStyleLbl="conFgAcc1" presStyleIdx="3" presStyleCnt="4">
        <dgm:presLayoutVars>
          <dgm:bulletEnabled val="1"/>
        </dgm:presLayoutVars>
      </dgm:prSet>
      <dgm:spPr/>
    </dgm:pt>
  </dgm:ptLst>
  <dgm:cxnLst>
    <dgm:cxn modelId="{F9ECB504-8256-48FA-9631-B78FD094D68B}" type="presOf" srcId="{257EC484-0E8B-4E36-8DE0-ABAF81B6FD00}" destId="{A046DFE5-DFE5-432D-9563-40F0A191D30E}" srcOrd="0" destOrd="0" presId="urn:microsoft.com/office/officeart/2005/8/layout/list1"/>
    <dgm:cxn modelId="{EB68BFD1-5D94-43FD-A2DF-312774953D9A}" srcId="{2128D13A-3844-4FFA-83EF-0A314B83A143}" destId="{257EC484-0E8B-4E36-8DE0-ABAF81B6FD00}" srcOrd="3" destOrd="0" parTransId="{7866D6D3-5F9D-4D4D-8509-64371D49F616}" sibTransId="{B4A9B021-8C5F-4B4E-99A2-2C0E2917FCED}"/>
    <dgm:cxn modelId="{0AD0E4D7-3C8D-413F-B7D7-3D6711BC7FAC}" type="presOf" srcId="{8FB469DB-19DD-4800-8D24-672756F6DA6E}" destId="{1E1B84FD-FDF0-4BA2-BFD3-F83B08D60F83}" srcOrd="0" destOrd="0" presId="urn:microsoft.com/office/officeart/2005/8/layout/list1"/>
    <dgm:cxn modelId="{9F5411A8-DCAD-40D6-868C-A5775C409F3E}" type="presOf" srcId="{8FB469DB-19DD-4800-8D24-672756F6DA6E}" destId="{B7C400AF-DD70-4BED-9B5A-71ACDEF8EBF0}" srcOrd="1" destOrd="0" presId="urn:microsoft.com/office/officeart/2005/8/layout/list1"/>
    <dgm:cxn modelId="{61570902-40B2-4502-A207-10E0A2D17BCD}" type="presOf" srcId="{2128D13A-3844-4FFA-83EF-0A314B83A143}" destId="{32F651FC-B855-4FA5-B44A-2D838BAA3CC3}" srcOrd="0" destOrd="0" presId="urn:microsoft.com/office/officeart/2005/8/layout/list1"/>
    <dgm:cxn modelId="{C222E8FB-6038-4982-BDAD-2D1A7B85F918}" srcId="{2128D13A-3844-4FFA-83EF-0A314B83A143}" destId="{C3AA4E48-6C7F-445C-9884-082E23E290F4}" srcOrd="0" destOrd="0" parTransId="{3BE17DA3-3C9F-4C49-8D99-5B9994D0FD0C}" sibTransId="{FAF581FB-E89C-498C-B037-71B8BF663BF6}"/>
    <dgm:cxn modelId="{A7F51AD8-E56F-4810-B4FF-919C6AE46D9F}" type="presOf" srcId="{8F6EDDFA-22A2-4557-8E2C-2F0478D3D798}" destId="{F5086597-BE11-4439-BA7A-084D52B1BE80}" srcOrd="1" destOrd="0" presId="urn:microsoft.com/office/officeart/2005/8/layout/list1"/>
    <dgm:cxn modelId="{422A9DCA-D2B5-417D-9EDF-35F569D4DC4C}" srcId="{2128D13A-3844-4FFA-83EF-0A314B83A143}" destId="{8FB469DB-19DD-4800-8D24-672756F6DA6E}" srcOrd="1" destOrd="0" parTransId="{A041586A-37A7-4FDA-87E3-78290D8BC405}" sibTransId="{3B98E3D1-7DF0-457D-8AB3-185E0241996C}"/>
    <dgm:cxn modelId="{6E380F60-34E5-4F64-9188-1304102A2FB9}" type="presOf" srcId="{C3AA4E48-6C7F-445C-9884-082E23E290F4}" destId="{2671AAEC-5FDE-4B71-A4D8-448C9E3F15E2}" srcOrd="1" destOrd="0" presId="urn:microsoft.com/office/officeart/2005/8/layout/list1"/>
    <dgm:cxn modelId="{1ED6A7AA-7D86-44CC-BC04-853B0FEEBFB4}" type="presOf" srcId="{C3AA4E48-6C7F-445C-9884-082E23E290F4}" destId="{444E2A0D-CFD7-4F0D-8AAB-AFC6C14AD9B3}" srcOrd="0" destOrd="0" presId="urn:microsoft.com/office/officeart/2005/8/layout/list1"/>
    <dgm:cxn modelId="{6368BA53-1345-45B7-98B8-55E88A81AFF4}" srcId="{2128D13A-3844-4FFA-83EF-0A314B83A143}" destId="{8F6EDDFA-22A2-4557-8E2C-2F0478D3D798}" srcOrd="2" destOrd="0" parTransId="{53CFF4B0-EFD6-4AB9-8130-C50AF89223FD}" sibTransId="{F1012A22-FF2D-4429-A2FA-229D7BCE431E}"/>
    <dgm:cxn modelId="{791D1CCB-9ADD-46DE-AE3A-C6CAEDD1094D}" type="presOf" srcId="{257EC484-0E8B-4E36-8DE0-ABAF81B6FD00}" destId="{E26F35AC-E458-40C1-A921-4A5DA7B61B11}" srcOrd="1" destOrd="0" presId="urn:microsoft.com/office/officeart/2005/8/layout/list1"/>
    <dgm:cxn modelId="{9941F1EE-CDEF-44FA-BD45-CA3830C26E93}" type="presOf" srcId="{8F6EDDFA-22A2-4557-8E2C-2F0478D3D798}" destId="{F385CFC6-1E8F-4F2E-9F8F-29B1633AC95A}" srcOrd="0" destOrd="0" presId="urn:microsoft.com/office/officeart/2005/8/layout/list1"/>
    <dgm:cxn modelId="{1793AED6-35D8-4FAA-8F9F-E825F667321C}" type="presParOf" srcId="{32F651FC-B855-4FA5-B44A-2D838BAA3CC3}" destId="{96F09B3C-A313-4B3A-BAB7-E4743F30ED0A}" srcOrd="0" destOrd="0" presId="urn:microsoft.com/office/officeart/2005/8/layout/list1"/>
    <dgm:cxn modelId="{6AD844A2-4171-4C04-BFA3-7C609769EA06}" type="presParOf" srcId="{96F09B3C-A313-4B3A-BAB7-E4743F30ED0A}" destId="{444E2A0D-CFD7-4F0D-8AAB-AFC6C14AD9B3}" srcOrd="0" destOrd="0" presId="urn:microsoft.com/office/officeart/2005/8/layout/list1"/>
    <dgm:cxn modelId="{821CD003-357C-4466-903E-D702C13781C0}" type="presParOf" srcId="{96F09B3C-A313-4B3A-BAB7-E4743F30ED0A}" destId="{2671AAEC-5FDE-4B71-A4D8-448C9E3F15E2}" srcOrd="1" destOrd="0" presId="urn:microsoft.com/office/officeart/2005/8/layout/list1"/>
    <dgm:cxn modelId="{5D506210-0B40-4382-9ACD-3A0474316B11}" type="presParOf" srcId="{32F651FC-B855-4FA5-B44A-2D838BAA3CC3}" destId="{D4CA558F-0669-4DA5-A056-FE6AF4A510B6}" srcOrd="1" destOrd="0" presId="urn:microsoft.com/office/officeart/2005/8/layout/list1"/>
    <dgm:cxn modelId="{486B6ECD-BAF4-4C24-89E2-2494D2BBA2B0}" type="presParOf" srcId="{32F651FC-B855-4FA5-B44A-2D838BAA3CC3}" destId="{D4E7A764-00E0-458F-AA71-626D7C2E6AB6}" srcOrd="2" destOrd="0" presId="urn:microsoft.com/office/officeart/2005/8/layout/list1"/>
    <dgm:cxn modelId="{97826621-D508-40A2-85D7-3218931BFDDB}" type="presParOf" srcId="{32F651FC-B855-4FA5-B44A-2D838BAA3CC3}" destId="{C93662BC-6A1A-4D73-B631-67AD89709634}" srcOrd="3" destOrd="0" presId="urn:microsoft.com/office/officeart/2005/8/layout/list1"/>
    <dgm:cxn modelId="{DEA4A2AD-4FE4-4A6E-A40C-AF5EE87242C1}" type="presParOf" srcId="{32F651FC-B855-4FA5-B44A-2D838BAA3CC3}" destId="{DC6D191B-8CD1-4837-B841-7D34922F6DCF}" srcOrd="4" destOrd="0" presId="urn:microsoft.com/office/officeart/2005/8/layout/list1"/>
    <dgm:cxn modelId="{23E4B963-E21B-4231-A4FB-31512537FFD2}" type="presParOf" srcId="{DC6D191B-8CD1-4837-B841-7D34922F6DCF}" destId="{1E1B84FD-FDF0-4BA2-BFD3-F83B08D60F83}" srcOrd="0" destOrd="0" presId="urn:microsoft.com/office/officeart/2005/8/layout/list1"/>
    <dgm:cxn modelId="{C4FE8CB8-0C3A-4474-A491-2D0E2927B5C5}" type="presParOf" srcId="{DC6D191B-8CD1-4837-B841-7D34922F6DCF}" destId="{B7C400AF-DD70-4BED-9B5A-71ACDEF8EBF0}" srcOrd="1" destOrd="0" presId="urn:microsoft.com/office/officeart/2005/8/layout/list1"/>
    <dgm:cxn modelId="{690428D5-E097-47AE-A2D3-8ECB28D00A9F}" type="presParOf" srcId="{32F651FC-B855-4FA5-B44A-2D838BAA3CC3}" destId="{322644C5-F79F-4764-ADEB-4CD4C7D57387}" srcOrd="5" destOrd="0" presId="urn:microsoft.com/office/officeart/2005/8/layout/list1"/>
    <dgm:cxn modelId="{BC53F75D-7631-40E7-88D2-105AF3B1AECF}" type="presParOf" srcId="{32F651FC-B855-4FA5-B44A-2D838BAA3CC3}" destId="{5F1C2443-799B-4B9B-9B20-21E81E7D4D17}" srcOrd="6" destOrd="0" presId="urn:microsoft.com/office/officeart/2005/8/layout/list1"/>
    <dgm:cxn modelId="{6ADA17BB-C018-4DEB-AA7A-035B08C4E205}" type="presParOf" srcId="{32F651FC-B855-4FA5-B44A-2D838BAA3CC3}" destId="{DF587591-D712-4D51-A708-02170082D7DB}" srcOrd="7" destOrd="0" presId="urn:microsoft.com/office/officeart/2005/8/layout/list1"/>
    <dgm:cxn modelId="{19A0A2CC-CA9D-47EE-8105-A869E8640AE4}" type="presParOf" srcId="{32F651FC-B855-4FA5-B44A-2D838BAA3CC3}" destId="{8D43FF14-C6C9-4F6A-BA74-10B305178F56}" srcOrd="8" destOrd="0" presId="urn:microsoft.com/office/officeart/2005/8/layout/list1"/>
    <dgm:cxn modelId="{756244AD-5AEF-4BDF-B41C-F32AE1B27CCC}" type="presParOf" srcId="{8D43FF14-C6C9-4F6A-BA74-10B305178F56}" destId="{F385CFC6-1E8F-4F2E-9F8F-29B1633AC95A}" srcOrd="0" destOrd="0" presId="urn:microsoft.com/office/officeart/2005/8/layout/list1"/>
    <dgm:cxn modelId="{6A3EFAA1-A839-4B31-8C72-A147F2E0BE10}" type="presParOf" srcId="{8D43FF14-C6C9-4F6A-BA74-10B305178F56}" destId="{F5086597-BE11-4439-BA7A-084D52B1BE80}" srcOrd="1" destOrd="0" presId="urn:microsoft.com/office/officeart/2005/8/layout/list1"/>
    <dgm:cxn modelId="{9656D971-7F87-4B1B-90E1-01845D35FC7D}" type="presParOf" srcId="{32F651FC-B855-4FA5-B44A-2D838BAA3CC3}" destId="{D986BEF1-FABC-4B1B-BC6E-5DE5FFFE73A1}" srcOrd="9" destOrd="0" presId="urn:microsoft.com/office/officeart/2005/8/layout/list1"/>
    <dgm:cxn modelId="{34BE6DA1-AA03-4B98-B6DE-673D8D737BDC}" type="presParOf" srcId="{32F651FC-B855-4FA5-B44A-2D838BAA3CC3}" destId="{75267AA7-6B87-48E1-8E5D-DA2258D4A656}" srcOrd="10" destOrd="0" presId="urn:microsoft.com/office/officeart/2005/8/layout/list1"/>
    <dgm:cxn modelId="{145008FC-0D9D-4826-A1AD-D731060A1C64}" type="presParOf" srcId="{32F651FC-B855-4FA5-B44A-2D838BAA3CC3}" destId="{E8422FFC-55D0-4C1D-80CD-9A76CB2EB317}" srcOrd="11" destOrd="0" presId="urn:microsoft.com/office/officeart/2005/8/layout/list1"/>
    <dgm:cxn modelId="{A79C3FDB-9DA4-4F07-B3DA-68096C46C911}" type="presParOf" srcId="{32F651FC-B855-4FA5-B44A-2D838BAA3CC3}" destId="{931A273F-3598-4A9C-934B-D54650920F60}" srcOrd="12" destOrd="0" presId="urn:microsoft.com/office/officeart/2005/8/layout/list1"/>
    <dgm:cxn modelId="{CF973870-39A8-499B-9DDA-1896BE999A10}" type="presParOf" srcId="{931A273F-3598-4A9C-934B-D54650920F60}" destId="{A046DFE5-DFE5-432D-9563-40F0A191D30E}" srcOrd="0" destOrd="0" presId="urn:microsoft.com/office/officeart/2005/8/layout/list1"/>
    <dgm:cxn modelId="{5CF99FEF-670B-4819-A8E1-9D7D0FC502FD}" type="presParOf" srcId="{931A273F-3598-4A9C-934B-D54650920F60}" destId="{E26F35AC-E458-40C1-A921-4A5DA7B61B11}" srcOrd="1" destOrd="0" presId="urn:microsoft.com/office/officeart/2005/8/layout/list1"/>
    <dgm:cxn modelId="{1645A637-319C-4E2C-8DFF-9641450B80B6}" type="presParOf" srcId="{32F651FC-B855-4FA5-B44A-2D838BAA3CC3}" destId="{35B3CEF6-D7CF-4F00-8A4B-6FABCEA0C3F0}" srcOrd="13" destOrd="0" presId="urn:microsoft.com/office/officeart/2005/8/layout/list1"/>
    <dgm:cxn modelId="{AA2B969F-6239-42AA-AD9F-ADCF01BA05E1}" type="presParOf" srcId="{32F651FC-B855-4FA5-B44A-2D838BAA3CC3}" destId="{DF06B23B-2C86-40B2-B494-F8F6E05F24F8}" srcOrd="14" destOrd="0" presId="urn:microsoft.com/office/officeart/2005/8/layout/list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79443C5-86DA-4BCD-9129-94796AAC6910}">
      <dsp:nvSpPr>
        <dsp:cNvPr id="0" name=""/>
        <dsp:cNvSpPr/>
      </dsp:nvSpPr>
      <dsp:spPr>
        <a:xfrm>
          <a:off x="678080" y="0"/>
          <a:ext cx="5592763" cy="5592763"/>
        </a:xfrm>
        <a:prstGeom prst="triangl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C9E3E549-DDF7-4444-87C7-ED13C27955F4}">
      <dsp:nvSpPr>
        <dsp:cNvPr id="0" name=""/>
        <dsp:cNvSpPr/>
      </dsp:nvSpPr>
      <dsp:spPr>
        <a:xfrm>
          <a:off x="3032701" y="559822"/>
          <a:ext cx="4518818" cy="3976104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b="1" i="1" kern="1200" dirty="0" smtClean="0"/>
            <a:t>Торгівля - </a:t>
          </a:r>
          <a:r>
            <a:rPr lang="uk-UA" sz="2400" b="1" kern="1200" dirty="0" smtClean="0"/>
            <a:t>(від лат. </a:t>
          </a:r>
          <a:r>
            <a:rPr lang="en-US" sz="2400" b="1" kern="1200" dirty="0" err="1" smtClean="0"/>
            <a:t>comercium</a:t>
          </a:r>
          <a:r>
            <a:rPr lang="uk-UA" sz="2400" b="1" kern="1200" dirty="0" smtClean="0"/>
            <a:t>) - </a:t>
          </a:r>
          <a:r>
            <a:rPr lang="uk-UA" sz="2400" kern="1200" dirty="0" smtClean="0"/>
            <a:t>це та галузь бізнесової діяльності, за якої дохід і прибуток створюються не в результаті виробничої, а посередницької діяльності, тобто в результаті різниці в цінах: між ціною, яку отримує виробник, та ціною, яку платить споживач.</a:t>
          </a:r>
          <a:endParaRPr lang="ru-RU" sz="2400" kern="1200" dirty="0"/>
        </a:p>
      </dsp:txBody>
      <dsp:txXfrm>
        <a:off x="3032701" y="559822"/>
        <a:ext cx="4518818" cy="3976104"/>
      </dsp:txXfrm>
    </dsp:sp>
  </dsp:spTree>
</dsp:drawing>
</file>

<file path=ppt/diagrams/drawing10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C0808DB4-CAF0-4E1B-AE1D-7F61707F92BC}">
      <dsp:nvSpPr>
        <dsp:cNvPr id="0" name=""/>
        <dsp:cNvSpPr/>
      </dsp:nvSpPr>
      <dsp:spPr>
        <a:xfrm>
          <a:off x="0" y="769259"/>
          <a:ext cx="8686800" cy="8316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29F6F65A-D698-441E-BE73-CE342963E36F}">
      <dsp:nvSpPr>
        <dsp:cNvPr id="0" name=""/>
        <dsp:cNvSpPr/>
      </dsp:nvSpPr>
      <dsp:spPr>
        <a:xfrm>
          <a:off x="434340" y="282179"/>
          <a:ext cx="6080760" cy="97416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9838" tIns="0" rIns="229838" bIns="0" numCol="1" spcCol="1270" anchor="ctr" anchorCtr="0">
          <a:noAutofit/>
        </a:bodyPr>
        <a:lstStyle/>
        <a:p>
          <a:pPr lvl="0" algn="l" defTabSz="14668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300" kern="1200" dirty="0" err="1" smtClean="0">
              <a:solidFill>
                <a:schemeClr val="tx1"/>
              </a:solidFill>
            </a:rPr>
            <a:t>інвестиційне</a:t>
          </a:r>
          <a:r>
            <a:rPr lang="ru-RU" sz="3300" kern="1200" dirty="0" smtClean="0">
              <a:solidFill>
                <a:schemeClr val="tx1"/>
              </a:solidFill>
            </a:rPr>
            <a:t> </a:t>
          </a:r>
          <a:r>
            <a:rPr lang="ru-RU" sz="3300" kern="1200" dirty="0" err="1" smtClean="0">
              <a:solidFill>
                <a:schemeClr val="tx1"/>
              </a:solidFill>
            </a:rPr>
            <a:t>забезпечення</a:t>
          </a:r>
          <a:r>
            <a:rPr lang="ru-RU" sz="3300" kern="1200" dirty="0" smtClean="0">
              <a:solidFill>
                <a:schemeClr val="tx1"/>
              </a:solidFill>
            </a:rPr>
            <a:t> </a:t>
          </a:r>
          <a:r>
            <a:rPr lang="ru-RU" sz="3300" kern="1200" dirty="0" err="1" smtClean="0">
              <a:solidFill>
                <a:schemeClr val="tx1"/>
              </a:solidFill>
            </a:rPr>
            <a:t>процесу</a:t>
          </a:r>
          <a:r>
            <a:rPr lang="ru-RU" sz="3300" kern="1200" dirty="0" smtClean="0">
              <a:solidFill>
                <a:schemeClr val="tx1"/>
              </a:solidFill>
            </a:rPr>
            <a:t> </a:t>
          </a:r>
          <a:r>
            <a:rPr lang="ru-RU" sz="3300" kern="1200" dirty="0" err="1" smtClean="0">
              <a:solidFill>
                <a:schemeClr val="tx1"/>
              </a:solidFill>
            </a:rPr>
            <a:t>переміщення</a:t>
          </a:r>
          <a:r>
            <a:rPr lang="ru-RU" sz="3300" kern="1200" dirty="0" smtClean="0">
              <a:solidFill>
                <a:schemeClr val="tx1"/>
              </a:solidFill>
            </a:rPr>
            <a:t> товарів;</a:t>
          </a:r>
          <a:endParaRPr lang="ru-RU" sz="3300" kern="1200" dirty="0">
            <a:solidFill>
              <a:schemeClr val="tx1"/>
            </a:solidFill>
          </a:endParaRPr>
        </a:p>
      </dsp:txBody>
      <dsp:txXfrm>
        <a:off x="434340" y="282179"/>
        <a:ext cx="6080760" cy="974160"/>
      </dsp:txXfrm>
    </dsp:sp>
    <dsp:sp modelId="{BA1AAC33-4120-494B-939C-CA3AA2F9E91A}">
      <dsp:nvSpPr>
        <dsp:cNvPr id="0" name=""/>
        <dsp:cNvSpPr/>
      </dsp:nvSpPr>
      <dsp:spPr>
        <a:xfrm>
          <a:off x="0" y="2266140"/>
          <a:ext cx="8686800" cy="8316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5CE30C61-F903-4B3E-8388-F9FCD2BA2BEC}">
      <dsp:nvSpPr>
        <dsp:cNvPr id="0" name=""/>
        <dsp:cNvSpPr/>
      </dsp:nvSpPr>
      <dsp:spPr>
        <a:xfrm>
          <a:off x="434340" y="1779060"/>
          <a:ext cx="6080760" cy="97416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9838" tIns="0" rIns="229838" bIns="0" numCol="1" spcCol="1270" anchor="ctr" anchorCtr="0">
          <a:noAutofit/>
        </a:bodyPr>
        <a:lstStyle/>
        <a:p>
          <a:pPr lvl="0" algn="l" defTabSz="14668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300" kern="1200" dirty="0" err="1" smtClean="0">
              <a:solidFill>
                <a:schemeClr val="tx1"/>
              </a:solidFill>
            </a:rPr>
            <a:t>мінімізація</a:t>
          </a:r>
          <a:r>
            <a:rPr lang="ru-RU" sz="3300" kern="1200" dirty="0" smtClean="0">
              <a:solidFill>
                <a:schemeClr val="tx1"/>
              </a:solidFill>
            </a:rPr>
            <a:t> </a:t>
          </a:r>
          <a:r>
            <a:rPr lang="ru-RU" sz="3300" kern="1200" dirty="0" err="1" smtClean="0">
              <a:solidFill>
                <a:schemeClr val="tx1"/>
              </a:solidFill>
            </a:rPr>
            <a:t>комерційного</a:t>
          </a:r>
          <a:r>
            <a:rPr lang="ru-RU" sz="3300" kern="1200" dirty="0" smtClean="0">
              <a:solidFill>
                <a:schemeClr val="tx1"/>
              </a:solidFill>
            </a:rPr>
            <a:t> </a:t>
          </a:r>
          <a:r>
            <a:rPr lang="ru-RU" sz="3300" kern="1200" dirty="0" err="1" smtClean="0">
              <a:solidFill>
                <a:schemeClr val="tx1"/>
              </a:solidFill>
            </a:rPr>
            <a:t>ризику</a:t>
          </a:r>
          <a:r>
            <a:rPr lang="ru-RU" sz="3300" kern="1200" dirty="0" smtClean="0">
              <a:solidFill>
                <a:schemeClr val="tx1"/>
              </a:solidFill>
            </a:rPr>
            <a:t>;</a:t>
          </a:r>
          <a:endParaRPr lang="ru-RU" sz="3300" kern="1200" dirty="0">
            <a:solidFill>
              <a:schemeClr val="tx1"/>
            </a:solidFill>
          </a:endParaRPr>
        </a:p>
      </dsp:txBody>
      <dsp:txXfrm>
        <a:off x="434340" y="1779060"/>
        <a:ext cx="6080760" cy="974160"/>
      </dsp:txXfrm>
    </dsp:sp>
    <dsp:sp modelId="{11220C93-9D9A-4F06-AFF3-C13D33D78CBE}">
      <dsp:nvSpPr>
        <dsp:cNvPr id="0" name=""/>
        <dsp:cNvSpPr/>
      </dsp:nvSpPr>
      <dsp:spPr>
        <a:xfrm>
          <a:off x="0" y="3763020"/>
          <a:ext cx="8686800" cy="8316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D375D9ED-C218-4D21-B7B0-7A84CCEB5475}">
      <dsp:nvSpPr>
        <dsp:cNvPr id="0" name=""/>
        <dsp:cNvSpPr/>
      </dsp:nvSpPr>
      <dsp:spPr>
        <a:xfrm>
          <a:off x="434340" y="3275940"/>
          <a:ext cx="6080760" cy="97416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9838" tIns="0" rIns="229838" bIns="0" numCol="1" spcCol="1270" anchor="ctr" anchorCtr="0">
          <a:noAutofit/>
        </a:bodyPr>
        <a:lstStyle/>
        <a:p>
          <a:pPr lvl="0" algn="l" defTabSz="14668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300" kern="1200" dirty="0" err="1" smtClean="0">
              <a:solidFill>
                <a:schemeClr val="tx1"/>
              </a:solidFill>
            </a:rPr>
            <a:t>маркетингове</a:t>
          </a:r>
          <a:r>
            <a:rPr lang="ru-RU" sz="3300" kern="1200" dirty="0" smtClean="0">
              <a:solidFill>
                <a:schemeClr val="tx1"/>
              </a:solidFill>
            </a:rPr>
            <a:t> </a:t>
          </a:r>
          <a:r>
            <a:rPr lang="ru-RU" sz="3300" kern="1200" dirty="0" err="1" smtClean="0">
              <a:solidFill>
                <a:schemeClr val="tx1"/>
              </a:solidFill>
            </a:rPr>
            <a:t>обслуговування</a:t>
          </a:r>
          <a:r>
            <a:rPr lang="ru-RU" sz="3300" kern="1200" dirty="0" smtClean="0">
              <a:solidFill>
                <a:schemeClr val="tx1"/>
              </a:solidFill>
            </a:rPr>
            <a:t>.</a:t>
          </a:r>
          <a:endParaRPr lang="ru-RU" sz="3300" kern="1200" dirty="0">
            <a:solidFill>
              <a:schemeClr val="tx1"/>
            </a:solidFill>
          </a:endParaRPr>
        </a:p>
      </dsp:txBody>
      <dsp:txXfrm>
        <a:off x="434340" y="3275940"/>
        <a:ext cx="6080760" cy="974160"/>
      </dsp:txXfrm>
    </dsp:sp>
  </dsp:spTree>
</dsp:drawing>
</file>

<file path=ppt/diagrams/drawing1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BD071791-1773-4DF0-A8D8-BA3C0924CCA4}">
      <dsp:nvSpPr>
        <dsp:cNvPr id="0" name=""/>
        <dsp:cNvSpPr/>
      </dsp:nvSpPr>
      <dsp:spPr>
        <a:xfrm>
          <a:off x="0" y="560721"/>
          <a:ext cx="8686800" cy="108108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800" kern="1200" dirty="0" smtClean="0">
              <a:solidFill>
                <a:schemeClr val="tx1"/>
              </a:solidFill>
            </a:rPr>
            <a:t>Нарощування обсягів виробництва вітчизняних виробників, постачання імпортної продукції</a:t>
          </a:r>
          <a:endParaRPr lang="ru-RU" sz="2800" kern="1200" dirty="0">
            <a:solidFill>
              <a:schemeClr val="tx1"/>
            </a:solidFill>
          </a:endParaRPr>
        </a:p>
      </dsp:txBody>
      <dsp:txXfrm>
        <a:off x="0" y="560721"/>
        <a:ext cx="8686800" cy="1081080"/>
      </dsp:txXfrm>
    </dsp:sp>
    <dsp:sp modelId="{66EC0285-5EB0-4DC0-A99C-1923CF6BB98C}">
      <dsp:nvSpPr>
        <dsp:cNvPr id="0" name=""/>
        <dsp:cNvSpPr/>
      </dsp:nvSpPr>
      <dsp:spPr>
        <a:xfrm>
          <a:off x="0" y="1722441"/>
          <a:ext cx="8686800" cy="108108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800" kern="1200" dirty="0" smtClean="0">
              <a:solidFill>
                <a:schemeClr val="tx1"/>
              </a:solidFill>
            </a:rPr>
            <a:t>Збільшення дрібних роздрібних торговців, які потребують регулярного постачання малими партіями</a:t>
          </a:r>
          <a:endParaRPr lang="ru-RU" sz="2800" kern="1200" dirty="0">
            <a:solidFill>
              <a:schemeClr val="tx1"/>
            </a:solidFill>
          </a:endParaRPr>
        </a:p>
      </dsp:txBody>
      <dsp:txXfrm>
        <a:off x="0" y="1722441"/>
        <a:ext cx="8686800" cy="1081080"/>
      </dsp:txXfrm>
    </dsp:sp>
    <dsp:sp modelId="{10D27F98-3B07-41EF-B094-6354C0BD3BAD}">
      <dsp:nvSpPr>
        <dsp:cNvPr id="0" name=""/>
        <dsp:cNvSpPr/>
      </dsp:nvSpPr>
      <dsp:spPr>
        <a:xfrm>
          <a:off x="0" y="2884160"/>
          <a:ext cx="8686800" cy="108108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800" kern="1200" dirty="0" smtClean="0">
              <a:solidFill>
                <a:schemeClr val="tx1"/>
              </a:solidFill>
            </a:rPr>
            <a:t>Розширення асортименту продукції та його оновлення</a:t>
          </a:r>
          <a:endParaRPr lang="ru-RU" sz="2800" kern="1200" dirty="0">
            <a:solidFill>
              <a:schemeClr val="tx1"/>
            </a:solidFill>
          </a:endParaRPr>
        </a:p>
      </dsp:txBody>
      <dsp:txXfrm>
        <a:off x="0" y="2884160"/>
        <a:ext cx="8686800" cy="1081080"/>
      </dsp:txXfrm>
    </dsp:sp>
  </dsp:spTree>
</dsp:drawing>
</file>

<file path=ppt/diagrams/drawing1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55D9FA2C-3A4C-4E91-AF42-4896708175DA}">
      <dsp:nvSpPr>
        <dsp:cNvPr id="0" name=""/>
        <dsp:cNvSpPr/>
      </dsp:nvSpPr>
      <dsp:spPr>
        <a:xfrm>
          <a:off x="0" y="4382"/>
          <a:ext cx="8229600" cy="1895399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l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3600" kern="1200" dirty="0" smtClean="0">
              <a:solidFill>
                <a:schemeClr val="tx1"/>
              </a:solidFill>
            </a:rPr>
            <a:t>Збільшення кількості підприємств, які займаються виробництвом товарів народного споживання</a:t>
          </a:r>
          <a:endParaRPr lang="ru-RU" sz="3600" kern="1200" dirty="0">
            <a:solidFill>
              <a:schemeClr val="tx1"/>
            </a:solidFill>
          </a:endParaRPr>
        </a:p>
      </dsp:txBody>
      <dsp:txXfrm>
        <a:off x="0" y="4382"/>
        <a:ext cx="8229600" cy="1895399"/>
      </dsp:txXfrm>
    </dsp:sp>
    <dsp:sp modelId="{C43D6478-F2A1-4EDC-934C-036789DB55ED}">
      <dsp:nvSpPr>
        <dsp:cNvPr id="0" name=""/>
        <dsp:cNvSpPr/>
      </dsp:nvSpPr>
      <dsp:spPr>
        <a:xfrm>
          <a:off x="0" y="2003462"/>
          <a:ext cx="8229600" cy="1895399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l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3600" kern="1200" dirty="0" smtClean="0">
              <a:solidFill>
                <a:schemeClr val="tx1"/>
              </a:solidFill>
            </a:rPr>
            <a:t>Наявність оптових, дрібнооптових та роздрібних підприємств, віддалених  від місць виробництва</a:t>
          </a:r>
          <a:endParaRPr lang="ru-RU" sz="3600" kern="1200" dirty="0">
            <a:solidFill>
              <a:schemeClr val="tx1"/>
            </a:solidFill>
          </a:endParaRPr>
        </a:p>
      </dsp:txBody>
      <dsp:txXfrm>
        <a:off x="0" y="2003462"/>
        <a:ext cx="8229600" cy="1895399"/>
      </dsp:txXfrm>
    </dsp:sp>
    <dsp:sp modelId="{6EC52D9E-4C59-42A7-A998-84F3173079AC}">
      <dsp:nvSpPr>
        <dsp:cNvPr id="0" name=""/>
        <dsp:cNvSpPr/>
      </dsp:nvSpPr>
      <dsp:spPr>
        <a:xfrm>
          <a:off x="0" y="4002542"/>
          <a:ext cx="8229600" cy="1895399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l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3600" kern="1200" dirty="0" smtClean="0">
              <a:solidFill>
                <a:schemeClr val="tx1"/>
              </a:solidFill>
            </a:rPr>
            <a:t>Розвиток міжнародної торгівлі</a:t>
          </a:r>
          <a:endParaRPr lang="ru-RU" sz="3600" kern="1200" dirty="0">
            <a:solidFill>
              <a:schemeClr val="tx1"/>
            </a:solidFill>
          </a:endParaRPr>
        </a:p>
      </dsp:txBody>
      <dsp:txXfrm>
        <a:off x="0" y="4002542"/>
        <a:ext cx="8229600" cy="1895399"/>
      </dsp:txXfrm>
    </dsp:sp>
  </dsp:spTree>
</dsp:drawing>
</file>

<file path=ppt/diagrams/drawing1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98A41E4C-1C74-42F2-A699-90FA3C46622A}">
      <dsp:nvSpPr>
        <dsp:cNvPr id="0" name=""/>
        <dsp:cNvSpPr/>
      </dsp:nvSpPr>
      <dsp:spPr>
        <a:xfrm>
          <a:off x="0" y="61401"/>
          <a:ext cx="8686800" cy="104247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381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102870" tIns="102870" rIns="102870" bIns="10287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noProof="0" smtClean="0"/>
            <a:t>створення стабільної територіально розгалуженої мережі оптових підприємств;</a:t>
          </a:r>
          <a:endParaRPr lang="uk-UA" sz="2700" kern="1200" noProof="0"/>
        </a:p>
      </dsp:txBody>
      <dsp:txXfrm>
        <a:off x="0" y="61401"/>
        <a:ext cx="8686800" cy="1042470"/>
      </dsp:txXfrm>
    </dsp:sp>
    <dsp:sp modelId="{A492EA14-88D4-4034-8958-84673610EE0D}">
      <dsp:nvSpPr>
        <dsp:cNvPr id="0" name=""/>
        <dsp:cNvSpPr/>
      </dsp:nvSpPr>
      <dsp:spPr>
        <a:xfrm>
          <a:off x="0" y="1181631"/>
          <a:ext cx="8686800" cy="104247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381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102870" tIns="102870" rIns="102870" bIns="10287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noProof="0" smtClean="0"/>
            <a:t>демонополізація каналів переміщення товарів і створення конкурентного середовища в оптовій ланці;</a:t>
          </a:r>
          <a:endParaRPr lang="uk-UA" sz="2700" kern="1200" noProof="0"/>
        </a:p>
      </dsp:txBody>
      <dsp:txXfrm>
        <a:off x="0" y="1181631"/>
        <a:ext cx="8686800" cy="1042470"/>
      </dsp:txXfrm>
    </dsp:sp>
    <dsp:sp modelId="{EEE78A91-ADA4-4657-AA38-3C7CC261ED25}">
      <dsp:nvSpPr>
        <dsp:cNvPr id="0" name=""/>
        <dsp:cNvSpPr/>
      </dsp:nvSpPr>
      <dsp:spPr>
        <a:xfrm>
          <a:off x="0" y="2301861"/>
          <a:ext cx="8686800" cy="104247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381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102870" tIns="102870" rIns="102870" bIns="10287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noProof="0" smtClean="0"/>
            <a:t>інтенсивне формування інфраструктури оптового ринку;</a:t>
          </a:r>
          <a:endParaRPr lang="uk-UA" sz="2700" kern="1200" noProof="0"/>
        </a:p>
      </dsp:txBody>
      <dsp:txXfrm>
        <a:off x="0" y="2301861"/>
        <a:ext cx="8686800" cy="1042470"/>
      </dsp:txXfrm>
    </dsp:sp>
    <dsp:sp modelId="{FCA01C4B-DA11-40F7-9219-C56BF49731CC}">
      <dsp:nvSpPr>
        <dsp:cNvPr id="0" name=""/>
        <dsp:cNvSpPr/>
      </dsp:nvSpPr>
      <dsp:spPr>
        <a:xfrm>
          <a:off x="0" y="3422091"/>
          <a:ext cx="8686800" cy="104247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381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76200" dist="50800" dir="5400000" rotWithShape="0">
            <a:srgbClr val="4E3B30">
              <a:alpha val="60000"/>
            </a:srgb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102870" tIns="102870" rIns="102870" bIns="10287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noProof="0" smtClean="0"/>
            <a:t>впорядкування організації і ведення оптової торговельної діяльності.</a:t>
          </a:r>
          <a:endParaRPr lang="uk-UA" sz="2700" kern="1200" noProof="0"/>
        </a:p>
      </dsp:txBody>
      <dsp:txXfrm>
        <a:off x="0" y="3422091"/>
        <a:ext cx="8686800" cy="1042470"/>
      </dsp:txXfrm>
    </dsp:sp>
  </dsp:spTree>
</dsp:drawing>
</file>

<file path=ppt/diagrams/drawing14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614BCBCF-C07A-43D0-B230-205ACED6D697}">
      <dsp:nvSpPr>
        <dsp:cNvPr id="0" name=""/>
        <dsp:cNvSpPr/>
      </dsp:nvSpPr>
      <dsp:spPr>
        <a:xfrm>
          <a:off x="0" y="2406"/>
          <a:ext cx="9144000" cy="78337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dirty="0" smtClean="0"/>
            <a:t>посередництво в пошуку потрібних товарів, товаровиробників, постачальників, оптових покупців;</a:t>
          </a:r>
          <a:endParaRPr lang="uk-UA" sz="2400" kern="1200" noProof="0" dirty="0"/>
        </a:p>
      </dsp:txBody>
      <dsp:txXfrm>
        <a:off x="0" y="2406"/>
        <a:ext cx="9144000" cy="783374"/>
      </dsp:txXfrm>
    </dsp:sp>
    <dsp:sp modelId="{C0CE292D-FB0D-4556-80C1-8D27AB936CD8}">
      <dsp:nvSpPr>
        <dsp:cNvPr id="0" name=""/>
        <dsp:cNvSpPr/>
      </dsp:nvSpPr>
      <dsp:spPr>
        <a:xfrm>
          <a:off x="0" y="798142"/>
          <a:ext cx="9144000" cy="78337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вивчення й надання інформації стосовно попиту на товари;</a:t>
          </a:r>
          <a:endParaRPr lang="uk-UA" sz="2400" kern="1200" noProof="0"/>
        </a:p>
      </dsp:txBody>
      <dsp:txXfrm>
        <a:off x="0" y="798142"/>
        <a:ext cx="9144000" cy="783374"/>
      </dsp:txXfrm>
    </dsp:sp>
    <dsp:sp modelId="{7C751E96-D4E1-47C3-BA61-8E1C033E866B}">
      <dsp:nvSpPr>
        <dsp:cNvPr id="0" name=""/>
        <dsp:cNvSpPr/>
      </dsp:nvSpPr>
      <dsp:spPr>
        <a:xfrm>
          <a:off x="0" y="1593877"/>
          <a:ext cx="9144000" cy="78337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послуги з реклами товарів;</a:t>
          </a:r>
          <a:endParaRPr lang="uk-UA" sz="2400" kern="1200" noProof="0"/>
        </a:p>
      </dsp:txBody>
      <dsp:txXfrm>
        <a:off x="0" y="1593877"/>
        <a:ext cx="9144000" cy="783374"/>
      </dsp:txXfrm>
    </dsp:sp>
    <dsp:sp modelId="{23DDDBC3-3386-45D5-8FD9-41EC262C0963}">
      <dsp:nvSpPr>
        <dsp:cNvPr id="0" name=""/>
        <dsp:cNvSpPr/>
      </dsp:nvSpPr>
      <dsp:spPr>
        <a:xfrm>
          <a:off x="0" y="2389612"/>
          <a:ext cx="9144000" cy="78337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маркетингові дослідження на замовлення клієнтів;</a:t>
          </a:r>
          <a:endParaRPr lang="uk-UA" sz="2400" kern="1200" noProof="0"/>
        </a:p>
      </dsp:txBody>
      <dsp:txXfrm>
        <a:off x="0" y="2389612"/>
        <a:ext cx="9144000" cy="783374"/>
      </dsp:txXfrm>
    </dsp:sp>
    <dsp:sp modelId="{323BDD9B-A8B1-4B20-AD5D-CF850AD53451}">
      <dsp:nvSpPr>
        <dsp:cNvPr id="0" name=""/>
        <dsp:cNvSpPr/>
      </dsp:nvSpPr>
      <dsp:spPr>
        <a:xfrm>
          <a:off x="0" y="3185348"/>
          <a:ext cx="9144000" cy="78337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організацію оптових ярмарок;</a:t>
          </a:r>
          <a:endParaRPr lang="uk-UA" sz="2400" kern="1200" noProof="0"/>
        </a:p>
      </dsp:txBody>
      <dsp:txXfrm>
        <a:off x="0" y="3185348"/>
        <a:ext cx="9144000" cy="783374"/>
      </dsp:txXfrm>
    </dsp:sp>
    <dsp:sp modelId="{9F6E1047-3EE7-4B48-B527-C6D6A7C3B1E9}">
      <dsp:nvSpPr>
        <dsp:cNvPr id="0" name=""/>
        <dsp:cNvSpPr/>
      </dsp:nvSpPr>
      <dsp:spPr>
        <a:xfrm>
          <a:off x="0" y="3981083"/>
          <a:ext cx="9144000" cy="78337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демонстрацію товарів у демонстраційних залах та асортиментних кабінетах;</a:t>
          </a:r>
          <a:endParaRPr lang="uk-UA" sz="2400" kern="1200" noProof="0"/>
        </a:p>
      </dsp:txBody>
      <dsp:txXfrm>
        <a:off x="0" y="3981083"/>
        <a:ext cx="9144000" cy="783374"/>
      </dsp:txXfrm>
    </dsp:sp>
    <dsp:sp modelId="{D5ABDDE5-635F-4775-BB16-E272512EEB27}">
      <dsp:nvSpPr>
        <dsp:cNvPr id="0" name=""/>
        <dsp:cNvSpPr/>
      </dsp:nvSpPr>
      <dsp:spPr>
        <a:xfrm>
          <a:off x="0" y="4776818"/>
          <a:ext cx="9144000" cy="783374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складання й розміщення замовлень покупців на поставку продукції </a:t>
          </a:r>
          <a:endParaRPr lang="uk-UA" sz="2400" kern="1200" noProof="0"/>
        </a:p>
      </dsp:txBody>
      <dsp:txXfrm>
        <a:off x="0" y="4776818"/>
        <a:ext cx="9144000" cy="783374"/>
      </dsp:txXfrm>
    </dsp:sp>
  </dsp:spTree>
</dsp:drawing>
</file>

<file path=ppt/diagrams/drawing15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57EDA072-8967-4777-88F4-BB329CC7BF2B}">
      <dsp:nvSpPr>
        <dsp:cNvPr id="0" name=""/>
        <dsp:cNvSpPr/>
      </dsp:nvSpPr>
      <dsp:spPr>
        <a:xfrm>
          <a:off x="0" y="193543"/>
          <a:ext cx="86868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надання виробникам та покупцям науково-технічної, економічної, правової інформації як стосовно ринку, так і за конкретними групами товарів; </a:t>
          </a:r>
          <a:endParaRPr lang="uk-UA" sz="2400" kern="1200" noProof="0"/>
        </a:p>
      </dsp:txBody>
      <dsp:txXfrm>
        <a:off x="0" y="193543"/>
        <a:ext cx="8686800" cy="1254825"/>
      </dsp:txXfrm>
    </dsp:sp>
    <dsp:sp modelId="{B9D41303-9C97-4363-8B61-1D6C3FF9F8B3}">
      <dsp:nvSpPr>
        <dsp:cNvPr id="0" name=""/>
        <dsp:cNvSpPr/>
      </dsp:nvSpPr>
      <dsp:spPr>
        <a:xfrm>
          <a:off x="0" y="1635569"/>
          <a:ext cx="86868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участь у </a:t>
          </a:r>
          <a:r>
            <a:rPr lang="ru-RU" sz="2400" kern="1200" dirty="0" err="1" smtClean="0"/>
            <a:t>розробленні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стандартів</a:t>
          </a:r>
          <a:r>
            <a:rPr lang="ru-RU" sz="2400" kern="1200" dirty="0" smtClean="0"/>
            <a:t> та </a:t>
          </a:r>
          <a:r>
            <a:rPr lang="ru-RU" sz="2400" kern="1200" dirty="0" err="1" smtClean="0"/>
            <a:t>іншої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нормативно-технічної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документації</a:t>
          </a:r>
          <a:r>
            <a:rPr lang="ru-RU" sz="2400" kern="1200" dirty="0" smtClean="0"/>
            <a:t>; </a:t>
          </a:r>
          <a:endParaRPr lang="ru-RU" sz="2400" kern="1200" dirty="0"/>
        </a:p>
      </dsp:txBody>
      <dsp:txXfrm>
        <a:off x="0" y="1635569"/>
        <a:ext cx="8686800" cy="1254825"/>
      </dsp:txXfrm>
    </dsp:sp>
    <dsp:sp modelId="{A967026F-204A-40AE-9C1E-50F2ACE54F23}">
      <dsp:nvSpPr>
        <dsp:cNvPr id="0" name=""/>
        <dsp:cNvSpPr/>
      </dsp:nvSpPr>
      <dsp:spPr>
        <a:xfrm>
          <a:off x="0" y="3077594"/>
          <a:ext cx="86868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err="1" smtClean="0"/>
            <a:t>науково-технічне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й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організаційно-правове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консультування</a:t>
          </a:r>
          <a:r>
            <a:rPr lang="ru-RU" sz="2400" kern="1200" dirty="0" smtClean="0"/>
            <a:t>.</a:t>
          </a:r>
          <a:endParaRPr lang="ru-RU" sz="2400" kern="1200" dirty="0"/>
        </a:p>
      </dsp:txBody>
      <dsp:txXfrm>
        <a:off x="0" y="3077594"/>
        <a:ext cx="8686800" cy="1254825"/>
      </dsp:txXfrm>
    </dsp:sp>
  </dsp:spTree>
</dsp:drawing>
</file>

<file path=ppt/diagrams/drawing16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17CFE7C1-C26D-49C7-B0AA-D58BA0FD69FC}">
      <dsp:nvSpPr>
        <dsp:cNvPr id="0" name=""/>
        <dsp:cNvSpPr/>
      </dsp:nvSpPr>
      <dsp:spPr>
        <a:xfrm>
          <a:off x="0" y="250581"/>
          <a:ext cx="8686800" cy="121680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оплату товарів, участь оптових підприємств у розрахунках;</a:t>
          </a:r>
          <a:endParaRPr lang="uk-UA" sz="2400" kern="1200" noProof="0"/>
        </a:p>
      </dsp:txBody>
      <dsp:txXfrm>
        <a:off x="0" y="250581"/>
        <a:ext cx="8686800" cy="1216800"/>
      </dsp:txXfrm>
    </dsp:sp>
    <dsp:sp modelId="{11F8AA01-3874-4C4C-B229-C877C8905F51}">
      <dsp:nvSpPr>
        <dsp:cNvPr id="0" name=""/>
        <dsp:cNvSpPr/>
      </dsp:nvSpPr>
      <dsp:spPr>
        <a:xfrm>
          <a:off x="0" y="1654581"/>
          <a:ext cx="8686800" cy="121680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надання кредитів виробникам і покупцям товарів; </a:t>
          </a:r>
          <a:endParaRPr lang="uk-UA" sz="2400" kern="1200" noProof="0"/>
        </a:p>
      </dsp:txBody>
      <dsp:txXfrm>
        <a:off x="0" y="1654581"/>
        <a:ext cx="8686800" cy="1216800"/>
      </dsp:txXfrm>
    </dsp:sp>
    <dsp:sp modelId="{59993BE6-508D-40B0-88C2-31F9CF66206D}">
      <dsp:nvSpPr>
        <dsp:cNvPr id="0" name=""/>
        <dsp:cNvSpPr/>
      </dsp:nvSpPr>
      <dsp:spPr>
        <a:xfrm>
          <a:off x="0" y="3058581"/>
          <a:ext cx="8686800" cy="121680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інвестування виробництва найдефіцитніших і найперспективніших видів товарної продукції </a:t>
          </a:r>
          <a:endParaRPr lang="uk-UA" sz="2400" kern="1200" noProof="0"/>
        </a:p>
      </dsp:txBody>
      <dsp:txXfrm>
        <a:off x="0" y="3058581"/>
        <a:ext cx="8686800" cy="1216800"/>
      </dsp:txXfrm>
    </dsp:sp>
  </dsp:spTree>
</dsp:drawing>
</file>

<file path=ppt/diagrams/drawing17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9D2ACE0-F022-4DB5-812A-27609D3E2B92}">
      <dsp:nvSpPr>
        <dsp:cNvPr id="0" name=""/>
        <dsp:cNvSpPr/>
      </dsp:nvSpPr>
      <dsp:spPr>
        <a:xfrm>
          <a:off x="0" y="914556"/>
          <a:ext cx="86868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надання в оренду складських, виробничих, службових та інших площ, машин та обладнання;</a:t>
          </a:r>
          <a:endParaRPr lang="uk-UA" sz="2400" kern="1200" noProof="0"/>
        </a:p>
      </dsp:txBody>
      <dsp:txXfrm>
        <a:off x="0" y="914556"/>
        <a:ext cx="8686800" cy="1254825"/>
      </dsp:txXfrm>
    </dsp:sp>
    <dsp:sp modelId="{3AE85C13-C2BF-4AC8-B022-4F61E814A925}">
      <dsp:nvSpPr>
        <dsp:cNvPr id="0" name=""/>
        <dsp:cNvSpPr/>
      </dsp:nvSpPr>
      <dsp:spPr>
        <a:xfrm>
          <a:off x="0" y="2356581"/>
          <a:ext cx="86868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прокат обладнання, приладів інструментів, тари, контейнерів, підйомно-транспортних машин, механізмів, транспортних засобів </a:t>
          </a:r>
          <a:endParaRPr lang="uk-UA" sz="2400" kern="1200" noProof="0"/>
        </a:p>
      </dsp:txBody>
      <dsp:txXfrm>
        <a:off x="0" y="2356581"/>
        <a:ext cx="8686800" cy="1254825"/>
      </dsp:txXfrm>
    </dsp:sp>
  </dsp:spTree>
</dsp:drawing>
</file>

<file path=ppt/diagrams/drawing18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CCAFFD14-5729-4CA5-BF49-50C6999C81CD}">
      <dsp:nvSpPr>
        <dsp:cNvPr id="0" name=""/>
        <dsp:cNvSpPr/>
      </dsp:nvSpPr>
      <dsp:spPr>
        <a:xfrm>
          <a:off x="0" y="2554"/>
          <a:ext cx="8991600" cy="745052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000" kern="1200" noProof="0" dirty="0" smtClean="0"/>
            <a:t>сортування, пакування та перепакування штучних товарів; розфасування сипучих товарів у меншу тару;</a:t>
          </a:r>
          <a:endParaRPr lang="uk-UA" sz="2000" kern="1200" noProof="0" dirty="0"/>
        </a:p>
      </dsp:txBody>
      <dsp:txXfrm>
        <a:off x="0" y="2554"/>
        <a:ext cx="8991600" cy="745052"/>
      </dsp:txXfrm>
    </dsp:sp>
    <dsp:sp modelId="{09F9E960-A26B-4016-9495-EF4DF6DA676A}">
      <dsp:nvSpPr>
        <dsp:cNvPr id="0" name=""/>
        <dsp:cNvSpPr/>
      </dsp:nvSpPr>
      <dsp:spPr>
        <a:xfrm>
          <a:off x="0" y="761500"/>
          <a:ext cx="8991600" cy="745052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000" kern="1200" noProof="0" smtClean="0"/>
            <a:t>розлив у менший посуд рідинних товарів;</a:t>
          </a:r>
          <a:endParaRPr lang="uk-UA" sz="2000" kern="1200" noProof="0"/>
        </a:p>
      </dsp:txBody>
      <dsp:txXfrm>
        <a:off x="0" y="761500"/>
        <a:ext cx="8991600" cy="745052"/>
      </dsp:txXfrm>
    </dsp:sp>
    <dsp:sp modelId="{7BBDED80-0387-48DB-BA56-00667A1DA947}">
      <dsp:nvSpPr>
        <dsp:cNvPr id="0" name=""/>
        <dsp:cNvSpPr/>
      </dsp:nvSpPr>
      <dsp:spPr>
        <a:xfrm>
          <a:off x="0" y="1520446"/>
          <a:ext cx="8991600" cy="745052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000" kern="1200" noProof="0" smtClean="0"/>
            <a:t>розподіл на дрібні партії або на кілька частин матеріалів у рулонах, барабанах, тощо;</a:t>
          </a:r>
          <a:endParaRPr lang="uk-UA" sz="2000" kern="1200" noProof="0"/>
        </a:p>
      </dsp:txBody>
      <dsp:txXfrm>
        <a:off x="0" y="1520446"/>
        <a:ext cx="8991600" cy="745052"/>
      </dsp:txXfrm>
    </dsp:sp>
    <dsp:sp modelId="{CD7F34E3-3951-48E9-97D5-34B2FD2CF01C}">
      <dsp:nvSpPr>
        <dsp:cNvPr id="0" name=""/>
        <dsp:cNvSpPr/>
      </dsp:nvSpPr>
      <dsp:spPr>
        <a:xfrm>
          <a:off x="0" y="2279392"/>
          <a:ext cx="8991600" cy="745052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000" kern="1200" noProof="0" smtClean="0"/>
            <a:t>виготовлення тари, нестандартних виробів;</a:t>
          </a:r>
          <a:endParaRPr lang="uk-UA" sz="2000" kern="1200" noProof="0"/>
        </a:p>
      </dsp:txBody>
      <dsp:txXfrm>
        <a:off x="0" y="2279392"/>
        <a:ext cx="8991600" cy="745052"/>
      </dsp:txXfrm>
    </dsp:sp>
    <dsp:sp modelId="{5B94DEF5-13F0-4CBD-AFB0-7D1C97AB3B60}">
      <dsp:nvSpPr>
        <dsp:cNvPr id="0" name=""/>
        <dsp:cNvSpPr/>
      </dsp:nvSpPr>
      <dsp:spPr>
        <a:xfrm>
          <a:off x="0" y="3038338"/>
          <a:ext cx="8991600" cy="745052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000" kern="1200" noProof="0" smtClean="0"/>
            <a:t>збирання й налагодження складної техніки;</a:t>
          </a:r>
          <a:endParaRPr lang="uk-UA" sz="2000" kern="1200" noProof="0"/>
        </a:p>
      </dsp:txBody>
      <dsp:txXfrm>
        <a:off x="0" y="3038338"/>
        <a:ext cx="8991600" cy="745052"/>
      </dsp:txXfrm>
    </dsp:sp>
    <dsp:sp modelId="{4DEB29DB-ADAE-4799-A78B-0C98C7CA924F}">
      <dsp:nvSpPr>
        <dsp:cNvPr id="0" name=""/>
        <dsp:cNvSpPr/>
      </dsp:nvSpPr>
      <dsp:spPr>
        <a:xfrm>
          <a:off x="0" y="3797285"/>
          <a:ext cx="8991600" cy="745052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000" kern="1200" noProof="0" smtClean="0"/>
            <a:t>установлення, монтування обладнання;</a:t>
          </a:r>
          <a:endParaRPr lang="uk-UA" sz="2000" kern="1200" noProof="0"/>
        </a:p>
      </dsp:txBody>
      <dsp:txXfrm>
        <a:off x="0" y="3797285"/>
        <a:ext cx="8991600" cy="745052"/>
      </dsp:txXfrm>
    </dsp:sp>
    <dsp:sp modelId="{7EC25A60-B746-4607-BF27-C45CA10E4361}">
      <dsp:nvSpPr>
        <dsp:cNvPr id="0" name=""/>
        <dsp:cNvSpPr/>
      </dsp:nvSpPr>
      <dsp:spPr>
        <a:xfrm>
          <a:off x="0" y="4556231"/>
          <a:ext cx="8991600" cy="745052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l" defTabSz="889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000" kern="1200" noProof="0" smtClean="0"/>
            <a:t>налагодження, обкатка, регулювання машин, механізмів, устаткування.</a:t>
          </a:r>
          <a:endParaRPr lang="uk-UA" sz="2000" kern="1200" noProof="0"/>
        </a:p>
      </dsp:txBody>
      <dsp:txXfrm>
        <a:off x="0" y="4556231"/>
        <a:ext cx="8991600" cy="745052"/>
      </dsp:txXfrm>
    </dsp:sp>
  </dsp:spTree>
</dsp:drawing>
</file>

<file path=ppt/diagrams/drawing19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59F2BA4B-7024-465C-9634-0196CCE5736A}">
      <dsp:nvSpPr>
        <dsp:cNvPr id="0" name=""/>
        <dsp:cNvSpPr/>
      </dsp:nvSpPr>
      <dsp:spPr>
        <a:xfrm>
          <a:off x="0" y="28949"/>
          <a:ext cx="91440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доставка товарів клієнтам за узгодженими графіками силами й транспортом оптовика; </a:t>
          </a:r>
          <a:endParaRPr lang="uk-UA" sz="2400" kern="1200" noProof="0"/>
        </a:p>
      </dsp:txBody>
      <dsp:txXfrm>
        <a:off x="0" y="28949"/>
        <a:ext cx="9144000" cy="1254825"/>
      </dsp:txXfrm>
    </dsp:sp>
    <dsp:sp modelId="{880C4109-0B9F-40B5-92D2-5B0D3356AF58}">
      <dsp:nvSpPr>
        <dsp:cNvPr id="0" name=""/>
        <dsp:cNvSpPr/>
      </dsp:nvSpPr>
      <dsp:spPr>
        <a:xfrm>
          <a:off x="0" y="1470974"/>
          <a:ext cx="91440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організація транспортування окремих товарів (токсичних, тих, що швидко псуються, вогненебезпечних тощо) спеціальними транспортними засобами; </a:t>
          </a:r>
          <a:endParaRPr lang="uk-UA" sz="2400" kern="1200" noProof="0"/>
        </a:p>
      </dsp:txBody>
      <dsp:txXfrm>
        <a:off x="0" y="1470974"/>
        <a:ext cx="9144000" cy="1254825"/>
      </dsp:txXfrm>
    </dsp:sp>
    <dsp:sp modelId="{3DE00911-7491-4742-8BA8-BB0CD9BB1448}">
      <dsp:nvSpPr>
        <dsp:cNvPr id="0" name=""/>
        <dsp:cNvSpPr/>
      </dsp:nvSpPr>
      <dsp:spPr>
        <a:xfrm>
          <a:off x="0" y="2912999"/>
          <a:ext cx="91440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отримання вантажів у пунктах відправлення та пунктах призначення за дорученням покупців; </a:t>
          </a:r>
          <a:endParaRPr lang="uk-UA" sz="2400" kern="1200" noProof="0"/>
        </a:p>
      </dsp:txBody>
      <dsp:txXfrm>
        <a:off x="0" y="2912999"/>
        <a:ext cx="9144000" cy="1254825"/>
      </dsp:txXfrm>
    </dsp:sp>
    <dsp:sp modelId="{8025D92A-A905-4283-A2B8-A19957613C7D}">
      <dsp:nvSpPr>
        <dsp:cNvPr id="0" name=""/>
        <dsp:cNvSpPr/>
      </dsp:nvSpPr>
      <dsp:spPr>
        <a:xfrm>
          <a:off x="0" y="4355025"/>
          <a:ext cx="9144000" cy="1254825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посилкове відправлення штучних та дрібних партій товарної продукції.</a:t>
          </a:r>
          <a:endParaRPr lang="uk-UA" sz="2400" kern="1200" noProof="0"/>
        </a:p>
      </dsp:txBody>
      <dsp:txXfrm>
        <a:off x="0" y="4355025"/>
        <a:ext cx="9144000" cy="1254825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55F74BB8-C19F-4513-9123-ACB530545E41}">
      <dsp:nvSpPr>
        <dsp:cNvPr id="0" name=""/>
        <dsp:cNvSpPr/>
      </dsp:nvSpPr>
      <dsp:spPr>
        <a:xfrm>
          <a:off x="0" y="37709"/>
          <a:ext cx="8229600" cy="163215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8110" tIns="118110" rIns="118110" bIns="118110" numCol="1" spcCol="1270" anchor="ctr" anchorCtr="0">
          <a:noAutofit/>
        </a:bodyPr>
        <a:lstStyle/>
        <a:p>
          <a:pPr lvl="0" algn="l" defTabSz="13779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100" kern="1200" dirty="0" err="1" smtClean="0"/>
            <a:t>Торгівля</a:t>
          </a:r>
          <a:r>
            <a:rPr lang="ru-RU" sz="3100" kern="1200" dirty="0" smtClean="0"/>
            <a:t> – форма </a:t>
          </a:r>
          <a:r>
            <a:rPr lang="ru-RU" sz="3100" kern="1200" dirty="0" err="1" smtClean="0"/>
            <a:t>економічного</a:t>
          </a:r>
          <a:r>
            <a:rPr lang="ru-RU" sz="3100" kern="1200" dirty="0" smtClean="0"/>
            <a:t> </a:t>
          </a:r>
          <a:r>
            <a:rPr lang="ru-RU" sz="3100" kern="1200" dirty="0" err="1" smtClean="0"/>
            <a:t>зв’язку</a:t>
          </a:r>
          <a:r>
            <a:rPr lang="ru-RU" sz="3100" kern="1200" dirty="0" smtClean="0"/>
            <a:t> </a:t>
          </a:r>
          <a:r>
            <a:rPr lang="ru-RU" sz="3100" kern="1200" dirty="0" err="1" smtClean="0"/>
            <a:t>між</a:t>
          </a:r>
          <a:r>
            <a:rPr lang="ru-RU" sz="3100" kern="1200" dirty="0" smtClean="0"/>
            <a:t> </a:t>
          </a:r>
          <a:r>
            <a:rPr lang="ru-RU" sz="3100" kern="1200" dirty="0" err="1" smtClean="0"/>
            <a:t>виробництвом</a:t>
          </a:r>
          <a:r>
            <a:rPr lang="ru-RU" sz="3100" kern="1200" dirty="0" smtClean="0"/>
            <a:t> і </a:t>
          </a:r>
          <a:r>
            <a:rPr lang="ru-RU" sz="3100" kern="1200" dirty="0" err="1" smtClean="0"/>
            <a:t>споживанням</a:t>
          </a:r>
          <a:r>
            <a:rPr lang="ru-RU" sz="3100" kern="1200" dirty="0" smtClean="0"/>
            <a:t>, що </a:t>
          </a:r>
          <a:r>
            <a:rPr lang="ru-RU" sz="3100" kern="1200" dirty="0" err="1" smtClean="0"/>
            <a:t>здійснюється</a:t>
          </a:r>
          <a:r>
            <a:rPr lang="ru-RU" sz="3100" kern="1200" dirty="0" smtClean="0"/>
            <a:t> безпосередньо ринком.</a:t>
          </a:r>
          <a:endParaRPr lang="ru-RU" sz="3100" kern="1200" dirty="0"/>
        </a:p>
      </dsp:txBody>
      <dsp:txXfrm>
        <a:off x="0" y="37709"/>
        <a:ext cx="8229600" cy="1632150"/>
      </dsp:txXfrm>
    </dsp:sp>
    <dsp:sp modelId="{207B4E49-D6A4-43FA-9898-E01A02D7CF62}">
      <dsp:nvSpPr>
        <dsp:cNvPr id="0" name=""/>
        <dsp:cNvSpPr/>
      </dsp:nvSpPr>
      <dsp:spPr>
        <a:xfrm>
          <a:off x="0" y="1759140"/>
          <a:ext cx="8229600" cy="163215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8110" tIns="118110" rIns="118110" bIns="118110" numCol="1" spcCol="1270" anchor="ctr" anchorCtr="0">
          <a:noAutofit/>
        </a:bodyPr>
        <a:lstStyle/>
        <a:p>
          <a:pPr lvl="0" algn="l" defTabSz="13779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3100" kern="1200" dirty="0" smtClean="0"/>
            <a:t>Сфера товарного </a:t>
          </a:r>
          <a:r>
            <a:rPr lang="ru-RU" sz="3100" kern="1200" dirty="0" err="1" smtClean="0"/>
            <a:t>виробництва</a:t>
          </a:r>
          <a:r>
            <a:rPr lang="ru-RU" sz="3100" kern="1200" dirty="0" smtClean="0"/>
            <a:t> → Сфера товарного </a:t>
          </a:r>
          <a:r>
            <a:rPr lang="ru-RU" sz="3100" kern="1200" dirty="0" err="1" smtClean="0"/>
            <a:t>обігу</a:t>
          </a:r>
          <a:r>
            <a:rPr lang="ru-RU" sz="3100" kern="1200" dirty="0" smtClean="0"/>
            <a:t> → Сфера </a:t>
          </a:r>
          <a:r>
            <a:rPr lang="ru-RU" sz="3100" kern="1200" dirty="0" err="1" smtClean="0"/>
            <a:t>споживання</a:t>
          </a:r>
          <a:endParaRPr lang="ru-RU" sz="3100" kern="1200" dirty="0"/>
        </a:p>
      </dsp:txBody>
      <dsp:txXfrm>
        <a:off x="0" y="1759140"/>
        <a:ext cx="8229600" cy="1632150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226C6A5E-D76E-4AD6-9EBB-29D89F043D4E}">
      <dsp:nvSpPr>
        <dsp:cNvPr id="0" name=""/>
        <dsp:cNvSpPr/>
      </dsp:nvSpPr>
      <dsp:spPr>
        <a:xfrm>
          <a:off x="0" y="1692"/>
          <a:ext cx="8305800" cy="968077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dirty="0" smtClean="0"/>
            <a:t>1) суттєво розширилися сфери діяльності торгівлі;</a:t>
          </a:r>
          <a:endParaRPr lang="uk-UA" sz="2400" kern="1200" noProof="0" dirty="0"/>
        </a:p>
      </dsp:txBody>
      <dsp:txXfrm>
        <a:off x="0" y="1692"/>
        <a:ext cx="8305800" cy="968077"/>
      </dsp:txXfrm>
    </dsp:sp>
    <dsp:sp modelId="{5383866E-0BC9-4340-852C-C19366852A20}">
      <dsp:nvSpPr>
        <dsp:cNvPr id="0" name=""/>
        <dsp:cNvSpPr/>
      </dsp:nvSpPr>
      <dsp:spPr>
        <a:xfrm>
          <a:off x="0" y="980880"/>
          <a:ext cx="8305800" cy="968077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2) відбувається злиття сфер промислової та торговельної діяльності;</a:t>
          </a:r>
          <a:endParaRPr lang="uk-UA" sz="2400" kern="1200" noProof="0"/>
        </a:p>
      </dsp:txBody>
      <dsp:txXfrm>
        <a:off x="0" y="980880"/>
        <a:ext cx="8305800" cy="968077"/>
      </dsp:txXfrm>
    </dsp:sp>
    <dsp:sp modelId="{27D1D9D4-6513-4E96-88E3-F6441601F7BA}">
      <dsp:nvSpPr>
        <dsp:cNvPr id="0" name=""/>
        <dsp:cNvSpPr/>
      </dsp:nvSpPr>
      <dsp:spPr>
        <a:xfrm>
          <a:off x="0" y="1960067"/>
          <a:ext cx="8305800" cy="968077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3) відбувається розвиток торговельно-сервісних комплексів;</a:t>
          </a:r>
          <a:endParaRPr lang="uk-UA" sz="2400" kern="1200" noProof="0"/>
        </a:p>
      </dsp:txBody>
      <dsp:txXfrm>
        <a:off x="0" y="1960067"/>
        <a:ext cx="8305800" cy="968077"/>
      </dsp:txXfrm>
    </dsp:sp>
    <dsp:sp modelId="{F3EBE54E-48DC-44E0-A83A-7190B6D4C0EC}">
      <dsp:nvSpPr>
        <dsp:cNvPr id="0" name=""/>
        <dsp:cNvSpPr/>
      </dsp:nvSpPr>
      <dsp:spPr>
        <a:xfrm>
          <a:off x="0" y="2939254"/>
          <a:ext cx="8305800" cy="968077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4) розвиток організованих (спеціалізованих) міні-ринків замість стихійних;</a:t>
          </a:r>
          <a:endParaRPr lang="uk-UA" sz="2400" kern="1200" noProof="0"/>
        </a:p>
      </dsp:txBody>
      <dsp:txXfrm>
        <a:off x="0" y="2939254"/>
        <a:ext cx="8305800" cy="968077"/>
      </dsp:txXfrm>
    </dsp:sp>
    <dsp:sp modelId="{3DA5E230-B07A-4161-9E7C-11330D4B3F77}">
      <dsp:nvSpPr>
        <dsp:cNvPr id="0" name=""/>
        <dsp:cNvSpPr/>
      </dsp:nvSpPr>
      <dsp:spPr>
        <a:xfrm>
          <a:off x="0" y="3918441"/>
          <a:ext cx="8305800" cy="968077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5) створення спеціалізованих підприємств, орієнтованих на окремі контингенти споживачів залежно від їх доходів;</a:t>
          </a:r>
          <a:endParaRPr lang="uk-UA" sz="2400" kern="1200" noProof="0"/>
        </a:p>
      </dsp:txBody>
      <dsp:txXfrm>
        <a:off x="0" y="3918441"/>
        <a:ext cx="8305800" cy="968077"/>
      </dsp:txXfrm>
    </dsp:sp>
    <dsp:sp modelId="{FE9068C7-036E-435F-B6AC-A956992A3DE3}">
      <dsp:nvSpPr>
        <dsp:cNvPr id="0" name=""/>
        <dsp:cNvSpPr/>
      </dsp:nvSpPr>
      <dsp:spPr>
        <a:xfrm>
          <a:off x="0" y="4897629"/>
          <a:ext cx="8305800" cy="968077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91440" tIns="91440" rIns="91440" bIns="9144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kern="1200" noProof="0" smtClean="0"/>
            <a:t>6) впровадження новітніх інноваційних, інвестиційних та технологічних підходів у практику роботи оптових підприємств.</a:t>
          </a:r>
          <a:endParaRPr lang="uk-UA" sz="2400" kern="1200" noProof="0"/>
        </a:p>
      </dsp:txBody>
      <dsp:txXfrm>
        <a:off x="0" y="4897629"/>
        <a:ext cx="8305800" cy="968077"/>
      </dsp:txXfrm>
    </dsp:sp>
  </dsp:spTree>
</dsp:drawing>
</file>

<file path=ppt/diagrams/drawing4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D9AAE78F-1A3A-49C2-9023-DDBDF0EAF1A3}">
      <dsp:nvSpPr>
        <dsp:cNvPr id="0" name=""/>
        <dsp:cNvSpPr/>
      </dsp:nvSpPr>
      <dsp:spPr>
        <a:xfrm>
          <a:off x="0" y="472139"/>
          <a:ext cx="8610600" cy="7812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FFA999D-EF30-4456-A9EF-B1C6E4D848CD}">
      <dsp:nvSpPr>
        <dsp:cNvPr id="0" name=""/>
        <dsp:cNvSpPr/>
      </dsp:nvSpPr>
      <dsp:spPr>
        <a:xfrm>
          <a:off x="430530" y="14579"/>
          <a:ext cx="6027420" cy="91512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7822" tIns="0" rIns="227822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1) </a:t>
          </a:r>
          <a:r>
            <a:rPr lang="ru-RU" sz="2400" kern="1200" dirty="0" err="1" smtClean="0"/>
            <a:t>доведення</a:t>
          </a:r>
          <a:r>
            <a:rPr lang="ru-RU" sz="2400" kern="1200" dirty="0" smtClean="0"/>
            <a:t> товарів до споживачів;</a:t>
          </a:r>
          <a:endParaRPr lang="ru-RU" sz="2400" kern="1200" dirty="0"/>
        </a:p>
      </dsp:txBody>
      <dsp:txXfrm>
        <a:off x="430530" y="14579"/>
        <a:ext cx="6027420" cy="915120"/>
      </dsp:txXfrm>
    </dsp:sp>
    <dsp:sp modelId="{C6B839A7-073A-4F24-9F19-2024B2539125}">
      <dsp:nvSpPr>
        <dsp:cNvPr id="0" name=""/>
        <dsp:cNvSpPr/>
      </dsp:nvSpPr>
      <dsp:spPr>
        <a:xfrm>
          <a:off x="0" y="1878299"/>
          <a:ext cx="8610600" cy="7812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6DDCFB12-B6A4-4F9F-8B61-6649DDB88F5C}">
      <dsp:nvSpPr>
        <dsp:cNvPr id="0" name=""/>
        <dsp:cNvSpPr/>
      </dsp:nvSpPr>
      <dsp:spPr>
        <a:xfrm>
          <a:off x="430530" y="1420739"/>
          <a:ext cx="6027420" cy="91512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7822" tIns="0" rIns="227822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2) </a:t>
          </a:r>
          <a:r>
            <a:rPr lang="ru-RU" sz="2400" kern="1200" dirty="0" err="1" smtClean="0"/>
            <a:t>продовження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процесу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виробництва</a:t>
          </a:r>
          <a:r>
            <a:rPr lang="ru-RU" sz="2400" kern="1200" dirty="0" smtClean="0"/>
            <a:t> у </a:t>
          </a:r>
          <a:r>
            <a:rPr lang="ru-RU" sz="2400" kern="1200" dirty="0" err="1" smtClean="0"/>
            <a:t>сфері</a:t>
          </a:r>
          <a:r>
            <a:rPr lang="ru-RU" sz="2400" kern="1200" dirty="0" smtClean="0"/>
            <a:t> товарного </a:t>
          </a:r>
          <a:r>
            <a:rPr lang="ru-RU" sz="2400" kern="1200" dirty="0" err="1" smtClean="0"/>
            <a:t>обігу</a:t>
          </a:r>
          <a:r>
            <a:rPr lang="ru-RU" sz="2400" kern="1200" dirty="0" smtClean="0"/>
            <a:t> (</a:t>
          </a:r>
          <a:r>
            <a:rPr lang="ru-RU" sz="2400" kern="1200" dirty="0" err="1" smtClean="0"/>
            <a:t>сортування</a:t>
          </a:r>
          <a:r>
            <a:rPr lang="ru-RU" sz="2400" kern="1200" dirty="0" smtClean="0"/>
            <a:t>, </a:t>
          </a:r>
          <a:r>
            <a:rPr lang="ru-RU" sz="2400" kern="1200" dirty="0" err="1" smtClean="0"/>
            <a:t>комплектування</a:t>
          </a:r>
          <a:r>
            <a:rPr lang="ru-RU" sz="2400" kern="1200" dirty="0" smtClean="0"/>
            <a:t>, </a:t>
          </a:r>
          <a:r>
            <a:rPr lang="ru-RU" sz="2400" kern="1200" dirty="0" err="1" smtClean="0"/>
            <a:t>пакування</a:t>
          </a:r>
          <a:r>
            <a:rPr lang="ru-RU" sz="2400" kern="1200" dirty="0" smtClean="0"/>
            <a:t>);</a:t>
          </a:r>
          <a:endParaRPr lang="ru-RU" sz="2400" kern="1200" dirty="0"/>
        </a:p>
      </dsp:txBody>
      <dsp:txXfrm>
        <a:off x="430530" y="1420739"/>
        <a:ext cx="6027420" cy="915120"/>
      </dsp:txXfrm>
    </dsp:sp>
    <dsp:sp modelId="{B93F9841-038A-40C4-A924-1383ABCCC6B4}">
      <dsp:nvSpPr>
        <dsp:cNvPr id="0" name=""/>
        <dsp:cNvSpPr/>
      </dsp:nvSpPr>
      <dsp:spPr>
        <a:xfrm>
          <a:off x="0" y="3284459"/>
          <a:ext cx="8610600" cy="7812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CAE1C84C-DCB2-44F1-A88C-BBA4ABC51C3B}">
      <dsp:nvSpPr>
        <dsp:cNvPr id="0" name=""/>
        <dsp:cNvSpPr/>
      </dsp:nvSpPr>
      <dsp:spPr>
        <a:xfrm>
          <a:off x="430530" y="2826899"/>
          <a:ext cx="6027420" cy="91512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7822" tIns="0" rIns="227822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3) </a:t>
          </a:r>
          <a:r>
            <a:rPr lang="ru-RU" sz="2400" kern="1200" dirty="0" err="1" smtClean="0"/>
            <a:t>зміна</a:t>
          </a:r>
          <a:r>
            <a:rPr lang="ru-RU" sz="2400" kern="1200" dirty="0" smtClean="0"/>
            <a:t> форм </a:t>
          </a:r>
          <a:r>
            <a:rPr lang="ru-RU" sz="2400" kern="1200" dirty="0" err="1" smtClean="0"/>
            <a:t>вартості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з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товарної</a:t>
          </a:r>
          <a:r>
            <a:rPr lang="ru-RU" sz="2400" kern="1200" dirty="0" smtClean="0"/>
            <a:t> на </a:t>
          </a:r>
          <a:r>
            <a:rPr lang="ru-RU" sz="2400" kern="1200" dirty="0" err="1" smtClean="0"/>
            <a:t>грошову</a:t>
          </a:r>
          <a:r>
            <a:rPr lang="ru-RU" sz="2400" kern="1200" dirty="0" smtClean="0"/>
            <a:t>;</a:t>
          </a:r>
          <a:endParaRPr lang="ru-RU" sz="2400" kern="1200" dirty="0"/>
        </a:p>
      </dsp:txBody>
      <dsp:txXfrm>
        <a:off x="430530" y="2826899"/>
        <a:ext cx="6027420" cy="915120"/>
      </dsp:txXfrm>
    </dsp:sp>
    <dsp:sp modelId="{DCBC8C02-E06E-4BA9-A0C4-A386EE94B5E7}">
      <dsp:nvSpPr>
        <dsp:cNvPr id="0" name=""/>
        <dsp:cNvSpPr/>
      </dsp:nvSpPr>
      <dsp:spPr>
        <a:xfrm>
          <a:off x="0" y="4690619"/>
          <a:ext cx="8610600" cy="7812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28DC11CB-6ADA-456B-B6FA-547D51A206FE}">
      <dsp:nvSpPr>
        <dsp:cNvPr id="0" name=""/>
        <dsp:cNvSpPr/>
      </dsp:nvSpPr>
      <dsp:spPr>
        <a:xfrm>
          <a:off x="430530" y="4233059"/>
          <a:ext cx="6027420" cy="91512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7822" tIns="0" rIns="227822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/>
            <a:t>4) </a:t>
          </a:r>
          <a:r>
            <a:rPr lang="ru-RU" sz="2400" kern="1200" dirty="0" err="1" smtClean="0"/>
            <a:t>надання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торгових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послуг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населенню</a:t>
          </a:r>
          <a:r>
            <a:rPr lang="ru-RU" sz="2400" kern="1200" dirty="0" smtClean="0"/>
            <a:t> в </a:t>
          </a:r>
          <a:r>
            <a:rPr lang="ru-RU" sz="2400" kern="1200" dirty="0" err="1" smtClean="0"/>
            <a:t>процесі</a:t>
          </a:r>
          <a:r>
            <a:rPr lang="ru-RU" sz="2400" kern="1200" dirty="0" smtClean="0"/>
            <a:t> </a:t>
          </a:r>
          <a:r>
            <a:rPr lang="ru-RU" sz="2400" kern="1200" dirty="0" err="1" smtClean="0"/>
            <a:t>реалізації</a:t>
          </a:r>
          <a:r>
            <a:rPr lang="ru-RU" sz="2400" kern="1200" dirty="0" smtClean="0"/>
            <a:t> товарів.</a:t>
          </a:r>
          <a:endParaRPr lang="ru-RU" sz="2400" kern="1200" dirty="0"/>
        </a:p>
      </dsp:txBody>
      <dsp:txXfrm>
        <a:off x="430530" y="4233059"/>
        <a:ext cx="6027420" cy="915120"/>
      </dsp:txXfrm>
    </dsp:sp>
  </dsp:spTree>
</dsp:drawing>
</file>

<file path=ppt/diagrams/drawing5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BD28E17C-0ED3-491B-BA14-FF6BD5B1964D}">
      <dsp:nvSpPr>
        <dsp:cNvPr id="0" name=""/>
        <dsp:cNvSpPr/>
      </dsp:nvSpPr>
      <dsp:spPr>
        <a:xfrm>
          <a:off x="0" y="69720"/>
          <a:ext cx="8534400" cy="10810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/>
            <a:t>1) </a:t>
          </a:r>
          <a:r>
            <a:rPr lang="ru-RU" sz="2800" kern="1200" dirty="0" err="1" smtClean="0"/>
            <a:t>торгівля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забезпечує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задоволення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попиту</a:t>
          </a:r>
          <a:r>
            <a:rPr lang="ru-RU" sz="2800" kern="1200" dirty="0" smtClean="0"/>
            <a:t> споживачів в </a:t>
          </a:r>
          <a:r>
            <a:rPr lang="ru-RU" sz="2800" kern="1200" dirty="0" err="1" smtClean="0"/>
            <a:t>різноманітних</a:t>
          </a:r>
          <a:r>
            <a:rPr lang="ru-RU" sz="2800" kern="1200" dirty="0" smtClean="0"/>
            <a:t> товарах;</a:t>
          </a:r>
          <a:endParaRPr lang="ru-RU" sz="2800" kern="1200" dirty="0"/>
        </a:p>
      </dsp:txBody>
      <dsp:txXfrm>
        <a:off x="0" y="69720"/>
        <a:ext cx="8534400" cy="1081080"/>
      </dsp:txXfrm>
    </dsp:sp>
    <dsp:sp modelId="{873778C8-7D6A-4DDD-8C5C-A40CFF085993}">
      <dsp:nvSpPr>
        <dsp:cNvPr id="0" name=""/>
        <dsp:cNvSpPr/>
      </dsp:nvSpPr>
      <dsp:spPr>
        <a:xfrm>
          <a:off x="0" y="1231439"/>
          <a:ext cx="8534400" cy="10810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/>
            <a:t>2) </a:t>
          </a:r>
          <a:r>
            <a:rPr lang="ru-RU" sz="2800" kern="1200" dirty="0" err="1" smtClean="0"/>
            <a:t>забезпечує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найбільш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ефективний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зв’язок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між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виробництвом</a:t>
          </a:r>
          <a:r>
            <a:rPr lang="ru-RU" sz="2800" kern="1200" dirty="0" smtClean="0"/>
            <a:t> і </a:t>
          </a:r>
          <a:r>
            <a:rPr lang="ru-RU" sz="2800" kern="1200" dirty="0" err="1" smtClean="0"/>
            <a:t>споживанням</a:t>
          </a:r>
          <a:r>
            <a:rPr lang="ru-RU" sz="2800" kern="1200" dirty="0" smtClean="0"/>
            <a:t>;</a:t>
          </a:r>
          <a:endParaRPr lang="ru-RU" sz="2800" kern="1200" dirty="0"/>
        </a:p>
      </dsp:txBody>
      <dsp:txXfrm>
        <a:off x="0" y="1231439"/>
        <a:ext cx="8534400" cy="1081080"/>
      </dsp:txXfrm>
    </dsp:sp>
    <dsp:sp modelId="{83F8CAF4-A641-486B-BF28-0B76FA569F63}">
      <dsp:nvSpPr>
        <dsp:cNvPr id="0" name=""/>
        <dsp:cNvSpPr/>
      </dsp:nvSpPr>
      <dsp:spPr>
        <a:xfrm>
          <a:off x="0" y="2393159"/>
          <a:ext cx="8534400" cy="10810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/>
            <a:t>3) </a:t>
          </a:r>
          <a:r>
            <a:rPr lang="ru-RU" sz="2800" kern="1200" dirty="0" err="1" smtClean="0"/>
            <a:t>сприяє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підвищенню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ефективності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економічних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зв’язків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між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галузями</a:t>
          </a:r>
          <a:r>
            <a:rPr lang="ru-RU" sz="2800" kern="1200" dirty="0" smtClean="0"/>
            <a:t> народного </a:t>
          </a:r>
          <a:r>
            <a:rPr lang="ru-RU" sz="2800" kern="1200" dirty="0" err="1" smtClean="0"/>
            <a:t>господарства</a:t>
          </a:r>
          <a:r>
            <a:rPr lang="ru-RU" sz="2800" kern="1200" dirty="0" smtClean="0"/>
            <a:t>;</a:t>
          </a:r>
          <a:endParaRPr lang="ru-RU" sz="2800" kern="1200" dirty="0"/>
        </a:p>
      </dsp:txBody>
      <dsp:txXfrm>
        <a:off x="0" y="2393159"/>
        <a:ext cx="8534400" cy="1081080"/>
      </dsp:txXfrm>
    </dsp:sp>
    <dsp:sp modelId="{49469272-3583-440B-9B48-64A55048EA06}">
      <dsp:nvSpPr>
        <dsp:cNvPr id="0" name=""/>
        <dsp:cNvSpPr/>
      </dsp:nvSpPr>
      <dsp:spPr>
        <a:xfrm>
          <a:off x="0" y="3554879"/>
          <a:ext cx="8534400" cy="10810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/>
            <a:t>4) </a:t>
          </a:r>
          <a:r>
            <a:rPr lang="ru-RU" sz="2800" kern="1200" dirty="0" err="1" smtClean="0"/>
            <a:t>забезпечує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зайнятість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населення</a:t>
          </a:r>
          <a:r>
            <a:rPr lang="ru-RU" sz="2800" kern="1200" dirty="0" smtClean="0"/>
            <a:t>, </a:t>
          </a:r>
          <a:r>
            <a:rPr lang="ru-RU" sz="2800" kern="1200" dirty="0" err="1" smtClean="0"/>
            <a:t>створення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робочих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місць</a:t>
          </a:r>
          <a:r>
            <a:rPr lang="ru-RU" sz="2800" kern="1200" dirty="0" smtClean="0"/>
            <a:t>;</a:t>
          </a:r>
          <a:endParaRPr lang="ru-RU" sz="2800" kern="1200" dirty="0"/>
        </a:p>
      </dsp:txBody>
      <dsp:txXfrm>
        <a:off x="0" y="3554879"/>
        <a:ext cx="8534400" cy="1081080"/>
      </dsp:txXfrm>
    </dsp:sp>
    <dsp:sp modelId="{ADD0E80D-3EE8-44AA-98CC-AF50A0009AEE}">
      <dsp:nvSpPr>
        <dsp:cNvPr id="0" name=""/>
        <dsp:cNvSpPr/>
      </dsp:nvSpPr>
      <dsp:spPr>
        <a:xfrm>
          <a:off x="0" y="4716599"/>
          <a:ext cx="8534400" cy="10810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l" defTabSz="12446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/>
            <a:t>5) </a:t>
          </a:r>
          <a:r>
            <a:rPr lang="ru-RU" sz="2800" kern="1200" dirty="0" err="1" smtClean="0"/>
            <a:t>забезпечує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стійкість</a:t>
          </a:r>
          <a:r>
            <a:rPr lang="ru-RU" sz="2800" kern="1200" dirty="0" smtClean="0"/>
            <a:t> грошового </a:t>
          </a:r>
          <a:r>
            <a:rPr lang="ru-RU" sz="2800" kern="1200" dirty="0" err="1" smtClean="0"/>
            <a:t>обігу</a:t>
          </a:r>
          <a:r>
            <a:rPr lang="ru-RU" sz="2800" kern="1200" dirty="0" smtClean="0"/>
            <a:t>;</a:t>
          </a:r>
          <a:endParaRPr lang="ru-RU" sz="2800" kern="1200" dirty="0"/>
        </a:p>
      </dsp:txBody>
      <dsp:txXfrm>
        <a:off x="0" y="4716599"/>
        <a:ext cx="8534400" cy="1081080"/>
      </dsp:txXfrm>
    </dsp:sp>
  </dsp:spTree>
</dsp:drawing>
</file>

<file path=ppt/diagrams/drawing6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5B2A1035-829D-45BD-87EF-9F36F6DE4B31}">
      <dsp:nvSpPr>
        <dsp:cNvPr id="0" name=""/>
        <dsp:cNvSpPr/>
      </dsp:nvSpPr>
      <dsp:spPr>
        <a:xfrm>
          <a:off x="0" y="16581"/>
          <a:ext cx="8686800" cy="449280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52400" tIns="152400" rIns="152400" bIns="152400" numCol="1" spcCol="1270" anchor="ctr" anchorCtr="0">
          <a:noAutofit/>
        </a:bodyPr>
        <a:lstStyle/>
        <a:p>
          <a:pPr lvl="0" algn="l" defTabSz="1778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000" b="1" kern="1200" dirty="0" err="1" smtClean="0">
              <a:solidFill>
                <a:schemeClr val="accent2">
                  <a:lumMod val="50000"/>
                </a:schemeClr>
              </a:solidFill>
            </a:rPr>
            <a:t>Оптова</a:t>
          </a:r>
          <a:r>
            <a:rPr lang="ru-RU" sz="4000" b="1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b="1" kern="1200" dirty="0" err="1" smtClean="0">
              <a:solidFill>
                <a:schemeClr val="accent2">
                  <a:lumMod val="50000"/>
                </a:schemeClr>
              </a:solidFill>
            </a:rPr>
            <a:t>торгівля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--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це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форма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економічних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зв'язків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між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підприємствами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й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організаціями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,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які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здійснюються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з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метою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доведення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товарів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від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підприємства-виробника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до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роздрібної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торгівлі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або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 </a:t>
          </a:r>
          <a:r>
            <a:rPr lang="ru-RU" sz="4000" kern="1200" dirty="0" err="1" smtClean="0">
              <a:solidFill>
                <a:schemeClr val="accent2">
                  <a:lumMod val="50000"/>
                </a:schemeClr>
              </a:solidFill>
            </a:rPr>
            <a:t>підприємств-споживачів</a:t>
          </a:r>
          <a:r>
            <a:rPr lang="ru-RU" sz="4000" kern="1200" dirty="0" smtClean="0">
              <a:solidFill>
                <a:schemeClr val="accent2">
                  <a:lumMod val="50000"/>
                </a:schemeClr>
              </a:solidFill>
            </a:rPr>
            <a:t>.</a:t>
          </a:r>
          <a:endParaRPr lang="ru-RU" sz="4000" kern="1200" dirty="0">
            <a:solidFill>
              <a:schemeClr val="accent2">
                <a:lumMod val="50000"/>
              </a:schemeClr>
            </a:solidFill>
          </a:endParaRPr>
        </a:p>
      </dsp:txBody>
      <dsp:txXfrm>
        <a:off x="0" y="16581"/>
        <a:ext cx="8686800" cy="4492800"/>
      </dsp:txXfrm>
    </dsp:sp>
  </dsp:spTree>
</dsp:drawing>
</file>

<file path=ppt/diagrams/drawing7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B8E3C312-5BF6-4683-9277-0BE46D459626}">
      <dsp:nvSpPr>
        <dsp:cNvPr id="0" name=""/>
        <dsp:cNvSpPr/>
      </dsp:nvSpPr>
      <dsp:spPr>
        <a:xfrm>
          <a:off x="0" y="1148099"/>
          <a:ext cx="8229600" cy="16128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1CFF0E49-83F8-44F4-86FC-E64D37BCDEBC}">
      <dsp:nvSpPr>
        <dsp:cNvPr id="0" name=""/>
        <dsp:cNvSpPr/>
      </dsp:nvSpPr>
      <dsp:spPr>
        <a:xfrm>
          <a:off x="411480" y="203459"/>
          <a:ext cx="7437147" cy="18892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7742" tIns="0" rIns="217742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b="1" i="1" kern="1200" noProof="0" dirty="0" smtClean="0"/>
            <a:t>соціальні</a:t>
          </a:r>
          <a:r>
            <a:rPr lang="uk-UA" sz="2400" kern="1200" noProof="0" dirty="0" smtClean="0"/>
            <a:t> - насичення внутрішнього споживчого ринку конкурентоспроможними товарами, що задовольняють попит різних верств населення;</a:t>
          </a:r>
          <a:endParaRPr lang="uk-UA" sz="2400" kern="1200" noProof="0" dirty="0"/>
        </a:p>
      </dsp:txBody>
      <dsp:txXfrm>
        <a:off x="411480" y="203459"/>
        <a:ext cx="7437147" cy="1889280"/>
      </dsp:txXfrm>
    </dsp:sp>
    <dsp:sp modelId="{42D323DD-8898-4874-B2C9-752B9C61BC88}">
      <dsp:nvSpPr>
        <dsp:cNvPr id="0" name=""/>
        <dsp:cNvSpPr/>
      </dsp:nvSpPr>
      <dsp:spPr>
        <a:xfrm>
          <a:off x="0" y="4038604"/>
          <a:ext cx="8229600" cy="16128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CBDC5352-A8F9-46C8-BFD5-7972E766EA6A}">
      <dsp:nvSpPr>
        <dsp:cNvPr id="0" name=""/>
        <dsp:cNvSpPr/>
      </dsp:nvSpPr>
      <dsp:spPr>
        <a:xfrm>
          <a:off x="411480" y="3106500"/>
          <a:ext cx="7437089" cy="18892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17742" tIns="0" rIns="217742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b="1" i="1" kern="1200" noProof="0" dirty="0" smtClean="0"/>
            <a:t>економічні</a:t>
          </a:r>
          <a:r>
            <a:rPr lang="uk-UA" sz="2400" kern="1200" noProof="0" dirty="0" smtClean="0"/>
            <a:t> - розвиток оптового товарообороту на внутрішньому та зовнішньому ринках, оптимізація його структури та витрат обігу, стабілізація цін і досягнення їх відповідності стану товарної пропозиції та споживчому попиту;</a:t>
          </a:r>
          <a:endParaRPr lang="uk-UA" sz="2400" kern="1200" noProof="0" dirty="0"/>
        </a:p>
      </dsp:txBody>
      <dsp:txXfrm>
        <a:off x="411480" y="3106500"/>
        <a:ext cx="7437089" cy="1889280"/>
      </dsp:txXfrm>
    </dsp:sp>
  </dsp:spTree>
</dsp:drawing>
</file>

<file path=ppt/diagrams/drawing8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83F8AADE-5BFA-4A51-B98B-FFD147845275}">
      <dsp:nvSpPr>
        <dsp:cNvPr id="0" name=""/>
        <dsp:cNvSpPr/>
      </dsp:nvSpPr>
      <dsp:spPr>
        <a:xfrm>
          <a:off x="0" y="1452899"/>
          <a:ext cx="9144000" cy="16128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9464A58-8217-404B-B318-B8146E3E1CFB}">
      <dsp:nvSpPr>
        <dsp:cNvPr id="0" name=""/>
        <dsp:cNvSpPr/>
      </dsp:nvSpPr>
      <dsp:spPr>
        <a:xfrm>
          <a:off x="162297" y="508259"/>
          <a:ext cx="8981662" cy="18892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41935" tIns="0" rIns="241935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b="1" i="1" kern="1200" noProof="0" dirty="0" smtClean="0"/>
            <a:t>організаційні</a:t>
          </a:r>
          <a:r>
            <a:rPr lang="uk-UA" sz="2400" kern="1200" noProof="0" dirty="0" smtClean="0"/>
            <a:t> - формування оптимальних каналів товароруху, забезпечення стабільних та інтенсивних товаропотоків, інтеграція та координація дій суб'єктів оптового ринку, створення на товарних ринках, відповідних їхнім особливостям, логістичних систем;</a:t>
          </a:r>
          <a:endParaRPr lang="uk-UA" sz="2400" kern="1200" noProof="0" dirty="0"/>
        </a:p>
      </dsp:txBody>
      <dsp:txXfrm>
        <a:off x="162297" y="508259"/>
        <a:ext cx="8981662" cy="1889280"/>
      </dsp:txXfrm>
    </dsp:sp>
    <dsp:sp modelId="{A3278152-FEC7-45F5-95C6-24AB2ECDA1ED}">
      <dsp:nvSpPr>
        <dsp:cNvPr id="0" name=""/>
        <dsp:cNvSpPr/>
      </dsp:nvSpPr>
      <dsp:spPr>
        <a:xfrm>
          <a:off x="0" y="4355939"/>
          <a:ext cx="9144000" cy="1612800"/>
        </a:xfrm>
        <a:prstGeom prst="rect">
          <a:avLst/>
        </a:prstGeom>
        <a:solidFill>
          <a:schemeClr val="accent2">
            <a:alpha val="90000"/>
            <a:tint val="4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453C741A-A933-41E3-B7F2-A8DB04F537CC}">
      <dsp:nvSpPr>
        <dsp:cNvPr id="0" name=""/>
        <dsp:cNvSpPr/>
      </dsp:nvSpPr>
      <dsp:spPr>
        <a:xfrm>
          <a:off x="203150" y="3411300"/>
          <a:ext cx="8940786" cy="1889280"/>
        </a:xfrm>
        <a:prstGeom prst="round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41935" tIns="0" rIns="241935" bIns="0" numCol="1" spcCol="1270" anchor="ctr" anchorCtr="0">
          <a:noAutofit/>
        </a:bodyPr>
        <a:lstStyle/>
        <a:p>
          <a:pPr lvl="0" algn="l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400" b="1" i="1" kern="1200" noProof="0" dirty="0" smtClean="0"/>
            <a:t>технологічні</a:t>
          </a:r>
          <a:r>
            <a:rPr lang="uk-UA" sz="2400" kern="1200" noProof="0" dirty="0" smtClean="0"/>
            <a:t> - перетворення виробничого асортименту в торговий і забезпечення доставки необхідного товару у визначене місце і в обумовлений термін.</a:t>
          </a:r>
          <a:endParaRPr lang="uk-UA" sz="2400" kern="1200" noProof="0" dirty="0"/>
        </a:p>
      </dsp:txBody>
      <dsp:txXfrm>
        <a:off x="203150" y="3411300"/>
        <a:ext cx="8940786" cy="1889280"/>
      </dsp:txXfrm>
    </dsp:sp>
  </dsp:spTree>
</dsp:drawing>
</file>

<file path=ppt/diagrams/drawing9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D4E7A764-00E0-458F-AA71-626D7C2E6AB6}">
      <dsp:nvSpPr>
        <dsp:cNvPr id="0" name=""/>
        <dsp:cNvSpPr/>
      </dsp:nvSpPr>
      <dsp:spPr>
        <a:xfrm>
          <a:off x="0" y="498479"/>
          <a:ext cx="9144000" cy="6804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2671AAEC-5FDE-4B71-A4D8-448C9E3F15E2}">
      <dsp:nvSpPr>
        <dsp:cNvPr id="0" name=""/>
        <dsp:cNvSpPr/>
      </dsp:nvSpPr>
      <dsp:spPr>
        <a:xfrm>
          <a:off x="457200" y="99959"/>
          <a:ext cx="6400800" cy="79704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41935" tIns="0" rIns="241935" bIns="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dirty="0" smtClean="0">
              <a:solidFill>
                <a:schemeClr val="tx1"/>
              </a:solidFill>
            </a:rPr>
            <a:t>оцінка кон’юнктури і попиту;</a:t>
          </a:r>
          <a:endParaRPr lang="ru-RU" sz="2700" kern="1200" dirty="0">
            <a:solidFill>
              <a:schemeClr val="tx1"/>
            </a:solidFill>
          </a:endParaRPr>
        </a:p>
      </dsp:txBody>
      <dsp:txXfrm>
        <a:off x="457200" y="99959"/>
        <a:ext cx="6400800" cy="797040"/>
      </dsp:txXfrm>
    </dsp:sp>
    <dsp:sp modelId="{5F1C2443-799B-4B9B-9B20-21E81E7D4D17}">
      <dsp:nvSpPr>
        <dsp:cNvPr id="0" name=""/>
        <dsp:cNvSpPr/>
      </dsp:nvSpPr>
      <dsp:spPr>
        <a:xfrm>
          <a:off x="0" y="1723199"/>
          <a:ext cx="9144000" cy="6804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B7C400AF-DD70-4BED-9B5A-71ACDEF8EBF0}">
      <dsp:nvSpPr>
        <dsp:cNvPr id="0" name=""/>
        <dsp:cNvSpPr/>
      </dsp:nvSpPr>
      <dsp:spPr>
        <a:xfrm>
          <a:off x="457200" y="1324679"/>
          <a:ext cx="6400800" cy="79704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41935" tIns="0" rIns="241935" bIns="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dirty="0" smtClean="0">
              <a:solidFill>
                <a:schemeClr val="tx1"/>
              </a:solidFill>
            </a:rPr>
            <a:t>перетворення промислового асортименту в торговельний;</a:t>
          </a:r>
          <a:endParaRPr lang="ru-RU" sz="2700" kern="1200" dirty="0">
            <a:solidFill>
              <a:schemeClr val="tx1"/>
            </a:solidFill>
          </a:endParaRPr>
        </a:p>
      </dsp:txBody>
      <dsp:txXfrm>
        <a:off x="457200" y="1324679"/>
        <a:ext cx="6400800" cy="797040"/>
      </dsp:txXfrm>
    </dsp:sp>
    <dsp:sp modelId="{75267AA7-6B87-48E1-8E5D-DA2258D4A656}">
      <dsp:nvSpPr>
        <dsp:cNvPr id="0" name=""/>
        <dsp:cNvSpPr/>
      </dsp:nvSpPr>
      <dsp:spPr>
        <a:xfrm>
          <a:off x="0" y="2947920"/>
          <a:ext cx="9144000" cy="6804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F5086597-BE11-4439-BA7A-084D52B1BE80}">
      <dsp:nvSpPr>
        <dsp:cNvPr id="0" name=""/>
        <dsp:cNvSpPr/>
      </dsp:nvSpPr>
      <dsp:spPr>
        <a:xfrm>
          <a:off x="457200" y="2549400"/>
          <a:ext cx="6400800" cy="79704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41935" tIns="0" rIns="241935" bIns="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dirty="0" smtClean="0">
              <a:solidFill>
                <a:schemeClr val="tx1"/>
              </a:solidFill>
            </a:rPr>
            <a:t>концентрація товарної маси, зберігання товарних запасів, доставка товарів;</a:t>
          </a:r>
          <a:endParaRPr lang="ru-RU" sz="2700" kern="1200" dirty="0">
            <a:solidFill>
              <a:schemeClr val="tx1"/>
            </a:solidFill>
          </a:endParaRPr>
        </a:p>
      </dsp:txBody>
      <dsp:txXfrm>
        <a:off x="457200" y="2549400"/>
        <a:ext cx="6400800" cy="797040"/>
      </dsp:txXfrm>
    </dsp:sp>
    <dsp:sp modelId="{DF06B23B-2C86-40B2-B494-F8F6E05F24F8}">
      <dsp:nvSpPr>
        <dsp:cNvPr id="0" name=""/>
        <dsp:cNvSpPr/>
      </dsp:nvSpPr>
      <dsp:spPr>
        <a:xfrm>
          <a:off x="0" y="4172640"/>
          <a:ext cx="9144000" cy="680400"/>
        </a:xfrm>
        <a:prstGeom prst="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E26F35AC-E458-40C1-A921-4A5DA7B61B11}">
      <dsp:nvSpPr>
        <dsp:cNvPr id="0" name=""/>
        <dsp:cNvSpPr/>
      </dsp:nvSpPr>
      <dsp:spPr>
        <a:xfrm>
          <a:off x="457200" y="3774120"/>
          <a:ext cx="6400800" cy="79704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41935" tIns="0" rIns="241935" bIns="0" numCol="1" spcCol="1270" anchor="ctr" anchorCtr="0">
          <a:noAutofit/>
        </a:bodyPr>
        <a:lstStyle/>
        <a:p>
          <a:pPr lvl="0" algn="l" defTabSz="120015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uk-UA" sz="2700" kern="1200" dirty="0" smtClean="0">
              <a:solidFill>
                <a:schemeClr val="tx1"/>
              </a:solidFill>
            </a:rPr>
            <a:t>інформаційне і консалтингове обслуговування.</a:t>
          </a:r>
          <a:endParaRPr lang="ru-RU" sz="2700" kern="1200" dirty="0">
            <a:solidFill>
              <a:schemeClr val="tx1"/>
            </a:solidFill>
          </a:endParaRPr>
        </a:p>
      </dsp:txBody>
      <dsp:txXfrm>
        <a:off x="457200" y="3774120"/>
        <a:ext cx="6400800" cy="797040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10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11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4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7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8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19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8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9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3.xml><?xml version="1.0" encoding="utf-8"?>
<dgm:styleDef xmlns:dgm="http://schemas.openxmlformats.org/drawingml/2006/diagram" xmlns:a="http://schemas.openxmlformats.org/drawingml/2006/main" uniqueId="urn:microsoft.com/office/officeart/2005/8/quickstyle/simple2">
  <dgm:title val=""/>
  <dgm:desc val=""/>
  <dgm:catLst>
    <dgm:cat type="simple" pri="102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DB20-4470-4BD1-B620-127B8852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19E-B90F-4A43-B08D-715B3B42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BDD-A5D4-4BCD-9038-97BA0636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487E-5DAE-4AF3-A63E-16371F29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C591-A9A5-41C2-A427-A28FF973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730E-2D38-4D81-B0AB-93BC4564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D706-8198-4D3D-9605-7C1A9F16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9C06-60AD-4B2F-8EEC-6DDDF7AA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6E29-D343-49EB-830A-AED9B299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2992-8A46-4399-82A6-94934D58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6EC6-1C64-4C3A-B7F7-8A455A58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468-2EA7-47A9-9BA5-EE21BDE5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C148-B17D-45F9-AFCF-680A9FCB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E329-B4F5-49C3-987E-5F35969A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AAE7-1086-4884-B28F-44AF2FF2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22D4-D68D-478E-94E2-956D9069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5010-FB03-4590-8912-6B1F4509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C8C83-0343-4BC9-8CA6-636B8490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EE473-17BB-4922-BA6C-54E4B34B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DE691-9403-4D50-B8B2-EAF3F40E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7BBF7-8ED1-42A4-9E71-A4705FE3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C49BA-6A15-4B6A-8127-3D43A6C5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020A-897E-4307-BAE2-22174E87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A566B-6134-412B-9235-9DCF4045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F0B0C-8D3D-4023-8CE8-E34CE0D4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494ED-B90C-4709-B67B-456EFE2F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ADB64-9B6E-4759-96DB-271B8241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2752C-AEBF-41B5-8754-EB5807E4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CA382-11F9-4706-BC7C-6A19419D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7240C-08C5-45B6-86F8-F2E1FC9C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4F3-9B77-4135-9E9E-AE4E53BF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47D-C9A7-4496-A1B6-86ECE4B5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D0D-CDBB-4D16-ABDB-3F150A55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832-E73B-4EAF-8F6B-1F2D82C9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4B3-80F3-4E5C-8FCD-C19107E3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456-0B64-4ABF-A261-CDE334BF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ая соединительная линия 3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Arial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D620AE-B6E8-4F3D-A0A0-7331C50FEC1E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Arial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D8B2F0-F1FD-48C3-AA2E-88A91803B65A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840" bIns="-428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0C2DD4-B6F7-40E0-84C6-EDC6A46C7D6C}" type="slidenum">
              <a:rPr b="0" lang="ru-RU" sz="1200" spc="-1" strike="noStrike">
                <a:solidFill>
                  <a:srgbClr val="d38e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microsoft.com/office/2007/relationships/diagramDrawing" Target="../diagrams/drawing5.xml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microsoft.com/office/2007/relationships/diagramDrawing" Target="../diagrams/drawing6.xml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microsoft.com/office/2007/relationships/diagramDrawing" Target="../diagrams/drawing7.xml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diagramData" Target="../diagrams/data8.xml"/><Relationship Id="rId2" Type="http://schemas.openxmlformats.org/officeDocument/2006/relationships/diagramLayout" Target="../diagrams/layout8.xml"/><Relationship Id="rId3" Type="http://schemas.openxmlformats.org/officeDocument/2006/relationships/diagramQuickStyle" Target="../diagrams/quickStyle8.xml"/><Relationship Id="rId4" Type="http://schemas.openxmlformats.org/officeDocument/2006/relationships/diagramColors" Target="../diagrams/colors8.xml"/><Relationship Id="rId5" Type="http://schemas.microsoft.com/office/2007/relationships/diagramDrawing" Target="../diagrams/drawing8.xml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9.xml"/><Relationship Id="rId2" Type="http://schemas.openxmlformats.org/officeDocument/2006/relationships/diagramLayout" Target="../diagrams/layout9.xml"/><Relationship Id="rId3" Type="http://schemas.openxmlformats.org/officeDocument/2006/relationships/diagramQuickStyle" Target="../diagrams/quickStyle9.xml"/><Relationship Id="rId4" Type="http://schemas.openxmlformats.org/officeDocument/2006/relationships/diagramColors" Target="../diagrams/colors9.xml"/><Relationship Id="rId5" Type="http://schemas.microsoft.com/office/2007/relationships/diagramDrawing" Target="../diagrams/drawing9.xml"/><Relationship Id="rId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diagramData" Target="../diagrams/data10.xml"/><Relationship Id="rId2" Type="http://schemas.openxmlformats.org/officeDocument/2006/relationships/diagramLayout" Target="../diagrams/layout10.xml"/><Relationship Id="rId3" Type="http://schemas.openxmlformats.org/officeDocument/2006/relationships/diagramQuickStyle" Target="../diagrams/quickStyle10.xml"/><Relationship Id="rId4" Type="http://schemas.openxmlformats.org/officeDocument/2006/relationships/diagramColors" Target="../diagrams/colors10.xml"/><Relationship Id="rId5" Type="http://schemas.microsoft.com/office/2007/relationships/diagramDrawing" Target="../diagrams/drawing10.xml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diagramData" Target="../diagrams/data11.xml"/><Relationship Id="rId2" Type="http://schemas.openxmlformats.org/officeDocument/2006/relationships/diagramLayout" Target="../diagrams/layout11.xml"/><Relationship Id="rId3" Type="http://schemas.openxmlformats.org/officeDocument/2006/relationships/diagramQuickStyle" Target="../diagrams/quickStyle11.xml"/><Relationship Id="rId4" Type="http://schemas.openxmlformats.org/officeDocument/2006/relationships/diagramColors" Target="../diagrams/colors11.xml"/><Relationship Id="rId5" Type="http://schemas.microsoft.com/office/2007/relationships/diagramDrawing" Target="../diagrams/drawing11.xml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diagramData" Target="../diagrams/data12.xml"/><Relationship Id="rId2" Type="http://schemas.openxmlformats.org/officeDocument/2006/relationships/diagramLayout" Target="../diagrams/layout12.xml"/><Relationship Id="rId3" Type="http://schemas.openxmlformats.org/officeDocument/2006/relationships/diagramQuickStyle" Target="../diagrams/quickStyle12.xml"/><Relationship Id="rId4" Type="http://schemas.openxmlformats.org/officeDocument/2006/relationships/diagramColors" Target="../diagrams/colors12.xml"/><Relationship Id="rId5" Type="http://schemas.microsoft.com/office/2007/relationships/diagramDrawing" Target="../diagrams/drawing12.xm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ext=&#1089;&#1092;&#1077;&#1088;&#1072;%20&#1090;&#1086;&#1088;&#1075;&#1110;&#1074;&#1083;&#1110;&amp;fp=0&amp;img_url=http%3A%2F%2Fwww.gss-alimentaire-et-courant.sitew.com%2Ffs%2FRoot%2F2v8xr-index.jpeg&amp;pos=7&amp;uinfo=ww-1259-wh-805-fw-1034-fh-598-pd-1&amp;rpt=simage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yandex.ua/yandsearch?tld=ua&amp;p=4&amp;text=&#1089;&#1092;&#1077;&#1088;&#1072;%20&#1090;&#1086;&#1088;&#1075;&#1110;&#1074;&#1083;&#1110;&amp;fp=4&amp;img_url=http%3A%2F%2Fwww.minsalud.gov.co%2Fimagenes_gral_comunicaciones%2FFoto_funcionarios.jpg&amp;pos=120&amp;uinfo=ww-1259-wh-805-fw-1034-fh-598-pd-1&amp;rpt=simage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yandex.ua/yandsearch?tld=ua&amp;p=9&amp;text=&#1089;&#1092;&#1077;&#1088;&#1072;%20&#1090;&#1086;&#1088;&#1075;&#1110;&#1074;&#1083;&#1110;&amp;fp=9&amp;img_url=http%3A%2F%2Fwww.business-kuban.ru%2Fi%2Fpic%2Fpotrebitelskiy-rynok.jpg&amp;pos=281&amp;uinfo=ww-1259-wh-805-fw-1034-fh-598-pd-1&amp;rpt=simage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diagramData" Target="../diagrams/data13.xml"/><Relationship Id="rId2" Type="http://schemas.openxmlformats.org/officeDocument/2006/relationships/diagramLayout" Target="../diagrams/layout13.xml"/><Relationship Id="rId3" Type="http://schemas.openxmlformats.org/officeDocument/2006/relationships/diagramQuickStyle" Target="../diagrams/quickStyle13.xml"/><Relationship Id="rId4" Type="http://schemas.openxmlformats.org/officeDocument/2006/relationships/diagramColors" Target="../diagrams/colors13.xml"/><Relationship Id="rId5" Type="http://schemas.microsoft.com/office/2007/relationships/diagramDrawing" Target="../diagrams/drawing13.xml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ext=&#1082;&#1086;&#1085;&#1082;&#1091;&#1088;&#1077;&#1085;&#1090;&#1086;&#1089;&#1087;&#1086;&#1089;&#1086;&#1073;&#1085;&#1086;&#1089;&#1090;&#1100;&amp;img_url=http%3A%2F%2Fuda4a.org.ua%2Fwp-content%2Fuploads%2F2011%2F11%2Fconc-300x225.jpg&amp;pos=20&amp;uinfo=sw-1259-sh-805-fw-0-fh-598-pd-1&amp;rpt=simage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yandex.ua/yandsearch?text=&#1082;&#1086;&#1085;&#1082;&#1091;&#1088;&#1077;&#1085;&#1090;&#1086;&#1089;&#1087;&#1086;&#1089;&#1086;&#1073;&#1085;&#1086;&#1089;&#1090;&#1100;&amp;img_url=http%3A%2F%2Fwww.prostobankir.com.ua%2Fvar%2Fcorporate_site%2Fstorage%2Fimages%2Fmedia%2Fimages%2Fprostobankir%2F1401_1600%2F1404%2F1512439-1-rus-RU%2F1404_publication.jpg&amp;pos=24&amp;uinfo=sw-1259-sh-805-fw-0-fh-598-pd-1&amp;rpt=simage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yandex.ua/yandsearch?tld=ua&amp;p=3&amp;text=&#1088;&#1099;&#1085;&#1086;&#1095;&#1085;&#1072;&#1103;%20&#1082;&#1086;&#1085;&#1082;&#1091;&#1088;&#1077;&#1085;&#1094;&#1080;&#1103;&amp;img_url=http%3A%2F%2Fcs9877.userapi.com%2Fu21190605%2F-6%2Fs_5575c2c5.jpg&amp;pos=104&amp;uinfo=sw-1259-sh-805-fw-1034-fh-598-pd-1&amp;rpt=simage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hyperlink" Target="http://images.yandex.ua/yandsearch?text=&#1090;&#1086;&#1088;&#1075;&#1110;&#1074;&#1083;&#1103;&amp;fp=0&amp;img_url=http%3A%2F%2Fwww.alchemyfinances.com%2Fflag%2Fpic16.jpg&amp;pos=6&amp;uinfo=ww-1259-wh-805-fw-1034-fh-598-pd-1&amp;rpt=simage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yandex.ua/yandsearch?text=&#1090;&#1086;&#1088;&#1075;&#1110;&#1074;&#1083;&#1103;&amp;fp=0&amp;img_url=http%3A%2F%2Fdg55.odnoklassniki.ru%2FgetImage%3FphotoId%3D404011231571%26photoType%3D6&amp;pos=18&amp;uinfo=ww-1259-wh-805-fw-1034-fh-598-pd-1&amp;rpt=simage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diagramData" Target="../diagrams/data14.xml"/><Relationship Id="rId2" Type="http://schemas.openxmlformats.org/officeDocument/2006/relationships/diagramLayout" Target="../diagrams/layout14.xml"/><Relationship Id="rId3" Type="http://schemas.openxmlformats.org/officeDocument/2006/relationships/diagramQuickStyle" Target="../diagrams/quickStyle14.xml"/><Relationship Id="rId4" Type="http://schemas.openxmlformats.org/officeDocument/2006/relationships/diagramColors" Target="../diagrams/colors14.xml"/><Relationship Id="rId5" Type="http://schemas.microsoft.com/office/2007/relationships/diagramDrawing" Target="../diagrams/drawing14.xml"/><Relationship Id="rId6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diagramData" Target="../diagrams/data15.xml"/><Relationship Id="rId2" Type="http://schemas.openxmlformats.org/officeDocument/2006/relationships/diagramLayout" Target="../diagrams/layout15.xml"/><Relationship Id="rId3" Type="http://schemas.openxmlformats.org/officeDocument/2006/relationships/diagramQuickStyle" Target="../diagrams/quickStyle15.xml"/><Relationship Id="rId4" Type="http://schemas.openxmlformats.org/officeDocument/2006/relationships/diagramColors" Target="../diagrams/colors15.xml"/><Relationship Id="rId5" Type="http://schemas.microsoft.com/office/2007/relationships/diagramDrawing" Target="../diagrams/drawing15.xml"/><Relationship Id="rId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diagramData" Target="../diagrams/data16.xml"/><Relationship Id="rId2" Type="http://schemas.openxmlformats.org/officeDocument/2006/relationships/diagramLayout" Target="../diagrams/layout16.xml"/><Relationship Id="rId3" Type="http://schemas.openxmlformats.org/officeDocument/2006/relationships/diagramQuickStyle" Target="../diagrams/quickStyle16.xml"/><Relationship Id="rId4" Type="http://schemas.openxmlformats.org/officeDocument/2006/relationships/diagramColors" Target="../diagrams/colors16.xml"/><Relationship Id="rId5" Type="http://schemas.microsoft.com/office/2007/relationships/diagramDrawing" Target="../diagrams/drawing16.xml"/><Relationship Id="rId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diagramData" Target="../diagrams/data17.xml"/><Relationship Id="rId2" Type="http://schemas.openxmlformats.org/officeDocument/2006/relationships/diagramLayout" Target="../diagrams/layout17.xml"/><Relationship Id="rId3" Type="http://schemas.openxmlformats.org/officeDocument/2006/relationships/diagramQuickStyle" Target="../diagrams/quickStyle17.xml"/><Relationship Id="rId4" Type="http://schemas.openxmlformats.org/officeDocument/2006/relationships/diagramColors" Target="../diagrams/colors17.xml"/><Relationship Id="rId5" Type="http://schemas.microsoft.com/office/2007/relationships/diagramDrawing" Target="../diagrams/drawing17.xml"/><Relationship Id="rId6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diagramData" Target="../diagrams/data18.xml"/><Relationship Id="rId2" Type="http://schemas.openxmlformats.org/officeDocument/2006/relationships/diagramLayout" Target="../diagrams/layout18.xml"/><Relationship Id="rId3" Type="http://schemas.openxmlformats.org/officeDocument/2006/relationships/diagramQuickStyle" Target="../diagrams/quickStyle18.xml"/><Relationship Id="rId4" Type="http://schemas.openxmlformats.org/officeDocument/2006/relationships/diagramColors" Target="../diagrams/colors18.xml"/><Relationship Id="rId5" Type="http://schemas.microsoft.com/office/2007/relationships/diagramDrawing" Target="../diagrams/drawing18.xml"/><Relationship Id="rId6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diagramData" Target="../diagrams/data19.xml"/><Relationship Id="rId2" Type="http://schemas.openxmlformats.org/officeDocument/2006/relationships/diagramLayout" Target="../diagrams/layout19.xml"/><Relationship Id="rId3" Type="http://schemas.openxmlformats.org/officeDocument/2006/relationships/diagramQuickStyle" Target="../diagrams/quickStyle19.xml"/><Relationship Id="rId4" Type="http://schemas.openxmlformats.org/officeDocument/2006/relationships/diagramColors" Target="../diagrams/colors19.xml"/><Relationship Id="rId5" Type="http://schemas.microsoft.com/office/2007/relationships/diagramDrawing" Target="../diagrams/drawing19.xml"/><Relationship Id="rId6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hyperlink" Target="http://images.yandex.ua/yandsearch?text=&#1089;&#1092;&#1077;&#1088;&#1072;%20&#1089;&#1087;&#1086;&#1078;&#1080;&#1074;&#1072;&#1085;&#1085;&#1103;&amp;fp=0&amp;img_url=http%3A%2F%2Frudocs.exdat.com%2Fpars_docs%2Ftw_refs%2F557%2F556961%2F556961_html_47f8d7ee.jpg&amp;pos=28&amp;uinfo=ww-1259-wh-805-fw-1034-fh-598-pd-1&amp;rpt=simage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yandex.ua/yandsearch?tld=ua&amp;p=1&amp;text=&#1089;&#1092;&#1077;&#1088;&#1072;%20&#1090;&#1086;&#1074;&#1072;&#1088;&#1085;&#1086;&#1075;&#1086;%20&#1086;&#1073;&#1110;&#1075;&#1091;&amp;fp=1&amp;img_url=http%3A%2F%2Fwap.mplaza.ru%2Fparser%2Fimages%2Ff71c7f35051f698d28b88e4c248532d7.jpg&amp;pos=49&amp;uinfo=ww-1259-wh-805-fw-1034-fh-598-pd-1&amp;rpt=simage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yandex.ua/yandsearch?tld=ua&amp;p=2&amp;text=&#1089;&#1092;&#1077;&#1088;&#1072;%20&#1090;&#1086;&#1074;&#1072;&#1088;&#1085;&#1086;&#1075;&#1086;%20&#1074;&#1080;&#1088;&#1086;&#1073;&#1085;&#1080;&#1094;&#1090;&#1074;&#1072;&amp;fp=2&amp;img_url=http%3A%2F%2Ftpgassurances.free.fr%2Fj0285360.gif&amp;pos=89&amp;uinfo=ww-1259-wh-805-fw-1034-fh-598-pd-1&amp;rpt=simage" TargetMode="External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ext=&#1080;&#1085;&#1092;&#1086;&#1088;&#1084;&#1072;&#1094;&#1080;&#1103;&amp;img_url=http%3A%2F%2Fimg.megaobzor.com%2Fhardmind%2Fnews%2Fpogovorkigallery2.jpg&amp;pos=0&amp;uinfo=sw-1259-sh-805-fw-1034-fh-598-pd-1&amp;rpt=simage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ua/yandsearch?tld=ua&amp;p=2&amp;text=&#1080;&#1085;&#1092;&#1086;&#1088;&#1084;&#1072;&#1094;&#1080;&#1103;&amp;img_url=http%3A%2F%2Fimg.nr2.ru%2Fpict%2Farts1%2F32%2F17%2F321706.jpeg&amp;pos=87&amp;uinfo=sw-1259-sh-805-fw-1034-fh-598-pd-1&amp;rpt=simage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ua/yandsearch?text=&#1079;&#1086;&#1074;&#1085;&#1110;&#1096;&#1085;&#1103;%20&#1090;&#1086;&#1088;&#1075;&#1110;&#1074;&#1083;&#1103;&amp;fp=0&amp;img_url=http%3A%2F%2Fwww.segodnya.ua%2Fimg%2Farticle%2F3916%2F48_tn.jpg&amp;pos=8&amp;uinfo=ww-1259-wh-805-fw-1034-fh-598-pd-1&amp;rpt=simag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ua/yandsearch?text=&#1079;&#1086;&#1074;&#1085;&#1110;&#1096;&#1085;&#1103;%20&#1090;&#1086;&#1088;&#1075;&#1110;&#1074;&#1083;&#1103;&amp;fp=0&amp;img_url=http%3A%2F%2Fpics.nashgorod.ru%2Fimgfiles%2Fnewnews_imgs%2F2011%2F05%2F20%2Fprev125_30cc49b086ea9bfd82b0b1ca297da07c.jpg&amp;pos=24&amp;uinfo=ww-1259-wh-805-fw-1034-fh-598-pd-1&amp;rpt=simage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3200" spc="-1" strike="noStrike" cap="all">
                <a:solidFill>
                  <a:srgbClr val="4e3b30"/>
                </a:solidFill>
                <a:latin typeface="Times New Roman"/>
              </a:rPr>
              <a:t>Тема лекції 1: </a:t>
            </a:r>
            <a:r>
              <a:rPr b="1" lang="ru-RU" sz="3200" spc="-1" strike="noStrike" cap="all">
                <a:solidFill>
                  <a:srgbClr val="4e3b30"/>
                </a:solidFill>
                <a:latin typeface="Times New Roman"/>
              </a:rPr>
              <a:t>Організаційні основи діяльності підприємств оптової торгівлі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152920" cy="3962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marL="60948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uk-UA" sz="2800" spc="-1" strike="noStrike">
                <a:solidFill>
                  <a:srgbClr val="44342a"/>
                </a:solidFill>
                <a:latin typeface="Times New Roman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uk-UA" sz="2800" spc="-1" strike="noStrike">
                <a:solidFill>
                  <a:srgbClr val="44342a"/>
                </a:solidFill>
                <a:latin typeface="Times New Roman"/>
              </a:rPr>
              <a:t>Об'єктивні основи, характерні особливості, закономірності, тенденції і напрями розвитку оптової торгівл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uk-UA" sz="2800" spc="-1" strike="noStrike">
                <a:solidFill>
                  <a:srgbClr val="44342a"/>
                </a:solidFill>
                <a:latin typeface="Times New Roman"/>
              </a:rPr>
              <a:t>Види оптових підприємств, їх класифікація і роль в процесі товаропросува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uk-UA" sz="2800" spc="-1" strike="noStrike">
                <a:solidFill>
                  <a:srgbClr val="44342a"/>
                </a:solidFill>
                <a:latin typeface="Times New Roman"/>
              </a:rPr>
              <a:t>Послуги, які надають оптові торговельні посередники роздрібним торговцям та іншим партнер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AutoNum type="arabicPeriod"/>
              <a:tabLst>
                <a:tab algn="l" pos="0"/>
              </a:tabLst>
            </a:pPr>
            <a:r>
              <a:rPr b="0" lang="uk-UA" sz="2800" spc="-1" strike="noStrike">
                <a:solidFill>
                  <a:srgbClr val="44342a"/>
                </a:solidFill>
                <a:latin typeface="Times New Roman"/>
              </a:rPr>
              <a:t>Функції оптових підприємств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Arial"/>
              </a:rPr>
              <a:t>Роль торгівлі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271442833"/>
              </p:ext>
            </p:extLst>
          </p:nvPr>
        </p:nvGraphicFramePr>
        <p:xfrm>
          <a:off x="457200" y="762120"/>
          <a:ext cx="8534160" cy="58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28316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uk-UA" sz="2800" spc="-1" strike="noStrike" u="sng" cap="all">
                <a:solidFill>
                  <a:srgbClr val="c00000"/>
                </a:solidFill>
                <a:uFillTx/>
                <a:latin typeface="Times New Roman"/>
              </a:rPr>
              <a:t>Отже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Содержимое 4" descr="presentation.png"/>
          <p:cNvPicPr/>
          <p:nvPr/>
        </p:nvPicPr>
        <p:blipFill>
          <a:blip r:embed="rId1"/>
          <a:stretch/>
        </p:blipFill>
        <p:spPr>
          <a:xfrm>
            <a:off x="0" y="3733920"/>
            <a:ext cx="3897000" cy="2231640"/>
          </a:xfrm>
          <a:prstGeom prst="rect">
            <a:avLst/>
          </a:prstGeom>
          <a:ln w="9525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9010440" cy="1848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uk-UA" sz="2800" spc="-1" strike="noStrike">
                <a:solidFill>
                  <a:srgbClr val="4e3b30"/>
                </a:solidFill>
                <a:latin typeface="Times New Roman"/>
              </a:rPr>
              <a:t>Основне завдання дисципліни "Організація торгівлі" — це формування в майбутніх фахівців системи сучасних знань з організації, а також умінь і навичок, необхідних для професійної діяльності у сфері торгівлі.</a:t>
            </a:r>
            <a:endParaRPr b="0" lang="ru-RU" sz="28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156" name="Picture 2" descr="C:\Users\Dell\Desktop\Happy-face1.png"/>
          <p:cNvPicPr/>
          <p:nvPr/>
        </p:nvPicPr>
        <p:blipFill>
          <a:blip r:embed="rId2"/>
          <a:stretch/>
        </p:blipFill>
        <p:spPr>
          <a:xfrm>
            <a:off x="4427640" y="3716280"/>
            <a:ext cx="4252680" cy="2736360"/>
          </a:xfrm>
          <a:prstGeom prst="rect">
            <a:avLst/>
          </a:prstGeom>
          <a:ln w="9525">
            <a:noFill/>
          </a:ln>
        </p:spPr>
      </p:pic>
    </p:spTree>
  </p:cSld>
  <p:transition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marL="5396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 cap="all">
                <a:solidFill>
                  <a:srgbClr val="4e3b30"/>
                </a:solidFill>
                <a:latin typeface="Arial"/>
              </a:rPr>
              <a:t>1. Об'єктивні основи, характерні особливості, закономірності, тенденції і принцип</a:t>
            </a:r>
            <a:r>
              <a:rPr b="0" lang="uk-UA" sz="2800" spc="-1" strike="noStrike" cap="all">
                <a:solidFill>
                  <a:srgbClr val="4e3b30"/>
                </a:solidFill>
                <a:latin typeface="Arial"/>
              </a:rPr>
              <a:t>и</a:t>
            </a:r>
            <a:r>
              <a:rPr b="0" lang="ru-RU" sz="2800" spc="-1" strike="noStrike" cap="all">
                <a:solidFill>
                  <a:srgbClr val="4e3b30"/>
                </a:solidFill>
                <a:latin typeface="Arial"/>
              </a:rPr>
              <a:t> розвитку оптової торгівлі.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3762012719"/>
              </p:ext>
            </p:extLst>
          </p:nvPr>
        </p:nvGraphicFramePr>
        <p:xfrm>
          <a:off x="304920" y="1554120"/>
          <a:ext cx="86864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6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 cap="all">
                <a:solidFill>
                  <a:srgbClr val="4e3b30"/>
                </a:solidFill>
                <a:latin typeface="Arial"/>
              </a:rPr>
              <a:t>Оптову торгівлю здійснюють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240" cy="5714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914400" y="1066680"/>
            <a:ext cx="6171840" cy="1523520"/>
          </a:xfrm>
          <a:prstGeom prst="foldedCorner">
            <a:avLst>
              <a:gd name="adj" fmla="val 12500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оваровироб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алізують товари різним оптовим покупц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914400" y="2743200"/>
            <a:ext cx="6248160" cy="2209320"/>
          </a:xfrm>
          <a:prstGeom prst="foldedCorner">
            <a:avLst>
              <a:gd name="adj" fmla="val 12500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птові торгові посередни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пують і реалізують товари суб'єкт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подарюванн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що займаються роздрібною торгівле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іншим оптовим посередника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варовиробникам для виробничого спожи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990720" y="5334120"/>
            <a:ext cx="6400440" cy="1523520"/>
          </a:xfrm>
          <a:prstGeom prst="foldedCorner">
            <a:avLst>
              <a:gd name="adj" fmla="val 12500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уб'єкти господарюванн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що займаються роздрібною торгівле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алізують товари дрібнооптовим покупц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uk-UA" sz="3600" spc="-1" strike="noStrike" cap="all">
                <a:solidFill>
                  <a:srgbClr val="4e3b30"/>
                </a:solidFill>
                <a:latin typeface="Arial"/>
              </a:rPr>
              <a:t>Функції оптової торгівлі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2292655208"/>
              </p:ext>
            </p:extLst>
          </p:nvPr>
        </p:nvGraphicFramePr>
        <p:xfrm>
          <a:off x="457200" y="838080"/>
          <a:ext cx="8229240" cy="58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" name="Diagram8"/>
          <p:cNvGraphicFramePr/>
          <p:nvPr>
            <p:extLst>
              <p:ext uri="{D42A27DB-BD31-4B8C-83A1-F6EECF244321}">
                <p14:modId xmlns:p14="http://schemas.microsoft.com/office/powerpoint/2010/main" val="3173760437"/>
              </p:ext>
            </p:extLst>
          </p:nvPr>
        </p:nvGraphicFramePr>
        <p:xfrm>
          <a:off x="0" y="380880"/>
          <a:ext cx="9143640" cy="64767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 cap="all">
                <a:solidFill>
                  <a:srgbClr val="4e3b30"/>
                </a:solidFill>
                <a:latin typeface="Times New Roman"/>
              </a:rPr>
              <a:t>Функції, що виконує оптова торгівля щодо клієнтів-покупців: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" name="Diagram9"/>
          <p:cNvGraphicFramePr/>
          <p:nvPr>
            <p:extLst>
              <p:ext uri="{D42A27DB-BD31-4B8C-83A1-F6EECF244321}">
                <p14:modId xmlns:p14="http://schemas.microsoft.com/office/powerpoint/2010/main" val="2809729040"/>
              </p:ext>
            </p:extLst>
          </p:nvPr>
        </p:nvGraphicFramePr>
        <p:xfrm>
          <a:off x="0" y="1676520"/>
          <a:ext cx="9143640" cy="4952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4e3b30"/>
                </a:solidFill>
                <a:latin typeface="Times New Roman"/>
              </a:rPr>
              <a:t>Функції, що виконує оптова торгівля щодо клієнтів-постачальників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" name="Diagram10"/>
          <p:cNvGraphicFramePr/>
          <p:nvPr>
            <p:extLst>
              <p:ext uri="{D42A27DB-BD31-4B8C-83A1-F6EECF244321}">
                <p14:modId xmlns:p14="http://schemas.microsoft.com/office/powerpoint/2010/main" val="1107149725"/>
              </p:ext>
            </p:extLst>
          </p:nvPr>
        </p:nvGraphicFramePr>
        <p:xfrm>
          <a:off x="228600" y="1981080"/>
          <a:ext cx="8686440" cy="4876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 cap="all">
                <a:solidFill>
                  <a:srgbClr val="4e3b30"/>
                </a:solidFill>
                <a:latin typeface="Times New Roman"/>
              </a:rPr>
              <a:t>Фактори впливу на розвиток оптової торгівлі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" name="Diagram11"/>
          <p:cNvGraphicFramePr/>
          <p:nvPr>
            <p:extLst>
              <p:ext uri="{D42A27DB-BD31-4B8C-83A1-F6EECF244321}">
                <p14:modId xmlns:p14="http://schemas.microsoft.com/office/powerpoint/2010/main" val="3914760841"/>
              </p:ext>
            </p:extLst>
          </p:nvPr>
        </p:nvGraphicFramePr>
        <p:xfrm>
          <a:off x="304920" y="1554120"/>
          <a:ext cx="86864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" name="Diagram12"/>
          <p:cNvGraphicFramePr/>
          <p:nvPr>
            <p:extLst>
              <p:ext uri="{D42A27DB-BD31-4B8C-83A1-F6EECF244321}">
                <p14:modId xmlns:p14="http://schemas.microsoft.com/office/powerpoint/2010/main" val="3886594747"/>
              </p:ext>
            </p:extLst>
          </p:nvPr>
        </p:nvGraphicFramePr>
        <p:xfrm>
          <a:off x="457200" y="228600"/>
          <a:ext cx="8229240" cy="5901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240" cy="5744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Об'єктом вивчення організації торгівлі є </a:t>
            </a:r>
            <a:r>
              <a:rPr b="1" lang="ru-RU" sz="3200" spc="-1" strike="noStrike">
                <a:solidFill>
                  <a:srgbClr val="4e3b30"/>
                </a:solidFill>
                <a:latin typeface="Times New Roman"/>
              </a:rPr>
              <a:t>сфера торгівлі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 як цілісна соціально-економічна система та складові її організаційної структури.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136" name="Picture 5" descr="i?id=314017220-7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4648320"/>
            <a:ext cx="1399680" cy="142848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7" descr="i?id=63862673-19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81280" y="3886200"/>
            <a:ext cx="1904760" cy="1428480"/>
          </a:xfrm>
          <a:prstGeom prst="rect">
            <a:avLst/>
          </a:prstGeom>
          <a:ln w="9525">
            <a:noFill/>
          </a:ln>
        </p:spPr>
      </p:pic>
      <p:pic>
        <p:nvPicPr>
          <p:cNvPr id="138" name="Picture 9" descr="i?id=207229893-44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2666880"/>
            <a:ext cx="2133360" cy="142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 cap="all">
                <a:solidFill>
                  <a:srgbClr val="4e3b30"/>
                </a:solidFill>
                <a:latin typeface="Arial"/>
              </a:rPr>
              <a:t>Напрямки розвитку оптової торгівлі: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" name="Diagram13"/>
          <p:cNvGraphicFramePr/>
          <p:nvPr>
            <p:extLst>
              <p:ext uri="{D42A27DB-BD31-4B8C-83A1-F6EECF244321}">
                <p14:modId xmlns:p14="http://schemas.microsoft.com/office/powerpoint/2010/main" val="1493000818"/>
              </p:ext>
            </p:extLst>
          </p:nvPr>
        </p:nvGraphicFramePr>
        <p:xfrm>
          <a:off x="304920" y="1554120"/>
          <a:ext cx="86864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7000"/>
          </a:bodyPr>
          <a:p>
            <a:pPr marL="43740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uk-UA" sz="2800" spc="-1" strike="noStrike" cap="all">
                <a:solidFill>
                  <a:srgbClr val="4e3b30"/>
                </a:solidFill>
                <a:latin typeface="Times New Roman"/>
              </a:rPr>
              <a:t>2. Види оптових підприємств, їх класифікація і роль в процесі товаропросування.</a:t>
            </a:r>
            <a:br>
              <a:rPr sz="2800"/>
            </a:b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Розрізняють наступних оптових торговців: 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1.Оптовики-купці 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2.Брокери і агенти 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3.Оптові відділення і контори виробників 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4. Різні спеціалізовані оптовики 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8964360" cy="4928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179280" y="2781360"/>
            <a:ext cx="3887280" cy="2592000"/>
          </a:xfrm>
          <a:prstGeom prst="rightArrowCallout">
            <a:avLst>
              <a:gd name="adj1" fmla="val 28963"/>
              <a:gd name="adj2" fmla="val 25000"/>
              <a:gd name="adj3" fmla="val 28182"/>
              <a:gd name="adj4" fmla="val 6666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птове торговель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ідприєм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962520" y="1752480"/>
            <a:ext cx="4897080" cy="41763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це підприємство оптового рин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яке самостійно набуває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ласності на товар  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еціалізується на оптові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орговельній діяльност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конуючи повний комплек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купівельно-збутов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 складських технологіч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перац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0" lang="ru-RU" sz="3600" spc="-1" strike="noStrike" cap="all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591040" cy="4876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684360" y="333360"/>
            <a:ext cx="7991280" cy="115056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ринципи функціонування оптов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орговельного підприєм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539640" y="1700280"/>
            <a:ext cx="3166560" cy="1512360"/>
          </a:xfrm>
          <a:prstGeom prst="homePlate">
            <a:avLst>
              <a:gd name="adj" fmla="val 52335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ринц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моокуп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851280" y="1844640"/>
            <a:ext cx="4824000" cy="12236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абезпечення поверне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тра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324000" y="4221000"/>
            <a:ext cx="3526920" cy="1728360"/>
          </a:xfrm>
          <a:prstGeom prst="homePlate">
            <a:avLst>
              <a:gd name="adj" fmla="val 51010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ринц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мофінансуванн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3924360" y="3573360"/>
            <a:ext cx="4679640" cy="259200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амостійний пошук джер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інансування закупле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арті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оварів і нада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оварних кредиті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84720" cy="5792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179280" y="1197000"/>
            <a:ext cx="4032000" cy="2087280"/>
          </a:xfrm>
          <a:prstGeom prst="homePlate">
            <a:avLst>
              <a:gd name="adj" fmla="val 48289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ринцип конкурент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промож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211640" y="1413000"/>
            <a:ext cx="4703400" cy="20156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фективне функціонува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 ринковому середовищ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i?id=199237742-2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860640"/>
            <a:ext cx="1733040" cy="1428480"/>
          </a:xfrm>
          <a:prstGeom prst="rect">
            <a:avLst/>
          </a:prstGeom>
          <a:ln w="9525">
            <a:noFill/>
          </a:ln>
        </p:spPr>
      </p:pic>
      <p:pic>
        <p:nvPicPr>
          <p:cNvPr id="184" name="Picture 9" descr="i?id=295139697-66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3716280"/>
            <a:ext cx="1352160" cy="1428480"/>
          </a:xfrm>
          <a:prstGeom prst="rect">
            <a:avLst/>
          </a:prstGeom>
          <a:ln w="9525">
            <a:noFill/>
          </a:ln>
        </p:spPr>
      </p:pic>
      <p:pic>
        <p:nvPicPr>
          <p:cNvPr id="185" name="Picture 11" descr="i?id=311953602-4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4005360"/>
            <a:ext cx="1609200" cy="142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solidFill>
            <a:srgbClr val="fbeec9"/>
          </a:solidFill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uk-UA" sz="3600" spc="-1" strike="noStrike" cap="all">
                <a:solidFill>
                  <a:srgbClr val="4e3b30"/>
                </a:solidFill>
                <a:latin typeface="Times New Roman"/>
              </a:rPr>
              <a:t>Класифікація оптових підприємств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997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0" lang="uk-UA" sz="3200" spc="-1" strike="noStrike">
                <a:solidFill>
                  <a:srgbClr val="4e3b30"/>
                </a:solidFill>
                <a:latin typeface="Times New Roman"/>
              </a:rPr>
              <a:t>За масштабом діяльності 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484360" y="2565360"/>
            <a:ext cx="3742920" cy="791640"/>
          </a:xfrm>
          <a:prstGeom prst="rect">
            <a:avLst/>
          </a:prstGeom>
          <a:solidFill>
            <a:srgbClr val="6666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іжрегіональ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484360" y="3789360"/>
            <a:ext cx="3742920" cy="863280"/>
          </a:xfrm>
          <a:prstGeom prst="rect">
            <a:avLst/>
          </a:prstGeom>
          <a:solidFill>
            <a:srgbClr val="6666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егіональ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2484360" y="5229360"/>
            <a:ext cx="3742920" cy="863280"/>
          </a:xfrm>
          <a:prstGeom prst="rect">
            <a:avLst/>
          </a:prstGeom>
          <a:solidFill>
            <a:srgbClr val="6666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Локальн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4284360" y="3357360"/>
            <a:ext cx="360" cy="4320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4356000" y="4652640"/>
            <a:ext cx="360" cy="50508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uk-UA" sz="3600" spc="-1" strike="noStrike" cap="all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uk-UA" sz="3600" spc="-1" strike="noStrike" cap="all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 cap="all">
                <a:solidFill>
                  <a:srgbClr val="000000"/>
                </a:solidFill>
                <a:latin typeface="Times New Roman"/>
              </a:rPr>
              <a:t>За організаційно-правовими формами</a:t>
            </a:r>
            <a:r>
              <a:rPr b="0" lang="uk-UA" sz="3600" spc="-1" strike="noStrike" cap="all">
                <a:solidFill>
                  <a:srgbClr val="000000"/>
                </a:solidFill>
                <a:latin typeface="Arial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304920" y="1628640"/>
            <a:ext cx="4051080" cy="1079280"/>
          </a:xfrm>
          <a:prstGeom prst="rect">
            <a:avLst/>
          </a:prstGeom>
          <a:solidFill>
            <a:srgbClr val="cc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кціонерні товари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39640" y="2924280"/>
            <a:ext cx="3671640" cy="1152000"/>
          </a:xfrm>
          <a:prstGeom prst="rect">
            <a:avLst/>
          </a:prstGeom>
          <a:solidFill>
            <a:srgbClr val="cc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соціац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39640" y="4437000"/>
            <a:ext cx="3671640" cy="1223640"/>
          </a:xfrm>
          <a:prstGeom prst="rect">
            <a:avLst/>
          </a:prstGeom>
          <a:solidFill>
            <a:srgbClr val="cc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онцер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4500720" y="1628640"/>
            <a:ext cx="4414320" cy="1079280"/>
          </a:xfrm>
          <a:prstGeom prst="rect">
            <a:avLst/>
          </a:prstGeom>
          <a:solidFill>
            <a:srgbClr val="cc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овариства з обмежено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ідповідальніст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4500720" y="2924280"/>
            <a:ext cx="4174920" cy="1225080"/>
          </a:xfrm>
          <a:prstGeom prst="rect">
            <a:avLst/>
          </a:prstGeom>
          <a:solidFill>
            <a:srgbClr val="cc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алі підприєм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4500720" y="4437000"/>
            <a:ext cx="4174920" cy="1223640"/>
          </a:xfrm>
          <a:prstGeom prst="rect">
            <a:avLst/>
          </a:prstGeom>
          <a:solidFill>
            <a:srgbClr val="cc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иватні підприєм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0" lang="uk-UA" sz="3200" spc="-1" strike="noStrike" cap="all">
                <a:solidFill>
                  <a:srgbClr val="000000"/>
                </a:solidFill>
                <a:latin typeface="Times New Roman"/>
              </a:rPr>
              <a:t>3. За формою власності</a:t>
            </a:r>
            <a:r>
              <a:rPr b="0" lang="ru-RU" sz="3200" spc="-1" strike="noStrike" cap="all">
                <a:solidFill>
                  <a:srgbClr val="000000"/>
                </a:solidFill>
                <a:latin typeface="Times New Roman"/>
              </a:rPr>
              <a:t> та належності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457840" cy="5576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468360" y="1052640"/>
            <a:ext cx="3673080" cy="934560"/>
          </a:xfrm>
          <a:prstGeom prst="rect">
            <a:avLst/>
          </a:prstGeom>
          <a:solidFill>
            <a:srgbClr val="ff99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ват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468360" y="2276640"/>
            <a:ext cx="3673080" cy="1080720"/>
          </a:xfrm>
          <a:prstGeom prst="rect">
            <a:avLst/>
          </a:prstGeom>
          <a:solidFill>
            <a:srgbClr val="ff99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олективн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кооперативні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468360" y="3716280"/>
            <a:ext cx="3744720" cy="1079280"/>
          </a:xfrm>
          <a:prstGeom prst="rect">
            <a:avLst/>
          </a:prstGeom>
          <a:solidFill>
            <a:srgbClr val="ff99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ержав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68360" y="5229360"/>
            <a:ext cx="3744720" cy="863280"/>
          </a:xfrm>
          <a:prstGeom prst="rect">
            <a:avLst/>
          </a:prstGeom>
          <a:solidFill>
            <a:srgbClr val="ff99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міша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8"/>
          <p:cNvSpPr/>
          <p:nvPr/>
        </p:nvSpPr>
        <p:spPr>
          <a:xfrm>
            <a:off x="2268360" y="1989000"/>
            <a:ext cx="360" cy="287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2268360" y="3357360"/>
            <a:ext cx="360" cy="35892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2268360" y="4797360"/>
            <a:ext cx="360" cy="4334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364000" y="1052640"/>
            <a:ext cx="3311280" cy="936360"/>
          </a:xfrm>
          <a:prstGeom prst="rect">
            <a:avLst/>
          </a:prstGeom>
          <a:solidFill>
            <a:srgbClr val="ff99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алузе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5364000" y="2637000"/>
            <a:ext cx="3311280" cy="936360"/>
          </a:xfrm>
          <a:prstGeom prst="rect">
            <a:avLst/>
          </a:prstGeom>
          <a:solidFill>
            <a:srgbClr val="ff99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омч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5364000" y="4221000"/>
            <a:ext cx="3311280" cy="1007640"/>
          </a:xfrm>
          <a:prstGeom prst="rect">
            <a:avLst/>
          </a:prstGeom>
          <a:solidFill>
            <a:srgbClr val="ff99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завідомч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>
            <a:off x="7019640" y="1989000"/>
            <a:ext cx="360" cy="6476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019640" y="3573360"/>
            <a:ext cx="360" cy="6476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-907920"/>
            <a:ext cx="8229240" cy="9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31000"/>
          </a:bodyPr>
          <a:p>
            <a:pPr indent="0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uk-UA" sz="2800" spc="-1" strike="noStrike" cap="all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uk-UA" sz="3200" spc="-1" strike="noStrike" cap="all">
                <a:solidFill>
                  <a:srgbClr val="000000"/>
                </a:solidFill>
                <a:latin typeface="Times New Roman"/>
              </a:rPr>
              <a:t>. за територіальною ознакою і характером діяльності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286000" y="1676520"/>
            <a:ext cx="4373280" cy="185688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зташовані в  рай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робниц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вихідні баз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2514600" y="4419720"/>
            <a:ext cx="4357440" cy="171432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зташовані в райо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пожи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торгові баз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9"/>
          <p:cNvSpPr/>
          <p:nvPr/>
        </p:nvSpPr>
        <p:spPr>
          <a:xfrm>
            <a:off x="4495680" y="3657600"/>
            <a:ext cx="360" cy="7142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uk-UA" sz="2800" spc="-1" strike="noStrike" cap="all">
                <a:solidFill>
                  <a:srgbClr val="000000"/>
                </a:solidFill>
                <a:latin typeface="Times New Roman"/>
              </a:rPr>
              <a:t>5. За товарною спеціалізацією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240" cy="5073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2843280" y="1341360"/>
            <a:ext cx="3889080" cy="107928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еціалізова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2843280" y="2924280"/>
            <a:ext cx="3889080" cy="122364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ніверсаль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2843280" y="4581360"/>
            <a:ext cx="3889080" cy="934560"/>
          </a:xfrm>
          <a:prstGeom prst="rect">
            <a:avLst/>
          </a:prstGeom>
          <a:solidFill>
            <a:srgbClr val="c0c0c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міша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"/>
          <p:cNvSpPr/>
          <p:nvPr/>
        </p:nvSpPr>
        <p:spPr>
          <a:xfrm>
            <a:off x="4716360" y="2420640"/>
            <a:ext cx="360" cy="5032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4716360" y="4149720"/>
            <a:ext cx="360" cy="4316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76245837"/>
              </p:ext>
            </p:extLst>
          </p:nvPr>
        </p:nvGraphicFramePr>
        <p:xfrm>
          <a:off x="457200" y="533520"/>
          <a:ext cx="8229240" cy="55922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139" name="Picture 5" descr="i?id=114779721-21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238880" y="5257800"/>
            <a:ext cx="1904760" cy="1428480"/>
          </a:xfrm>
          <a:prstGeom prst="rect">
            <a:avLst/>
          </a:prstGeom>
          <a:ln w="9525">
            <a:noFill/>
          </a:ln>
        </p:spPr>
      </p:pic>
      <p:pic>
        <p:nvPicPr>
          <p:cNvPr id="140" name="Picture 7" descr="i?id=125231741-18-72&amp;n=2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5181480"/>
            <a:ext cx="1456920" cy="142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-907920"/>
            <a:ext cx="8229240" cy="90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31000"/>
          </a:bodyPr>
          <a:p>
            <a:pPr indent="0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uk-UA" sz="2800" spc="-1" strike="noStrike" cap="all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uk-UA" sz="3200" spc="-1" strike="noStrike" cap="all">
                <a:solidFill>
                  <a:srgbClr val="000000"/>
                </a:solidFill>
                <a:latin typeface="Times New Roman"/>
              </a:rPr>
              <a:t>. Залежно від функцій, які виконують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2286000" y="857160"/>
            <a:ext cx="5028840" cy="185688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 повним цик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бслугов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незалежний оптов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дистриб’ют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оптовик консигнант і торговий дім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2286000" y="3429000"/>
            <a:ext cx="5028840" cy="2285640"/>
          </a:xfrm>
          <a:prstGeom prst="rect">
            <a:avLst/>
          </a:prstGeom>
          <a:solidFill>
            <a:srgbClr val="ffcc9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 обмеженим цик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бслуговув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оптовики-організатор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оптовики-посилторговц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оптовики- комівояжер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дрібнооптові магазини «cash&amp;carry»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>
            <a:off x="4500360" y="2714400"/>
            <a:ext cx="360" cy="71460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Times New Roman"/>
              </a:rPr>
              <a:t>3. Послуги, які надають оптові торговельні посередники роздрібним торговцям та іншим партнерам</a:t>
            </a:r>
            <a:r>
              <a:rPr b="0" lang="ru-RU" sz="4000" spc="-1" strike="noStrike" cap="all">
                <a:solidFill>
                  <a:srgbClr val="4e3b30"/>
                </a:solidFill>
                <a:latin typeface="Times New Roman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clip_image002"/>
          <p:cNvPicPr/>
          <p:nvPr/>
        </p:nvPicPr>
        <p:blipFill>
          <a:blip r:embed="rId1"/>
          <a:stretch/>
        </p:blipFill>
        <p:spPr>
          <a:xfrm>
            <a:off x="380880" y="1828800"/>
            <a:ext cx="8754840" cy="5068440"/>
          </a:xfrm>
          <a:prstGeom prst="rect">
            <a:avLst/>
          </a:prstGeom>
          <a:ln w="9525">
            <a:noFill/>
          </a:ln>
        </p:spPr>
      </p:pic>
    </p:spTree>
  </p:cSld>
  <p:transition>
    <p:push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Комерційні послуги оптових підприємств</a:t>
            </a:r>
            <a:r>
              <a:rPr b="1" lang="ru-RU" sz="4000" spc="-1" strike="noStrike" cap="all">
                <a:solidFill>
                  <a:srgbClr val="4e3b30"/>
                </a:solidFill>
                <a:latin typeface="Times New Roman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" name="Diagram14"/>
          <p:cNvGraphicFramePr/>
          <p:nvPr>
            <p:extLst>
              <p:ext uri="{D42A27DB-BD31-4B8C-83A1-F6EECF244321}">
                <p14:modId xmlns:p14="http://schemas.microsoft.com/office/powerpoint/2010/main" val="3715181834"/>
              </p:ext>
            </p:extLst>
          </p:nvPr>
        </p:nvGraphicFramePr>
        <p:xfrm>
          <a:off x="0" y="1143000"/>
          <a:ext cx="9143640" cy="5562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Інформаційно-консультаційні послуги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" name="Diagram15"/>
          <p:cNvGraphicFramePr/>
          <p:nvPr>
            <p:extLst>
              <p:ext uri="{D42A27DB-BD31-4B8C-83A1-F6EECF244321}">
                <p14:modId xmlns:p14="http://schemas.microsoft.com/office/powerpoint/2010/main" val="3142538251"/>
              </p:ext>
            </p:extLst>
          </p:nvPr>
        </p:nvGraphicFramePr>
        <p:xfrm>
          <a:off x="304920" y="1554120"/>
          <a:ext cx="86864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>
    <p:pull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Фінансово-розрахункові та кредитні послуги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" name="Diagram16"/>
          <p:cNvGraphicFramePr/>
          <p:nvPr>
            <p:extLst>
              <p:ext uri="{D42A27DB-BD31-4B8C-83A1-F6EECF244321}">
                <p14:modId xmlns:p14="http://schemas.microsoft.com/office/powerpoint/2010/main" val="3292815108"/>
              </p:ext>
            </p:extLst>
          </p:nvPr>
        </p:nvGraphicFramePr>
        <p:xfrm>
          <a:off x="304920" y="1554120"/>
          <a:ext cx="86864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>
    <p:push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Орендні і прокатні послуги</a:t>
            </a:r>
            <a:r>
              <a:rPr b="0" lang="ru-RU" sz="36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" name="Diagram17"/>
          <p:cNvGraphicFramePr/>
          <p:nvPr>
            <p:extLst>
              <p:ext uri="{D42A27DB-BD31-4B8C-83A1-F6EECF244321}">
                <p14:modId xmlns:p14="http://schemas.microsoft.com/office/powerpoint/2010/main" val="2008814890"/>
              </p:ext>
            </p:extLst>
          </p:nvPr>
        </p:nvGraphicFramePr>
        <p:xfrm>
          <a:off x="304920" y="1554120"/>
          <a:ext cx="8686440" cy="45255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>
    <p:push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Виробничо-технологічні послуги</a:t>
            </a:r>
            <a:r>
              <a:rPr b="0" lang="ru-RU" sz="40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" name="Diagram18"/>
          <p:cNvGraphicFramePr/>
          <p:nvPr>
            <p:extLst>
              <p:ext uri="{D42A27DB-BD31-4B8C-83A1-F6EECF244321}">
                <p14:modId xmlns:p14="http://schemas.microsoft.com/office/powerpoint/2010/main" val="625990853"/>
              </p:ext>
            </p:extLst>
          </p:nvPr>
        </p:nvGraphicFramePr>
        <p:xfrm>
          <a:off x="0" y="1219320"/>
          <a:ext cx="8991360" cy="5303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1" lang="uk-UA" sz="40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Транспортно-експедиторські послуги</a:t>
            </a:r>
            <a:r>
              <a:rPr b="0" lang="uk-UA" sz="4000" spc="-1" strike="noStrike" u="sng" cap="all">
                <a:solidFill>
                  <a:srgbClr val="4e3b30"/>
                </a:solidFill>
                <a:uFillTx/>
                <a:latin typeface="Times New Roman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" name="Diagram19"/>
          <p:cNvGraphicFramePr/>
          <p:nvPr>
            <p:extLst>
              <p:ext uri="{D42A27DB-BD31-4B8C-83A1-F6EECF244321}">
                <p14:modId xmlns:p14="http://schemas.microsoft.com/office/powerpoint/2010/main" val="2042487575"/>
              </p:ext>
            </p:extLst>
          </p:nvPr>
        </p:nvGraphicFramePr>
        <p:xfrm>
          <a:off x="0" y="1066680"/>
          <a:ext cx="9143640" cy="5638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1000"/>
          </a:bodyPr>
          <a:p>
            <a:pPr marL="5677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 cap="all">
                <a:solidFill>
                  <a:srgbClr val="4e3b30"/>
                </a:solidFill>
                <a:latin typeface="Times New Roman"/>
              </a:rPr>
              <a:t>4. функції оптових підприємств</a:t>
            </a:r>
            <a:r>
              <a:rPr b="1" lang="ru-RU" sz="4000" spc="-1" strike="noStrike" cap="all">
                <a:solidFill>
                  <a:srgbClr val="4e3b30"/>
                </a:solidFill>
                <a:latin typeface="Times New Roman"/>
              </a:rPr>
              <a:t> 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228600" y="609480"/>
            <a:ext cx="8229240" cy="70596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 fontScale="79000"/>
          </a:bodyPr>
          <a:p>
            <a:pPr>
              <a:lnSpc>
                <a:spcPct val="100000"/>
              </a:lnSpc>
            </a:pPr>
            <a:r>
              <a:rPr b="1" lang="uk-UA" sz="3200" spc="-1" strike="noStrike" cap="all">
                <a:solidFill>
                  <a:srgbClr val="000066"/>
                </a:solidFill>
                <a:latin typeface="Times New Roman"/>
              </a:rPr>
              <a:t>Комерційні функції оптових підприєм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562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Вивчення кон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'</a:t>
            </a: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юнктури ринку і попиту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Оптові закупівлі товарів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Оптовий продаж товарів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Надання до- і післяреалізаційних послуг клієнтам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Рекламно – інформаційне забезпечення оптової діяльності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0" lang="uk-UA" sz="3200" spc="-1" strike="noStrike">
                <a:solidFill>
                  <a:srgbClr val="000066"/>
                </a:solidFill>
                <a:latin typeface="Times New Roman"/>
              </a:rPr>
              <a:t>Оперативне управління товарними запасами 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5000" bIns="45000" anchor="ctr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1" lang="uk-UA" sz="3200" spc="-1" strike="noStrike" cap="all">
                <a:solidFill>
                  <a:srgbClr val="006600"/>
                </a:solidFill>
                <a:latin typeface="Times New Roman"/>
              </a:rPr>
              <a:t>Функції виробничого характеру оптового торговельного підприємств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Комплекс операцій зі складування: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Приймання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Зберігання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Внутрішньоскладське переміщення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Відпускання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2. Фасування і підсортування товарів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Times New Roman"/>
              </a:rPr>
              <a:t>3. Організація доставки товарів у роздрібну торговельну мережу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444246007"/>
              </p:ext>
            </p:extLst>
          </p:nvPr>
        </p:nvGraphicFramePr>
        <p:xfrm>
          <a:off x="457200" y="457200"/>
          <a:ext cx="8229240" cy="3428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141" name="Picture 5" descr="i?id=459069754-36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238880" y="4648320"/>
            <a:ext cx="1218960" cy="1428480"/>
          </a:xfrm>
          <a:prstGeom prst="rect">
            <a:avLst/>
          </a:prstGeom>
          <a:ln w="9525">
            <a:noFill/>
          </a:ln>
        </p:spPr>
      </p:pic>
      <p:pic>
        <p:nvPicPr>
          <p:cNvPr id="142" name="Picture 7" descr="i?id=74974860-63-72&amp;n=2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800600" y="4114800"/>
            <a:ext cx="1647360" cy="1428480"/>
          </a:xfrm>
          <a:prstGeom prst="rect">
            <a:avLst/>
          </a:prstGeom>
          <a:ln w="9525">
            <a:noFill/>
          </a:ln>
        </p:spPr>
      </p:pic>
      <p:pic>
        <p:nvPicPr>
          <p:cNvPr id="143" name="Picture 9" descr="i?id=96345808-66-72&amp;n=2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90920" y="4724280"/>
            <a:ext cx="1161720" cy="142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5000" bIns="45000" anchor="ctr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1" lang="uk-UA" sz="3600" spc="-1" strike="noStrike" cap="all">
                <a:solidFill>
                  <a:srgbClr val="000099"/>
                </a:solidFill>
                <a:latin typeface="Times New Roman"/>
              </a:rPr>
              <a:t>Інформаційно – консультативні функції</a:t>
            </a:r>
            <a:r>
              <a:rPr b="1" lang="en-US" sz="3600" spc="-1" strike="noStrike" cap="all">
                <a:solidFill>
                  <a:srgbClr val="000099"/>
                </a:solidFill>
                <a:latin typeface="Times New Roman"/>
              </a:rPr>
              <a:t>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1" lang="uk-UA" sz="3600" spc="-1" strike="noStrike">
                <a:solidFill>
                  <a:srgbClr val="0033cc"/>
                </a:solidFill>
                <a:latin typeface="Times New Roman"/>
              </a:rPr>
              <a:t>Збір, накопичення, обробка комерційної інформації, передача її контрагентам</a:t>
            </a:r>
            <a:r>
              <a:rPr b="0" lang="ru-RU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ru-RU" sz="3600" spc="-1" strike="noStrike">
              <a:solidFill>
                <a:srgbClr val="4e3b3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StarSymbol"/>
              <a:buAutoNum type="arabicPeriod"/>
            </a:pPr>
            <a:r>
              <a:rPr b="1" lang="uk-UA" sz="3600" spc="-1" strike="noStrike">
                <a:solidFill>
                  <a:srgbClr val="0033cc"/>
                </a:solidFill>
                <a:latin typeface="Times New Roman"/>
              </a:rPr>
              <a:t>Консультації з питань асортименту і якості товарів</a:t>
            </a:r>
            <a:endParaRPr b="0" lang="ru-RU" sz="36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245" name="Picture 5" descr="i?id=313791828-3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724280"/>
            <a:ext cx="1800000" cy="1872720"/>
          </a:xfrm>
          <a:prstGeom prst="rect">
            <a:avLst/>
          </a:prstGeom>
          <a:ln w="9525">
            <a:noFill/>
          </a:ln>
        </p:spPr>
      </p:pic>
      <p:pic>
        <p:nvPicPr>
          <p:cNvPr id="246" name="Picture 7" descr="i?id=125148327-47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00720" y="4221000"/>
            <a:ext cx="2107800" cy="1728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 cap="all">
                <a:solidFill>
                  <a:srgbClr val="4e3b30"/>
                </a:solidFill>
                <a:latin typeface="Times New Roman"/>
              </a:rPr>
              <a:t>На сучасному етапі розвитку торгівлі розрізняють наступні її види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- в територіальному розрізі – внутрішня і зовнішня;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</a:rPr>
              <a:t>- за стадіями товарообігу – оптова, роздрібна.</a:t>
            </a:r>
            <a:endParaRPr b="0" lang="ru-RU" sz="32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146" name="Picture 7" descr="i?id=42157432-31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3809880"/>
            <a:ext cx="1904760" cy="1428480"/>
          </a:xfrm>
          <a:prstGeom prst="rect">
            <a:avLst/>
          </a:prstGeom>
          <a:ln w="9525">
            <a:noFill/>
          </a:ln>
        </p:spPr>
      </p:pic>
      <p:pic>
        <p:nvPicPr>
          <p:cNvPr id="147" name="Picture 9" descr="i?id=82487903-59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4648320"/>
            <a:ext cx="1428480" cy="1428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all">
                <a:solidFill>
                  <a:srgbClr val="4e3b30"/>
                </a:solidFill>
                <a:latin typeface="Arial"/>
              </a:rPr>
              <a:t>Основні тенденції розвитку торгівлі на сучасному етапі: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4287336297"/>
              </p:ext>
            </p:extLst>
          </p:nvPr>
        </p:nvGraphicFramePr>
        <p:xfrm>
          <a:off x="457200" y="990720"/>
          <a:ext cx="8305560" cy="5866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1415095870_big"/>
          <p:cNvPicPr/>
          <p:nvPr/>
        </p:nvPicPr>
        <p:blipFill>
          <a:blip r:embed="rId1"/>
          <a:stretch/>
        </p:blipFill>
        <p:spPr>
          <a:xfrm>
            <a:off x="0" y="304920"/>
            <a:ext cx="9056160" cy="6171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1415095907_big"/>
          <p:cNvPicPr/>
          <p:nvPr/>
        </p:nvPicPr>
        <p:blipFill>
          <a:blip r:embed="rId1"/>
          <a:stretch/>
        </p:blipFill>
        <p:spPr>
          <a:xfrm>
            <a:off x="-42840" y="228600"/>
            <a:ext cx="9186480" cy="5943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 cap="all">
                <a:solidFill>
                  <a:srgbClr val="4e3b30"/>
                </a:solidFill>
                <a:latin typeface="Times New Roman"/>
              </a:rPr>
              <a:t>Торгівля виконує наступні функції: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3396055801"/>
              </p:ext>
            </p:extLst>
          </p:nvPr>
        </p:nvGraphicFramePr>
        <p:xfrm>
          <a:off x="304920" y="1219320"/>
          <a:ext cx="8610120" cy="5486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433</TotalTime>
  <Application>LibreOffice/7.4.7.2$Linux_X86_64 LibreOffice_project/40$Build-2</Application>
  <AppVersion>15.0000</AppVersion>
  <Words>1324</Words>
  <Paragraphs>20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5:13:23Z</dcterms:created>
  <dc:creator>USER</dc:creator>
  <dc:description/>
  <dc:language>en-US</dc:language>
  <cp:lastModifiedBy>305</cp:lastModifiedBy>
  <cp:lastPrinted>1601-01-01T00:00:00Z</cp:lastPrinted>
  <dcterms:modified xsi:type="dcterms:W3CDTF">2016-03-14T09:21:4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0</vt:r8>
  </property>
  <property fmtid="{D5CDD505-2E9C-101B-9397-08002B2CF9AE}" pid="4" name="Version">
    <vt:r8>1</vt:r8>
  </property>
</Properties>
</file>