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58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59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58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59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110.xml" ContentType="application/vnd.openxmlformats-officedocument.theme+xml"/>
  <Override PartName="/ppt/theme/theme37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43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144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158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30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40.xml" ContentType="application/vnd.openxmlformats-officedocument.theme+xml"/>
  <Override PartName="/ppt/theme/theme159.xml" ContentType="application/vnd.openxmlformats-officedocument.theme+xml"/>
  <Override PartName="/ppt/theme/theme139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898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897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896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895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894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89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89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89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89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888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887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886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885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88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90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892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894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895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89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189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89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8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8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88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89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896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89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85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9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903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905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906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907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908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9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90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902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902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901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90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907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906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905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90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903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189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  <p:sldMasterId id="2147485689" r:id="rId159"/>
    <p:sldMasterId id="2147485702" r:id="rId160"/>
  </p:sldMasterIdLst>
  <p:sldIdLst>
    <p:sldId id="256" r:id="rId161"/>
    <p:sldId id="257" r:id="rId162"/>
    <p:sldId id="258" r:id="rId163"/>
    <p:sldId id="259" r:id="rId164"/>
    <p:sldId id="260" r:id="rId165"/>
    <p:sldId id="261" r:id="rId166"/>
    <p:sldId id="262" r:id="rId167"/>
    <p:sldId id="263" r:id="rId168"/>
    <p:sldId id="264" r:id="rId169"/>
    <p:sldId id="265" r:id="rId170"/>
    <p:sldId id="266" r:id="rId171"/>
    <p:sldId id="267" r:id="rId172"/>
    <p:sldId id="268" r:id="rId173"/>
    <p:sldId id="269" r:id="rId174"/>
    <p:sldId id="270" r:id="rId175"/>
    <p:sldId id="271" r:id="rId176"/>
    <p:sldId id="272" r:id="rId177"/>
    <p:sldId id="273" r:id="rId178"/>
    <p:sldId id="274" r:id="rId179"/>
    <p:sldId id="275" r:id="rId180"/>
    <p:sldId id="276" r:id="rId181"/>
    <p:sldId id="277" r:id="rId182"/>
    <p:sldId id="278" r:id="rId183"/>
    <p:sldId id="279" r:id="rId184"/>
    <p:sldId id="280" r:id="rId1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Master" Target="slideMasters/slideMaster158.xml"/><Relationship Id="rId160" Type="http://schemas.openxmlformats.org/officeDocument/2006/relationships/slideMaster" Target="slideMasters/slideMaster159.xml"/><Relationship Id="rId161" Type="http://schemas.openxmlformats.org/officeDocument/2006/relationships/slide" Target="slides/slide1.xml"/><Relationship Id="rId162" Type="http://schemas.openxmlformats.org/officeDocument/2006/relationships/slide" Target="slides/slide2.xml"/><Relationship Id="rId163" Type="http://schemas.openxmlformats.org/officeDocument/2006/relationships/slide" Target="slides/slide3.xml"/><Relationship Id="rId164" Type="http://schemas.openxmlformats.org/officeDocument/2006/relationships/slide" Target="slides/slide4.xml"/><Relationship Id="rId165" Type="http://schemas.openxmlformats.org/officeDocument/2006/relationships/slide" Target="slides/slide5.xml"/><Relationship Id="rId166" Type="http://schemas.openxmlformats.org/officeDocument/2006/relationships/slide" Target="slides/slide6.xml"/><Relationship Id="rId167" Type="http://schemas.openxmlformats.org/officeDocument/2006/relationships/slide" Target="slides/slide7.xml"/><Relationship Id="rId168" Type="http://schemas.openxmlformats.org/officeDocument/2006/relationships/slide" Target="slides/slide8.xml"/><Relationship Id="rId169" Type="http://schemas.openxmlformats.org/officeDocument/2006/relationships/slide" Target="slides/slide9.xml"/><Relationship Id="rId170" Type="http://schemas.openxmlformats.org/officeDocument/2006/relationships/slide" Target="slides/slide10.xml"/><Relationship Id="rId171" Type="http://schemas.openxmlformats.org/officeDocument/2006/relationships/slide" Target="slides/slide11.xml"/><Relationship Id="rId172" Type="http://schemas.openxmlformats.org/officeDocument/2006/relationships/slide" Target="slides/slide12.xml"/><Relationship Id="rId173" Type="http://schemas.openxmlformats.org/officeDocument/2006/relationships/slide" Target="slides/slide13.xml"/><Relationship Id="rId174" Type="http://schemas.openxmlformats.org/officeDocument/2006/relationships/slide" Target="slides/slide14.xml"/><Relationship Id="rId175" Type="http://schemas.openxmlformats.org/officeDocument/2006/relationships/slide" Target="slides/slide15.xml"/><Relationship Id="rId176" Type="http://schemas.openxmlformats.org/officeDocument/2006/relationships/slide" Target="slides/slide16.xml"/><Relationship Id="rId177" Type="http://schemas.openxmlformats.org/officeDocument/2006/relationships/slide" Target="slides/slide17.xml"/><Relationship Id="rId178" Type="http://schemas.openxmlformats.org/officeDocument/2006/relationships/slide" Target="slides/slide18.xml"/><Relationship Id="rId179" Type="http://schemas.openxmlformats.org/officeDocument/2006/relationships/slide" Target="slides/slide19.xml"/><Relationship Id="rId180" Type="http://schemas.openxmlformats.org/officeDocument/2006/relationships/slide" Target="slides/slide20.xml"/><Relationship Id="rId181" Type="http://schemas.openxmlformats.org/officeDocument/2006/relationships/slide" Target="slides/slide21.xml"/><Relationship Id="rId182" Type="http://schemas.openxmlformats.org/officeDocument/2006/relationships/slide" Target="slides/slide22.xml"/><Relationship Id="rId183" Type="http://schemas.openxmlformats.org/officeDocument/2006/relationships/slide" Target="slides/slide23.xml"/><Relationship Id="rId184" Type="http://schemas.openxmlformats.org/officeDocument/2006/relationships/slide" Target="slides/slide24.xml"/><Relationship Id="rId185" Type="http://schemas.openxmlformats.org/officeDocument/2006/relationships/slide" Target="slides/slide25.xml"/><Relationship Id="rId1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8F5-F969-4A1B-827F-733A64D71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A13-4A0A-42D7-8FD8-B224559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00C29-4AC9-4834-AC54-1712C2BC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5A9A96F-040C-41A7-989E-38AF7E87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E950EEB-7793-42B3-9660-FC39AC2E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625AE5D-8D14-4B9A-909E-5DF0D7D2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432401A-AB0E-4C85-9F97-6AF7221A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85684EA-B990-4F54-A961-47C64378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291D0F4-0CD6-428C-A535-FE8052B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B7192FB-BBE6-4269-9217-85253793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F4886A4-AB68-483A-B29D-A0622987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0DE7A6D-7390-4EB9-A984-38F98FEC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44FBDF7-4D3F-4A1D-99C3-FECBCDF3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D82EE-2CAF-4972-A925-97F9DC83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522706F9-3855-4649-8CDE-FD799C959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D742E757-3079-4BB4-B3D9-F7FB8E08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AC04E59-0893-4FD5-8686-1C513FFD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7563EEF-C17B-488B-BAFF-FBDCC7D3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40C990B-052C-4D7B-9121-7924CA6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0DB3809-CCEF-4841-B197-841C3B5B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3C2C1F2-BD05-413B-8016-1A40388F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F86E0FD-1935-4323-BA27-1882E2BF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D083DC8-FF74-4C37-BF57-2F533A10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A681CC1-0651-4E93-AB01-F8CF5AA1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A5884-5090-4642-9EE7-7DBB32CA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D565F3A-0701-4610-97ED-B0A0061A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A809157-0705-4ACC-9DC3-8BD7E875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9CF96FB-AE79-4504-8CC5-1B55B9F7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AEB5D59-EE58-4E80-8B4C-53D9CA29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11380012-817C-4C4D-9A11-0730697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25CA297-FDEB-4DE9-A7E2-2952E0B4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5382936-81E3-4EE2-B16E-99CA554F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A057448-2396-4227-9E7F-6766C6C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A9597FF-623B-4DF7-8CAD-37F7ABA1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05665BA-D6FC-439C-86C3-0F5B90D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42FE9-B0D4-4079-AB58-E5FB4DF7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2C15D0C2-784F-40D3-911F-216399A4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831E9A9-0ED7-4FFE-A31A-71ACD841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4362174-F53F-4C70-9FB4-47E19F35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BBFC0CD-BA5B-4903-9CE4-9CED6DFC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8083B628-82D5-497E-9775-3D165ACC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3EE3D3A-25FF-45A1-BB3F-012CFC2D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FB21114-7195-43CF-9D84-7254AC54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BC889E5-CF59-445E-8876-3F91FC00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8CEFED2-3D64-47BE-AACA-734EF4E8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2FFA6BE-EE26-46D0-B055-FD27245F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7AADD-5D96-4882-9069-3CB202F2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0B35A34B-830E-4190-A7E8-285A521E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0E66176-8880-45A7-BAB2-EDA8B93D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9ACC037-625C-4B41-A260-DD7E9E4E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70F91FB-2601-47E8-9DB9-1767FFB3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73702E8-AD94-4E97-930B-8E434EA4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36B1EB4-2616-4BC6-A84F-BD37106E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09D3919-2587-443A-8B36-D23421AA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5096724-5660-4637-B18C-EA7E0C54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0086B4D-305E-4382-A7DE-8B54ADBF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67FCAAD-94B6-4CA8-878F-921BD9EA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9470C-D2DC-465F-BBE4-1663E8A7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5E41636-93F3-49CB-9D09-EA8C80EE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4271DC8-5363-4CDA-A5C8-2BF6102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5CE9A4E-7261-4D08-A071-660F7E85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4FFA331-4E64-48A1-AF93-B735B22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C0CDF21-1156-4ED4-B27C-E77A0D2C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8F0BC027-0F64-4100-AECC-69A06810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27F0DEA-FC8B-4CCC-BD8E-2135EC8F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B4D036E-D50F-43D6-B6D7-A12822BF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B9F4DA0-A00A-4D94-9F19-723B380C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8B0CDF24-D2FD-4FDE-9972-5ADDD7BE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8743B-7971-4CB5-9818-F6BD87A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71AC24A-8677-4652-925E-6D038C0B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516A7B1-1215-46F4-9EE3-14753F10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CF1F626B-F6AD-4610-861A-8292A843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BFC2E88-8430-4A02-A7A8-914CB0B7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F0AD367-74F5-4D06-848D-8A7802BB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6585515-04AC-4420-976E-BEDFC69E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51ADFFE-83F1-45E1-AD53-5AA86C03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F64F624F-C304-47A2-AFF6-849BFCEE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72FD1AA-232B-4551-B852-B60C91B3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8A6AC52-811D-423B-B93C-37E7D952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7E7E6-3E2B-41DC-B461-9C01F2AC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049B999-A236-4E1D-B1FC-401A8A4E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A3E778C-736C-4377-AB47-0CE3B49E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862387D-4E1A-4463-A82F-D21F1F25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986B5C78-0729-4DEE-9DCF-A1B31B1D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0E2850F-A118-4FBC-AA15-97FCE762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66CB1EB-D647-4435-A779-84AE43C9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BF53399E-EEC3-4DF1-AC03-D0CD852F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8FC3E13-944F-4DBA-9DC8-A9E26C91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920867C-B4D6-4F7E-9EC6-EFD58E71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C8787E70-16A3-41CE-B5DB-606A6DC4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96F03-94AC-4C34-AA76-4CDE501B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859CF2C-1D55-4B40-AA89-8E4EF218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C4CD3AF-CC46-42D6-8865-6093C2D7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44CA8D8-38BE-4525-AEBC-93A8A9E4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926E6EB-D773-4B07-A079-FB47CA7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D9A5D03-330D-4FA1-BFE9-856FF9EF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7FD0E5A-65C9-41D1-90B3-B45992D4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D6A8AC2-063E-4EFD-AA6C-9950E1F5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AF7C8BF-F94E-4625-AEDA-0FB748F7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09DC93D-34BD-4E09-8F81-920DEF8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9E8FCA2-1F3C-436F-B904-5886700B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A7952-B4DC-4BEF-A9EA-7F1083FD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139877A-4232-4F8D-A116-36F24227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8A32F3A-368F-40F3-8D80-DAEAA9B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EE6CB9A-16FB-4E45-81F3-782FC60D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5FAC29D-6396-4817-8533-98E9F72A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B61AF34-0BB0-446E-ADA1-62A8EF0D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68E03071-B944-448D-ACF7-FEB4F7A4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13B8448-DF88-446D-8C8A-EF8AF618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97B2488-D53E-47D5-8ED1-60076F56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0CEAC19-7EA7-4A88-8093-E857EB25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907CF6C-0968-4D45-BEE9-A58BD0D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0AA-C092-4020-ADDF-584AC51C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4CB64-35A8-4E48-AA1D-AB9BA1C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E87A0F5E-1A8B-4D3B-A9E8-0E74D93B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486B2C5-0D84-4AD7-B4C3-77274405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EE5F47C-7A05-4BEA-8750-CF005C6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88072D7-6FF9-4BCA-AC53-41767775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6C4462A-D85D-4551-A86C-A5B9FB7F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C5C380A-AC10-42E5-A9A2-E1D3371A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6DE5633-3B93-4AFF-AC3B-67CDD37B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5ED2BE48-8B3E-4FD6-97DA-2B62A8E9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FB74FCD-D3DC-4086-A551-66488E89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D9591347-C469-4A09-964C-71B790CF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E98F8-FFAA-4CD8-A117-DBFCDF89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FF8D349-F377-4EF0-A6D4-972414AF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01C0AE8-FBA6-4918-8948-6F79512D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2CFD827-9F53-44E4-84E1-939A9BA2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A7B4F03-2312-4377-A312-CCDA6009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44528B53-9B2E-4D73-8670-190EBE1C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5393B89-7A30-4C7F-A035-ABDFB2FF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C067F55-1CE2-4753-986B-0987D6C0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A0BDAFE-4687-4EFB-9A20-A4F53FC3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D0B0CB9-8F97-49E6-A36F-F69874F5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EC8B48E-9C1E-4A8A-89E1-6CAA2865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56E50-4D67-40E9-A6C6-3B617AD0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3100B45-0309-49F0-8E5D-DEE34EC8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D4F7EBE-D85A-4A81-B452-3BE8D429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9E5F0DD-6931-46B3-AD63-56F59BF6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1248442-0F46-4D48-A520-74B37AEF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814485F-6201-46A4-B818-F8B7826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F05754A-5C3B-49E3-BE17-31F8232A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D1C5CB3-7823-4777-B037-3E5B3ABB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84E08CA-DD5E-4522-8C2A-2CFF0897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1DD1652-A451-4F74-92A7-0E00252B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36C26C2-A207-411B-97ED-2A7FB8CD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F7016-0E38-4879-BA66-64ECAF12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2B7C2A8-7551-44B5-9547-5D50F7AF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93652F6-C60C-4965-9381-5FA020C4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5F89DA3-C0DD-425E-BEF1-656B830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6A186D8-4C1A-4324-BC03-E434020A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C0B1B67-1EA8-42E4-A66F-660301F9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5E814DF-2C21-4F19-A8F3-B6B5EF9B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4F19F73-0EE1-476E-BF25-E1DBFC38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8633512-3F08-45AA-AC1B-9388F97C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6F42DD0-5FCD-433B-8674-D546142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339E7A7-56CB-4B18-9608-DCFA2E73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2C6D2-B2F8-45C3-B907-CE6D4B83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207D8ED-CB26-460A-8B4A-9257CEF6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0BC2DE0-9E47-45D7-BA1B-30D7DC73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CACC826-4374-40B8-B66F-1D4DAB4E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3760E69-9161-45B7-A632-99D81380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7BE62B79-F3C4-4886-BAC2-EF6295EB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36CD664-1153-43C4-8083-1C9C48B0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785F982D-E51A-40E9-896B-46DD04B3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A6DD9E0-A478-418E-8060-CC35E735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5E87E4F-7FF7-439C-9FC4-D5A98225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ACEC596-25CB-4A59-9E07-DD86AD1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91165-45DE-4216-A6D6-6B6CE2C0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B786E61F-4F46-42AA-B57C-35261DC1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8C9AE60-0B2A-4F1E-9ED5-BB1D56DB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FB42D8B-AF06-4354-8DBC-C01FFDEF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E0ABBB0-0E56-4BE5-B241-BE2013D3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F02AA80-64B9-4BC6-BB35-A01E90BB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106D71D-845E-4BCE-BE6C-712A7F1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8A2DEB9-3800-4706-952A-7C6AD8D4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C7039F3-551A-4B88-A840-7A835649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1C95959-C9F7-4F71-8BEC-C04FE7D9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DD64D37-BA79-471B-B59A-1A75168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41132-15FC-4471-A7A3-D98C9ACF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7C08435-8976-4F74-8518-0D328A31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9152949-A807-4501-9F97-A778701C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498C4EFD-AB98-4E34-AADB-57885F34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6DE1E003-556A-4144-9166-34B6B1C7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DA3B7B0-F19A-4CF7-BACA-279779B3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59EF151-BCDE-4375-9F3D-78988892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97315A2-ADC7-49D7-8D40-0B73D253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B42A94E-9A96-4E42-8216-099AAE24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1EFEBFDB-DF53-41F3-AD93-D1F1C51F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B59B396-26FF-4DDD-9F84-D7572480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BAA42-9150-4378-8BA3-19BAB56F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91775E5-17B1-42F1-8058-766A1FFC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39E5D9B-A5FA-4676-AAAD-042A721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A3B6D11-7A5F-4B78-B287-BBB6EB18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C86C474-D740-495C-9C58-ED911FE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C8CAF60F-1468-47E9-821E-D688196F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C20D644-EF96-49A0-B3AF-728CFBB0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4F371E6D-B1A2-4EB0-A649-349F0C52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59D6FFD-26CE-4B4D-89D9-9BE4EB63E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B81D31B-7C50-4224-B13C-7357963D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83BCD456-4AF9-4F59-8B51-612F6F74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D41E2-B00F-43F1-85B3-77C9C483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76F3F43-1720-4E1C-901F-151210BB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8F82FDB-0FD9-4255-9EBD-2358AB9F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AD1BFE0-AB00-406D-89F3-DD9F1C9E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96F15807-CDF5-4E78-B3E5-53321303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ED082AA-4DDF-4443-85C0-1D9A34D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2AD5886-3E98-4CE2-A5D8-438D4297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E2C87F2-B193-4F2B-9AAD-C963D9A3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0BEB4A5-EEEC-4AFB-9D0E-30B2AFF0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0E26593-1BAE-4120-9CC4-1DCBD70B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FF041D1-99E4-427B-8EC1-16F9FCBD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3C03E-D61C-4EA5-9B2A-0DF303D8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D250E49-5F31-44CC-B64E-AB1071C8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D08616A9-98CA-4903-B033-644D3E55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2952E5E-9D7E-4711-84C0-CF0B3002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BF4F304-2696-45A6-ACBA-EF981A35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EF4FF84-3D21-460E-B68F-414FADD3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15420EAA-7542-473D-A9D8-8B35FDB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DCB8ACA-18C3-44F8-A66B-45CAFD65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62A8372-74CD-4006-943A-8D6F2D6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D1D3420-2658-49B8-B616-10EC6654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A868C3F-9156-4256-9549-3FFF10F1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092-0EBC-4DF9-A0A6-201F99B1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E7661-FB67-43E2-8ED1-EEB63D60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4FEF13B-0B17-48D5-BFFF-C9DC5E0F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E7B5E7D-8671-4703-BA39-C711AB72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9862DD0-D8CA-4178-BBAC-B9030681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E68FDADA-1146-436B-9673-516ECE27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EE6A68F-05C5-4306-A8C8-F4F87753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6B0BBF93-235D-4A21-BDC3-E363A4D7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65D4400-8774-485F-BE87-0D0BAAA7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9CA44E3-0362-4B9B-8887-EA23B8C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464FEB7-7ED1-4C2D-B283-186D2D1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B4A64F9-A5EC-4609-A3FE-B0658C1F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334ED-D72E-40E8-8180-88C6549A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8DF4BFB-21C0-4845-8C25-F819C1FC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17B9E592-7410-4CED-8D55-E5C1C98C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E974707-E81D-46AA-BBE8-D9CEBBF5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D7EDF61-8D1D-4308-9D1D-4D879540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92A90E6-C369-45BC-AE7B-41F4FAA2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DE65CEFA-A94A-45A8-8501-A1380CB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0061B41-D743-4903-AD1D-3C23129A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F8693A6-9B72-4D45-9981-0533F52F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1DE74747-B9A8-4551-90D4-969A0FF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4E0F5F9-0E9B-489C-8107-2F1CF93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0558D-14DD-43C6-9EB9-C521F84F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F81A196-D802-4494-92C3-8AE545EB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8671934C-7C53-455B-9E61-7D77C6D6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1B203AB-D3E5-4DB1-8CAB-62931CA1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4D678AF-081A-45C9-AB11-45F10422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D03DF95-8C90-4218-B734-8366B637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447910B-9541-467A-A94D-5FBE6720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2EE9071-FED5-4BB6-B919-FF7AFBB2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6ABD7D4-4C45-4317-A567-E82555A2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08BBDCB1-5BE1-4625-933B-792C9246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9BBB0DB-8741-43B4-B318-F88BFB7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5F084-85B2-4135-BE15-60A56ADD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8B6C108-385B-49E7-A25E-422ADC5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7E54015-028A-4E0A-B651-B610311F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371595C-4570-4D90-9291-20C47C5D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844F7E1-C11F-455D-9D91-1DA66B29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E4EFAE5-4CAC-4230-8ECA-73F4302C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1107D6C-717F-4B7C-9742-41A3810B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8DC8759-5770-4266-88EA-707EBFAD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831973B9-5160-4036-A38F-BCD873EE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14B6E82-F5A8-46B4-A8B8-6B57F222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2EF807C-B27C-4884-8E27-5544F656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8A2AD-9F96-4E11-B0E9-F826F4C9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6074D6A-802F-4B1F-9413-DDDD8EF5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EA74A1D-7A34-461D-8B35-B7E7E337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7974230-9E06-4FFE-845B-B4E600AC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D8B79C3-67D1-47C1-8442-4D21760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2975B33-054F-4039-B726-8D23CE5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3244A23-0FDE-4FC5-9231-E9998F26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9036CF7-2A57-43C6-9568-78FAC438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AFAD6A2-FF0E-4F4C-899E-3E01452B3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C41892C-574B-4288-A1D6-FC5648EC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921F3B1-AEF9-4D57-9895-D44A67BE8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8AE3B-93FF-4E82-98C1-7EE80942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5EF19E1-E9A5-4C3F-887F-F0331DBA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7D974AD-4758-4952-BAE0-241C5052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E0053E4-E86A-4E58-870E-2BFABC36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744DA45-DE9B-41AD-9C16-3518373B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87B4005-343A-4E31-9C61-27F21107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39390972-EC6D-4048-9FDF-E8C393D8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D8A6B9A-9F36-4548-9FE9-68D3CF3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81C68CB-7902-44F7-AC5D-78407860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C088CE4F-7009-4B42-9136-717AECD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566AB56-C701-42EC-8C96-F5BFF003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64447-D0D7-4517-B2C6-5D14238D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4F0CA7D-5E48-48A2-A7B3-54E77CB6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3A87DB0-C7E3-472F-8F08-B57130CA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3171DFB-FAC2-4F28-8801-E54644EF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CFEDD40-29A3-4959-94E1-FC19B921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ED193A0-C2D8-4378-8139-65F01E7F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88959FC-02B1-49FB-BD3D-04716B36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FC69C34-1B35-47A3-9235-DCBD5312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3D190FB-765C-417F-BC7A-714347EF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695F4406-8524-4193-9E2A-DB9CC77C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C64B72BB-790B-464B-A720-18BEEE37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5763A-CF74-4A21-BEA6-37BEC269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7A88E49-88B7-444D-B83D-D7AEB4B3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898C7E2-45F4-4C1F-ACEE-376E74AA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E0D29CF-931D-42F7-847A-B1E80B3F5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00E38FD-F855-4F67-B41D-08A09CBD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4B17A66-9A80-4201-BF40-1ADC72BB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208288F-4715-4125-AEE0-BD25D9A8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6E8A072-0DC1-447F-A028-5D81D1A6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FCD9AA2-3B4E-4E60-AC50-2E2689D8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EAF415E-0D1A-4022-B93C-B917EEB9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BC9C7AF-2401-4BB8-B6BB-6DAAB408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3C473-5126-43A3-A1E7-030B993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8139CBC-F486-4589-9271-CFEA81A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16EF77AB-F4E0-4DE4-9368-39DC3053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637402B-13AA-4B99-82D3-1F397EB8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5EFC744-6ABA-44F4-B7FA-DF7994D5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9B7AE39-D080-49B0-8AD9-E86BDDB3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40B98E3-74AF-42F0-AFA8-867D52CA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699778D-3BAF-4699-931F-71140635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F6C2CB6-3DBC-4A32-8069-380EE751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CC10F69-0EF1-4887-B3CD-28F4E01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A9CC267-B764-480E-8DEF-04A31F66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2CF2C-2246-478E-AB3B-D81451F4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F5BA08B-1BD5-4249-A649-DE10A6B5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09DE953-211D-43B8-B73E-157C1D1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BE6C7D7-55C6-450E-A76B-4F10ADBF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31DD81C-C43F-4A72-AE5B-305283D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89448782-8D52-49E9-A9D7-5EB43AE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ABCAE55-3DB5-41FF-A9C5-7676FDE0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61C8497B-20DB-402F-8F02-F3701240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3304745-0ABC-486B-AA70-501EDA3C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6CCC5513-50A4-41F8-90C3-9C2B69F2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12D8421-F8D2-4B87-B871-B1726536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6A0D-143E-4281-8A79-8CE1C8046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ACB89-536D-4263-AC5C-3D740A74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697F7E5-254F-453D-9AB3-528A1D49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EE823EF-2363-4D5A-9E3B-C7457F5F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764641C-D675-4F9D-905C-84ED4811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F140405-4382-4D88-B5C2-B065FF72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7AB9CF67-CB76-4C75-9714-E58D651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F0CF84D-5115-4D15-B695-6E29FA5E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B11BFBB-DE62-4CA8-ADF4-744BB199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25C92DCE-966E-4C2D-83B1-9928C94C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2BBE4AFF-91A6-4167-B2F4-DD1E5ED8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C3A3727-F091-4F58-8272-2C18D753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6C1A2-BF3A-4679-ACEE-2C1F8DFF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F8B7C97-30E2-4447-BA36-32294FF3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9FEF343-C14D-4354-B87B-13282EB3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8B07074-A90F-496E-8D02-5CF2D356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7A9F876-A0D2-44B2-9FFA-7C9ABD06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1C0EF629-0CFE-4544-9460-01FF2D67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6DB2B0C3-940E-4923-9723-8252935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845676D-9383-4393-A18C-18EE7664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5E1C0A63-324D-4A97-92CB-8F8A0A51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C26571DF-516C-4F89-AEDA-FD6CA16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89E3572-1182-4ED8-BBEC-6931D86A1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646BC-4657-494A-BF08-E14B2881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FCE8F3A-3928-4EDF-B735-57C803B6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79E25CF6-918C-41E7-9DD4-C1A35198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A1A2D15-727F-4C9D-A49A-B4651740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8964C62-1442-449D-9CF6-ECA92317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7F45505-A582-4860-810A-0124FCB8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2811DCE-83DB-442F-8394-3A41D8A8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E919FB6-9EB9-4BFE-A988-0E19C65F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594FF10-161B-4A6A-8AF0-B7E04BB1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F69E0970-D609-446F-AECE-E1EB55D5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6B056A52-5BC1-41C7-86FF-8D94858F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83E14-0AB0-4383-B8CE-926F5FAF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D067EC8-C3E4-45E5-8215-43746637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E9020C43-9858-4FD9-9E14-69E93A55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CCCE51A-C7ED-4032-8581-C0827CFF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11D3BBE-BD0F-4BA5-8E51-331C9BE2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CD69252D-6E87-43F5-94F2-E91D3080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156A401-C715-4765-A7FF-41202543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20AF606-EA44-4EC7-8DC7-1924DF7A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BDF5426-E6ED-4CF4-B8E6-4DCF89F4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D0721852-7AB0-45D2-8172-DBED02B2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DDB763A-3A05-4A39-BEA0-0126372D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C98B8-72F1-4F74-B18F-4F6F285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0532C8E-0B4F-400A-8779-3163F67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B46289A6-A5AB-4750-BA6B-A08E0BF2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E3AFD3A-8586-4D66-9D6A-70C07BDB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1CC2AAE-7FB6-4876-A27C-E678878E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47A587A-F717-4A29-8473-9FB38002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3BE9C34-1692-4AD2-8131-1552D41F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0888F1AA-8F97-4C2F-9850-0BE5241E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0FBB156-9520-4AAB-AF45-9BC7BC1B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3956EA3-0A3B-4196-9D96-3439FB7B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4AFE0B5B-7196-44E2-B5AA-1339C92E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D0834B-F955-4B4E-8D24-D44EFC73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F3E40546-B868-48E1-AABE-9012CC5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12A3718-0A5E-451D-A7AB-3BD2A779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D1CECE65-6475-44D8-813C-EBECD4C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AFF020D-4773-4EE4-9822-C8116C9A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5B84A0F-B057-48CD-BEC7-8D90601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120BA2A-54A2-4F3A-B936-DBB676A0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70EFD6CF-C9D5-4245-B645-E1B65041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98C5029-70CD-4CBC-8FB2-AD7FEA2D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B574A6E8-B705-45FD-AC08-FC7BFF4B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0520BDF-A696-4A75-9B8E-D580F389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8B0B7-9593-45D9-98BD-BEE5A675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EBF614A2-3077-4324-9587-C55A4A6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F19D837-7D71-478C-A7EC-27EE8B81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A576A72-C3EE-4E6C-BDC5-0FE44E0C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D96FCE7-DC4C-4C67-A845-F4C29E0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3B388261-D2D4-499F-8B24-2A7F118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40D2F69-ADAD-4695-946A-EC725129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80F9116-AECE-49A5-AB2C-E1B8C986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5A8786A-3AB5-4B39-A464-A4B16BDF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6C9FB23-5E30-4026-A5CB-0B4D2062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5144DF7-5086-45AA-98B0-D2E7372E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E16E8-52FE-4193-9D05-415D9049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33B24D7-CD32-4470-8E4B-5D566430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34F1DFE-D7B2-422D-8F9D-BD22AF12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D4C22AB8-7864-4447-BF41-F261F19A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4B974F4-5CFC-4345-8941-E537D7B0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E52ACBDB-A8A2-454E-BAD7-FC14F2C5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C08139D-CFB3-44D4-A640-2A8A4C61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2DE4FB7-0E7F-4142-8171-FAE6851E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6C20A769-A8BF-4AA0-83D7-6C16B86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3C4FB5FE-98C5-4947-A97A-45E36E45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893AFCB-ED1D-49DF-8F77-32CE40A1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7D51C-8A3A-4298-ABBD-FB6175AA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8739E887-4176-41A2-8AAA-A01BBB86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8CAF4AC-C43F-4C36-ABB4-C1E2076F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E4530E10-FDBF-4B52-99D6-741DB4ED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D8315C9-5C2C-4728-91F7-10B9E43E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AFC5267-5885-4224-99EF-65F4AD81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728966F-0611-4055-BB07-5782DEB0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6517984-32E7-47CD-89AB-56F1D8AF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B8DB9B4-15A1-492D-9D22-0AE100E8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93A6C81-D584-4255-8189-B6C722D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D6B080E-8D8E-4031-B5C3-4CE313E8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CB927-51F9-4CF7-A34A-4EC1F59F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1880168-EE61-4E30-9F48-11F247CA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598CCE6B-A848-451F-98EC-110D4B02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9E28723E-024B-4BA9-94B0-C664B72C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00D4EA2-534E-4826-939C-C7E13310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210DD9D-4D21-47AA-B310-E5B4F936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46B6A68-C20A-49E9-BB6C-CE5508DB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A650524-6413-4A59-95C5-CA0411AD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A1FCF68E-2F57-4FCD-8E7C-0C1397C0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0381EE5-5536-4700-8E25-812BD8C1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124A0333-A3DE-41DF-82EF-B13FC20F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BFB4-069B-458D-8B4C-5D2BA134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5D94C-8739-4D15-A46A-599CA05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48963C63-9D7D-40A8-84DD-EAD9EAB8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EC4A8B8E-A375-4E9D-919C-3B477593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AB621B3-DCE0-4D8C-8814-4EFEF5C0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BCF21FC7-6116-49FF-BACA-AB31BEBF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EBCF928-EE88-4D69-8682-D4697BE1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80FCBA3-7897-4A55-8A5E-A93365AE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9FFA844-1A68-4215-888A-137C5F7F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98B9103-FD37-48B8-AA64-43218121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0778E5F5-7510-49B8-8FDB-843ED5DF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C05845F-C2C8-418E-B270-0EC076F7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3A7D1-1643-4A5E-8ECD-9870A17A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A06E219C-411B-4210-9F04-01694072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C0D94C0-AC8A-4741-A2A4-B45820B7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6D6A21D4-0E3E-4860-9191-79775104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E30D5C4D-8748-486C-8BAF-6A4E9CEC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67687BA-2B56-46D2-A28F-30D0B3FA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C10CF64-BD2E-4E10-B52D-A06C474B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9EF5E93-34B1-443D-A12E-6255DD98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17DB73E-FE2B-4904-A842-774B7427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82A00CF6-1C18-4AAE-9A27-CB07C990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D2DA840-7B92-4E3C-B15A-F61FCC1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884FB-8450-4DCB-A11D-682825E2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3B0DA88E-F562-41E1-AB16-845E0349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AE98D5E-199E-45B4-9F54-5ECB82CE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4906D37-F4FD-40C4-A7BA-D25B4146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9A9D11F-23C5-45BC-A632-1AB1F642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34DCA3CD-6866-4285-AD48-14277E9B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11EA4A3-C386-4546-8001-6DA5A46E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2D54EAE2-C437-4FF7-831C-2944AFEE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B821D74-8F9C-4073-B1F4-67D9C13E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4671B748-554B-46AD-BE4D-AD3C1B3E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0CAAC08-13FB-4405-A207-B2A1B0F64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D1EB8-1D0D-4E69-BDA9-86E96B20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C1E5ED7-9195-4901-8BE3-7F3E78B5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9518736-85E5-46E0-B65D-721661B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4CB44DE-4254-42DC-BE08-ED78C80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7F2F4B84-B5FB-4C03-9AD0-2F4AFF58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6D304F3-6570-451B-82AC-F6A83330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1631D67-A466-40B3-8A93-E1DC340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ABE3FF3-E0B5-467B-8448-5FA4638C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4960533-0EE1-4086-9054-4D6D0109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AB7F6691-2A9F-4BF0-BB79-6EAB197C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F596146F-1738-4234-B9D9-658916CA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9A77A-74F4-4161-ABE2-508E79A9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3109AC51-34FC-4948-A99C-2E36BDD0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57B8B4E-92B5-4B51-AE06-E244E911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71648063-5AB5-4CB0-8298-9963C8A3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F6F582E-7A73-4E50-9371-3BC7213A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F4D7C6B-23E7-4262-AEE0-D9503F6F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429AAED-C855-4A2A-9054-1F878A76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02B3349A-7E1D-44FB-AEEB-DF563DE3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0562D2D-28F5-4D08-B579-73BCC2EF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E10AB10-37F9-468A-9226-685E8A8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0E94B5AC-7822-452F-921C-E1DFA351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96417-18AF-43E3-8304-D3749DB1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F5D25484-BAFD-461D-9A01-0265C32D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87FF6B93-FDB1-44E7-8B87-9BECD6DF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A72F531-F428-4555-9E9B-2632E7BB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B0B07B7-DEC1-44E7-BB26-6920DEE1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A5841DB-7A4F-4A4A-BE80-B284CA10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F0B4D42-59FD-4B9C-94B2-33217CA1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D228377-38FE-4FCD-ADE6-2EE8103D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C3A2BC8-983A-437B-B07F-6B6D2583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BBECCAAC-D00A-49E3-ABC2-3504BC8A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03CE1C9A-DD9A-42D2-A5E4-6288108B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14AEE-EA46-4C77-B223-C3A4CDCA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1A928561-69F5-4D53-8DD0-170778F5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38C9D847-9C82-4419-9311-42B3921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2C1E572-4C6B-4B20-9D8F-A73E4DA8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7897B911-6E1E-449B-B4C8-92F7714D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546DF8B-6B6E-4329-BA1F-305D7730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4606890-1422-4BF4-9145-A7A1FC93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1C492AA-9472-4423-943B-3BD51155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BC0B984D-E888-4475-8B14-8AA390FD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CABAEF1-E6D9-48E5-86B0-1B4A2E69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72C770AC-E8DA-4C00-AE66-232FC447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7B59E-4B35-4850-9699-47547051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0682007-056E-4614-B456-01B78E09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C745330-74BB-40F1-93C3-DEFB65B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9415BB3B-413C-4D47-9536-EC0F628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BBFB1BA-4551-448F-939D-4B0EA0F5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93D2C0C-4D23-49BC-BD23-7F70B7A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DDCA5594-4ECD-48E9-9555-B18BA465B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38093D4B-F385-4EED-8187-DC560D54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1758883-1CF4-4237-9E13-20780282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55AF1AB-C69C-4DA3-BD8A-B7248442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322A4E3A-D1A1-4ABF-8591-CE0438EA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54017-79C8-4039-8A39-26007D60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96D3A73-3774-410F-B0AF-932DDCC1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FEA0272C-03AD-49F0-ACA1-F141C8B2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AB49B61-C393-4720-A3FE-C6DCA66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0436F84-69E8-4509-B4A1-C8DA789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1D11F43-DEA1-4FB1-8416-E7EAA81D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98BCD14-BF29-4D6C-A9E9-548A2A45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81309C5F-3D4C-4B7F-93DD-892A1D4C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CC2BC619-76E0-4118-9F97-0659CABC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48E83899-EA8A-4965-9B9A-597C67D55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FBDCBBE9-8EE2-4DD8-BC46-5B45A221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5E6BF-1BCF-478A-9CAC-C26EED0C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DB274A4-59A8-4E3D-ACEF-5D87F670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42FE300-BAFB-4863-8029-33539760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022F197D-B24E-44BF-94CA-C08C29EA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73220FA9-8E8F-4F89-BDA1-6D9410F5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5A84FB6-1AAB-4336-B4A9-5780281E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844DFF9-F855-4D64-BD40-00682E3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0154BB2-E1EC-4039-B37B-424D5C8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0517AA1-72A0-42F6-B007-DAF82590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67CC32B-47BA-4B93-AF1E-7265536B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6E0C2DB3-BAD3-4EA5-A473-98E612BA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D7D-BAC8-4CBA-BDBF-A5504593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20256-8C07-43F8-ACA8-810EEAC9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3574F1E2-9819-4DCF-AEF6-6C6D26D9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CFA54D1-1280-4406-8675-F4B91B1C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6BDB4A9-9D37-48C3-B77D-A51058F8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8AB769A6-EE71-443A-9071-0F8120AA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76F35AF2-A1E2-4484-B629-ED972C6B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785E603-F35E-4E0E-85DF-80F3E894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D7C7BC2B-1AB8-4242-8FFC-59F4C523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86C5757-106D-418D-84BD-AF7468A0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129CD58-CE98-497C-B221-7A88F01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A81094A9-27ED-4410-868C-E838C44D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5D759-A18D-4121-B2D6-6B34CEA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BF06A21-D2C4-4E22-BB34-5462BA67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61A851A7-ACBF-4ACF-AA8C-AA86E08B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F80D838-331F-40B9-88C5-EF56F799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C0F3F42-0F19-414D-BFA1-D6762572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D869783-9933-428F-B8B0-F03EFD3A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24ABFEE-A174-4E50-AD1C-54E080B9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E8B228B-A5E9-4CCB-8073-A632C8AE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FFD40038-30F4-4C3D-8C60-828659D8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6EEDB10-019B-450F-A45D-0E2887D5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B461198-3CDE-4E9E-8B38-6356CB71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B4E3D-36DA-401D-A0AE-4A0EB33A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7D0BC0D-4930-4716-A2B9-EFF2CAC9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7CB7FC89-DFAE-4977-A08E-BA81A620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9CDD9052-981D-4674-B04B-72477B9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2D4C3BD2-EDFD-4957-BF11-E945B348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521B0A5-A951-41D8-AF2E-51E09DC3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97D9A819-882F-48C4-8F69-9A01BD2A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106B018-4469-46E6-A9B9-5DA92D86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372E0164-B240-41A3-8A47-95188F3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82C667A4-BB30-48DA-901F-0908D2DA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2D945CEC-E0EB-49E8-825E-393ED255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F16D48-556E-4566-A727-7FFEC33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5E5380C-EDDC-47B4-A3DB-58FFEFBD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18B73AC8-4117-4343-B134-BB9EFA5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826BE86-CA06-4DC1-8E3F-7A976532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74141CA-AE7C-4595-9CC2-2A5B8592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6AF25CC-54C4-4864-AD79-8125B41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513760A2-9002-48C5-9C7A-91A24046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350BA6E-7B76-4D5F-AEE3-CF2B25E9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77B8EBBF-810F-473E-9961-42991DD0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FD14D0E7-8D51-4195-B473-2ECD4E6A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79EF8C4E-E252-463E-8B2B-03C971A3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0A759-65B8-4F1E-82E9-FBC37CDF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37A6B56-699D-4205-BC3B-CA290C45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5B779B9-2D68-4EA0-A920-6FD60D5E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E6E64C3-51E6-4FFD-994A-014865B3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EE5A7484-8683-4206-ABE5-96E3EDA4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385F821E-2E1D-406A-8E7D-C71890D4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50F385C7-8F95-4143-8D9A-80048FDE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E07195A-3C5D-4CDF-A7AD-432582B5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87AE296C-0A7B-49B3-B960-F2E64811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376134D-C4F7-4ECA-A289-B73FB0D86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1D149CF-EFE0-480F-830A-DE10C57B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A77D1-C254-4CC6-A73C-F361A146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5A61F42C-A84F-4B68-AF32-90987304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81A5C64-2B2B-4A6D-96FB-E78175C6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84C8DC9C-7E97-4311-8363-F946857B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F7F9FA2A-3F89-4D5C-9F5B-B8524481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788520B-D71F-44E5-B31E-1CE7D6B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3DC86B6-C510-450B-A7C8-0154CB90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555F864-55DB-4381-B716-B4C4E0DC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02DA2618-FF00-4B11-9D4E-561F7E7F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3C714E8C-F92F-4095-89DD-E5C712EE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A6855F0E-8EBE-40BA-8628-5B8E1AEF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320EBC-2E04-4E1C-A56B-F08F2410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B20DE401-CD7C-4185-9ABD-2997712C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0A5DE49-D0C6-449F-9C1E-6D83A24C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EFB3A89D-4C07-4373-9019-4C8B70DC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FF35D9B-A1A1-4A56-B0E8-D8B8F221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F9DF714-D438-43FB-8A8D-06FF41E7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5988865-BEC5-4264-8529-182B7DBB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BD221178-B3C0-46DF-9988-D2B34BF1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5EFB4E0-A371-4862-B3F0-9282471A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253C3A88-0B72-44B7-8406-C1C9CAD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F582554-58B3-46B5-B689-BBF04E40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32652-1383-4A08-8EBF-1010A832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5BD7BA95-882C-4F4E-914A-902EED98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FEFE620-C553-46A0-A856-E439DF60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5F0ADC9-560A-4624-9519-513952D1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115A5D1-D165-4020-B5C7-898032CB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9A2A938-4F9A-4E4C-8E8D-0A28A738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7BAEB1C5-BC9F-4955-88C7-C7B9635C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5B9BD9C7-728D-4E84-B5FC-DA519775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D311E110-0A53-4813-8E89-56D2FF1D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5545FFE-1E92-4731-8928-1D8DCD08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30A481F-89C2-4E8E-ABB9-6E56A43A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54A52-DA44-410D-A2AD-EFB2E24B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8AB2B9B-1132-4C59-B736-0AC8374A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EFF1AF8-4CC4-4EC9-8BC0-2A7FA171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D3132C2-D4E5-4D1E-8A19-29B2E720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9E83AB4-9F07-46C4-AFD0-9129B29C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8114657C-6E38-4EEA-B95D-3E1799E9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AB11E80-6651-4B57-893B-F604A15B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59EE3B8-03A2-4BB9-B9AE-F3D8C69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B29B2BB-CFEE-4388-9D76-ED635D52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C32A8C37-69FF-490A-A36E-E09AE5D6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32A477A-80E6-475B-AEC1-258997C1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54A86-4274-4C5E-BE7B-032DB785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2590124-5701-43EC-9091-C9EFABC4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C571FDF-3EED-4B37-873A-3F9E1049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DA86A11-86AF-4D75-A432-CD9BD4B1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823E2F75-7AA3-41A0-A8A1-FFB64311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A06EB95-7471-41B7-9218-EF3667E7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D2A2D7C-8CE5-4117-8C91-D9B46264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73501FA-8786-482F-84C5-AD257409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DBD17EA0-F61A-4544-A9FE-CEF6114E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05F64181-89F0-4F30-92EA-0D154B5A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C8B895CB-41F2-4C97-82F8-04C986E4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66C4-8923-413D-AB2D-9C2BC5C8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29AB3D-6C1B-4EFA-8B6F-CD4DCBEA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D45B40D-8B22-4A7C-AC55-ACCFAA8A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E9C6CBA-CB08-4DB9-A9AE-BC1779E9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3441747A-360E-4164-B4F9-FC0D5F55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8F5C569-C5BA-4B63-B3D9-966AAA97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FEB50D4-2606-481E-BCEE-90C6DFC4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951A5AF-448A-4E04-9D9B-C87F1620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E454174-FC79-4796-B364-87B0DFF1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784BDA33-F9C6-4F02-BC51-8CA792F5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0FD866A-710F-4FF0-A247-1D30C334B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33BB9B3-352D-44D4-8499-3660CA05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3A862-A4D9-4241-B7AC-E19C8BB2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70ACBB20-8D61-4434-AC06-E72CCF2C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68BFEC5-2B0A-4719-9D6B-1BE5CD8C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8809F8D-87A1-47EE-89D8-6EE3970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1054ACB-22E7-4C04-957A-C10AE74D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E575BD3-B20C-4E75-9059-FEE63EA7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C8433F6-7850-43BB-B69A-A32F10CC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F3DF281B-7B5F-47AC-8DAB-00D819E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DABE993F-83F2-43DC-B4E8-F59E7AA8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4577EFEC-8DFE-48D7-BC44-B61972AF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C4E4B147-4D98-46BF-85C7-D0DF5BE1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8FDC13-2682-408C-9581-8550DE04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18DD22F-8F79-4446-8989-6449F397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D1857B59-1B99-4052-AA46-4E6D5FD1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532EE30-C7B8-4F30-BC49-32E7F62E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5671BC7-43F6-4B6F-A2B3-D54DCFD1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6E201F3-734A-4AA8-9B4E-C784A367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B1B50B6-9F0C-422D-BE1D-B159A6E6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F487458A-E47C-4D44-8F6A-8C8EFD46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AA70AED1-F150-4731-9E6E-EE3F6A6F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E276B259-5285-4F34-BFF3-02A521E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146FA62-B51F-4E7C-B1BC-0BCF7C7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B6EC79-5ECF-47C2-B4D1-89D57AD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2EE53BCD-2C8D-4E10-BC0C-8EC26ACB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3A0FD9B7-1570-4BF9-A41D-E67AC19B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6C09CA26-BA0E-4F12-BDFA-0A743E16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85C198D0-362E-4BC2-87C6-2E6487F5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0425CD4A-311B-4150-AE6E-F3090397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9024BCD7-22E4-4E96-AF54-EE3D489B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FF142F63-A0A4-42FC-8FA9-7D712D0F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4CAEA3B2-CC5C-44FD-9CE2-7ECAE87A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933DB414-56CC-4D90-97F2-EEAAB184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0655C271-74EE-4177-A5A7-9F34C45B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71181-EBA6-487F-B5B8-6EACCC2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BD18A4B-B543-4C9E-8C0B-27FF8F55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879F794-B9BE-4CDC-981E-F917E40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B2CEA2A-37A4-4A18-803E-6EA0107D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AF21B6D0-E119-41AC-8FFA-60C17B92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7FAF94A-36A0-4658-A976-8A2A4F65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DF1899B-19B0-4B08-900C-E55ABD7C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9059291-E039-4C32-A095-05BC02C1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1328839-9907-4AFF-8375-5AD37D04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886322E-09EE-435F-B6D5-1ED37DEA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856E944-D824-4143-BD40-AB7188EA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B544A-E4B7-4CA9-BA4C-79EF98C7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1B154762-3C76-4F9A-9817-5264256D8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B8F6028-EFB7-4BA8-9C86-078D2165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E4777DCF-A193-4AFF-BA94-6C74A076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D9B581D-47D1-4315-B0F0-183045D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CEBE16C7-03D8-47A8-A5DB-253E737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412F77C-5443-4103-8631-4706EE8D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8D37534C-50E4-4BFD-B404-1579984C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32756C3-3C4A-4622-9CA5-9D6620D9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7D4636E-8E90-4B3B-AF56-24ADF472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056B2706-13C0-40AC-90FE-986EFA05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EF063E-B5FE-4CF0-8037-A7D4C4A4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E926FCE-6090-485B-8D22-355C124B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3458B1C-84AE-4753-84A8-64B1A588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9CF55AF3-2EF2-4990-A617-A8E910F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AEFF0032-A888-4465-9BA7-823AC65A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2D8B413-E380-4937-8731-05E20F30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DE60FAC-E7CB-47E9-8465-E6815CE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147CE45-DB08-4D1F-BC46-1C46203E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60724A65-A596-4CA6-9531-1BEC0ADE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EB1E4CB6-72C6-4783-BECF-C943A02D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DE8085F-6293-4095-A866-B06E5AF9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B6A53A-B41F-416E-AEC1-713859E9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33D826D-67DC-41B6-8A91-E2884780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6249CA8-94D7-4296-941D-4A737C95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89B97954-D34C-4D0B-A985-27FF60F4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0F1261A-9825-4E99-AC01-83868CDB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2531009-AB19-49C4-A8DA-85D0FC38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4FADCEB6-0E95-40B8-802F-DA89B2B1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286B1F4-6E24-4EB6-A0F4-8C22865F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44BE4EA-5AC0-4BCA-A44A-970DA8F0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07DE4AF-0389-4456-8B37-30259C76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76558226-5626-4842-8C32-575C1D2B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02DB56-3759-4A58-A5F9-D3DF459B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D84D16D-5070-4FB6-AF6A-8A5A59CD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4CFC241E-A0C9-497F-86E9-14414419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0F4DC284-EA1C-41F8-9855-94980EFE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F960CE82-86D2-46FA-9C90-85E22EA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6A92E0E-5310-4326-9ECA-C5E1538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2213825-2D83-44DA-859E-E8244A8B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BBD13D0-2370-438B-89D4-9421C9AC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71ED69F9-53BA-492C-961D-4A4F3EF2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9783344-857D-4829-9D98-6FB7204C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E2BCCFDA-87E1-4F61-8B7F-91E4B24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C2EE5-2C2C-46EA-84FD-47607AECA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C744CB2-99EE-4E35-93EE-22C48B80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334C41F-963F-4968-BE9F-08FAFA57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2A9D5828-4649-41DF-9629-AE52629C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0B7AC12-41AF-4CEA-ABC0-FFC7F1AB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9F7B62DC-BCBA-4F76-892F-C09AA84F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6A34BB4-EF15-4047-825E-6DC47221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D0A96C77-DAFE-4C2D-8293-A9333E15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2364E8C-EB65-4C8C-A8F7-E4D5A82C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C003608-35E6-4FE8-83F6-DA9AB317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20E24DE4-1CD5-4FE2-876A-BF614E83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E4B2-3BB7-446E-B292-95F12F6D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1462E-9F27-4E59-B5B5-36851C27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9D69D9BD-DFF6-4C5D-A023-F3FC9B65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5095598A-3CD6-40FE-BCF0-4ADD052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01E8238-1BF8-4889-AE74-894E676C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81EA5E9D-224E-4753-9CB4-C8DABBF1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48542F8-E3F3-485F-AC27-C5231178A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680CA36-EB91-478A-AB7B-6F5952949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B221715-BA6E-4BF3-A1E3-33975ACA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5411CF7-20A6-4154-B692-E2F68CCA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25A5649C-93C4-4AF2-89F7-E84F2CF7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44B483B-2AA3-4533-884F-EBF66405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6BBE7-5C5F-4217-B937-876F6D1D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748AF8A1-A6C2-4E87-B5FA-7C40515E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0108778-CEF7-427F-A2AA-F12E3356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6147B692-C019-4431-BD38-FBAA7537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65A112A-F302-41A3-A9E9-21171CC2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5C0627F-5AE3-4220-B245-08540B67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8A5340B-00F9-4DC8-8CB7-8F08468B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DEE3DF1-7854-4AFC-B5BE-D7E8628A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662A702-48DE-4F50-8A46-8B41030D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A4C45C1-5FE5-4735-88DA-B42D8F74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3F847E2-ED3F-4AFD-88FD-BF1844D6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4F5EA-CBAA-4A59-9EE0-0EA66452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3CE2FEA-BA4C-4E78-B9D2-1B57C55D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D2F9E4AF-384E-495A-B93F-8CD83920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357EAFD-7DB5-490D-9BA8-0D302CCE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ACDEF6AE-33D5-43F4-96AA-4155CF35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78640F7-E645-4ED4-A294-616E6CA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1E3A6187-AC01-4D65-9A70-4A99121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9E75D583-2038-4774-A634-481BE4A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9D8F362-8ECB-451D-9FC5-87339DA7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8499CDF-20DE-4F87-A092-1EFC6DA0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ECDD978-8676-4B91-B880-ABD4AF3B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F16C95-645F-44AF-B6C4-7AAFE636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19026CE-BDC7-45EF-B45E-B6051A67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B08C150-32C5-4573-89CA-9C7937A5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FD805D3-1B9A-497A-96E6-32FC49DC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4304B98-4FD9-46EC-9A8D-9F8D998B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2B33215A-0712-4CCF-A72E-8D23B003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BD1F895-1B6C-453C-AC3B-306ED845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6AE292A0-860B-47EE-BBF8-735292A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8345F173-51CC-4E89-8B8B-038881D9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04C4C0E9-51F6-4CFF-AC97-5D56A7F9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6D07ED7-CA15-406D-A899-759D4490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07725-C2EA-4B6B-8993-373278E5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E62065DE-1E03-48C2-A94A-FA157D10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CF8EE4A2-DB31-44F5-B352-A60020BD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45E412AA-BAF5-4B16-968F-A81D478E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458D6F6-34BF-47F1-A993-F66670E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CC69318-C22F-4C05-99E1-3211E0E4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8EDB9842-86CE-4C0B-AC99-BA15648F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6426C84-3E6E-4915-AEAA-7367BF93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E000B890-B563-462C-92FF-ADE87FE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E6A2854-2864-46B9-B455-2AF9CEE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90969605-65A5-456B-85BD-CF64C7C6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04D7E-CC11-46A1-AA58-64A06EAF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A7966856-BC8B-44EB-A4A7-760154ED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9FB89BA-39F9-4B30-8F92-AC6867AD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F2A6C26A-7447-470A-86F3-C51DC92D9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7C54E3FB-537F-46D5-B4AA-CE3405A8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CB389102-A49C-4DA7-A874-89617DC0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05B3CE3-8D94-43FE-B3D7-C2D5D501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95841CED-510A-4A2C-903A-DF61F0DD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692A93F-51AA-46CD-8C0E-F82F4318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74652F8-5989-41B4-ABCB-758FA177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B4AB28F-5289-4E82-B3A6-D596EE1A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B218F-6911-4585-9628-D84895AA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BBA087D6-EEAB-4553-8EAC-3F9DAA4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AD6B3B77-FDB7-4EF2-B60A-2613F506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5047BCF-225D-431C-ABF0-8B778D31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65D38DD-F171-4911-AA8A-CE4E937D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2AD1ED6E-4AF1-4BC0-81E7-5FD8F414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6804728F-B1CF-4599-9F71-3EB1817A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58EEF14E-01D7-4A19-A515-28396D17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20C1BFA4-8FB3-4CBE-9A28-8C35262E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274BCF05-7AF2-467E-95A7-D03BF279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832C2FF4-FEFF-4E1E-A1E2-CB7B67BF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1A14AA-D91B-4F7A-89C1-6812745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05C80B04-31A7-4D3A-AD27-C7C45731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2CC8DAAC-AD3C-44C7-B26F-F7B53B5C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D4D05597-14C7-411C-BC24-9063FE76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BF9BE78A-0D1D-4B2A-8B1E-B88743D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40F724F8-8925-4439-9176-A2E92D5D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3C5CE113-8EA9-4593-B166-9E724410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42D261ED-F2F3-4CC4-AAB2-B141D123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78C0ABDB-1D57-4B6A-93E2-460BD590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7C663DFD-F5C7-472A-AEB1-B9AA8E1F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D7C5CF14-CF78-4D58-B9DC-7DBEF3A1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D317A-B948-474C-9CA1-DEF562F7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B24EABC-F5F1-4ED6-904F-31AE9A5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EC80600-72B2-4666-A0DF-0719003F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CB129AC-A4ED-4A2B-8E2F-BE12E7D2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B30BC2C3-A5A1-405D-B1A0-6A9EBBE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6ACAFBA-4965-4008-BED4-80ECBA6E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5B6289E3-9BF9-495F-8128-9E7DF0C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B4D4FAE-8291-476F-9014-4145F2C0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FC4C75A-492B-4101-ADD0-FA4E9250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94EC9930-FD6B-4FC1-85FA-0DC04ADA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B2491F79-F872-4077-A03C-3C60D9CA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59C17A-0EA1-406E-9CDA-3CF5F8F2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9142B0B9-D6DD-4C73-91F2-D208791F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381108A9-47C9-4218-8D41-EB9048B6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C021C542-7BAF-435C-AC69-7A863126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29074C97-CDB2-4218-8321-37ADA2C7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F4D4D664-C5E7-4A2A-A11C-2A2CA7DD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3E32A1F0-18AF-46B7-A20B-E99E174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CFE260CE-D799-4197-8101-AF87A6E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AE61B53B-599C-4D1A-9345-A4F44DAC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D8D9664-DFFB-4AE3-91F1-00333FF8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570B4FA1-E44F-4190-9AB6-6E2AF8E9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DEE8-6869-4491-A30B-FEFD6BDB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8AF38-7434-4F41-A1FA-D37DEF30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A2213382-D2E7-48F3-8DF5-5EAE8C5C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85453E65-C5C5-4BC8-8F3C-41E491F0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66909824-34DB-4B8C-AC9B-7B7C892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83907DB-2FB4-4B9C-AB12-EAE12705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D54C071-7ED7-4649-BE31-098461C5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BB0A903-8E81-496D-A24A-B68F8723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A62D39B3-6F95-481A-A20A-DAB4743F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CA92F97C-8A0F-4C20-979D-52A4BA5D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D35A8B46-08C6-4B86-8B9C-4820A1C8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A12A79D-E545-4DD9-9E3C-964240F3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134DE5-1F5A-4D17-84DE-C44C6090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0AB5D3A6-D388-4DAB-A122-1F9094B6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FF1FDC7-115E-4576-945E-8979BC872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3F33D5A7-3603-45DD-93B0-3402B43B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A8B049F7-6BE1-4993-AB03-8ED3D7D4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80309BB5-23B5-4B4D-81B2-BD65D5C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43EF561-FF54-490E-9003-DA180CF3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9443278E-F4ED-48E9-AE67-583922FA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8B4BFF87-B2CF-42BD-84C3-A56F55AD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98065D7-6C12-46D9-BC1D-7D04BB5B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5DEFA0E7-7288-4405-8A05-2B8D7E94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5C796B-EA31-4EA1-9274-6AE70C17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68B9D6D3-CFDB-445D-B755-528FAEED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D331C3F6-C8FE-464B-871C-0ADAB9AE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2E95399C-7F0C-46FD-8668-84DDCC8D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BD15296A-B04E-4CC6-87F7-1954EA27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6"/>
          </p:nvPr>
        </p:nvSpPr>
        <p:spPr/>
        <p:txBody>
          <a:bodyPr/>
          <a:p>
            <a:fld id="{75BD8209-AB41-453F-9551-8486554B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D25175E4-FF6D-4E6E-9320-1040EE9B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08696E92-9B6B-4260-9FD2-4D4B14E7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8E417912-20AB-42B6-AC50-AAD2D987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ADCCAF3D-BE36-43C1-AAA3-B2DB5954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6A673FCE-3A39-4FBA-B640-DB5AA749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350F7-997C-4579-B682-18FDFAF5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4C8B33CD-6591-421D-82BC-413DC792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B62E7445-B61E-4612-9DE8-BC77E0FD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44480201-936E-431E-946B-7365C19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C9D6BF4A-3B22-4438-8527-BBBB2CAE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D9652641-7518-4E17-A62E-E36533CF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70D735A2-8F01-4A4B-A360-658173A5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9"/>
          </p:nvPr>
        </p:nvSpPr>
        <p:spPr/>
        <p:txBody>
          <a:bodyPr/>
          <a:p>
            <a:fld id="{3F6C4F30-3EB7-4015-85DE-984290ED4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71B0A95E-8D87-4D36-AEC9-6B17BCE2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EBEB77B-9216-453C-9611-38F99D2E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2D9890B7-4601-4BCD-BEC4-FA66BEC9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906E52-B797-42CB-B18A-38D068A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60C8A34A-CCB7-4552-8D64-7D93C8CE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AEC2CDB0-1B91-4008-8DB7-CADFBC8D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0DFC1595-9EDA-457A-9BA9-7C65B9D4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A0532BB6-7A14-48EA-92ED-B3B44442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6900A155-F649-4642-83B0-91E0054F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AEC7943-42C0-4848-846A-842BAE09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539B2747-1FE8-4142-9068-0F37A6F4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D85CCA97-C14D-43AD-B00A-EBA790EB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2"/>
          </p:nvPr>
        </p:nvSpPr>
        <p:spPr/>
        <p:txBody>
          <a:bodyPr/>
          <a:p>
            <a:fld id="{358F0509-E6FD-4C30-8778-EB3413ED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5AA40828-3368-4CC0-8D8B-BD25D8E1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65694A-1BF1-4808-9A31-BA44C369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487606B9-3AF7-4E61-A22E-46248169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881986A5-0F33-4690-A60C-279E0D10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F15B2B1E-ACA6-4BD4-A3C7-8E3ACC80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54D80D32-87E8-4503-AD79-62BF9123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A3ED44D1-0A61-48AE-8373-6EF21E5B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C096246C-7244-426A-80F9-1A745755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97C0FC92-132E-480D-AEAF-15FF45F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B4F243C6-B4D7-4A8D-99E6-309173F4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6E03690D-D959-44AE-90CB-4E22628E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54D2676F-F508-4E8F-BC49-E0E56482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4D656-1EDD-4DE6-A0E7-0ED7887D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5"/>
          </p:nvPr>
        </p:nvSpPr>
        <p:spPr/>
        <p:txBody>
          <a:bodyPr/>
          <a:p>
            <a:fld id="{FDDC68F9-A122-4F86-97E8-6D208B088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26A379D0-C092-4E14-8C05-7F171DFE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A413EC9-2FD4-44F6-93BB-29A6FA7F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EF5303C6-BBB1-40C2-9338-B497A4EB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A1F45876-6526-42BD-8547-E4AFFDD1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DCF86622-B8AC-437B-91BE-657CDC64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A0DDDF6F-847E-4BAC-A94F-008C89BC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4E5F1621-7447-41A7-8E2E-980B135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DEFF0751-D0F4-4732-933F-A57717C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DF47AA69-2E4B-46AA-9F78-59F55240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63441-3076-4C93-ADA8-6CD5B7F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59D3FF73-0814-48F4-AE2A-1102950A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7D6B1C2A-4AB2-4424-A9CA-3D3899FD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8"/>
          </p:nvPr>
        </p:nvSpPr>
        <p:spPr/>
        <p:txBody>
          <a:bodyPr/>
          <a:p>
            <a:fld id="{115A73D9-E7CD-4153-908A-7FCAEFBC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0CC81ECA-CB4B-4D74-8B56-A217484E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B6793BDF-24C4-4C86-A53C-0E3573C1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AD0A3FD5-D5D8-4A4D-A7F8-FF8E5015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C90B7554-B0D1-4A72-921B-0C37D1DF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6D3FC7B2-0284-4722-80F0-64764A56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28D9E587-D168-4625-B8F7-A1496F6E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8723E46B-AC05-4DD3-92A5-7BCFE95C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FB2D2-A375-4915-854C-CA14180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8CC13485-C147-4CE0-8C8E-C87672C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5F20E1BD-CB81-4F0C-93CE-6F47E279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32E5608C-C126-4BFB-933C-F7C7F032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B8386C22-D845-4829-91DE-9DBDD657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1"/>
          </p:nvPr>
        </p:nvSpPr>
        <p:spPr/>
        <p:txBody>
          <a:bodyPr/>
          <a:p>
            <a:fld id="{8C84ACE9-4943-4567-B0CA-24A4E470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E8F329D3-7432-4F46-892B-BDE2A534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C1D68E26-BD80-491B-AD6F-4B726247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DE32FD16-188C-4885-AAC3-D3F6E03E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50A77F3B-5592-46EE-9594-1FFBB713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812F45EC-A23C-49F5-9C7A-7E469D55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6F5FF-CC19-4D1A-A33C-D9DC534E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18CB403F-FF73-4788-B9FE-EC6D52DC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6F0F7682-A39D-43BA-A03F-9E73503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889B086A-3212-4180-8BD4-AB26D0F9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C1510294-8CAF-43A1-A621-908A9FD6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B795316B-FE6F-40CE-815B-1F1309D1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43CD39C9-0094-4237-8F22-120C69B1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4"/>
          </p:nvPr>
        </p:nvSpPr>
        <p:spPr/>
        <p:txBody>
          <a:bodyPr/>
          <a:p>
            <a:fld id="{DB060D71-93F1-4927-8C66-E2B74A19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9398D812-1D1D-4DD4-AAFE-02259D5D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D627269A-361C-4C9C-9F04-FF9EB760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F7CC2ED6-DCD4-4FBD-B036-2040CA5B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8C44-94F5-4F35-B873-3174428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309C9-B36A-4638-AD87-E0FDDE00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9C65FC0A-6A94-4498-B133-97B76D1C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908E3FFE-DBBB-4BB0-96EA-5A74B984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C8395712-224A-4D38-8F47-3A679B65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37334720-98F3-4997-B687-BEA61C0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C5C09CC5-964E-4C67-937B-EFC308B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3689B889-F07A-4CAF-A532-0B364CCE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65AE9936-7729-4D4A-AF9D-1B02A013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22E7F635-A953-43CF-93D9-D23FC4FC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7"/>
          </p:nvPr>
        </p:nvSpPr>
        <p:spPr/>
        <p:txBody>
          <a:bodyPr/>
          <a:p>
            <a:fld id="{876FE59A-30A6-431E-B80D-D96FDBFB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48FE56-2198-483D-B6B1-98473F82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83FC0-8D95-4345-A08F-5BB49F42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549EFC-57A9-4F08-9602-8C463BCB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EFCCE2-B061-4658-B79B-A09265DB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3F4E8-612F-422C-8732-77104C65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B7363-D700-4BF7-A6C6-3A5D65DF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F534B-1A98-4B33-9722-2E005A44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5C506-457E-4D4D-B667-9B6CFBEB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1DC19-2640-4E6B-BFE5-8E929925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982-F08B-4ABA-9E34-1309544A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4EB3-948E-4327-9CDC-C9AADB72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A6EEC-2965-4033-9E21-50F2EEB3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9C43D-0CCC-493E-80A5-3E197D0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C50D4-C2B0-4D7B-81C2-C2532D38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ED33D-30C7-4176-B2D7-3EC5E9FB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EAC53-7F0C-4F2E-ACB7-F7022745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FCBE1-BD42-475C-9EDC-2CB090EF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2BA97-EB1C-4BB2-B861-603E69E2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6520B-258D-4710-A0F6-6138AA06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F781E6-463E-43D6-BCDF-E128361D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B104D-6685-46D1-BA06-74094C19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532D-97F1-46D4-B1E7-36F1DB59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190BDD-AA26-455F-AFFB-9CFEC0C6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52B42-0B3B-4746-8E5C-9F87249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D74D5-E433-4BC3-ACE7-CDDFA596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6A47A-D54F-4791-930E-C26AD365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B1679-D14A-417F-B58C-8CB4A0E8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82E8FB-DF70-489F-94EA-B4C4FE5F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13894-6A18-4195-81AB-A941DC95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01FFF-2C68-43F0-8A13-6BF3937F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9D99E-8400-42C4-82AC-DAB2F771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A202B5-0E25-4354-812F-C8ACD93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63C4-EB3A-4868-BBEF-BEC442E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E909F9-42F7-4D3D-A5A8-955147C6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33184B-CB10-4928-8ECD-2C189B81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1AF6C1-9791-407D-B392-DF158494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88E403-E018-4F07-B8C8-D61E140E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42889E-9055-4A13-AA82-E2A3E4EF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E9C2A-EF4F-4DD7-A29D-1076E0CF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01A2A-DB9B-4BDD-B21E-D75B22AC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EAE31-4CDB-49BC-8A45-AECFF369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931E9-F4CC-4E18-ACC2-A8E5D95F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D2C3B-4A0A-4B1F-8B7E-3FBE971C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3959-7BE0-4DF0-B791-743C40C3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437A17-8436-4747-888C-259E1E44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20136-F8DA-4524-9BF7-C15AA8E0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E6241-D24E-4658-B7F4-81CF7616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DA422-A58A-4885-A97D-5A78B8A6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C30711-181C-4ACC-90DB-38BB2ADE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E82879-0144-4913-B6FC-719BEAF2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14222C-E7FB-4DCC-88BB-A3AFED2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9A8BF-BB5C-455A-9DD8-DBF4B6C7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FB1955-D138-4A4C-AD1E-60673C94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96184-E04C-4717-82DC-6323E392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A62A-C36C-4DCC-AE1F-1F6C2B80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2E583-5AA5-434A-877F-0E1994EC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6FFF0-0677-4562-81C7-774F9EAC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7D4DC7-A3C6-4A49-B6FC-F7DDAB9F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1D1CB-969B-4417-B99E-9EE61B50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082FE-3D65-471A-87F8-DB543A03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FEB507-99FE-4DF0-9289-D6609A87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B63D69-DCAB-487F-8368-7B795953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98AD03-DC1D-45D3-B692-5C0B6B20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65C954-DD4A-4A92-92B5-06503053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054F39-5FDB-4802-9F23-E4A62115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9CD0E-D1C5-4B20-9D97-4F0460C8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FB1C69-B5B2-4F68-94A1-CB86EA3D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6E4FE6-F814-4182-BA5C-3C102266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E747DF-E7C5-4065-B984-1DDA9843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6D3644-632E-41F5-AB18-6319EDA2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7F9029-7300-466C-B1A9-AF88D435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4E1455-8A57-483E-9318-B4DA6CA4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D7C4C7-FF72-4CB8-B660-B84ACA2C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AB94B-31B2-4EDB-9E18-096CACE0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CECCAC-9D7D-4FDF-9A8B-17B0CFEA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99542-0B6F-4FA7-A7E7-FCFC9717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2ACE5-B9B9-4AB1-B25A-FE69D2B5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4A004D-C092-4E6D-B1CD-14E497E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1D5FCF-0301-4D06-B479-3D82FC0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FDD02D-8589-46C1-93D5-C9623756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67D689-B19D-4999-A7E0-900D4061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719E9-D98C-48CD-86CB-5035BEAA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83F79-6DAB-4325-9056-A5201A8D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DC31D2-005A-45C4-AA34-0DE7A090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03FCAE-CB6A-41F9-A0C8-AC9817DF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EC2171-0527-401E-B93D-D098D2D3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93330D-395D-49E7-92DD-EA0B9CBF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38BC-9F34-4FAE-A7F0-A48A1E06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1A8016-DDA5-4DB9-B32D-8789F6D2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9F6EFD-E353-4833-9042-274D78B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F46AD-09AD-4102-BAEE-2D211C36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A3714E-7659-4C6B-805B-22B63C7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3BD0DF-11F5-4CD0-B46A-890229D8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3314C3-C705-45D7-B9A9-FD4C8D42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B3A783-7A2B-48F2-BF65-F956B3AE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7EA3B9-0155-43B3-B3DA-FFD2A0B5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4436AD-8420-4C7F-8C3F-D563B021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58AFDC-2F9A-4701-B36C-957AF549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FF154-2EED-420A-B2FA-996E33B2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2B47C9-DB0D-41AD-BE05-90ADBCE5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7D94A3-DB67-494D-AFC3-0C7C9833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8A5294-9D9B-4443-AECD-DCD5D73B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A0E05A-55CF-4F62-B2BB-7FEC22AD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5C6F68-FEB3-463F-87BC-26480AE4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D82011-D066-4C56-9B99-D850B71B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6FFE8C-6D4F-4564-BA63-AEAF6714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A8FF4C-5F28-4BB4-A7F4-8B5DEC9A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679614-64E2-4C27-ACBF-FD082610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50CC4A-B1E0-46BB-B94E-0D71B128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1AEEE-B8BD-4DA3-806F-611C8DCD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0F3164-EE87-48B2-8996-EF5D1B15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05EC05-53F0-419E-88BC-BD10D205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58CF50-483C-4289-A27F-BB7C41F0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9A3707-BFF5-4A1A-85DC-66999C84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8645E7-59D5-47D7-8678-7450BD4E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EC2007-0D74-4946-A9DC-71F9149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57CB04-760D-4848-97AE-9A3CBDC7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45C216-1CEA-44D2-9C6A-AB2EDD1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987CCE-E906-4077-9ADF-7DDD1E6C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BA1175-FE80-43C6-B753-0C01E2F7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4A31-ECE5-47C5-93CE-C53BC3EF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1175-CB6E-4C82-99E8-15EBB4AC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37F5FE-353B-4113-A5FB-2FCA066F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42EEDF-AF21-4D5D-A7EB-795462D5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EDA329-46E9-4777-A230-2272B211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5AAAE8-80B2-4E09-A76E-CB0D7699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AC1EC9-697E-4174-BCC9-8D1A1F12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D23FD6-D842-496B-8F11-8A4136D7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4D757F-6A3C-4D87-A0FD-A1C970B8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13908C-3E4E-4E40-9396-D17C7EB0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517463-F59E-428E-83D5-9F040B0C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C2099B-44A4-4C23-A050-2E6E0A0A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79B66-5643-4BDE-AAAD-5F80E34D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A5D640-310D-4671-A871-80E8B844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E78950-75B5-46EB-9AE7-F0E964F9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07E771-BC92-460B-AAC5-687C3FFA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9992C3-0314-4441-A01F-C37AD1B5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A28D5A-29F3-4B37-A480-DC71004E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E779A8-38D5-41B2-9BE0-73F1649D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3ED747-425C-43EB-881F-FE49E204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CC5BCE-1125-4930-92EC-9FF4F6B2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07DA28-B480-4351-B3B4-F9366858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B01A22-54B6-4228-B3EC-503D784E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0E909-9E4C-40EA-8ACE-2B2D0DEC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F8F3DB-E75E-47B2-9E63-ADA2B4FA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E8D423-ADBE-4340-BD9D-4C32FAC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C9266A-F6BA-4CB4-9F89-02DB42C6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FE67B2-AFC1-4FD3-8770-6F5287D6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3BD749-42A6-4A2A-A4BD-1FBDF888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AFC72D-614B-452D-A19D-814A6E17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57DEE8-28AA-491C-BB97-97C886CC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8C22A-DF4B-4536-90F6-B35AF9D0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EAD692-590E-41E7-B9AB-B89AFD79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14FE00-A2E3-460E-8FA2-61300169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2C5C-C4D4-42C4-8B8E-FED591AC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1FF5EE-93D5-467C-B3EE-28A2B9E2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5DF3D8-2B26-4ACC-9A9D-BCB94F29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669351-56A8-4B11-8A82-1ED92C1F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0961CC-21B3-4DDC-AE2D-F6044A5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5F9446-5081-4755-B452-2CB8A771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3F5DB2-CE0E-4FCC-95F6-9E4F443C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5B2BC5-C73F-459A-852F-BB34E48F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C3B643-D39B-4496-AA5D-F0C27F9F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BF6F9F-4209-4A68-8EEB-4D7A7474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ED7D19-4B93-455B-8085-B24823D1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D2C6-76CC-47C8-B606-433D3D2D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EF06D1-AF68-4C2A-AC66-22C92354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AA02A5-09C2-452B-9383-9F87D90A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E7409C-F690-45F0-BFCD-F00AFBF9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67B5DF-A053-441A-8CE7-D4ADBE6D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1DC4C0-6186-4291-8112-ECCD5DA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CD31ED-885E-4344-9CAD-33B39FFC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F6C972-C177-4BF8-8972-E6B3D337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8585AD-C366-4FF8-B2D0-EA774CBF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8F0E7C-8077-4EDA-8282-E1B9F528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045912-3646-412F-91F0-6D76DA8F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6F70C-B9D8-4F90-8C24-BB86186D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6E1BFC0-A833-42D1-8D42-62B25AD3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07E8AA-D456-46B9-B78E-5815140D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683061-50CA-4CE7-9FA2-284A3792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C887C7-F387-444F-9CC4-62E0BC81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10A65F4-277F-47D0-A00E-F85C6A64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9F1C07-765F-460E-9F52-ACA64239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8D12AF-F778-4422-9326-69A72544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FBC4CB-00B6-4856-84EA-17FBEC0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C40B34-50B3-4E53-98CF-B17E2A79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CEC190-993E-4983-9E16-04D08CE2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A443-CB05-4286-B4A3-13CE460E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8C3D9E-1DD9-498F-9585-F44AA213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ADA310-354C-4937-8D8C-4BCB8F52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D8356F-E400-42AD-AD24-4E538D92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D49744-91F4-4AB8-ACF5-05ADAC4C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302BB5-1556-4EED-9F8C-39C44D92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ED54E3-B0CC-4010-B776-2A0DEA1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19B5AA-DE3D-4872-A621-89506931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FBAEB1-9495-4681-B935-B1782A5F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C84996-FDA4-438F-9CFE-6B02B98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ED441E-EEF6-4894-8934-9663AE8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F11C-D7D4-4A67-8928-C75A1F16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49387C-5A45-44C5-921B-1CA30783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5E71D2-EE6D-4E64-BA58-BC4C5D83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1422A2-528E-4188-B647-CAE7EE40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C0504F-D4B9-48EC-8671-810256AA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B1AF04-7C04-43EA-8CA2-710428FB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73D99C-7EB4-4A1D-AA90-4285216F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4B6A11-FF02-4305-9C1D-80BBE841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3065D8-8608-4A32-988B-664EFA1E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43497A-9D44-4158-983C-A81C68E9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A20169-C2C9-42B8-BC10-07A7A02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1DC4-EE8E-4DDD-BE36-C6ECC953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69AB04-9488-4054-BDA3-ED91273F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99EE89C-D75F-473E-AE97-6B4ADDF3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53E8C2E-BB69-44E3-B101-590E46DB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70A415-F19F-426C-B3D9-95E04B77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261478-2A39-46B2-88E9-5EE797B9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D543FF-0428-4A7D-B057-6DBDFE58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F16C71-9B91-48A6-95F1-DEE7685D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EF2514-F197-427A-A80E-0697D34E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24E8A5-EDFA-4988-8DBB-D95E15B5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FAFC32-9221-4290-A091-5222FBAA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54EE7-ACB8-4B78-8EA5-7D4873C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C43DE6-8B20-4561-920A-387C98D0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CF6D93-804F-44D4-B7E4-00F98894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A37B98-6A7B-4644-A178-3F98A399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204C8C-BA3D-42EA-8B78-45BD7382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A1873F-66DC-4483-81A7-AFB10A83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5BFAFC-30E2-4C29-8FC3-ABAA2956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186B80-F11C-4053-ADFF-B9B24B8B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775035-5317-4633-B713-2EE6219A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5A7987-6676-4DBB-ABC3-FEA05807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15F382-8FB2-473F-A798-24BDE98E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49C-B0CC-4845-9573-D8E635E8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6D379-B4ED-469E-B70B-1AA24426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170DE8-BB70-40B7-A1E2-ED36F58C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93001C-1473-49E5-86BB-2415D84A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7A83DF-5855-4E3E-B42B-7366DBD6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B3B289-AF55-467A-BC96-968361B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A4383B-C1E0-4BC3-8363-C35B7282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97B213-A686-4863-8797-CCA8CDC5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7B10B8-68B7-47B3-AC5F-0DCF44D4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428FBF-112A-424C-A7A6-26D5229D9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D4002D-EE87-46F7-A6DA-6CD98B6A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7236E5E-D71D-4BA3-8CD6-45BE78FB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F3AEC-CDB8-4E80-BAAA-25C24865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095F0A4-1F77-47E3-871D-D30641D6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F141EE-E491-4C15-9DEF-B3106314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DDF8A7-9C29-46CE-8311-D86EBFC8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EAE429-E3BF-43E7-A9B1-8764D14D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82D9EF-E614-4C70-B6B9-720B3EE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3B9BB4-D7DF-4B0F-BB21-E56C5399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F4DBE69-FED8-4B24-BF46-B6C2E790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C43006-D8EA-4D4B-9698-ABB16E3B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68C2EF-DE51-411B-A6AF-D6B6A1BB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D71F1C-B9BC-4E0B-B24E-5EB665CA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C05F-0A8E-48D5-8257-24BAE6CF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DB57290-0239-4216-931B-6AF003F6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B09EA2-ECDE-4CFB-8112-DD449D7E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E1F3CCF-3B2D-47F2-BADA-FDF394C5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DCAB3C-8606-4534-8686-E68F01F1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1C89C96-4282-42B8-9004-0973D7F6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E46144-F70C-42A2-875B-F1A2357C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D36229-5DC5-4899-8C08-AD59A9F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793CEC-ADDF-4BB2-B4C9-8D6B0DA0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FE44DD-93B3-42D0-96F8-360B86DD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4758B0-BFFD-4370-ACE6-83E87061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D60BB-0BEC-4B95-9DCC-BB288EF9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CA06E5-BF9E-44F3-BC33-0A48820A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35E854-1291-4FF6-8840-C0BBFE1C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D564A43-710D-4E1C-8F79-EAE5F38D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7025B2-5811-45FE-8834-7C2C39EEF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0A7504-9DB7-413E-A774-809BCA3B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0D0083-D0F4-41B8-937B-A51A0EF3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D81C8E-FFC6-44E6-A156-6136EBD0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736948-5FCC-4B49-9B68-47515792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B26D6E-2E94-49CC-8D8F-EA052296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62FA647-D34F-42BE-A67D-244F2F2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4883A-8A92-4FE1-B5F7-FB7365C9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AD08EB-AF6C-47A5-ABF4-ADE39426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D83598-9455-45EA-BD2B-00D23F4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F4566F-AC5F-404B-9252-90D5AF0B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A6B0A2-2977-420C-8A26-D56D2126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2936A2-3EF3-4198-A921-2B61D8D3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B72193-B58A-45BB-8279-D5972D48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2CDC6B-D864-4B29-8453-0F252775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A5130F-D18F-424C-A65A-0AC6C70D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A5B91F-3B03-4B5B-8BD8-9C9A143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0532E9-6EE0-4489-9EF3-EB0F547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0FF38-FCF3-4E2A-82DE-5CC80DDB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1D96D2B-4BAE-47A2-AB03-D88CEA4C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D4A778-0DC3-4B12-B53A-B1011E5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070E13-E45F-4B7C-AC2D-44D084D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B1170F-0341-4E97-8625-5692A340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884B59-03AE-4F5E-8B75-77E0C90B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54C641-D254-465A-B072-2DFD87FE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004F13D-2F54-436A-9115-7D5E8E46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45B9A3-1A4D-4B97-878C-9EC7D400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7AEF27-589C-4661-B30B-457CB5F2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B2C110F-8628-409F-B181-AB16A044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9CAB-6B8C-499B-B58D-12F0EAA8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B18535-25C6-40F5-B357-4F3B6962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5C1B66-9B3E-438A-ABD3-BE198B52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25A9D7-376D-4F2E-B779-78C073A1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8000AB-13B0-42F5-8F3C-C898C919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12168A-70B5-4F56-90F2-56588F2F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7DE1A7-ADF5-4D0E-96A1-AA83B0CE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F72BA8-A71A-4F68-BE56-EDAA9BA0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74AE258-DFE0-472B-B043-656F878E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DD08BE-6ACF-4B6B-B062-9898BF4A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436699-F73C-4D79-B253-F2F85F345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65770-ED82-450C-91FD-F9EA1A49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6758EC-CD52-4586-9DDE-1B87CEE8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1F41BF-E3FB-4EA0-A8D8-02F8CBCF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9C9F5E-0BC5-47DC-8517-8F6C6769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41CD950-21EF-404F-AE53-4D5FFFFC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A9945A-7449-4046-9A50-88C2EC5B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A15D1E-259B-4B3D-8692-EE220F7D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420F4D-96DA-405A-89BE-5DA9718C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1EA12A-3C05-4EBB-8F35-52CE615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1FAFB26-E724-425B-8B7B-F0ECB0E2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D23EF5B-13E4-4E6F-9DBE-4539AED9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CC667-B925-4918-B127-91633A4E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B37DB48-D0A2-4A28-B6B0-A9550F93C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B922E0-6C76-464B-9313-1545565F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9D308D-5D7D-4FCA-97D8-306213C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97E190-CC19-499F-B38B-6A3DA3D2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3F06ABE-5781-4519-BB04-18D26E12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64A99B-3045-4939-AF39-0DB43926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499A61-CF83-4404-8AFB-325237BF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F35EF1-36CE-4E44-8488-E6F1F2BD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88C8E0-B509-4D72-8A45-D2F3A95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7C446D-AAAE-44C0-9E26-67713D6D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67617-96C5-460C-A44C-E1F8F94F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D30E10-B949-475E-B5AA-D4968411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FB689D-5B11-4C09-A433-4046E18E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3605B0-372C-4F2B-AE16-17BBE48A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9CE3A0-54D1-47C5-B464-5EB014E5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53A1B9-3A2C-4AB7-993A-08693206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87FCD51-C2FA-4911-96B8-13EF1411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F39524-FB95-4E4E-BD66-0900F73F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9BEEB2-40B1-4228-A949-F204B179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3FD9385-5925-4350-BFAB-F5E7802B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78BDF5C-97D1-4465-9DD6-E74E735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0D67-B6AF-4CAA-A238-F9210B75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6D42-8BE5-4DB3-812F-FB8045AA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67389C-3E78-43B8-98CF-5E7E44F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A3ADC61-88F8-4E4E-9702-3809C0D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B3A62E-68BC-48A3-A8BE-AB3D8421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3E3DFBD-34FE-45DA-81D6-84491C98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C61355-7C3D-48A0-93CF-81F6786D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F0C64E-441B-4A22-B9E6-215F519C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B077D9F-98EC-4D4D-BB22-161BF929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D42A40C-2401-48A5-BF66-9FBB1F41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8BA22B0-2DB3-4A68-9405-70B7448B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E375061-B741-49C9-A588-D6383C4F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7E4AF-B2E5-4DBD-B835-90CE051B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E261954-BA7D-4F52-B03B-0889C5A0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7B57417-E982-488F-8C0F-CF5868DD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6274F4-97D0-46C8-877E-2CED87C2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046F435-AB99-4496-B8E7-A7C15C0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060CB6F-7F40-42CB-99AC-ED1B19F1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DBB2C9-F9E5-428F-8E78-9D13B8C9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C74D497-ABA2-47B1-A29A-6897CA05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A3CF74-F684-4F9D-A9F4-F1000860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DCBE4C4-78C6-4B7F-A247-A9F47A5B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05B774-8323-4FFE-94E4-8A0C461E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411B3-C649-4C6B-9F28-CB5A2736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2F54E53-80B6-44AC-B882-770C0707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79BB10-B308-4840-A99F-EBBC0602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A9A509A-E9A3-4CD4-BDF4-2D376940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9AC709-1F48-4422-8217-1FC0984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DBC87B-836F-465A-857B-AA3DE7C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0CC607-E986-48B6-9B7D-93FCB01A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355651-871B-4680-B90A-472D51BB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08E094A-6339-4311-8213-68726222E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A09B0C8-D884-4CBF-8368-57774046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362339E-CE7E-4CEC-91CE-93B77133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C93E8-C7F6-4B4C-959F-7B329FBE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5F1CD0-F78E-4831-A464-25B9F9EB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8269C6-5CB8-4D6A-A3A9-5938FDE5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BD7246-D750-4114-88B5-579244D3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C1738D8-F413-4CB3-9A51-DCD88BA8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3F6A0E5-3731-4414-A820-7D1EF6BB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69D8AC-CFE4-4BFF-95A5-C0478EDC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FBB3AB-8EAC-4913-88D9-B678F53A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7FA4D4B-B1CB-4854-96FB-EE80494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1B4D7B2-9389-4C7E-B1BB-67335FB0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B627EDE-1048-4BCD-B33D-1A1C3C10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B4EBF-D1CA-4B03-A11C-08F05662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91BD8D7-DF8A-4466-B217-BFEA9174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62C1213-89DD-4A10-8714-9D1CAD58A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2B1944-CA63-41CB-82F8-D00E9BD9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AD71FD-217B-4AE0-9D2C-6EBDCA61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387D8A-43F2-49C6-A277-06D8FCDF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17F0F5-7141-46A4-94BA-CA13ADFB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C222474-4FD7-402F-AB8D-B11F59D3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C98C238-71DA-436D-B209-9E18C0D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37C3D5-1416-48DF-AEC5-9991903F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975BAC-F362-498B-A9F8-65E653F2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3DF06-A8D1-402F-A767-E4BD3990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2EB2CD5-B8BD-4F11-AF65-296581CB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A423FD-505E-4956-8EB3-CC093DA0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14B8F8-D5FF-4E9C-AFAB-E1CBDA14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0CFC6BF-FB58-4A86-8F75-2B241207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6A41FD4-98BB-4D19-B062-AA0ED498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F793744-825E-4E84-A2BA-07B4074A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1E2A6A7-B837-48E7-AE93-EC904E1F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89C10B8-F548-4F6E-A0CC-8FD6DB8B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DF6408-E8ED-4DFA-93E4-BED32FD8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7024E8D-B281-4502-BD0A-05CA0363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D965-47CB-4AD9-89DE-0187F2C3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62DA2A-F1BF-4BBB-BC51-61D9330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A1112A4-302A-4571-A505-5A56644B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494E651-E4F2-4316-8831-CF2A1B6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4DB9761-9429-4A86-B91C-AB2CAF99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DB04B8-2B1F-4334-9715-42D4846F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5F164FA-4895-4E6B-B605-7657BEAF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E9042E5-35DF-4FF3-B1D7-2E9793C1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71FBB92-9FDA-4308-A6A5-A14F5118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A34CEC5-8A2C-4F6A-82AD-D8639413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F264768-1527-4CAE-9F76-64594467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75D1F-AE98-4E50-83F6-21CE4F27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FCB783-1116-4E85-B93A-5CA2D676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80F45D-12A5-4CB7-AE32-55AA26C6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5E3FB9A-5EF8-4489-B811-0F5146E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E2243C-6C9D-4396-B3CE-47D8BD0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6B0D74-867A-4CBC-845A-824D64C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9DBBE6-09FE-46C7-BA5E-A9094160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AADA83-BA3B-4F5E-B244-F620B228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CE4AA32-A517-4213-8F37-07523CB6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97EE40-F4AB-44BE-8E32-6EE8F61F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B1AC656-24E0-4D95-84F7-A6A9E24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6882E-9D05-4882-B15A-1D235383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35A8E4-139C-472C-85AC-69A0BFF0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83988F7-52D1-43C6-B82D-002193C5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A7BDC7-A287-4992-BA8A-6291B2F8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CF45CF-3492-44C7-80A9-5B82C92D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BC16F87-41EA-40CE-9075-93F4699A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F074B1D-F629-4161-9CF1-C70C73D1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1C737F2-BF2A-4CF5-8250-43CF3C86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D245877-8F8B-4842-883E-568DE60D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6D7DAF-8A39-4D7D-8B57-765CBFAE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03EC6F1-DCF1-4B09-BB17-D41DA3AA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6C3A-D6B9-4B27-95CB-643E2A58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B441CD0-2265-40D6-81F1-3050A077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819F9B3-B3C2-43EB-9D22-AA723F2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AC94544-229E-4C0E-B906-E4A033B2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D346776-3A99-4EA1-9523-79D9828E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2970B5-D876-482E-84BA-1AA86413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EE1A418-6D09-4005-9ACE-13426EDE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1D615D7-A5F1-46B2-943A-F7C5C750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56DFE27-C2CD-40F4-8858-77DEDB04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4852996-CB64-4BDE-B9BF-EB2101A7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2601588-AF41-4A77-B242-12DD99A1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CF4-0F50-491D-BAC1-1E2DE4B8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613C6-1737-4642-8DC0-3ABCC56F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8389F3D-AA83-40AF-816E-6E4499D5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833015E-36B3-46D2-982E-D11F9576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95F3C83-0E7D-4D03-9C4C-90531F1C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4448779-2677-43E8-BB47-65080A45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0AA765E-F924-412A-99D8-B9295FF9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022AF35-2BB6-40B2-B645-FA2F0833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807F7AF-E545-4A11-A1B6-4AF13DAD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CCED33B-0BD6-468D-8334-7AB0A56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5EC6DCF-C016-4C81-857D-B7B304F1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0FDBA6F-A75A-4CF4-BC92-6CDBB85B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3A4CE-CB6B-40B4-A986-DEA7F26F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D35D43E-8E1D-4388-9C2E-02C87AD7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80EC1D2-1B41-402E-9B4E-D35362C7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07E2E70-9795-4425-A5F5-7D9E23DD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2071875-3410-44FB-A9EE-A145EF96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D97B3AF-E526-402D-9164-1827D99E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A811C9B-D5C1-4374-9631-F51343A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A4BBBEF-F963-46D0-8620-8A22B906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7AAA3FF-8063-4EBA-820C-61623691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EBFC864-46A1-405F-9F73-60899704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F3533EE-0A61-4C0F-9959-DB34F876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832CE-5258-4E83-8429-C0F62DC0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F55494E-C49A-4F4A-A18D-E640D21B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25E5DE7-7ABC-4AE2-86B1-E89AC98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5F72E02-17F5-461A-ABAF-8CD4DBD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A15E91-9CD2-4204-B4D8-242FCADE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247AD6-08C7-4B5D-A40D-636C85C3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C0184E0-C6D5-47A3-8F12-52FC1839A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61DFBA-0D11-41FD-BBB9-C45C62D4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7B5AE78-216F-472D-B97F-E060A777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954635E-BBF1-46C2-9C60-48793928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42BD76E-7E10-498A-A9B0-962EA87E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CBD9D-19BA-4D06-9896-98D1B434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950D9B7-6E96-484E-B97F-1CFC3826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8A2DFD-3D7F-47B4-993C-4E590CFA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89116F7-B346-4959-8F0F-BC0CFC0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6F1C0BB-B8EC-42DA-B327-8768A2F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B60CC83-5835-411C-9309-2A6255CB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0453765-E635-4766-BC5C-8654F159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7A49EB7-9045-47D2-91B9-18533240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400CCC-8A53-4804-A421-92F8AB14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3669F3-B918-44CA-8C33-708A1CDD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BD08D85-75C8-4AA8-B46E-DCAA109B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EC8FB-D195-45BC-A1A7-E9C8E669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2FDB69-18D9-4DAE-AF2D-3F17B3F9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839DEAE-C32B-4953-84E2-6DB350B9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A695B8D-8038-462F-A678-1AF8067C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183A813-80ED-4E8C-AC79-C70BF3D5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8F9CC0-036E-4A0C-9748-65EF3E7D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CBFB5AC-0C5B-45DA-9FB7-EF44A4B4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D28A99D-643A-4FE4-98D3-4415173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723E150-06CA-457D-8144-C9A0BBD9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30664BA-7DC3-4022-9BBC-F9BE5C629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1001B60-1CCD-47DF-8996-E1ADBF8A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2811-5C85-477F-BC88-D97A3F87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2118867-1031-4E9E-970C-EA16028B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3CCD2A-7B2D-4F0B-B6E9-16CDBA0F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C5228D7-9C78-49BD-8599-C3F796A2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B866700-CE46-4428-A893-9E72D107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F4F9BFB-5288-4595-9905-F0E10037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D94F895-9FBF-4D82-9C21-E753B7EA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C1EFACC-C494-4B28-814B-69FF1233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6B6D82F-9511-49DD-A063-A3D580F3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617C058-E2B1-4127-A50F-43F41982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1B715FD-E777-42BB-ADA9-926851BF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0665C-FE42-4C96-A51C-5BAF1E30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E14A1B9-34F3-40F0-A730-625AC33A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24C7D51-C544-4C53-9DA8-904D4A8B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C2338BF-856A-482D-A356-9D4ACA3A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341D8ED-54E5-4FE1-9114-002F698C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90B8D8D-5C24-4B8E-B6E8-CC2AFC35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49481EE-63A1-48B0-8366-66DBBEA5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B0E63D-673C-460A-BEB4-ED94C3C0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47B5D41-7ADC-4463-8D04-2794E0B1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119228A-B6A0-45BB-A574-2706EEF8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736F8E0-6540-4912-A025-88A1C1A8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04F57-78FA-4FBA-BDE5-0E5C1DF4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8CBA6B-D8FF-4189-895C-4B4082E5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C9E826F-CCBE-41C8-A160-D063B0A3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BFE6B99-D169-4607-9EE3-5D14B741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F44665B-ED77-426B-A671-CF08ADB4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664985-D5B0-4D48-8AD6-8DC3FD5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C9B5FC3-0245-4EED-AD23-909E2CC0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54B802-8B10-4A54-BE29-C3667168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AC734A7-93D9-4464-85DE-4CABD71D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3E0FE0F-A718-449A-AD68-2DFA1952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3B2DFCA-C326-40DF-AF76-1C28959E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658A8-34AA-4C3B-BD0F-855F91D1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13A7D4A-9540-4CE3-A72D-E4EF44D1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AF35C3E-7377-4CA0-B718-724A47F1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3E1A19B-A972-4668-8EAB-96751842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C8C2F24-FCA2-49F3-A126-6BD7F925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2573C68-C70D-4EFC-AE7F-9F5AB997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DC68DF2-9444-45EF-B973-0AF5CB10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3B1E83C-1F21-486C-AE84-760CF558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BBF3D8C-A0CF-48E4-8BCF-BEF5B637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93521BE-E596-4986-B28B-34CAC7E1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3ADF66D-09E6-4C91-BB17-C593DA1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D2A4-8CA1-419E-85CB-BF5C7A6D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C1C4F1-7A3D-4D0F-A9A2-7AF70519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4BF4939-18A6-4E22-9B19-908E3169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D1C40C1-FE8D-482E-ADF4-081A8163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C20F78E-F63C-40C9-A8DE-00614334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CE4EE28-9B2F-4904-A3FA-370599D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FEFBB0F-6C17-4BC5-BA9E-2337F7B3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6AED60B-B5B4-49DE-83F5-E7D2D0A7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316FD80-9B71-49A0-9E0E-4AB07694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A3ACD3E-464F-4611-BFFC-7AD53857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552D4DB-D5AA-4271-B6A6-4B6A6FB2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32F-AF23-47C7-924E-2DB4C8F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BE3D0-4F94-4630-81B4-7B209F39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DB5CD35-9CB6-4B01-90AE-441D767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95AFE62-8DF1-43F7-893E-E6796451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25DFCCB-7D11-492B-9BBA-E051F816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B0F12BF-BE0B-4904-AB8B-14DBCE0D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C6983E8-1775-4248-97D8-333E7A74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EDA6E53-879A-4120-90A5-FABF60B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9D0B915-0E36-4FBE-9DFD-64295EB1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CB522D7-67BA-420A-BE41-653418B8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B88E9B1-1ED0-4BD7-92AC-7D6774A7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3A8037A-AE04-4FB5-A319-3E9CE03C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651DC-DA39-464C-BA3C-FE413B7C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B8766E3-F66B-4E7A-A906-15D2CC9D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9FF1C2-F809-4F6C-A18A-D5D88993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EE40D4A-E84D-460B-924A-4231768E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F2B15B7-C652-4F2F-84C2-201813E0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8767A46-704E-4D4B-AEFD-B41BF8EB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7D0A938-A78B-436F-ABF3-42E448B9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CD71B73-FEAD-4652-A2A4-6651004D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9667FC8-348E-45D7-A3C3-913BBDE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CB69765-C1CD-4A55-AA1F-6F27E1C0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E7D8985-FD97-454B-A81A-18DB8C0C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86370-486B-4020-A6C8-1EFAF66B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280DC97-2947-439F-AA44-5A5E3BD7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C197447-7C72-4785-A5B4-A8DD8176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C056987-5ABC-4C3C-B88F-ED053097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60C0CF6-D7D8-4CBB-A279-A3A23D19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BB05B9D7-F72B-4831-A94B-574ADCE8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24718E6-4D51-4499-8A76-901DE9B5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4618502-3F2B-4CF6-8425-DF44A915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1CF6BF0-C7D6-42DB-9173-4CB31E5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95BA0C0-5509-42B6-AFAA-62289B1A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5E564B3-71D3-49F1-80ED-59F6305A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0120E-626B-469E-9872-83D60257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8A30EE4-EFFA-4183-AC7C-4F30BBE7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7C71EAC-D0F2-472B-9772-689735BD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D52672D-0BDB-4E22-A2B5-809DC75A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9CE73B8-0A50-4515-813F-B9BB437C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5ADCC4A-ACB2-4E4D-B6F4-B84BFA6E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4A98C4E-20F5-4226-A873-09D456D7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25361C7-BD99-40CE-81E2-344422D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07D7824-5DCB-41F3-97C2-6FFB7A69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3D201EE-FA3C-4B07-9AD3-3B76D699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33A7B20-5500-4159-98C2-5F23A7F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D9384-4754-4CEE-8C1F-729AC861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D82C3AD-37FE-49F7-84B9-081F53A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74BA2B8-A65A-4FE4-9947-57BBA733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879C225-028F-47A8-88E0-B1F7999F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7B9781C-CC12-4D44-8003-D0AAD577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EBB9803-006F-4781-9F65-70B1D76E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5677D1A-A68F-443C-957D-FBEC3760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D49B3F3-0E06-4C47-853C-53CC2609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6185C7D-A89B-4A9A-9EE5-3C36465B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79E3A0C-C5D0-4E66-9C81-B1FC0F9B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7E2A162-E5AC-4687-ADE0-F193EA43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5600D-F7B9-43B7-A47F-97D367DB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7C57A07-6004-4ECA-9DCB-E57F419A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1ECC34B-0234-46B3-B21A-1A65A55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64BEEF2-3C7D-46EB-99CD-CA0B699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D5F16E2-1882-48AE-A56E-47013501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1A0F73C-6684-43FB-BA2F-F4E31248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240ACCA-FBE4-4DF3-A315-28E1E405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B30E34E-9C49-4C09-8557-F1511A48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FCA213D-7800-4D1D-889A-B86178FC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C467AA1-554D-4787-9131-BF519742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B864896-0627-4773-BBE3-F677542B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9F141-CCA5-473E-A3C1-8DE28088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C2B1F5E-268D-4CDB-AB87-D14D9195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E2AE773-1C50-4E7B-9E6D-0ED3C281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2446A21-D00F-4AA6-A88C-D7CE274B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203D733-D2BD-4456-86C4-C97AAB6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249EAC9-C32C-4C90-A850-1C4DF0F0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28EEA63-F681-4A2A-8F1E-A509A04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212F0A3-265E-47A8-8A86-A4176EDB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B48441E-3480-4FC1-B0B7-4C642654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112D563-D4A0-40C2-954A-7AA2032C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5ED7479-F98F-4B23-B011-BE936C7E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9231E-DEE6-4FF0-AA07-0DEF0556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251558A-ACAC-4759-8B77-80500CC8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3B480A8-1DD6-4E14-BF59-E6D545D7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197D041-2CA2-44D4-85C0-04D510AF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66CD1FB-ACE7-43A0-81FF-113A46B3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4FF71AB-AED2-4853-8BF7-23A74364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0E90298-1845-47B7-8DEF-78418179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4271DE3-1E42-4CC3-98ED-65E293AF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5D0E3DA-BD3C-4C76-A5A6-33E60E47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0ECE0049-1A8C-43B3-A94B-EFB5E804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697139B-455F-40A3-A89F-E12597A6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90D6-6E61-474D-B7E4-B021AA42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ECA3E0F-CDF5-4200-A555-210B5186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53E31CD-778C-4DE4-8FD3-56632154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2B9281C-2D5D-43A3-BEE8-9C07B64E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18711AA-5475-482D-BD4F-871DB0AD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78F50D8-14E8-4312-9AE6-A30F1618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5327394-9B78-48D4-B829-3446F0AF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9DD6403-DB3D-4F4A-8724-C0D15EE5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34F736D-EB69-48D2-8DD6-60C828FC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9F1552B-9E2B-4E35-BBA5-FA1E21B2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A0DDBFC-D002-4307-AACA-18977425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48B8F-4290-4D79-B4F0-4243CD4C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DC53EE7-2407-488D-BB11-F28C38CC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E7C55A2-8505-4A5F-A174-B5829191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A1AA207-9184-488F-B4F4-D5179AAA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63F11BA-BC75-48CE-B7BC-50CA5C58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A656DA7-280E-4D67-BD34-651BBA41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054E685-9220-46D8-BB3E-02D57D71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8BBC869-AE1B-437D-8889-E42108BD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3F95E33-9E45-4E60-BA21-7637FB22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524251B-4AE4-4392-ABA2-398BFF8C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A75228A-6898-4F25-A11E-EABAD8F3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EB0-F8A8-4255-B90C-2B7D479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B5DE-4AFA-4616-8747-C8635E9C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FF6CA3E-4303-4006-B6A2-CC94D679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49E83AF-5E8D-4FB6-BFBD-93EAB057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93EF0A1-8E74-456E-BBDE-A7AB3AE4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C3AC024-EA87-4CE6-A0FB-E5CDABBD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836B434-1CF0-443B-9B95-BFE62736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4CE6D30-4980-4D97-9515-A3BE005FA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6D7EEF6-69DE-4D9A-A5F5-1329BD31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7A016DB-F670-41BC-8796-EFAE124F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B52BAB4-B587-44DF-B679-CAAF496D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0D0D9D9-5BF7-4506-BE47-1A0DD3F0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C76C-4CFF-424A-9082-DC627251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3947051-327E-46F3-8EA7-CF47D00D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DE3212D-0731-44A5-AF74-624BD364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2385399-16DE-49EC-BEB9-5DBE2CE1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E2542CB-3F13-4621-843A-BDC9A1A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C8F560E-F70B-4130-B26A-F48F6B03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8D6424B-C5A1-44FC-B917-FFCDB798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4319596-B9F7-4A43-80EB-38A9DF0D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2A66996-6485-4B5C-9FFD-AAEE901B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CD89C53-71ED-4474-856B-E2AE7EE5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F65269A-81F7-4C33-B692-03F5ACDD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442B7-3A1F-437E-AF20-6282CDB3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C3B81F4-0449-4848-9EA8-7595DA70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B4DD7BD-ED3D-4169-8387-5CDB48EF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02371E34-CDE9-4DFC-B555-67BA7041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CDD4E8C-D8C6-43FA-A013-19D2C72C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5937E16C-BD9D-41FC-AA7B-8BB6F828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33CED2C-A4AC-42D2-88E7-BD76448F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76F6190-DC78-49A8-AF4C-0FCC83AF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50F5D0F-CEAF-48DB-936C-093CC798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D513013-4B88-4A7E-9E5B-A36CAA73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A26D044-4EDB-4958-9DE0-31A41E55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19676-4753-438D-A3F0-BA7D5CB6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7B53709-5D06-42AF-A0D0-EC6B4E8C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1B3F33A-2F8C-4CF5-8D5D-C38E72C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ABD3B95-595A-4A68-951F-5570BFC8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882ABEA-DBDD-467D-BDF7-92264A4A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00C5D6A-38F1-4BC3-B4B2-3BE83510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E339F43-817B-4E73-9001-A29959D9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90CC51B-61A3-479A-9782-097D0357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C92A282-A0A9-4524-946C-11B5557D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2EFAA9FD-1E5A-420D-894E-CC5ECDEB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B525777-A90A-4C2D-B871-8075C9E1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C90DB3-3093-4EAD-B972-95CC47AC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836A20D-E27D-4CC6-BED1-8A11A2229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948D5EC-9555-41B8-9102-FD06E85E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5C29127-1552-4111-8169-E8ED7040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E6D772E-C246-4979-BB85-863C3769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4F41B7D-5276-4BC0-ABA8-E0C9952F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3691D0E-0C13-4EE5-BD9F-F5D4126A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8051A54-18DD-4751-949C-BDAA3C15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023E81B-8CF8-406E-B9A6-6DE98916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069CB97-DC23-4C18-9ED4-DE0C1EA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0274FF8-F4D9-4F8F-A3B6-75D1E93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4926D-3FB9-43E0-8623-0C2FB6DE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D46A88D4-3D12-43E1-A338-F616D44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31581F6-202A-4419-883C-6E76311B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5CBA83C-6C3F-44F9-975C-AA6391C7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E41B16E-7946-447A-AFA7-F290BED6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88A9F03-A5D8-4F2F-9583-DC17E237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CA697B8-5928-400F-B8ED-B327703A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3CE1C69-C13E-41E9-BC23-1EA9A77B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220698B-DF3E-4FB1-9E86-EA68913B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0526A53B-908C-4D54-818C-C47B475A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DF59871-FA39-4DAA-87D2-31F97281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42506-F2F0-4FAB-97B6-ED06387D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6ECB331-701D-4172-B19E-3A93DF87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D80A36A-EC52-40B9-ACDF-D6E4115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395DF96-FEB6-432C-955F-9C1E8191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BE215EF-68ED-4C61-B85E-9CA6A4BC7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541DB86-9CF9-4CBF-AFE7-DB6215F4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24603C7-42C0-4675-8949-F3CD7A65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78D4B5A-9EEF-4908-B3C8-55C9395E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F6903BA-8BA6-4957-8903-8EE7B7B7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793DBFD-35F8-484E-9B63-1C98A164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82078C9-82C1-4C85-A6D7-D20DA2D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87116-9BCA-460E-BE5E-0C9C23F5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98D4A4CE-7FE9-4E97-B6D6-BB84FCA6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EA4F639-D193-4431-9733-846DC83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4803EC2-F369-42DC-9E90-6A0B9CE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106E9EE-3CDB-4714-AA69-96BE6D6C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130B690-0CF9-48ED-A1D4-2918B378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FE019C49-6C67-4CBA-96AD-678E87E3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18937219-E861-4E42-A418-79609073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55719A4-FC02-459D-9FED-12831C9E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BC4337F-8F63-473A-BF54-98D8F239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E01B224-F058-4BA3-A8F5-EEDEECEC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07057-1606-469E-973D-2FDF2763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AE21874-53EC-4CF1-A231-8B01610C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A5B1F73-CA61-4135-852C-470E358D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08FE8D5-723B-4B1E-8B1A-06F55514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EB4FAF7-CF0D-4C2A-AA3E-6D6ADBCD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46E9EC55-8057-4AD4-80AA-E202153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29711BB1-C569-458F-B118-EA87DBF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731F359D-4AC7-421A-9427-45C731BE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E0F223D-82CF-4D1E-AA80-674BCB09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3169CE2-662F-4FDE-AF26-8C92C9E2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279A38C-E002-4018-B6F6-85A8548C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E8384-34EC-48EB-A747-13DC8C3B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D4F1A48-FDB8-41A6-BD81-4642BC7C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DA9078F-18C4-4C1A-AE9D-FFD15B83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14BA3FE-8AA4-4B65-81A5-9616D748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C2FE1FA-D20A-4E6E-9A95-15985378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E9CA37B-954F-4A29-9168-036B99AB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04FDD8FB-5ECF-4019-8758-C2B70D77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361F97B-423E-452C-90A1-488932A8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045386A-E118-41C4-81CB-300347E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F2BBCC8-1C8C-4172-924D-88125D7F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8CFF7CA-F413-44D0-AE95-EFC8F0A8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E36-BF93-4E75-A5A4-E2863995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60FF0-A965-4DD4-9284-E3BEDCEF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8232D35B-FB9B-478F-B186-305785A4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41F11DB-E9A5-4F38-BF08-32F53C41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2D700E3-A641-4389-A9D6-2272F06C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C10F903-B46A-476A-92F5-F7A75CF1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0EF9C4B-1F9B-48B3-9504-D3E6E0D9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9A45427-49DD-4822-B064-8AA826E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B6AE57B-759A-4739-9FF9-987C2F6E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7ACA4D2-2C91-4B4D-A1E3-19C753D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DB6F0827-646B-4320-8E4C-A1339600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F567959-E08A-446B-9D4C-7E2866B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33D70-2C1E-4716-8407-369E0354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6DC499C7-C2A3-41F4-BC98-D0782E5C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07ADC99-E1D2-44F3-93A1-0461CCE7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F28729F-394A-45B7-B0BF-8570F477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E995651-BF60-4275-9FD4-E0F90171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E3C76DC-D8C8-48CD-954E-F9E7746A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BA83851-89C5-4FF1-B710-59724F4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08500BC-ABC7-4DF0-AADD-04E774D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2AE3326-3D4E-492D-B944-B8B1F3E5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7E2F3D0-8226-4EB0-95E4-408B9B24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D58D601-4693-4061-AB83-CC52C4B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EB2B0-1754-4F71-BE38-8E05BA1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2D8EEEF-B08D-4696-BA6F-FBE6525A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8BAFB50-8CEF-4F88-A16C-CEC21DA5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C0C9E11-97DE-4460-A984-C37DFDBA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0BAE613-92D8-46DB-9EC0-266378A5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CAE6D0B-2131-408A-86B8-01BA9743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8139892-10C5-4DA4-94FC-47A7A36E0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8853AD2-D833-4A99-9595-5F3FB381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8472F28-4F53-4EAE-B832-B1317588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5413BDB-0A6D-4F8A-9EEB-1C8266B9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CF80B19-634C-47FF-9DA9-D492D1BE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FBA11-52BB-48EC-9B12-D5A1BADD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75FEDBE-EB9B-42EF-B9F2-7E4D498D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72EE76A-31A4-447E-A5FE-26906846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78CAC18-C1FB-4C8A-A72E-60B18F1E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1E2EF9B-AEB0-42DD-BF63-92CD4625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43D963E9-8956-490A-9023-D52D7238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D93D242-4FC7-4829-97F6-B4072044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BF916BB-3048-411E-B4D0-31245A3E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1AE2A2E-635B-4D25-A645-EBFD560F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0957990-01C6-4774-A17F-EB2401B0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4F5B853-3058-4CA1-BEF8-01090308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96DF7-B850-4657-AE1B-BE5EE218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FC83B6A5-6729-4EFF-94FF-3A0326AD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41DA1CB-9252-4977-B851-0D9440C3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7910478B-18D6-49B6-A716-14BF8DF8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8BE21DC-CF45-4DAE-99F2-CA252230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990F4E6-7E84-400D-87F6-B2EC95D6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8A4BC97-6F3F-42F1-9ED0-D7CB3EAC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DED8621-9768-4E0E-B183-50A85DA3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C2D1579-B97C-45E7-989A-671297C2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06D4773-02C8-4E50-B930-0C13E870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B49E612-B2F7-4C46-8FB0-D1A4E1F6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3A1EF-0956-44AD-A72F-83AA5504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57501C2-4BF0-4441-924A-F7533574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2FF4C81-4748-4E8B-A886-BE978B3F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401E42-350E-4EA5-8304-34FE2A0D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242E0E3-3BF7-4F17-8E5C-CEB77299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6A29BFB-9369-40BD-87E7-3B6C831E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531593-E3A6-4735-8077-2F3EA9E7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52F93EA9-6587-4269-A065-2309776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6E059A6D-F7B9-4C67-A360-8A5FB4FA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1E3B242-4AB6-4295-A8AA-E8BAC996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7BAB15A-053B-4DCF-8B31-1FEBA828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BE8ED-F760-4CEF-8A39-4C3E2A68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605F832-8A69-4849-B20A-605A5708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1F74D38-A93F-4787-B9FB-DE00A6DB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BBDAA7D-9805-450A-8010-7123A204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1C9CC49-5F2B-4EED-AD16-06438797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FF2608D-85A7-49B9-9C82-015A84D1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E45C8A83-F721-4796-A5C6-F6F2B007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00F597D4-AAB6-4201-9CFC-3FE153FD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5B27F38-1663-4B16-B0F3-04BF7BE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7682045-59EA-4B26-9939-763F1830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B02CEEF7-4EEF-4173-A1AA-9E84040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664C7-E0B6-4269-9C03-6CD2ED65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FBDD13A-52DA-48EC-938B-5E08E0DB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84E588A-92BD-46A3-AD94-32A311EF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91612DA-0099-4B49-B66D-9578DE4B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E8FDCB8-BBA6-432A-924B-31CD5E34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0D58333-A315-44B2-A8F7-C935343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F05EDE4-0862-44FC-BE74-DE36337F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FD871BC-66A5-45CE-8CAA-16CD6EB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6FF0965-B958-4F51-AF10-E861204C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0CBBACD-3F40-48BC-87F6-8C22787F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1AB66ED-D398-4E1F-AD26-9D462B8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26307-DBBF-4830-AD91-57A93F6C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3EA55A3-C799-4E77-B2FC-2C123979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3C729CE3-2FCE-4765-9C02-7FB8003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A9542C2-BB5A-4901-A005-A0D2B8B6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606F3E8-A38A-43BA-9002-E3347557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F1724D4-2375-44FB-88BF-F13AED65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22D785D-114C-4471-B2CD-E3A3D0BB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1DA93CB-9A2B-42B2-A005-2CA12810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22F7F52-F5F8-4106-B86C-5318233D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43D9876F-A2A3-4C73-9562-71C0BB5F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CDF3E67-6FA7-4D13-B244-079E34FF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55310-C4F7-41FF-89CF-70251E3A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6A623BB-C9F6-4853-9B0C-0180FC73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63464AE-29AF-43FA-A963-38F8670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6CC58EF3-0539-48B9-9E5F-33AD8A20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F415ABF0-D9ED-4151-BDBB-6712C923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D1B191F-2907-49ED-A73D-37DDBEFA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E7E017D-FBEF-4788-8984-11117E71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BCD4A2C-BB0C-4DB5-A592-01F82562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717C8C8-730F-4D2D-8B8F-3B4D0350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04AF323-510D-48FF-A7F8-2DD2112A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8B4D010-6C7F-4999-93A6-306BD4E9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58.xml.rels><?xml version="1.0" encoding="UTF-8"?>
<Relationships xmlns="http://schemas.openxmlformats.org/package/2006/relationships"><Relationship Id="rId1" Type="http://schemas.openxmlformats.org/officeDocument/2006/relationships/theme" Target="../theme/theme158.xml"/><Relationship Id="rId2" Type="http://schemas.openxmlformats.org/officeDocument/2006/relationships/slideLayout" Target="../slideLayouts/slideLayout1885.xml"/><Relationship Id="rId3" Type="http://schemas.openxmlformats.org/officeDocument/2006/relationships/slideLayout" Target="../slideLayouts/slideLayout1886.xml"/><Relationship Id="rId4" Type="http://schemas.openxmlformats.org/officeDocument/2006/relationships/slideLayout" Target="../slideLayouts/slideLayout1887.xml"/><Relationship Id="rId5" Type="http://schemas.openxmlformats.org/officeDocument/2006/relationships/slideLayout" Target="../slideLayouts/slideLayout1888.xml"/><Relationship Id="rId6" Type="http://schemas.openxmlformats.org/officeDocument/2006/relationships/slideLayout" Target="../slideLayouts/slideLayout1889.xml"/><Relationship Id="rId7" Type="http://schemas.openxmlformats.org/officeDocument/2006/relationships/slideLayout" Target="../slideLayouts/slideLayout1890.xml"/><Relationship Id="rId8" Type="http://schemas.openxmlformats.org/officeDocument/2006/relationships/slideLayout" Target="../slideLayouts/slideLayout1891.xml"/><Relationship Id="rId9" Type="http://schemas.openxmlformats.org/officeDocument/2006/relationships/slideLayout" Target="../slideLayouts/slideLayout1892.xml"/><Relationship Id="rId10" Type="http://schemas.openxmlformats.org/officeDocument/2006/relationships/slideLayout" Target="../slideLayouts/slideLayout1893.xml"/><Relationship Id="rId11" Type="http://schemas.openxmlformats.org/officeDocument/2006/relationships/slideLayout" Target="../slideLayouts/slideLayout1894.xml"/><Relationship Id="rId12" Type="http://schemas.openxmlformats.org/officeDocument/2006/relationships/slideLayout" Target="../slideLayouts/slideLayout1895.xml"/><Relationship Id="rId13" Type="http://schemas.openxmlformats.org/officeDocument/2006/relationships/slideLayout" Target="../slideLayouts/slideLayout1896.xml"/>
</Relationships>
</file>

<file path=ppt/slideMasters/_rels/slideMaster159.xml.rels><?xml version="1.0" encoding="UTF-8"?>
<Relationships xmlns="http://schemas.openxmlformats.org/package/2006/relationships"><Relationship Id="rId1" Type="http://schemas.openxmlformats.org/officeDocument/2006/relationships/theme" Target="../theme/theme159.xml"/><Relationship Id="rId2" Type="http://schemas.openxmlformats.org/officeDocument/2006/relationships/slideLayout" Target="../slideLayouts/slideLayout1897.xml"/><Relationship Id="rId3" Type="http://schemas.openxmlformats.org/officeDocument/2006/relationships/slideLayout" Target="../slideLayouts/slideLayout1898.xml"/><Relationship Id="rId4" Type="http://schemas.openxmlformats.org/officeDocument/2006/relationships/slideLayout" Target="../slideLayouts/slideLayout1899.xml"/><Relationship Id="rId5" Type="http://schemas.openxmlformats.org/officeDocument/2006/relationships/slideLayout" Target="../slideLayouts/slideLayout1900.xml"/><Relationship Id="rId6" Type="http://schemas.openxmlformats.org/officeDocument/2006/relationships/slideLayout" Target="../slideLayouts/slideLayout1901.xml"/><Relationship Id="rId7" Type="http://schemas.openxmlformats.org/officeDocument/2006/relationships/slideLayout" Target="../slideLayouts/slideLayout1902.xml"/><Relationship Id="rId8" Type="http://schemas.openxmlformats.org/officeDocument/2006/relationships/slideLayout" Target="../slideLayouts/slideLayout1903.xml"/><Relationship Id="rId9" Type="http://schemas.openxmlformats.org/officeDocument/2006/relationships/slideLayout" Target="../slideLayouts/slideLayout1904.xml"/><Relationship Id="rId10" Type="http://schemas.openxmlformats.org/officeDocument/2006/relationships/slideLayout" Target="../slideLayouts/slideLayout1905.xml"/><Relationship Id="rId11" Type="http://schemas.openxmlformats.org/officeDocument/2006/relationships/slideLayout" Target="../slideLayouts/slideLayout1906.xml"/><Relationship Id="rId12" Type="http://schemas.openxmlformats.org/officeDocument/2006/relationships/slideLayout" Target="../slideLayouts/slideLayout1907.xml"/><Relationship Id="rId13" Type="http://schemas.openxmlformats.org/officeDocument/2006/relationships/slideLayout" Target="../slideLayouts/slideLayout1908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F9D5-7738-49D8-9542-DF5756717F3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60AD-BA1F-4D86-83D2-AACFAC8BACEB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 type="dt" idx="2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6DC1-5911-4C02-886F-AFA3ACA8121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 type="ftr" idx="2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3" name="PlaceHolder 5"/>
          <p:cNvSpPr>
            <a:spLocks noGrp="1"/>
          </p:cNvSpPr>
          <p:nvPr>
            <p:ph type="sldNum" idx="3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C9C2-F485-4493-A9A4-3C30A7552DE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 type="dt" idx="3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9C49-CC5B-4D93-A79F-826B4213869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 type="ftr" idx="3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4" name="PlaceHolder 5"/>
          <p:cNvSpPr>
            <a:spLocks noGrp="1"/>
          </p:cNvSpPr>
          <p:nvPr>
            <p:ph type="sldNum" idx="3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D5DC-3AE0-4F31-B27E-0596B3796F0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3" name="PlaceHolder 3"/>
          <p:cNvSpPr>
            <a:spLocks noGrp="1"/>
          </p:cNvSpPr>
          <p:nvPr>
            <p:ph type="dt" idx="30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D5A7-4E53-4588-8BF2-034DA0DD57B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PlaceHolder 4"/>
          <p:cNvSpPr>
            <a:spLocks noGrp="1"/>
          </p:cNvSpPr>
          <p:nvPr>
            <p:ph type="ftr" idx="30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5" name="PlaceHolder 5"/>
          <p:cNvSpPr>
            <a:spLocks noGrp="1"/>
          </p:cNvSpPr>
          <p:nvPr>
            <p:ph type="sldNum" idx="30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2F80-AA85-4CCE-BCAF-AB01F2B92E8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 type="dt" idx="30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F5E4-C450-477D-B7C3-D65D7DE5625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 type="ftr" idx="30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6" name="PlaceHolder 5"/>
          <p:cNvSpPr>
            <a:spLocks noGrp="1"/>
          </p:cNvSpPr>
          <p:nvPr>
            <p:ph type="sldNum" idx="30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CA58-397E-4F6C-8771-228336C53EA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5" name="PlaceHolder 3"/>
          <p:cNvSpPr>
            <a:spLocks noGrp="1"/>
          </p:cNvSpPr>
          <p:nvPr>
            <p:ph type="dt" idx="3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9B26-407B-4DE4-9545-C181AF80AA4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6" name="PlaceHolder 4"/>
          <p:cNvSpPr>
            <a:spLocks noGrp="1"/>
          </p:cNvSpPr>
          <p:nvPr>
            <p:ph type="ftr" idx="3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7" name="PlaceHolder 5"/>
          <p:cNvSpPr>
            <a:spLocks noGrp="1"/>
          </p:cNvSpPr>
          <p:nvPr>
            <p:ph type="sldNum" idx="3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7274-ED97-498D-A070-92D7A93C458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 type="dt" idx="3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FE1F-1022-4988-A6E5-2E0B9799530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7" name="PlaceHolder 4"/>
          <p:cNvSpPr>
            <a:spLocks noGrp="1"/>
          </p:cNvSpPr>
          <p:nvPr>
            <p:ph type="ftr" idx="3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8" name="PlaceHolder 5"/>
          <p:cNvSpPr>
            <a:spLocks noGrp="1"/>
          </p:cNvSpPr>
          <p:nvPr>
            <p:ph type="sldNum" idx="3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76F6-D6E7-4C2E-BDC8-FF1D29B1959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 type="dt" idx="3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3287-2343-4559-9E8B-A5F9D7B5AC2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 type="ftr" idx="3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 type="sldNum" idx="3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AFFD-49E5-4C98-9C94-48A95BCB271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 type="dt" idx="3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5046-905A-4345-BC64-98024FB3CD6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 type="ftr" idx="3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 type="sldNum" idx="3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8853-B98C-4188-9AE0-1C0063B5DD6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 type="dt" idx="3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4FBD-75E2-43D3-8AE6-4F849D4EEDF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0" name="PlaceHolder 4"/>
          <p:cNvSpPr>
            <a:spLocks noGrp="1"/>
          </p:cNvSpPr>
          <p:nvPr>
            <p:ph type="ftr" idx="3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1" name="PlaceHolder 5"/>
          <p:cNvSpPr>
            <a:spLocks noGrp="1"/>
          </p:cNvSpPr>
          <p:nvPr>
            <p:ph type="sldNum" idx="3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AC7A-D5F6-48B9-BB84-290CD70F02F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 type="dt" idx="3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A969-A912-47CD-987B-2F6EB534F1B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1" name="PlaceHolder 4"/>
          <p:cNvSpPr>
            <a:spLocks noGrp="1"/>
          </p:cNvSpPr>
          <p:nvPr>
            <p:ph type="ftr" idx="3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2" name="PlaceHolder 5"/>
          <p:cNvSpPr>
            <a:spLocks noGrp="1"/>
          </p:cNvSpPr>
          <p:nvPr>
            <p:ph type="sldNum" idx="3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85C9-0D6B-4446-BEB4-9C8B8ADE130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9700-2361-4E05-8C9F-B5EF40B8E1BC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 type="dt" idx="3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B6D9-77EE-4B59-A7A6-45C28986E69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2" name="PlaceHolder 4"/>
          <p:cNvSpPr>
            <a:spLocks noGrp="1"/>
          </p:cNvSpPr>
          <p:nvPr>
            <p:ph type="ftr" idx="3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3" name="PlaceHolder 5"/>
          <p:cNvSpPr>
            <a:spLocks noGrp="1"/>
          </p:cNvSpPr>
          <p:nvPr>
            <p:ph type="sldNum" idx="3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97B6-828D-407F-AEB2-A19E791A060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 type="dt" idx="3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3765-0427-4A81-B576-A191B5D18DC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3" name="PlaceHolder 4"/>
          <p:cNvSpPr>
            <a:spLocks noGrp="1"/>
          </p:cNvSpPr>
          <p:nvPr>
            <p:ph type="ftr" idx="3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4" name="PlaceHolder 5"/>
          <p:cNvSpPr>
            <a:spLocks noGrp="1"/>
          </p:cNvSpPr>
          <p:nvPr>
            <p:ph type="sldNum" idx="3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8A9A-759B-4B42-BBE7-C917F294872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dt" idx="3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0231-FD63-4429-BD4D-33C7B48E860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4" name="PlaceHolder 4"/>
          <p:cNvSpPr>
            <a:spLocks noGrp="1"/>
          </p:cNvSpPr>
          <p:nvPr>
            <p:ph type="ftr" idx="3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5" name="PlaceHolder 5"/>
          <p:cNvSpPr>
            <a:spLocks noGrp="1"/>
          </p:cNvSpPr>
          <p:nvPr>
            <p:ph type="sldNum" idx="3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7069-7704-4F21-938F-7B241698880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 type="dt" idx="3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2D07-B552-4FD8-9195-8FFF762BABD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 type="ftr" idx="3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 type="sldNum" idx="3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C7B9-C09D-458A-97E2-1CFF16EC1B1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 type="dt" idx="3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AC3A-CCFE-45A8-B8DA-2DED44DFF10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PlaceHolder 4"/>
          <p:cNvSpPr>
            <a:spLocks noGrp="1"/>
          </p:cNvSpPr>
          <p:nvPr>
            <p:ph type="ftr" idx="3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PlaceHolder 5"/>
          <p:cNvSpPr>
            <a:spLocks noGrp="1"/>
          </p:cNvSpPr>
          <p:nvPr>
            <p:ph type="sldNum" idx="3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7EB7-5022-41F8-AC62-7820895E2FD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36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084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624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 type="dt" idx="3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2060-0491-406F-9EA9-8F700B39517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7" name="PlaceHolder 4"/>
          <p:cNvSpPr>
            <a:spLocks noGrp="1"/>
          </p:cNvSpPr>
          <p:nvPr>
            <p:ph type="ftr" idx="3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8" name="PlaceHolder 5"/>
          <p:cNvSpPr>
            <a:spLocks noGrp="1"/>
          </p:cNvSpPr>
          <p:nvPr>
            <p:ph type="sldNum" idx="3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79A3-390C-4A95-86DF-FF161E4C366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 type="dt" idx="3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ADC4-E110-4507-9587-7FF6F5176EB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 type="ftr" idx="3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 type="sldNum" idx="3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F9CF-F158-431F-89F7-8AC19E0BCE6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 type="dt" idx="3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E5E2-E5D5-4C1B-ACD2-F15D22C0EDD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9" name="PlaceHolder 4"/>
          <p:cNvSpPr>
            <a:spLocks noGrp="1"/>
          </p:cNvSpPr>
          <p:nvPr>
            <p:ph type="ftr" idx="3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0" name="PlaceHolder 5"/>
          <p:cNvSpPr>
            <a:spLocks noGrp="1"/>
          </p:cNvSpPr>
          <p:nvPr>
            <p:ph type="sldNum" idx="3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2753-36EA-48C5-A06B-77A34E27926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 type="dt" idx="3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08E2-95D1-4AEE-80D5-DBB8E774B55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 type="ftr" idx="3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1" name="PlaceHolder 5"/>
          <p:cNvSpPr>
            <a:spLocks noGrp="1"/>
          </p:cNvSpPr>
          <p:nvPr>
            <p:ph type="sldNum" idx="3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AB48-3799-4E68-96C4-BDA9574F5D2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 type="dt" idx="3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0681-195A-4C86-828D-0F263BC4C21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PlaceHolder 4"/>
          <p:cNvSpPr>
            <a:spLocks noGrp="1"/>
          </p:cNvSpPr>
          <p:nvPr>
            <p:ph type="ftr" idx="3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PlaceHolder 5"/>
          <p:cNvSpPr>
            <a:spLocks noGrp="1"/>
          </p:cNvSpPr>
          <p:nvPr>
            <p:ph type="sldNum" idx="3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1173-CEE7-4EBF-8C1D-6785245AC84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4C92-E89F-4E67-BCC7-F5E2B6252081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 type="dt" idx="3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9EAF-4355-43E1-ABC7-1E6DC509466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 type="ftr" idx="3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3" name="PlaceHolder 5"/>
          <p:cNvSpPr>
            <a:spLocks noGrp="1"/>
          </p:cNvSpPr>
          <p:nvPr>
            <p:ph type="sldNum" idx="3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91EF-13D0-4269-9C97-073FC888EAA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 type="dt" idx="3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0901-84F5-40DA-A580-8393F4908D2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3" name="PlaceHolder 4"/>
          <p:cNvSpPr>
            <a:spLocks noGrp="1"/>
          </p:cNvSpPr>
          <p:nvPr>
            <p:ph type="ftr" idx="3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4" name="PlaceHolder 5"/>
          <p:cNvSpPr>
            <a:spLocks noGrp="1"/>
          </p:cNvSpPr>
          <p:nvPr>
            <p:ph type="sldNum" idx="3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A126-AF71-4FE9-A97E-3E2C7E8D4E2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dt" idx="3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2713-9F88-4D27-BF2F-D52BFDE68DC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 type="ftr" idx="3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PlaceHolder 5"/>
          <p:cNvSpPr>
            <a:spLocks noGrp="1"/>
          </p:cNvSpPr>
          <p:nvPr>
            <p:ph type="sldNum" idx="3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77F2-60B0-4506-B489-8F2278E156B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 type="dt" idx="3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6771-4967-4A1C-9B76-01C2875007F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PlaceHolder 4"/>
          <p:cNvSpPr>
            <a:spLocks noGrp="1"/>
          </p:cNvSpPr>
          <p:nvPr>
            <p:ph type="ftr" idx="3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6" name="PlaceHolder 5"/>
          <p:cNvSpPr>
            <a:spLocks noGrp="1"/>
          </p:cNvSpPr>
          <p:nvPr>
            <p:ph type="sldNum" idx="3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4BEF-62AB-4FB1-999D-0B81B7DF142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 type="dt" idx="3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D21D-DED7-425C-B517-71573174248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6" name="PlaceHolder 4"/>
          <p:cNvSpPr>
            <a:spLocks noGrp="1"/>
          </p:cNvSpPr>
          <p:nvPr>
            <p:ph type="ftr" idx="3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7" name="PlaceHolder 5"/>
          <p:cNvSpPr>
            <a:spLocks noGrp="1"/>
          </p:cNvSpPr>
          <p:nvPr>
            <p:ph type="sldNum" idx="3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0D9B-08C4-49E8-BC26-CB607A81858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 type="dt" idx="3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CDBE-5F3C-4DF6-A8D2-279AAF97285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7" name="PlaceHolder 4"/>
          <p:cNvSpPr>
            <a:spLocks noGrp="1"/>
          </p:cNvSpPr>
          <p:nvPr>
            <p:ph type="ftr" idx="3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8" name="PlaceHolder 5"/>
          <p:cNvSpPr>
            <a:spLocks noGrp="1"/>
          </p:cNvSpPr>
          <p:nvPr>
            <p:ph type="sldNum" idx="3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12B6-558C-4CF5-82CB-09C04D8264E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652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228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804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 type="dt" idx="3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BF1B-0956-4DB5-9E70-D7AE22FF53D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8" name="PlaceHolder 4"/>
          <p:cNvSpPr>
            <a:spLocks noGrp="1"/>
          </p:cNvSpPr>
          <p:nvPr>
            <p:ph type="ftr" idx="3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9" name="PlaceHolder 5"/>
          <p:cNvSpPr>
            <a:spLocks noGrp="1"/>
          </p:cNvSpPr>
          <p:nvPr>
            <p:ph type="sldNum" idx="3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ED27-549A-4BF6-B9E2-8EF763B07EB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 type="dt" idx="3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333B-7E54-4DD7-A354-19B93586D9C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9" name="PlaceHolder 4"/>
          <p:cNvSpPr>
            <a:spLocks noGrp="1"/>
          </p:cNvSpPr>
          <p:nvPr>
            <p:ph type="ftr" idx="3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0" name="PlaceHolder 5"/>
          <p:cNvSpPr>
            <a:spLocks noGrp="1"/>
          </p:cNvSpPr>
          <p:nvPr>
            <p:ph type="sldNum" idx="3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40C1-6868-4743-A49D-F10B8F15CB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 type="dt" idx="3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3836-3BB8-4F68-BBCD-3314DDC361C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 type="ftr" idx="3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 type="sldNum" idx="3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582B-BE31-4D65-8E77-2102332C828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 type="dt" idx="3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9B7B-3580-4A02-AD71-1AA056D5102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1" name="PlaceHolder 4"/>
          <p:cNvSpPr>
            <a:spLocks noGrp="1"/>
          </p:cNvSpPr>
          <p:nvPr>
            <p:ph type="ftr" idx="3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2" name="PlaceHolder 5"/>
          <p:cNvSpPr>
            <a:spLocks noGrp="1"/>
          </p:cNvSpPr>
          <p:nvPr>
            <p:ph type="sldNum" idx="3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1678-C416-43B3-B26C-A0A190815EE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02F9-9356-4E20-88FD-0F6474CD122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 type="dt" idx="3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A0E5-7B8C-4F06-99AF-C04B141129E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2" name="PlaceHolder 4"/>
          <p:cNvSpPr>
            <a:spLocks noGrp="1"/>
          </p:cNvSpPr>
          <p:nvPr>
            <p:ph type="ftr" idx="3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3" name="PlaceHolder 5"/>
          <p:cNvSpPr>
            <a:spLocks noGrp="1"/>
          </p:cNvSpPr>
          <p:nvPr>
            <p:ph type="sldNum" idx="3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EF52-4B80-4FB5-9667-5DE612B906B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 type="dt" idx="3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6A29-8260-4A4F-A24D-BEB46F95DC9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3" name="PlaceHolder 4"/>
          <p:cNvSpPr>
            <a:spLocks noGrp="1"/>
          </p:cNvSpPr>
          <p:nvPr>
            <p:ph type="ftr" idx="3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4" name="PlaceHolder 5"/>
          <p:cNvSpPr>
            <a:spLocks noGrp="1"/>
          </p:cNvSpPr>
          <p:nvPr>
            <p:ph type="sldNum" idx="3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AA44-B146-41ED-A492-78983DD347D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 type="dt" idx="3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CFA-C242-4C35-9786-3901D66E940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4" name="PlaceHolder 4"/>
          <p:cNvSpPr>
            <a:spLocks noGrp="1"/>
          </p:cNvSpPr>
          <p:nvPr>
            <p:ph type="ftr" idx="3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5" name="PlaceHolder 5"/>
          <p:cNvSpPr>
            <a:spLocks noGrp="1"/>
          </p:cNvSpPr>
          <p:nvPr>
            <p:ph type="sldNum" idx="3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6B45-33D2-4F8B-A1B7-8C8984E073E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 type="dt" idx="3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8F4-1D05-4BDF-9840-BE8D1D1CD66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 type="ftr" idx="3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 type="sldNum" idx="3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4E71-CD26-47D9-9B1A-EC73ACA2B91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 type="dt" idx="4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E9F0-A924-4BEA-845A-3C1328D148F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6" name="PlaceHolder 4"/>
          <p:cNvSpPr>
            <a:spLocks noGrp="1"/>
          </p:cNvSpPr>
          <p:nvPr>
            <p:ph type="ftr" idx="4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7" name="PlaceHolder 5"/>
          <p:cNvSpPr>
            <a:spLocks noGrp="1"/>
          </p:cNvSpPr>
          <p:nvPr>
            <p:ph type="sldNum" idx="4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3F02-CEE3-4080-8EBC-3E0BCD7ACF8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 type="dt" idx="4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E8D-1F1C-4E6A-9C70-A28763D2161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PlaceHolder 4"/>
          <p:cNvSpPr>
            <a:spLocks noGrp="1"/>
          </p:cNvSpPr>
          <p:nvPr>
            <p:ph type="ftr" idx="4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PlaceHolder 5"/>
          <p:cNvSpPr>
            <a:spLocks noGrp="1"/>
          </p:cNvSpPr>
          <p:nvPr>
            <p:ph type="sldNum" idx="4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9AE0-B9B0-4085-8DD4-A185C3130DF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 type="dt" idx="4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7FF0-DB06-47DD-9E11-5D902BDA8B6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 type="ftr" idx="4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9" name="PlaceHolder 5"/>
          <p:cNvSpPr>
            <a:spLocks noGrp="1"/>
          </p:cNvSpPr>
          <p:nvPr>
            <p:ph type="sldNum" idx="4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28EF-1EB0-4019-8C98-107A96A6E0C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832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372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092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 type="dt" idx="4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B5C9-EAA2-4110-ABCD-36856E9CEF9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9" name="PlaceHolder 4"/>
          <p:cNvSpPr>
            <a:spLocks noGrp="1"/>
          </p:cNvSpPr>
          <p:nvPr>
            <p:ph type="ftr" idx="4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0" name="PlaceHolder 5"/>
          <p:cNvSpPr>
            <a:spLocks noGrp="1"/>
          </p:cNvSpPr>
          <p:nvPr>
            <p:ph type="sldNum" idx="4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8F82-19E5-4E33-9132-56D90680BA2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 type="dt" idx="4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F53C-E658-4C67-8BF3-BB09FBC54AA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4"/>
          <p:cNvSpPr>
            <a:spLocks noGrp="1"/>
          </p:cNvSpPr>
          <p:nvPr>
            <p:ph type="ftr" idx="4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1" name="PlaceHolder 5"/>
          <p:cNvSpPr>
            <a:spLocks noGrp="1"/>
          </p:cNvSpPr>
          <p:nvPr>
            <p:ph type="sldNum" idx="4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971F-A9B7-40B8-BB4D-0AD7A77AB53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 type="dt" idx="4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00BF-FA1C-45C7-85D8-6D9959B4AE4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1" name="PlaceHolder 4"/>
          <p:cNvSpPr>
            <a:spLocks noGrp="1"/>
          </p:cNvSpPr>
          <p:nvPr>
            <p:ph type="ftr" idx="4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2" name="PlaceHolder 5"/>
          <p:cNvSpPr>
            <a:spLocks noGrp="1"/>
          </p:cNvSpPr>
          <p:nvPr>
            <p:ph type="sldNum" idx="4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19F1-28B9-404D-86F0-5279B6F21B6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AF19-05FB-46AE-B53E-50DD686455B6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 type="dt" idx="4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384E-7276-4095-B5DB-56A2F483837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2" name="PlaceHolder 4"/>
          <p:cNvSpPr>
            <a:spLocks noGrp="1"/>
          </p:cNvSpPr>
          <p:nvPr>
            <p:ph type="ftr" idx="4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3" name="PlaceHolder 5"/>
          <p:cNvSpPr>
            <a:spLocks noGrp="1"/>
          </p:cNvSpPr>
          <p:nvPr>
            <p:ph type="sldNum" idx="4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4697-3570-4C55-9779-FF5AA4A91FF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 type="dt" idx="4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B041-13D9-491A-9CFA-DACF5AB1043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3" name="PlaceHolder 4"/>
          <p:cNvSpPr>
            <a:spLocks noGrp="1"/>
          </p:cNvSpPr>
          <p:nvPr>
            <p:ph type="ftr" idx="4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4" name="PlaceHolder 5"/>
          <p:cNvSpPr>
            <a:spLocks noGrp="1"/>
          </p:cNvSpPr>
          <p:nvPr>
            <p:ph type="sldNum" idx="4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89F-9D00-4C66-BF26-FC5884E1AB2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 type="dt" idx="4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A0C7-F153-460A-9615-38A03C888C6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4" name="PlaceHolder 4"/>
          <p:cNvSpPr>
            <a:spLocks noGrp="1"/>
          </p:cNvSpPr>
          <p:nvPr>
            <p:ph type="ftr" idx="4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5" name="PlaceHolder 5"/>
          <p:cNvSpPr>
            <a:spLocks noGrp="1"/>
          </p:cNvSpPr>
          <p:nvPr>
            <p:ph type="sldNum" idx="4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0F6F-8DE0-4053-9940-AA24021CBD6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 type="dt" idx="4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C0F1-D7FE-4183-BBD5-43FAA5E00DA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PlaceHolder 4"/>
          <p:cNvSpPr>
            <a:spLocks noGrp="1"/>
          </p:cNvSpPr>
          <p:nvPr>
            <p:ph type="ftr" idx="4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PlaceHolder 5"/>
          <p:cNvSpPr>
            <a:spLocks noGrp="1"/>
          </p:cNvSpPr>
          <p:nvPr>
            <p:ph type="sldNum" idx="4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744E-DA19-4749-A627-241E4E8190D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 type="dt" idx="4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B384-B7C3-4FFD-902E-1AE0527CF16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6" name="PlaceHolder 4"/>
          <p:cNvSpPr>
            <a:spLocks noGrp="1"/>
          </p:cNvSpPr>
          <p:nvPr>
            <p:ph type="ftr" idx="4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7" name="PlaceHolder 5"/>
          <p:cNvSpPr>
            <a:spLocks noGrp="1"/>
          </p:cNvSpPr>
          <p:nvPr>
            <p:ph type="sldNum" idx="4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789D-1DBA-4535-A3A3-E0AE860F983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 type="dt" idx="4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103D-C9F2-4518-BBB7-0790D1205E0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7" name="PlaceHolder 4"/>
          <p:cNvSpPr>
            <a:spLocks noGrp="1"/>
          </p:cNvSpPr>
          <p:nvPr>
            <p:ph type="ftr" idx="4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8" name="PlaceHolder 5"/>
          <p:cNvSpPr>
            <a:spLocks noGrp="1"/>
          </p:cNvSpPr>
          <p:nvPr>
            <p:ph type="sldNum" idx="4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BFCF-41BB-439F-8BB7-8462EF691DC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 type="dt" idx="4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7BC7-175C-456A-BA78-32C96BF282C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8" name="PlaceHolder 4"/>
          <p:cNvSpPr>
            <a:spLocks noGrp="1"/>
          </p:cNvSpPr>
          <p:nvPr>
            <p:ph type="ftr" idx="4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9" name="PlaceHolder 5"/>
          <p:cNvSpPr>
            <a:spLocks noGrp="1"/>
          </p:cNvSpPr>
          <p:nvPr>
            <p:ph type="sldNum" idx="4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EDCC-BF37-41C5-BE9C-F1270A26BF8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 type="dt" idx="4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2DA-5038-4897-BBE2-4EBDFB76BC4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9" name="PlaceHolder 4"/>
          <p:cNvSpPr>
            <a:spLocks noGrp="1"/>
          </p:cNvSpPr>
          <p:nvPr>
            <p:ph type="ftr" idx="4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0" name="PlaceHolder 5"/>
          <p:cNvSpPr>
            <a:spLocks noGrp="1"/>
          </p:cNvSpPr>
          <p:nvPr>
            <p:ph type="sldNum" idx="4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6FDC-EA67-4196-9292-8C5D668908C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272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 type="dt" idx="4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1498-6C3C-433D-B60E-CC9F8DF97C5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0" name="PlaceHolder 4"/>
          <p:cNvSpPr>
            <a:spLocks noGrp="1"/>
          </p:cNvSpPr>
          <p:nvPr>
            <p:ph type="ftr" idx="4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1" name="PlaceHolder 5"/>
          <p:cNvSpPr>
            <a:spLocks noGrp="1"/>
          </p:cNvSpPr>
          <p:nvPr>
            <p:ph type="sldNum" idx="4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F5C2-F322-49DF-910F-CD9F1D80C1F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 type="dt" idx="4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3338-5147-4878-9D0A-0B531129AD5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1" name="PlaceHolder 4"/>
          <p:cNvSpPr>
            <a:spLocks noGrp="1"/>
          </p:cNvSpPr>
          <p:nvPr>
            <p:ph type="ftr" idx="4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2" name="PlaceHolder 5"/>
          <p:cNvSpPr>
            <a:spLocks noGrp="1"/>
          </p:cNvSpPr>
          <p:nvPr>
            <p:ph type="sldNum" idx="4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3EDA-8EF4-4740-A5EB-C7929EB334C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FA99-D2FB-4B36-8C31-1DBC2C603CB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 type="dt" idx="4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1B90-031B-4005-8C70-5C084CAD0B6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 type="ftr" idx="4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3" name="PlaceHolder 5"/>
          <p:cNvSpPr>
            <a:spLocks noGrp="1"/>
          </p:cNvSpPr>
          <p:nvPr>
            <p:ph type="sldNum" idx="4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5871-B812-4C0D-8DCA-5F32746ECC8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 type="dt" idx="4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672B-7BDC-4F94-8822-2295B315069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3" name="PlaceHolder 4"/>
          <p:cNvSpPr>
            <a:spLocks noGrp="1"/>
          </p:cNvSpPr>
          <p:nvPr>
            <p:ph type="ftr" idx="4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4" name="PlaceHolder 5"/>
          <p:cNvSpPr>
            <a:spLocks noGrp="1"/>
          </p:cNvSpPr>
          <p:nvPr>
            <p:ph type="sldNum" idx="4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CB4C-C51C-4A9C-B393-2F3A3D628E2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 type="dt" idx="4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70E7-BE85-4AEF-B8A7-F760690D76E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4" name="PlaceHolder 4"/>
          <p:cNvSpPr>
            <a:spLocks noGrp="1"/>
          </p:cNvSpPr>
          <p:nvPr>
            <p:ph type="ftr" idx="4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5" name="PlaceHolder 5"/>
          <p:cNvSpPr>
            <a:spLocks noGrp="1"/>
          </p:cNvSpPr>
          <p:nvPr>
            <p:ph type="sldNum" idx="4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BD5-440B-44F6-A2A8-908237EEE23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 type="dt" idx="4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F270-64B9-4F72-B5DF-491C88DE6C9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5" name="PlaceHolder 4"/>
          <p:cNvSpPr>
            <a:spLocks noGrp="1"/>
          </p:cNvSpPr>
          <p:nvPr>
            <p:ph type="ftr" idx="4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6" name="PlaceHolder 5"/>
          <p:cNvSpPr>
            <a:spLocks noGrp="1"/>
          </p:cNvSpPr>
          <p:nvPr>
            <p:ph type="sldNum" idx="4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BFCD-3056-4CEF-BF98-47953001488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 type="dt" idx="4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2E8D-9111-4D04-8831-9918B7A09DF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6" name="PlaceHolder 4"/>
          <p:cNvSpPr>
            <a:spLocks noGrp="1"/>
          </p:cNvSpPr>
          <p:nvPr>
            <p:ph type="ftr" idx="4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7" name="PlaceHolder 5"/>
          <p:cNvSpPr>
            <a:spLocks noGrp="1"/>
          </p:cNvSpPr>
          <p:nvPr>
            <p:ph type="sldNum" idx="4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729C-1D6B-473C-A76E-05ECA86130D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 type="dt" idx="4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833C-2673-4E46-BAD0-0FD9CE3043F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 type="ftr" idx="4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8" name="PlaceHolder 5"/>
          <p:cNvSpPr>
            <a:spLocks noGrp="1"/>
          </p:cNvSpPr>
          <p:nvPr>
            <p:ph type="sldNum" idx="4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3CFB-6CC4-46FF-A41B-23777D13D2F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7" name="PlaceHolder 3"/>
          <p:cNvSpPr>
            <a:spLocks noGrp="1"/>
          </p:cNvSpPr>
          <p:nvPr>
            <p:ph type="dt" idx="4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5F95-FA3B-4C35-A306-BF3E3A1C948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8" name="PlaceHolder 4"/>
          <p:cNvSpPr>
            <a:spLocks noGrp="1"/>
          </p:cNvSpPr>
          <p:nvPr>
            <p:ph type="ftr" idx="4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9" name="PlaceHolder 5"/>
          <p:cNvSpPr>
            <a:spLocks noGrp="1"/>
          </p:cNvSpPr>
          <p:nvPr>
            <p:ph type="sldNum" idx="4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E53D-BB61-4D53-AC1E-F6319EE5DB9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8" name="PlaceHolder 3"/>
          <p:cNvSpPr>
            <a:spLocks noGrp="1"/>
          </p:cNvSpPr>
          <p:nvPr>
            <p:ph type="dt" idx="4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FB94-93D2-4D37-B68E-19C9BB8A8C0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9" name="PlaceHolder 4"/>
          <p:cNvSpPr>
            <a:spLocks noGrp="1"/>
          </p:cNvSpPr>
          <p:nvPr>
            <p:ph type="ftr" idx="4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0" name="PlaceHolder 5"/>
          <p:cNvSpPr>
            <a:spLocks noGrp="1"/>
          </p:cNvSpPr>
          <p:nvPr>
            <p:ph type="sldNum" idx="4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C968-113E-4D71-B11E-FA8484072E8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9" name="PlaceHolder 3"/>
          <p:cNvSpPr>
            <a:spLocks noGrp="1"/>
          </p:cNvSpPr>
          <p:nvPr>
            <p:ph type="dt" idx="4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1188-668C-4DA4-BDC9-B05FE0F761E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0" name="PlaceHolder 4"/>
          <p:cNvSpPr>
            <a:spLocks noGrp="1"/>
          </p:cNvSpPr>
          <p:nvPr>
            <p:ph type="ftr" idx="4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1" name="PlaceHolder 5"/>
          <p:cNvSpPr>
            <a:spLocks noGrp="1"/>
          </p:cNvSpPr>
          <p:nvPr>
            <p:ph type="sldNum" idx="4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7A17-A381-4003-9663-A8403AF223B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90" r:id="rId2"/>
    <p:sldLayoutId id="2147485691" r:id="rId3"/>
    <p:sldLayoutId id="2147485692" r:id="rId4"/>
    <p:sldLayoutId id="2147485693" r:id="rId5"/>
    <p:sldLayoutId id="2147485694" r:id="rId6"/>
    <p:sldLayoutId id="2147485695" r:id="rId7"/>
    <p:sldLayoutId id="2147485696" r:id="rId8"/>
    <p:sldLayoutId id="2147485697" r:id="rId9"/>
    <p:sldLayoutId id="2147485698" r:id="rId10"/>
    <p:sldLayoutId id="2147485699" r:id="rId11"/>
    <p:sldLayoutId id="2147485700" r:id="rId12"/>
    <p:sldLayoutId id="2147485701" r:id="rId13"/>
  </p:sldLayoutIdLst>
</p:sldMaster>
</file>

<file path=ppt/slideMasters/slideMaster1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0" name="PlaceHolder 3"/>
          <p:cNvSpPr>
            <a:spLocks noGrp="1"/>
          </p:cNvSpPr>
          <p:nvPr>
            <p:ph type="dt" idx="4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1E2-4FE0-4FCC-9BD3-3F2F86B9AED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1" name="PlaceHolder 4"/>
          <p:cNvSpPr>
            <a:spLocks noGrp="1"/>
          </p:cNvSpPr>
          <p:nvPr>
            <p:ph type="ftr" idx="4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2" name="PlaceHolder 5"/>
          <p:cNvSpPr>
            <a:spLocks noGrp="1"/>
          </p:cNvSpPr>
          <p:nvPr>
            <p:ph type="sldNum" idx="4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2A20-E089-4CF6-8D65-CD33AB27FE0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03" r:id="rId2"/>
    <p:sldLayoutId id="2147485704" r:id="rId3"/>
    <p:sldLayoutId id="2147485705" r:id="rId4"/>
    <p:sldLayoutId id="2147485706" r:id="rId5"/>
    <p:sldLayoutId id="2147485707" r:id="rId6"/>
    <p:sldLayoutId id="2147485708" r:id="rId7"/>
    <p:sldLayoutId id="2147485709" r:id="rId8"/>
    <p:sldLayoutId id="2147485710" r:id="rId9"/>
    <p:sldLayoutId id="2147485711" r:id="rId10"/>
    <p:sldLayoutId id="2147485712" r:id="rId11"/>
    <p:sldLayoutId id="2147485713" r:id="rId12"/>
    <p:sldLayoutId id="2147485714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FE75-B24A-4646-87CD-AA2BF57A121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83C4-81D8-416B-BFDB-47C6ABF7E43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B9CD-7682-4E2D-823B-020559707E9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6EAC-4B01-4255-8CE4-A39A82006A0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7FB2-0F80-414D-AFE9-C428527B777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673F-A257-4B54-BB9D-DFF9D372EAA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4B2F-E75F-4DC2-BA89-67E2B6FEFE7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4629-44F1-4EDD-A432-6C47045D6B11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4EC6-7446-4116-9BD1-86EAD4A5D83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E0FE-C182-4BD2-B9A9-86F65307522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AC59-579D-4ADC-987F-16533FE8F25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A000-8792-4D77-BF9F-0ECFE4D4B13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5ABC-C9E3-4954-A1B7-230E9DB63DA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AD94-2CC7-4CB0-82F0-0854CFD51DE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25E5-9CA4-4C45-A283-206190A2DDD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4563-E821-4673-8860-1887255E902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262D-A4A4-45B1-95A0-89C42B51528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BDE9-9919-49C9-BA1B-C5FFBBBE88E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93ED-6C04-43EB-BA57-4AD072827C1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B49D-856C-4C44-A905-04E0C580270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52DF-3E54-499B-924A-EAA7F2DA5F0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C1F2-2EA4-48B2-B17B-73CFE16AA3E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33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342-364F-4A23-8EAB-3E318C39A5A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C4F7-2D36-47E5-AE80-D57255EF045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8128-0812-40E0-A527-54E5F7F3354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2EFB-1FE0-4878-8EC4-5F8AE6DA367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1651-4DEE-42A6-97D2-A958BADFFC4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F0FF-07D9-4B27-A45C-AA627D73036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5C7F-517A-4AFD-BACA-5A58A19CBD8E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5D58-4D13-4607-8FF8-23E2A4E78B5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63EA-833F-4439-9620-1F20C47869F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E623-73AD-43F3-85C1-5D1EFB23FB7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FC9B-E020-4D7D-B840-3F03A018940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FE53-AE63-4B04-800A-67274464A1F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D266-E33F-49D9-9394-5E781FCF5C1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1D53-E842-41AA-8FD9-E8264B124E3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3053-CCAE-42F9-9F49-1D295D92BB5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AB5E-9BEF-41A9-A504-90DD59DCEC3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87C5-2E35-4030-91EF-E9B2AF98390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37BE-4622-49BC-9F43-3FB2FF8D477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0751-4E40-443F-8EDA-BA8451B65E3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1FB1-8C14-447E-B067-0991542C84D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ECA3-3786-4FE9-BAC9-003D75F6F1A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2FAC-665A-42AC-A78B-68B95C311EF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2037-E12D-41E5-8DEE-0FB0CAF1649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6C30-79AB-452A-AE96-C514B8A3626A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D49-7CC1-468A-8098-41B095BA0E6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B626-A894-4910-842F-4AB5A246C2F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D5AC-E0EC-4919-8A09-870EF9B2B28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E74A-AB59-47B1-941A-AF318F736117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E5CB-538B-4279-A85D-7EECF023806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43D1-A32E-4EAC-8479-D206EDFD226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AC8C-0AF9-42C4-904F-14ED839FE82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FC4A-A2E8-480F-82CA-CB81C53FC2C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8F54-5AFD-49D1-8E3F-D951B1F36DA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311C-204C-4E87-A1C6-8286DAA2B89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67E1-477C-4531-B184-4949A369DA2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AF81-A990-4D1A-A8BA-04067CC8F2A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AB3B-BA28-452B-AD34-0E5C8ADE0E2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4437-561D-4138-AE9D-988FC9C39A5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B00-49BA-46DE-8A15-8A5CDF98406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C59F-2B8E-441C-93FA-872BB14A27D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9C5B-78F6-4848-A971-2D9B4D6758F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F239-C2DA-4480-863A-6CEA68E2468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EA14-0591-44C0-BFD2-7CF96360EB9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F734-26BF-477E-8C13-2CEF656ECA3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CD9F-E1AF-46CB-B5FB-FD8EC85CB6C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2D5F-80E1-4783-B673-ACFB740F71D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9E10-161F-4459-B6BF-2800F1FCC09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56D4-439B-408D-981F-F91E2E4619B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33B7-B2AA-404E-96B0-6263DEE67FC3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15B1-349A-4002-92F1-47E16F169D6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3F47-B8F8-452A-8D82-BDAD194A487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3A21-749A-471F-9F31-4FF1A5AC1FB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BEA8-0EF3-417D-A40D-DEA45767649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B426-E66B-4645-9768-D150E6553A5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2A70-51B8-4712-A56A-DCE651F20C9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80F0-5451-4AC9-A6B2-96AF07BA263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46E2-BD49-4292-B9F1-CFE629C0788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A187-46D1-41C8-8CE5-CECF768D6A9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8705-AC65-4CAF-9465-3C98A6A3068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CF23-04F8-4962-B344-A6A2B64ACB5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F0AF-01C5-45C6-9A25-E8D0992E7A6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A9D-0174-445E-8B82-00D32081806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37EC-E9CF-4AEC-8C5F-25600B17EF9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23C6-DA74-4C57-946B-DE753317D5B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23EE-A8F7-4E5B-BA2B-70980E14180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3CD2-5928-438E-B67A-8BC6E9F9ADB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8722-31EE-4D66-B02D-2C831C49743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5C34-F197-4DE7-803E-585E5D0F7C9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8C89-D263-4ED1-A0C3-335FCA05B46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0D02-14C5-4F7D-BCED-FAF1F84B36BA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3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880" indent="-225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C295-B910-42A8-AC30-7D61BD3DAB0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A14E-7413-4C04-8BEF-E527B198547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1445-B3A7-49B4-8980-8F1FF9122E5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4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75E8-07CF-4216-9FAE-0507A6DC6F3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9B83-2E01-4032-A9FD-AC860E95A20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5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E5B2-5321-403A-82EC-C73577DA750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6863-069A-4703-B7E9-436364F4E9C7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354C-9AE2-4073-8D5C-C87E8622DC5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4E41-7E91-4D53-8383-43F71997E3C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FF8A-C5C9-467B-A913-451E30480A0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9F48-C5E9-4AB2-A577-7B81E50E718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8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BA44-EC20-4970-A290-297213FA34B4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07B7-0E4A-4C14-81D1-5119137909A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00E8-A042-4CBA-A8B5-0AB60DDBE71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34CD-6369-4D37-919D-13237BAD5FA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84DE-2AB7-4CE4-92B0-9B084EA4BF3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7E61-41E8-4BA9-AF40-E73E05FFEDA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1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9217-01C0-41AC-886E-E09D3B9CE96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 type="dt" idx="20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BF2C-D528-46A3-8E84-81C89A2CD7A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 type="ftr" idx="20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 type="sldNum" idx="20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31D6-8212-4BC0-8AC9-1B30C04D149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7476-5980-43A2-987E-E4BC8B8D5430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 type="dt" idx="20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2E9D-028C-4F2D-9688-B6D029E00F8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 type="ftr" idx="20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 type="sldNum" idx="2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A211-0C5F-4346-925F-E802C7DF698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84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83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3"/>
          <p:cNvSpPr>
            <a:spLocks noGrp="1"/>
          </p:cNvSpPr>
          <p:nvPr>
            <p:ph type="dt" idx="2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F702-11F6-49C7-84A8-2A2A9B4C202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PlaceHolder 4"/>
          <p:cNvSpPr>
            <a:spLocks noGrp="1"/>
          </p:cNvSpPr>
          <p:nvPr>
            <p:ph type="ftr" idx="2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PlaceHolder 5"/>
          <p:cNvSpPr>
            <a:spLocks noGrp="1"/>
          </p:cNvSpPr>
          <p:nvPr>
            <p:ph type="sldNum" idx="2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D116-D48D-4F0A-87CE-B53F5341C17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 type="dt" idx="2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37AB-287F-4EE7-B4AD-398CBA4EE9BE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 type="ftr" idx="2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PlaceHolder 5"/>
          <p:cNvSpPr>
            <a:spLocks noGrp="1"/>
          </p:cNvSpPr>
          <p:nvPr>
            <p:ph type="sldNum" idx="2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1657-EFB7-4A04-9F41-80465456256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dt" idx="2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51CB-AA13-44CB-A0C2-412804A1B15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PlaceHolder 4"/>
          <p:cNvSpPr>
            <a:spLocks noGrp="1"/>
          </p:cNvSpPr>
          <p:nvPr>
            <p:ph type="ftr" idx="2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PlaceHolder 5"/>
          <p:cNvSpPr>
            <a:spLocks noGrp="1"/>
          </p:cNvSpPr>
          <p:nvPr>
            <p:ph type="sldNum" idx="2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2C52-D1D6-45AF-816D-475E2EBF2F5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3"/>
          <p:cNvSpPr>
            <a:spLocks noGrp="1"/>
          </p:cNvSpPr>
          <p:nvPr>
            <p:ph type="dt" idx="2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95B-32F2-4F46-B016-C65B9A4B0E9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PlaceHolder 4"/>
          <p:cNvSpPr>
            <a:spLocks noGrp="1"/>
          </p:cNvSpPr>
          <p:nvPr>
            <p:ph type="ftr" idx="2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PlaceHolder 5"/>
          <p:cNvSpPr>
            <a:spLocks noGrp="1"/>
          </p:cNvSpPr>
          <p:nvPr>
            <p:ph type="sldNum" idx="2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1A1F-22E4-4385-946C-D2D7754D8AC1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 type="dt" idx="2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FEF3-A159-436C-8974-31028121B101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 type="ftr" idx="2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PlaceHolder 5"/>
          <p:cNvSpPr>
            <a:spLocks noGrp="1"/>
          </p:cNvSpPr>
          <p:nvPr>
            <p:ph type="sldNum" idx="2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D81F-615A-48AE-B758-5A8FE7768C5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PlaceHolder 3"/>
          <p:cNvSpPr>
            <a:spLocks noGrp="1"/>
          </p:cNvSpPr>
          <p:nvPr>
            <p:ph type="dt" idx="2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AE33-DE30-4F4D-99DA-8D7E4353DFA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PlaceHolder 4"/>
          <p:cNvSpPr>
            <a:spLocks noGrp="1"/>
          </p:cNvSpPr>
          <p:nvPr>
            <p:ph type="ftr" idx="2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PlaceHolder 5"/>
          <p:cNvSpPr>
            <a:spLocks noGrp="1"/>
          </p:cNvSpPr>
          <p:nvPr>
            <p:ph type="sldNum" idx="2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A85E-B79A-455C-B8A5-A95A24E8193B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 type="dt" idx="2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C812-25F1-4522-93F0-457F332A492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 type="ftr" idx="2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0" name="PlaceHolder 5"/>
          <p:cNvSpPr>
            <a:spLocks noGrp="1"/>
          </p:cNvSpPr>
          <p:nvPr>
            <p:ph type="sldNum" idx="2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0C19-64D8-46CD-83F4-7272BA7FD35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9" name="PlaceHolder 3"/>
          <p:cNvSpPr>
            <a:spLocks noGrp="1"/>
          </p:cNvSpPr>
          <p:nvPr>
            <p:ph type="dt" idx="2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08F3-1EF1-4DFD-AD84-55341180E075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0" name="PlaceHolder 4"/>
          <p:cNvSpPr>
            <a:spLocks noGrp="1"/>
          </p:cNvSpPr>
          <p:nvPr>
            <p:ph type="ftr" idx="2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1" name="PlaceHolder 5"/>
          <p:cNvSpPr>
            <a:spLocks noGrp="1"/>
          </p:cNvSpPr>
          <p:nvPr>
            <p:ph type="sldNum" idx="2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8B6-00D1-4B6F-9E83-A1DED075183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 type="dt" idx="23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8B09-33F9-4A6C-A193-BB49BE2C91A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 type="ftr" idx="2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2" name="PlaceHolder 5"/>
          <p:cNvSpPr>
            <a:spLocks noGrp="1"/>
          </p:cNvSpPr>
          <p:nvPr>
            <p:ph type="sldNum" idx="2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7074-1F4D-4DC6-9587-65FCE808CA8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BB3-DC1B-4227-B0AC-C4C56452EA04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 type="dt" idx="23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1D85-7C7E-4C1B-BCBB-F332A0F124A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 type="ftr" idx="23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PlaceHolder 5"/>
          <p:cNvSpPr>
            <a:spLocks noGrp="1"/>
          </p:cNvSpPr>
          <p:nvPr>
            <p:ph type="sldNum" idx="2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2744-7CB1-4308-A6DB-4B7DF752436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 type="dt" idx="2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E2B2-5C5C-4D54-98F2-CE535D3D9CA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 type="ftr" idx="2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4" name="PlaceHolder 5"/>
          <p:cNvSpPr>
            <a:spLocks noGrp="1"/>
          </p:cNvSpPr>
          <p:nvPr>
            <p:ph type="sldNum" idx="2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ECDF-539F-4494-995A-A73C51677F00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58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97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 type="dt" idx="2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B6BA-7E27-484B-A707-0F7F5F1C222D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4" name="PlaceHolder 4"/>
          <p:cNvSpPr>
            <a:spLocks noGrp="1"/>
          </p:cNvSpPr>
          <p:nvPr>
            <p:ph type="ftr" idx="2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5" name="PlaceHolder 5"/>
          <p:cNvSpPr>
            <a:spLocks noGrp="1"/>
          </p:cNvSpPr>
          <p:nvPr>
            <p:ph type="sldNum" idx="2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9C39-BC89-450E-9543-221593EF6BB2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 type="dt" idx="2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73AA-E1A7-4015-B649-B02E13FDD59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 type="ftr" idx="2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6" name="PlaceHolder 5"/>
          <p:cNvSpPr>
            <a:spLocks noGrp="1"/>
          </p:cNvSpPr>
          <p:nvPr>
            <p:ph type="sldNum" idx="2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65D4-1E51-48B6-8C5B-1AE8FBF506F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5" name="PlaceHolder 3"/>
          <p:cNvSpPr>
            <a:spLocks noGrp="1"/>
          </p:cNvSpPr>
          <p:nvPr>
            <p:ph type="dt" idx="2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3FD1-43D8-4663-BA3D-101F25473F0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PlaceHolder 4"/>
          <p:cNvSpPr>
            <a:spLocks noGrp="1"/>
          </p:cNvSpPr>
          <p:nvPr>
            <p:ph type="ftr" idx="2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PlaceHolder 5"/>
          <p:cNvSpPr>
            <a:spLocks noGrp="1"/>
          </p:cNvSpPr>
          <p:nvPr>
            <p:ph type="sldNum" idx="2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806B-0854-47EF-B174-8594277001A9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9C66-85C8-456D-8A0E-D30388EA20E0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F778-28D1-4E96-AA61-6EEA79F4D0CE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 type="dt" idx="2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87C-9660-4DD8-BE17-5243CCB1217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PlaceHolder 4"/>
          <p:cNvSpPr>
            <a:spLocks noGrp="1"/>
          </p:cNvSpPr>
          <p:nvPr>
            <p:ph type="ftr" idx="2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PlaceHolder 5"/>
          <p:cNvSpPr>
            <a:spLocks noGrp="1"/>
          </p:cNvSpPr>
          <p:nvPr>
            <p:ph type="sldNum" idx="2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0D1B-4B13-473D-816B-0035925BE66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 type="dt" idx="2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6006-0F65-45D4-A5D7-BE4E8B98246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9" name="PlaceHolder 4"/>
          <p:cNvSpPr>
            <a:spLocks noGrp="1"/>
          </p:cNvSpPr>
          <p:nvPr>
            <p:ph type="ftr" idx="2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0" name="PlaceHolder 5"/>
          <p:cNvSpPr>
            <a:spLocks noGrp="1"/>
          </p:cNvSpPr>
          <p:nvPr>
            <p:ph type="sldNum" idx="2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E009-5138-43E0-97B2-B8B138DA04C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9" name="PlaceHolder 3"/>
          <p:cNvSpPr>
            <a:spLocks noGrp="1"/>
          </p:cNvSpPr>
          <p:nvPr>
            <p:ph type="dt" idx="2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2A99-363A-4AB9-8FB7-49DAFA5B89AC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0" name="PlaceHolder 4"/>
          <p:cNvSpPr>
            <a:spLocks noGrp="1"/>
          </p:cNvSpPr>
          <p:nvPr>
            <p:ph type="ftr" idx="2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1" name="PlaceHolder 5"/>
          <p:cNvSpPr>
            <a:spLocks noGrp="1"/>
          </p:cNvSpPr>
          <p:nvPr>
            <p:ph type="sldNum" idx="2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5FB8-1204-4EAE-8DAA-9127218B09B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 type="dt" idx="2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499C-0FEC-4229-A370-83351A94ED7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 type="ftr" idx="2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 type="sldNum" idx="2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E81D-AF3E-4A63-A8F0-4D155010BBA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FB5A-9CBD-4C30-B4A7-79D07C4F203B}" type="slidenum">
              <a:rPr b="0" lang="ru-RU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 type="dt" idx="2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BBB7-CBFE-47BC-AF9E-76AEFBF6EE8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 type="ftr" idx="2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3" name="PlaceHolder 5"/>
          <p:cNvSpPr>
            <a:spLocks noGrp="1"/>
          </p:cNvSpPr>
          <p:nvPr>
            <p:ph type="sldNum" idx="2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E195-C716-40AF-A7A7-591857E26C37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 type="dt" idx="2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1CB9-5192-4DB0-9519-652256F597EB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 type="ftr" idx="2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4" name="PlaceHolder 5"/>
          <p:cNvSpPr>
            <a:spLocks noGrp="1"/>
          </p:cNvSpPr>
          <p:nvPr>
            <p:ph type="sldNum" idx="2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FC15-DB54-4A44-8465-C890A777277D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 type="dt" idx="2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97BB-3688-4EC7-9C25-C87121C348E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 type="ftr" idx="2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 type="sldNum" idx="2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E6E4-8D78-4BD1-B5B1-A637E4B40D9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3640" indent="-225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760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15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 type="dt" idx="27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FD6A-2F1E-452E-BFFE-183BA77E3F62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 type="ftr" idx="27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PlaceHolder 5"/>
          <p:cNvSpPr>
            <a:spLocks noGrp="1"/>
          </p:cNvSpPr>
          <p:nvPr>
            <p:ph type="sldNum" idx="27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CE50-296B-439C-A365-79671AA70CC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 type="dt" idx="28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3DC5-BFCE-4BDE-B937-7D77865EE0B3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 type="ftr" idx="28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7" name="PlaceHolder 5"/>
          <p:cNvSpPr>
            <a:spLocks noGrp="1"/>
          </p:cNvSpPr>
          <p:nvPr>
            <p:ph type="sldNum" idx="28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C5E-2032-484D-BC10-51C24AE70D9F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 type="dt" idx="28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E0A6-EB0B-46F4-BFAB-0793051B40E4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 type="ftr" idx="28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8" name="PlaceHolder 5"/>
          <p:cNvSpPr>
            <a:spLocks noGrp="1"/>
          </p:cNvSpPr>
          <p:nvPr>
            <p:ph type="sldNum" idx="28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754E-5A53-4E90-9D7E-2A3F88C48005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 type="dt" idx="28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BE6F-B523-4789-8184-85F7DB412BD8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 type="ftr" idx="28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5"/>
          <p:cNvSpPr>
            <a:spLocks noGrp="1"/>
          </p:cNvSpPr>
          <p:nvPr>
            <p:ph type="sldNum" idx="28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4FCF-12BA-4AD6-85C1-6FA64112898A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 type="dt" idx="28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BFCF-126B-4B73-9B54-8BD1F2AC2E36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 type="ftr" idx="29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PlaceHolder 5"/>
          <p:cNvSpPr>
            <a:spLocks noGrp="1"/>
          </p:cNvSpPr>
          <p:nvPr>
            <p:ph type="sldNum" idx="29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62DB-E6E0-4A7F-9EAE-A9B9A33186D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 type="dt" idx="2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BB81-83BB-4392-8D52-97AEB7CD343F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 type="ftr" idx="2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1" name="PlaceHolder 5"/>
          <p:cNvSpPr>
            <a:spLocks noGrp="1"/>
          </p:cNvSpPr>
          <p:nvPr>
            <p:ph type="sldNum" idx="2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51F4-F3BA-4565-85B3-F16570B9637C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656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508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9040" indent="-226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43000" indent="-2268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 type="dt" idx="2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6F54-1637-43C9-9A7F-BAD937510759}" type="datetime">
              <a:rPr b="0" lang="ru-RU" sz="1200" spc="-1" strike="noStrike">
                <a:solidFill>
                  <a:srgbClr val="898989"/>
                </a:solidFill>
                <a:latin typeface="Tahom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 type="ftr" idx="2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2" name="PlaceHolder 5"/>
          <p:cNvSpPr>
            <a:spLocks noGrp="1"/>
          </p:cNvSpPr>
          <p:nvPr>
            <p:ph type="sldNum" idx="2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95C-E802-4B54-8168-9E451059D153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8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9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Центр психолого-педагогической поддержки и развития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ля детей дошкольного возраста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 особыми образовательными потребностями</a:t>
            </a:r>
            <a:br>
              <a:rPr sz="4000"/>
            </a:b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"Эмпатия"</a:t>
            </a:r>
            <a:br>
              <a:rPr sz="66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труктурное подразделение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ЧОУ школа «Аврора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2" name=""/>
          <p:cNvSpPr txBox="1"/>
          <p:nvPr/>
        </p:nvSpPr>
        <p:spPr>
          <a:xfrm>
            <a:off x="178920" y="189000"/>
            <a:ext cx="871380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труктура психолого-коррекционного блока представлена этапам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. диагностически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диагностика актуального уровня развития ребенка, определение объема необходимых коррекционных мероприятий, отслеживание динамики в процессе коррекционной работы,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2. психолого-педагогическое консультирование родителей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вопросам реализации индивидуальных рекомендаций специалистов и по личному запросу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3. коррекционно-развивающий этап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проведение индивидуальных занятий с ребенком и в группах (по показаниям специалист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3" name=""/>
          <p:cNvSpPr txBox="1"/>
          <p:nvPr/>
        </p:nvSpPr>
        <p:spPr>
          <a:xfrm>
            <a:off x="108000" y="260280"/>
            <a:ext cx="8856720" cy="640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ециалисты цент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ый руководитель ЦПР «ЭМПАТИЯ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ндидат педагогических наук, доцент ККПСП  НИПКиПРО,  специальный психол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ординато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начальных классов (с дополнительной квалификацией «Олигофренопедагог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ециалисты ЦП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- дефектоло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- логопед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музыки, ИЗ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ециальные психолог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учителя начальных класс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пециалисты по психомоторной коррек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4" name="PlaceHolder 1"/>
          <p:cNvSpPr>
            <a:spLocks noGrp="1"/>
          </p:cNvSpPr>
          <p:nvPr>
            <p:ph type="title"/>
          </p:nvPr>
        </p:nvSpPr>
        <p:spPr>
          <a:xfrm>
            <a:off x="194760" y="163080"/>
            <a:ext cx="8688600" cy="646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 anchorCtr="1">
            <a:noAutofit/>
          </a:bodyPr>
          <a:p>
            <a:pPr indent="0" algn="ctr">
              <a:lnSpc>
                <a:spcPct val="115000"/>
              </a:lnSpc>
              <a:spcAft>
                <a:spcPts val="201"/>
              </a:spcAft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методов коррекции нарушений развития детей с РАС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угими нарушениями развития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5" name="PlaceHolder 1"/>
          <p:cNvSpPr>
            <a:spLocks noGrp="1"/>
          </p:cNvSpPr>
          <p:nvPr>
            <p:ph type="subTitle"/>
          </p:nvPr>
        </p:nvSpPr>
        <p:spPr>
          <a:xfrm>
            <a:off x="64800" y="163440"/>
            <a:ext cx="8948520" cy="653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Floortime (методика Гринспана)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FLOOR TIME ("игровое время")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ика создана Стенли Гринспаном. Использует интересы ребенка, даже патологические (например, часами тереть по стеклу) для установления с ним контакта (педагог или родитель становится рядом и тоже трет по стеклу, или закрывает стекло, и ребенок вынужден на это отреагировать – начать тереть стекло в другом месте, эти возможности уже будут началом контакта)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Гринспан выделяет шесть стадий развития ребенка в норме: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интереса к миру (достигается к трем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привязанности (к пяти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двухсторонней коммуникации (к девяти месяц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дия осознания себя (к полутора год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ых идей( к двум с половиной годам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го мышления (к четырем годам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утисты обычно не проходят все стадии, а останавливаются на одной из них. Задачей "игрового времени" является помочь ребенку пройти через все стадии. Двусторонняя коммуникация достигается, если ребенок реагирует на действия взросло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6" name="PlaceHolder 1"/>
          <p:cNvSpPr>
            <a:spLocks noGrp="1"/>
          </p:cNvSpPr>
          <p:nvPr>
            <p:ph type="subTitle"/>
          </p:nvPr>
        </p:nvSpPr>
        <p:spPr>
          <a:xfrm>
            <a:off x="195120" y="96840"/>
            <a:ext cx="8840880" cy="653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575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нсорная интеграци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601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метода сенсорной интеграции Джин Айре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бный педагог и эрготерапев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ой идеей терапии, основанной на сенсорной интеграции, является стимуляция сенсорных систем и контроль над сенсорными каналами, направленные на то, чтобы ребенок спонтанно формировал адаптивные ответы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грирующие различные виды ощущений от различных сенсорных систем: зрительной, слуховой, обонятельной, тактильной, проприоцептивной, вестибулярн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я наиболее эффективна, если ребенок сам направляет свои действия, а педагог лишь ненавязчиво организует и меняет обстанов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правило, интеграция происходит, когда ребенок стремится к ощущениям и делает что-то, чтобы их получи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занятие ребенку интересно, его мозг, как правило, способен организовать ощущения от этого занятия и встраивает полученные связи в функциональную систему (ассоциации, восприятие, мышление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76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spcAft>
                <a:spcPts val="1026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7" name="PlaceHolder 1"/>
          <p:cNvSpPr>
            <a:spLocks noGrp="1"/>
          </p:cNvSpPr>
          <p:nvPr>
            <p:ph type="subTitle"/>
          </p:nvPr>
        </p:nvSpPr>
        <p:spPr>
          <a:xfrm>
            <a:off x="130320" y="163440"/>
            <a:ext cx="8883360" cy="653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МЕЖЛИЧНОСТНЫХ ОТНОШЕНИЙ, РМО</a:t>
            </a:r>
            <a:br>
              <a:rPr sz="1200"/>
            </a:b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Calibri"/>
              </a:rPr>
              <a:t>(Relationship Development Intervention, RDI)</a:t>
            </a:r>
            <a:br>
              <a:rPr sz="1200"/>
            </a:br>
            <a:br>
              <a:rPr sz="11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на в штате Техас, авторы - двое психологов, Стивен Гатстин и Рашель Шили.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ть методики вкратце такова. Гатстин и Шили считают, что нормально развивающийся ребенок очень рано, месяца в три, начинает ориентироваться на общение, находить в общении главное удовольствие, и предпочитает его нахождению в одиночестве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ом эта потребность в общении разрастается, ребенок научается разделять эмоции других людей (сначала родителей), научается смотреть в глаза, чтобы распознать выражение лица, и обожает играть с родителями (простейшие игры типа "ку-ку" или "ладушки"). </a:t>
            </a: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Это к шести месяцам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1 году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бенок уже способен находить удовольствие в том, что в знакомую игру можно вносить вариации, учится искать на лице взрослого одобрение или неодобрение своим действиям и корректировать свое поведение в соответствии с выражением лица взрослого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полутора годам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ся быстро переключаться, не повторяться, не "застревать" на одном виде деятельности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двум - двум с половиной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ет понимать точку зрения другого (если сидит напротив взрослого и хочет показать картинку в книжке, переворачивает книжку, чтобы взрослому было видно не вверх ногами)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К четырем годам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нимает, что у других могут быть другие чувства и идеи, начинает этим интересоваться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374"/>
              </a:spcBef>
              <a:spcAft>
                <a:spcPts val="913"/>
              </a:spcAft>
              <a:buClr>
                <a:srgbClr val="c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сле четырех лет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чинает понимать дружбу, заводит приятелей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75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5000"/>
              </a:lnSpc>
              <a:spcBef>
                <a:spcPts val="176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8" name="Стрелка вниз 1"/>
          <p:cNvSpPr/>
          <p:nvPr/>
        </p:nvSpPr>
        <p:spPr>
          <a:xfrm>
            <a:off x="8028000" y="6093000"/>
            <a:ext cx="289080" cy="57456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9" name="PlaceHolder 1"/>
          <p:cNvSpPr>
            <a:spLocks noGrp="1"/>
          </p:cNvSpPr>
          <p:nvPr>
            <p:ph type="subTitle"/>
          </p:nvPr>
        </p:nvSpPr>
        <p:spPr>
          <a:xfrm>
            <a:off x="129960" y="96480"/>
            <a:ext cx="8753400" cy="6599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3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аутистов же по какой-то причине эта сторона восприятия мира нарушен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амом раннем этапе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 вырабатывается интерес к окружающим людям и умение разделять эмо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льше человек живет без этого (адаптируется), и все остальное, что у обычных детей на этом строится, тоже не вырабатываетс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сюд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зрительного контакта, то есть хуже того, отсутствие интереса к эмоциям других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бовь к привычным ритуалам (не научился ценить вариации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buClr>
                <a:srgbClr val="000000"/>
              </a:buClr>
              <a:buFont typeface="Times New Roman"/>
              <a:buChar char="-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язчивые идеи (не научился переключаться), и , конечно, не научается интересоваться мнением других, и не умеет дружить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тстин и Шили предлагают пройти с ребенком весь путь в ускоренном варианте. Сначала надо научить ребенка находить удовольствие в общен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этого можно учить читать выражение лица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ординировать свои действия с другим человеком, не "застревать" и д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400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То есть первый, самый главный шаг - научить потребности в обще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224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spcBef>
                <a:spcPts val="176"/>
              </a:spcBef>
              <a:spcAft>
                <a:spcPts val="913"/>
              </a:spcAft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0" name="PlaceHolder 1"/>
          <p:cNvSpPr>
            <a:spLocks noGrp="1"/>
          </p:cNvSpPr>
          <p:nvPr>
            <p:ph type="subTitle"/>
          </p:nvPr>
        </p:nvSpPr>
        <p:spPr>
          <a:xfrm>
            <a:off x="64800" y="228600"/>
            <a:ext cx="8948520" cy="6532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ABA Прикладной анализ пове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pplied behavior analysis, ABA, или "Модификация поведения"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АВА для работы с детьми с аутизмом впервые был использован доктором Иваром Ловаасом (Іvar Lovaas) и его коллегами из Калифорнийского университета в Лос‑Анджелесе в 1963 г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ывается на идее, что любое поведение влечет за собой некоторые последствия, и если ребенку последствия нравятся, он будет это поведение повторять, а если не нравятся, то не будет (стимул-реакция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этом подходе все сложные навыки, включая речь, творческую игру, умение смотреть в глаза, и др., разбиваются на мелкие блоки – действия (behavior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ждое действие разучивается с ребенком отдельно, затем действия соединяются в цепь, образуя сложное действ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разучивании действий ребенку дают задание, если он не может справиться один, дают подсказку, а затем вознаграждают правильные ответы и игнорируют неправильные.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1" name="PlaceHolder 1"/>
          <p:cNvSpPr>
            <a:spLocks noGrp="1"/>
          </p:cNvSpPr>
          <p:nvPr>
            <p:ph type="subTitle"/>
          </p:nvPr>
        </p:nvSpPr>
        <p:spPr>
          <a:xfrm>
            <a:off x="64800" y="115560"/>
            <a:ext cx="8948520" cy="6645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43000" indent="-24300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мплексная клинико-психолого-педагогическая коррекция Р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К.С. Лебединской, О.С. Никольской и соав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:</a:t>
            </a:r>
            <a:br>
              <a:rPr sz="1300"/>
            </a:b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Психологическая коррекция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установление контакта со взрослым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смягчение общего фона сенсорного и эмоционального дискомфорта, тревоги, страхов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имуляция психической активности, направленной на взаимодействие со взрослыми и сверстникам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формирование целенаправленного поведения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преодоление отрицательных форм поведения: агрессии, негативизма, расторможенности влечений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Педагогическая коррекция РДА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формирование активного взаимодействия с педагогом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формирование навыков самообслуживания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пропедевтика обучения (коррекция специфического недоразвития восприятия, моторики, внимания, речи; формирование навыков изобразительной деятельности)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Медикаментозная коррекция РДА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щая психофармакологическая и общеукрепляющая терапия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95000"/>
              </a:lnSpc>
              <a:spcBef>
                <a:spcPts val="814"/>
              </a:spcBef>
              <a:spcAft>
                <a:spcPts val="814"/>
              </a:spcAft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Работа с семьей: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сихотерапия членов семьи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знакомление родителей с рядом психических особенностей ребенка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оставление индивидуальной программы воспитания и обучения аутичного ребенка в домашних условиях;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обучение родителей методам воспитания аутичного ребенка, организации его режима, привития навыков самообслуживания, подготовки к школе.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326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43000" indent="-243000">
              <a:lnSpc>
                <a:spcPct val="80000"/>
              </a:lnSpc>
              <a:spcBef>
                <a:spcPts val="224"/>
              </a:spcBef>
              <a:buClr>
                <a:srgbClr val="0070c0"/>
              </a:buClr>
              <a:buFont typeface="Wingdings" charset="2"/>
              <a:buChar char=""/>
              <a:tabLst>
                <a:tab algn="l" pos="48564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2" name="Rectangle 1"/>
          <p:cNvSpPr/>
          <p:nvPr/>
        </p:nvSpPr>
        <p:spPr>
          <a:xfrm>
            <a:off x="250920" y="426600"/>
            <a:ext cx="869796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spAutoFit/>
          </a:bodyPr>
          <a:p>
            <a:pPr algn="ctr">
              <a:lnSpc>
                <a:spcPct val="115000"/>
              </a:lnSpc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етод замещающего онтогенеза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ифференциально-диагностической квалификации и коррекции различных типов онтогенеза разработана технология «Комплексное нейропсихологическое сопровождение развития ребёнка»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ё фундаментом являе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метод замещающего онтогенез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ый в 1990 – 1997гг. (Семенович, Умрихин, Цыганок, 1992; Семенович, Цыганок, 1995; Семенович, Архипов, 1995; Гатина, Сафронова, Серова, 1996; Архипов, Гатина, Семенович, 1997; Семенович, Воробьёва, Сафронова, Серова, 2001; Семенович, 2002, 2004, 2005, 2007) и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вший свою валидность как эффективный инструмент и как язык описания при работе с различными вариантами развития. </a:t>
            </a:r>
            <a:br>
              <a:rPr sz="18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ологически коррекционная программа опирается на современные (по А.Р. Лурия) представления о закономерностях развития и иерархическом строении мозговой организации психических функций в онтогенезе (прежде всего, в ракурсе теории о трёх блоках мозга), учение Л.С. Цветковой о нейропсихологической реабилитации; принцип «замещающего онтогенеза». 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3" name="Стрелка вниз 1"/>
          <p:cNvSpPr/>
          <p:nvPr/>
        </p:nvSpPr>
        <p:spPr>
          <a:xfrm>
            <a:off x="8467560" y="5835600"/>
            <a:ext cx="439920" cy="887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0" name="Picture 2" descr="kjuj"/>
          <p:cNvPicPr/>
          <p:nvPr/>
        </p:nvPicPr>
        <p:blipFill>
          <a:blip r:embed="rId1"/>
          <a:stretch/>
        </p:blipFill>
        <p:spPr>
          <a:xfrm>
            <a:off x="179280" y="1736640"/>
            <a:ext cx="878544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6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4" name=""/>
          <p:cNvSpPr txBox="1"/>
          <p:nvPr/>
        </p:nvSpPr>
        <p:spPr>
          <a:xfrm>
            <a:off x="64800" y="163080"/>
            <a:ext cx="8883720" cy="646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-й уровень – «Уровень непроизвольной саморегуляции, энергоснабжения и статокинетического баланса нейропсихосоматических процессов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1-го уровня направлены, прежде всего, на элиминацию дефекта и функциональную активацию подкорковых образований головного мозга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На этом уровне происходит первичная закладка и формирование саморегуляции ребёнка посредством ритмологических, ритуализированных способов воздейств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ой уровень – «Уровень операционального обеспечения взаимодействия с собой и внешним миром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2-го уровня направлены на стабилизацию межполушарных взаимодействий и специализации левого и правого полушарий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й уровень – «Уровень произвольной саморегуляции, мышления и смыслообразующей функции психических процессов». 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Методы 3-го уровня направлены на формирование оптимального функционального статуса передних (префронтальных) отделов мозга. 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На данном уровне корригируются и формируются синтетические, интегративные меж- и надфункциональные взаимодействия, закрепляются накопленные на прежних уровнях способы и алгоритмы использования обобщающей и регулирующей функции речи, интеллектуальных операций, произвольного внимани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матизируются навыки произвольной саморегуляции в эмоциональном и когнитивном аспекта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5" name=""/>
          <p:cNvSpPr txBox="1"/>
          <p:nvPr/>
        </p:nvSpPr>
        <p:spPr>
          <a:xfrm>
            <a:off x="64800" y="228240"/>
            <a:ext cx="8883720" cy="6465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rmAutofit/>
          </a:bodyPr>
          <a:p>
            <a:pPr algn="ctr">
              <a:lnSpc>
                <a:spcPts val="3538"/>
              </a:lnSpc>
              <a:spcBef>
                <a:spcPts val="57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моционально-уровневый подхо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287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эмоционально-уровневого подхода (О.С. Никольская и др., 1977) аутизм рассматривается как первазивное нарушение развития, при котором преимущественно страдает эмоциональная сфера, коррекция развития, формирование которой считается главной стратегической задачей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использование различных методических приёмов, и, в частности, один из них направлен на развитие эмоциональной сферы ребёнка с аутизмом через «заражение» эмоциями психолога в ходе совместных действий в процессе коррекционной работы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ок как бы «присваивает» эмоции взрослого, но в какой степени это касается действительно переживаний, а в какой – только выражения эмоций, вопрос сложный. Если в части случаев мы получаем лишь искусственную фенокопию эмоций психолога, то будет ли она состоятельной в реальной жизни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эмоционально-уровневой коррекции лежит клинико-дизонтогенетический подход Л.С.Выготского, который позволил авторам выделить первичные дефекты, вторичные и третичные образования при нарушениях развития и взглянуть на них как на нарушение аффективной сфер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рушение структуры базальной эмоциональной системы саморегуляции, нарушение приспособительности, аффективной адаптации ребенка к окружающей среде).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6" name="Стрелка вниз 1"/>
          <p:cNvSpPr/>
          <p:nvPr/>
        </p:nvSpPr>
        <p:spPr>
          <a:xfrm>
            <a:off x="8394840" y="5846760"/>
            <a:ext cx="439560" cy="8874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7" name=""/>
          <p:cNvSpPr txBox="1"/>
          <p:nvPr/>
        </p:nvSpPr>
        <p:spPr>
          <a:xfrm>
            <a:off x="130320" y="228240"/>
            <a:ext cx="8905680" cy="6335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1280" indent="-341280">
              <a:lnSpc>
                <a:spcPts val="1287"/>
              </a:lnSpc>
              <a:spcBef>
                <a:spcPts val="726"/>
              </a:spcBef>
              <a:buClr>
                <a:srgbClr val="c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моменты этой структуры:</a:t>
            </a:r>
            <a:br>
              <a:rPr sz="1500"/>
            </a:b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 опираются на инстинкты и влечения и нарушение эмоциональной сферы влечет за собой нарушения в других сферах (поведение, когнитивная сфера и т.д.)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ры выделяют 4 базовых уровня, на которые опирается система эмоциональной регуляции организм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полевой реактивности (преднастройка к контакту с окружающим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стереотипов (адаптация субъекта к окружающему, выработка аффективных стереотипов сенсорного контакта с ним; регуляция процессов удовлетворения соматических потребностей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экспансии (обеспечивает достижение аффективно значимой цели в преодолении неожиданных препятствий на пути к ней, овладение неизвестной, опасной ситуации);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ень эмоционального контроля (налаживание эмоционального взаимодействия с другими людьми, т.е. разработка способов ориентировки в переживаниях других, формирование правил, норм взаимодействия с другими людьми)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одного из этих основополагающих уровней влечет за собой поломку всей системы и гиперкомпенсацию нарушенного уровня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8" name=""/>
          <p:cNvSpPr txBox="1"/>
          <p:nvPr/>
        </p:nvSpPr>
        <p:spPr>
          <a:xfrm>
            <a:off x="64800" y="163080"/>
            <a:ext cx="8948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сюда принципы, которые обязательно должны учитываться при установлении эмоционального контакта с детьми, имеющими нарушения развития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давления, нажима, на первых порах даже. Ребенок, имеющий отрицательный опыт в контактах, не должен почувствовать, что его вновь вовлекают в болезненный для него процесс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контакт строится при опоре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собственную активность ребенка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 поддержание собственной эмоциональной значимости в глазах ребенка путем включения элементов контакта в привычные для ребенка моменты аутостимуляции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ь, что со взрослым лучше, чем без него (разнообразить привычные удовольствия ребенка, усилить их собственной радостью)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форсировать (работа по установлению контакта может быть очень длительной)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жнять формы контактов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после того как взрослый становится аффективно значимым для ребенка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ребенка появляется спонтанное аффективное обращение к взрослому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пенность в развитии форм контакта с обязательной опорой на сложившиеся стереотипы взаимодействия. Ребенок должен быть уверен, что усвоенные им формы не будут разрушены и он не останется "безоружным" в общении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жнение контакта идет по пути не столько предложения его новых вариантов,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осторожного введения новых деталей в структуру имеющихся форм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я дозировка контактов. Продолжение взаимодействия в условиях психического пресыщения ребенка может разрушить уже достигнутое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регание от ситуации конфликта после достижения аффективной связи с ребенком.</a:t>
            </a:r>
            <a:br>
              <a:rPr sz="13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ь, что контакт не самоцель, а лишь этап на пути к совместному изучению окружающего мира. Поэтому по мере установление контакта с ребенком его аффективное внимание постепенно направляется на процесс и </a:t>
            </a:r>
            <a:r>
              <a:rPr b="1" lang="ru-RU" sz="1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зультат совместного контакта со средой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9" name=""/>
          <p:cNvSpPr txBox="1"/>
          <p:nvPr/>
        </p:nvSpPr>
        <p:spPr>
          <a:xfrm>
            <a:off x="195120" y="358920"/>
            <a:ext cx="8753760" cy="62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76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им образом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ая  коррекция строится поэтап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Установление эмоционального конта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имуляция активности, направленной на взаимодейств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нятие страх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упирование агрессии, самоагрессии, негативизма и других отрицательных форм пове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ование целенаправленного п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ервый и пятый этапы действительно являются соответственно начальным и завершающим, то три других представляют собой скорее непосредственные задачи коррекции,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торые могут решаться параллельно, в зависимости от особенностей каждого конкретного случа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 методов, которые можно использовать, определяется широко: все, что будет способствовать решению или смягчению проблем ребен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95000"/>
              </a:lnSpc>
              <a:spcBef>
                <a:spcPts val="451"/>
              </a:spcBef>
              <a:spcAft>
                <a:spcPts val="913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ональное заражение, игротерапия, арттерапия, музыкотерапия, обсуждение жизненных ситуаций и книг, сочинение сказок и историй, различные приемы релаксации и т.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0" name=""/>
          <p:cNvSpPr txBox="1"/>
          <p:nvPr/>
        </p:nvSpPr>
        <p:spPr>
          <a:xfrm>
            <a:off x="108000" y="189000"/>
            <a:ext cx="885672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601560" indent="-601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Анализ деятельности  ЦПР «Эмпат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Положительная динамика развития – 91-92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550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Слабая динамика – 4-6%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(в связи со сложностью дефекта, или с поздним сроком начала корр. занят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buClr>
                <a:srgbClr val="0000ff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Выбыли до результата </a:t>
            </a: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(в связи с переездом) </a:t>
            </a: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–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2-3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601"/>
              </a:spcBef>
              <a:buClr>
                <a:srgbClr val="0000ff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В течение 2009 -18 г. Более 300 детей подготовлены к посещению детских образовательных учреждений.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(Из них – 64 в ДОУ и в школе «Аврора». На сей день, 20 детей продолжают обучение в школе «Аврора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1560" indent="-6015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Общий результат </a:t>
            </a:r>
            <a:r>
              <a:rPr b="1" lang="ru-RU" sz="3000" spc="-1" strike="noStrike">
                <a:solidFill>
                  <a:srgbClr val="0000ff"/>
                </a:solidFill>
                <a:latin typeface="Calibri"/>
              </a:rPr>
              <a:t>– практически все дети – в положительной динамике развит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1" name=""/>
          <p:cNvSpPr txBox="1"/>
          <p:nvPr/>
        </p:nvSpPr>
        <p:spPr>
          <a:xfrm>
            <a:off x="179280" y="189000"/>
            <a:ext cx="8785440" cy="636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Times New Roman"/>
              </a:rPr>
              <a:t>Эмпатия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от греч. empatheia - сопереживание);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нимание эмоционального состояния другого человека посредством сопереживания, т.е. способность одного человека почувствовать и понять то, что чувствует друг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2" name=""/>
          <p:cNvSpPr txBox="1"/>
          <p:nvPr/>
        </p:nvSpPr>
        <p:spPr>
          <a:xfrm>
            <a:off x="179280" y="228600"/>
            <a:ext cx="8785440" cy="644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Центр начал свою работу с октября 2009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ако, модель Центра создана и апробирована специалистами школы более 18 лет наза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жнее название Центра - «Школа раннего развития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годня наш Центр посещают 95 - 100 детей с особыми образовательными потребностями в возрасте от 1,5 - 2 до 9 л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Как правило, это дети, не посещающие детские дошкольные учреждения, так как имеют проблемы в развитии и социальной адапт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3" name="Picture 2" descr="G:\АВРОРА ДОКИ\ЦЕНТР\000. ЦПР АНАЛИЗ\ЦПР К РОЛИКУ ФОТО\ЦПР 5\DSC01875.JPG"/>
          <p:cNvPicPr/>
          <p:nvPr/>
        </p:nvPicPr>
        <p:blipFill>
          <a:blip r:embed="rId1"/>
          <a:stretch/>
        </p:blipFill>
        <p:spPr>
          <a:xfrm>
            <a:off x="2238480" y="260280"/>
            <a:ext cx="4709880" cy="2654280"/>
          </a:xfrm>
          <a:prstGeom prst="rect">
            <a:avLst/>
          </a:prstGeom>
          <a:ln w="0">
            <a:noFill/>
          </a:ln>
        </p:spPr>
      </p:pic>
      <p:pic>
        <p:nvPicPr>
          <p:cNvPr id="6524" name="Picture 3" descr="G:\АВРОРА ДОКИ\ЦЕНТР\000. ЦПР АНАЛИЗ\ЦПР К РОЛИКУ ФОТО\ЦПР 5\DSC03721.JPG"/>
          <p:cNvPicPr/>
          <p:nvPr/>
        </p:nvPicPr>
        <p:blipFill>
          <a:blip r:embed="rId2"/>
          <a:stretch/>
        </p:blipFill>
        <p:spPr>
          <a:xfrm>
            <a:off x="436680" y="3141720"/>
            <a:ext cx="4381560" cy="2467080"/>
          </a:xfrm>
          <a:prstGeom prst="rect">
            <a:avLst/>
          </a:prstGeom>
          <a:ln w="0">
            <a:noFill/>
          </a:ln>
        </p:spPr>
      </p:pic>
      <p:pic>
        <p:nvPicPr>
          <p:cNvPr id="6525" name="Picture 4" descr="G:\АВРОРА ДОКИ\ЦЕНТР\000. ЦПР АНАЛИЗ\ЦПР К РОЛИКУ ФОТО\ЦПР 5\DSC03450.JPG"/>
          <p:cNvPicPr/>
          <p:nvPr/>
        </p:nvPicPr>
        <p:blipFill>
          <a:blip r:embed="rId3"/>
          <a:stretch/>
        </p:blipFill>
        <p:spPr>
          <a:xfrm>
            <a:off x="4140360" y="3789360"/>
            <a:ext cx="46497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Динамика кол-ва детей в ЦП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27" name=""/>
          <p:cNvGraphicFramePr/>
          <p:nvPr/>
        </p:nvGraphicFramePr>
        <p:xfrm>
          <a:off x="108000" y="1916280"/>
          <a:ext cx="8856720" cy="2808000"/>
        </p:xfrm>
        <a:graphic>
          <a:graphicData uri="http://schemas.openxmlformats.org/drawingml/2006/table">
            <a:tbl>
              <a:tblPr/>
              <a:tblGrid>
                <a:gridCol w="731880"/>
                <a:gridCol w="733320"/>
                <a:gridCol w="731880"/>
                <a:gridCol w="731880"/>
                <a:gridCol w="731880"/>
                <a:gridCol w="731880"/>
                <a:gridCol w="718920"/>
                <a:gridCol w="720720"/>
                <a:gridCol w="720720"/>
                <a:gridCol w="719280"/>
                <a:gridCol w="792000"/>
                <a:gridCol w="792360"/>
              </a:tblGrid>
              <a:tr h="1668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2-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3-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4-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5-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6-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7-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8-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09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0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97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8" name=""/>
          <p:cNvGraphicFramePr/>
          <p:nvPr/>
        </p:nvGraphicFramePr>
        <p:xfrm>
          <a:off x="108000" y="1197000"/>
          <a:ext cx="8928000" cy="5465880"/>
        </p:xfrm>
        <a:graphic>
          <a:graphicData uri="http://schemas.openxmlformats.org/drawingml/2006/table">
            <a:tbl>
              <a:tblPr/>
              <a:tblGrid>
                <a:gridCol w="6230880"/>
                <a:gridCol w="2697120"/>
              </a:tblGrid>
              <a:tr h="354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иагно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-71 (умеренная умственная отстал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     (1-с-м Рет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-70 (У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    (4- с-м Дау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РДА и РАС (растр-ва аутистического спект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Д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Сочетанные дефекты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стан.  нару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СДВГ (с-м дефицита внимания с гиперактивностью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устан.   наруш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Нейросенсорная тугоух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Алалия (отсутствие реч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ПРР (задержка психоречев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ПР (задержка психическ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ЗРР (задержка речевого развити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Garamond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29" name="Rectangle 184"/>
          <p:cNvSpPr/>
          <p:nvPr/>
        </p:nvSpPr>
        <p:spPr>
          <a:xfrm>
            <a:off x="395280" y="120600"/>
            <a:ext cx="84978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Соотношение диагностических параметров развити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етей ЦПР «ЭМПАТИЯ» </a:t>
            </a:r>
            <a:r>
              <a:rPr b="0" i="1" lang="ru-RU" sz="1800" spc="-1" strike="noStrike">
                <a:solidFill>
                  <a:srgbClr val="0000ff"/>
                </a:solidFill>
                <a:latin typeface="Tahoma"/>
              </a:rPr>
              <a:t>(при ЧОУ школа «Аврора»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 20.09.2018г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Всего 97 чел.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0" name=""/>
          <p:cNvSpPr txBox="1"/>
          <p:nvPr/>
        </p:nvSpPr>
        <p:spPr>
          <a:xfrm>
            <a:off x="250560" y="333360"/>
            <a:ext cx="8497800" cy="61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Основная цель ЦПР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казание своевременной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как можно, более ранней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рекционной помощ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тям с ОО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1" name=""/>
          <p:cNvSpPr txBox="1"/>
          <p:nvPr/>
        </p:nvSpPr>
        <p:spPr>
          <a:xfrm>
            <a:off x="107640" y="115560"/>
            <a:ext cx="8785080" cy="643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сновные направления деятельности специалистов Цент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ышение социальной активности, развитие самостоятельности, укрепление и развитие личности ребен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еспечение положительных динамических изменений в развитии ребенка (с учетом его потенциальных возможностей и участия родителей в коррекционном процессе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обучение родителей, воспитывающих детей со специальными образовательными потребностями, навыкам коррекционной работы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0:08:22Z</dcterms:created>
  <dc:creator>Андрей</dc:creator>
  <dc:description/>
  <dc:language>en-US</dc:language>
  <cp:lastModifiedBy>Emirovna</cp:lastModifiedBy>
  <cp:lastPrinted>2015-09-18T01:53:57Z</cp:lastPrinted>
  <dcterms:modified xsi:type="dcterms:W3CDTF">2018-10-02T11:11:13Z</dcterms:modified>
  <cp:revision>97</cp:revision>
  <dc:subject/>
  <dc:title>Специфика организации коррекционно - развивающей  работы с детьми, имеющими выраженные нарушения ЦН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