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58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59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58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59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110.xml" ContentType="application/vnd.openxmlformats-officedocument.theme+xml"/>
  <Override PartName="/ppt/theme/theme37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144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145.xml" ContentType="application/vnd.openxmlformats-officedocument.theme+xml"/>
  <Override PartName="/ppt/theme/theme8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158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30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40.xml" ContentType="application/vnd.openxmlformats-officedocument.theme+xml"/>
  <Override PartName="/ppt/theme/theme159.xml" ContentType="application/vnd.openxmlformats-officedocument.theme+xml"/>
  <Override PartName="/ppt/theme/theme139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898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897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896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895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894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89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89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89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89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888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887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886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885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88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90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892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894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895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89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189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89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8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8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88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189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896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189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885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9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903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905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906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907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908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9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901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902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902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901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90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907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906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905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90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903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189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  <p:sldMasterId id="2147485689" r:id="rId159"/>
    <p:sldMasterId id="2147485702" r:id="rId160"/>
  </p:sldMasterIdLst>
  <p:sldIdLst>
    <p:sldId id="256" r:id="rId161"/>
    <p:sldId id="257" r:id="rId162"/>
    <p:sldId id="258" r:id="rId163"/>
    <p:sldId id="259" r:id="rId164"/>
    <p:sldId id="260" r:id="rId165"/>
    <p:sldId id="261" r:id="rId166"/>
    <p:sldId id="262" r:id="rId167"/>
    <p:sldId id="263" r:id="rId168"/>
    <p:sldId id="264" r:id="rId169"/>
    <p:sldId id="265" r:id="rId170"/>
    <p:sldId id="266" r:id="rId171"/>
    <p:sldId id="267" r:id="rId172"/>
    <p:sldId id="268" r:id="rId173"/>
    <p:sldId id="269" r:id="rId174"/>
    <p:sldId id="270" r:id="rId175"/>
    <p:sldId id="271" r:id="rId176"/>
    <p:sldId id="272" r:id="rId177"/>
    <p:sldId id="273" r:id="rId178"/>
    <p:sldId id="274" r:id="rId179"/>
    <p:sldId id="275" r:id="rId180"/>
    <p:sldId id="276" r:id="rId181"/>
    <p:sldId id="277" r:id="rId182"/>
    <p:sldId id="278" r:id="rId183"/>
    <p:sldId id="279" r:id="rId184"/>
    <p:sldId id="280" r:id="rId1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Master" Target="slideMasters/slideMaster158.xml"/><Relationship Id="rId160" Type="http://schemas.openxmlformats.org/officeDocument/2006/relationships/slideMaster" Target="slideMasters/slideMaster159.xml"/><Relationship Id="rId161" Type="http://schemas.openxmlformats.org/officeDocument/2006/relationships/slide" Target="slides/slide1.xml"/><Relationship Id="rId162" Type="http://schemas.openxmlformats.org/officeDocument/2006/relationships/slide" Target="slides/slide2.xml"/><Relationship Id="rId163" Type="http://schemas.openxmlformats.org/officeDocument/2006/relationships/slide" Target="slides/slide3.xml"/><Relationship Id="rId164" Type="http://schemas.openxmlformats.org/officeDocument/2006/relationships/slide" Target="slides/slide4.xml"/><Relationship Id="rId165" Type="http://schemas.openxmlformats.org/officeDocument/2006/relationships/slide" Target="slides/slide5.xml"/><Relationship Id="rId166" Type="http://schemas.openxmlformats.org/officeDocument/2006/relationships/slide" Target="slides/slide6.xml"/><Relationship Id="rId167" Type="http://schemas.openxmlformats.org/officeDocument/2006/relationships/slide" Target="slides/slide7.xml"/><Relationship Id="rId168" Type="http://schemas.openxmlformats.org/officeDocument/2006/relationships/slide" Target="slides/slide8.xml"/><Relationship Id="rId169" Type="http://schemas.openxmlformats.org/officeDocument/2006/relationships/slide" Target="slides/slide9.xml"/><Relationship Id="rId170" Type="http://schemas.openxmlformats.org/officeDocument/2006/relationships/slide" Target="slides/slide10.xml"/><Relationship Id="rId171" Type="http://schemas.openxmlformats.org/officeDocument/2006/relationships/slide" Target="slides/slide11.xml"/><Relationship Id="rId172" Type="http://schemas.openxmlformats.org/officeDocument/2006/relationships/slide" Target="slides/slide12.xml"/><Relationship Id="rId173" Type="http://schemas.openxmlformats.org/officeDocument/2006/relationships/slide" Target="slides/slide13.xml"/><Relationship Id="rId174" Type="http://schemas.openxmlformats.org/officeDocument/2006/relationships/slide" Target="slides/slide14.xml"/><Relationship Id="rId175" Type="http://schemas.openxmlformats.org/officeDocument/2006/relationships/slide" Target="slides/slide15.xml"/><Relationship Id="rId176" Type="http://schemas.openxmlformats.org/officeDocument/2006/relationships/slide" Target="slides/slide16.xml"/><Relationship Id="rId177" Type="http://schemas.openxmlformats.org/officeDocument/2006/relationships/slide" Target="slides/slide17.xml"/><Relationship Id="rId178" Type="http://schemas.openxmlformats.org/officeDocument/2006/relationships/slide" Target="slides/slide18.xml"/><Relationship Id="rId179" Type="http://schemas.openxmlformats.org/officeDocument/2006/relationships/slide" Target="slides/slide19.xml"/><Relationship Id="rId180" Type="http://schemas.openxmlformats.org/officeDocument/2006/relationships/slide" Target="slides/slide20.xml"/><Relationship Id="rId181" Type="http://schemas.openxmlformats.org/officeDocument/2006/relationships/slide" Target="slides/slide21.xml"/><Relationship Id="rId182" Type="http://schemas.openxmlformats.org/officeDocument/2006/relationships/slide" Target="slides/slide22.xml"/><Relationship Id="rId183" Type="http://schemas.openxmlformats.org/officeDocument/2006/relationships/slide" Target="slides/slide23.xml"/><Relationship Id="rId184" Type="http://schemas.openxmlformats.org/officeDocument/2006/relationships/slide" Target="slides/slide24.xml"/><Relationship Id="rId185" Type="http://schemas.openxmlformats.org/officeDocument/2006/relationships/slide" Target="slides/slide25.xml"/><Relationship Id="rId1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730-4157-406E-8927-749E9B46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B41-B643-4DC7-9927-C36265B5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FAA5A-5620-4251-B8F8-C8597472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88354EC-4698-489E-B9E0-3093723B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9140BA4-0623-4A8B-A96B-8728E0AB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F4C9B6E-940C-4378-8F71-754B0A4F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F14C40B-A1D6-40E0-B90A-6C1545F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223F7FC-91AD-4E8A-8525-5D543E7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7677A5F-02E0-4000-B091-3B1BE7F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676CBB8-5EE6-4B22-9F85-E2331C8B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A864712-8211-4E7A-BB1C-60B67E2D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A18FB13-C0ED-4B87-88D9-60499E77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A10FC46-5693-4542-9016-4E9FC862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CE9C7-5B09-4B2F-93C4-DAEC157D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6AD9DB0-C431-4BC5-94E5-9E689F16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12FDCC9-EEC6-42CD-BFC7-1E1B3E15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6BBD158-5EDF-4086-B21E-4D9A83DA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CCA7C48-8C82-414A-9230-3CCD3114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A3A133B-A628-4778-82D4-3522AB8B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F2B469C-9581-413B-989A-7D85BD4C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78AA283-0494-497C-BB51-5EE875F8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C7C8536-CEC8-4ACE-8ECE-ACFB1F05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B1EA650C-9A5C-4DA7-8057-9A7D8E69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E3021C1-5888-40C7-96B0-D579E2C7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8653E-60A1-4F4E-BE08-3A6F933E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990AEA7-8AD6-4C60-A50A-D91EB641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CCA6FD6-3E1F-480A-B44A-65365C98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60270C0-219C-4274-B634-4818FB8C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4C96B876-EA26-4BA5-8632-01E0B1E3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BBF70AE-1B11-4573-A01E-C7E0C879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CD07F25-9D4D-45F9-B8F6-9539BEF0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032CF93-2E38-4296-8616-5EC468F4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D2A98D1-9EC7-4E66-927F-57AAC5C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4ADAA9D-D2BA-4448-9247-DEDFF23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3E5EEE4-1F55-40BD-99E9-CC28E33D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95CF3-F5DF-433E-90BC-FBDF792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F8AE200-47E1-4144-AE38-EEE0B168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CC6D53C-E28A-4169-B1E3-BD5E07D7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2A3BECD-58D9-4E44-BA92-89A8E055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16F7192-D7A5-4E1B-BE19-64C322D1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8BF919B-DF15-4892-A6EB-6D490F96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BCB9DDF-00E8-4297-B5C3-753490C2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1CDDACE-68ED-47E2-9938-0D2E3AE4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D73E95E-17D4-4CF8-A156-B45858CC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AF073A4-1770-45C4-849C-2A231753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70B22DE-B694-473C-8065-3963E190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C0339-E128-458F-8E34-474771AC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08FF148-ADC4-4ACB-9108-4149B89F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4F4E0F8-09D5-4AAB-BD21-E5D0FDB4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A5A27D4-CE22-4F62-9348-843568B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99D8F88-85C5-4722-B474-AC4B49A0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44339DE8-D15B-4DBD-A0E4-75BF23E9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67273A2-35BB-4A0C-9B0C-A24076D4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D2E63C6-5071-4B4F-B970-5E225A51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95D067E-C9F4-4A90-845E-06DD7814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7303809-480A-440A-AD7E-E51709F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6EE9DE62-70DB-4403-A4B9-B6D87C68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0F533-DFCB-44BF-9341-5EF7BBE5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B38D34D-932C-4EE1-B225-80EF4424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686F5F2-BC41-47BC-A00A-8B2D3BF5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E4BD404-9D2B-4802-99FB-A14A037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54EA5A0-8462-4328-9ECB-78D42BCE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D3562D7-F9F3-41C6-BB6D-2B659801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138892B-1869-4C5E-9D9B-55CBBEAA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D28AAFC-ED53-4C3E-97B6-0AC1DAE7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85E2FB9-2FD0-4CD7-BCAF-2D79C758D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D38029E-3EA4-4FDB-977E-206CFADC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7A023E8-7B55-4752-B8C9-349771C3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D36AF-8FF5-45E7-A8B6-6BA218FD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F88823C-C504-4694-91A7-36D032DD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73472A8-426B-4CB9-8217-C72C4447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4BE0F1B-449D-492A-BF9A-29E62143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F33DE19-D6B2-405A-886C-BB963615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AEE6888-D85F-410B-B8A6-85906A1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120CEE9-3770-49E8-9405-909E4D0E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00B02E8-2F95-428E-9E36-C14A7D72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D20CBE3-6503-49BF-ABB3-6F24027C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88FC7B8-43D0-4C05-AA63-720D614C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D6E65D2-AC3B-493E-8DE0-E039E126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01716-7E35-4DA7-8AF3-6638DD7F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FC905BE-B9B0-479C-B8E8-F9B76DF7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FD788D2-5F57-439B-896D-6CF2B48E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8D7A6C9-F3C2-402D-9362-C54249C2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7B9BEFD-6344-4B1D-A4B8-48030FB1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F5B116B-B305-4E0B-A125-4BD113A0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FC5B3CD-34F1-4E9F-9D67-98E92606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D72E786-8C53-4236-B449-B863588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B2AD077-1117-4DE2-B6D1-84C87B9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C0C80CA-5E67-4924-AB9A-259D03B4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FAA3293-5FFF-44C5-9784-9A1DBC48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FCF80-DE7B-473F-98FA-C175B3E3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EF75C05-A01B-4332-8109-40C1626C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1CA9B06-B390-4830-8719-27959463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5E4B03D-BDB5-4790-965C-9FB092D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FBF8DF5-A2FB-4147-92EF-55A50000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4BC7EB0-590A-49DF-9484-146738BF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C48CC57-51FE-446F-89EF-B5C7F436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1103470-910D-4B59-99EE-4C3664FD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988DDC6-E3E1-4731-93C8-FA7EFE7B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2C0DBAE-084E-45A7-8835-8C1EA8A2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8F30652-FA7F-427A-90F8-388B2CBC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2CC96-6DD1-4F35-B690-2BABF1BA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303ECA8-710C-4E4E-91AD-1651C701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4402283-48CD-4C32-8B9F-15FB4645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13F4CF0-FAAB-4156-97F3-258CB0C1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9CD7C39-D903-44BB-B05B-AB18C19D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3C706970-8748-4E82-AF67-75E5B754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51D7C15D-C4B2-4496-A894-78956C5B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5C44C9E-3069-4803-B920-0CEC0C0A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BD0126E-6014-4AB3-AF42-3759A85A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17477EE-0356-487E-BBF4-3AE9E15E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92F7FC5-56F0-4EC4-A9BA-205C7341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471-DD3F-4EC8-AEA0-81C92716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ED7BD-9A98-4A63-9AE9-86F8688B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7388E01-3428-49AF-AEAE-F315C7F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A3E2E37-F243-4F8B-98B3-75F37763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7648296-D968-4518-AF2B-268954FC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326E754-1661-4258-A6D6-4A66B735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36223A3-A1E8-477A-8BD7-3C004BFE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588C60E-013F-46BD-ADAF-CCC9814A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4009672-5F29-41D6-9109-0B30C831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3DD4A2A-147D-4611-99CF-F2E79FB1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D3AC9D0-1993-4842-AB86-3E6C1AC0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C41AB21-4EF9-401F-9051-31CE7506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AD9D5-36EE-4AAF-A5A2-B373DE8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3A97C56-FA04-4BBD-86E5-E04A0BCB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D649DCF-7383-404F-8612-AD8AD0BB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514AA7F-2108-4369-986E-CC89645D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43E8749-3158-44FA-BB54-1A0C3096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BCF8A31B-0301-4A7E-B464-ACB22787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F6FBE69-8508-4F9D-A1FF-17EA2954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7FF3E43F-F8F0-4D0B-8CE8-A453D010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F1DE8DB6-F57E-4241-A745-CA4B7AA8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C7AA1FB-9692-4896-B069-D0FD040E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AE2082D-6622-4419-BDAC-001B2EC1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4644E-8973-4274-BA91-C336322A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C6ED094-B8E0-4691-BC00-87A21283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8D6F653-0DAF-4AE7-A5BA-8371C102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7A9CAB6-569B-4E7B-A2C3-0C67150D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0354AA8-C299-4E6B-A590-B19A6DF4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60B0138-A0AE-4F01-A864-93851D5F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5A669E9-38AF-4841-AECE-33F82A88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1051983-474D-4057-966F-1698F4EB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83196FA-040D-4582-990C-5601524F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9B2CC2A-048C-48BD-AC98-7385CF97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C42E2E9-DCA8-49F8-B514-682DB515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872C6-2FFC-4D90-AEB2-A838494E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FE40CA9-2D18-4554-AC84-CB6BB003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E41F1D2-1B07-4E37-9438-8214ECB9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25AC8D0-0D6F-42CE-9117-270939D4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0B072BF-D75D-43B4-AA84-4B3D3841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126F0D2-3BA9-4343-AC7C-F160FDB1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E08186A-BDB0-45A0-AB08-7122AC44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AB1F2523-8521-4F51-A852-0464ED2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DA133F3-C909-4942-A1A8-CDEED37B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41F1D6C-01C2-42E4-912A-C5550869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14FD9CF-F033-40D2-9114-A1A23DA1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406DA-B6CF-448D-99F4-BD12BA0C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A2E57C5-A5D9-4A06-ABFC-6FD70B6E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E1CB0EF-D992-41C2-AA38-1851D9F0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19C7DC3-2AA8-4EC4-B499-C19EDD53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AE06341-EE1C-47F9-9EEF-2DE5FC92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1A461DE-3CB8-4F5E-B5CA-B176639A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5337AF26-C2CA-4104-AED8-03F6DD8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C7C5687-F52D-46A1-BB46-79BAB76A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16EB00A-5C16-4266-9E8A-E67CA1E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E5735CF-484F-4EC5-8824-651E0EAC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B416504-B51B-4D26-8A2F-15B552AC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DA201-F433-44BD-A775-45336ABD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419561C-0A40-4D9A-B3B3-06AED9D3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B88EF13-6791-4663-ADA4-42A2B62D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A22DC9B6-F4F5-4C4C-8FDD-BA12AF9D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5BEEEB5-6506-4D92-8B40-D8597795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3AC5E05-050D-41F6-96BD-891C6179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0961E92-55AA-46D4-B88D-0D7ADFE2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D9A84B6-1B68-4354-ACCD-4CB131E8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6DFD519-B518-41FA-9437-46890FC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1A3EBB0-3244-4BB7-B3AF-863FD4F9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0555872-4EE6-4B94-B2DD-88D17C8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2D807-CF75-4661-97F5-808788EB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CCE3001-E913-445B-AC99-6E6EC902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88254B50-C757-4534-A957-C1BA6BD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F8726CA-F8CA-4DDC-8B3A-C7EE2E7F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15D91C3-3239-4696-812D-B006A278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6AEADCA-3072-4118-A20F-9C59FC04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FF06A8B-9A87-453A-A3E1-DBA6AF15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AE4097F-2848-41CA-828D-4233AD2F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6E3EF89-07DF-48D7-8609-5BE9B24B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AE7C54F-6A3C-480B-8154-DC0FE156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80DBFEE-D995-4D44-8352-13B943AD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7DB91-7309-4472-AA1C-C50D2120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99E33EC-1D6C-4642-85E2-2C277C3E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DA61E2F-0E54-429E-A3FD-1761F3B4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ECBE062-383A-4A0E-A4B9-FE8F52C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4DA329D-98A3-4612-A9F6-64C709C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EFFC596-215F-4522-861D-DECAB07F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B9B7135-5428-401C-A84E-0E96D681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BA80027-921A-46CB-AF87-ACB4FE22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4E9DFA7-96C5-4043-9D15-210CAFB0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A875F1B0-0B18-4C6E-9A7D-C6F74EA8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46920E9-3B46-4745-81C6-3A1BBDBB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E0486-2D79-4BBB-A708-A46798B4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D9CFD81-B681-46E3-898F-9BAC4CBF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F8A07F0-3BCB-4E4B-9F4E-4454D612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C95608C-18D6-4CEC-B173-74B234B0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26DFFB4-4802-4414-9498-8B27F554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CF90874-5392-4464-8054-76D4E02B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8834546-4403-42E7-969B-52BE8393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60FBEA02-25A3-4DD0-9DEA-9CC72AC8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F430DE8-947C-4D4E-A974-D3AC16A5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08CFB8D-C543-4F24-9E77-6EC94BFF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7B97080-DD8E-47D1-BBF1-362FE69D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9D290-957A-4E01-B61B-80BC94AF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21CADE1-C5B8-4844-B59C-689ECF03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37C23A8-52E8-4154-9E20-3CC81C88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D9566E8-4B8C-4627-A687-0C96C811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CB1CBC5-8A31-47B7-BB8D-3DA52F82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1BB8A1B-7C94-4241-B81D-346CDEB6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FA62BC5-A327-48DE-8981-A8BBB5A8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DFC6570-2908-464B-953C-9D3B8776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2BBE7A5-59E4-4BD8-86FC-61EFF0E6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C35D203-55B1-441C-9C80-BD85708F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A091CC0-F157-4E95-84BC-4E47EA7E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628-B0E4-4D87-BC55-D3C6CA8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0ADC7-834A-466D-93B4-477FC967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45C6780E-5D53-4E12-BE55-FD868EDE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0827699-7DEE-46CF-AC4F-F821FC65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7F94AB4-603E-4E37-8B73-7FC34234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7A453D3-DC62-4AA1-B271-7356370A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A5769EE-59A9-403D-B56B-5923DFB5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3DE07E3-F976-4C61-B9FA-B563115C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2422B68-F3B7-47C8-8BD1-B1268207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D2FB3A9-414A-4B7C-802A-62BF01A1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0506BAF-4A0C-483C-86E4-A70130E2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B4667C4-2B39-448A-AD4D-0DED0C31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CE026-5F3D-43F3-BA07-93CBD09A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00B00B0-50DD-46D2-B262-A501DA00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1A245AF-6405-4B95-8621-ABB8D418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5EE9DAB-C53B-45A2-9599-F02A31CE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27E3DAC-CA9F-4E7A-9D36-0E4F6E76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E6E87BA-D9AC-4913-885A-F54B72C3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611AC14-738E-4F24-B0E4-1D863590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CA8D076-9A85-40A1-9FEB-7CAFDF1C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F0626FA-B188-4F66-AF2F-AE190051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2BCC414-7B8A-4DBE-B3B3-92F525D2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69E0977-0810-4F39-8968-4E0280B9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488F2-5913-4950-A83B-19679F9A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1732FD8-83A4-48BB-8EE2-0EAD51D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F79D02F-F3DF-4B65-9297-77523C64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D388BA0-C766-465F-A81C-9613E817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E24A6DB-1908-48BD-9386-7637CBD4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1AAACE8-FAB3-4909-98DE-1929725D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80C6C081-01AA-42B4-8D7A-705C7D21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3E029EE-90DF-4778-84AC-42D0E5C3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9EE3A34-BA5A-480D-90E3-01E02811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BE2BE335-0765-4B8E-903E-40C59727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B35AD2C-7837-4120-8572-78C6489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A98E3-47E9-495B-BD4E-342D2FFC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4A56DDA-3AF3-4525-B46A-E66EB728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03D1327-BBB3-4A3F-BB24-7A471274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E0279EE-FAD4-4A9A-AEDF-DB833103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2EDF8A4-F9DB-4849-B2D7-A7E1BED4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E852DD0-E15B-47E3-99E5-D08A89E4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D7325E3F-A047-4B41-99BB-0667256E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DB76961-4835-4CD1-88D6-C0083DFB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4AA53C6-32E3-40E2-BCDA-7AEE5AE5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4C28BD6-40D4-4D74-9654-AB97A577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3E73FA9-40A0-4410-992E-26847201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E03EA-0346-4C2C-9793-19ED6DDC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A686F30-C07B-4FE5-88B1-BAE6045F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DE24119-28EF-4DD8-AA36-3AE38F9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EE0525BE-2286-4491-99A7-66BC9A5F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46827AC-37A3-4FA9-A1DA-9133CBC9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01513A0-92C7-4FF6-8374-B5852C6A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D6B8B08-569E-4238-B3D2-97B5A445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A4D3CCC-0807-4A24-83CE-E5CDEA6B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41B921B3-9A39-404E-92E0-440535CB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1428156-B3B6-4FF6-8EB0-A7D1FB59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2049352-0451-47E5-BE3B-B6AE1F80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D819D-6EEB-416D-A932-E420FBFA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1D0CE26-0662-4088-AF71-A94672A5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E93E9E2-3B12-46F2-98FD-0494F157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536E8AF2-6252-4E25-AA12-B54D3ED7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E62C65A-E731-48F6-9668-2AE4C12D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5E8E446-E1FD-48D0-BC13-FF0FC8C8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8529E97-825C-44EE-AA78-6F2B2A09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CBAC66C-1360-4B1D-B447-7A599A36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C625DD9-5BE7-4D38-A4BC-C94BC2F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B1CBCDA-A8F5-42FC-BF9B-C0F56005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E525363-0071-4D48-AFE3-3157CE54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4B18B-3CFC-430C-B611-F3597CB9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4D24E3C-297A-4327-88F2-AB97419F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F50F6F1-FADA-4705-85F6-32FBE92E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B545A1B-B6DE-40AB-82FF-FAA58F52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D429D33-0412-494A-99A4-FA2A36D8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0A630CE-012E-4A81-81C1-0D1E49D8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3FC6A16-7089-4E66-832A-B9A2F0E4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92436A2-201F-4E32-84A2-C793C3C4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008D0DA-00C2-487C-A72D-0C7D7E82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CE4896B5-8C99-4226-B25B-7C686327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EC2070B2-090F-49B6-9508-F46B06ED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64BDB-7CB5-454C-B700-56DE2BD5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5F12CC1-D6BB-456D-BB42-F7A60498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58679F4-8304-4504-9177-22CB31C3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9628887-E2E9-4434-8175-24BB0E99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C6F4D05F-32C2-4AAF-8D68-F3D55B94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F944A14-761F-431F-B88C-59AAFDAC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333A0EE-1952-41B7-B264-31686DA3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0C4A84ED-E95F-4C22-B8E3-2E503376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7E0D289-FCF5-48CB-A0C7-13E10060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B970668-7707-43A5-A048-C3B63FBE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FEC0E1F-A62D-45D8-A401-CA8E51A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FD7EF-6BBD-4AA7-A8A7-FA4E2C90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C843D35C-06EE-4674-AFD4-887EC91E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58986F0-7A94-434A-8AB1-AFA1C593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49F9949-34AA-429C-9314-7DCC4967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B733F85-10B9-4D49-9C02-3F18DDB5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3EBCD95-9865-4E51-B8A4-C75E9CD7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FE77428-26D2-4A0C-9925-8DF8448A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69147D92-F042-4082-987D-2B4909C6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C66F955-9820-4CB9-A450-7B80F325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ECDFD77-8E6C-46FD-A04C-3FDA03FA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9BA5710-5474-49A2-9D70-396C517B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88F5A-53D3-4A87-B592-8F267EA8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F639DA7-2ED6-4C07-AB55-798D03E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1856CE2-4DB6-470D-B7B8-9D18D6B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AD87EB2-1B5E-4C7A-BE89-6A43B6C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C0684E9-C014-4733-9B4F-8995C7BE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6FDFE783-B08A-4C7F-89FC-A561E49C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FD2CDC2-1AB8-49AC-BF5A-52AE304E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D5CD439A-0204-4CD8-829D-96015C37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7F0C410-C8E6-436E-9C91-902F6D79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FA97C765-AFAD-4F13-BEE6-AFC7E841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36CC776-AD3F-4FCE-AA6F-166E65FC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CBFB-7E7C-48D2-A15F-03208890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FB70C-E083-4747-8560-CF7695F9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0669495-9A4E-4CCA-A31A-A742597C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5108074-3997-4A83-9F1C-6E0290ED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54864E5-9BB8-47DE-AE76-A8E66186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C50D748-6C90-4537-984B-FA8EBDA8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E17646A5-B411-4F70-95F2-0E7D98F3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403C2A27-F788-49A2-A615-5C64FCCB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04C55AC5-0FBE-4C6A-9448-2D85FCDF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196E60E-5B00-47CF-8732-79980B3D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43D5EF3-C269-4DFA-9B10-A2E1DC0E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D977868-6719-4554-8CB5-9ACEAE04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B6DC6-5E55-4579-9F8D-AA2C7B6C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79D7A0A-1B8E-4ED9-8FB8-AF08097D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B8929FE-E1BA-4DDD-980B-7453CC6C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925BA6A-B968-4332-94DE-96283D07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70B77642-3A1D-4045-827E-F06CD81D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792D74E5-65B5-49EA-9300-EC185AC0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3DE1372-53CB-458C-B7A5-A0ADF162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F7F9F60-A6D0-4892-A99E-662C9DB4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8449206E-2B96-456B-978A-2303FE4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5B466D8E-63D1-476A-8C78-05CE73F1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ED0EB45D-9B8D-4B66-8B6E-66D40A1F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BD494-BDF4-4B41-9FAE-FE97543C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89FB574-E7DF-40B3-9525-AC31B162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A47B547-054B-4847-B60F-918BD295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6F7D8BB-C894-4F52-B97E-CA73B330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FBE4A85-AC92-4148-8093-CEE3D439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DD23941-8429-4714-91D5-07E04DA2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6058A21-BF50-4723-A7CD-06E3BEB2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C18BEAB6-2DE6-4701-BF72-0A25B3C4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0BA4406-8D30-4BD0-B6BA-5ED88E90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824DF19-FDC0-44F0-9AA3-50E23230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25CBEEA-3A96-4488-956D-9CF62B30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13530-82E5-4372-BB6F-CB414AE7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5A487DB-8D73-496E-9398-5D3A89FF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9A46EFE-0744-4F8E-BA58-83934F79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13174204-A305-4394-8894-27C95C98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CADEE69-BCFE-498C-98C2-E0580327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257FAC4-4B1C-4EB9-8DFA-6C16CB41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9ED72CD-7F37-4705-9911-DB8950DB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D86FEEF9-7F1D-42B6-B0D5-149A2C1D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F1FACC6-B4B0-4055-B893-CD89A3AA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169C31E-A73A-4E16-BD74-67FF548D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41E8A5D-2A80-48A3-A348-95FD1C3D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E723C-1062-47C0-8CAE-CC25E6D1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5E92742B-CFF5-4387-B9E2-C75B787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0340504-D00D-46C3-896A-7F42565C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84DB244B-1792-4D75-9A98-B8D4212C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6C58FC9-23AB-412D-8E00-6C55CB2F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C507F8D8-5BB1-4A88-BC25-8E63BF63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4193E8B3-DB53-4273-A09C-61D2551E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E93833DD-4A6C-4DFF-8356-5FF5CE74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D76EC7D6-9526-4911-8C08-91B55610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A6546551-DCA6-4F5B-8A94-F43B23F5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AA9D2A4D-7E31-4F78-8A2D-2F685400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BC6B6-6FCB-4E95-BE7B-D28690D4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531A298-D09B-4511-9704-200A6585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D1BD655D-0F1D-4D1F-93F3-E4F3126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A12FF81-0C35-440C-B4F4-0A5E97DD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12598CDD-38B7-46B8-93F1-9191A272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F59EF311-9C3C-439C-A73D-D65A284E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2E88E871-3A42-4A0F-AAB8-F0A5E479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A4969292-4F65-4CF6-A5A4-73ECEDC3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F5D18C7-01B4-40F5-BE68-8AD6B925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E932DB7-7865-4B03-9F39-B5F6FE40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20E11DB-7D95-4326-A418-56A948FF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1EA62-AB1B-4018-8BCE-8490A45C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76E0A3D-187B-4925-A4DB-BED34E0D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C6202109-40BF-4B5F-9C8D-5B6350F7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C5650405-158F-4CD2-8172-C983B9C7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794B726-CA95-43BA-9F9C-1EC28772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9034DA0-191F-4605-A80B-9B186C18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0D6718D7-45ED-4BCA-85C4-1E44A349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BF1746E-B60E-4471-A41F-22BDFB6C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65E22F99-450D-4908-9AB7-5CD110FB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E0A4AD7-BEFD-4163-8A08-D7B56C09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B44C940-FAF6-45A4-BC7D-743012D7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F6113-EAF0-4616-9F9A-C2221CE2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B5866F3-B8C3-4F68-8D9D-50174F5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A37B687-DE4A-40C5-88B5-C4B6D779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278411F5-E679-48B4-826A-1A7F4A89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4A38430-3F20-4A04-8EC9-FC1B2587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738DE7D-9F0A-4E67-8B66-FF224797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B897FB4-48EA-4FCB-97D1-0705065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9B53AB8-EC3B-4C5E-BDFF-4D9902FE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D58867A-D8B7-415F-BCEA-53E729E9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960A86B-C363-4B05-80BF-678CF2FD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29B5AB3-52CA-4E4A-86EA-6C5711C4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12C78-A931-445B-8299-00F8772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D62D1B3-D22B-42F3-B554-242E7FBE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106F599-A74C-4020-9E09-82DD92F8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0999919-9E0F-410F-8756-DBA54098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4A6A67D4-8003-450A-9BFA-44EB6A4E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390A90D-A4E8-47E9-A18D-2DBCBCF1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BFB9F2B-E741-4093-8BF0-DE165EFF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3A0C04D-A91D-4AC9-8969-4C0C3FE0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D9E1138-F168-442D-B180-C9F421E4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0C18F98B-997B-45FA-85EC-0552B32F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4C53113B-8DF2-4598-A13D-673AF4E3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94A27-383D-4A62-85DD-748C34B5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2D29A36-D71A-46BB-8D46-92FE8462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97CA262-A4EB-48AB-BC87-95F8083D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219F87DB-35DD-4E8D-9546-355B98DB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31DC138-8F80-4B44-AA42-3EC2596E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C23BD6E-EDC2-4C78-8D89-61B7069F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2BEDBEDE-77E3-4045-BAE4-26FC488B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A0B55E0-8FD7-427E-8BFE-A65146DB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CCB9E12-C4D0-45E5-AB8B-437DB383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9A9C961A-1A89-4E0B-BD67-D898209A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D27B80F-347B-40CC-8D3B-26DA714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2AAC-8005-4429-9CD5-4A3E72FB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994EC-A75C-451B-A94B-E1C150AE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D93E66E-ABB5-440D-9406-6354BA97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80008F81-696E-4F11-A0EA-E549E277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AB533E5-3D09-4B3D-8697-0C75561D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B393B86-127C-4FD4-9048-419A9898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180D1E91-D9A3-4F0B-B05B-3320BD2D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85D5E0E-786E-487F-A0E5-87CE6821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F91DF66F-B2CC-4355-AEB5-24F8F891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ABD4FC5-DCBC-4A87-B1A3-890DA565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52EF205-1100-4830-995C-6273B25E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CDCB3E6-9F55-4C55-A634-7C5832CF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877E3-F3C2-4881-AB1C-19A2FC1D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DAEBBE41-828E-4D7D-92B0-E8E1EE66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EF5A199-DB65-42BE-A0BC-0E71BC15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33EA3E0-28DA-4ED1-ACCF-C7A13FEE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998068F-6103-4E36-ADC7-4431045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4B20A6A-4853-493D-9FEF-8903D616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35A79EE3-1265-408D-A1C4-494A73B2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2B831AB-0117-49C6-A5EB-DD5C7DDF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7335AD50-08BD-4D98-84F0-4381607B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0273D91-D07B-45EB-A614-082EAA14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C7417B44-6A52-4B6C-9551-DCF449B0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66E3A-02C2-4EA5-B199-E7A3D3FA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5CBC4FB-47CF-4468-91C6-6E1C1DFC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3943BBA7-9C3E-45E1-8ABB-6244E875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8CCBBC8-BA75-4E71-9D30-B9D1FB1A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2EF8900-D85C-4E8E-9204-9AA062E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A3BC0CA-F3B4-4B58-9807-4EB3E7C8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CD745F2A-4DC2-4EA6-BA89-927B9EA4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ABCC3CA-29B0-49FD-82DB-219F9434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F184271-7F4D-498F-8A3A-0556FF9D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0CEA77B2-B124-4DEC-A7FE-90326EBC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905A5E42-CA4E-4486-9CB8-0AF3C292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D9298-F55E-4516-98C6-02376FA9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18DA1CE-A5F0-44EC-882F-F3E172ED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E3351EE-D6D3-4F11-B17D-10D8FA3D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BCA343A-2A85-41C4-ABA9-7A7CFD36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BBC694C-536C-4E9A-9FAD-B0BB3430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42705D1-64EE-49B6-8892-8BA54745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332EFAE-2B38-4D2B-86A2-92574B50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30A8A830-5D03-4900-8453-581336C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CA90ADA-999C-4FB5-907E-F9DBD3C3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64FB997-281E-4BE2-9CBA-1C7792FA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5BEAEF07-71D4-4954-A332-1C47C706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3E762-0F29-437B-9EFC-897AC1C0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C211BA19-F008-49CA-825A-130C9D7E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A1E343DF-1009-4015-95DA-B6BC913E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4163E47C-FFC8-4726-B9F4-AB9D86FE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FFDA67A-0E8F-4FAC-BE11-68DD8860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A0DF30DE-511C-4526-A772-EC998831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2B788DA-C80F-4F47-A1FB-1D8589F3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EE40A8E-EA4E-4607-8E32-12951DC7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97019C6-1A7E-47E1-AC7B-EA00FC6B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B0AC1B8-B52F-483E-B4F2-948D445B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2D110F81-2CDF-4AE5-BA68-0899CAB0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282FA-C758-40C5-AB4B-41167A58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C77DEF4-8318-43F7-B1E6-C3D0CEAF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78BC49D-0BCC-4021-AFEB-AFFC3F1B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D247CB40-92D9-477D-BE41-19D7CD12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D2206EE6-97CE-4F25-A4EB-47B71D34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2A682FE-DC27-4972-82AB-6C287794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D080DB6-A995-4935-B8CA-7D8F2EF7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EAC4B93-CEDB-42BC-ACA8-C63302ED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A4C79F4-CB5C-466A-9FC9-2C62E11D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2704AB60-E72B-49F8-8343-045F1BCB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89589C6-F41A-4F3C-90EA-8DA259BA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4C148-478C-4B2F-857F-8522806E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898F78C-A8DE-4A85-AD6D-E3F92BD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E83EDDF1-B4E8-493A-94BE-69DE66BB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7C1F060E-A9B2-4511-A2FD-A534AF7D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40B5780-8405-411B-876E-745873C6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D509EE2-2247-4B07-BA10-9B318C6F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DE92778E-BB4E-47A5-AC4C-9810254D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AC2FBC7-7E33-4AA4-97BA-270D9AB2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9A32EEF-3D3E-43F8-8B26-860F1FAB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6E37BBD-0434-40BD-8D18-539B0969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755F896-4EB7-48FE-A125-2E56926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C8C45D-235B-4AF4-A211-D9EB8D73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5BCE684-A248-492A-B8EB-08859178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E3E929A-32A1-40CA-B868-7BD669F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43DCFC7-E3F9-47D5-9A71-892B062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CD5A72B-2AB3-4A0A-AAAC-7F7A985C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D764CCF-8E96-4C34-AF20-531A72C5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1E8550A-22FB-40FC-BC00-2C1C5F18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1951480-BA9A-49BF-825C-3FA2A234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97205A9-8014-4A5A-ADF3-CD240386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EC5FB8D-37F3-4D5F-B0B5-60181599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91855D9-B430-432F-BB37-48CE3136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68AE6-91A2-48F4-8E9C-CD0AE585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486280D6-57ED-40A4-B0E2-DD7C237F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213CA062-E457-43CD-BA4D-8FAE82D8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814A4C4-34D5-45B1-885E-2502A868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32C28F4-7706-4D66-9189-D4EC9317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1429D2AE-03F8-4664-96F8-53CC9B7B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EE8BA8BB-011A-4A36-81C4-1708555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417DC6F-58F3-45A8-A527-7A1BDBDA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F1E4597-4553-4782-99CE-80523AF9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6C0F8EFF-0D38-4574-B524-8E871D27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F6F35DCF-9E3E-4E03-9CEB-7FCA6883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F4AA2-2DA2-4D4E-900A-0EC60608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8B0996F2-33BB-46A4-930A-C595F934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5AC8B68-A701-471C-826A-F7E27221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3CBB0F0-32FF-40EE-8D11-778755EA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A0F1DE5-E9B0-4848-BC57-979C1117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E83A7D9-A780-47F0-BDAF-9BFA695D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A3ED51EE-0B61-4ADC-860C-57B26295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8B90248-6473-4948-8406-D765B53D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3711D1F-F598-4FBB-B565-6C06EF2C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FD4AD25-4E28-4898-9498-76DCE1B8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16C88E5-571C-42BB-A9E1-05C00B4C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0469-97EA-4F37-9A82-D16132AB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3420E-8A28-44FC-B521-E76DC91A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C8A5887-80EE-4961-902E-EA7DAC29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9542CA09-D6EC-450A-A31D-9F6F9917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CBC40DF-12BB-488F-87D8-5B1A1A5D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041B574-7586-43F5-A221-FEA45A88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6222C471-6444-489B-971C-DEDD8378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5963610-8D8C-4C4A-AB23-A4D1AA36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6F232C8-B060-43FA-B431-6467E380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3046B63-EADC-4189-BBAF-E3AFB325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9CAB40A-DA23-42AD-9AD5-7941CB18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01362866-1BA8-4C46-9D8A-2F6E3C07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D5533-0D36-4D5B-8934-BA5D63B3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5FF354C8-7CAE-464C-9647-865B012B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43DE2DA2-0D12-44EB-9B74-DE22F959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E89AD2A-A693-426D-A220-7DFDC5C6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5E064E3-EEF3-4CB6-A0AC-F16857D4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3CF66408-77F1-4044-B1ED-5DD42CF3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5163347-321C-4420-8D98-44CFD63A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BDCF394E-C868-4306-8556-197E97AA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ED54F41-6376-496C-808C-6A05F020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AC384FEE-8FDC-4092-A93A-53908086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A13CB7C-8C2A-417D-A789-8A4CB71D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21403-0477-4E31-9767-6357960E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8E07C32-ABEF-4BAF-BFA5-341DE4F0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A500718-771B-415A-8D1D-AB280262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3F43CFB-9551-4615-A6AA-205B354C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97FB0997-F258-4DD8-AA8F-F6EF472E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7FF48D74-A4CA-4252-AF91-CD50B398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341CEEB-743F-4A98-87C9-F023D2AB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64BA131-7EA5-4BEA-B91C-EC04554C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2B2BA5A-34FF-4DB2-8D3E-9F985DAF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2E48E2B-C69C-4EF6-9D19-ED10CCD6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E815E884-2C76-468E-86E1-20D6D1BC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9DDF5-1897-4E2A-B63C-4D8CD058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A0C94F5-A40D-433C-9BE2-A7E8A6A4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AB8184A-FAD6-4077-9128-A433C87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BBD9FF0-A902-47F8-AA31-1CC520A4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9C06E65-5AC1-49C5-A906-6B998587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48E347D6-D8EA-4FEB-871E-D64C3817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F612EAFF-1D0F-467D-9B95-454E4B27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B94A804-0D36-40B9-8F6B-AABDE66D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F5781A83-248F-4C56-96CC-20E3AEA6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F8E6634-6E2B-467E-B53D-EE0F8025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110F129-D588-4F16-8B86-119C0711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68B24-429E-49BC-9FD8-30306641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BB6DC894-8309-4524-8E60-03E87F63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A8432CE5-01E0-4491-9BB7-17062A69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2AD9486A-C0F7-4F07-92F2-D2FF836B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F1248118-C55D-4EC5-9D95-318C102A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EF29D9D-A211-4DED-9E61-547B6F7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4A6306BC-653E-43D1-AD7E-07EABAB7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797419E-65D9-41BD-A937-E81261AE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9208C0D-EA54-445E-881F-DB468356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A19E7607-BAF0-45DB-9FBC-AD8006D3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5D4B7E11-23E5-4459-A525-EFCC384C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523A6-85A1-4251-986B-DA93A531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8291FB9-FC04-4C76-97FC-E5F1A683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5F8E13E3-E139-4C0F-A41A-A0971B92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A78144C-D851-4E67-8836-9D7D9D6F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7E4219B4-0776-4351-942F-FA006CBF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59D4924-9107-4C0E-A5B3-7FB56CC7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913B685-0AE9-4061-8C2C-533B5B0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9366EE0-4775-4BC3-B1C3-FF1A1C5E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0294304D-22B8-40A5-947B-A72E6C1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26387B1-168D-4846-BC9B-64F532D7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C929E898-D80F-46A3-BCF8-0DD00AD2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D8FB5-2CAE-4F7E-A16A-EE3548E0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A31F0177-DC1E-444D-973E-B5D471F9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0994FD8-1B67-4448-A35D-D03A1905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6876B439-8EBE-430A-9FAD-A68DC50B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75D7737-DE11-437F-9151-B9AF135E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5617218A-2472-405D-9DCC-76318DB4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E5FE259-34EC-4327-BAD3-89F39C36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1453153-D7E3-452F-BCD4-EB48CCF9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DEC5A0C-C9C0-4B73-843C-A33A0D0A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88B2FE5D-E3A8-4673-AD62-2CEAC36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FC09A20-C89D-41F5-8815-5E594C8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E46DD-54D4-45CB-9823-CE8A36F3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E680B7D-61CA-4136-8837-E9A53284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0906BEA-3361-47C8-9D21-CA0C8E24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B52CCA1-EA06-4E10-B644-2B2F2BDC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98797DCE-4C63-4D11-A9FD-CBAD9C23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DEC725C-98C4-4274-9211-356DC23E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F7AAA43-6618-45A0-BB31-4C7D2954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91C3892-D657-47B0-9D2C-B956FFBB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1D852F1-74B4-447C-8418-915E1366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401AECF-E073-40F7-8C55-27559E86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A6F8A7EB-4122-47BE-9C6F-3DD9B4DA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BCAB1-6281-4975-B6F5-2099C4D4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BD74E951-A8A0-4F9B-9914-790812EA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8A8A99D-D84E-4029-B36A-682AE28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68792A37-74DA-4A82-894D-278FD7B8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2BFFFFE5-3C4A-44FF-8CA3-C7B815B6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A98CD72-3F73-45AE-8BC9-F5358CE4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318F43EB-A617-4A97-B95A-0920E2E4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F51637C-9EA0-492C-9457-313B54B6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3AD9ED4-BE9B-4F3D-8DB2-1C8F7073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58C22C0C-84C2-4685-9CF7-544CCBAA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E1F2E0B3-04F4-43C9-8B1D-54E62C61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AB96E-C960-478A-A55F-7079C6FE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C0B5382-E17C-4068-ADBB-085C1069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58414F8-6E4D-41DB-874A-EE06B22B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6A9779FC-08CA-4260-BAE2-17FDF078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F4A0432-7482-4FF5-8467-B9DD6533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4BDAAB0E-928F-484B-82E8-66441546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019E6FA-BDDC-4867-A1A0-61A322C2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BCF83AB0-E2A3-416E-A7D8-1BCAFD2C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1D69974-1474-46FF-8394-D976BF22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291CBA9-DFC1-4D7C-AF0E-05D93A11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E49B137-7DC0-401B-AA35-4820B38F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1AC8-4BC7-4BA1-B3E6-6CB4D5CB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9C292-06D4-4C1F-AF54-F910754B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6FC823F-4729-420B-A875-276CB304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6733FB9-BDAC-4164-B839-CEC99B18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7D95282-DB7C-4504-9985-EC16DA7D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0F4F179A-B393-499F-9AA9-057E01BB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0EC46FB8-67D5-4541-8079-9EA904BA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69CD0DB-1203-41D1-84D3-477BEAAA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3F87A16-59F5-4004-A9F1-40E4C589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B2C051A-7086-449B-8236-CFAD4B43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FB448D1-9074-421B-A2FF-E097A47A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C223CA85-EB71-4512-A19F-2445D168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A61B7-FF20-43B6-89A2-FDB6FDBB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093FBA4-3E71-4D0C-AEA8-5F149D41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4742F735-8295-4C8A-B2D1-0BDFA5B1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DEB21CC-359B-48B3-834F-2F082479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059A43D7-0678-4D1B-862F-06C3CFAC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044EA18-C8A6-4A5F-ABD4-026BE5B6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BE3EEF6-99DC-4CC8-B564-6FC77D8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E13BE08E-1C9B-4C35-9FD0-4CBE2D96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BEF7AA7-A41E-47CC-9A20-81F31AAA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CE74ECAF-CCD9-4865-A608-A6C0B0F8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6ECDAD71-08F7-4542-92F6-E9F569F5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997D0-FD0B-4C3B-A659-D77F0E6E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EBF30C2-345E-485C-BC07-62715176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5CC2250-BEA0-4D73-8459-A5BDF791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93B71DD6-1185-492E-BAA1-C3B4E972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4CC64D19-78E2-458B-A029-B5302536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98B8865-F5DF-4DE4-8EDC-614592F0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C3B991A-4D8E-42A4-AF5F-E63D15A5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7BE2A32F-DA99-4301-AC7E-EC9FDF1A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F6AC39E9-74E1-44C0-B561-C602B5C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9CCDDBC-28DA-4EEC-8A14-57CADA7E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7A7C97FD-D1BD-4CF8-AD67-5AF59A1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C119D-6A42-4921-AA3F-AC86D0DE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75972ACF-D6A3-420A-858F-977638D3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6E5D8ED-1FD9-40A4-BB97-622CB252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5DDFC30-2E10-42DE-B6F8-7938450B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2F70F24E-A63F-4C14-B69F-6AD8CB27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3A97570-5610-4B4A-BA51-25626AB2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A076557-3AE9-4905-BA99-83B32DCB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AE39362-6AB8-4373-B4BE-9E632442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4C586BB-32AE-4CB1-8DA8-4A24527C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FE076D6-BC03-41DC-9EDA-881CE185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0EC872B8-F05C-44B9-ABD3-DECDB520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4D2B0-DA2C-431C-893E-DA6E6747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B274DAD-054A-4704-99FE-B11BAC4D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BE11BE5-CB81-4AEA-AA7E-E0EB1B4C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798F6B2-E4FB-491A-B6C0-C96A15DA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114B920-06B7-4CB8-9F53-A33D307A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D2C3473A-1E6B-4D50-BD91-283D11EC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3F8C7FCD-B767-4D3E-A5A5-C7EE0706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F0110CB-4A31-4D19-AB65-63DAC3A9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FFDE0606-EAF3-403A-A7ED-B940DD02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6B8929F-0B16-458E-90F0-ED1DD775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19B3D10-60B6-4E95-A127-B7F29F23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10B08-71A6-4E44-A1C5-5EF2D69C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32E2B4EB-651A-47B6-B8B1-82669962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99DF053-AA9A-4245-9EA1-B0F9B0E4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DBB11F90-1DC2-4722-A0A2-96976FFC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0615E491-D3C3-408D-AE4D-DE59B8C7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132FA814-F680-4AED-854F-B82D4ECC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6E699D3A-7CF3-4096-9492-D47C3399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7E97D99-2690-4781-8AC9-BC779146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46480BB-3D5B-4782-A853-6FEC29FC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7CAF525-3825-4A56-BA72-84F0B5CE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0891B29-8618-43D6-B637-6F373CB2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4A4C9-F4CF-463F-B39F-C1BD6A56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CD79078-6A2A-4251-A6DA-DFFE6D86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AD1888D-B724-406C-96EA-2D6D2059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84408442-C347-4CA7-A162-0E234C47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4AA5A24-B131-4C75-92B2-6F251C7C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B2B06249-009A-4105-8D7B-927D834D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871B9950-6469-496B-AEE1-89B5A23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C3159AFB-F976-46FA-92A3-95EF4B6F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616066D-A4B0-42FC-8CAE-AB7EAC04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EF0CABAF-8F1A-4A0B-BAF2-E0517E4F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8B67164-8B5D-4CC4-A326-4B6598BE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7F71D-DA85-4E5F-B808-5CE839A1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B88F7840-CBEF-45DE-B06C-877EBD62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53D60FC-839F-4186-9697-0E391C92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61F68447-CC27-43B9-889A-3F971264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F18061C-042A-479C-A84F-4D419D72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05249C5-DE59-4FF9-81D6-C14924E4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62616D1-8F22-4E44-B1A4-4F8137FD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2F04AEC4-83FC-4958-9143-0F955F79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EB6223D-A877-4138-9FD9-DBED53A5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FCB4BDE7-87F8-4AA9-8CC7-8C25D352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ACB08D1-C9F0-4C6F-82D4-8F72A1D9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36EBB-9E79-4080-8333-B6F8EF12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29C57A91-2073-44A9-A086-A27A436B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E6E5A305-E91D-4496-8FAA-A14219A8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BF5ABBB-9E1A-4D8D-AE87-40D4B8AD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6CE4B46-D3C4-49A2-ABFE-487573B6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912696A-AA41-4B20-A85B-F69EB9B6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6743B123-6040-4FCF-9329-53926CBD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74DE430-6FD4-4CB3-A5B5-C6B4D21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36FED53-62EE-408C-ACCB-BE787212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A13FFB46-7D4F-4D19-B309-4FA4FCF2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0653AD5F-64DF-4B52-827B-AD0457D3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9F384-9A59-4B55-83BD-BC1BB630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C06D8E2-367D-4932-8930-4EE4F257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45337202-3AF9-46C3-BF18-21B513FB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A6423B8-5AA8-4F2A-9B27-F40AE0BF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160852F-8A2A-42A9-B3C0-7AC67D12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70104DAC-1AA1-467A-AA10-459EBFC9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D181B413-927B-423D-A583-AC53D60B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153C5114-764A-4186-AECE-E712A3A8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8272A0B4-0EF5-4B7D-9C9C-054016F4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295ABB3-D2B0-417C-A155-210C9C57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48667A7-77E4-482F-855F-E806E52F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BD57-7B9B-4713-AA2D-F14CC65B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37B17D-43C4-4A3E-9933-ADB1BFFF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355D086F-CF93-43F7-930D-868FE09B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F483E6C7-D8B4-4951-A1A9-0567EF9B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08C4FFC-F4FF-4FDB-A25C-C1248551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185AD459-4FE0-47EC-9966-99823435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7D2EDF0F-C509-4FC9-B080-86FD39A0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49BB96C1-B442-44CD-A7D0-C86FC054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D3C1BC7F-FC5E-42F4-A827-D50232AC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58A01D73-7A4D-4D8E-8866-D2554896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3BB7814-A13E-4922-8988-26EC4A45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A0734064-6F6D-44B1-8A42-804C8122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B7720-8E04-42D1-B083-2D8B62DB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B544524-6B1D-4C40-8F98-AF23FD86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C87DF3AF-D26D-4F16-A646-760551D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FA8CAD73-6426-4787-ACEF-AD4A1B6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F75DF4A5-EAA6-474C-8AA8-35374678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E46CEB9-944B-4A6E-9D27-1CB8466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C884C603-8F9C-4652-81D2-8985746A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860BC5D-1370-472D-8C8A-068DAE99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7781ADF6-2013-4F4F-84B0-629BC91E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AAD76BA-724A-48A7-AD6E-4A9DF43A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06AD569-A961-4BCD-9466-AC06A6B7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AB946-27EA-4609-8617-5A56D5FA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DCAA4AEE-F6ED-4276-BC67-AAFDD51D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EEF45A6F-A616-4014-9F33-007D34F8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D90B61C3-D2F9-4C39-A7AD-6474969B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60ACD0F-F3C5-418C-B320-E96752D4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C50AAC9-47B5-4F60-A09E-256C406F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3DFE44C1-00BC-407E-A220-595234A3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6AF5A00-F05D-452E-983E-EFA04AC5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A5E45C1-7566-4648-84B8-F3F2BD7D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0AD8205-73EB-4286-9ACC-D0C44BB5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8D39F281-585E-4FD3-9A3E-DB70C046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9F74D-E6FD-4ED6-860B-F42D2F95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956FAA27-1233-4E1D-B282-643A8CA6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2455FAD0-AD16-457F-9F67-191606C9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8C4DF702-DAED-4833-86D9-1A5EECB1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F50D540-E6C4-4237-8531-0739C825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A8869D52-0445-441E-A776-0959CD22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39A9556-3A97-4CEE-8FBF-644C4FA3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CFD5A109-7ED0-4588-9E86-9D0A847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A9A3552C-E4B4-4900-B2C6-5BCEA945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12B2C5A4-C13D-4393-9D57-2E80457B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73FAC0AB-A619-44F3-9F9D-E426C57F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2FB37-9FBA-4EA0-8A81-8576FE4E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87A016D0-108C-4E72-8E1B-9E70FBF3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BE3EC310-3A81-4BC7-9BEA-F1F85687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B037BCB7-4608-4774-9909-CB6F03F4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5397F364-3A29-4872-829E-B5376F2F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B008347C-7C60-47C6-873C-5C20FD12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01504C35-8FA7-45D3-9F4F-6E248414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37AB8574-A329-4E84-BB60-941EAB23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48D44140-5F43-489D-8A3F-6D0B3C89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4AF7BA3E-351D-43E7-BCBB-59052AE3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0CB61B06-EE5B-4A6E-AC22-CEF7E1C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7A85E-0A84-4A6A-9083-EE58AAA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15126BA8-0E2D-40D1-8F24-146DBCEC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8FBDEDBA-B696-4FD8-AF4B-78008E8E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5A118881-A340-4BA2-94CD-2F104D5D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B9D419AF-1CA2-4A53-80BB-7DB09F66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CB89B672-C8CD-457A-BDED-B3E8B59B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5533817E-54A8-4C87-A9C2-A0BCC8E0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33808C9B-8D56-4CB0-9057-FE38CEFC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0FBED6FA-808A-4F68-AA03-177B7DC6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332EE997-47E3-4D45-BAAB-85BCA88D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528D3915-0D10-42DD-85EA-7949482C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6D0E7-01E7-47DA-8645-EE22AD62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1D284D89-C4B1-4454-867F-F06773C6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AD19411B-09D4-4A14-8D43-F2E39FB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5AFD2F9F-E844-42D2-B77C-B7B21268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8BA7B3A2-3A6E-4EB5-B4BD-E0B39809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FA4DFCF5-77A6-4A0A-88E8-7834CC05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3F040B0E-FA71-417D-98BF-04C73369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1853050-B7A7-44BF-99A0-4862B459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A67FA51C-1140-4743-B45B-0C0A2C87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E9CAEE0-E476-40AD-8B26-F40B4454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472ECD76-0FC3-4B7A-B2B8-4AB36F88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18E7F-8D25-4808-81E0-4342853F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10FE9EB9-165E-4F0D-B343-95F6DE77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15DB7652-D669-4F31-891E-97666AD0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1BDDEDA-9919-40F2-9904-26802CB2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9418A618-E30E-43F6-A8D5-9B1C38B8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9C9F06E4-8827-43BF-8AEA-D11E2D52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4075DD1D-DE97-44F4-909D-6397B151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6BB2B33-5976-4A9E-84B9-D415E1E6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E3625E5-4F53-485D-848D-920DF1AF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C8DF033B-ACA0-46DF-829B-D6A875F1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CA790EA9-1185-4EB0-83AE-DCC710BE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339E5-A61F-4DC6-A786-05E1E610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1E3CFDC8-5EEB-4994-8516-5FE823A6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97B0C206-AFA3-429B-981B-AC9F891B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BB59F5B8-0CB4-436C-AA96-59EE39F7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DAA87309-C771-484C-B8E5-C6D68E36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FBF52E6E-2ADE-4C90-9AB7-8A09A75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AF14818C-DAB3-4E99-AB0F-E6A3160C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57BCBCAD-9571-45DB-885D-F6DE39C2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C2DF45B-4099-4EFB-8B84-AF1963B9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3A5AB83E-90B0-434E-AA69-AD7281C2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BBA4667-F2B2-4F7F-A9E0-A73BDE4D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49B82-263A-4D37-A75D-42109232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F786023-F422-4890-AD7B-DFD21D28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1F49973A-D295-46D7-A726-29DC6072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66A4308E-EF1D-4B84-A223-D76D7E60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06D42841-AA9E-4C42-82F9-C463FB57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D55F84B-079C-4F6F-8AC6-F42BEBA2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D348337D-6273-453C-BA7E-7FB5447D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D584F8BB-A2FC-418F-9E49-1DC331D4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D56047D-C1D0-4237-BACA-F4A54F83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2BAAED2C-81F5-44DB-9402-C4DCC8A3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97B9134-5F86-4A70-8B2A-A8094838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684E-E5B0-4217-B991-C1F495E1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91454-FB41-41DA-9CC3-A532137D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F968A28F-9DBB-4852-81B7-0C5B1319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C6CF6548-71C7-4849-A18B-3976DD1B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516E505D-5690-4FF8-B62B-83483E8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95FB3D63-B436-4E75-8371-1C90219E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702C5F9F-F1B3-4FF4-A920-E1C1E1B4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D8C98532-8214-4495-B34B-A86ACF2D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2611B98D-FA33-493C-AEDE-D7EF4DBE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B5DB79FC-ABC8-4E0A-A2C7-2513A10B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8418A7A0-0A38-43E2-AA39-FC3AC490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18D24D26-5D8E-45F8-89F9-9A56626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E1387-2E9D-4007-B6F3-3ACA7D72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387A4FCC-FA17-4746-B133-EC4A2938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3AD13C57-16DF-4852-A989-A5995FE9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29806008-9815-4AE4-A8EC-053D7840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C5EB2F1-9363-463D-A2B1-8DB075E6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385294E3-45EE-412D-A903-6931127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3B6EFB4B-40B0-4438-A4C6-8819A8EC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21499EAC-7B97-47D1-B8FE-EA411832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B8920BED-89F4-4C8B-B94C-6C0B170F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78407862-9230-4F25-A73A-AB3139AB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A2AD5E5A-1A01-4D1D-AF9F-29E1A4D6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BFC6B-E35B-4721-9E11-8E23638C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4C360DD6-66C4-49F9-8C94-AD24E691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0EB139FF-C8D2-40D6-A03E-A180B59C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7A4FE8CB-90FB-421E-BB2C-94751351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E58F9941-5E9D-40BA-8F9E-F70508D0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42F9D280-B81F-45E0-9146-FAFDCE3A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C5FF81E4-93CA-4C9E-AE5D-19ED390E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1E9DA5A0-D0EA-4402-B984-753E8625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24A737E4-A292-48C7-B4AD-CAE1CBFB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7A583315-BFE2-43FD-96F5-C3C563C5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5B987D1B-BA3A-4048-8092-0A04D215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3C58D-1EE0-4F41-B0E2-200F359D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35E986CC-D756-4E5A-BBF4-16B9FBD4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63800A99-0765-48E7-B6F9-562CA6CD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2A7981A6-9E4C-4B4C-B782-9860061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8AEE6561-42FB-40E4-AE57-CEC41618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D14C96EE-836F-4D77-BAEE-228E9F47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C06FFA42-CF9A-4EC7-9932-C44BA644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B78FBBBC-C524-421A-A4EF-9DF4712D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0A4A3865-A85B-4B16-A3F1-2B5592A7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50964EF3-A923-4FE3-8F76-D959E98B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DA52C1C0-3861-4090-AF12-85BA9D9B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48309-F6C5-4E59-BD09-E7344E6D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481A3D5D-F8A4-48C6-89A6-12CC4BC5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8F543756-4C8A-411E-BCBD-5B59D7D2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9CD5C431-2C11-48A4-92F5-2C1F737F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D68160D5-50B2-4119-A2F0-33EB3800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A79FDB6-8DEF-4581-BD21-434BA39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FCEBD74A-B6A6-4179-A689-8045CFBC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2BD7B504-C3CB-4340-9964-8A74474D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86DF8551-17D4-45F1-94D7-739DDD0E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AA5AA71-3623-4C08-8C01-61C2AB19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F27B2C52-4196-412A-B0AD-3A1FD470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F6FB8-E929-4AE0-B63F-AE309325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E4F87E32-D86E-4385-97EB-F199B290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F54C1853-E752-454A-AFB8-302E5B5F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93203FD9-C57D-468C-9972-EFE591AE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5FD96C72-CFBD-4FC6-82F5-8AE13C94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39994A17-6ECC-485F-803D-722392F2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9FA0F125-FFD6-4ADC-A2B9-7D51672E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5A8728A7-C79E-4A63-9B5F-AC8DAF94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C10F9826-56D1-4FE7-971E-C6A4552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243A6894-3E93-474A-90C0-85F34F91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ECB0E3E4-3C68-491F-8FEF-254A9A95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C5E38-74CA-4B4F-8964-8877B6D0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339C3D1E-B34B-4285-8851-6DB28E45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5B412B04-7759-4F4D-8E44-67AD494C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1E0C54E0-97F6-4040-A10E-D8DC4D17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6152F3AA-450D-4AA0-897A-CA55C42D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273DE2BA-C648-4E0A-9744-10B46F27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3279D5ED-324B-4FF3-A910-2A6293AE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25F980DD-36D0-489A-A281-704A557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6E598F4A-CC46-40F2-9442-E1B07C09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A3975297-337B-425B-8319-F366814D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E5405814-F7A2-4A66-8F24-C5FF4A9C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5334F-F290-4212-B0AF-1D3FF7E2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F643C0B0-F710-45D3-85B7-F163D119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4E907F74-8A91-4497-8B67-B258C6C9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644D63E7-998A-420C-889A-C76E9661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6F298E56-EE54-42D3-A7A2-1DAD260E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83A270D7-75A7-43FD-88AF-A4ACEBFC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2326DD13-D7C5-416B-A69E-1CEA9D55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05DEC49C-E736-44C0-8B4A-FDDDB42C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0D6C5F9A-B615-46A6-A8AB-F1E52C44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287D1856-1299-411A-9950-9C51EB47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E0A78F13-7091-4964-8F44-34166E3E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EC023-1759-4DE6-A520-4BD9AB8E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836004D2-A562-492F-BF21-B812A95D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1210439D-301C-41BE-9192-0BA184D4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03B58DF0-16E6-470B-91CB-AE9C3A79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7C609AFB-9BFA-48B7-B2B7-A5C97332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77A6A7A5-765D-4637-9383-78E1F8BA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9770EB23-EBE5-410F-8A98-7C1C084D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A66EC31B-C49E-48DB-9447-86A9E330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D0B7FD47-5EED-478C-A51A-666337D6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4895C2E4-AE8B-4A43-A469-E6890222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5B0EBEF7-F8FC-4B9E-A004-A2207AAB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E258E-7717-490E-9C74-2645E2B4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E66A0581-38DE-4366-8B7A-6EEFAAA0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F463D143-7165-43D0-BB29-991F47B0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D28FFE22-958C-4B35-96BF-5C8E57EA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38D13BF5-F343-432D-A3F0-386A31AC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EA015DD5-3168-4453-A63D-9D87CC9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F495222F-D92C-47DC-B0CB-6E023C31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FDBA8F73-03F1-4A9F-815F-5F1B7D92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75CB0D82-CA08-4E34-8465-624B6164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A572B30A-A892-4441-9AF5-FAA6819C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323F1F81-A49F-4AC9-B8C8-749BBB4C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FF5C-70CC-4BC9-891F-C4138E47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03D34-8B88-402F-9787-F4A1EED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384A9B72-61CD-473A-92F9-C2B1C691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512CA7B4-C70A-47A1-B177-D765094C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57361167-B838-4944-ABC6-1A107B0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83B310A2-A630-4A8C-BCAC-38F135C5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9D18EA4B-72CA-4091-BB30-33070CD1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4C8B7770-B3B9-43AD-855F-4964DC97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C9C7FFB7-E928-4F43-8212-BD97AE52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3FEF2BAE-E764-473B-8BCC-3846D6FE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CA802EC9-E9B9-4633-BC14-636F55F5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A3D37-B12B-460E-9689-DCE0D3C6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0E369-4EAD-4B04-9C65-C4A7E864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025CF-D5E4-476F-8732-998B4393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CDD0F6-AEA4-4862-A86B-BE18466B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816EF2-975C-4F0D-83D7-99CC8001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563E9-9976-43F5-BC07-E5E1B3B9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79780-4514-419F-950A-7B65074F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0A46B-48AB-4111-B9BB-B2503D35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87244-C1F4-49EC-B016-ECBFCBA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A82-3C84-4880-8271-D4793C3D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3234-9337-49C0-B8CE-2E627FC7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EE9E8-6D6B-418E-84C8-E10B8090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574EA-399C-4142-954D-DC1EF994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5F4DF-2215-420E-957E-750F3ADE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F900F-06D5-4109-81EA-98F4E9A0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B0A1A-1C8B-4CCA-8322-48954DF3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B47F4-190D-43E4-864A-B23557C7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8FCF3-9F5D-4598-A274-88BCF95C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75AD3-C44E-464A-9033-E947B134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F0309E-ACB3-4719-9573-9347A3B8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AFE25-1E5E-4C7F-B320-CA52BEA5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2921-1209-4074-B9C2-165B62B2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ECAAB-F5D3-4467-8F10-9718CEEB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A11C5-E86C-4067-B604-3639F74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E17F2D-ACAD-4DF0-AC5F-2BF4DDD6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9FBB7-734A-4F22-9094-2FD68E39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6A1C68-9ECC-4FD3-82E8-77A8B38D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6C636-9B38-48F9-8F41-FFB33274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AB064-94F6-4024-8993-F1D3B818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5A60F7-7F16-46B2-92A2-E90CFEE4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507D8D-F836-43FB-9362-CEC4B284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E550F-FC84-4CAA-A7A1-462D619D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983E-0D3B-4099-B990-625A5995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75B02-C339-4E55-8467-E82BF800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3CB7F-21F8-40B6-A6C6-A90020E4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14DD59-06FF-4D3C-B54A-558D37F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AA79CD-9627-4DC0-A06B-AD94C3FA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7FE9A6-FEFD-4447-BE5A-43029A0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74A43-DF44-45E0-8B40-C5D49E7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F24346-3693-4D84-8143-4DDB20FC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8D333-F436-4C3E-B0F6-59D847EA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CF4C1D-B3B4-46B4-B70E-14232999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B7C192-A52F-44E3-B5DB-D23A5BF1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D5E4-E070-4296-B8B6-78C0063E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4704C-8432-4FCB-A1CF-7EBDAB8C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A92B6-FB9E-41A4-8E0A-CA6B3A6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7011A6-B110-46DB-B1D2-C922C5D4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7FF18-35B8-4DB7-A6EB-FC242822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82448-0AA2-4461-83A7-BC853C6C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602EF8-24A4-4B7F-80A2-CC01F7AA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2BAA3-0A9B-4663-AB16-D6E72A1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05206-C1C4-4ED3-8611-090E7E99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AA22C8-C8E0-4FF6-964B-A6F94C92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89EB7E-DCC0-480F-89B5-487F2151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E0E0-3A8E-4757-AB69-0060BBB2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94E9D-CF0B-4D12-86FD-054D6846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0A57DD-B79E-411B-8477-A9E0A1E7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484085-4203-485F-A64B-9116D25E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4D76D-B771-4A0A-B4E7-3307ABC1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9DC9D-B38C-4686-AFBA-CF209C63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B8451-C0D8-425B-9494-ABFC9B3E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FD1886-516B-4B6A-B75A-172BAC52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8C32A3-7E9D-441D-86BB-CF01FA3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E86929-B161-41C9-A13E-C35B9E9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E4C2F-9A7D-4AED-8705-6FC65EA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CD03-4944-4871-8A3A-45523525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2A856-2B7C-4C2B-BD1D-DF0612AA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3DCB9-C4F9-4F0B-8BA6-2F9CB3AF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0DA811-89A7-4883-AFCA-EAA57C2B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D62E67-C3FA-4C21-B993-163C0BEA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8E3415-177E-47CD-AC88-4432B90E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26AAF3-FDC5-4140-90F2-B8201DAE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E0C8DB-01D0-4217-8CD6-8BA1DDE2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1293A5-1869-4041-9365-2567A7C4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9E78AA-AB66-4E73-B53B-6B58DE83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A58848-6CA1-47FF-A6CF-677F1B7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C64B7-1F34-4920-90EF-D18EACE6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8C2DFE-13A9-4795-ACDD-BC3B896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4BDB2-EF6B-480A-8780-45CE7BE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B9C81A-302C-4FED-BCA0-8A2B9E69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C5319F-F5B1-457A-8FD8-4E5260E4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2BCF52-F250-4345-A436-EE232851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696EA0-586E-4658-92A8-B4B5B497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5445BB-4E74-46EF-AE07-152CA0DD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9A4C31-9E30-4D56-9ED0-A19EE265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0C2CBA-8307-4B2B-B4A0-65C34CEF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7BA67F-5B75-466B-AD80-F5955EB8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12AA1-A92F-4FD7-A8D9-C4FB6F68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F56CFE-F73C-40EA-9B05-812B3764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71A80B-850A-4A97-8750-F904FF87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870BAA-F0C4-4B0C-89DC-0B0E8BF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B3CAAD-C39E-45E1-B825-53A5FAEF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D6BE1A-07EE-47BE-AFC2-B1D4B64D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95C8E1-9219-472F-9B99-E2F63CA1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58A3CC-72B4-4B92-B6A0-B3F96C15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BC1803-A482-4A89-B86B-5377C75E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710D27-3D48-4F4F-8962-C629409E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53DF25-8091-446B-9A56-41479D60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904B-C43E-4933-B00C-E7048177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7171F4-9560-4702-904D-FE2FDB44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C0027B-7893-4000-B58A-52D643BD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FEB28D-65CF-4833-B09B-97378CDA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AFBDBF-85BA-47DF-9C95-40337BF8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842BFC-3655-470E-B49D-0F640D78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B2864D-FEA1-4F1C-A556-83644B9D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632A07-28CC-4B0F-9AA1-05597D9D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606721-1759-43EE-BF4E-F02CAF4F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AD3D99-ADCA-47B7-8BB1-310E49E2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E195BB-5BD1-4649-8265-35ED13D3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9CB7-DF62-4D63-9F63-BDC806BA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C99809-EBA2-4722-A315-A6DD96BF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473579-7A40-4E99-912F-AFB0E280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336FB8-1370-463F-92E7-A8E6EC3F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B28155-A294-4DE9-9B6E-A7EAF449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08C17A-2031-4A34-AC98-03260BAE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C60E82-7590-44A5-8E0A-0CAE84AD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FD559B-F0A4-45A4-BEA7-7DBC217E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E741EC-3754-4291-9C87-B00B39E6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03847B-B13E-421E-8DCD-64C5CE79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80CE50-47EA-493D-9B88-8BBDE380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3B6-E2FD-4A21-9816-A4023930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E3C0-1925-45E0-AE26-5475455B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535EDD-9780-43C2-B5C5-CEC0DD70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6E3FFF-D554-4982-A449-24029D50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A5CE75-A9C2-4101-8DDB-902F36C0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55E072-7292-4B57-A2EA-9D587C50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6668DB-E5F8-4CC0-B2CB-5ED86459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45B5A8-946A-437B-B4B4-C5B5795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BB9AE2-1CB1-41E8-9BF9-AE85829F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AB6303-B435-46AC-97F3-0AEF44B8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015D9B-90DE-4957-89BC-EB60A516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C3F7C9-ACA2-435B-BA5C-99F074B1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CA26-AF19-477D-A66E-2E49A9AA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0F5277-C75F-4270-8388-79A07DC9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4958BA-2A7E-4CC9-AEEB-723C877C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B07311-423F-4303-9A80-7644271F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6CA7CA-640A-4BB6-8880-B50515B2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2DF358-0A9A-4207-9568-57875091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69DADA-61D9-4327-B94F-1A0AE238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B6A675-3EE1-4B41-B34F-9BC19DA3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0E0381-DB0A-4FD1-8D32-F256C513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4AF607-2F11-4709-9997-007B85AF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430E6C-E1FF-4456-B7A8-77D71ED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9CB4-D3E0-4A09-A585-C3D839DA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8CE535-1115-48E5-B847-BF97B39F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E3825F-9B7C-4557-9E0B-F89B388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9083F8-BC3D-43DD-AF18-B45B57ED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DA149A-4B17-4952-8DF6-B965A9C5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7FCCFA-D223-4998-BE1B-B6014562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8E9E72-96A7-46FE-ABCC-04450F99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930B10-0271-448F-8205-F3412338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8734D6-1545-434D-9A3F-064475FA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DEF464-9A55-4971-A213-2C273C7C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013F9A-13A9-4775-A251-37B80277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12C71-1CCC-4AD0-BAF1-C3902D81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A26610-6F7B-47D4-AB55-A4F56D60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7F5B8B-AFC5-45A1-9386-A8B184C2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9159A1-1D8D-4216-8523-7173DE6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5D3818-C428-4128-B48D-8B19C44A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1D62A9-0208-4E9E-8336-DC33AC7E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ECF639-5509-4FE4-ABFA-DF0340C9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64C359-520D-4B8A-B808-EBD49890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F7CDC9-309E-45AA-A6DD-3138F27D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B279D4-0A74-4417-8C41-2ED83886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ED7834-AE4C-4738-943A-8CE9A487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6114-1573-408B-AABE-BDAA69CF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D6EFF2-7575-49CC-9EFB-82FCDB41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873EB6-4058-49AF-8AF0-EDD2770E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F2D863-A54E-4A57-AEA7-E2861E62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418D17-250C-45AD-990C-F38E6254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27339D-FFF6-463D-A221-EB5B8B7B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A348D4-8809-4350-8178-D7BB7FED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35CED3-4254-484B-8584-24296481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992C8F-A5AC-41A9-910F-B94EF4C6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0D825F-D633-4B5D-A3FE-97CB5024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C27DDF-4747-4B42-B7F0-CC4B00AC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B9EA2-4DDB-4FC2-A3A4-1BE0100A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5B79AF-389D-4371-8383-88BC1D69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3B7281-44B7-4E70-8A77-0E3C1D12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45F837-FBD9-46E6-9EC9-46D68AB7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420F38-E2C7-4694-819B-76FBC565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4EDCDC-45F3-4BA9-8096-35F8B5FB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B42C90-25EA-452A-87FE-63CCA472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C00F41-CA34-4DC1-813F-06364890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4B48BD-4520-4CBC-8946-0E82EED9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EC6893-7870-43F0-BB30-C799C7D5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058AD1-A204-4F64-98B8-4FA2423A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F026-0C45-433D-9C5C-046898D6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9DCE21-A86C-48DF-AAB7-45DAA946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57838F-519D-49EC-B0C1-CB587217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A21CDD-9AFC-48F0-BA3A-BAE8A858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A503A2-EF02-4002-8E8A-2B97C666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5BE4FF-BF2C-4758-B528-6C7BC5C7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85F3FA-2AF6-4176-920F-42E76FA0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8F2DF0-2274-4167-8261-2ECD0F06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C79CFF-0751-4857-9D23-FF992110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99BF56-5992-4C85-AAA0-71D2DDB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E3F0D1-5773-4C6F-A4B6-D263CF8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42A6D-DDDF-4BEE-A89E-FF37522F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709916-8532-40F7-BCC7-52527DAB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2E7D0E-121F-4BFC-9B0F-EA184BB3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7D38FC-B5BA-435A-BB78-413E1A29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8BAC2B-2F8F-4FA8-9D30-355D1DF0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4933D8-6C8C-4B18-8DFE-080192DB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339412-32F4-488F-9136-54AFD05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F7C7A6-0823-425B-9A21-EE4D8E0D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BCD9A3-921C-4A08-97D5-CADE9671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FFDA90-27BD-466E-9BA7-585A998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90FE04-91AE-4EC1-BCCB-BCD2872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7C4A-C9D0-44F3-BA92-5EC44BC1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55B936-EDE9-4013-B840-A8B1822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58410F-D125-4571-8802-3CACAB19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A70108-24E8-4125-BBF6-455D3153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4DBB9A-7374-4653-9E55-12DC8F58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08FAC4-CAF0-4919-9EC8-A85A707B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78891E-63ED-4F44-AE58-892ACAA3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4E441C-044D-46A0-9C73-4911A53C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766572-DEC7-4FC4-BF7B-26B82795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FA4DA6-CB0B-4999-B229-0737192B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EC6A91-17BB-4648-8371-848FB03D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A42C8-10E1-48CC-B968-165C3F72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C6CF4A-850D-4D1F-A090-C7960CFD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33C82D-1669-4E2A-A699-3965ECF7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7F9C1B-FA58-4692-A16A-2E277ADA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D5E672-F1B5-445C-A08B-15C7A844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EC5508-08DC-4EA0-BA02-AFBE863F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1FF683-0EAF-4BCE-B8FE-8C176221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580BFC-6C2C-47DC-9F74-8DB37BBE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7EDDAB-FA09-4724-9445-10B30030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2630DB-7832-4D4E-AD89-C8E67F12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291F14-0C6D-40A0-850B-012A6718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AD3-DC61-4D2F-AD54-E21E026C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3686D-9CEC-4443-B255-F5E24E13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B8ED02-C47B-4E87-AAC7-D03534A1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41EFF9-A290-49A1-85D4-5EDA4E53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3BB50E-18C4-4418-8D18-FE838B8A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A207F1F-BAC0-4695-B3F9-C9AF341F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15E568-E5CD-4C7B-A3E0-FDBEA7F3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876B28-4B29-42E9-98C1-2D2D125D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BA46D0-0C2F-4BF0-A031-0B3FF083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D43772-50D2-4443-B4FE-0CD86F59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F50B41-3174-4E65-B4C7-1BE30CAF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6D37CF-2052-41AF-9B66-0DB1B1B5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26E1D-460D-420B-9D84-61556D13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BBC13E-CB37-4BE0-A579-45E9EA21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E95FBB-9B28-4433-9F45-17D399A4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E5141F-329E-42F9-AB50-0953A4EA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B31D2D-6ADE-4A7B-AB75-630D3097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ADBD27-A0A5-4F54-9872-0DB2123F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98F7B6-40DD-41AF-932F-D4A86B6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3E4E4B-3E85-451C-9E99-6E8CB2B0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4518EF-112B-4144-AAC2-1F519265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76D275-E3FE-4CC7-A4E9-99A651F0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EFF853-CDEA-45B0-87C3-5FC1C71F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3311E-FCC8-44FC-8B1B-71FDF048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1CF882-7CB1-4DB8-8D1B-BB60FD2C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D77C16-FC4C-4BD7-A222-2503715B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770175-62F3-4C3D-B1D4-B20D4D0E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21144A-3CCE-4DF3-B4AA-126A4341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091955-7EB8-4EF8-8A6E-AA3DBE92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C9DB68-A37E-4686-8283-AF25B608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953C61-8A34-43CD-99DA-651B5556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6F3383-F4E5-41D9-9E5F-17B70644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A9E685-9D3B-4883-91C9-36D33B3D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272ECD-7A43-4CA3-93EF-E75D705A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38BF-2A16-41AB-949A-C7540D9F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82F1FF-7B7E-4D82-B6A4-29D59BF2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10AD03-D4A3-4916-96BB-2A721138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0A79A5-2000-4A2D-9236-78C5DC8F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5D0704-9B6E-41B9-ACC2-E30B762E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AD8432-0908-43A4-B49D-99821B28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8DE0B9-5429-4064-A470-8186CB21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1D69AC-B679-4285-B802-A3D04642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AA3786-3CE8-4D95-9BCF-2D46C0AE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412131-D0EA-4D4C-A109-513B7D47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86B5CF-CDEF-464E-8849-7E6DC3C6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EE079-4FB5-4682-B615-83A0AE9F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746E5D-D7DE-405F-9A1D-AA2DE89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2903D7-9DC6-4245-BCFE-75894BED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156DBB5-18AA-4FC8-A075-F8CB5123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3C5AAC-A114-42A7-A6A6-2B1F3C70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0E137F-9086-4D19-B673-92DC7B52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FA6D55-E28E-4655-BB1D-FFF04253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E42817D-5050-4A4C-BA61-B62574D2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55BBCEA-8FE6-43B8-92EA-4561B330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6C06BFF-DD7D-4414-81E0-07912679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C9ACC6-E08C-4CEC-897A-60D80FE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515CE-0896-41EA-8A5A-EE8A7EEA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5FE287-35A0-4777-BE69-5594F14F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CFAAE27-7B1A-42BE-8FFB-67C941A6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ACBD7F-F032-481C-8434-727351DF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33F56A-E0C7-4F67-B0C4-609648F2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1FD90B5-17A1-477A-8D9C-FF8DD817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0F818D-D7F7-4F59-9A37-9A660707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5B1A02-0187-41BA-8F8E-D8E9069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68AFB1-1E4A-4175-8351-16858A66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FD606B-27F8-4572-B3D4-5DBD70DF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1A99B2-F1CB-42FA-8B59-1A1E6BD8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26820-0E8A-41E8-9E99-47EBCF60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B3334A-3816-4DA9-8054-D6D2C4C4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479053-5F22-490D-816E-7176FD3F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8E9AF3-1F7B-4FA9-B4CB-788CF693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914F2C-5CB9-4116-98C6-0809EBDD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171BDB-43DE-404D-887F-0910892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F3B15B8-5BC8-4A4E-B42F-8B5408A7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8E1C20-4A44-48BB-91F4-9A98ECC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D779B2B-56D7-43F9-94BB-AB5C6130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AC0CEA-03B3-4350-9847-EA3934BA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AD1A34-A4B6-4C92-B97D-27A09D1A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DB0B-AFCA-4EB2-B98E-6A055F9B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22D841-1752-47E6-95F8-A0EEE5AD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07304D-F9A7-44D0-A39A-D00CC58E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09D02F4-17C2-4B63-9792-F8D7BE8A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A6FA49C-6B2C-4BE1-989F-D72EDB3F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CC1F41-B554-45B8-900A-FA0F84CA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466E76-E737-4547-84FA-7AFEBCE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CF5421-AF2B-41D5-9A43-7B3FF20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023241-A61F-40D3-A79A-0072F1BD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582606-BE82-4376-872C-51B28CE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D44613-5C73-4F99-AEC3-01DA9046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5375C-F32D-44F2-B5A5-0420397A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40BE2A-CD9C-492F-8A1D-B3CD7271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D5F379-4A6A-44BF-95D4-24881ED6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F4EF73-1ED8-4CD2-B658-BD19F26E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25D37F-F4F6-4A8B-A2B8-F3E03304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E837F06-A225-40CC-90E9-8E7377F4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4A3511-7EBC-45CF-8B3D-6F3D3DD7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72C0DC6-A71B-4D61-86AB-5658E989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3CE68B-521D-4580-BF53-A5D39D43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89F39B-1382-45F9-B3B1-0D1C3761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47B102-E9A0-4153-AE6B-604F3D56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64146-8377-4B93-B300-B685B611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DDE9BB-A7A3-4F98-A41B-868F3D60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987FC8-5A26-454C-81E7-D1BE89C6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5F35A1D-683E-407E-B66B-EFC3BCC6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4C5FB9-F1C5-46C3-A8EA-44FADDFA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7424E2-E641-42F1-AF38-1B96C5BD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B05D2A-12C6-469E-A10B-8987E517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0B21710-3A6A-4963-B3FF-936BBB15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E904D4-F9EB-4C76-B297-943B185E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5C2A8FA-2BF0-4708-950F-681FCA8C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B270FA9-7503-42D4-9B46-791E0F10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2E8-9097-4D0A-A71D-BE302C1A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2A6D-17FA-46F7-B369-431ECF2A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67526FA-CF4C-4E83-B297-645551E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7C774E-C5C0-4064-B75C-64DD724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AC8F55-3FEF-4C40-BA26-8512F5CA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536741-E1E9-4A48-ACA2-87904136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210E76-4A32-419A-AFC5-087D1433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FFD7FD1-B514-4285-8AA7-F112C98E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BD52078-1664-4D8D-AD23-C1A6C1AE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1CEBF32-933E-4F63-A1D4-A3FF125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45D1574-98B6-44D0-A8D2-563AD89A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480FCA2-58DF-46F8-B2BD-3A046E93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9DFD-4D3F-4B56-A150-894D8CC8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75AE599-F900-4241-A8AF-D63F480E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E76BE9-3DBC-4827-AF1D-B338F4C3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73C6B5-2467-4A40-8487-87F5DF85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A554E2-2DB2-4B62-87CF-9CC99FF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6B2199E-A962-4E00-9C5C-A35691B1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CE890B-FB8B-437D-9DE6-4B06940A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97EA253-9CFD-4702-94B5-877DE62B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683667-C5FD-4EC7-9029-0B5F1A93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1A3FF6-FAC8-46E9-B4EF-89E4E4C0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DE9219-AD7C-4F99-B84B-27D9F922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D3EA-4B38-4193-8D5E-069D7646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7D7B1E2-555E-4DEC-811F-E688B09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4568BBE-B3AD-49C6-8BCA-7193971A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39DD48A-F264-4F07-9CED-4CA48F86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AE40333-531D-44AB-A7A7-2485407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36042D-79DB-4E93-99AB-9F7DA55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B82C28C-2D0A-45CE-BF96-2D150B64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3553658-70D6-429B-AAD8-CE0DCCD6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BEADA9D-D0D0-4396-A5EF-EC995BC9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77ED8DD-D2B9-4A6C-BCAF-75CC9AB9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48BF92-C96C-43D7-886C-10C76AB1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0DDF1-41A4-459D-8B6E-C7372A41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7ED801E-E782-4E67-A7AD-F5D76BE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E3422FF-B7EE-4ADF-A97A-CF539D74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19AB21-1C9B-4ED3-A0D6-E32866C2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4C87D2-BC1F-4709-A16A-DCF5FB87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CD5BFD5-1800-4268-A5B5-E6A9F472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4B3980F-51E2-44F5-ACB2-CF310D46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4C420B-8E5A-4EA2-A2CC-68254032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8A26E07-6E18-4AB8-9657-C27C29EC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56D18D-36B4-49A6-9DB6-7C02442A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E72D4AB-20A9-46F9-8513-A038476C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CCEA4-49F2-4EDA-82F2-861899F2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E4C4C4F-2718-4A78-8BAE-5CA44861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55929AE-321B-40F7-9B1A-BF1AEFDF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982987-4E4A-4A65-8C02-70E732E6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65B1EAB-A126-40C1-AF5B-835338D7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983570-ED3E-431B-95B6-DDF5A7EF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A8C79C-BB39-4533-8E42-60962DCF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34D54DB-1869-4E9E-BC2C-AE488D54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3B0227-E5A2-4508-89CE-5146014E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A09DFF-815B-4D4A-9456-7EAE6C22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50C8CD-62DD-44DE-8B19-8B2C27DB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9DD1E-4E86-4191-BF8F-420FC9AF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15AEC16-5D22-401B-BBEE-9D7ADBD2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774863-AB58-4DB7-AF04-2BCAFE3B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A8DF3C-A290-4CAD-84A6-26C3ACBC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9E8795-91F2-48EC-BCDC-7BF951B3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4F6BC0A-7F98-4782-BBE9-0CCDB232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5E7D7F4-DADE-4D0A-AC13-DA1B90DE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1643122-11EF-4B56-80EE-C07B05AD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4E8D0A-5A0E-477B-811B-98FD6630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3FCE42-0831-4E1C-AF67-35980B1B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5CA71BF-A2B2-4F47-BB20-C410E7D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D2BA2-E755-437B-8774-FBBCEF66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4CE3A4-A85E-4B9A-AC27-157E096D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1C0D3E-2C3D-414A-BA90-8DEC4E5E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0ADC2B-63E1-4D8F-BE11-1234E78A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746905-0B70-4A9C-A589-20B9F589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0B0CEF8-8A33-46F0-9B69-A9DB9044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603E75-84AA-4FE8-A6FF-C7BA25ED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5C449F-1744-4825-8AAE-82781008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60271F-34AC-49B4-9273-E42E7E19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C7724E2-56F4-41F4-87E8-CFB7AA98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801AD4-963E-45BA-A58D-1D9BCBDD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4E747-1F1A-4021-9B8A-89C16E4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E4DF93-D095-4DC6-9823-90F7B22B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E970E65-E5D6-401C-BA41-3955A2A0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BAD91F6-686B-45ED-BC73-A9F9873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5584BD-3031-4AF1-9833-62C23358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9A68FE8-C456-465E-870A-4FFF6D66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94C3C6C-9C96-4BFE-9CE6-33F78E4D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D00E9B-960E-4CDE-BE82-76DD76F6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482974B-4138-4685-A990-6B0623E8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FE29BD7-4926-4CF0-9C2E-829A4797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F4EDF4-B029-401A-99C8-CCCF025F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7F9A-6AF0-4D6E-89C9-554C6531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25B3149-FE14-4E6C-93BC-41F3B26C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AA860D1-3129-4944-B980-9252025D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E05946C-EA35-4004-A93E-41F440DB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F1AF30D-5896-4F8C-9315-D39EF1E4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339BBC6-1E55-4B87-9355-4804D08C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13C840F-479D-4E27-86F3-2F376B36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B7C9D4D-E3B2-4A33-A709-CC4C38CC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E3A0434-CB5B-479D-85CA-362DEF8E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B028F6-3A42-4B54-B1B2-16368BE9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AB067B6-C064-442B-BAC9-71A23F31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5BCF3-70DA-4DF8-B68F-DCDE97CF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FDC4431-9A66-4EC6-A2DF-C8166747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CFC90C-930C-4219-928E-2EAE32D5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52691A7-967C-40BD-AC0D-01F1AFE8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2048752-6D5B-43F7-B530-63074D12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696E9F4-2C48-42B6-8FCF-0C086307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28FB915-C770-433F-BBD5-3E3AB8F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1D2B369-A361-4699-B15D-5D33D3B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B6FCA25-77A5-4C72-93D1-0B83E9C7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2D35696-7A5D-45B5-A9E1-6F927E9D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FB6CD93-F7E9-432C-8F13-7DDCFDDC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E5C-3CA9-480D-BB17-34E151A3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4EABC-D200-44CC-BA44-D8E40829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DD34244-47FF-49A6-B388-7336E807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6B18BB4-CF45-49FC-8AD0-98A86FAB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7D72529-5307-4DF6-987E-BE06B5EE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F27624B-C5DA-4063-9EC2-0C60F7E4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66FA70E-EAAF-42F9-B167-FED7C4D3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D0267D2-54AA-4AD6-AEA2-694D31AC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71E8230-DF8A-4BA5-9C18-7BDBCCD6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E664E19-7C4A-4EA2-B853-F0184F9F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AD89FAA-BDA6-4698-93EE-EE8234AC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3BF531A-7940-41B9-BB74-6C70AF70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C9797-FB09-44EA-97DF-853616CB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D7B4F20-0D6D-4EA0-B2C5-EE3CB5F9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233ABBF-8126-43B0-B7A5-FD3D78BA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E6E47D6-08CC-482B-A5A3-270C936F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D30571B-8E6D-4443-8A3E-0DAF1A1A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333DC6-4D6F-4766-A767-87543462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3941235-315A-45BC-846E-1BF8EEBC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43CE38-A4A0-44E3-B207-7AAC0232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D338981-D270-4110-8103-9020A968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157ACBB-C567-4D4F-B1C6-4CADBDCA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6B21306-EA8E-4B43-AF99-D6B66AF2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CE2EF-31D4-4F0F-9847-4B882AD5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60D9765-D98D-4B3C-A2C7-D2215FF5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1EE29E7-DA20-408A-903D-40078300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E1C3FF1-6A35-4E8F-BADA-5B606F9F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89AF4FB-2903-414F-905D-68F74210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A051D95-9F8B-4BE7-A35E-226EB744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DBB75C1-B2B5-4349-A411-ED6C4758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A4018B9-1D52-4787-B572-A903E197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2D40FE3-CE1E-48C8-A9AB-D137842A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01BDA52-E20C-4883-A54E-01AE8D69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29A4702-3797-4F9C-9CED-3D115619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C5ADB-4955-437D-9097-AE5923A4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FE0BA50-8695-436A-8880-A7B7A28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8070391-F4AA-4405-AA4F-57A710F6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B7152A9-5810-42A5-8599-F8626290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3A23EAC-77D2-4303-BF35-9D156BD4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26BC3E2-4779-438A-B8E5-5DB1BB71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9AA6968-58BF-4B3E-9F96-3A214B2D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3D9D66D-FD6C-4C1F-8545-97D24F6E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46A7AA-22BD-44D8-B52E-B0FA6A60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67EC843-4876-4AC0-8682-0E77CAB5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468C86A-B6CB-4D53-92DB-21178253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6F433-1273-4AEA-B4ED-D3463746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9DAF8F0-3B6D-4B66-A933-79BCC710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F8D3B75-4E6C-490C-9D6B-36270E15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73124B3-34E8-4332-A2C9-CB361EE2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9CB0690-C3B1-4D11-B905-4CD5552A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F9AC56-1DE5-44AB-828D-0E42597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0E23DA5-17FF-47A0-A7E7-9292DF8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DB90ECC-8C06-40F1-84D7-6140E6F9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4B83BBA-E784-4577-9BB2-88879DCD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D8C31B5-F422-41F1-9D11-183F7252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92E53E8-93DB-4FEC-90CE-44BBCD45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D137C-3D06-4DA8-A894-E652204C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A2B0ED-C4CE-43BB-90A3-1060ACCE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E2EBC59-2EA6-4561-986A-092052D7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1C18898-6A78-4301-8A3F-7979D93D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4764BD-6B6F-4DA2-978F-389E73CD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12EBADD-9FF7-4DE8-A605-FCFDDA94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1B3A842-B027-4880-83B3-855CE62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27D4999-52E6-44A6-92AE-46DD97F2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18DF363-8A7D-484A-AB97-3DCFE1B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71C8717-C7F9-44A4-99A4-CA9010D3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FD9BFF2-81A9-47E5-BD00-EAAB9F4E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AE901-90D0-4C08-A694-700B8807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B8912DE-B9CC-4C39-865C-DB6A1816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92BFE0A-E536-48DD-AEB9-396EFA2E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DE24D39-EBA8-4219-9E0F-1D037955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26EADA6-8F9C-4D3E-BC73-0C81BDBD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92C0410-2849-4072-A3AD-7B43B247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46EE5F3-96D0-4B38-8934-9EE087AA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B78646F-B4BF-401D-ACD8-741D6532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EAC1958-E1DF-4B23-A022-B10F4725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E741C18-2002-410C-9BF1-F0CEF4BB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68B3366-DA13-43FE-B11B-2D2F356F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C6096-40E0-43E9-BA17-529DB0A6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51F579B-1407-451C-AC94-9B7B8C38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175D230-B66E-4AFB-8686-9D1D7AA5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067E54F-B997-422E-A721-590FCF7A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74F975A-B887-4B5F-B07B-7E45C722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36531D7-D288-4EEA-AAB5-2EDCD5B9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2C53436-C3B2-4984-A2A9-4A981B5C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9F0FAD3-27BE-4C2D-927F-0A40A152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837A4C4-DE30-4425-B4AC-12D6E262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D298356-B38E-4955-A8FE-3A0952DA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5464859-49EE-49C7-9B6E-CBC7B8A7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FB1E-7AD6-4C94-AF13-FB664F31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54F4C00-CA09-4257-9CBB-F8B9E81D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4EE2862-E234-4121-AAC0-11BB1AB2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A5546AA-3942-4C99-8D6F-FAE51D91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249741B-6BD3-4E90-A811-905CC317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1A3BDBF-F29A-4853-86AE-548F94C5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5E03A78-98D4-42E5-8AF4-F51C7F03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52A255A-5D1A-4EE3-9591-CAE8BC70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2AD3FB2-5D93-49D1-BD0D-E8F0A375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7BC41A7-48FF-4573-BF97-26315F80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7A1DDBE-DF42-44D6-A70F-AAF09B27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F83D-3219-4771-AF4F-98446A01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BE8DE11-B677-457A-809E-9CA4BBEF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C9E5373-F7EF-4404-8695-75734C01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2696CA9-9A44-4349-9825-420F5E05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BC35D00-8307-4633-A2AE-595CABA7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B15AF5C-1DD1-4FF8-997B-980F7F4B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2BB5E7D-9268-4A00-8432-778EF886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8E4CF37-450F-4477-B0EB-5D0B5CAF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61328F0-BA8C-4914-AB6E-AD5F6A9F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D877B6C-0D7F-4CD5-BB48-53DFA14A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715DDD7-6163-4B19-9BA4-2C92FB8E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FFD-5E8F-4A02-9FA7-7C09D354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39DEA-5E42-4CA9-BDF7-26593945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AB98861-0A37-4B76-BDCD-964AA725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F317DC-9B66-4B9E-B989-11F12386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0AC2F61-90E6-4AEC-88AB-75526E99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9663A9E-BAFF-4587-843C-DC62412B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4741CDB-08D7-4BB1-9383-4384D90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1BDF0ED-DBBB-47C4-8FAE-D84AA978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F47DFAF-ABBA-477D-A574-4894ECAC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B2D6ADA-AF85-4870-85AA-266E0A9A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59AC347-9198-4A9E-B83C-B0FD2345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EED83EB-8D35-4BF4-B7D8-86477D0C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4878D-5C6B-451C-B1B3-12678CE1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465E488-E160-4BF4-AD94-98444CA6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95C6BF5-3D76-470A-809D-F9693FCE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93BC43D-8CC5-4059-B1A6-A857C6C7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4841DFC-0FCC-4B02-BC32-AC61B6B4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05A5098-3504-497D-99BE-580763B0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B113273-3B8C-4F1C-BA82-AFB1A59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8CC9C7D-0F0C-4D5B-AC32-C5A1EEE3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40EC9B9-9205-443D-B112-0402BB08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E08F600-6D89-4082-AB94-0989FC2F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1AA49A1-CC68-40F4-A22B-6059F055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6E80-342D-48C9-AA1A-7FCAAD66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BA80AE9-4FE6-4E78-A8E5-B243DE8E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69E8D5A-B0C9-448B-8030-86413E44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D74FA6A-307C-4A75-B61D-ECCE0E6D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2B1FD69-D262-4AE8-8346-916DE1AA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E778C09-8BB5-491B-915D-BA653002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2CB56DA-C329-45B3-A38A-3FA3B4CF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06D3DD1-DF7E-4D37-B06A-9F347A93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A2367B9-DB0A-4711-B791-1EA38233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8E16F37-77D2-420D-B3B4-D81F259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3DB33E0-D5E1-4436-A9E1-21FA5FC2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AC612-98D4-44F8-BFEB-B0F1158A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1D08A6F-AD42-41B0-BD2A-A8A933E6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F09FBED-505B-48D5-9624-F6281E97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3264765-9359-466D-82E3-FA4EB172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DE139DD-DBCA-43CF-A7CA-E4F167B8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7141415-5C67-44CA-A5F0-C4F77A8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116805B-E260-4856-9A5E-B80E48CC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A8C9974-60FE-441C-80EA-CEC7BFBD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9987C02-ACEC-43ED-86C3-000FFED3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3FD9BAA-59D8-40F8-97BC-10D3EA39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9F459E2-84D4-4544-BEF2-98F022E9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D95E2-151F-4846-8758-9F31A71A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507A5C6-F9EF-4F7E-BF6F-F04F09F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416BCD1-9EB3-4867-95D6-2FAC760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F588A4D-C843-4B51-B0DA-E6E57E7B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DC4FD9E-5B06-46B0-A2AF-B0EB4168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03BED2C-89F4-43F9-8D53-23DDB55E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AAFBB5F-C492-49C3-99CC-12ABF00F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45FD35F-06BF-4FEC-8CA2-689FC815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45A63C9-FE07-47F9-913D-C0E08164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BCF2D10-659F-4257-BC7F-44991A04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4FCEFA6-694B-4946-AF25-6BEAA51B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3FDE0-1F01-4162-A923-06B718EE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7866DF9-E716-4D31-88B9-75F22766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18A1FE5-42E2-439F-9956-18F0E347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877B0F7-0838-4D45-8AEF-91559D78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29A8995-5CF3-4C0F-8875-CC901A2D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CE866E4-B3E9-4E2E-A8E3-B9CA7FA6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8C90B4B-5540-43F4-8281-0CD1391B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1339DCC-7C02-4B06-B037-0D09B37C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9461060-6313-4CEB-A33B-AD682C9F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0259C3D-68B8-471D-903D-49F289BD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C23238B-96AB-4C74-9503-2205DFD3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3EA9A-578A-4AE0-80F3-2EDE3D51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BABC87F-6A30-40A3-A6B6-310B57AA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66EF843-9620-492A-8376-7353B908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FBABD47-0E3C-4F40-BC0D-D9197AD4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D19CF34-F3A0-4613-9F59-79EBF9A9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0A2D9C3-3871-4E9F-A6A4-4F398D5C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BD50D03-366A-45B5-A347-7877348F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0A28163-7BEE-46A8-96FA-5592D8F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996A706-2680-45E7-8647-9FA51B43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2F7A12D-D404-49CC-9E05-F21FC38B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2560239-3561-4944-8B14-4590E717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32F86-B519-4ABC-968E-D3AF6A86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18A341E-7941-4584-9156-A5780A2A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08B2C50-7DDD-4C25-8E1A-792ECF8E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85C4A34-B286-45FC-832A-94335620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CB19250-C9A8-4F6F-9E42-F186A370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90DE9F1-7D14-4E30-9D45-F06C0625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85457C8-A61B-4EE5-884B-71F2C56F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B21E880-738B-41C9-B757-14DF4493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481EA4B-3965-483E-9241-4EBE4583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CEA1E46-C8D7-4E6C-9939-FC77CB40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388ECEB-06F9-41F9-9782-55BC8130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79AD5-422C-4C32-9C50-AC61C456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F5EBFF8-7529-48C6-834F-F3591D0C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87AA129-0A8E-4E15-8EC6-4D2E0ACA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C51EA71-78D3-46D7-B6AA-6D995281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AC3AFE2-233D-452E-9EB8-AEFEE36B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09F0B37-5DA4-4633-AFC7-EF155A74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2B2A764-B5DC-41AA-B78E-6F652EB5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41A11A6-1E7A-4EF6-BA27-F0E432B0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BFCB7A6-8741-42A4-960A-6B488C99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AE73A62-96C0-4632-AB4A-017966A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D682E81-0EC5-4F72-8979-F8A18FC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0A51C-B3E4-4C8F-8769-F08D6345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9D7B765-6C23-4E5F-B57B-DA28E63D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E56FAA5-91A9-40E0-B3D7-ACB00389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A046ECE-8830-4025-9809-7153CE3B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BABA703-8B2C-4A73-9867-07A4F66F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9C85FCE-D96A-4359-8C1D-D1ED97DD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612E92D-A339-40C8-9A2B-48F517C3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0D24D5C-5E82-402C-8EE4-B9929D51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2286A4D-81B1-482D-BD2C-B899A860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6FF1E23-65B7-4535-BA11-E2E2084C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4E96B36-4B59-4347-AB3D-489FF600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9DB-69E3-4814-9075-052B6D5A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B3B9E-FD4A-454F-BBA3-F880069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573C858-2D0A-4FB5-A31C-C155DA67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A66D975-B3E1-4A0B-BA99-BAE99133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F74416D-2276-4DB5-9534-F831E823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A88FE63-F3C1-46E1-9B60-B1934759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85CC583-07F5-44E9-A25C-2CA4396A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E60FF48-581B-44B9-8E9C-ED45DC6F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352C7AB-2E6E-408A-B8CA-7282E432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A3604AF-5179-436E-85C1-F30D9AA0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7A8692B-E992-4453-8A6F-8ADA00CB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183B4C2-9FF5-4F16-BD75-CA870BB2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8FFD2-22A4-4C9D-A1B3-FDCFEA75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703B4C4-B09B-44CF-B7A9-562CB464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671E684-7DAD-4656-9A30-2466B3EA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1F31498-8FBC-490C-A4B4-D0BB22D5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86D8CF8-6FE5-48FB-B2C5-F523E416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5FCA034-6502-4DA7-B67E-FA73FEF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0C54AE8-EA3E-4814-B25F-48287DED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A18C625-1F84-4379-989B-55971CE9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36D59E0-DB3A-477A-B064-1D03CAA6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2939D15-676B-493C-BABE-7B66F719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AFF6AD2-B4D2-4D2A-A02E-0CA46A1B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4C0B6-7519-4211-8B18-E309F04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D5B1563-AA43-4B6E-AEBD-21AC09EF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9739AEB-0125-4AEE-AE25-9CAF777F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EAB43F1-8920-4072-BB15-6AEC75B6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981F65B-06D4-4C9B-A5F7-E627E066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055CDBE-23D7-408B-90A6-4382961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B86C817-2030-4E4F-8A78-B22CC3E3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A2377E5-B1BE-4F3D-83B5-3DC9B82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FFDC7C2-232C-4FBE-A35D-392BEE79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3C29F04-C6D6-4F24-9A3C-08843F8D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5DA60C1-9993-48E1-9F38-D13EE9A9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B62FF-B12D-465A-8615-5835F49D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46CF341-56F9-49D1-B998-A8B3768B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BF33C8E-E09A-47FE-990A-EA2A0943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268BB5B-70D9-4611-B900-AE765262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027AF18-8A3E-4D60-9DA5-631D1B7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C9FE13A-F677-4CC5-9481-89327208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38AC187-7668-4DBD-985D-870774C3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CDA5E25-2F64-4315-9218-391912A3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EE8D854-13C4-4BF8-8A6E-01CFA539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C48280D-3DEE-4DF8-AF6D-4796B453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44CC910-7BAE-43ED-A9ED-539C0341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27A9A-FB96-4146-94B0-FBB98270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D9B92ED-5396-4747-8E95-DA0A2105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5B294AD-D81B-4121-9C70-2B6D5B50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E985091-9158-490C-B850-148B22F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26CCADC-8CDA-4468-A0D7-FB4B589D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64A9E4F-11E5-4020-90AF-A4C6AA76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765B229-21F1-4361-A405-BD75284F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A058631-2365-4B4A-B5B6-233494D4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3DE3C0C-9285-4502-8AFF-E6720A64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4BB0876-3813-4C03-9379-72812A4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56BFB65-942A-46E3-9BE0-56952026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72935-2681-4179-A127-D2747F1B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CE6ADA1-CD57-4785-91A2-138BEFD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41FA517-5163-4A5B-88A9-CA89418B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A33CB9D-C86B-4D4A-BC55-7B08CC16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9D42AD5-056A-40D3-8A49-E176415E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5F1BBA5-48C9-4E39-896B-745D4595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0B6563B-B338-4DF4-8112-8D6F55AF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F38BB15-9A8B-4AF8-933D-C443B42D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B557147-F39A-4C86-8B1A-349A62FF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9997EC8-E9E9-4988-BF3C-62B17302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D0653F9-C380-498E-84EF-8A5AFAB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61BE1-76B4-4AA9-A709-80B9B384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711E8E3-40A8-460A-A192-35524B68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E7E5CC2-331E-46EB-8517-6BFE999A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8C8A653-6566-494D-A9D4-81E8AF87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6C7AF08-D335-431F-8505-76295A66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C87B472-1F08-4206-A916-29AA8120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1A0A902-82EE-4182-B683-D7FE0B25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49B1199-84EE-411C-A0A8-1EF587E1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04D9C2D-6D65-4304-9B3F-A47281C9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101B777-8CCF-4EC9-B4D5-9EB0C634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6D77810-2697-4389-9CFC-15F5FBD2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97F34-D5ED-4254-AD78-634E4145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F11F086-97B2-4533-917D-DA3760F1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7AE8C37-3AE2-4902-91BC-8E99501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7F3620E4-91D6-4E1B-9BF8-BBECEAB8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D244C3D-414D-4208-9597-57B7D5B6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28592AE-C76A-4F3E-A92D-F0FCE30C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B5645C2-3B7D-4EEF-B5F9-08177CFE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A285F89-22A9-4E65-B99A-6C91E58C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84699ED-81F2-4803-8803-9EF890A4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2EEC4A9-0818-4B80-86F4-0B37CBCC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C2DAE9C-9515-4064-BBF2-D42A437C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F56D-C865-4757-8FB4-CFAB78E6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96F76D7-F898-4747-93D2-DE2F96AD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283F23B-6F0B-4819-ACEA-1DBB6E89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6102DCF-3F01-4E97-9F76-58E4B5CC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B65DD76-A62F-4E45-9D38-A72DE2A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9615D00-DE56-4312-BC84-88993979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26D1909-5ED5-4AD1-99A8-4D898D38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2BD73F3-6EDF-4230-B658-F6CFE994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C1C920B-3D47-47AA-809C-D188B0A4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EFE1B33-8F38-4E8A-9412-F2902D76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94934BC-6E0B-42D4-9D14-E8B4EAE5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2C627-1329-4577-B064-8C4D54C4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C0B34E5-DAB4-409E-BF10-77237D5E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87C6E4F-AF71-426E-A961-70F8F7F7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4D5C134-525F-473F-952B-D90A4AFE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A02ECB9-EA52-4C48-B23C-BC28BBEE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C967F08-F85E-4266-9B6C-D5117719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C58A3AF-66F6-4347-827D-063E5C6B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8E38EB5-AB87-4C78-8038-720460C0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A54CD5C-7480-452D-AC89-EE39E82E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FA25096-D1F1-4250-9EC2-F8E85942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FDE3A63-918C-465B-BCD6-842AAD7E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EDC-7060-456B-8DF7-E037237C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AF08C-C5FC-4810-9A16-59D6D23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F84ECD4-0494-46A0-B63B-CEC14299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E558F8D-979B-4A30-B6FF-37F4AC38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60D17C5-BC70-46DC-88DA-366949AA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8FD0737-97B1-416A-8069-FDD34145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3BF971D-7B73-4761-B523-841F267F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203F7A2-7D92-44DD-8C7B-2FF0E217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4FA1D2D-92E0-47C0-AD7D-2FCD4DD6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EE9690C-3601-4B47-BE44-D4112DEE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40BB8BE-3B0A-4479-AC2E-9E8A0823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E6F5BE2-2260-4730-8B91-E9BAA883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C249E-8DE7-4FA7-84E0-2576758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6C12C96-0C09-40E0-981A-4CE2EA4C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67F7AF9-AA6D-4B86-9D60-2BDACDA2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F60DA42-0882-45C4-8454-C8A96E52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97F6106-9061-4616-985C-A2D67E98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1E53CB0-8DB9-456B-84BC-0C5367E4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3376E16-B484-48AA-81F9-4D17807F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B3CC04C-9EBA-46F9-8A74-09C5AA87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BD0B766-3313-4589-BBCC-9B511B46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E67D8E5-495E-432F-8FEB-A3C48E71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9C9CA06-0C14-410E-AE42-30095C6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DE4EF-8CE8-44C6-B3FD-52590179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BD36161-9974-4D80-9001-AF85E27D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94EA7B3-5AFD-42BE-B613-1417CA2F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39F4FB0-B6DD-45FE-AE4A-472705F4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57A2512-AB7A-4713-A3C0-B8893C8F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03A3618-522E-49C9-A663-1332ACF5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5EE0004C-954C-4FFE-B1B6-2C55F84E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CA8BF1F-CE6F-4ADE-B979-51E1197A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93C8DDC-EC1A-4FC5-B63D-0318C12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9878FF7-DCD3-41E9-A00E-6265FD9D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6196951-268F-4274-9EB2-267E54A8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528C7-99F9-4EDE-9FA1-EDF6C0C5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8208953-4181-44FB-9B63-454805CE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0579193-E0ED-411C-8037-B9AF8D5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9A5F9C2-0274-4C48-AE4D-4EB49B5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1F75F70-1816-4722-9214-000646F0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18FEC77-95E8-42BF-9C48-B19D449D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C26660A-50DF-49DA-AAAC-F975EDBF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396FE6E-9729-4499-9FF0-03B05369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D5767E6-35EE-4FCB-89BF-03439C46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5E8BCA6-727C-4F52-B8D1-BE2BB84D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B333845-BEA8-4281-BB77-13A171CA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E378D-09B8-4543-B4C5-FEE21759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6217F98-4D54-4165-8E24-606AC3D4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E568E81-A67A-4BAF-AE6E-C8B93CFB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897AECC-7FCF-4DCD-83BD-D0CF812A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4BEE8BE-4EBF-4A2D-A61F-66A0C119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076BE5C-B74E-4B8B-9D25-0E47BB37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9E774C8-A284-49F5-AF37-0E0CB32F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D51D4A6-668F-4E3E-AEBA-4CEDB00D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DB406D1-712F-40C0-817B-8D26E1AF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8598565-AB10-418A-8068-50B2FD5B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E58829F4-BA2F-402A-9A1B-94B27D1D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30C8E-773D-47FB-9AF7-E68777D2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89C5E48-9D78-4262-88E7-502E7710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3DF3A73-1DD0-46A7-9E4D-46A8373F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87B3D02-5308-4922-8A4A-3962998D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2FB35BD-24A0-4B3B-B6A3-EBAB9878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17BD5DA-6815-43E6-BE82-8CBA5C7A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7879D46-6396-4E8C-8055-C006363C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4AF23D9-BA14-44D2-8864-2B1DB4A6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C0E1508-9627-42D9-90C8-5856DE5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363B666-20D0-424F-83A1-9CA73728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28B21555-C70F-48D8-9C38-733078AD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C5CD7-C6FA-4AA6-A8D4-ADD7191B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1AA1A1D-F9AC-4C54-B463-AE163050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D91210D-306E-49E1-99A1-4E5F9400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4D9C8E1-F2CA-43FB-9858-FBEE0F42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33CA75E-5D5B-443D-9A9F-1F3F67C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3D6B1AD-4FAD-4CAB-B49C-0313E9D0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2CA74630-486A-4FCA-8AAF-9C36E431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C218376-A4A0-47CA-9DA7-848FB33C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C244B3B-7FEE-4816-A2E1-BE33DA1E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06E296C-A76A-456C-8840-F3688362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94687753-8805-44DA-9FE1-65810830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F5632-07C0-4E7D-B99C-DBBE442C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917C2A8-B985-4736-8EE6-A78825DC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9D0A72A-4395-44E9-BDAA-BEBE7C1E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49CC3AE-E808-447A-A79D-DA369951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8AFF1E5-BA36-431B-8080-64EB6D7A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78553FC-61A0-4648-B2C1-2DD1AD84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EFB2F41-194F-4CA5-8E2C-52B0319C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88D952D-135E-48DE-BF02-D458BB5A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3256759-6F1F-4759-87DB-18E2C772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B24770F-0E20-4737-B0FA-3E4458AF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026FAC1-A2F4-4B6F-A804-A5FCACAD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71F3F-AC51-468D-90B0-50050B28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0DD9398-CADA-4EE0-BEB6-E4342B3C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CE7D3B9-39C2-406F-90BE-F8730F1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0C1C89F-80DF-4BB0-A383-69B29424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ED2C2AA-2C55-4DCA-977C-1EB1E810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9DF13B7-1BC4-43DA-85AF-D6A8B78D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1D2DCCE-1805-479B-A5E0-4FEA9D09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966262D-BFD7-470D-9E85-6066D5A5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216C9BB-AE5F-4EA9-AB28-D31ADFFD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9944D9C-A08C-49CA-A65B-FEEDE9C9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621F3A0-0526-43C9-A7C7-E7772ECA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E57CE-4D0E-4799-A8F2-CDE5DBDB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DEFE487-6E63-4867-9F2E-1DDB88A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911208D-61FB-46FA-9711-9F8695F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B18EEFC-BBB1-428C-96B3-D6630D5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14A20B2-825D-463A-9F7A-59425ACE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CEB4012F-501C-4CDE-9970-32791961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23500E4-D04E-40DA-83F6-1C2510D3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A9BAAB5-18B0-47BF-B110-147C967A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CE15228-3D86-4CF1-999D-18CCC10A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4197037-EB78-4484-BCC9-3527431C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5677A4A-F559-4D1A-910F-6F856F69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slideLayout" Target="../slideLayouts/slideLayout1873.xml"/><Relationship Id="rId3" Type="http://schemas.openxmlformats.org/officeDocument/2006/relationships/slideLayout" Target="../slideLayouts/slideLayout1874.xml"/><Relationship Id="rId4" Type="http://schemas.openxmlformats.org/officeDocument/2006/relationships/slideLayout" Target="../slideLayouts/slideLayout1875.xml"/><Relationship Id="rId5" Type="http://schemas.openxmlformats.org/officeDocument/2006/relationships/slideLayout" Target="../slideLayouts/slideLayout1876.xml"/><Relationship Id="rId6" Type="http://schemas.openxmlformats.org/officeDocument/2006/relationships/slideLayout" Target="../slideLayouts/slideLayout1877.xml"/><Relationship Id="rId7" Type="http://schemas.openxmlformats.org/officeDocument/2006/relationships/slideLayout" Target="../slideLayouts/slideLayout1878.xml"/><Relationship Id="rId8" Type="http://schemas.openxmlformats.org/officeDocument/2006/relationships/slideLayout" Target="../slideLayouts/slideLayout1879.xml"/><Relationship Id="rId9" Type="http://schemas.openxmlformats.org/officeDocument/2006/relationships/slideLayout" Target="../slideLayouts/slideLayout1880.xml"/><Relationship Id="rId10" Type="http://schemas.openxmlformats.org/officeDocument/2006/relationships/slideLayout" Target="../slideLayouts/slideLayout1881.xml"/><Relationship Id="rId11" Type="http://schemas.openxmlformats.org/officeDocument/2006/relationships/slideLayout" Target="../slideLayouts/slideLayout1882.xml"/><Relationship Id="rId12" Type="http://schemas.openxmlformats.org/officeDocument/2006/relationships/slideLayout" Target="../slideLayouts/slideLayout1883.xml"/><Relationship Id="rId13" Type="http://schemas.openxmlformats.org/officeDocument/2006/relationships/slideLayout" Target="../slideLayouts/slideLayout1884.xml"/>
</Relationships>
</file>

<file path=ppt/slideMasters/_rels/slideMaster158.xml.rels><?xml version="1.0" encoding="UTF-8"?>
<Relationships xmlns="http://schemas.openxmlformats.org/package/2006/relationships"><Relationship Id="rId1" Type="http://schemas.openxmlformats.org/officeDocument/2006/relationships/theme" Target="../theme/theme158.xml"/><Relationship Id="rId2" Type="http://schemas.openxmlformats.org/officeDocument/2006/relationships/slideLayout" Target="../slideLayouts/slideLayout1885.xml"/><Relationship Id="rId3" Type="http://schemas.openxmlformats.org/officeDocument/2006/relationships/slideLayout" Target="../slideLayouts/slideLayout1886.xml"/><Relationship Id="rId4" Type="http://schemas.openxmlformats.org/officeDocument/2006/relationships/slideLayout" Target="../slideLayouts/slideLayout1887.xml"/><Relationship Id="rId5" Type="http://schemas.openxmlformats.org/officeDocument/2006/relationships/slideLayout" Target="../slideLayouts/slideLayout1888.xml"/><Relationship Id="rId6" Type="http://schemas.openxmlformats.org/officeDocument/2006/relationships/slideLayout" Target="../slideLayouts/slideLayout1889.xml"/><Relationship Id="rId7" Type="http://schemas.openxmlformats.org/officeDocument/2006/relationships/slideLayout" Target="../slideLayouts/slideLayout1890.xml"/><Relationship Id="rId8" Type="http://schemas.openxmlformats.org/officeDocument/2006/relationships/slideLayout" Target="../slideLayouts/slideLayout1891.xml"/><Relationship Id="rId9" Type="http://schemas.openxmlformats.org/officeDocument/2006/relationships/slideLayout" Target="../slideLayouts/slideLayout1892.xml"/><Relationship Id="rId10" Type="http://schemas.openxmlformats.org/officeDocument/2006/relationships/slideLayout" Target="../slideLayouts/slideLayout1893.xml"/><Relationship Id="rId11" Type="http://schemas.openxmlformats.org/officeDocument/2006/relationships/slideLayout" Target="../slideLayouts/slideLayout1894.xml"/><Relationship Id="rId12" Type="http://schemas.openxmlformats.org/officeDocument/2006/relationships/slideLayout" Target="../slideLayouts/slideLayout1895.xml"/><Relationship Id="rId13" Type="http://schemas.openxmlformats.org/officeDocument/2006/relationships/slideLayout" Target="../slideLayouts/slideLayout1896.xml"/>
</Relationships>
</file>

<file path=ppt/slideMasters/_rels/slideMaster159.xml.rels><?xml version="1.0" encoding="UTF-8"?>
<Relationships xmlns="http://schemas.openxmlformats.org/package/2006/relationships"><Relationship Id="rId1" Type="http://schemas.openxmlformats.org/officeDocument/2006/relationships/theme" Target="../theme/theme159.xml"/><Relationship Id="rId2" Type="http://schemas.openxmlformats.org/officeDocument/2006/relationships/slideLayout" Target="../slideLayouts/slideLayout1897.xml"/><Relationship Id="rId3" Type="http://schemas.openxmlformats.org/officeDocument/2006/relationships/slideLayout" Target="../slideLayouts/slideLayout1898.xml"/><Relationship Id="rId4" Type="http://schemas.openxmlformats.org/officeDocument/2006/relationships/slideLayout" Target="../slideLayouts/slideLayout1899.xml"/><Relationship Id="rId5" Type="http://schemas.openxmlformats.org/officeDocument/2006/relationships/slideLayout" Target="../slideLayouts/slideLayout1900.xml"/><Relationship Id="rId6" Type="http://schemas.openxmlformats.org/officeDocument/2006/relationships/slideLayout" Target="../slideLayouts/slideLayout1901.xml"/><Relationship Id="rId7" Type="http://schemas.openxmlformats.org/officeDocument/2006/relationships/slideLayout" Target="../slideLayouts/slideLayout1902.xml"/><Relationship Id="rId8" Type="http://schemas.openxmlformats.org/officeDocument/2006/relationships/slideLayout" Target="../slideLayouts/slideLayout1903.xml"/><Relationship Id="rId9" Type="http://schemas.openxmlformats.org/officeDocument/2006/relationships/slideLayout" Target="../slideLayouts/slideLayout1904.xml"/><Relationship Id="rId10" Type="http://schemas.openxmlformats.org/officeDocument/2006/relationships/slideLayout" Target="../slideLayouts/slideLayout1905.xml"/><Relationship Id="rId11" Type="http://schemas.openxmlformats.org/officeDocument/2006/relationships/slideLayout" Target="../slideLayouts/slideLayout1906.xml"/><Relationship Id="rId12" Type="http://schemas.openxmlformats.org/officeDocument/2006/relationships/slideLayout" Target="../slideLayouts/slideLayout1907.xml"/><Relationship Id="rId13" Type="http://schemas.openxmlformats.org/officeDocument/2006/relationships/slideLayout" Target="../slideLayouts/slideLayout1908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A444-45F3-4977-AE77-B288A17178F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660F-B8C6-45FC-9F6D-988ED1FD818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5110-037A-4EB8-BEB2-C1E6FEF3976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836-4D87-4A9C-9DCC-EEB1EBDEBAC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655A-0009-4CB9-A151-37F86F72F8E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7C0A-15E4-4D82-ACA4-825EC5FB59E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83E9-5C7A-42B8-AAF8-AC6C245B206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889D-BBCB-4AC2-9A24-A87AA74F1CF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80DC-736C-49DE-B0E2-070E8B60BC5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F8B0-D282-4F1A-99A0-B421B86DF03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3433-0825-4CE9-99F3-EFE38FBB6AF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C3EA-D0A0-4386-A5AD-1AFEC155DFC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86C3-01AC-4CDC-B22B-3A3BC77B23D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EAF8-7031-48B0-ADFD-2B62231C2C9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2700-0757-4A3D-AA81-F9DDD63B9C4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B8DD-1B22-4F02-8788-3B470C6DA25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67F4-538D-47A3-91B7-AF4AB1FD72F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051A-E957-4A81-A8E8-ED98FDAAAC0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4EF6-D24A-46FD-96B6-4B1F977EB01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0330-8DAF-4810-8F20-1ED63CDF90E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6E3F-B42C-4584-AF12-222F9C3DED6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2C59-51D5-449A-BF9C-61DAB9BFF39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C726-A22D-493E-9627-575D261856F1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9EAA-CC12-425D-BFCD-98E3074616E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B76D-F410-4D11-BB9A-AE7C2832F46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422A-8DDE-4000-B660-1BF506BD783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56A5-FFA4-42A1-9EC2-DF9B5BCE9BC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B897-6220-479E-A058-C111F23D73E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8E02-A545-4381-85F6-0D13D679B6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4FFD-A027-402B-8EF4-3A41B19CA22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13F8-8022-4F88-9F07-C67E680D8F5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3A4D-0E82-4ED3-8706-C2E38BDE90E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7963-7212-4110-B1D4-5CC7F763AC9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0A57-F13A-45C1-8165-D674852B87A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8531-504B-472B-AEE6-42BF482F5D1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8F2D-0D2D-4AD9-BFE8-1C0E95B612C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7E18-6341-44AB-9559-08C53A6D264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E8A9-36A4-4750-B7CB-17DDFA3F722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CDAE-AABE-44A3-9C2A-D3C0298CEB0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B1E0-1567-48F9-BD74-70B5EA5352F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189-6421-4D4C-8087-8AEA47F26E2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DEDE-CA1D-44B4-86A2-05C970AB79E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50E8-4ABE-4A5B-B68C-F813508F3C3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C34D-1321-4AE5-AC43-90A6B7DE6EA4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EED0-609F-4350-A004-9C43DC59B9E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1A44-15EE-4E89-8EB9-E8E1899EA96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58E1-D9B6-492E-81D6-C4F24CC2197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3D0-170E-4A62-A21C-4CA3BD8BC57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FD0F-35FA-4D5C-8E11-6B53E48FECC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350F-F670-4E43-A843-795A2D25002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0F16-26D5-4A7E-96F8-096EE450E64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BFAF-0C33-48C9-BA1F-D37169D6A4D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7046-A41A-470E-BD3B-575517D522C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1254-6C37-44EA-88EF-E408D9F1E14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A5F1-7972-455C-A17F-CC88097C5FB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C3C7-FE30-48B7-AA69-57685EE2015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5078-C1D3-42A7-869A-53C8CC9C668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A54E-C344-4D05-94E6-F5A2F9875AE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7903-0A91-4BB8-825D-32DD2546B5D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C1F3-E5C7-4F58-8E45-3BF192F7611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C62-02FB-4495-A621-54722C5D780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C666-2300-4711-8434-D52E67848C7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6696-252C-4DAA-A36B-3731FBBA672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E9F0-6C79-4127-B672-F853438F66C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C899-A823-474A-A88F-C93A216B026B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D2AD-328F-4352-A5AD-364FA40770F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081D-8C3A-47AC-8A57-48ADF7FBFBA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71C4-B5FA-44A3-925F-BB324B7A89C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A0F1-6FF0-4CB1-9A1A-78DD9C23503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AC29-9E41-4EB5-91FE-971F0B9E4E9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210D-E4CD-460B-9F47-A82F0E46A07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E660-3A56-40DF-AA77-D1077C97B1C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0040-F608-4DCC-B2DA-30CFF46532D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49AA-96E2-4997-9C88-EF9AD94F8EE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08B0-18F6-4A76-9BF9-D0E9F054A2E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D1EB-3FAF-4E20-8F16-E51E825EA88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8857-EFE0-4317-8A47-CEBCAC08AD2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F81B-8D78-480F-850C-DE53955902E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7070-0E64-45F6-B4B8-B2D308C4980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750F-7411-4AE0-8A9B-316847089FA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66DA-1113-4CBC-B183-A3D9139369A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DE9A-3D63-4E9B-B1E2-C53AB951364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A04D-50F8-4376-95DE-5347F8F43CC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A1D1-6F92-41DC-A459-52B179E21C4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E349-50A9-40AD-B05C-0D27F7AD996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F2A0-CA9E-4B23-942D-FF173DFA20AF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A76C-C702-4B7D-97BA-7FE93EFCB42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A1AD-4A78-44C2-91BD-C875518C580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1887-3357-4BCE-A311-1437409485E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DFAF-54E6-4C95-A466-50F1842BAB2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9741-28ED-4583-9001-8905F62207E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961A-635C-4C1A-AF40-19C02193FF4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A060-4968-47B9-B85A-131BA11203A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8605-5A3D-4A30-8D6F-19041299D38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0CCE-DD79-454C-83D0-E251FBE3B53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145A-7CA4-4F7C-A3C4-47A56841513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E635-B78B-4E0A-ACF0-3009F73D12D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B7D6-2587-48C3-8530-B5A39FCC79A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7" name="PlaceHolder 3"/>
          <p:cNvSpPr>
            <a:spLocks noGrp="1"/>
          </p:cNvSpPr>
          <p:nvPr>
            <p:ph type="dt" idx="4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4D34-3D0F-4EF2-A20B-16EC212A394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8" name="PlaceHolder 4"/>
          <p:cNvSpPr>
            <a:spLocks noGrp="1"/>
          </p:cNvSpPr>
          <p:nvPr>
            <p:ph type="ftr" idx="4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9" name="PlaceHolder 5"/>
          <p:cNvSpPr>
            <a:spLocks noGrp="1"/>
          </p:cNvSpPr>
          <p:nvPr>
            <p:ph type="sldNum" idx="4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A808-2C7F-4A3F-B68C-13128F90B68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8" name="PlaceHolder 3"/>
          <p:cNvSpPr>
            <a:spLocks noGrp="1"/>
          </p:cNvSpPr>
          <p:nvPr>
            <p:ph type="dt" idx="4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B3C3-B485-43CC-8929-B83C35AE785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9" name="PlaceHolder 4"/>
          <p:cNvSpPr>
            <a:spLocks noGrp="1"/>
          </p:cNvSpPr>
          <p:nvPr>
            <p:ph type="ftr" idx="4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0" name="PlaceHolder 5"/>
          <p:cNvSpPr>
            <a:spLocks noGrp="1"/>
          </p:cNvSpPr>
          <p:nvPr>
            <p:ph type="sldNum" idx="4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6B80-5B63-4274-A48C-455E2992518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9" name="PlaceHolder 3"/>
          <p:cNvSpPr>
            <a:spLocks noGrp="1"/>
          </p:cNvSpPr>
          <p:nvPr>
            <p:ph type="dt" idx="4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F5EE-2471-4441-BFA4-D3972AB9098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0" name="PlaceHolder 4"/>
          <p:cNvSpPr>
            <a:spLocks noGrp="1"/>
          </p:cNvSpPr>
          <p:nvPr>
            <p:ph type="ftr" idx="4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1" name="PlaceHolder 5"/>
          <p:cNvSpPr>
            <a:spLocks noGrp="1"/>
          </p:cNvSpPr>
          <p:nvPr>
            <p:ph type="sldNum" idx="4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E9D7-6396-4E10-B0EE-AE62B3C98EE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0" name="PlaceHolder 3"/>
          <p:cNvSpPr>
            <a:spLocks noGrp="1"/>
          </p:cNvSpPr>
          <p:nvPr>
            <p:ph type="dt" idx="4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E6B6-1A74-4670-BDD5-3A8814ABA56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1" name="PlaceHolder 4"/>
          <p:cNvSpPr>
            <a:spLocks noGrp="1"/>
          </p:cNvSpPr>
          <p:nvPr>
            <p:ph type="ftr" idx="4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2" name="PlaceHolder 5"/>
          <p:cNvSpPr>
            <a:spLocks noGrp="1"/>
          </p:cNvSpPr>
          <p:nvPr>
            <p:ph type="sldNum" idx="4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8933-D4C2-45FA-B827-4C7C555E900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E121-C61A-470D-BB1B-9489F2E8483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 type="dt" idx="4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65B0-6D5D-4008-A4BF-4A890FDC5D4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2" name="PlaceHolder 4"/>
          <p:cNvSpPr>
            <a:spLocks noGrp="1"/>
          </p:cNvSpPr>
          <p:nvPr>
            <p:ph type="ftr" idx="4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3" name="PlaceHolder 5"/>
          <p:cNvSpPr>
            <a:spLocks noGrp="1"/>
          </p:cNvSpPr>
          <p:nvPr>
            <p:ph type="sldNum" idx="4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D9B1-D5BD-417A-8DCF-0311EF810AE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2" name="PlaceHolder 3"/>
          <p:cNvSpPr>
            <a:spLocks noGrp="1"/>
          </p:cNvSpPr>
          <p:nvPr>
            <p:ph type="dt" idx="4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69D9-D409-4D3D-968B-B03A63DC2A2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3" name="PlaceHolder 4"/>
          <p:cNvSpPr>
            <a:spLocks noGrp="1"/>
          </p:cNvSpPr>
          <p:nvPr>
            <p:ph type="ftr" idx="4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4" name="PlaceHolder 5"/>
          <p:cNvSpPr>
            <a:spLocks noGrp="1"/>
          </p:cNvSpPr>
          <p:nvPr>
            <p:ph type="sldNum" idx="4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0302-E9C9-4991-A001-CAF40B0DD6C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 type="dt" idx="4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F059-14FA-4F70-8973-3DCAC8EDE57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4" name="PlaceHolder 4"/>
          <p:cNvSpPr>
            <a:spLocks noGrp="1"/>
          </p:cNvSpPr>
          <p:nvPr>
            <p:ph type="ftr" idx="4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5" name="PlaceHolder 5"/>
          <p:cNvSpPr>
            <a:spLocks noGrp="1"/>
          </p:cNvSpPr>
          <p:nvPr>
            <p:ph type="sldNum" idx="4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EC6F-5B4A-46D6-A9F1-49B33DF79AC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 type="dt" idx="4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4045-06D6-4941-A3D4-654F108D20A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5" name="PlaceHolder 4"/>
          <p:cNvSpPr>
            <a:spLocks noGrp="1"/>
          </p:cNvSpPr>
          <p:nvPr>
            <p:ph type="ftr" idx="4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6" name="PlaceHolder 5"/>
          <p:cNvSpPr>
            <a:spLocks noGrp="1"/>
          </p:cNvSpPr>
          <p:nvPr>
            <p:ph type="sldNum" idx="4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4442-AF79-4FA9-93B9-17EAF806C29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5" name="PlaceHolder 3"/>
          <p:cNvSpPr>
            <a:spLocks noGrp="1"/>
          </p:cNvSpPr>
          <p:nvPr>
            <p:ph type="dt" idx="4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C45B-D666-4370-B8BD-B0F1C7337D4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6" name="PlaceHolder 4"/>
          <p:cNvSpPr>
            <a:spLocks noGrp="1"/>
          </p:cNvSpPr>
          <p:nvPr>
            <p:ph type="ftr" idx="4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7" name="PlaceHolder 5"/>
          <p:cNvSpPr>
            <a:spLocks noGrp="1"/>
          </p:cNvSpPr>
          <p:nvPr>
            <p:ph type="sldNum" idx="4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B377-EC08-430F-AE54-7530F7D9558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6" name="PlaceHolder 3"/>
          <p:cNvSpPr>
            <a:spLocks noGrp="1"/>
          </p:cNvSpPr>
          <p:nvPr>
            <p:ph type="dt" idx="4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AE24-8D9B-4FEA-9421-0DB8C610D81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7" name="PlaceHolder 4"/>
          <p:cNvSpPr>
            <a:spLocks noGrp="1"/>
          </p:cNvSpPr>
          <p:nvPr>
            <p:ph type="ftr" idx="4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8" name="PlaceHolder 5"/>
          <p:cNvSpPr>
            <a:spLocks noGrp="1"/>
          </p:cNvSpPr>
          <p:nvPr>
            <p:ph type="sldNum" idx="4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8739-090D-4070-830F-4828EAC1CEB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7" name="PlaceHolder 3"/>
          <p:cNvSpPr>
            <a:spLocks noGrp="1"/>
          </p:cNvSpPr>
          <p:nvPr>
            <p:ph type="dt" idx="4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EC07-0775-4995-843B-D2CED4E0D1D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8" name="PlaceHolder 4"/>
          <p:cNvSpPr>
            <a:spLocks noGrp="1"/>
          </p:cNvSpPr>
          <p:nvPr>
            <p:ph type="ftr" idx="4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9" name="PlaceHolder 5"/>
          <p:cNvSpPr>
            <a:spLocks noGrp="1"/>
          </p:cNvSpPr>
          <p:nvPr>
            <p:ph type="sldNum" idx="4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DB91-5493-4F97-ADD7-9DA1BDD5FFE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8" name="PlaceHolder 3"/>
          <p:cNvSpPr>
            <a:spLocks noGrp="1"/>
          </p:cNvSpPr>
          <p:nvPr>
            <p:ph type="dt" idx="4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B648-66E8-4644-B312-4F4BF9919AA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9" name="PlaceHolder 4"/>
          <p:cNvSpPr>
            <a:spLocks noGrp="1"/>
          </p:cNvSpPr>
          <p:nvPr>
            <p:ph type="ftr" idx="4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0" name="PlaceHolder 5"/>
          <p:cNvSpPr>
            <a:spLocks noGrp="1"/>
          </p:cNvSpPr>
          <p:nvPr>
            <p:ph type="sldNum" idx="4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CD47-E656-452E-93E4-2C02F1226C7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2"/>
    <p:sldLayoutId id="2147485678" r:id="rId3"/>
    <p:sldLayoutId id="2147485679" r:id="rId4"/>
    <p:sldLayoutId id="2147485680" r:id="rId5"/>
    <p:sldLayoutId id="2147485681" r:id="rId6"/>
    <p:sldLayoutId id="2147485682" r:id="rId7"/>
    <p:sldLayoutId id="2147485683" r:id="rId8"/>
    <p:sldLayoutId id="2147485684" r:id="rId9"/>
    <p:sldLayoutId id="2147485685" r:id="rId10"/>
    <p:sldLayoutId id="2147485686" r:id="rId11"/>
    <p:sldLayoutId id="2147485687" r:id="rId12"/>
    <p:sldLayoutId id="2147485688" r:id="rId13"/>
  </p:sldLayoutIdLst>
</p:sldMaster>
</file>

<file path=ppt/slideMasters/slideMaster1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9" name="PlaceHolder 3"/>
          <p:cNvSpPr>
            <a:spLocks noGrp="1"/>
          </p:cNvSpPr>
          <p:nvPr>
            <p:ph type="dt" idx="4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EAFA-692C-4478-A989-3274C5B0973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0" name="PlaceHolder 4"/>
          <p:cNvSpPr>
            <a:spLocks noGrp="1"/>
          </p:cNvSpPr>
          <p:nvPr>
            <p:ph type="ftr" idx="4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1" name="PlaceHolder 5"/>
          <p:cNvSpPr>
            <a:spLocks noGrp="1"/>
          </p:cNvSpPr>
          <p:nvPr>
            <p:ph type="sldNum" idx="4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DB4F-3AE2-496D-899E-0F0E5FEA723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90" r:id="rId2"/>
    <p:sldLayoutId id="2147485691" r:id="rId3"/>
    <p:sldLayoutId id="2147485692" r:id="rId4"/>
    <p:sldLayoutId id="2147485693" r:id="rId5"/>
    <p:sldLayoutId id="2147485694" r:id="rId6"/>
    <p:sldLayoutId id="2147485695" r:id="rId7"/>
    <p:sldLayoutId id="2147485696" r:id="rId8"/>
    <p:sldLayoutId id="2147485697" r:id="rId9"/>
    <p:sldLayoutId id="2147485698" r:id="rId10"/>
    <p:sldLayoutId id="2147485699" r:id="rId11"/>
    <p:sldLayoutId id="2147485700" r:id="rId12"/>
    <p:sldLayoutId id="2147485701" r:id="rId13"/>
  </p:sldLayoutIdLst>
</p:sldMaster>
</file>

<file path=ppt/slideMasters/slideMaster1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0" name="PlaceHolder 3"/>
          <p:cNvSpPr>
            <a:spLocks noGrp="1"/>
          </p:cNvSpPr>
          <p:nvPr>
            <p:ph type="dt" idx="4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C32E-3AE7-45B5-9576-406A93A9C7D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1" name="PlaceHolder 4"/>
          <p:cNvSpPr>
            <a:spLocks noGrp="1"/>
          </p:cNvSpPr>
          <p:nvPr>
            <p:ph type="ftr" idx="4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2" name="PlaceHolder 5"/>
          <p:cNvSpPr>
            <a:spLocks noGrp="1"/>
          </p:cNvSpPr>
          <p:nvPr>
            <p:ph type="sldNum" idx="4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FEF7-8624-4835-840F-40DD3E5158B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03" r:id="rId2"/>
    <p:sldLayoutId id="2147485704" r:id="rId3"/>
    <p:sldLayoutId id="2147485705" r:id="rId4"/>
    <p:sldLayoutId id="2147485706" r:id="rId5"/>
    <p:sldLayoutId id="2147485707" r:id="rId6"/>
    <p:sldLayoutId id="2147485708" r:id="rId7"/>
    <p:sldLayoutId id="2147485709" r:id="rId8"/>
    <p:sldLayoutId id="2147485710" r:id="rId9"/>
    <p:sldLayoutId id="2147485711" r:id="rId10"/>
    <p:sldLayoutId id="2147485712" r:id="rId11"/>
    <p:sldLayoutId id="2147485713" r:id="rId12"/>
    <p:sldLayoutId id="2147485714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E74A-D989-4640-B7A0-39953AFB2F0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2586-827E-4F53-B79D-321BB4B5407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DD2A-FE24-42B5-ADAB-E3817119C6D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29E0-9F45-419B-9EEE-08E6604C72F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0865-12F4-4F7C-B03B-1D4A23C9D58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046A-2A2A-4564-B2CA-D6F6372D4C8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8C08-CD9E-4BE7-8899-36111900E7C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02C1-E686-42A5-9CEE-3D89979C1708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52D0-C8DA-46E1-B776-F31E6FC7177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7E53-9904-42A9-9334-092FFA534FB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AE7A-8A60-4199-9782-D03AAF588D6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4005-083C-4D9B-A642-F3DE7B16987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82BC-B8A3-4121-A6A6-6B82C790F25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D15D-9B4F-4953-8E13-35757F7E648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B4B-7F51-4A89-87D0-647E244F7DB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D613-5B77-4085-868D-864B03092F1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8261-451D-473F-A353-EE7D4739C4F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EEA-C0E7-473C-B9AB-BFAD01CCBE4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5671-258B-4FE0-AF41-A38762D5B4A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5F3B-1F24-4F41-AF5E-28AF195FD58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78F1-EF36-449A-9C05-1A9F3AD8F43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961C-42CA-4113-8BD3-F9A0D31B1B1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79FC-078F-4A69-9435-BE6D0760769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1DB0-93FF-4BC2-9825-3723D4A1F9E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BC88-A70D-45DD-B9A9-84BE50B2086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9C89-EB2A-46BA-B72E-088B54F60F8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A16F-9FC8-43AA-A236-CE677847D43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FE2C-790F-4E1D-AF99-CBE0605640D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1BF2-4991-4BB9-8424-BA19D113CE25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433C-C24E-41ED-9BD3-7FDF5AEFAE8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8DDE-25E8-45B2-9B33-D5A8E842AFF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4BDB-DB2C-48FD-A829-459157647E2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2A63-4E96-4946-9821-49CD209A0FC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6FC3-FDD5-4995-ABEB-55E60D269C1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491A-491D-4A7B-BAC0-A2E57B1902E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F7F0-CA60-45B8-BCBE-83943253E6D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6494-7C2A-4D1C-8719-41AF4589C1A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2BAE-C32A-41C9-9272-7A08B8C2C6E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EBE-A374-4136-968C-E89D2430200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A523-DBBB-4277-9DAF-FAC48572868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0C0E-950A-41CA-88B0-089D1CA2915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FDAF-A45B-4AE3-8EF4-7C0EACA01A3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2607-16C5-4072-8DAC-DA371A25E73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0EF3-2240-431E-B067-975E9F422BA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3EB8-8B24-44D2-9FEB-295893F2589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AF29-7851-4CBA-8014-BD43214FE36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4E0E-BA44-49B1-89A6-EC13098599F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8B90-E128-47D9-B15A-11E5E961BCF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C664-EB1A-407A-9302-DC50BEF15C1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2479-DE84-4E6C-9DAA-0BE6F57F90C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C8B6-15AC-4A63-8E87-09286A4D419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42C0-9D8D-4566-ADF3-A9D7B699940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EBB4-6A1B-4347-8BB1-6404D8B1962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7436-B026-4FFD-872B-29AD992776F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5A15-1501-454B-8D6B-4960D10A03E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4778-A6EC-4C53-A537-D6EBA0D8F42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7EE5-BAA3-4EDD-99B3-25D2730979F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0091-2CCB-4959-B09B-B9AAFFE5B80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AAFE-CD79-4DBC-BFA8-FB67A041BCE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5992-DF7B-4A85-ACFF-8C3BE960A6D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850-B908-40BF-B331-0B24AE1A7B7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2543-AA31-4AA7-8CB0-BC819253351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CE4C-EA7F-4AEB-BBCC-B1C75F3E8B0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9485-F7AC-421F-845F-E5A21021836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42B2-66A8-43C2-8122-F855B9A8B63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4324-1488-4124-8F87-7C5CAFADFF8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B722-BE5E-4158-A596-BAF5A8CD268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54A0-C00F-4D87-9C2D-A922C1E899E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CDBC-94BD-4BBA-9DCB-9265BEA5ACC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084F-88DB-4F87-BAEC-21681A93C1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39DC-DE0F-42D7-A4A5-D0543E0BB659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A31A-0EED-4D42-9969-AB33C779E4F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28E-3F23-4943-8555-D1E060001E5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5A01-66F4-4012-B90A-BE270415042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C337-8A96-4938-A99E-A349E32048C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4F85-6078-47E5-8C95-253F0C4C20F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CCDA-C85D-40E2-9DC1-EE11FC38E61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0CF0-15C5-41FD-9887-D286A415FBF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574C-5DE8-4BB7-BC97-417327FACED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14FF-CBE4-4A4B-A008-2E177E012DC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2AF9-C02D-4E49-8F86-5B0BE3E5C42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0E68-34AA-49E2-911B-42A29A0196B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7281-2EE3-4584-88B1-9AA635BE9B3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0EB6-4962-4ACE-B697-FE787B14A55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FE99-F80C-40F5-A8A1-85D50158B4D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760D-E863-4438-8B69-63E4EC64460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7A11-D303-46DF-B6C4-5269EFD1217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F044-1884-4966-AB32-5B8E86C8453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CE99-D282-4344-867A-5F3AF59E0ED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E48D-7B35-43E3-9116-5733DE791AF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60CA-7D21-4325-A10F-8F81CA261FF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AA09-A683-4114-9F8F-B5A6DA75572F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9C32-F4C2-4A85-AC98-63FAC9AAFA5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9B73-AE8A-4264-A2DB-C732CA1D550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0570-A518-48D2-837D-215B2F30A76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0B1-5C38-4FD8-9160-008457E800D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16B3-2BA2-4407-A36B-53078D97CA2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1CDF-44A8-4783-AD7E-1B604EAECF9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4A58-AF64-47F3-AB1D-71E52807922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BD5A-10DA-4E6D-814B-DD644540FE1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B94A-0276-4D57-A3CE-ADF3E00B6DE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64D9-CDD5-4B6B-94A2-D658B465545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21B3-22E0-4EE7-B3CC-C921990A9FB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8BDC-6390-4B73-B96B-C14F776385B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17DA-72BA-4AE6-A6F0-C553394F478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A138-E98F-452E-8E2F-1B7344D3EF5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617A-80C1-427B-B413-AF147168E1C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4EE2-6DA7-4C7C-9A22-6DDB2E6ABC0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1128-5347-4A78-A672-7D94DCA1156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574C-BE94-4E3A-906A-33C0B0E3270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28C2-FD7A-4AF0-98AE-1F10E98C4D9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2C2-27DC-4AA2-AF65-F8A72A5D1A9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0321-29FA-4C97-B4E7-62D90DB8BD97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0351-63DD-4365-A004-CA6B756108B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F7AD-4CEB-49A7-9E2A-5AE4FDEEECB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8130-A561-4C4C-99C6-31D80ACC686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B1F9-E505-49CB-B473-F11D9C12D1A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A0CA-7A54-4695-ACC4-8859B00FAAD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7B5C-4941-4DFF-A52C-A304E15F45C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D184-A155-406C-87FA-870759CC7F2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E309-D50E-4003-B591-059F88DE761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3178-8D14-44C6-94B0-B1C23E4BFA3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297A-4181-409B-8972-391FC17238E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525A-416E-45B3-B37C-D5923EB217A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2386-B5B1-46BE-9A0C-2CBD18F7161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E6B7-DCF2-4B0A-9357-C28202545BD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B206-6AA5-4D74-BAA5-6AD880A90E4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8223-ADC4-4E49-9EC1-10B36ADAB4E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B7FF-65B7-4081-BF99-D7AA74FD44E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D15D-A04B-42B4-9A46-3B027F910C5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5ED6-4E6A-4C9A-B1E8-3B0915BA46D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31C8-FB3F-4C29-937F-DF82256899C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D512-3675-47B6-B8B3-D2B5DB959F9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E750-C0A0-425A-88C6-394345E2358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81C5-5E4B-4307-A8F9-A2843A664F6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C725-8987-4EC9-B821-89358BEE661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6E08-7F5D-4855-AF3E-09B2BBC5527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DCC7-7983-4C63-9CAA-7A5A8E85AF7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D37F-6AF0-4D2D-A81B-98E6D7885D6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EC2A-D523-4843-8E14-23571DA097C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3E4C-C42F-4C1F-A9D2-F64BC5620B0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4848-6D46-4F70-BEE8-3A2E57430D1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D4F1-1D7B-40E9-ABC3-0820BAF382B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BADF-EC91-4BFA-A440-BB4ADA0696C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418C-D294-4DB9-9237-CAC728F81E7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988F-4CC4-4C82-A6EC-A1E38823A35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BC59-7807-48E7-856F-69A2101530D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2226-A0DE-459F-B719-49390DD5C79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E4A2-AAD0-4380-BB49-00CF817F6B4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FBB4-F93F-40DF-BCB3-CC4C0B70666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5190-E9ED-4ED6-8C5D-BEEFBD43B6F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9BC1-8D31-405C-B3AB-3B90C046860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8F33-BE14-48D5-903C-D5AFB6EDAC8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805E-8808-498D-A5ED-C9261E46989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41CA-21B9-4A93-AA5C-0C335E526CE2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5FC0-F69D-42B2-BB20-17D80C039BE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4B5D-7C50-4B63-9F21-A1728EDB20C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0CB6-A0DA-4AAD-9F9E-58B7CBE06FB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79F7-7FDC-442A-A0AE-C20047DA77C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A1E8-F61B-420C-A881-41C460B57A6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2A32-2CED-4B30-884B-4567C25B890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B599-2335-4C4E-A007-6BE13F28013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ECBA-B891-4F4F-BDD9-F8A41714E0C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F432-3222-4287-89C3-AF9406694EF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743F-1B73-4186-A8D5-81600BD8D84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382E-31E7-408B-BAF8-8039B70CE86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18EC-BF2B-4075-9A30-F718F940468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8BA6-0BE1-4ED0-BF33-D85B7A03136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A901-DD05-4325-8D03-84DD506C438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AF56-4AFF-4314-B891-A3DEF3C4E36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F6A1-0CF6-4607-8959-FD9610826CC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737A-DC03-47E5-844D-55E5994727E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99E2-728D-4840-823B-41536FF4B4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2FAD-C69C-4B97-B26D-4110BF8F06D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A48B-D928-4DA8-A5AB-5D27098A539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Центр психолого-педагогической поддержки и развит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ля детей дошкольного возраста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 особыми образовательными потребностями</a:t>
            </a: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"Эмпатия"</a:t>
            </a:r>
            <a:br>
              <a:rPr sz="66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труктурное подразделение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ЧОУ школа «Аврор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2" name=""/>
          <p:cNvSpPr txBox="1"/>
          <p:nvPr/>
        </p:nvSpPr>
        <p:spPr>
          <a:xfrm>
            <a:off x="178920" y="189000"/>
            <a:ext cx="8713800" cy="63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труктура психолого-коррекционного блока представлена этап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. диагностический эта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диагностика актуального уровня развития ребенка, определение объема необходимых коррекционных мероприятий, отслеживание динамики в процессе коррекционной работы,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2. психолого-педагогическое консультирование родителей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вопросам реализации индивидуальных рекомендаций специалистов и по личному запрос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3. коррекционно-развивающий эта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проведение индивидуальных занятий с ребенком и в группах (по показаниям специалист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3" name=""/>
          <p:cNvSpPr txBox="1"/>
          <p:nvPr/>
        </p:nvSpPr>
        <p:spPr>
          <a:xfrm>
            <a:off x="10800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ециалисты цент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ый руководитель ЦПР «ЭМПАТИЯ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ндидат педагогических наук, доцент ККПСП  НИПКиПРО,  специальный психол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ординато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 (с дополнительной квалификацией «Олигофренопедагог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алисты ЦП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- дефектолог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- логопе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музыки, ИЗ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ециальные психолог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начальных класс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ециалисты по психомоторной корр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4" name="PlaceHolder 1"/>
          <p:cNvSpPr>
            <a:spLocks noGrp="1"/>
          </p:cNvSpPr>
          <p:nvPr>
            <p:ph type="title"/>
          </p:nvPr>
        </p:nvSpPr>
        <p:spPr>
          <a:xfrm>
            <a:off x="194760" y="163080"/>
            <a:ext cx="8688600" cy="646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 anchorCtr="1">
            <a:noAutofit/>
          </a:bodyPr>
          <a:p>
            <a:pPr indent="0" algn="ctr">
              <a:lnSpc>
                <a:spcPct val="115000"/>
              </a:lnSpc>
              <a:spcAft>
                <a:spcPts val="201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методов коррекции нарушений развития детей с РАС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ми нарушениями развити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5" name="PlaceHolder 1"/>
          <p:cNvSpPr>
            <a:spLocks noGrp="1"/>
          </p:cNvSpPr>
          <p:nvPr>
            <p:ph type="subTitle"/>
          </p:nvPr>
        </p:nvSpPr>
        <p:spPr>
          <a:xfrm>
            <a:off x="64800" y="163440"/>
            <a:ext cx="8948520" cy="653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Floortime (методика Гринспана)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FLOOR TIME ("игровое время")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ка создана Стенли Гринспаном. Использует интересы ребенка, даже патологические (например, часами тереть по стеклу) для установления с ним контакта (педагог или родитель становится рядом и тоже трет по стеклу, или закрывает стекло, и ребенок вынужден на это отреагировать – начать тереть стекло в другом месте, эти возможности уже будут началом контакта)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Гринспан выделяет шесть стадий развития ребенка в норме: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интереса к миру (достигается к трем месяц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привязанности (к пяти месяц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двухсторонней коммуникации (к девяти месяц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осознания себя (к полутора год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ых идей( к двум с половиной год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ого мышления (к четырем годам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утисты обычно не проходят все стадии, а останавливаются на одной из них. Задачей "игрового времени" является помочь ребенку пройти через все стадии. Двусторонняя коммуникация достигается, если ребенок реагирует на действия взросло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6" name="PlaceHolder 1"/>
          <p:cNvSpPr>
            <a:spLocks noGrp="1"/>
          </p:cNvSpPr>
          <p:nvPr>
            <p:ph type="subTitle"/>
          </p:nvPr>
        </p:nvSpPr>
        <p:spPr>
          <a:xfrm>
            <a:off x="195120" y="96840"/>
            <a:ext cx="8840880" cy="65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>
              <a:lnSpc>
                <a:spcPct val="95000"/>
              </a:lnSpc>
              <a:spcBef>
                <a:spcPts val="476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нсорная интеграц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метода сенсорной интеграции Джин Айре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ый педагог и эрготерапев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ой идеей терапии, основанной на сенсорной интеграции, является стимуляция сенсорных систем и контроль над сенсорными каналами, направленные на то, чтобы ребенок спонтанно формировал адаптивные ответы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ирующие различные виды ощущений от различных сенсорных систем: зрительной, слуховой, обонятельной, тактильной, проприоцептивной, вестибуляр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я наиболее эффективна, если ребенок сам направляет свои действия, а педагог лишь ненавязчиво организует и меняет обстанов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равило, интеграция происходит, когда ребенок стремится к ощущениям и делает что-то, чтобы их получ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нятие ребенку интересно, его мозг, как правило, способен организовать ощущения от этого занятия и встраивает полученные связи в функциональную систему (ассоциации, восприятие, мышление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76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76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7" name="PlaceHolder 1"/>
          <p:cNvSpPr>
            <a:spLocks noGrp="1"/>
          </p:cNvSpPr>
          <p:nvPr>
            <p:ph type="subTitle"/>
          </p:nvPr>
        </p:nvSpPr>
        <p:spPr>
          <a:xfrm>
            <a:off x="130320" y="163440"/>
            <a:ext cx="8883360" cy="653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 МЕЖЛИЧНОСТНЫХ ОТНОШЕНИЙ, РМО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Calibri"/>
              </a:rPr>
              <a:t>(Relationship Development Intervention, RDI)</a:t>
            </a:r>
            <a:br>
              <a:rPr sz="1200"/>
            </a:br>
            <a:br>
              <a:rPr sz="11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на в штате Техас, авторы - двое психологов, Стивен Гатстин и Рашель Шили.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ь методики вкратце такова. Гатстин и Шили считают, что нормально развивающийся ребенок очень рано, месяца в три, начинает ориентироваться на общение, находить в общении главное удовольствие, и предпочитает его нахождению в одиночестве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ом эта потребность в общении разрастается, ребенок научается разделять эмоции других людей (сначала родителей), научается смотреть в глаза, чтобы распознать выражение лица, и обожает играть с родителями (простейшие игры типа "ку-ку" или "ладушки"). </a:t>
            </a: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Это к шести месяцам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1 году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уже способен находить удовольствие в том, что в знакомую игру можно вносить вариации, учится искать на лице взрослого одобрение или неодобрение своим действиям и корректировать свое поведение в соответствии с выражением лица взрослого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полутора годам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ся быстро переключаться, не повторяться, не "застревать" на одном виде деятельност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двум - двум с половиной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ет понимать точку зрения другого (если сидит напротив взрослого и хочет показать картинку в книжке, переворачивает книжку, чтобы взрослому было видно не вверх ногами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четырем годам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мает, что у других могут быть другие чувства и идеи, начинает этим интересоваться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сле четырех лет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ет понимать дружбу, заводит приятелей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275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176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8" name="Стрелка вниз 1"/>
          <p:cNvSpPr/>
          <p:nvPr/>
        </p:nvSpPr>
        <p:spPr>
          <a:xfrm>
            <a:off x="8028000" y="6093000"/>
            <a:ext cx="289080" cy="57456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9" name="PlaceHolder 1"/>
          <p:cNvSpPr>
            <a:spLocks noGrp="1"/>
          </p:cNvSpPr>
          <p:nvPr>
            <p:ph type="subTitle"/>
          </p:nvPr>
        </p:nvSpPr>
        <p:spPr>
          <a:xfrm>
            <a:off x="129960" y="96480"/>
            <a:ext cx="8753400" cy="6599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аутистов же по какой-то причине эта сторона восприятия мира наруше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амом раннем этапе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 вырабатывается интерес к окружающим людям и умение разделять эмо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ьше человек живет без этого (адаптируется), и все остальное, что у обычных детей на этом строится, тоже не вырабатываетс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Отсю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зрительного контакта, то есть хуже того, отсутствие интереса к эмоциям других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бовь к привычным ритуалам (не научился ценить вариации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вязчивые идеи (не научился переключаться), и , конечно, не научается интересоваться мнением других, и не умеет дружить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тстин и Шили предлагают пройти с ребенком весь путь в ускоренном варианте. Сначала надо научить ребенка находить удовольствие в общ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этого можно учить читать выражение лиц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ординировать свои действия с другим человеком, не "застревать" и д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То есть первый, самый главный шаг - научить потребности в общ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176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0" name="PlaceHolder 1"/>
          <p:cNvSpPr>
            <a:spLocks noGrp="1"/>
          </p:cNvSpPr>
          <p:nvPr>
            <p:ph type="subTitle"/>
          </p:nvPr>
        </p:nvSpPr>
        <p:spPr>
          <a:xfrm>
            <a:off x="64800" y="228600"/>
            <a:ext cx="8948520" cy="6532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ABA Прикладной анализ пове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pplied behavior analysis, ABA, или "Модификация поведения"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АВА для работы с детьми с аутизмом впервые был использован доктором Иваром Ловаасом (Іvar Lovaas) и его коллегами из Калифорнийского университета в Лос‑Анджелесе в 1963 г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ывается на идее, что любое поведение влечет за собой некоторые последствия, и если ребенку последствия нравятся, он будет это поведение повторять, а если не нравятся, то не будет (стимул-реакц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этом подходе все сложные навыки, включая речь, творческую игру, умение смотреть в глаза, и др., разбиваются на мелкие блоки – действия (behavior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ое действие разучивается с ребенком отдельно, затем действия соединяются в цепь, образуя сложное действ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разучивании действий ребенку дают задание, если он не может справиться один, дают подсказку, а затем вознаграждают правильные ответы и игнорируют неправильные.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1" name="PlaceHolder 1"/>
          <p:cNvSpPr>
            <a:spLocks noGrp="1"/>
          </p:cNvSpPr>
          <p:nvPr>
            <p:ph type="subTitle"/>
          </p:nvPr>
        </p:nvSpPr>
        <p:spPr>
          <a:xfrm>
            <a:off x="64800" y="115560"/>
            <a:ext cx="8948520" cy="664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43000" indent="-24300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 algn="ctr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ная клинико-психолого-педагогическая коррекция Р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 algn="ctr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К.С. Лебединской, О.С. Никольской и соав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:</a:t>
            </a:r>
            <a:br>
              <a:rPr sz="1300"/>
            </a:b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Психологическая коррекция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становление контакта со взрослыми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мягчение общего фона сенсорного и эмоционального дискомфорта, тревоги, страхов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имуляция психической активности, направленной на взаимодействие со взрослыми и сверстниками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формирование целенаправленного поведения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преодоление отрицательных форм поведения: агрессии, негативизма, расторможенности влечений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Педагогическая коррекция РДА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ормирование активного взаимодействия с педагогом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рмирование навыков самообслуживания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педевтика обучения (коррекция специфического недоразвития восприятия, моторики, внимания, речи; формирование навыков изобразительной деятельности)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Медикаментозная коррекция РДА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щая психофармакологическая и общеукрепляющая терапия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Работа с семьей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сихотерапия членов семьи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знакомление родителей с рядом психических особенностей ребенка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оставление индивидуальной программы воспитания и обучения аутичного ребенка в домашних условиях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бучение родителей методам воспитания аутичного ребенка, организации его режима, привития навыков самообслуживания, подготовки к школе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80000"/>
              </a:lnSpc>
              <a:spcBef>
                <a:spcPts val="326"/>
              </a:spcBef>
              <a:buClr>
                <a:srgbClr val="0070c0"/>
              </a:buClr>
              <a:buFont typeface="Wingdings" charset="2"/>
              <a:buChar char=""/>
              <a:tabLst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2" name="Rectangle 1"/>
          <p:cNvSpPr/>
          <p:nvPr/>
        </p:nvSpPr>
        <p:spPr>
          <a:xfrm>
            <a:off x="250920" y="426600"/>
            <a:ext cx="8697960" cy="61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pPr algn="ctr">
              <a:lnSpc>
                <a:spcPct val="115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етод замещающего онтогенеза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ифференциально-диагностической квалификации и коррекции различных типов онтогенеза разработана технология «Комплексное нейропсихологическое сопровождение развития ребёнка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фундаментом является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етод замещающего онтогенез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ый в 1990 – 1997гг. (Семенович, Умрихин, Цыганок, 1992; Семенович, Цыганок, 1995; Семенович, Архипов, 1995; Гатина, Сафронова, Серова, 1996; Архипов, Гатина, Семенович, 1997; Семенович, Воробьёва, Сафронова, Серова, 2001; Семенович, 2002, 2004, 2005, 2007) и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вший свою валидность как эффективный инструмент и как язык описания при работе с различными вариантами развития. </a:t>
            </a:r>
            <a:br>
              <a:rPr sz="18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ологически коррекционная программа опирается на современные (по А.Р. Лурия) представления о закономерностях развития и иерархическом строении мозговой организации психических функций в онтогенезе (прежде всего, в ракурсе теории о трёх блоках мозга), учение Л.С. Цветковой о нейропсихологической реабилитации; принцип «замещающего онтогенеза».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3" name="Стрелка вниз 1"/>
          <p:cNvSpPr/>
          <p:nvPr/>
        </p:nvSpPr>
        <p:spPr>
          <a:xfrm>
            <a:off x="8467560" y="5835600"/>
            <a:ext cx="439920" cy="8874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0" name="Picture 2" descr="kjuj"/>
          <p:cNvPicPr/>
          <p:nvPr/>
        </p:nvPicPr>
        <p:blipFill>
          <a:blip r:embed="rId1"/>
          <a:stretch/>
        </p:blipFill>
        <p:spPr>
          <a:xfrm>
            <a:off x="179280" y="1736640"/>
            <a:ext cx="878544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6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4" name=""/>
          <p:cNvSpPr txBox="1"/>
          <p:nvPr/>
        </p:nvSpPr>
        <p:spPr>
          <a:xfrm>
            <a:off x="64800" y="163080"/>
            <a:ext cx="8883720" cy="6465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й уровень – «Уровень непроизвольной саморегуляции, энергоснабжения и статокинетического баланса нейропсихосоматических процессов»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ы 1-го уровня направлены, прежде всего, на элиминацию дефекта и функциональную активацию подкорковых образований головного мозга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На этом уровне происходит первичная закладка и формирование саморегуляции ребёнка посредством ритмологических, ритуализированных способов воздейств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ой уровень – «Уровень операционального обеспечения взаимодействия с собой и внешним миром»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ы 2-го уровня направлены на стабилизацию межполушарных взаимодействий и специализации левого и правого полушарий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-й уровень – «Уровень произвольной саморегуляции, мышления и смыслообразующей функции психических процессов»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ы 3-го уровня направлены на формирование оптимального функционального статуса передних (префронтальных) отделов мозга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На данном уровне корригируются и формируются синтетические, интегративные меж- и надфункциональные взаимодействия, закрепляются накопленные на прежних уровнях способы и алгоритмы использования обобщающей и регулирующей функции речи, интеллектуальных операций, произвольного внима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матизируются навыки произвольной саморегуляции в эмоциональном и когнитивном аспект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5" name=""/>
          <p:cNvSpPr txBox="1"/>
          <p:nvPr/>
        </p:nvSpPr>
        <p:spPr>
          <a:xfrm>
            <a:off x="64800" y="228240"/>
            <a:ext cx="8883720" cy="6465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algn="ctr">
              <a:lnSpc>
                <a:spcPts val="3538"/>
              </a:lnSpc>
              <a:spcBef>
                <a:spcPts val="5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онально-уровневый подхо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87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эмоционально-уровневого подхода (О.С. Никольская и др., 1977) аутизм рассматривается как первазивное нарушение развития, при котором преимущественно страдает эмоциональная сфера, коррекция развития, формирование которой считается главной стратегической задачей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использование различных методических приёмов, и, в частности, один из них направлен на развитие эмоциональной сферы ребёнка с аутизмом через «заражение» эмоциями психолога в ходе совместных действий в процессе коррекционной работ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как бы «присваивает» эмоции взрослого, но в какой степени это касается действительно переживаний, а в какой – только выражения эмоций, вопрос сложный. Если в части случаев мы получаем лишь искусственную фенокопию эмоций психолога, то будет ли она состоятельной в реальной жизни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эмоционально-уровневой коррекции лежит клинико-дизонтогенетический подход Л.С.Выготского, который позволил авторам выделить первичные дефекты, вторичные и третичные образования при нарушениях развития и взглянуть на них как на нарушение аффективной сфер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рушение структуры базальной эмоциональной системы саморегуляции, нарушение приспособительности, аффективной адаптации ребенка к окружающей среде).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6" name="Стрелка вниз 1"/>
          <p:cNvSpPr/>
          <p:nvPr/>
        </p:nvSpPr>
        <p:spPr>
          <a:xfrm>
            <a:off x="8394840" y="5846760"/>
            <a:ext cx="439560" cy="8874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7" name=""/>
          <p:cNvSpPr txBox="1"/>
          <p:nvPr/>
        </p:nvSpPr>
        <p:spPr>
          <a:xfrm>
            <a:off x="130320" y="228240"/>
            <a:ext cx="8905680" cy="633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lnSpc>
                <a:spcPts val="1287"/>
              </a:lnSpc>
              <a:spcBef>
                <a:spcPts val="726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моменты этой структуры:</a:t>
            </a:r>
            <a:br>
              <a:rPr sz="1500"/>
            </a:b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опираются на инстинкты и влечения и нарушение эмоциональной сферы влечет за собой нарушения в других сферах (поведение, когнитивная сфера и т.д.)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ы выделяют 4 базовых уровня, на которые опирается система эмоциональной регуляции организм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полевой реактивности (преднастройка к контакту с окружающим);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стереотипов (адаптация субъекта к окружающему, выработка аффективных стереотипов сенсорного контакта с ним; регуляция процессов удовлетворения соматических потребностей);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экспансии (обеспечивает достижение аффективно значимой цели в преодолении неожиданных препятствий на пути к ней, овладение неизвестной, опасной ситуации);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эмоционального контроля (налаживание эмоционального взаимодействия с другими людьми, т.е. разработка способов ориентировки в переживаниях других, формирование правил, норм взаимодействия с другими людьми)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дного из этих основополагающих уровней влечет за собой поломку всей системы и гиперкомпенсацию нарушенного уровн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8" name=""/>
          <p:cNvSpPr txBox="1"/>
          <p:nvPr/>
        </p:nvSpPr>
        <p:spPr>
          <a:xfrm>
            <a:off x="64800" y="163080"/>
            <a:ext cx="8948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сюда принципы, которые обязательно должны учитываться при установлении эмоционального контакта с детьми, имеющими нарушения развития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давления, нажима, на первых порах даже. Ребенок, имеющий отрицательный опыт в контактах, не должен почувствовать, что его вновь вовлекают в болезненный для него процесс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контакт строится при опоре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собственную активность ребенка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 поддержание собственной эмоциональной значимости в глазах ребенка путем включения элементов контакта в привычные для ребенка моменты аутостимуляции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, что со взрослым лучше, чем без него (разнообразить привычные удовольствия ребенка, усилить их собственной радостью)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форсировать (работа по установлению контакта может быть очень длительной)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жнять формы контактов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 после того как взрослый становится аффективно значимым для ребенка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ребенка появляется спонтанное аффективное обращение к взрослому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сть в развитии форм контакта с обязательной опорой на сложившиеся стереотипы взаимодействия. Ребенок должен быть уверен, что усвоенные им формы не будут разрушены и он не останется "безоружным" в общении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жнение контакта идет по пути не столько предложения его новых вариантов,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осторожного введения новых деталей в структуру имеющихся форм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ая дозировка контактов. Продолжение взаимодействия в условиях психического пресыщения ребенка может разрушить уже достигнутое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регание от ситуации конфликта после достижения аффективной связи с ребенком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ь, что контакт не самоцель, а лишь этап на пути к совместному изучению окружающего мира. Поэтому по мере установление контакта с ребенком его аффективное внимание постепенно направляется на процесс и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 совместного контакта со средо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9" name=""/>
          <p:cNvSpPr txBox="1"/>
          <p:nvPr/>
        </p:nvSpPr>
        <p:spPr>
          <a:xfrm>
            <a:off x="195120" y="358920"/>
            <a:ext cx="8753760" cy="62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 коррекция строится поэтап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Установление эмоционального контак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имуляция активности, направленной на взаимодейств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нятие страх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пирование агрессии, самоагрессии, негативизма и других отрицательных форм пове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ирование целенаправленного п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вый и пятый этапы действительно являются соответственно начальным и завершающим, то три других представляют собой скорее непосредственные задачи коррекции,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торые могут решаться параллельно, в зависимости от особенностей каждого конкретного случ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 методов, которые можно использовать, определяется широко: все, что будет способствовать решению или смягчению проблем ребен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е заражение, игротерапия, арттерапия, музыкотерапия, обсуждение жизненных ситуаций и книг, сочинение сказок и историй, различные приемы релаксации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0" name=""/>
          <p:cNvSpPr txBox="1"/>
          <p:nvPr/>
        </p:nvSpPr>
        <p:spPr>
          <a:xfrm>
            <a:off x="108000" y="189000"/>
            <a:ext cx="8856720" cy="63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601560" indent="-60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нализ деятельности  ЦПР «Эмпат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7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Положительная динамика развития – 91-92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55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Слабая динамика – 4-6%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(в связи со сложностью дефекта, или с поздним сроком начала корр. заняти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751"/>
              </a:spcBef>
              <a:buClr>
                <a:srgbClr val="0000ff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Выбыли до результата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(в связи с переездом)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– 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2-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601"/>
              </a:spcBef>
              <a:buClr>
                <a:srgbClr val="0000ff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В течение 2009 -18 г. Более 300 детей подготовлены к посещению детских образовательных учреждений.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(Из них – 64 в ДОУ и в школе «Аврора». На сей день, 20 детей продолжают обучение в школе «Аврор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Общий результат 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– практически все дети – в положительной динамике развит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1" name=""/>
          <p:cNvSpPr txBox="1"/>
          <p:nvPr/>
        </p:nvSpPr>
        <p:spPr>
          <a:xfrm>
            <a:off x="179280" y="189000"/>
            <a:ext cx="8785440" cy="63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Times New Roman"/>
              </a:rPr>
              <a:t>Эмпатия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от греч. empatheia - сопереживание)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имание эмоционального состояния другого человека посредством сопереживания, т.е. способность одного человека почувствовать и понять то, что чувствует друг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2" name=""/>
          <p:cNvSpPr txBox="1"/>
          <p:nvPr/>
        </p:nvSpPr>
        <p:spPr>
          <a:xfrm>
            <a:off x="179280" y="228600"/>
            <a:ext cx="8785440" cy="644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Центр начал свою работу с октября 2009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ко, модель Центра создана и апробирована специалистами школы более 18 лет наза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жнее название Центра - «Школа раннего развития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 наш Центр посещают 95 - 100 детей с особыми образовательными потребностями в возрасте от 1,5 - 2 до 9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ак правило, это дети, не посещающие детские дошкольные учреждения, так как имеют проблемы в развитии и социальной адапт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3" name="Picture 2" descr="G:\АВРОРА ДОКИ\ЦЕНТР\000. ЦПР АНАЛИЗ\ЦПР К РОЛИКУ ФОТО\ЦПР 5\DSC01875.JPG"/>
          <p:cNvPicPr/>
          <p:nvPr/>
        </p:nvPicPr>
        <p:blipFill>
          <a:blip r:embed="rId1"/>
          <a:stretch/>
        </p:blipFill>
        <p:spPr>
          <a:xfrm>
            <a:off x="2238480" y="260280"/>
            <a:ext cx="4709880" cy="2654280"/>
          </a:xfrm>
          <a:prstGeom prst="rect">
            <a:avLst/>
          </a:prstGeom>
          <a:ln w="0">
            <a:noFill/>
          </a:ln>
        </p:spPr>
      </p:pic>
      <p:pic>
        <p:nvPicPr>
          <p:cNvPr id="6524" name="Picture 3" descr="G:\АВРОРА ДОКИ\ЦЕНТР\000. ЦПР АНАЛИЗ\ЦПР К РОЛИКУ ФОТО\ЦПР 5\DSC03721.JPG"/>
          <p:cNvPicPr/>
          <p:nvPr/>
        </p:nvPicPr>
        <p:blipFill>
          <a:blip r:embed="rId2"/>
          <a:stretch/>
        </p:blipFill>
        <p:spPr>
          <a:xfrm>
            <a:off x="436680" y="3141720"/>
            <a:ext cx="4381560" cy="2467080"/>
          </a:xfrm>
          <a:prstGeom prst="rect">
            <a:avLst/>
          </a:prstGeom>
          <a:ln w="0">
            <a:noFill/>
          </a:ln>
        </p:spPr>
      </p:pic>
      <p:pic>
        <p:nvPicPr>
          <p:cNvPr id="6525" name="Picture 4" descr="G:\АВРОРА ДОКИ\ЦЕНТР\000. ЦПР АНАЛИЗ\ЦПР К РОЛИКУ ФОТО\ЦПР 5\DSC03450.JPG"/>
          <p:cNvPicPr/>
          <p:nvPr/>
        </p:nvPicPr>
        <p:blipFill>
          <a:blip r:embed="rId3"/>
          <a:stretch/>
        </p:blipFill>
        <p:spPr>
          <a:xfrm>
            <a:off x="4140360" y="3789360"/>
            <a:ext cx="46497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Динамика кол-ва детей в ЦП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7" name=""/>
          <p:cNvGraphicFramePr/>
          <p:nvPr/>
        </p:nvGraphicFramePr>
        <p:xfrm>
          <a:off x="108000" y="1916280"/>
          <a:ext cx="8856720" cy="2808000"/>
        </p:xfrm>
        <a:graphic>
          <a:graphicData uri="http://schemas.openxmlformats.org/drawingml/2006/table">
            <a:tbl>
              <a:tblPr/>
              <a:tblGrid>
                <a:gridCol w="731880"/>
                <a:gridCol w="733320"/>
                <a:gridCol w="731880"/>
                <a:gridCol w="731880"/>
                <a:gridCol w="731880"/>
                <a:gridCol w="731880"/>
                <a:gridCol w="718920"/>
                <a:gridCol w="720720"/>
                <a:gridCol w="720720"/>
                <a:gridCol w="719280"/>
                <a:gridCol w="792000"/>
                <a:gridCol w="792360"/>
              </a:tblGrid>
              <a:tr h="1668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2-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3-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4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5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6-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7-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0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8" name=""/>
          <p:cNvGraphicFramePr/>
          <p:nvPr/>
        </p:nvGraphicFramePr>
        <p:xfrm>
          <a:off x="108000" y="1197000"/>
          <a:ext cx="8928000" cy="5465880"/>
        </p:xfrm>
        <a:graphic>
          <a:graphicData uri="http://schemas.openxmlformats.org/drawingml/2006/table">
            <a:tbl>
              <a:tblPr/>
              <a:tblGrid>
                <a:gridCol w="6230880"/>
                <a:gridCol w="2697120"/>
              </a:tblGrid>
              <a:tr h="35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гн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-71 (умеренная умственная отстал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     (1-с-м Рет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-70 (У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(4- с-м Дау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РДА и РАС (растр-ва аутистического спект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ДЦ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Сочетанные дефекты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стан.  нару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СДВГ (с-м дефицита внимания с гиперактивностью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стан.   нару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Нейросенсорная тугоух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Алалия (отсутствие реч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ЗПРР (задержка психоречевого разви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ЗПР (задержка психического разви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ЗРР (задержка речевого разви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Эпилеп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9" name="Rectangle 184"/>
          <p:cNvSpPr/>
          <p:nvPr/>
        </p:nvSpPr>
        <p:spPr>
          <a:xfrm>
            <a:off x="395280" y="120600"/>
            <a:ext cx="8497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Соотношение диагностических параметров развит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етей ЦПР «ЭМПАТИЯ» </a:t>
            </a:r>
            <a:r>
              <a:rPr b="0" i="1" lang="ru-RU" sz="1800" spc="-1" strike="noStrike">
                <a:solidFill>
                  <a:srgbClr val="0000ff"/>
                </a:solidFill>
                <a:latin typeface="Tahoma"/>
              </a:rPr>
              <a:t>(при ЧОУ школа «Аврора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20.09.2018г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Всего 97 чел.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0" name=""/>
          <p:cNvSpPr txBox="1"/>
          <p:nvPr/>
        </p:nvSpPr>
        <p:spPr>
          <a:xfrm>
            <a:off x="250560" y="33336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Основная цель ЦП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казание своевременно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как можно, более ранней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ррекционной помощ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тям с О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1" name=""/>
          <p:cNvSpPr txBox="1"/>
          <p:nvPr/>
        </p:nvSpPr>
        <p:spPr>
          <a:xfrm>
            <a:off x="107640" y="115560"/>
            <a:ext cx="8785080" cy="643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сновные направления деятельности специалистов Цент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ышение социальной активности, развитие самостоятельности, укрепление и развитие личности реб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положительных динамических изменений в развитии ребенка (с учетом его потенциальных возможностей и участия родителей в коррекционном процесс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обучение родителей, воспитывающих детей со специальными образовательными потребностями, навыкам коррекционной работы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0:08:22Z</dcterms:created>
  <dc:creator>Андрей</dc:creator>
  <dc:description/>
  <dc:language>en-US</dc:language>
  <cp:lastModifiedBy>Emirovna</cp:lastModifiedBy>
  <cp:lastPrinted>2015-09-18T01:53:57Z</cp:lastPrinted>
  <dcterms:modified xsi:type="dcterms:W3CDTF">2018-10-02T11:11:13Z</dcterms:modified>
  <cp:revision>97</cp:revision>
  <dc:subject/>
  <dc:title>Специфика организации коррекционно - развивающей  работы с детьми, имеющими выраженные нарушения ЦН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