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8D2-136F-4EFE-82F3-C16DEC5A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79C-9749-4F6B-9ACE-DD3AAFE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B8D-EEF2-45C5-BF93-A59C74ED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3DF-C8EC-43C5-A267-3CBB7A81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A67C-04FF-4FFF-81F2-0CAF5C4C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05FD-4658-4F3D-BE91-3D95BFEF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0F9F-6C84-4319-A936-EA901B72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D9AE-453A-4FE7-B10B-6EC85E63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B615-5CCF-49CE-ACCF-DB51E54B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0870-F04C-46B8-B6C4-574C51D1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7A86-2AAA-49A4-B2D6-FE044358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9FE-AD54-4B8B-80D6-145EC41A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C28A-6272-45E5-A297-798DCBDA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5410-4466-4EA8-830B-F55B70EE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D9B0-D6C2-483B-B873-8BB109E7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F75A-01EB-40D3-9436-D25BA6DF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1F2F-9AF1-413D-8A08-9F47FF21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E0F-86FA-48CA-8457-60521720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147-6872-49EF-9BC4-67622854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325-A3AD-40F9-AA59-91D457BE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CF7-4456-4DDA-9D06-1B9B8D04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97E-1E0C-43AF-B093-137C17DF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DFD-46C1-4BF9-9729-96A6C250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0C8-C278-420C-88E2-1781B4D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4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2560" y="2514600"/>
            <a:ext cx="66002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8"/>
          <p:cNvSpPr/>
          <p:nvPr/>
        </p:nvSpPr>
        <p:spPr>
          <a:xfrm>
            <a:off x="-31680" y="4321080"/>
            <a:ext cx="1395000" cy="781560"/>
          </a:xfrm>
          <a:custGeom>
            <a:avLst/>
            <a:gdLst>
              <a:gd name="textAreaLeft" fmla="*/ 0 w 1395000"/>
              <a:gd name="textAreaRight" fmla="*/ 1395360 w 1395000"/>
              <a:gd name="textAreaTop" fmla="*/ 0 h 781560"/>
              <a:gd name="textAreaBottom" fmla="*/ 781920 h 78156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423360" y="452952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1AD198-5BDB-4407-A57D-E156D47972D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83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FBAE9C-BFC0-47CB-81CD-AA07F7DA239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anki.ru/wikibank/%DE%F0%E8%E4%E8%F7%E5%F1%EA%EE%E5+%EB%E8%F6%EE/" TargetMode="External"/><Relationship Id="rId2" Type="http://schemas.openxmlformats.org/officeDocument/2006/relationships/hyperlink" Target="http://base.garant.ru/12154854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92640"/>
            <a:ext cx="7772040" cy="290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Малое и среднее предпринимательство как модели ведения бизнес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4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15640" y="188640"/>
            <a:ext cx="8028000" cy="57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Малым и средним бизнесом вправе заниматься лишь лица, за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регистрированные в качестве предпринимателя без образования юридического лица, и юридические лица, которые создаются, функционируют и прекращаются в особом порядке, установленном законодательством. Организации — участники рынка различаются по форме собственности, способам создания, характеру деятельности и т.д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624240"/>
            <a:ext cx="8136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Общие признаки, которые позволяют отнести их к числу юридических лиц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700640"/>
            <a:ext cx="76345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рганизационное единство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имущественная обособленность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амостоятельная имущественная ответственность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ыступление в гражданском обороте от собственного имени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3640" y="188640"/>
            <a:ext cx="792036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Государственное регулирование малого и среднего бизнеса – это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комплекс мероприятий форм и методов государственного влияния на деятельность субъектов предпринимательства с целю создания нормальных условий их функционирования и развития, ослабления отрицательных тенденций, вызываемых коммерческой деятельностью осуществляемых предприятиями в условиях рыночных отношений. 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88640"/>
            <a:ext cx="817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Содержание государственного регулирования малого и среднего бизнеса определяется целями государственного регулирования экономики, среди которых следует выделить следующие: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устойчивый экономический рост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высокий уровень занят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изкий уровень инфляци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устойчивое финансовое положение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праведливое распределение доход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табильность внешнеэкономической деятельности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9640" y="188640"/>
            <a:ext cx="7274520" cy="17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Реализация целей государственного регулирования малого и среднего бизнеса осуществляется постановкой и решением конкретных задач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7640" y="2133720"/>
            <a:ext cx="8676000" cy="44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оздание правовых основ функционирования рыночного хозяйства;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беспечение развития предпринимательской инфраструктуры;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беспечение соблюдения правил конкуренции;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казание содействия предпринимательской деятельности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5120" y="228600"/>
            <a:ext cx="8138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Исходя из целей и задач государственного регулирования малого и среднего бизнеса можно предложить следующую классификацию его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направлений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3640" y="2133720"/>
            <a:ext cx="846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формирование правовой базы предпринимательской деятельн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защита конкуренции и ограничение монополистической деятельн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защита прав потребителей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гламентирование трудовых отношений и поддержание социального партнерства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формирование налоговой системы и перераспределение доход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ерераспределение ресурс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гулирование цен и тариф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государственная поддержка отдельных видов бизнеса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государственное регламентирование внешнеторговой деятельн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гулирование валютного курса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259640" y="503640"/>
            <a:ext cx="749052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Методы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государственного регулирования малого и среднего бизнес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 разделяются на: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косвенные (экономические)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прямые (административные)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59640" y="188640"/>
            <a:ext cx="788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косвенным методам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регулирования относятся денежно-кредитная, бюджетная, налоговая и внешнеэкономическая политика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00240" indent="-3002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1. Денежно-кредитная политика основывается на регулировании реального предложения денег в экономике, т.е. денежной массы. Основными инструментами, которыми оперирует Центральный банк, являются учетная ставка, норма обязательных резервов и операции по покупке-продаже государственных ценных бумаг на открытом рынке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00240" indent="-3002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2. Проведение бюджетной политики позволяет реализовать три основные функции — фискальную, регулирующую и распределительную. Фискальная функция позволяет государству создавать денежную базу функционирования государственного аппарата; функция регулирования предусматривает проведение определенной политики в экономической сфере; распределительная функция несет в себе возможность активного государственного регулирования в социальной сфере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00240" indent="-3002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3. Налоговая политика является важнейшей составляющей в системе методов государственного регулирования и определяет возможности бюджетной политики. Экономическая и фискальная функции налогов связывают воедино обязанности предпринимателей и государства. 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87640" y="692640"/>
            <a:ext cx="7956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4. Внешнеэкономическая политика как косвенный метод государственного регулирования малого и среднего бизнеса включает в себя три основные группы инструментов: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бщие, направленные на усиление позиций в мировой экономике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пециальные, направленные на развитие определенных видов деятельности;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тимулирующие, направленные на прямую поддержку государством экспорта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31640" y="476640"/>
            <a:ext cx="720252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 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прямым методам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 регулирования относятся правовые методы, система ценообразования, режим квотирования, политика доходов, лицензирования.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785052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3600" spc="-1" strike="noStrike" u="sng">
                <a:solidFill>
                  <a:srgbClr val="0d0d0d"/>
                </a:solidFill>
                <a:uFillTx/>
                <a:latin typeface="Times New Roman"/>
              </a:rPr>
              <a:t>Малый бизнес (или малое предпринимательство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) — сектор экономики, включающий в себя индивидуальное и малое предпринимательство, условное название совокупности малых и средних предприятий, ограниченных определенными правовыми нормами.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188640"/>
            <a:ext cx="8066520" cy="57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Малые и средние предприятия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- это внесенные в Единый государственный реестр </a:t>
            </a:r>
            <a:r>
              <a:rPr b="0" lang="ru-RU" sz="2400" spc="-1" strike="noStrike" u="sng">
                <a:solidFill>
                  <a:srgbClr val="fb5324"/>
                </a:solidFill>
                <a:uFillTx/>
                <a:latin typeface="Times New Roman"/>
                <a:hlinkClick r:id="rId1"/>
              </a:rPr>
              <a:t>юридических лиц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потребительские кооперативы и коммерческие организации (за исключением государственных и муниципальных унитарных предприятий), а также физические лица, внесенные в Единый госреестр индивидуальных предпринимателей и осуществляющие предпринимательскую деятельност без образования юридического лица (далее — индивидуальные предприниматели), крестьянские (фермерские) хозяйства, соответствующие условиям, перечисленным в Федеральном законе от 24 июля 2007 года </a:t>
            </a:r>
            <a:r>
              <a:rPr b="0" lang="ru-RU" sz="2400" spc="-1" strike="noStrike" u="sng">
                <a:solidFill>
                  <a:srgbClr val="fb5324"/>
                </a:solidFill>
                <a:uFillTx/>
                <a:latin typeface="Times New Roman"/>
                <a:hlinkClick r:id="rId2"/>
              </a:rPr>
              <a:t>№ 209-ФЗ 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«О развитии малого и среднего предприниьмательства в Российской Федерации»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7640" y="188640"/>
            <a:ext cx="7346520" cy="57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ритерии для отнесения предприятий к малому или среднему бизнесу: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остав учредителей,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бъем выручки ,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численный состав сотрудников.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3640" y="332640"/>
            <a:ext cx="7527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Относительно состава учредителей в законе говорится о том, что доля участия государства, иностранных юридических лиц и иностранных граждан, общественных и религиозных организаций или объединений, благотворительных и иных фондов в уставном (складочном) капитале (паевом фонде) юридических лиц не должна превышать 25%. Исключение сделано для активов акционерных инвестиционных фондов и закрытых паевых инвестиционных фондов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Кроме того, доля участия, принадлежащая одному или нескольким юридическим лицам, не являющимся субъектами малого и среднего предпринимательства, не должна превышать также 25%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640" y="260640"/>
            <a:ext cx="853200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ричем эти ограничения не распространяются на хозяйственные общества, деятельность которых заключается в практическом применении и внедрении результатов интеллектуальной деятельности, таких как программ для электронных вычислительных машин, баз данных, изобретений, полезных моделей, промышленных образцов, селекционных достижений, топологий интегральных микросхем, секретов производства (ноу-хау), исключительные права на которые принадлежат учредителям таких хозяйственных обществ - бюджетным научным учреждениям, созданным государственными академиями наук научным учреждениям либо бюджетным образовательным учреждениям высшего профессионального образования, созданным государственными академиями наук образовательным учреждениям высшего профессионального образования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03640" y="0"/>
            <a:ext cx="7560360" cy="591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По среднесписочной численности сотрудников предприятия делятся на три категории: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100-250 человек – среднее предприятие, 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15-99 – малое предприятие, 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до 15 – микропредприятие.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75640" y="188640"/>
            <a:ext cx="7058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Третий критерий признания предприятия относящимся к малому и среднему бизнесу – объем выручки или балансовая стоимость активов – в зависимости от того, что больше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Закон предписывает правительству не реже одного раза в пять лет устанавливать предельные значения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- средние предприятия – 1 млрд рублей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- малые предприятия - 400 млн рублей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- микропредприятия - 60 млн рублей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99640" y="188640"/>
            <a:ext cx="76345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Отличительные признаки предпринимательской деятельности: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существление определенной деятельности — продажа товаров, выполнение работ, оказание услуг, — а также извлечение дохода от использования имущества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целевая направленность, т.е. получение прибыли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истематичность осуществления определенной деятельности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амостоятельность и инициативность в ее осуществлении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существление определенной деятельности на свой риск и под ответственность всем своим имуществом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33</TotalTime>
  <Application>LibreOffice/7.4.7.2$Linux_X86_64 LibreOffice_project/40$Build-2</Application>
  <AppVersion>15.0000</AppVersion>
  <Words>687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6:10:06Z</dcterms:created>
  <dc:creator>ТАТЬЯНА</dc:creator>
  <dc:description/>
  <dc:language>en-US</dc:language>
  <cp:lastModifiedBy>eldorado</cp:lastModifiedBy>
  <dcterms:modified xsi:type="dcterms:W3CDTF">2015-10-11T17:14:45Z</dcterms:modified>
  <cp:revision>4</cp:revision>
  <dc:subject/>
  <dc:title>Малое и среднее предпринимательство как модели ведения бизне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