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6467-8DFC-4914-A8FB-45DEC773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BA1-3724-4189-A109-A2D8E250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FD8-33ED-45CE-AD9B-D7AE2660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40008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94256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417132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40008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C631-31F7-4C83-97D0-94B801D6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F0E5-A370-4B5A-A571-27C5BBCD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1937-F776-4230-908F-29CE379F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6C8E-D820-44E4-BD59-DF255F11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10A7-504D-4464-8491-684F762E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7693-14C0-440E-89D0-5DAF71B9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945080" y="624240"/>
            <a:ext cx="658872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6F78-8A95-466D-B22B-72A07258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B19A-94B2-48E7-BFD6-8425F061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781D-464C-4F0E-AC4F-431C0DBF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9FC5-1B01-4410-9A75-3F570B91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E8E5-5B5A-4681-B4A9-E9523A67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B820-B29D-44BC-A074-C9724D2F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D173-3C9F-4B84-9C8E-4829262D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0008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94256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17132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0008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BB38-FA2F-4B49-A922-1284252F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262F-A2E2-45ED-A726-0E4F8314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4436-3369-4200-AD6B-9403CD47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1EDD-DBDA-45FA-86EE-B6CAB42C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945080" y="624240"/>
            <a:ext cx="658872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6DB8-E861-4F2C-8465-91C30AC2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3655-9D14-47FA-A07E-50EFD2BE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275D-B62F-4BA0-9CA6-E31D1B05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00A0-8318-4821-8923-95D89439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0720" cy="6638400"/>
            <a:chOff x="0" y="228600"/>
            <a:chExt cx="1980720" cy="663840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480" cy="625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8920" cy="2322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000" cy="141984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376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600" cy="332820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440" cy="2927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000" cy="493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960" y="5478840"/>
              <a:ext cx="131760" cy="10245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160" cy="4047840"/>
            </a:xfrm>
            <a:custGeom>
              <a:avLst/>
              <a:gdLst>
                <a:gd name="textAreaLeft" fmla="*/ 0 w 1442160"/>
                <a:gd name="textAreaRight" fmla="*/ 1442520 w 14421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6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960" y="5359320"/>
              <a:ext cx="25560" cy="221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560"/>
              <a:ext cx="165240" cy="622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360"/>
            <a:ext cx="1951920" cy="6852600"/>
            <a:chOff x="20520" y="360"/>
            <a:chExt cx="1951920" cy="6852600"/>
          </a:xfrm>
        </p:grpSpPr>
        <p:sp>
          <p:nvSpPr>
            <p:cNvPr id="14" name="Freeform 27"/>
            <p:cNvSpPr/>
            <p:nvPr/>
          </p:nvSpPr>
          <p:spPr>
            <a:xfrm>
              <a:off x="20520" y="36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600" y="4316400"/>
              <a:ext cx="350280" cy="15804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600"/>
              <a:ext cx="356760" cy="990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6840" cy="2235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9160"/>
              <a:ext cx="144000" cy="30268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8720" y="6571440"/>
              <a:ext cx="110880" cy="2811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2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7840" cy="2716560"/>
            </a:xfrm>
            <a:custGeom>
              <a:avLst/>
              <a:gdLst>
                <a:gd name="textAreaLeft" fmla="*/ 0 w 1167840"/>
                <a:gd name="textAreaRight" fmla="*/ 1168200 w 116784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040" y="660024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3760" cy="67392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320" cy="2275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240" cy="5302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2560" y="2514600"/>
            <a:ext cx="6600240" cy="226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dt" idx="1"/>
          </p:nvPr>
        </p:nvSpPr>
        <p:spPr>
          <a:xfrm>
            <a:off x="7772400" y="6135120"/>
            <a:ext cx="766080" cy="3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ftr" idx="2"/>
          </p:nvPr>
        </p:nvSpPr>
        <p:spPr>
          <a:xfrm>
            <a:off x="1942560" y="6135840"/>
            <a:ext cx="5716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Freeform 8"/>
          <p:cNvSpPr/>
          <p:nvPr/>
        </p:nvSpPr>
        <p:spPr>
          <a:xfrm>
            <a:off x="-31680" y="4321080"/>
            <a:ext cx="1395000" cy="781560"/>
          </a:xfrm>
          <a:custGeom>
            <a:avLst/>
            <a:gdLst>
              <a:gd name="textAreaLeft" fmla="*/ 0 w 1395000"/>
              <a:gd name="textAreaRight" fmla="*/ 1395360 w 1395000"/>
              <a:gd name="textAreaTop" fmla="*/ 0 h 781560"/>
              <a:gd name="textAreaBottom" fmla="*/ 781920 h 781560"/>
            </a:gdLst>
            <a:ahLst/>
            <a:rect l="textAreaLeft" t="textAreaTop" r="textAreaRight" b="textAreaBottom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3"/>
          </p:nvPr>
        </p:nvSpPr>
        <p:spPr>
          <a:xfrm>
            <a:off x="423360" y="4529520"/>
            <a:ext cx="584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208F3A-76DE-43DE-B91F-2B6C85586EAC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5"/>
          <p:cNvGrpSpPr/>
          <p:nvPr/>
        </p:nvGrpSpPr>
        <p:grpSpPr>
          <a:xfrm>
            <a:off x="0" y="228600"/>
            <a:ext cx="1980720" cy="6638400"/>
            <a:chOff x="0" y="228600"/>
            <a:chExt cx="1980720" cy="6638400"/>
          </a:xfrm>
        </p:grpSpPr>
        <p:sp>
          <p:nvSpPr>
            <p:cNvPr id="70" name="Freeform 11"/>
            <p:cNvSpPr/>
            <p:nvPr/>
          </p:nvSpPr>
          <p:spPr>
            <a:xfrm>
              <a:off x="0" y="2575080"/>
              <a:ext cx="69480" cy="625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89280" y="3156480"/>
              <a:ext cx="448920" cy="2322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560520" y="5447160"/>
              <a:ext cx="423000" cy="141984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666720" y="650376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69840" y="3201120"/>
              <a:ext cx="570600" cy="332820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15480" y="228600"/>
              <a:ext cx="73440" cy="2927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54360" y="2944080"/>
              <a:ext cx="54000" cy="493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534960" y="5478840"/>
              <a:ext cx="131760" cy="10245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538560" y="1398960"/>
              <a:ext cx="1442160" cy="4047840"/>
            </a:xfrm>
            <a:custGeom>
              <a:avLst/>
              <a:gdLst>
                <a:gd name="textAreaLeft" fmla="*/ 0 w 1442160"/>
                <a:gd name="textAreaRight" fmla="*/ 1442520 w 14421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40800" y="6530040"/>
              <a:ext cx="112320" cy="336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534960" y="5359320"/>
              <a:ext cx="25560" cy="221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590400" y="6244560"/>
              <a:ext cx="165240" cy="622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48"/>
          <p:cNvGrpSpPr/>
          <p:nvPr/>
        </p:nvGrpSpPr>
        <p:grpSpPr>
          <a:xfrm>
            <a:off x="20520" y="360"/>
            <a:ext cx="1951920" cy="6852600"/>
            <a:chOff x="20520" y="360"/>
            <a:chExt cx="1951920" cy="6852600"/>
          </a:xfrm>
        </p:grpSpPr>
        <p:sp>
          <p:nvSpPr>
            <p:cNvPr id="83" name="Freeform 27"/>
            <p:cNvSpPr/>
            <p:nvPr/>
          </p:nvSpPr>
          <p:spPr>
            <a:xfrm>
              <a:off x="20520" y="36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453600" y="4316400"/>
              <a:ext cx="350280" cy="15804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831600" y="5862600"/>
              <a:ext cx="356760" cy="990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429840" y="4364280"/>
              <a:ext cx="456840" cy="2235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385560" y="1289160"/>
              <a:ext cx="144000" cy="30268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918720" y="6571440"/>
              <a:ext cx="110880" cy="2811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414000" y="4107600"/>
              <a:ext cx="68040" cy="5112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804600" y="3145680"/>
              <a:ext cx="1167840" cy="2716560"/>
            </a:xfrm>
            <a:custGeom>
              <a:avLst/>
              <a:gdLst>
                <a:gd name="textAreaLeft" fmla="*/ 0 w 1167840"/>
                <a:gd name="textAreaRight" fmla="*/ 1168200 w 116784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887040" y="660024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804600" y="5897160"/>
              <a:ext cx="113760" cy="67392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804600" y="5772600"/>
              <a:ext cx="31320" cy="2275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>
              <a:off x="831600" y="6322680"/>
              <a:ext cx="174240" cy="5302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61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120"/>
            <a:ext cx="766080" cy="3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560" y="6135840"/>
            <a:ext cx="5716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11"/>
          <p:cNvSpPr/>
          <p:nvPr/>
        </p:nvSpPr>
        <p:spPr>
          <a:xfrm flipV="1">
            <a:off x="0" y="711000"/>
            <a:ext cx="1357920" cy="507600"/>
          </a:xfrm>
          <a:custGeom>
            <a:avLst/>
            <a:gdLst>
              <a:gd name="textAreaLeft" fmla="*/ 0 w 1357920"/>
              <a:gd name="textAreaRight" fmla="*/ 1358280 w 1357920"/>
              <a:gd name="textAreaTop" fmla="*/ 360 h 507600"/>
              <a:gd name="textAreaBottom" fmla="*/ 508320 h 50760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511200" y="787680"/>
            <a:ext cx="584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2E7D16-E3C2-4AD8-93C7-FD7A72DABA75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anki.ru/wikibank/%DE%F0%E8%E4%E8%F7%E5%F1%EA%EE%E5+%EB%E8%F6%EE/" TargetMode="External"/><Relationship Id="rId2" Type="http://schemas.openxmlformats.org/officeDocument/2006/relationships/hyperlink" Target="http://base.garant.ru/12154854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92640"/>
            <a:ext cx="7772040" cy="290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Century Gothic"/>
              </a:rPr>
              <a:t>Малое и среднее предпринимательство как модели ведения бизнеса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4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entury Gothic"/>
              </a:rPr>
              <a:t>л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115640" y="188640"/>
            <a:ext cx="8028000" cy="57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2800" spc="-1" strike="noStrike" u="sng">
                <a:solidFill>
                  <a:srgbClr val="0d0d0d"/>
                </a:solidFill>
                <a:uFillTx/>
                <a:latin typeface="Times New Roman"/>
              </a:rPr>
              <a:t>Малым и средним бизнесом вправе заниматься лишь лица, за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регистрированные в качестве предпринимателя без образования юридического лица, и юридические лица, которые создаются, функционируют и прекращаются в особом порядке, установленном законодательством. Организации — участники рынка различаются по форме собственности, способам создания, характеру деятельности и т.д. 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624240"/>
            <a:ext cx="8136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1" lang="ru-RU" sz="3600" spc="-1" strike="noStrike">
                <a:solidFill>
                  <a:srgbClr val="262626"/>
                </a:solidFill>
                <a:latin typeface="Times New Roman"/>
              </a:rPr>
              <a:t>Общие признаки, которые позволяют отнести их к числу юридических лиц: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99640" y="1700640"/>
            <a:ext cx="763452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организационное единство;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имущественная обособленность;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самостоятельная имущественная ответственность;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выступление в гражданском обороте от собственного имени.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43640" y="188640"/>
            <a:ext cx="7920360" cy="64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2400" spc="-1" strike="noStrike" u="sng">
                <a:solidFill>
                  <a:srgbClr val="0d0d0d"/>
                </a:solidFill>
                <a:uFillTx/>
                <a:latin typeface="Times New Roman"/>
              </a:rPr>
              <a:t>Государственное регулирование малого и среднего бизнеса – это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 комплекс мероприятий форм и методов государственного влияния на деятельность субъектов предпринимательства с целю создания нормальных условий их функционирования и развития, ослабления отрицательных тенденций, вызываемых коммерческой деятельностью осуществляемых предприятиями в условиях рыночных отношений. 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640" y="188640"/>
            <a:ext cx="8172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Содержание государственного регулирования малого и среднего бизнеса определяется целями государственного регулирования экономики, среди которых следует выделить следующие: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устойчивый экономический рост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высокий уровень занятости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низкий уровень инфляции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устойчивое финансовое положение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справедливое распределение доходов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стабильность внешнеэкономической деятельности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9640" y="188640"/>
            <a:ext cx="7274520" cy="17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Реализация целей государственного регулирования малого и среднего бизнеса осуществляется постановкой и решением конкретных задач: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7640" y="2133720"/>
            <a:ext cx="8676000" cy="446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создание правовых основ функционирования рыночного хозяйства;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обеспечение развития предпринимательской инфраструктуры;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обеспечение соблюдения правил конкуренции;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оказание содействия предпринимательской деятельности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5120" y="228600"/>
            <a:ext cx="81385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Исходя из целей и задач государственного регулирования малого и среднего бизнеса можно предложить следующую классификацию его 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</a:rPr>
              <a:t>направлений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: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3640" y="2133720"/>
            <a:ext cx="84600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42720" indent="-342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формирование правовой базы предпринимательской деятельности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2720" indent="-342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защита конкуренции и ограничение монополистической деятельности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2720" indent="-342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защита прав потребителей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2720" indent="-342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регламентирование трудовых отношений и поддержание социального партнерства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2720" indent="-342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формирование налоговой системы и перераспределение доходов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2720" indent="-342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перераспределение ресурсов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2720" indent="-342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регулирование цен и тарифов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2720" indent="-342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государственная поддержка отдельных видов бизнеса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2720" indent="-342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государственное регламентирование внешнеторговой деятельности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2720" indent="-342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регулирование валютного курса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259640" y="503640"/>
            <a:ext cx="7490520" cy="63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</a:rPr>
              <a:t>Методы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 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</a:rPr>
              <a:t>государственного регулирования малого и среднего бизнеса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 разделяются на: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косвенные (экономические) 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прямые (административные). 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259640" y="188640"/>
            <a:ext cx="788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К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косвенным методам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 регулирования относятся денежно-кредитная, бюджетная, налоговая и внешнеэкономическая политика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00240" indent="-3002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1. Денежно-кредитная политика основывается на регулировании реального предложения денег в экономике, т.е. денежной массы. Основными инструментами, которыми оперирует Центральный банк, являются учетная ставка, норма обязательных резервов и операции по покупке-продаже государственных ценных бумаг на открытом рынке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00240" indent="-3002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2. Проведение бюджетной политики позволяет реализовать три основные функции — фискальную, регулирующую и распределительную. Фискальная функция позволяет государству создавать денежную базу функционирования государственного аппарата; функция регулирования предусматривает проведение определенной политики в экономической сфере; распределительная функция несет в себе возможность активного государственного регулирования в социальной сфере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00240" indent="-3002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3. Налоговая политика является важнейшей составляющей в системе методов государственного регулирования и определяет возможности бюджетной политики. Экономическая и фискальная функции налогов связывают воедино обязанности предпринимателей и государства. 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187640" y="692640"/>
            <a:ext cx="79560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4. Внешнеэкономическая политика как косвенный метод государственного регулирования малого и среднего бизнеса включает в себя три основные группы инструментов: 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общие, направленные на усиление позиций в мировой экономике;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специальные, направленные на развитие определенных видов деятельности; 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стимулирующие, направленные на прямую поддержку государством экспорта.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331640" y="476640"/>
            <a:ext cx="720252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К </a:t>
            </a:r>
            <a:r>
              <a:rPr b="1" lang="ru-RU" sz="3200" spc="-1" strike="noStrike">
                <a:solidFill>
                  <a:srgbClr val="0d0d0d"/>
                </a:solidFill>
                <a:latin typeface="Times New Roman"/>
              </a:rPr>
              <a:t>прямым методам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 регулирования относятся правовые методы, система ценообразования, режим квотирования, политика доходов, лицензирования.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3640" y="260640"/>
            <a:ext cx="785052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3600" spc="-1" strike="noStrike" u="sng">
                <a:solidFill>
                  <a:srgbClr val="0d0d0d"/>
                </a:solidFill>
                <a:uFillTx/>
                <a:latin typeface="Times New Roman"/>
              </a:rPr>
              <a:t>Малый бизнес (или малое предпринимательство</a:t>
            </a:r>
            <a:r>
              <a:rPr b="0" lang="ru-RU" sz="3600" spc="-1" strike="noStrike">
                <a:solidFill>
                  <a:srgbClr val="0d0d0d"/>
                </a:solidFill>
                <a:latin typeface="Times New Roman"/>
              </a:rPr>
              <a:t>) — сектор экономики, включающий в себя индивидуальное и малое предпринимательство, условное название совокупности малых и средних предприятий, ограниченных определенными правовыми нормами.</a:t>
            </a:r>
            <a:endParaRPr b="0" lang="ru-RU" sz="3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7640" y="188640"/>
            <a:ext cx="8066520" cy="57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Малые и средние предприятия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 - это внесенные в Единый государственный реестр </a:t>
            </a:r>
            <a:r>
              <a:rPr b="0" lang="ru-RU" sz="2400" spc="-1" strike="noStrike" u="sng">
                <a:solidFill>
                  <a:srgbClr val="fb5324"/>
                </a:solidFill>
                <a:uFillTx/>
                <a:latin typeface="Times New Roman"/>
                <a:hlinkClick r:id="rId1"/>
              </a:rPr>
              <a:t>юридических лиц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 потребительские кооперативы и коммерческие организации (за исключением государственных и муниципальных унитарных предприятий), а также физические лица, внесенные в Единый госреестр индивидуальных предпринимателей и осуществляющие предпринимательскую деятельност без образования юридического лица (далее — индивидуальные предприниматели), крестьянские (фермерские) хозяйства, соответствующие условиям, перечисленным в Федеральном законе от 24 июля 2007 года </a:t>
            </a:r>
            <a:r>
              <a:rPr b="0" lang="ru-RU" sz="2400" spc="-1" strike="noStrike" u="sng">
                <a:solidFill>
                  <a:srgbClr val="fb5324"/>
                </a:solidFill>
                <a:uFillTx/>
                <a:latin typeface="Times New Roman"/>
                <a:hlinkClick r:id="rId2"/>
              </a:rPr>
              <a:t>№ 209-ФЗ 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«О развитии малого и среднего предприниьмательства в Российской Федерации»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87640" y="188640"/>
            <a:ext cx="7346520" cy="57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Критерии для отнесения предприятий к малому или среднему бизнесу: 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состав учредителей, 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объем выручки ,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численный состав сотрудников.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3640" y="332640"/>
            <a:ext cx="7527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Относительно состава учредителей в законе говорится о том, что доля участия государства, иностранных юридических лиц и иностранных граждан, общественных и религиозных организаций или объединений, благотворительных и иных фондов в уставном (складочном) капитале (паевом фонде) юридических лиц не должна превышать 25%. Исключение сделано для активов акционерных инвестиционных фондов и закрытых паевых инвестиционных фондов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Кроме того, доля участия, принадлежащая одному или нескольким юридическим лицам, не являющимся субъектами малого и среднего предпринимательства, не должна превышать также 25%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1640" y="260640"/>
            <a:ext cx="8532000" cy="64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Причем эти ограничения не распространяются на хозяйственные общества, деятельность которых заключается в практическом применении и внедрении результатов интеллектуальной деятельности, таких как программ для электронных вычислительных машин, баз данных, изобретений, полезных моделей, промышленных образцов, селекционных достижений, топологий интегральных микросхем, секретов производства (ноу-хау), исключительные права на которые принадлежат учредителям таких хозяйственных обществ - бюджетным научным учреждениям, созданным государственными академиями наук научным учреждениям либо бюджетным образовательным учреждениям высшего профессионального образования, созданным государственными академиями наук образовательным учреждениям высшего профессионального образования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403640" y="0"/>
            <a:ext cx="7560360" cy="591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</a:rPr>
              <a:t>По среднесписочной численности сотрудников предприятия делятся на три категории:</a:t>
            </a:r>
            <a:endParaRPr b="0" lang="ru-RU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d0d0d"/>
                </a:solidFill>
                <a:latin typeface="Times New Roman"/>
              </a:rPr>
              <a:t>100-250 человек – среднее предприятие, </a:t>
            </a:r>
            <a:endParaRPr b="0" lang="ru-RU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</a:rPr>
              <a:t>15-99 – малое предприятие, </a:t>
            </a:r>
            <a:endParaRPr b="0" lang="ru-RU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</a:rPr>
              <a:t>до 15 – микропредприятие.</a:t>
            </a:r>
            <a:endParaRPr b="0" lang="ru-RU" sz="3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475640" y="188640"/>
            <a:ext cx="70585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Третий критерий признания предприятия относящимся к малому и среднему бизнесу – объем выручки или балансовая стоимость активов – в зависимости от того, что больше. 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Закон предписывает правительству не реже одного раза в пять лет устанавливать предельные значения. 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- средние предприятия – 1 млрд рублей;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- малые предприятия - 400 млн рублей;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- микропредприятия - 60 млн рублей.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99640" y="188640"/>
            <a:ext cx="7634520" cy="59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2800" spc="-1" strike="noStrike" u="sng">
                <a:solidFill>
                  <a:srgbClr val="0d0d0d"/>
                </a:solidFill>
                <a:uFillTx/>
                <a:latin typeface="Times New Roman"/>
              </a:rPr>
              <a:t>Отличительные признаки предпринимательской деятельности: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осуществление определенной деятельности — продажа товаров, выполнение работ, оказание услуг, — а также извлечение дохода от использования имущества;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целевая направленность, т.е. получение прибыли;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систематичность осуществления определенной деятельности;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самостоятельность и инициативность в ее осуществлении;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осуществление определенной деятельности на свой риск и под ответственность всем своим имуществом.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isp</Template>
  <TotalTime>33</TotalTime>
  <Application>LibreOffice/7.4.7.2$Linux_X86_64 LibreOffice_project/40$Build-2</Application>
  <AppVersion>15.0000</AppVersion>
  <Words>687</Words>
  <Paragraphs>6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1T16:10:06Z</dcterms:created>
  <dc:creator>ТАТЬЯНА</dc:creator>
  <dc:description/>
  <dc:language>en-US</dc:language>
  <cp:lastModifiedBy>eldorado</cp:lastModifiedBy>
  <dcterms:modified xsi:type="dcterms:W3CDTF">2015-10-11T17:14:45Z</dcterms:modified>
  <cp:revision>4</cp:revision>
  <dc:subject/>
  <dc:title>Малое и среднее предпринимательство как модели ведения бизнес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