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F05-0408-4AC3-AAE0-21F6F147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4F1-54D4-4B12-AF91-D31CFA8F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8E8-BEBD-453B-A418-0380DD1D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FA5-7FE9-4CB1-B852-37A7B480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AF4-97B1-49F7-8113-15427487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7E46-DE97-46DD-BD55-1E463E4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5FE5-6DF1-43F4-B769-3BBC14B6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155-2EE8-4CEA-A6A4-08D5CAC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A58-092B-4FAC-854C-62D9F91C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E42D-6610-48B1-979C-D1193166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CB9-9B7C-4934-BF6F-A21F659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5AC-B556-4ABD-89AE-4AB5DE93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D94-6066-4289-B01E-DBDB146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E8F-D3A7-4A37-AAC6-0D988B4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1815-8191-484D-BDA1-AE5EC3F4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4437-7BE8-4C22-B16F-464C477B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0CB5-6EA5-47F9-87FF-DE3E2E9A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8C6C-2648-44D8-A233-65D2EB3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ECC2-459F-42B5-A0DF-666768C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77D9-C853-49AD-B2A6-A283073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39D1-F352-4096-94D3-1F2ED29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2491-EF56-4A44-AF2F-757B513B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322-3051-4DD5-A060-4CFFFD3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1D75-AFFC-40E1-A7B2-CAB7274D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4815-05A4-4DB6-934F-3F0177BD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B970-7FF0-4EFE-B78D-FBA2DC9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1F20-35B9-4136-A6E2-008CFB66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B95FA-2346-4195-9691-4FF33F76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4FDA-A8F6-45F8-83DA-1BC1BC68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9AC2-3725-47FB-998A-3F7E67BE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F38-F0F9-4A5F-91F9-2D76B80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983-BC41-4C9C-857E-145DB304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3FA-BD6B-456A-93A7-C690CD1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502-74C5-4E44-8681-ACB48E0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526-7C8A-4DB5-8D2A-CCC8EDF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17A-A6C6-475B-A324-0F06804C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2f"/>
            </a:gs>
            <a:gs pos="100000">
              <a:srgbClr val="7e7e7e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олилиния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олилиния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63E113-3E38-4504-82DE-9D2ADC253A75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6ea0b0"/>
              </a:buClr>
              <a:buSzPct val="90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ccaf0a"/>
              </a:buClr>
              <a:buSzPct val="85000"/>
              <a:buFont typeface="Arial"/>
              <a:buChar char="○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8d89a4"/>
              </a:buClr>
              <a:buSzPct val="9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748560"/>
              </a:buClr>
              <a:buFont typeface="Arial"/>
              <a:buChar char="-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9649B-8D75-4861-AE61-9B8645B9D938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266E65-1233-412D-99FD-163A3A62DA43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643120"/>
            <a:ext cx="735768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Схем</a:t>
            </a:r>
            <a:r>
              <a:rPr b="1" lang="uk-UA" sz="4600" spc="-1" strike="noStrike" cap="all">
                <a:solidFill>
                  <a:srgbClr val="a1d4e6"/>
                </a:solidFill>
                <a:latin typeface="Franklin Gothic Book"/>
              </a:rPr>
              <a:t>и</a:t>
            </a:r>
            <a:r>
              <a:rPr b="1" lang="ru-RU" sz="4600" spc="-1" strike="noStrike" cap="all">
                <a:solidFill>
                  <a:srgbClr val="a1d4e6"/>
                </a:solidFill>
                <a:latin typeface="Franklin Gothic Book"/>
              </a:rPr>
              <a:t> набірної группи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33080" y="3069000"/>
            <a:ext cx="647964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хема кнопочних ре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і реле напрям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Допоміжне і резервне управління</a:t>
            </a: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96000" indent="-36144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поміжне керування призначене для включення на світлофорі дозволяючого показання при непрацюючій схемі відповідності або схемі стрілочних управляючих реле , а також при відміні маршруту, заданого через хибно зайняту секцію , після проходження рухомого складу по маршруту. Щоб використовувати допоміжне управління , черговий повинен натиснути кнопку підсвічування табло і визначити положення стрілок. Якщо положення стрілок не відповідає заданому маршрутом , то стрілки переводять за допомогою стрілочних комутаторів 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задається маневровий маршрут від світлофора Н1 до світлофора М8. то від натискання кнопки початку маршруту Н1М в блоці НПМ (Н1) спрацьовують реле 2РК, 2КН, 1С, НМ і 20П. Від натискання кнопки М8 кінця маршруту в блоці НМ (2) світлофорів М10, М8 спрацьовують реле 2РК, 2КН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фронтові контакти реле 2РК і НМ включається шина живлення ВУ. Від цієї шини на початку маршруту в блоці ВД (Н1), минаючи схему відповідності, спрацьовує реле НМ, в кінці маршруту в блоці М (М8) включається реле КМ, визначаючи кінець маневрового маршруту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сля цього схеми виконавчої групи працюють так само, як і при нормальній установці маршруту.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9" name="Объект 3" descr="8.3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640" y="620640"/>
            <a:ext cx="8583480" cy="5616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жимом допоміжного управління користуються для розмикання без витримки часу секцій, після використання маршруту, заданого через хибно зайняту секцію. У цьому випадку необхідно за допомогою допоміжного управління знову встановити цей же маршрут, а потім його скасувати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що маршрутний набір повністю не працює (запала кнопка, розімкнути ланцюг противоповторное реле та ін), Передбачається резервне управління для завдання поїзних маршрутів (світлофори з головних шляхів і шляхів безупинного пропускання)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38952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пульті-табло або виносному табло встановлюють додаткові поїзні кнопки світлофорів. 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90800" cy="52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аршрутному на­борі використані кнопочн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К, КН, АКН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одаткові рел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marL="420480" indent="-384120">
              <a:lnSpc>
                <a:spcPct val="100000"/>
              </a:lnSpc>
              <a:spcBef>
                <a:spcPts val="641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Р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аються від кнопок установки маршрута и замикають кола реле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КН, 1С, ОП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2840" y="390600"/>
            <a:ext cx="9057960" cy="60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3000" spc="-1" strike="noStrike">
                <a:solidFill>
                  <a:srgbClr val="ffffff"/>
                </a:solidFill>
                <a:latin typeface="Franklin Gothic Book"/>
              </a:rPr>
              <a:t>Схема </a:t>
            </a:r>
            <a:r>
              <a:rPr b="1" lang="ru-RU" sz="3000" spc="-1" strike="noStrike">
                <a:solidFill>
                  <a:srgbClr val="ffffff"/>
                </a:solidFill>
                <a:latin typeface="Franklin Gothic Book"/>
              </a:rPr>
              <a:t>протиповторних допоміжних проміжних і кінцевих реле, схема автоматичних кнопочних реле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20480" indent="-384120">
              <a:lnSpc>
                <a:spcPct val="100000"/>
              </a:lnSpc>
              <a:spcBef>
                <a:spcPts val="479"/>
              </a:spcBef>
              <a:buClr>
                <a:srgbClr val="6ea0b0"/>
              </a:buClr>
              <a:buSzPct val="80000"/>
              <a:buFont typeface="Wingdings 2" charset="2"/>
              <a:buChar char=""/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люємо маневровий маршрут від вхідного світлофора Н1 до світлофора М8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81</TotalTime>
  <Application>LibreOffice/7.4.7.2$Linux_X86_64 LibreOffice_project/40$Build-2</Application>
  <AppVersion>15.0000</AppVersion>
  <Words>238</Words>
  <Paragraphs>1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9:50:07Z</dcterms:created>
  <dc:creator>Виталя</dc:creator>
  <dc:description/>
  <dc:language>en-US</dc:language>
  <cp:lastModifiedBy>Администратор</cp:lastModifiedBy>
  <dcterms:modified xsi:type="dcterms:W3CDTF">2015-02-23T10:09:47Z</dcterms:modified>
  <cp:revision>27</cp:revision>
  <dc:subject/>
  <dc:title>Схеми наборної групп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