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C71-B199-4AA1-ABE6-447ECBC9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363-09DC-4872-8838-8BA5A99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3EB-43F0-4C2E-9F8A-4A04F855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1F4-D789-4BF5-8B87-77EAB600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A6F4-9E1F-4AC1-B5E8-C122682C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5A9C-DCBD-43F9-8E85-AAFB43AA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7886-80BC-4AF3-8E3C-80956DCB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B247-5BCD-4A86-843B-FCC8AC02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E641-A240-4972-AFB7-20A12BB1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96E1-870F-4FB8-B29E-BC9B7556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27B1-B2F4-4EE5-9402-E692E65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964-FBB6-4C99-A745-0A1A2CA1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E111-BC6B-4017-814A-7D3A7866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67FB-5F39-4902-A9D7-6CE3349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1B4B-3022-4CA3-8D22-760C5F7C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0A31-1D08-4114-95B4-B5CF4214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A75-A0D6-40B2-8541-EF30087B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66AC-D351-4F88-96BC-C8F14A48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9892-32FB-4870-92E2-B65430D9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AC30-C038-479E-88EF-D72AA51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3891-D08E-4F36-9AB6-DE718F7F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570B-D2D7-4E40-BFBF-BBCE2512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816-4579-47E9-BBBD-3946EB81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E9EB-6F62-4476-8CFF-5F5F4AA5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66D0-64D3-47D4-B918-D4CCA2BD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3D96-E92A-411A-97A8-021BCF2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BF2F-1959-4B57-8EB6-E6DD697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D00A-8549-46BC-BBF4-C6FB8FAA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1DCB-C500-4A7F-A453-9E3D863A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B85F-A2B6-46E3-8616-CF183668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ED9-DF20-4B1A-9F2E-90F63040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7D8-3684-410F-BCA4-3032CD52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645-B5D6-410C-A584-D8FB990F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664-C168-43C2-A551-881A515E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EAA-38C9-4475-A8A4-004ED695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F5A-EEEE-45BE-BADD-52EA4E8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2f"/>
            </a:gs>
            <a:gs pos="100000">
              <a:srgbClr val="7e7e7e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олилиния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олилиния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600" spc="-1" strike="noStrike" cap="all">
                <a:solidFill>
                  <a:srgbClr val="a1d4e6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47B3CC-9566-490C-9EC0-2BF1F88B083D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DE997A-F7C4-4429-8E20-CA827AB95D24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956DB4-19AE-4486-B61D-2D0960C30C54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00120" y="2643120"/>
            <a:ext cx="735768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600" spc="-1" strike="noStrike" cap="all">
                <a:solidFill>
                  <a:srgbClr val="a1d4e6"/>
                </a:solidFill>
                <a:latin typeface="Franklin Gothic Book"/>
              </a:rPr>
              <a:t>Схем</a:t>
            </a:r>
            <a:r>
              <a:rPr b="1" lang="uk-UA" sz="4600" spc="-1" strike="noStrike" cap="all">
                <a:solidFill>
                  <a:srgbClr val="a1d4e6"/>
                </a:solidFill>
                <a:latin typeface="Franklin Gothic Book"/>
              </a:rPr>
              <a:t>и</a:t>
            </a:r>
            <a:r>
              <a:rPr b="1" lang="ru-RU" sz="4600" spc="-1" strike="noStrike" cap="all">
                <a:solidFill>
                  <a:srgbClr val="a1d4e6"/>
                </a:solidFill>
                <a:latin typeface="Franklin Gothic Book"/>
              </a:rPr>
              <a:t> набірної группи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33080" y="3069000"/>
            <a:ext cx="647964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хема кнопочних ре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і реле напрям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Допоміжне і резервне управління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96000" indent="-361440">
              <a:lnSpc>
                <a:spcPct val="100000"/>
              </a:lnSpc>
              <a:spcBef>
                <a:spcPts val="64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поміжне керування призначене для включення на світлофорі дозволяючого показання при непрацюючій схемі відповідності або схемі стрілочних управляючих реле , а також при відміні маршруту, заданого через хибно зайняту секцію , після проходження рухомого складу по маршруту. Щоб використовувати допоміжне управління , черговий повинен натиснути кнопку підсвічування табло і визначити положення стрілок. Якщо положення стрілок не відповідає заданому маршрутом , то стрілки переводять за допомогою стрілочних комутаторів 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368640" indent="-336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що задається маневровий маршрут від світлофора Н1 до світлофора М8. то від натискання кнопки початку маршруту Н1М в блоці НПМ (Н1) спрацьовують реле 2РК, 2КН, 1С, НМ і 20П. Від натискання кнопки М8 кінця маршруту в блоці НМ (2) світлофорів М10, М8 спрацьовують реле 2РК, 2КН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рез фронтові контакти реле 2РК і НМ включається шина живлення ВУ. Від цієї шини на початку маршруту в блоці ВД (Н1), минаючи схему відповідності, спрацьовує реле НМ, в кінці маршруту в блоці М (М8) включається реле КМ, визначаючи кінець маневрового маршруту.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ісля цього схеми виконавчої групи працюють так само, як і при нормальній установці маршруту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9" name="Объект 3" descr="8.3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640" y="620640"/>
            <a:ext cx="8583480" cy="5616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426240" indent="-3895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жимом допоміжного управління користуються для розмикання без витримки часу секцій, після використання маршруту, заданого через хибно зайняту секцію. У цьому випадку необхідно за допомогою допоміжного управління знову встановити цей же маршрут, а потім його скасувати.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3895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що маршрутний набір повністю не працює (запала кнопка, розімкнути ланцюг противоповторное реле та ін), Передбачається резервне управління для завдання поїзних маршрутів (світлофори з головних шляхів і шляхів безупинного пропускання)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3895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 пульті-табло або виносному табло встановлюють додаткові поїзні кнопки світлофорів.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90800" cy="52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4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аршрутному на­борі використані кнопочні рел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К, КН, АКН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одаткові рел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4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Р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лючаються від кнопок установки маршрута и замикають кола рел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КН, 1С, ОП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000" spc="-1" strike="noStrike">
                <a:solidFill>
                  <a:srgbClr val="ffffff"/>
                </a:solidFill>
                <a:latin typeface="Franklin Gothic Book"/>
              </a:rPr>
              <a:t>Схема </a:t>
            </a:r>
            <a:r>
              <a:rPr b="1" lang="ru-RU" sz="3000" spc="-1" strike="noStrike">
                <a:solidFill>
                  <a:srgbClr val="ffffff"/>
                </a:solidFill>
                <a:latin typeface="Franklin Gothic Book"/>
              </a:rPr>
              <a:t>протиповторних допоміжних проміжних і кінцевих реле, схема автоматичних кнопочних реле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тановлюємо маневровий маршрут від вхідного світлофора Н1 до світлофора М8.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81</TotalTime>
  <Application>LibreOffice/7.4.7.2$Linux_X86_64 LibreOffice_project/40$Build-2</Application>
  <AppVersion>15.0000</AppVersion>
  <Words>238</Words>
  <Paragraphs>1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9:50:07Z</dcterms:created>
  <dc:creator>Виталя</dc:creator>
  <dc:description/>
  <dc:language>en-US</dc:language>
  <cp:lastModifiedBy>Администратор</cp:lastModifiedBy>
  <dcterms:modified xsi:type="dcterms:W3CDTF">2015-02-23T10:09:47Z</dcterms:modified>
  <cp:revision>27</cp:revision>
  <dc:subject/>
  <dc:title>Схеми наборної групп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