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D52-8F9A-4C16-BDA0-1C626D30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1D9-66BC-4F12-B5CE-4549B15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D42-A436-4DF7-9078-15ED1D69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A83-0062-402D-9950-D900DDB1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57D-B68D-4C3E-986B-DBAE10E8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11E-329A-4B1D-A95C-835006D5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C91-2805-4AC7-B499-EAEACEB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5A1-14E9-44F3-AD8B-8D39B81C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2AEF-4483-42C5-8175-184F23C5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9485-92D5-41A3-9348-5F4D93C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24B2-F09B-4B38-AE4F-E653349F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7EB-0E4F-4A9A-B84E-1DEE069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AB71-8F9E-45FF-848A-B8FF43FB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89CC-36B3-4AB8-8B4A-1D79D7D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8A7E-EFE8-403D-AD2F-3372740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076A-89F0-4462-B621-852422CC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F5D-49A7-42F7-97A4-F4FDC066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9D9B-368C-4B2F-8FF0-059D82E2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FF64-37F0-42FC-BAF0-879EC55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1ADF-6C6D-4B22-A950-2D62BF4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668C-F1A3-48A7-9B19-C610CAD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B9F4-E52E-4360-93E5-F1A4C06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3DF-B970-47B0-B587-A065E21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16BA-0C74-4DB0-82C9-7A98D553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F727-B280-4940-B9F0-1A95E97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946E-EDF8-4E8C-BD3F-A9664DD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F48D-BDED-4C0F-AE03-8289730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167E-0ACB-4F79-9A8F-676A953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872F-3371-4ADD-A2EC-42FDF445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9940-2B7E-411B-B392-1F42B589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A13-C314-462C-B20E-7B79766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B7A-190E-4182-85D4-1BEB87CB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8F3-18C2-4D73-9FDD-CA18D7CE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1AE-002F-455B-AE41-F34C430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9E7-7CA1-475C-95D9-3C4BB4B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54D-7094-404B-BBF7-2670BC6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олилиния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олилиния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E9BAB-715D-48E8-A202-8EA747DC022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94BF39-6936-40CA-938F-B2CF81F15F70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2CCEDF-EDF7-410C-87BB-646AE9DDDF6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643120"/>
            <a:ext cx="735768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Схем</a:t>
            </a:r>
            <a:r>
              <a:rPr b="1" lang="uk-UA" sz="4600" spc="-1" strike="noStrike" cap="all">
                <a:solidFill>
                  <a:srgbClr val="a1d4e6"/>
                </a:solidFill>
                <a:latin typeface="Franklin Gothic Book"/>
              </a:rPr>
              <a:t>и</a:t>
            </a: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 набірної группи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33080" y="3069000"/>
            <a:ext cx="647964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хема кнопочних ре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і реле напрям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Допоміжне і резервне управління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96000" indent="-36144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поміжне керування призначене для включення на світлофорі дозволяючого показання при непрацюючій схемі відповідності або схемі стрілочних управляючих реле , а також при відміні маршруту, заданого через хибно зайняту секцію , після проходження рухомого складу по маршруту. Щоб використовувати допоміжне управління , черговий повинен натиснути кнопку підсвічування табло і визначити положення стрілок. Якщо положення стрілок не відповідає заданому маршрутом , то стрілки переводять за допомогою стрілочних комутаторів 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задається маневровий маршрут від світлофора Н1 до світлофора М8. то від натискання кнопки початку маршруту Н1М в блоці НПМ (Н1) спрацьовують реле 2РК, 2КН, 1С, НМ і 20П. Від натискання кнопки М8 кінця маршруту в блоці НМ (2) світлофорів М10, М8 спрацьовують реле 2РК, 2КН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фронтові контакти реле 2РК і НМ включається шина живлення ВУ. Від цієї шини на початку маршруту в блоці ВД (Н1), минаючи схему відповідності, спрацьовує реле НМ, в кінці маршруту в блоці М (М8) включається реле КМ, визначаючи кінець маневрового маршруту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сля цього схеми виконавчої групи працюють так само, як і при нормальній установці маршруту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9" name="Объект 3" descr="8.3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640" y="620640"/>
            <a:ext cx="8583480" cy="561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жимом допоміжного управління користуються для розмикання без витримки часу секцій, після використання маршруту, заданого через хибно зайняту секцію. У цьому випадку необхідно за допомогою допоміжного управління знову встановити цей же маршрут, а потім його скасувати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маршрутний набір повністю не працює (запала кнопка, розімкнути ланцюг противоповторное реле та ін), Передбачається резервне управління для завдання поїзних маршрутів (світлофори з головних шляхів і шляхів безупинного пропускання)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пульті-табло або виносному табло встановлюють додаткові поїзні кнопки світлофорів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90800" cy="52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ршрутному на­борі використані кнопочн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К, КН, АКН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одатков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Р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аються від кнопок установки маршрута и замикають кола 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КН, 1С, ОП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000" spc="-1" strike="noStrike">
                <a:solidFill>
                  <a:srgbClr val="ffffff"/>
                </a:solidFill>
                <a:latin typeface="Franklin Gothic Book"/>
              </a:rPr>
              <a:t>Схема 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протиповторних допоміжних проміжних і кінцевих реле, схема автоматичних кнопочних реле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люємо маневровий маршрут від вхідного світлофора Н1 до світлофора М8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81</TotalTime>
  <Application>LibreOffice/7.4.7.2$Linux_X86_64 LibreOffice_project/40$Build-2</Application>
  <AppVersion>15.0000</AppVersion>
  <Words>238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9:50:07Z</dcterms:created>
  <dc:creator>Виталя</dc:creator>
  <dc:description/>
  <dc:language>en-US</dc:language>
  <cp:lastModifiedBy>Администратор</cp:lastModifiedBy>
  <dcterms:modified xsi:type="dcterms:W3CDTF">2015-02-23T10:09:47Z</dcterms:modified>
  <cp:revision>27</cp:revision>
  <dc:subject/>
  <dc:title>Схеми наборної групп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