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A2E-0A8B-4B73-BDAA-A932B887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CD1-A44E-45CF-B599-97841EA2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9A9-C3C0-46A8-9CA1-F5BF1AC3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8D5-8A23-4C34-BB65-674DBFC6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EA7A-E16C-43B4-B4ED-3EB64015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C976-0DC9-4BA0-8A51-599777FB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F39B-E05D-4209-9215-918233A1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5869-FCC8-4717-BDAD-FDE2D428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5FE1-5828-465C-A874-4E9D737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3E10-5981-45BD-BBFC-F168131C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37D9-62CC-4DA0-893D-B40C7D74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134-3A1D-460A-A8A2-4C16A7F3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A471-5484-4CAE-B988-6A5BFFF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712-6F5A-4C34-8FE5-79840342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BB2E-D864-40FE-89F7-76A11950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347-3750-4F15-9959-6FFF8CCA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B9CF-2E24-4317-BC77-CCA9FE3A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E24-05DF-4568-98BB-BC02DF7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69B-36E4-45C6-98B1-CA20A7E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7D7-FC2A-4047-9DA1-B129D562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267-50C4-4E3E-AC83-E54B44F3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C62-BF35-49F8-B87D-4665A42E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EDE-AB32-4527-A5D0-EC86753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F38-6978-4BF3-A4AD-2BCE7772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EE7898-08B2-4E92-B40F-541666B5C90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06F062-0D41-42D7-909D-130133572C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 work upon the lexical topic “Chronic Gastritis”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PREPARED BY ABILDINOV  D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GROUP 2069, “GENERAL MEDIC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UNDER THE SUPERVISION OF THE FOREIGN LANGUAGES DEPARTMENT TEACHER T.G.DASHK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Tatyana\Desktop\скачанные файлы.jpg"/>
          <p:cNvPicPr/>
          <p:nvPr/>
        </p:nvPicPr>
        <p:blipFill>
          <a:blip r:embed="rId1"/>
          <a:stretch/>
        </p:blipFill>
        <p:spPr>
          <a:xfrm>
            <a:off x="3071880" y="285840"/>
            <a:ext cx="280944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 Die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antonella.ru/wp-content/uploads/2015/01/10-dnevnaya-dieta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86320" cy="47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. Br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hi-news.ru/wp-content/uploads/2015/06/Brain-image-650x433.jpg"/>
          <p:cNvPicPr/>
          <p:nvPr/>
        </p:nvPicPr>
        <p:blipFill>
          <a:blip r:embed="rId1"/>
          <a:stretch/>
        </p:blipFill>
        <p:spPr>
          <a:xfrm>
            <a:off x="1214280" y="1643040"/>
            <a:ext cx="61909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. Liv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psoriaza.ru/wp-content/uploads/2015/05/liver.jpg"/>
          <p:cNvPicPr/>
          <p:nvPr/>
        </p:nvPicPr>
        <p:blipFill>
          <a:blip r:embed="rId1"/>
          <a:stretch/>
        </p:blipFill>
        <p:spPr>
          <a:xfrm>
            <a:off x="1714320" y="2000160"/>
            <a:ext cx="571464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2. Kidne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opochkah.ru/wp-content/uploads/2014/05/pochka-3d.jpg"/>
          <p:cNvPicPr/>
          <p:nvPr/>
        </p:nvPicPr>
        <p:blipFill>
          <a:blip r:embed="rId1"/>
          <a:stretch/>
        </p:blipFill>
        <p:spPr>
          <a:xfrm>
            <a:off x="928800" y="1785960"/>
            <a:ext cx="7404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3. Mucous membran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marimer.com.ua/media/pages/10/dysfunction_of_the_mucosa.jpg"/>
          <p:cNvPicPr/>
          <p:nvPr/>
        </p:nvPicPr>
        <p:blipFill>
          <a:blip r:embed="rId1"/>
          <a:stretch/>
        </p:blipFill>
        <p:spPr>
          <a:xfrm>
            <a:off x="500040" y="1857240"/>
            <a:ext cx="814428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4. Chronic gastriti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pischevod.com/data/source/hronicheskij-gastrit-1.jpg"/>
          <p:cNvPicPr/>
          <p:nvPr/>
        </p:nvPicPr>
        <p:blipFill>
          <a:blip r:embed="rId1"/>
          <a:stretch/>
        </p:blipFill>
        <p:spPr>
          <a:xfrm>
            <a:off x="1500120" y="1500120"/>
            <a:ext cx="62146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5. Alcoho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lipetsk.ru/upload/iblock/70d/70df536c79dd37c2cdbd2912c4004a01.jpeg"/>
          <p:cNvPicPr/>
          <p:nvPr/>
        </p:nvPicPr>
        <p:blipFill>
          <a:blip r:embed="rId1"/>
          <a:stretch/>
        </p:blipFill>
        <p:spPr>
          <a:xfrm>
            <a:off x="714240" y="1643040"/>
            <a:ext cx="76435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6. Inadequate foo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sisoftware.biz/wp-content/uploads/2015/07/fastfood.jpg"/>
          <p:cNvPicPr/>
          <p:nvPr/>
        </p:nvPicPr>
        <p:blipFill>
          <a:blip r:embed="rId1"/>
          <a:stretch/>
        </p:blipFill>
        <p:spPr>
          <a:xfrm>
            <a:off x="642960" y="1714320"/>
            <a:ext cx="737172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. Aci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http://n1s1.hsmedia.ru/31/5c/69/315c695bfbeaf961fc8f55137469ed24/520x427_0xc0a83945_4438877091374568682.jpg"/>
          <p:cNvPicPr/>
          <p:nvPr/>
        </p:nvPicPr>
        <p:blipFill>
          <a:blip r:embed="rId1"/>
          <a:stretch/>
        </p:blipFill>
        <p:spPr>
          <a:xfrm>
            <a:off x="1928880" y="1714320"/>
            <a:ext cx="4952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. Peps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trenhard.com/wp-content/uploads/2013/08/pepsin_2.jpg"/>
          <p:cNvPicPr/>
          <p:nvPr/>
        </p:nvPicPr>
        <p:blipFill>
          <a:blip r:embed="rId1"/>
          <a:stretch/>
        </p:blipFill>
        <p:spPr>
          <a:xfrm>
            <a:off x="1714320" y="1785960"/>
            <a:ext cx="552420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Inflamma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ru.medixa.org/bsmedia/image/thumb/2-nemoci-zaludku.jpg/p_detail_thumb.jpg/%D0%97%D0%B0%D0%B1%D0%BE%D0%BB%D0%B5%D0%B2%D0%B0%D0%BD%D0%B8%D1%8F%20%D0%B6%D0%B5%D0%BB%D1%83%D0%B4%D0%BA%D0%B0.jpg"/>
          <p:cNvPicPr/>
          <p:nvPr/>
        </p:nvPicPr>
        <p:blipFill>
          <a:blip r:embed="rId1"/>
          <a:stretch/>
        </p:blipFill>
        <p:spPr>
          <a:xfrm>
            <a:off x="0" y="2143080"/>
            <a:ext cx="8265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. Loss appetit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inmoment.ru/img/poor-appetite.jpg"/>
          <p:cNvPicPr/>
          <p:nvPr/>
        </p:nvPicPr>
        <p:blipFill>
          <a:blip r:embed="rId1"/>
          <a:stretch/>
        </p:blipFill>
        <p:spPr>
          <a:xfrm>
            <a:off x="2357280" y="2286000"/>
            <a:ext cx="42145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. P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doctorfm.ru/sites/default/files/bolit-zhivot.jpg"/>
          <p:cNvPicPr/>
          <p:nvPr/>
        </p:nvPicPr>
        <p:blipFill>
          <a:blip r:embed="rId1"/>
          <a:stretch/>
        </p:blipFill>
        <p:spPr>
          <a:xfrm>
            <a:off x="1143000" y="2071800"/>
            <a:ext cx="637416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2. Meal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interesnyesaity.ru/wp-content/uploads/breakfast.jpg"/>
          <p:cNvPicPr/>
          <p:nvPr/>
        </p:nvPicPr>
        <p:blipFill>
          <a:blip r:embed="rId1"/>
          <a:stretch/>
        </p:blipFill>
        <p:spPr>
          <a:xfrm>
            <a:off x="1571760" y="1714320"/>
            <a:ext cx="56433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. Epigastrium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gastromedic.ru/wp-content/uploads/2014/11/epigastrij.jpg"/>
          <p:cNvPicPr/>
          <p:nvPr/>
        </p:nvPicPr>
        <p:blipFill>
          <a:blip r:embed="rId1"/>
          <a:stretch/>
        </p:blipFill>
        <p:spPr>
          <a:xfrm>
            <a:off x="2571840" y="2000160"/>
            <a:ext cx="3928680" cy="391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. Nause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morebabies.ru/uploads/articles/GDn5nukp.jpg"/>
          <p:cNvPicPr/>
          <p:nvPr/>
        </p:nvPicPr>
        <p:blipFill>
          <a:blip r:embed="rId1"/>
          <a:stretch/>
        </p:blipFill>
        <p:spPr>
          <a:xfrm>
            <a:off x="2143080" y="1643040"/>
            <a:ext cx="4714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. Vomiting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dic.academic.ru/pictures/enc_medicine/0222372124.jpg"/>
          <p:cNvPicPr/>
          <p:nvPr/>
        </p:nvPicPr>
        <p:blipFill>
          <a:blip r:embed="rId1"/>
          <a:stretch/>
        </p:blipFill>
        <p:spPr>
          <a:xfrm>
            <a:off x="1714320" y="1928880"/>
            <a:ext cx="5381280" cy="43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. Tim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www.marialedda.com/wp-content/uploads/2014/03/time.jpg"/>
          <p:cNvPicPr/>
          <p:nvPr/>
        </p:nvPicPr>
        <p:blipFill>
          <a:blip r:embed="rId1"/>
          <a:stretch/>
        </p:blipFill>
        <p:spPr>
          <a:xfrm>
            <a:off x="1428840" y="1714320"/>
            <a:ext cx="646236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7. Esophagu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www.gastroscan.ru/literature/images02/shishko-vi-ris-01.jpg"/>
          <p:cNvPicPr/>
          <p:nvPr/>
        </p:nvPicPr>
        <p:blipFill>
          <a:blip r:embed="rId1"/>
          <a:stretch/>
        </p:blipFill>
        <p:spPr>
          <a:xfrm>
            <a:off x="3000240" y="1785960"/>
            <a:ext cx="29998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. Bacteri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www.festivalnauki.ru/sites/default/files/styles/large/public/helicobacter-pylori.jpg?itok=zDkcZZLs"/>
          <p:cNvPicPr/>
          <p:nvPr/>
        </p:nvPicPr>
        <p:blipFill>
          <a:blip r:embed="rId1"/>
          <a:stretch/>
        </p:blipFill>
        <p:spPr>
          <a:xfrm>
            <a:off x="1714320" y="1857240"/>
            <a:ext cx="5786280" cy="43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9. Heartbur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doctor54.ru/mod/wiki/images/bands/1282727034_1_images.jpg"/>
          <p:cNvPicPr/>
          <p:nvPr/>
        </p:nvPicPr>
        <p:blipFill>
          <a:blip r:embed="rId1"/>
          <a:stretch/>
        </p:blipFill>
        <p:spPr>
          <a:xfrm>
            <a:off x="1643040" y="1785960"/>
            <a:ext cx="58100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Stomac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http://gippokrat.com/Data/Media/images/Depositphotos_12820608_original.jpg"/>
          <p:cNvPicPr/>
          <p:nvPr/>
        </p:nvPicPr>
        <p:blipFill>
          <a:blip r:embed="rId1"/>
          <a:stretch/>
        </p:blipFill>
        <p:spPr>
          <a:xfrm>
            <a:off x="1714320" y="1214280"/>
            <a:ext cx="5500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. Pepp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edaplus.info/food_pictures/chili.jpg"/>
          <p:cNvPicPr/>
          <p:nvPr/>
        </p:nvPicPr>
        <p:blipFill>
          <a:blip r:embed="rId1"/>
          <a:stretch/>
        </p:blipFill>
        <p:spPr>
          <a:xfrm>
            <a:off x="1500120" y="1357200"/>
            <a:ext cx="60004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1. Teet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www.prisnilos.su/kcfinder/upload/image/20-%D0%B2%D1%8B%D0%BF%D0%B0%D0%BB%20%D0%B7%D1%83%D0%B1%20%D0%B2%D0%BE%20%D1%81%D0%BD%D0%B5%20%D0%B1%D0%B5%D0%B7%20%D0%BA%D1%80%D0%BE%D0%B2%D0%B8-1.jpg"/>
          <p:cNvPicPr/>
          <p:nvPr/>
        </p:nvPicPr>
        <p:blipFill>
          <a:blip r:embed="rId1"/>
          <a:stretch/>
        </p:blipFill>
        <p:spPr>
          <a:xfrm>
            <a:off x="1428840" y="1714320"/>
            <a:ext cx="5786280" cy="433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2. Pill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://dermalatlas.ru/wp-content/uploads/2015/02/kakie-tabletki-ot-allergii.jpg"/>
          <p:cNvPicPr/>
          <p:nvPr/>
        </p:nvPicPr>
        <p:blipFill>
          <a:blip r:embed="rId1"/>
          <a:stretch/>
        </p:blipFill>
        <p:spPr>
          <a:xfrm>
            <a:off x="1500120" y="1714320"/>
            <a:ext cx="6000480" cy="379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3. Porridg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multivarenie.ru/images/multivarenie/2015/03/1383729200_5.jpg"/>
          <p:cNvPicPr/>
          <p:nvPr/>
        </p:nvPicPr>
        <p:blipFill>
          <a:blip r:embed="rId1"/>
          <a:stretch/>
        </p:blipFill>
        <p:spPr>
          <a:xfrm>
            <a:off x="1571760" y="1643040"/>
            <a:ext cx="5610960" cy="42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4. Syrup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http://irecommend.ru/sites/default/files/product-images/51508/almagel.jpg"/>
          <p:cNvPicPr/>
          <p:nvPr/>
        </p:nvPicPr>
        <p:blipFill>
          <a:blip r:embed="rId1"/>
          <a:stretch/>
        </p:blipFill>
        <p:spPr>
          <a:xfrm>
            <a:off x="1571760" y="1928880"/>
            <a:ext cx="550044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. Sleep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3.bp.blogspot.com/_y3617glR_xI/TCEmpb2SIFI/AAAAAAAAAAM/9KCtShvMjKQ/s1600/dormir.png"/>
          <p:cNvPicPr/>
          <p:nvPr/>
        </p:nvPicPr>
        <p:blipFill>
          <a:blip r:embed="rId1"/>
          <a:stretch/>
        </p:blipFill>
        <p:spPr>
          <a:xfrm>
            <a:off x="2000160" y="1357200"/>
            <a:ext cx="5285880" cy="52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6. Fastfoo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www.franchisee.su/upload/medialibrary/0f2/0f2512839e61530d6063c825b4fef73c.png"/>
          <p:cNvPicPr/>
          <p:nvPr/>
        </p:nvPicPr>
        <p:blipFill>
          <a:blip r:embed="rId1"/>
          <a:stretch/>
        </p:blipFill>
        <p:spPr>
          <a:xfrm>
            <a:off x="2286000" y="1928880"/>
            <a:ext cx="4357440" cy="37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7. Coug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angliya.com/wp-content/uploads/2015/03/2773_1.jpg"/>
          <p:cNvPicPr/>
          <p:nvPr/>
        </p:nvPicPr>
        <p:blipFill>
          <a:blip r:embed="rId1"/>
          <a:stretch/>
        </p:blipFill>
        <p:spPr>
          <a:xfrm>
            <a:off x="1428840" y="1857240"/>
            <a:ext cx="58194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8. Pancrea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mojzheludok.com/wp-content/uploads/2015/12/Uvelichennaya-podzheludochnaya-zheleza.jpg"/>
          <p:cNvPicPr/>
          <p:nvPr/>
        </p:nvPicPr>
        <p:blipFill>
          <a:blip r:embed="rId1"/>
          <a:stretch/>
        </p:blipFill>
        <p:spPr>
          <a:xfrm>
            <a:off x="2000160" y="2071800"/>
            <a:ext cx="5000400" cy="37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9. Gallbladd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fitfan.ru/uploads/posts/2014-01/1389426492_zhel4_2.jpg"/>
          <p:cNvPicPr/>
          <p:nvPr/>
        </p:nvPicPr>
        <p:blipFill>
          <a:blip r:embed="rId1"/>
          <a:stretch/>
        </p:blipFill>
        <p:spPr>
          <a:xfrm>
            <a:off x="1857240" y="1785960"/>
            <a:ext cx="5143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Scientist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earth-chronicles.ru/Publications_2/8/20121211153134.jpg"/>
          <p:cNvPicPr/>
          <p:nvPr/>
        </p:nvPicPr>
        <p:blipFill>
          <a:blip r:embed="rId1"/>
          <a:stretch/>
        </p:blipFill>
        <p:spPr>
          <a:xfrm>
            <a:off x="1428840" y="1571760"/>
            <a:ext cx="628632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. Viru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static.medportal.ru/pic/enc/images/heliko.jpg"/>
          <p:cNvPicPr/>
          <p:nvPr/>
        </p:nvPicPr>
        <p:blipFill>
          <a:blip r:embed="rId1"/>
          <a:stretch/>
        </p:blipFill>
        <p:spPr>
          <a:xfrm>
            <a:off x="2214720" y="2286000"/>
            <a:ext cx="4500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1. C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pricom.kz/images/2013/08/%D0%9F%D1%80%D1%8F%D0%BC%D0%B0%D1%8F-%D0%BB%D0%B8%D0%BD%D0%B8%D1%8F.jpg"/>
          <p:cNvPicPr/>
          <p:nvPr/>
        </p:nvPicPr>
        <p:blipFill>
          <a:blip r:embed="rId1"/>
          <a:stretch/>
        </p:blipFill>
        <p:spPr>
          <a:xfrm>
            <a:off x="1571760" y="1785960"/>
            <a:ext cx="585756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2. Respira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s.hanuman.ru/files/imagecache/blog_image/Dihanchik.jpg"/>
          <p:cNvPicPr/>
          <p:nvPr/>
        </p:nvPicPr>
        <p:blipFill>
          <a:blip r:embed="rId1"/>
          <a:stretch/>
        </p:blipFill>
        <p:spPr>
          <a:xfrm>
            <a:off x="1428840" y="2214720"/>
            <a:ext cx="6273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3. Brestbon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s://upload.wikimedia.org/wikipedia/commons/thumb/2/23/Gray116.png/199px-Gray116.png"/>
          <p:cNvPicPr/>
          <p:nvPr/>
        </p:nvPicPr>
        <p:blipFill>
          <a:blip r:embed="rId1"/>
          <a:stretch/>
        </p:blipFill>
        <p:spPr>
          <a:xfrm>
            <a:off x="2214720" y="1367640"/>
            <a:ext cx="4487400" cy="54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4. Thro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www.likar.info/pictures_ckfinder/images/Bolit_gorlo___chem_lechit.jpg"/>
          <p:cNvPicPr/>
          <p:nvPr/>
        </p:nvPicPr>
        <p:blipFill>
          <a:blip r:embed="rId1"/>
          <a:stretch/>
        </p:blipFill>
        <p:spPr>
          <a:xfrm>
            <a:off x="1785960" y="2000160"/>
            <a:ext cx="5028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5. Pharmac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https://encrypted-tbn3.gstatic.com/images?q=tbn:ANd9GcS9ZpcMZz43sgTByZfudRfxJMHLaIlzTYt6_ii-r_wkPko-LONZTQ"/>
          <p:cNvPicPr/>
          <p:nvPr/>
        </p:nvPicPr>
        <p:blipFill>
          <a:blip r:embed="rId1"/>
          <a:stretch/>
        </p:blipFill>
        <p:spPr>
          <a:xfrm>
            <a:off x="1571760" y="1714320"/>
            <a:ext cx="60717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6. Hospita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ukwulutownunion.com/wp-content/uploads/2016/03/Hospital2.jpg"/>
          <p:cNvPicPr/>
          <p:nvPr/>
        </p:nvPicPr>
        <p:blipFill>
          <a:blip r:embed="rId1"/>
          <a:srcRect l="0" t="14776" r="0" b="19315"/>
          <a:stretch/>
        </p:blipFill>
        <p:spPr>
          <a:xfrm>
            <a:off x="1428840" y="1714320"/>
            <a:ext cx="628632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7. Splee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zapdoc.ru/assets/images/stat/razryv-selezenki-4-sluchaya-iz-praktiki_2.jpg"/>
          <p:cNvPicPr/>
          <p:nvPr/>
        </p:nvPicPr>
        <p:blipFill>
          <a:blip r:embed="rId1"/>
          <a:stretch/>
        </p:blipFill>
        <p:spPr>
          <a:xfrm>
            <a:off x="2643120" y="1428840"/>
            <a:ext cx="3785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8. Temperatur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plmnlg.com/wp-content/uploads/2015/02/temperatura-posle-bronhita.jpg"/>
          <p:cNvPicPr/>
          <p:nvPr/>
        </p:nvPicPr>
        <p:blipFill>
          <a:blip r:embed="rId1"/>
          <a:stretch/>
        </p:blipFill>
        <p:spPr>
          <a:xfrm>
            <a:off x="1643040" y="1714320"/>
            <a:ext cx="5905080" cy="39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9. Diseas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http://lechenie-gastrita.ru/wp-content/uploads/2011/11/1123.jpg"/>
          <p:cNvPicPr/>
          <p:nvPr/>
        </p:nvPicPr>
        <p:blipFill>
          <a:blip r:embed="rId1"/>
          <a:stretch/>
        </p:blipFill>
        <p:spPr>
          <a:xfrm>
            <a:off x="1785960" y="1857240"/>
            <a:ext cx="4714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Ulc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likar.info/uploads/disease/%D1%8F%D0%B7%D0%B2%D0%B0%20%D0%B4%D0%BF%D0%BA2.jpg"/>
          <p:cNvPicPr/>
          <p:nvPr/>
        </p:nvPicPr>
        <p:blipFill>
          <a:blip r:embed="rId1"/>
          <a:stretch/>
        </p:blipFill>
        <p:spPr>
          <a:xfrm>
            <a:off x="1428840" y="1714320"/>
            <a:ext cx="61909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gastroscan.ru/patient/images/bol-v-jivote-2.jpg"/>
          <p:cNvPicPr/>
          <p:nvPr/>
        </p:nvPicPr>
        <p:blipFill>
          <a:blip r:embed="rId1"/>
          <a:stretch/>
        </p:blipFill>
        <p:spPr>
          <a:xfrm>
            <a:off x="1785960" y="1928880"/>
            <a:ext cx="528588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Duodenum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teamhelp.ru/images/2/limfoidnaya-giperplaziya-lukovicy-12-perstnoj-kishki.jpg"/>
          <p:cNvPicPr/>
          <p:nvPr/>
        </p:nvPicPr>
        <p:blipFill>
          <a:blip r:embed="rId1"/>
          <a:stretch/>
        </p:blipFill>
        <p:spPr>
          <a:xfrm>
            <a:off x="1643040" y="1305360"/>
            <a:ext cx="5928840" cy="55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Impulse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goltis.info/sites/default/files/styles/w700x700/public/impuls.jpg?itok=bhrny9W7"/>
          <p:cNvPicPr/>
          <p:nvPr/>
        </p:nvPicPr>
        <p:blipFill>
          <a:blip r:embed="rId1"/>
          <a:stretch/>
        </p:blipFill>
        <p:spPr>
          <a:xfrm>
            <a:off x="1428840" y="1571760"/>
            <a:ext cx="6167160" cy="46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 Gastric juic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mg2.vitaportal.ru/sites/default/files/story_files/shutterstock_176963624.jpg"/>
          <p:cNvPicPr/>
          <p:nvPr/>
        </p:nvPicPr>
        <p:blipFill>
          <a:blip r:embed="rId1"/>
          <a:srcRect l="0" t="13306" r="0" b="14449"/>
          <a:stretch/>
        </p:blipFill>
        <p:spPr>
          <a:xfrm>
            <a:off x="714240" y="1500120"/>
            <a:ext cx="7506000" cy="49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 Emotional overstr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skarvit.ru/wp-content/uploads/2014/11/strees.jpg"/>
          <p:cNvPicPr/>
          <p:nvPr/>
        </p:nvPicPr>
        <p:blipFill>
          <a:blip r:embed="rId1"/>
          <a:stretch/>
        </p:blipFill>
        <p:spPr>
          <a:xfrm>
            <a:off x="642960" y="1928880"/>
            <a:ext cx="791496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  <Words>183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2:12:59Z</dcterms:created>
  <dc:creator>Tatyana</dc:creator>
  <dc:description/>
  <dc:language>en-US</dc:language>
  <cp:lastModifiedBy>admin</cp:lastModifiedBy>
  <dcterms:modified xsi:type="dcterms:W3CDTF">2016-04-10T16:51:01Z</dcterms:modified>
  <cp:revision>45</cp:revision>
  <dc:subject/>
  <dc:title>Individual work upon the lexical topic “Bronchitis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0</vt:r8>
  </property>
</Properties>
</file>