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28.jpeg" ContentType="image/jpeg"/>
  <Override PartName="/ppt/media/image36.png" ContentType="image/png"/>
  <Override PartName="/ppt/media/image44.jpeg" ContentType="image/jpeg"/>
  <Override PartName="/ppt/media/image7.jpeg" ContentType="image/jpeg"/>
  <Override PartName="/ppt/media/image38.jpeg" ContentType="image/jpeg"/>
  <Override PartName="/ppt/media/image35.png" ContentType="image/png"/>
  <Override PartName="/ppt/media/image32.jpeg" ContentType="image/jpeg"/>
  <Override PartName="/ppt/media/image45.jpeg" ContentType="image/jpeg"/>
  <Override PartName="/ppt/media/image46.jpeg" ContentType="image/jpeg"/>
  <Override PartName="/ppt/media/image43.png" ContentType="image/png"/>
  <Override PartName="/ppt/media/image47.jpeg" ContentType="image/jpeg"/>
  <Override PartName="/ppt/media/image31.jpeg" ContentType="image/jpeg"/>
  <Override PartName="/ppt/media/image48.jpeg" ContentType="image/jpeg"/>
  <Override PartName="/ppt/media/image49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8B37-C016-412C-B630-8F7E1BECE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DB8C-834D-4573-9270-6B021A73A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1F1D-846C-48EF-A71D-5CA8A9805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8F68-6365-4F63-8B8A-B78B98A08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79CE1-BFD0-409E-B7C0-BDA7FA7B3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58656-2394-4B71-A839-F78846EA7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3F918-06A3-402D-A92E-AB05C38E8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8A5F9-49F4-4538-AEC0-735CF78F9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2BF5D-C36F-4F39-9F11-941CACE5A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8FC6E-7946-4DBA-BC45-38FB71888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AB01B-AEC3-48F6-9425-2B296D6A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C8E9-2774-4553-9C4D-2EE13ABC3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41BA6-D4F4-497C-97C4-E7E96A5A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1DC92-FDDD-418F-A929-C6B346F32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923C9-B938-4C7D-BF50-D62AEC1BB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2112C-FAB0-48A5-A0AD-024F1E071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64CDD-A40C-440E-BC1C-64DE8A97E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9938-BCD8-4604-B8C4-A6E08393B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E65E-9B02-49B2-8F77-4C27D4604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4A41-45C1-4756-8711-6233EEC8C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F173-F9DF-477D-8A0A-7F0C94642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85E1-EE36-479B-B6B5-63747793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E9E3-9C4F-4821-B8A6-2F90D3F89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382E-D6C1-4D78-9D17-E0FF0B6D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670A2C5-03C5-4077-B426-D1527AE7A7C5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7C8A284-13A7-4B2B-A7F4-77ACAF7B8E6B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dividual work upon the lexical topic “Chronic Gastritis”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PREPARED BY ABILDINOV  D.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GROUP 2069, “GENERAL MEDICIN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UNDER THE SUPERVISION OF THE FOREIGN LANGUAGES DEPARTMENT TEACHER T.G.DASHK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C:\Users\Tatyana\Desktop\скачанные файлы.jpg"/>
          <p:cNvPicPr/>
          <p:nvPr/>
        </p:nvPicPr>
        <p:blipFill>
          <a:blip r:embed="rId1"/>
          <a:stretch/>
        </p:blipFill>
        <p:spPr>
          <a:xfrm>
            <a:off x="3071880" y="285840"/>
            <a:ext cx="2809440" cy="162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9. Diet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http://antonella.ru/wp-content/uploads/2015/01/10-dnevnaya-dieta.jpg"/>
          <p:cNvPicPr/>
          <p:nvPr/>
        </p:nvPicPr>
        <p:blipFill>
          <a:blip r:embed="rId1"/>
          <a:stretch/>
        </p:blipFill>
        <p:spPr>
          <a:xfrm>
            <a:off x="1500120" y="1643040"/>
            <a:ext cx="6286320" cy="470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0. Brain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http://hi-news.ru/wp-content/uploads/2015/06/Brain-image-650x433.jpg"/>
          <p:cNvPicPr/>
          <p:nvPr/>
        </p:nvPicPr>
        <p:blipFill>
          <a:blip r:embed="rId1"/>
          <a:stretch/>
        </p:blipFill>
        <p:spPr>
          <a:xfrm>
            <a:off x="1214280" y="1643040"/>
            <a:ext cx="6190920" cy="41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1. Liver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http://psoriaza.ru/wp-content/uploads/2015/05/liver.jpg"/>
          <p:cNvPicPr/>
          <p:nvPr/>
        </p:nvPicPr>
        <p:blipFill>
          <a:blip r:embed="rId1"/>
          <a:stretch/>
        </p:blipFill>
        <p:spPr>
          <a:xfrm>
            <a:off x="1714320" y="2000160"/>
            <a:ext cx="5714640" cy="37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2. Kidney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http://opochkah.ru/wp-content/uploads/2014/05/pochka-3d.jpg"/>
          <p:cNvPicPr/>
          <p:nvPr/>
        </p:nvPicPr>
        <p:blipFill>
          <a:blip r:embed="rId1"/>
          <a:stretch/>
        </p:blipFill>
        <p:spPr>
          <a:xfrm>
            <a:off x="928800" y="1785960"/>
            <a:ext cx="740484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3. Mucous membrane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http://marimer.com.ua/media/pages/10/dysfunction_of_the_mucosa.jpg"/>
          <p:cNvPicPr/>
          <p:nvPr/>
        </p:nvPicPr>
        <p:blipFill>
          <a:blip r:embed="rId1"/>
          <a:stretch/>
        </p:blipFill>
        <p:spPr>
          <a:xfrm>
            <a:off x="500040" y="1857240"/>
            <a:ext cx="8144280" cy="39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4. Chronic gastritis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http://pischevod.com/data/source/hronicheskij-gastrit-1.jpg"/>
          <p:cNvPicPr/>
          <p:nvPr/>
        </p:nvPicPr>
        <p:blipFill>
          <a:blip r:embed="rId1"/>
          <a:stretch/>
        </p:blipFill>
        <p:spPr>
          <a:xfrm>
            <a:off x="1500120" y="1500120"/>
            <a:ext cx="6214680" cy="48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5. Alcohol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http://www.lipetsk.ru/upload/iblock/70d/70df536c79dd37c2cdbd2912c4004a01.jpeg"/>
          <p:cNvPicPr/>
          <p:nvPr/>
        </p:nvPicPr>
        <p:blipFill>
          <a:blip r:embed="rId1"/>
          <a:stretch/>
        </p:blipFill>
        <p:spPr>
          <a:xfrm>
            <a:off x="714240" y="1643040"/>
            <a:ext cx="764352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6. Inadequate food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http://sisoftware.biz/wp-content/uploads/2015/07/fastfood.jpg"/>
          <p:cNvPicPr/>
          <p:nvPr/>
        </p:nvPicPr>
        <p:blipFill>
          <a:blip r:embed="rId1"/>
          <a:stretch/>
        </p:blipFill>
        <p:spPr>
          <a:xfrm>
            <a:off x="642960" y="1714320"/>
            <a:ext cx="7371720" cy="44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8. Acid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AutoShape 4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8" descr="http://n1s1.hsmedia.ru/31/5c/69/315c695bfbeaf961fc8f55137469ed24/520x427_0xc0a83945_4438877091374568682.jpg"/>
          <p:cNvPicPr/>
          <p:nvPr/>
        </p:nvPicPr>
        <p:blipFill>
          <a:blip r:embed="rId1"/>
          <a:stretch/>
        </p:blipFill>
        <p:spPr>
          <a:xfrm>
            <a:off x="1928880" y="1714320"/>
            <a:ext cx="4952520" cy="40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9. Pepsin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http://trenhard.com/wp-content/uploads/2013/08/pepsin_2.jpg"/>
          <p:cNvPicPr/>
          <p:nvPr/>
        </p:nvPicPr>
        <p:blipFill>
          <a:blip r:embed="rId1"/>
          <a:stretch/>
        </p:blipFill>
        <p:spPr>
          <a:xfrm>
            <a:off x="1714320" y="1785960"/>
            <a:ext cx="5524200" cy="41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. Inflammation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http://ru.medixa.org/bsmedia/image/thumb/2-nemoci-zaludku.jpg/p_detail_thumb.jpg/%D0%97%D0%B0%D0%B1%D0%BE%D0%BB%D0%B5%D0%B2%D0%B0%D0%BD%D0%B8%D1%8F%20%D0%B6%D0%B5%D0%BB%D1%83%D0%B4%D0%BA%D0%B0.jpg"/>
          <p:cNvPicPr/>
          <p:nvPr/>
        </p:nvPicPr>
        <p:blipFill>
          <a:blip r:embed="rId1"/>
          <a:stretch/>
        </p:blipFill>
        <p:spPr>
          <a:xfrm>
            <a:off x="0" y="2143080"/>
            <a:ext cx="826596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0. Loss appetite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2" descr="http://www.inmoment.ru/img/poor-appetite.jpg"/>
          <p:cNvPicPr/>
          <p:nvPr/>
        </p:nvPicPr>
        <p:blipFill>
          <a:blip r:embed="rId1"/>
          <a:stretch/>
        </p:blipFill>
        <p:spPr>
          <a:xfrm>
            <a:off x="2357280" y="2286000"/>
            <a:ext cx="421452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1. Pain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http://www.doctorfm.ru/sites/default/files/bolit-zhivot.jpg"/>
          <p:cNvPicPr/>
          <p:nvPr/>
        </p:nvPicPr>
        <p:blipFill>
          <a:blip r:embed="rId1"/>
          <a:stretch/>
        </p:blipFill>
        <p:spPr>
          <a:xfrm>
            <a:off x="1143000" y="2071800"/>
            <a:ext cx="6374160" cy="41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2. Meals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4" descr="http://interesnyesaity.ru/wp-content/uploads/breakfast.jpg"/>
          <p:cNvPicPr/>
          <p:nvPr/>
        </p:nvPicPr>
        <p:blipFill>
          <a:blip r:embed="rId1"/>
          <a:stretch/>
        </p:blipFill>
        <p:spPr>
          <a:xfrm>
            <a:off x="1571760" y="1714320"/>
            <a:ext cx="564336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3. Epigastrium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http://gastromedic.ru/wp-content/uploads/2014/11/epigastrij.jpg"/>
          <p:cNvPicPr/>
          <p:nvPr/>
        </p:nvPicPr>
        <p:blipFill>
          <a:blip r:embed="rId1"/>
          <a:stretch/>
        </p:blipFill>
        <p:spPr>
          <a:xfrm>
            <a:off x="2571840" y="2000160"/>
            <a:ext cx="3928680" cy="391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4. Nausea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2" descr="http://morebabies.ru/uploads/articles/GDn5nukp.jpg"/>
          <p:cNvPicPr/>
          <p:nvPr/>
        </p:nvPicPr>
        <p:blipFill>
          <a:blip r:embed="rId1"/>
          <a:stretch/>
        </p:blipFill>
        <p:spPr>
          <a:xfrm>
            <a:off x="2143080" y="1643040"/>
            <a:ext cx="4714560" cy="47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5. Vomiting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http://dic.academic.ru/pictures/enc_medicine/0222372124.jpg"/>
          <p:cNvPicPr/>
          <p:nvPr/>
        </p:nvPicPr>
        <p:blipFill>
          <a:blip r:embed="rId1"/>
          <a:stretch/>
        </p:blipFill>
        <p:spPr>
          <a:xfrm>
            <a:off x="1714320" y="1928880"/>
            <a:ext cx="5381280" cy="43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6. Time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http://www.marialedda.com/wp-content/uploads/2014/03/time.jpg"/>
          <p:cNvPicPr/>
          <p:nvPr/>
        </p:nvPicPr>
        <p:blipFill>
          <a:blip r:embed="rId1"/>
          <a:stretch/>
        </p:blipFill>
        <p:spPr>
          <a:xfrm>
            <a:off x="1428840" y="1714320"/>
            <a:ext cx="646236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7. Esophagus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2" descr="http://www.gastroscan.ru/literature/images02/shishko-vi-ris-01.jpg"/>
          <p:cNvPicPr/>
          <p:nvPr/>
        </p:nvPicPr>
        <p:blipFill>
          <a:blip r:embed="rId1"/>
          <a:stretch/>
        </p:blipFill>
        <p:spPr>
          <a:xfrm>
            <a:off x="3000240" y="1785960"/>
            <a:ext cx="299988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8. Bacteria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http://www.festivalnauki.ru/sites/default/files/styles/large/public/helicobacter-pylori.jpg?itok=zDkcZZLs"/>
          <p:cNvPicPr/>
          <p:nvPr/>
        </p:nvPicPr>
        <p:blipFill>
          <a:blip r:embed="rId1"/>
          <a:stretch/>
        </p:blipFill>
        <p:spPr>
          <a:xfrm>
            <a:off x="1714320" y="1857240"/>
            <a:ext cx="5786280" cy="434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9. Heartburn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2" descr="http://doctor54.ru/mod/wiki/images/bands/1282727034_1_images.jpg"/>
          <p:cNvPicPr/>
          <p:nvPr/>
        </p:nvPicPr>
        <p:blipFill>
          <a:blip r:embed="rId1"/>
          <a:stretch/>
        </p:blipFill>
        <p:spPr>
          <a:xfrm>
            <a:off x="1643040" y="1785960"/>
            <a:ext cx="581004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. Stomach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4" descr="http://gippokrat.com/Data/Media/images/Depositphotos_12820608_original.jpg"/>
          <p:cNvPicPr/>
          <p:nvPr/>
        </p:nvPicPr>
        <p:blipFill>
          <a:blip r:embed="rId1"/>
          <a:stretch/>
        </p:blipFill>
        <p:spPr>
          <a:xfrm>
            <a:off x="1714320" y="1214280"/>
            <a:ext cx="550044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0. Pepper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2" descr="http://edaplus.info/food_pictures/chili.jpg"/>
          <p:cNvPicPr/>
          <p:nvPr/>
        </p:nvPicPr>
        <p:blipFill>
          <a:blip r:embed="rId1"/>
          <a:stretch/>
        </p:blipFill>
        <p:spPr>
          <a:xfrm>
            <a:off x="1500120" y="1357200"/>
            <a:ext cx="600048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1. Teeth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2" descr="http://www.prisnilos.su/kcfinder/upload/image/20-%D0%B2%D1%8B%D0%BF%D0%B0%D0%BB%20%D0%B7%D1%83%D0%B1%20%D0%B2%D0%BE%20%D1%81%D0%BD%D0%B5%20%D0%B1%D0%B5%D0%B7%20%D0%BA%D1%80%D0%BE%D0%B2%D0%B8-1.jpg"/>
          <p:cNvPicPr/>
          <p:nvPr/>
        </p:nvPicPr>
        <p:blipFill>
          <a:blip r:embed="rId1"/>
          <a:stretch/>
        </p:blipFill>
        <p:spPr>
          <a:xfrm>
            <a:off x="1428840" y="1714320"/>
            <a:ext cx="5786280" cy="433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2. Pills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2" descr="http://dermalatlas.ru/wp-content/uploads/2015/02/kakie-tabletki-ot-allergii.jpg"/>
          <p:cNvPicPr/>
          <p:nvPr/>
        </p:nvPicPr>
        <p:blipFill>
          <a:blip r:embed="rId1"/>
          <a:stretch/>
        </p:blipFill>
        <p:spPr>
          <a:xfrm>
            <a:off x="1500120" y="1714320"/>
            <a:ext cx="6000480" cy="379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3. Porridge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2" descr="http://multivarenie.ru/images/multivarenie/2015/03/1383729200_5.jpg"/>
          <p:cNvPicPr/>
          <p:nvPr/>
        </p:nvPicPr>
        <p:blipFill>
          <a:blip r:embed="rId1"/>
          <a:stretch/>
        </p:blipFill>
        <p:spPr>
          <a:xfrm>
            <a:off x="1571760" y="1643040"/>
            <a:ext cx="5610960" cy="42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4. Syrup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2" descr="http://irecommend.ru/sites/default/files/product-images/51508/almagel.jpg"/>
          <p:cNvPicPr/>
          <p:nvPr/>
        </p:nvPicPr>
        <p:blipFill>
          <a:blip r:embed="rId1"/>
          <a:stretch/>
        </p:blipFill>
        <p:spPr>
          <a:xfrm>
            <a:off x="1571760" y="1928880"/>
            <a:ext cx="5500440" cy="39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5. Sleep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2" descr="http://3.bp.blogspot.com/_y3617glR_xI/TCEmpb2SIFI/AAAAAAAAAAM/9KCtShvMjKQ/s1600/dormir.png"/>
          <p:cNvPicPr/>
          <p:nvPr/>
        </p:nvPicPr>
        <p:blipFill>
          <a:blip r:embed="rId1"/>
          <a:stretch/>
        </p:blipFill>
        <p:spPr>
          <a:xfrm>
            <a:off x="2000160" y="1357200"/>
            <a:ext cx="5285880" cy="52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6. Fastfood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2" descr="http://www.franchisee.su/upload/medialibrary/0f2/0f2512839e61530d6063c825b4fef73c.png"/>
          <p:cNvPicPr/>
          <p:nvPr/>
        </p:nvPicPr>
        <p:blipFill>
          <a:blip r:embed="rId1"/>
          <a:stretch/>
        </p:blipFill>
        <p:spPr>
          <a:xfrm>
            <a:off x="2286000" y="1928880"/>
            <a:ext cx="4357440" cy="37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7. Cough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2" descr="http://angliya.com/wp-content/uploads/2015/03/2773_1.jpg"/>
          <p:cNvPicPr/>
          <p:nvPr/>
        </p:nvPicPr>
        <p:blipFill>
          <a:blip r:embed="rId1"/>
          <a:stretch/>
        </p:blipFill>
        <p:spPr>
          <a:xfrm>
            <a:off x="1428840" y="1857240"/>
            <a:ext cx="5819400" cy="39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8. Pancreas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2" descr="http://mojzheludok.com/wp-content/uploads/2015/12/Uvelichennaya-podzheludochnaya-zheleza.jpg"/>
          <p:cNvPicPr/>
          <p:nvPr/>
        </p:nvPicPr>
        <p:blipFill>
          <a:blip r:embed="rId1"/>
          <a:stretch/>
        </p:blipFill>
        <p:spPr>
          <a:xfrm>
            <a:off x="2000160" y="2071800"/>
            <a:ext cx="5000400" cy="37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9. Gallbladder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2" descr="http://fitfan.ru/uploads/posts/2014-01/1389426492_zhel4_2.jpg"/>
          <p:cNvPicPr/>
          <p:nvPr/>
        </p:nvPicPr>
        <p:blipFill>
          <a:blip r:embed="rId1"/>
          <a:stretch/>
        </p:blipFill>
        <p:spPr>
          <a:xfrm>
            <a:off x="1857240" y="1785960"/>
            <a:ext cx="5143320" cy="38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. Scientists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earth-chronicles.ru/Publications_2/8/20121211153134.jpg"/>
          <p:cNvPicPr/>
          <p:nvPr/>
        </p:nvPicPr>
        <p:blipFill>
          <a:blip r:embed="rId1"/>
          <a:stretch/>
        </p:blipFill>
        <p:spPr>
          <a:xfrm>
            <a:off x="1428840" y="1571760"/>
            <a:ext cx="6286320" cy="45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0. Virus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2" descr="http://static.medportal.ru/pic/enc/images/heliko.jpg"/>
          <p:cNvPicPr/>
          <p:nvPr/>
        </p:nvPicPr>
        <p:blipFill>
          <a:blip r:embed="rId1"/>
          <a:stretch/>
        </p:blipFill>
        <p:spPr>
          <a:xfrm>
            <a:off x="2214720" y="2286000"/>
            <a:ext cx="450036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1. Call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http://pricom.kz/images/2013/08/%D0%9F%D1%80%D1%8F%D0%BC%D0%B0%D1%8F-%D0%BB%D0%B8%D0%BD%D0%B8%D1%8F.jpg"/>
          <p:cNvPicPr/>
          <p:nvPr/>
        </p:nvPicPr>
        <p:blipFill>
          <a:blip r:embed="rId1"/>
          <a:stretch/>
        </p:blipFill>
        <p:spPr>
          <a:xfrm>
            <a:off x="1571760" y="1785960"/>
            <a:ext cx="5857560" cy="43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2. Respiration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2" descr="http://s.hanuman.ru/files/imagecache/blog_image/Dihanchik.jpg"/>
          <p:cNvPicPr/>
          <p:nvPr/>
        </p:nvPicPr>
        <p:blipFill>
          <a:blip r:embed="rId1"/>
          <a:stretch/>
        </p:blipFill>
        <p:spPr>
          <a:xfrm>
            <a:off x="1428840" y="2214720"/>
            <a:ext cx="6273360" cy="37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3. Brestbone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2" descr="https://upload.wikimedia.org/wikipedia/commons/thumb/2/23/Gray116.png/199px-Gray116.png"/>
          <p:cNvPicPr/>
          <p:nvPr/>
        </p:nvPicPr>
        <p:blipFill>
          <a:blip r:embed="rId1"/>
          <a:stretch/>
        </p:blipFill>
        <p:spPr>
          <a:xfrm>
            <a:off x="2214720" y="1367640"/>
            <a:ext cx="4487400" cy="549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4. Throat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http://www.likar.info/pictures_ckfinder/images/Bolit_gorlo___chem_lechit.jpg"/>
          <p:cNvPicPr/>
          <p:nvPr/>
        </p:nvPicPr>
        <p:blipFill>
          <a:blip r:embed="rId1"/>
          <a:stretch/>
        </p:blipFill>
        <p:spPr>
          <a:xfrm>
            <a:off x="1785960" y="2000160"/>
            <a:ext cx="502884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5. Pharmacy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AutoShape 4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6" descr="https://encrypted-tbn3.gstatic.com/images?q=tbn:ANd9GcS9ZpcMZz43sgTByZfudRfxJMHLaIlzTYt6_ii-r_wkPko-LONZTQ"/>
          <p:cNvPicPr/>
          <p:nvPr/>
        </p:nvPicPr>
        <p:blipFill>
          <a:blip r:embed="rId1"/>
          <a:stretch/>
        </p:blipFill>
        <p:spPr>
          <a:xfrm>
            <a:off x="1571760" y="1714320"/>
            <a:ext cx="6071760" cy="40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6. Hospital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2" descr="http://ukwulutownunion.com/wp-content/uploads/2016/03/Hospital2.jpg"/>
          <p:cNvPicPr/>
          <p:nvPr/>
        </p:nvPicPr>
        <p:blipFill>
          <a:blip r:embed="rId1"/>
          <a:srcRect l="0" t="14776" r="0" b="19315"/>
          <a:stretch/>
        </p:blipFill>
        <p:spPr>
          <a:xfrm>
            <a:off x="1428840" y="1714320"/>
            <a:ext cx="6286320" cy="41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7. Spleen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2" descr="http://zapdoc.ru/assets/images/stat/razryv-selezenki-4-sluchaya-iz-praktiki_2.jpg"/>
          <p:cNvPicPr/>
          <p:nvPr/>
        </p:nvPicPr>
        <p:blipFill>
          <a:blip r:embed="rId1"/>
          <a:stretch/>
        </p:blipFill>
        <p:spPr>
          <a:xfrm>
            <a:off x="2643120" y="1428840"/>
            <a:ext cx="3785760" cy="50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8. Temperature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2" descr="http://plmnlg.com/wp-content/uploads/2015/02/temperatura-posle-bronhita.jpg"/>
          <p:cNvPicPr/>
          <p:nvPr/>
        </p:nvPicPr>
        <p:blipFill>
          <a:blip r:embed="rId1"/>
          <a:stretch/>
        </p:blipFill>
        <p:spPr>
          <a:xfrm>
            <a:off x="1643040" y="1714320"/>
            <a:ext cx="5905080" cy="39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9. Disease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2" descr="http://lechenie-gastrita.ru/wp-content/uploads/2011/11/1123.jpg"/>
          <p:cNvPicPr/>
          <p:nvPr/>
        </p:nvPicPr>
        <p:blipFill>
          <a:blip r:embed="rId1"/>
          <a:stretch/>
        </p:blipFill>
        <p:spPr>
          <a:xfrm>
            <a:off x="1785960" y="1857240"/>
            <a:ext cx="4714560" cy="47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. Ulcer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http://www.likar.info/uploads/disease/%D1%8F%D0%B7%D0%B2%D0%B0%20%D0%B4%D0%BF%D0%BA2.jpg"/>
          <p:cNvPicPr/>
          <p:nvPr/>
        </p:nvPicPr>
        <p:blipFill>
          <a:blip r:embed="rId1"/>
          <a:stretch/>
        </p:blipFill>
        <p:spPr>
          <a:xfrm>
            <a:off x="1428840" y="1714320"/>
            <a:ext cx="619092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in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2" descr="http://www.gastroscan.ru/patient/images/bol-v-jivote-2.jpg"/>
          <p:cNvPicPr/>
          <p:nvPr/>
        </p:nvPicPr>
        <p:blipFill>
          <a:blip r:embed="rId1"/>
          <a:stretch/>
        </p:blipFill>
        <p:spPr>
          <a:xfrm>
            <a:off x="1785960" y="1928880"/>
            <a:ext cx="5285880" cy="33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5. Duodenum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http://teamhelp.ru/images/2/limfoidnaya-giperplaziya-lukovicy-12-perstnoj-kishki.jpg"/>
          <p:cNvPicPr/>
          <p:nvPr/>
        </p:nvPicPr>
        <p:blipFill>
          <a:blip r:embed="rId1"/>
          <a:stretch/>
        </p:blipFill>
        <p:spPr>
          <a:xfrm>
            <a:off x="1643040" y="1305360"/>
            <a:ext cx="5928840" cy="55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6. Impulses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AutoShape 2"/>
          <p:cNvSpPr/>
          <p:nvPr/>
        </p:nvSpPr>
        <p:spPr>
          <a:xfrm>
            <a:off x="63360" y="-1364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4" descr="http://goltis.info/sites/default/files/styles/w700x700/public/impuls.jpg?itok=bhrny9W7"/>
          <p:cNvPicPr/>
          <p:nvPr/>
        </p:nvPicPr>
        <p:blipFill>
          <a:blip r:embed="rId1"/>
          <a:stretch/>
        </p:blipFill>
        <p:spPr>
          <a:xfrm>
            <a:off x="1428840" y="1571760"/>
            <a:ext cx="6167160" cy="462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7. Gastric juice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http://img2.vitaportal.ru/sites/default/files/story_files/shutterstock_176963624.jpg"/>
          <p:cNvPicPr/>
          <p:nvPr/>
        </p:nvPicPr>
        <p:blipFill>
          <a:blip r:embed="rId1"/>
          <a:srcRect l="0" t="13306" r="0" b="14449"/>
          <a:stretch/>
        </p:blipFill>
        <p:spPr>
          <a:xfrm>
            <a:off x="714240" y="1500120"/>
            <a:ext cx="7506000" cy="49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8. Emotional overstrain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http://skarvit.ru/wp-content/uploads/2014/11/strees.jpg"/>
          <p:cNvPicPr/>
          <p:nvPr/>
        </p:nvPicPr>
        <p:blipFill>
          <a:blip r:embed="rId1"/>
          <a:stretch/>
        </p:blipFill>
        <p:spPr>
          <a:xfrm>
            <a:off x="642960" y="1928880"/>
            <a:ext cx="7914960" cy="37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  <Words>183</Words>
  <Paragraphs>5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06T12:12:59Z</dcterms:created>
  <dc:creator>Tatyana</dc:creator>
  <dc:description/>
  <dc:language>en-US</dc:language>
  <cp:lastModifiedBy>admin</cp:lastModifiedBy>
  <dcterms:modified xsi:type="dcterms:W3CDTF">2016-04-10T16:51:01Z</dcterms:modified>
  <cp:revision>45</cp:revision>
  <dc:subject/>
  <dc:title>Individual work upon the lexical topic “Bronchitis”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50</vt:r8>
  </property>
</Properties>
</file>