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8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6FDE-7E24-47ED-AD87-828C104C07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FF3B-E364-447A-B14E-B66504CCBE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E5A2-1C43-4535-A619-6721A7D137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9945-1CB7-444C-BE69-34FE40232F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1A41-5579-46CA-B180-196030E637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3F3B-ABA3-43ED-94D6-3270C11F26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5110-DAAA-4C0A-9968-2662CBA388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1BE1-1EAD-4A3C-AF64-62F661F54A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E8B9-7E4C-4A03-B213-5A47849F14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A8B9-C593-4E44-A201-11644DF480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1AB4-4A9C-40C3-BB7B-D13D62DBC3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1D43-6FC4-4BC9-9AFF-240B3EE5FB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77C0-2CBB-4F0A-8A25-A094ACF078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A1CA-8B11-4B3B-B9A6-8DA004DC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EB2A-5A01-4481-8DA8-ED362AEC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03C4-DD7D-43C0-818E-60F3B78C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D4A-F5E0-47E8-91CC-3C984043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ABD8-A65B-4181-8909-301A5172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7C2E-C075-427F-A5B5-2DB7C2B5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9FE0-56A1-4E7C-BC0D-5B98C61F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289D-175F-4DDA-A194-C214484A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FCB4-A91D-4847-A7DE-302C0A4E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CD22-3D4C-42F7-8386-1A1952DF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94EF-98E3-4536-B9D9-EE9FC1EF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D789-3E5C-4529-AF20-29FB58B1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134B-0CAE-41CD-9A40-7657DC06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F1A8-725A-49B0-AAF5-2738FC8E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41AC-BE05-49DB-9F04-1AFB289D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EE79-27F3-4814-B899-6451A973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4901-AFED-44CA-9992-398C607E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EB72-B006-4BEB-9E93-38CB997E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13A0-76EE-4A2E-A5A2-61EC8349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40E8-FB6F-4B68-8EB0-41D43453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D5D-C2A5-4EA2-9313-A3946D53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D8C5-800A-40CA-9076-53638D52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BEA8-BEB8-4A5A-9AAB-CE831CB9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B2A7-6C14-4CE5-8FAD-21484627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B862-C708-44E1-A244-16F1CEBD888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DADF-A08D-49CB-9A39-CFB78D5741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ррозия метал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щита от корроз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щитное покрытие ( лак, масло, краска, покрытие некорродирующим металлом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, Sn, Z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ржавеющие ст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гибиторы корроз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екторная защи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01680" y="274320"/>
            <a:ext cx="704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щитное покрыт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2229120" cy="2409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14"/>
          <p:cNvPicPr/>
          <p:nvPr/>
        </p:nvPicPr>
        <p:blipFill>
          <a:blip r:embed="rId2"/>
          <a:stretch/>
        </p:blipFill>
        <p:spPr>
          <a:xfrm>
            <a:off x="5796000" y="1700280"/>
            <a:ext cx="2442960" cy="1873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00206"/>
          <p:cNvPicPr/>
          <p:nvPr/>
        </p:nvPicPr>
        <p:blipFill>
          <a:blip r:embed="rId3"/>
          <a:stretch/>
        </p:blipFill>
        <p:spPr>
          <a:xfrm>
            <a:off x="3132000" y="3860640"/>
            <a:ext cx="316728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6" descr="нержавейка"/>
          <p:cNvPicPr/>
          <p:nvPr/>
        </p:nvPicPr>
        <p:blipFill>
          <a:blip r:embed="rId1"/>
          <a:stretch/>
        </p:blipFill>
        <p:spPr>
          <a:xfrm>
            <a:off x="6443640" y="3500280"/>
            <a:ext cx="2381400" cy="3191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3924360" y="1413000"/>
            <a:ext cx="3384360" cy="17748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1116000" y="33336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ржавеющая ста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7" descr="i"/>
          <p:cNvPicPr/>
          <p:nvPr/>
        </p:nvPicPr>
        <p:blipFill>
          <a:blip r:embed="rId3"/>
          <a:stretch/>
        </p:blipFill>
        <p:spPr>
          <a:xfrm>
            <a:off x="3924360" y="4221000"/>
            <a:ext cx="1441440" cy="1293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lc_12"/>
          <p:cNvPicPr/>
          <p:nvPr/>
        </p:nvPicPr>
        <p:blipFill>
          <a:blip r:embed="rId4"/>
          <a:stretch/>
        </p:blipFill>
        <p:spPr>
          <a:xfrm>
            <a:off x="468360" y="2060640"/>
            <a:ext cx="28796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текторная защи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image7"/>
          <p:cNvPicPr/>
          <p:nvPr/>
        </p:nvPicPr>
        <p:blipFill>
          <a:blip r:embed="rId1"/>
          <a:stretch/>
        </p:blipFill>
        <p:spPr>
          <a:xfrm>
            <a:off x="2627280" y="1773360"/>
            <a:ext cx="462924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9640" y="1773360"/>
            <a:ext cx="8374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коррози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виды коррозии существуют? Дайте опреде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чему не корродируют чистые металл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й металл будет разрушаться при контакте во влажной среде: медь и цинк; алюминий и магний? Поче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овите основные способы защиты от корроз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E`yfeleva-bashnya"/>
          <p:cNvPicPr/>
          <p:nvPr/>
        </p:nvPicPr>
        <p:blipFill>
          <a:blip r:embed="rId2"/>
          <a:stretch/>
        </p:blipFill>
        <p:spPr>
          <a:xfrm>
            <a:off x="250920" y="115920"/>
            <a:ext cx="5270400" cy="351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painting eiffel"/>
          <p:cNvPicPr/>
          <p:nvPr/>
        </p:nvPicPr>
        <p:blipFill>
          <a:blip r:embed="rId3"/>
          <a:stretch/>
        </p:blipFill>
        <p:spPr>
          <a:xfrm>
            <a:off x="5148360" y="3429000"/>
            <a:ext cx="3774960" cy="31305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129600" y="5013360"/>
            <a:ext cx="518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Эйфелева башня, масса 9000 тон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Красили 18 раз, использу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по 70 тон крас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684360" y="981000"/>
            <a:ext cx="3311280" cy="42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Ежегодно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/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всего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изведенн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ряется из-за корроз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5" descr="33_2"/>
          <p:cNvPicPr/>
          <p:nvPr/>
        </p:nvPicPr>
        <p:blipFill>
          <a:blip r:embed="rId1"/>
          <a:stretch/>
        </p:blipFill>
        <p:spPr>
          <a:xfrm>
            <a:off x="4067280" y="1916280"/>
            <a:ext cx="43686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Коррозия – 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от лат. corrodere - разъедать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6" descr="017"/>
          <p:cNvPicPr/>
          <p:nvPr/>
        </p:nvPicPr>
        <p:blipFill>
          <a:blip r:embed="rId1"/>
          <a:stretch/>
        </p:blipFill>
        <p:spPr>
          <a:xfrm>
            <a:off x="1403280" y="2205000"/>
            <a:ext cx="2808360" cy="3809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kor08-2"/>
          <p:cNvPicPr/>
          <p:nvPr/>
        </p:nvPicPr>
        <p:blipFill>
          <a:blip r:embed="rId2"/>
          <a:stretch/>
        </p:blipFill>
        <p:spPr>
          <a:xfrm>
            <a:off x="5435640" y="2133720"/>
            <a:ext cx="2881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Organization Chart 7"/>
          <p:cNvGrpSpPr/>
          <p:nvPr/>
        </p:nvGrpSpPr>
        <p:grpSpPr>
          <a:xfrm>
            <a:off x="611280" y="363600"/>
            <a:ext cx="7597080" cy="5484600"/>
            <a:chOff x="611280" y="363600"/>
            <a:chExt cx="7597080" cy="5484600"/>
          </a:xfrm>
        </p:grpSpPr>
        <p:cxnSp>
          <p:nvCxnSpPr>
            <p:cNvPr id="102" name="_s1028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4883760" y="2082600"/>
              <a:ext cx="1097640" cy="2045520"/>
            </a:xfrm>
            <a:prstGeom prst="bentConnector3">
              <a:avLst>
                <a:gd name="adj1" fmla="val 127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29"/>
            <p:cNvCxnSpPr>
              <a:stCxn id="106" idx="0"/>
              <a:endCxn id="104" idx="2"/>
            </p:cNvCxnSpPr>
            <p:nvPr/>
          </p:nvCxnSpPr>
          <p:spPr>
            <a:xfrm flipH="1" flipV="1" rot="5400000">
              <a:off x="2838600" y="2082600"/>
              <a:ext cx="1097640" cy="2046240"/>
            </a:xfrm>
            <a:prstGeom prst="bentConnector3">
              <a:avLst>
                <a:gd name="adj1" fmla="val 127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1030"/>
            <p:cNvSpPr/>
            <p:nvPr/>
          </p:nvSpPr>
          <p:spPr>
            <a:xfrm>
              <a:off x="2656800" y="363600"/>
              <a:ext cx="3506400" cy="21938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ahoma"/>
                </a:rPr>
                <a:t>Виды коррозии</a:t>
              </a:r>
              <a:endParaRPr b="0" lang="en-US" sz="3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_s1031"/>
            <p:cNvSpPr/>
            <p:nvPr/>
          </p:nvSpPr>
          <p:spPr>
            <a:xfrm>
              <a:off x="611280" y="3654360"/>
              <a:ext cx="3506400" cy="21938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 u="sng">
                  <a:solidFill>
                    <a:srgbClr val="000000"/>
                  </a:solidFill>
                  <a:uFillTx/>
                  <a:latin typeface="Tahoma"/>
                </a:rPr>
                <a:t>Химическая</a:t>
              </a:r>
              <a:endParaRPr b="0" lang="en-US" sz="3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Под действием сухих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газов  </a:t>
              </a:r>
              <a:r>
                <a:rPr b="0" lang="ru-RU" sz="3000" spc="-1" strike="noStrike">
                  <a:solidFill>
                    <a:srgbClr val="000000"/>
                  </a:solidFill>
                  <a:latin typeface="Tahoma"/>
                </a:rPr>
                <a:t>С</a:t>
              </a:r>
              <a:r>
                <a:rPr b="0" lang="en-US" sz="30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,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O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,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O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,</a:t>
              </a: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неэлектролитов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_s1032"/>
            <p:cNvSpPr/>
            <p:nvPr/>
          </p:nvSpPr>
          <p:spPr>
            <a:xfrm>
              <a:off x="4701960" y="3654360"/>
              <a:ext cx="3506400" cy="219384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900" spc="-1" strike="noStrike" u="sng">
                  <a:solidFill>
                    <a:srgbClr val="000000"/>
                  </a:solidFill>
                  <a:uFillTx/>
                  <a:latin typeface="Tahoma"/>
                </a:rPr>
                <a:t>Электрохимическая</a:t>
              </a:r>
              <a:endParaRPr b="0" lang="en-US" sz="2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на контакте Ме,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H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2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O</a:t>
              </a: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 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гальванический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ahoma"/>
                </a:rPr>
                <a:t>элемент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826920" y="476280"/>
            <a:ext cx="7561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имеры химической коррозии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Fe  +  O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Fe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Fe +   Cl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FeCl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u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CuO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(медленно)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CuSO3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красн.    черный                 зелены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5640" y="4581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e + 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+ 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Fe(OH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4" descr="C:\documents\IMG_2201.JPG"/>
          <p:cNvPicPr/>
          <p:nvPr/>
        </p:nvPicPr>
        <p:blipFill>
          <a:blip r:embed="rId1"/>
          <a:srcRect l="32090" t="9722" r="37107" b="0"/>
          <a:stretch/>
        </p:blipFill>
        <p:spPr>
          <a:xfrm>
            <a:off x="5792760" y="1052640"/>
            <a:ext cx="2728800" cy="5329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documents\IMG_2194.JPG"/>
          <p:cNvPicPr/>
          <p:nvPr/>
        </p:nvPicPr>
        <p:blipFill>
          <a:blip r:embed="rId2"/>
          <a:stretch/>
        </p:blipFill>
        <p:spPr>
          <a:xfrm>
            <a:off x="204840" y="463680"/>
            <a:ext cx="561636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900000" y="620640"/>
            <a:ext cx="3743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813 г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Гемфри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Дев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кры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лектрохимическую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ррозию металл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5" descr="davy0"/>
          <p:cNvPicPr/>
          <p:nvPr/>
        </p:nvPicPr>
        <p:blipFill>
          <a:blip r:embed="rId1"/>
          <a:stretch/>
        </p:blipFill>
        <p:spPr>
          <a:xfrm>
            <a:off x="5003640" y="1197000"/>
            <a:ext cx="2840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010240" y="70488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Z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280560" y="69228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Garamond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85520" y="1413000"/>
            <a:ext cx="289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                                 </a:t>
            </a:r>
            <a:r>
              <a:rPr b="1" lang="en-US" sz="2400" spc="-1" strike="noStrike">
                <a:solidFill>
                  <a:srgbClr val="c0504d"/>
                </a:solidFill>
                <a:latin typeface="Garamond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Zn°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-</a:t>
            </a:r>
            <a:r>
              <a:rPr b="1" lang="en-US" sz="3200" spc="-1" strike="noStrike">
                <a:solidFill>
                  <a:srgbClr val="80008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c0504d"/>
                </a:solidFill>
                <a:latin typeface="Garamond"/>
              </a:rPr>
              <a:t>2ē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→ </a:t>
            </a:r>
            <a:r>
              <a:rPr b="1" lang="en-US" sz="3200" spc="-1" strike="noStrike">
                <a:solidFill>
                  <a:srgbClr val="c0504d"/>
                </a:solidFill>
                <a:latin typeface="Garamond"/>
              </a:rPr>
              <a:t>Z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868560" y="1700280"/>
            <a:ext cx="429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66"/>
                </a:solidFill>
                <a:latin typeface="Garamond"/>
              </a:rPr>
              <a:t>На поверхности </a:t>
            </a:r>
            <a:r>
              <a:rPr b="1" lang="en-US" sz="3200" spc="-1" strike="noStrike">
                <a:solidFill>
                  <a:srgbClr val="ff9966"/>
                </a:solidFill>
                <a:latin typeface="Garamond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Group 6"/>
          <p:cNvGrpSpPr/>
          <p:nvPr/>
        </p:nvGrpSpPr>
        <p:grpSpPr>
          <a:xfrm>
            <a:off x="2050920" y="2205000"/>
            <a:ext cx="5545440" cy="459720"/>
            <a:chOff x="2050920" y="2205000"/>
            <a:chExt cx="5545440" cy="459720"/>
          </a:xfrm>
        </p:grpSpPr>
        <p:sp>
          <p:nvSpPr>
            <p:cNvPr id="118" name="Line 7"/>
            <p:cNvSpPr/>
            <p:nvPr/>
          </p:nvSpPr>
          <p:spPr>
            <a:xfrm>
              <a:off x="2050920" y="2276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Line 8"/>
            <p:cNvSpPr/>
            <p:nvPr/>
          </p:nvSpPr>
          <p:spPr>
            <a:xfrm>
              <a:off x="2050920" y="2637000"/>
              <a:ext cx="554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Line 9"/>
            <p:cNvSpPr/>
            <p:nvPr/>
          </p:nvSpPr>
          <p:spPr>
            <a:xfrm flipV="1">
              <a:off x="7596360" y="2276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Text Box 10"/>
            <p:cNvSpPr/>
            <p:nvPr/>
          </p:nvSpPr>
          <p:spPr>
            <a:xfrm>
              <a:off x="2961000" y="220500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800080"/>
                  </a:solidFill>
                  <a:latin typeface="Garamond"/>
                </a:rPr>
                <a:t>поток электронов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Line 11"/>
          <p:cNvSpPr/>
          <p:nvPr/>
        </p:nvSpPr>
        <p:spPr>
          <a:xfrm>
            <a:off x="774072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5433840" y="3068640"/>
            <a:ext cx="319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c0504d"/>
                </a:solidFill>
                <a:latin typeface="Garamond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Garamond"/>
              </a:rPr>
              <a:t>2Н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1" lang="ru-RU" sz="3200" spc="-1" strike="noStrike">
                <a:solidFill>
                  <a:srgbClr val="800080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800080"/>
                </a:solidFill>
                <a:latin typeface="Garamond"/>
              </a:rPr>
              <a:t>ē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→ </a:t>
            </a:r>
            <a:r>
              <a:rPr b="1" lang="ru-RU" sz="3200" spc="-1" strike="noStrike">
                <a:solidFill>
                  <a:srgbClr val="c0504d"/>
                </a:solidFill>
                <a:latin typeface="Garamond"/>
              </a:rPr>
              <a:t>Н</a:t>
            </a:r>
            <a:r>
              <a:rPr b="1" lang="en-US" sz="3200" spc="-1" strike="noStrike">
                <a:solidFill>
                  <a:srgbClr val="c0504d"/>
                </a:solidFill>
                <a:latin typeface="Garamond"/>
              </a:rPr>
              <a:t>°</a:t>
            </a:r>
            <a:r>
              <a:rPr b="1" lang="ru-RU" sz="2400" spc="-1" strike="noStrike">
                <a:solidFill>
                  <a:srgbClr val="c0504d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c0504d"/>
                </a:solidFill>
                <a:latin typeface="Garamond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" name="Group 13"/>
          <p:cNvGrpSpPr/>
          <p:nvPr/>
        </p:nvGrpSpPr>
        <p:grpSpPr>
          <a:xfrm>
            <a:off x="7740720" y="2205000"/>
            <a:ext cx="464760" cy="1079640"/>
            <a:chOff x="7740720" y="2205000"/>
            <a:chExt cx="464760" cy="1079640"/>
          </a:xfrm>
        </p:grpSpPr>
        <p:sp>
          <p:nvSpPr>
            <p:cNvPr id="125" name="Line 14"/>
            <p:cNvSpPr/>
            <p:nvPr/>
          </p:nvSpPr>
          <p:spPr>
            <a:xfrm>
              <a:off x="7740720" y="2205000"/>
              <a:ext cx="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Text Box 15"/>
            <p:cNvSpPr/>
            <p:nvPr/>
          </p:nvSpPr>
          <p:spPr>
            <a:xfrm>
              <a:off x="7793280" y="234936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800080"/>
                  </a:solidFill>
                  <a:latin typeface="Garamond"/>
                </a:rPr>
                <a:t>ē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7" name="Oval 16"/>
          <p:cNvSpPr/>
          <p:nvPr/>
        </p:nvSpPr>
        <p:spPr>
          <a:xfrm>
            <a:off x="611280" y="4221000"/>
            <a:ext cx="2448000" cy="20894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1265040" y="537372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ahoma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Group 29"/>
          <p:cNvGrpSpPr/>
          <p:nvPr/>
        </p:nvGrpSpPr>
        <p:grpSpPr>
          <a:xfrm>
            <a:off x="2234880" y="4365720"/>
            <a:ext cx="857520" cy="1251720"/>
            <a:chOff x="2234880" y="4365720"/>
            <a:chExt cx="857520" cy="1251720"/>
          </a:xfrm>
        </p:grpSpPr>
        <p:sp>
          <p:nvSpPr>
            <p:cNvPr id="130" name="Text Box 19"/>
            <p:cNvSpPr/>
            <p:nvPr/>
          </p:nvSpPr>
          <p:spPr>
            <a:xfrm>
              <a:off x="2234880" y="4365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504d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21"/>
            <p:cNvSpPr/>
            <p:nvPr/>
          </p:nvSpPr>
          <p:spPr>
            <a:xfrm>
              <a:off x="2450520" y="458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504d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Text Box 22"/>
            <p:cNvSpPr/>
            <p:nvPr/>
          </p:nvSpPr>
          <p:spPr>
            <a:xfrm>
              <a:off x="2627280" y="4797360"/>
              <a:ext cx="43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504d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Text Box 23"/>
            <p:cNvSpPr/>
            <p:nvPr/>
          </p:nvSpPr>
          <p:spPr>
            <a:xfrm>
              <a:off x="2737800" y="515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504d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4" name="Group 40"/>
          <p:cNvGrpSpPr/>
          <p:nvPr/>
        </p:nvGrpSpPr>
        <p:grpSpPr>
          <a:xfrm>
            <a:off x="3059280" y="4292640"/>
            <a:ext cx="914400" cy="2151000"/>
            <a:chOff x="3059280" y="4292640"/>
            <a:chExt cx="914400" cy="2151000"/>
          </a:xfrm>
        </p:grpSpPr>
        <p:sp>
          <p:nvSpPr>
            <p:cNvPr id="135" name="AutoShape 27"/>
            <p:cNvSpPr/>
            <p:nvPr/>
          </p:nvSpPr>
          <p:spPr>
            <a:xfrm>
              <a:off x="3059280" y="4292640"/>
              <a:ext cx="914400" cy="2151000"/>
            </a:xfrm>
            <a:prstGeom prst="can">
              <a:avLst>
                <a:gd name="adj" fmla="val 25000"/>
              </a:avLst>
            </a:prstGeom>
            <a:solidFill>
              <a:srgbClr val="faa4a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Text Box 33"/>
            <p:cNvSpPr/>
            <p:nvPr/>
          </p:nvSpPr>
          <p:spPr>
            <a:xfrm>
              <a:off x="3350160" y="5803920"/>
              <a:ext cx="47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504d"/>
                  </a:solidFill>
                  <a:latin typeface="Tahoma"/>
                </a:rPr>
                <a:t>Cu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" name="Group 34"/>
          <p:cNvGrpSpPr/>
          <p:nvPr/>
        </p:nvGrpSpPr>
        <p:grpSpPr>
          <a:xfrm>
            <a:off x="1765800" y="4724280"/>
            <a:ext cx="676800" cy="990720"/>
            <a:chOff x="1765800" y="4724280"/>
            <a:chExt cx="676800" cy="990720"/>
          </a:xfrm>
        </p:grpSpPr>
        <p:sp>
          <p:nvSpPr>
            <p:cNvPr id="138" name="Text Box 35"/>
            <p:cNvSpPr/>
            <p:nvPr/>
          </p:nvSpPr>
          <p:spPr>
            <a:xfrm>
              <a:off x="1765800" y="4724280"/>
              <a:ext cx="31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504d"/>
                  </a:solidFill>
                  <a:latin typeface="Tahoma"/>
                </a:rPr>
                <a:t>ē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Text Box 36"/>
            <p:cNvSpPr/>
            <p:nvPr/>
          </p:nvSpPr>
          <p:spPr>
            <a:xfrm>
              <a:off x="1981800" y="5003640"/>
              <a:ext cx="31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504d"/>
                  </a:solidFill>
                  <a:latin typeface="Tahoma"/>
                </a:rPr>
                <a:t>ē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Text Box 37"/>
            <p:cNvSpPr/>
            <p:nvPr/>
          </p:nvSpPr>
          <p:spPr>
            <a:xfrm>
              <a:off x="2126160" y="5346720"/>
              <a:ext cx="31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504d"/>
                  </a:solidFill>
                  <a:latin typeface="Tahoma"/>
                </a:rPr>
                <a:t>ē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1" name="AutoShape 39"/>
          <p:cNvSpPr/>
          <p:nvPr/>
        </p:nvSpPr>
        <p:spPr>
          <a:xfrm rot="19687800">
            <a:off x="4013280" y="4502160"/>
            <a:ext cx="1881000" cy="270000"/>
          </a:xfrm>
          <a:prstGeom prst="rightArrow">
            <a:avLst>
              <a:gd name="adj1" fmla="val 50000"/>
              <a:gd name="adj2" fmla="val 174167"/>
            </a:avLst>
          </a:prstGeom>
          <a:solidFill>
            <a:srgbClr val="e318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60768E-006 L 0.15191 0.00162 E">
                                      <p:cBhvr>
                                        <p:cTn id="12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684360" y="692280"/>
            <a:ext cx="424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Химически чистое железо не ржавеет, т.к. не содержит примесей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5724360" y="476280"/>
            <a:ext cx="2260800" cy="47815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4284720" y="5734080"/>
            <a:ext cx="44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дия, Новый Дели, Железный столб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в н.э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3:36:57Z</dcterms:created>
  <dc:creator>User</dc:creator>
  <dc:description/>
  <dc:language>en-US</dc:language>
  <cp:lastModifiedBy>Семен Сытов</cp:lastModifiedBy>
  <dcterms:modified xsi:type="dcterms:W3CDTF">2015-11-02T16:11:11Z</dcterms:modified>
  <cp:revision>11</cp:revision>
  <dc:subject/>
  <dc:title>Коррозия металлов</dc:title>
</cp:coreProperties>
</file>