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8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FE57-0E15-433C-9D4E-5A2ABAEAAE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C1E6-7349-4490-9019-4447F28175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A00A-6517-4D16-98D2-BE81097212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44A0-7AF3-421A-8CEA-1F5F2171E5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D67A-FE4C-4773-830D-A1EEF1CC37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6837-A935-4325-9C84-93A9A1C37B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65A8-6609-4890-B805-297D98F84D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A112-B8DE-4FF8-8129-42393381FD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B8C7-DCE9-43B0-BD14-3F98CF7768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263B-3DCE-4417-B87C-86AFA94702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9A14-28C3-4766-BF81-A4A2035209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5DE8-C10C-41AC-B8D2-6092A531D2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E5DE-A4D7-4B81-AA2F-3622E29B99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4F4-D5C5-4EA9-A465-33159FA8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717-5372-4473-B428-CC1A0CFB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6D3-C8E6-4B99-8A08-D388E9BD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0B0F-A49D-4560-99B3-FBC21FD8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4182-FA6D-44EB-AF09-C114492E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710C-2683-477F-9AC0-A7A5440D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4246-652E-4733-AFD9-D2EEFE13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8934-B295-4BF3-9755-7696130D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B9CA-B1CF-4B8C-A2CC-BFB0DD05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3697-1E97-445D-ABBC-1EFDF1C3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AAF2-4406-4700-A154-069F2584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49B-436A-46EC-B560-C2B7E912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3D63-7680-48D1-9CEC-8EF37C41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ECD5-2305-4EBD-8864-0910E151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F839-8563-4848-A0E6-A3492925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F621-FEEF-4E1A-8A72-DDC77839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2EBC-2AF8-4BD8-BAAC-397D65E2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D62-4E11-4DC4-A274-F524A782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D1E-C32E-49CE-BD2F-92677784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EAA-8D5F-4D51-A73D-7D82DD10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DC1-8DD2-4D1A-837B-4F369700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A3B-7C39-41B7-B167-ECB02298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BDBF-5579-4FF1-89F0-BAB69277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B76-5472-483B-B161-5C5E9B50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E516-BBED-4474-9AC8-4611B469B9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2E50-053E-4B0C-ADE1-B4C4D0BD09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розия мет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щита от корроз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тное покрытие ( лак, масло, краска, покрытие некорродирующим металлом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, Sn, Z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ржавеющие ст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гибиторы корроз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екторная защ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01680" y="274320"/>
            <a:ext cx="704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щитное покры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2229120" cy="2409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14"/>
          <p:cNvPicPr/>
          <p:nvPr/>
        </p:nvPicPr>
        <p:blipFill>
          <a:blip r:embed="rId2"/>
          <a:stretch/>
        </p:blipFill>
        <p:spPr>
          <a:xfrm>
            <a:off x="5796000" y="1700280"/>
            <a:ext cx="2442960" cy="1873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00206"/>
          <p:cNvPicPr/>
          <p:nvPr/>
        </p:nvPicPr>
        <p:blipFill>
          <a:blip r:embed="rId3"/>
          <a:stretch/>
        </p:blipFill>
        <p:spPr>
          <a:xfrm>
            <a:off x="3132000" y="3860640"/>
            <a:ext cx="316728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нержавейка"/>
          <p:cNvPicPr/>
          <p:nvPr/>
        </p:nvPicPr>
        <p:blipFill>
          <a:blip r:embed="rId1"/>
          <a:stretch/>
        </p:blipFill>
        <p:spPr>
          <a:xfrm>
            <a:off x="6443640" y="3500280"/>
            <a:ext cx="2381400" cy="3191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3384360" cy="1774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1116000" y="33336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ржавеющая ста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7" descr="i"/>
          <p:cNvPicPr/>
          <p:nvPr/>
        </p:nvPicPr>
        <p:blipFill>
          <a:blip r:embed="rId3"/>
          <a:stretch/>
        </p:blipFill>
        <p:spPr>
          <a:xfrm>
            <a:off x="3924360" y="4221000"/>
            <a:ext cx="1441440" cy="1293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lc_12"/>
          <p:cNvPicPr/>
          <p:nvPr/>
        </p:nvPicPr>
        <p:blipFill>
          <a:blip r:embed="rId4"/>
          <a:stretch/>
        </p:blipFill>
        <p:spPr>
          <a:xfrm>
            <a:off x="468360" y="2060640"/>
            <a:ext cx="2879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текторная защ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image7"/>
          <p:cNvPicPr/>
          <p:nvPr/>
        </p:nvPicPr>
        <p:blipFill>
          <a:blip r:embed="rId1"/>
          <a:stretch/>
        </p:blipFill>
        <p:spPr>
          <a:xfrm>
            <a:off x="2627280" y="1773360"/>
            <a:ext cx="462924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9640" y="1773360"/>
            <a:ext cx="8374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корроз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виды коррозии существуют? Дайте опред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не корродируют чистые металл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й металл будет разрушаться при контакте во влажной среде: медь и цинк; алюминий и магний? Поч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овите основные способы защиты от корроз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E`yfeleva-bashnya"/>
          <p:cNvPicPr/>
          <p:nvPr/>
        </p:nvPicPr>
        <p:blipFill>
          <a:blip r:embed="rId2"/>
          <a:stretch/>
        </p:blipFill>
        <p:spPr>
          <a:xfrm>
            <a:off x="250920" y="115920"/>
            <a:ext cx="5270400" cy="351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painting eiffel"/>
          <p:cNvPicPr/>
          <p:nvPr/>
        </p:nvPicPr>
        <p:blipFill>
          <a:blip r:embed="rId3"/>
          <a:stretch/>
        </p:blipFill>
        <p:spPr>
          <a:xfrm>
            <a:off x="5148360" y="3429000"/>
            <a:ext cx="3774960" cy="3130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29600" y="5013360"/>
            <a:ext cx="518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Эйфелева башня, масса 9000 то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расили 18 раз, использу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о 70 тон крас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684360" y="981000"/>
            <a:ext cx="3311280" cy="42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Ежегодно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/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всег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изведен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ряется из-за корроз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5" descr="33_2"/>
          <p:cNvPicPr/>
          <p:nvPr/>
        </p:nvPicPr>
        <p:blipFill>
          <a:blip r:embed="rId1"/>
          <a:stretch/>
        </p:blipFill>
        <p:spPr>
          <a:xfrm>
            <a:off x="4067280" y="1916280"/>
            <a:ext cx="4368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Коррозия –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от лат. corrodere - разъедать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6" descr="017"/>
          <p:cNvPicPr/>
          <p:nvPr/>
        </p:nvPicPr>
        <p:blipFill>
          <a:blip r:embed="rId1"/>
          <a:stretch/>
        </p:blipFill>
        <p:spPr>
          <a:xfrm>
            <a:off x="1403280" y="2205000"/>
            <a:ext cx="280836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kor08-2"/>
          <p:cNvPicPr/>
          <p:nvPr/>
        </p:nvPicPr>
        <p:blipFill>
          <a:blip r:embed="rId2"/>
          <a:stretch/>
        </p:blipFill>
        <p:spPr>
          <a:xfrm>
            <a:off x="5435640" y="2133720"/>
            <a:ext cx="2881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Organization Chart 7"/>
          <p:cNvGrpSpPr/>
          <p:nvPr/>
        </p:nvGrpSpPr>
        <p:grpSpPr>
          <a:xfrm>
            <a:off x="611280" y="363600"/>
            <a:ext cx="7597080" cy="5484600"/>
            <a:chOff x="611280" y="363600"/>
            <a:chExt cx="7597080" cy="5484600"/>
          </a:xfrm>
        </p:grpSpPr>
        <p:cxnSp>
          <p:nvCxnSpPr>
            <p:cNvPr id="102" name="_s1028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4883760" y="2082600"/>
              <a:ext cx="1097640" cy="204552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29"/>
            <p:cNvCxnSpPr>
              <a:stCxn id="106" idx="0"/>
              <a:endCxn id="104" idx="2"/>
            </p:cNvCxnSpPr>
            <p:nvPr/>
          </p:nvCxnSpPr>
          <p:spPr>
            <a:xfrm flipH="1" flipV="1" rot="5400000">
              <a:off x="2838600" y="2082600"/>
              <a:ext cx="1097640" cy="204624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0"/>
            <p:cNvSpPr/>
            <p:nvPr/>
          </p:nvSpPr>
          <p:spPr>
            <a:xfrm>
              <a:off x="2656800" y="363600"/>
              <a:ext cx="3506400" cy="21938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Виды коррозии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_s1031"/>
            <p:cNvSpPr/>
            <p:nvPr/>
          </p:nvSpPr>
          <p:spPr>
            <a:xfrm>
              <a:off x="611280" y="3654360"/>
              <a:ext cx="3506400" cy="21938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 u="sng">
                  <a:solidFill>
                    <a:srgbClr val="000000"/>
                  </a:solidFill>
                  <a:uFillTx/>
                  <a:latin typeface="Tahoma"/>
                </a:rPr>
                <a:t>Химическая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Под действием сухих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газов  </a:t>
              </a:r>
              <a:r>
                <a:rPr b="0" lang="ru-RU" sz="3000" spc="-1" strike="noStrike">
                  <a:solidFill>
                    <a:srgbClr val="000000"/>
                  </a:solidFill>
                  <a:latin typeface="Tahoma"/>
                </a:rPr>
                <a:t>С</a:t>
              </a: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,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,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O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неэлектролитов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_s1032"/>
            <p:cNvSpPr/>
            <p:nvPr/>
          </p:nvSpPr>
          <p:spPr>
            <a:xfrm>
              <a:off x="4701960" y="3654360"/>
              <a:ext cx="3506400" cy="21938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 u="sng">
                  <a:solidFill>
                    <a:srgbClr val="000000"/>
                  </a:solidFill>
                  <a:uFillTx/>
                  <a:latin typeface="Tahoma"/>
                </a:rPr>
                <a:t>Электрохимическая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на контакте Ме,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H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O</a:t>
              </a: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гальванический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элемент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826920" y="476280"/>
            <a:ext cx="7561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имеры химической коррози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e  +  O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Fe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e +   Cl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FeCl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u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CuO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медленно)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CuSO3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расн.    черный                 зеле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5640" y="458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 + 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+ 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Fe(OH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4" descr="C:\documents\IMG_2201.JPG"/>
          <p:cNvPicPr/>
          <p:nvPr/>
        </p:nvPicPr>
        <p:blipFill>
          <a:blip r:embed="rId1"/>
          <a:srcRect l="32090" t="9722" r="37107" b="0"/>
          <a:stretch/>
        </p:blipFill>
        <p:spPr>
          <a:xfrm>
            <a:off x="5792760" y="1052640"/>
            <a:ext cx="2728800" cy="5329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documents\IMG_2194.JPG"/>
          <p:cNvPicPr/>
          <p:nvPr/>
        </p:nvPicPr>
        <p:blipFill>
          <a:blip r:embed="rId2"/>
          <a:stretch/>
        </p:blipFill>
        <p:spPr>
          <a:xfrm>
            <a:off x="204840" y="463680"/>
            <a:ext cx="5616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900000" y="620640"/>
            <a:ext cx="3743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813 г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емфри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ев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кры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лектрохимическую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ррозию металл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5" descr="davy0"/>
          <p:cNvPicPr/>
          <p:nvPr/>
        </p:nvPicPr>
        <p:blipFill>
          <a:blip r:embed="rId1"/>
          <a:stretch/>
        </p:blipFill>
        <p:spPr>
          <a:xfrm>
            <a:off x="5003640" y="1197000"/>
            <a:ext cx="2840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010240" y="70488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Z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280560" y="69228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Garamond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85520" y="1413000"/>
            <a:ext cx="289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                              </a:t>
            </a:r>
            <a:r>
              <a:rPr b="1" lang="en-US" sz="2400" spc="-1" strike="noStrike">
                <a:solidFill>
                  <a:srgbClr val="c0504d"/>
                </a:solidFill>
                <a:latin typeface="Garamond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Zn°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-</a:t>
            </a:r>
            <a:r>
              <a:rPr b="1" lang="en-US" sz="3200" spc="-1" strike="noStrike">
                <a:solidFill>
                  <a:srgbClr val="80008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Garamond"/>
              </a:rPr>
              <a:t>2ē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→ </a:t>
            </a:r>
            <a:r>
              <a:rPr b="1" lang="en-US" sz="3200" spc="-1" strike="noStrike">
                <a:solidFill>
                  <a:srgbClr val="c0504d"/>
                </a:solidFill>
                <a:latin typeface="Garamond"/>
              </a:rPr>
              <a:t>Z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68560" y="1700280"/>
            <a:ext cx="429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Garamond"/>
              </a:rPr>
              <a:t>На поверхности </a:t>
            </a:r>
            <a:r>
              <a:rPr b="1" lang="en-US" sz="3200" spc="-1" strike="noStrike">
                <a:solidFill>
                  <a:srgbClr val="ff9966"/>
                </a:solidFill>
                <a:latin typeface="Garamond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Group 6"/>
          <p:cNvGrpSpPr/>
          <p:nvPr/>
        </p:nvGrpSpPr>
        <p:grpSpPr>
          <a:xfrm>
            <a:off x="2050920" y="2205000"/>
            <a:ext cx="5545440" cy="459720"/>
            <a:chOff x="2050920" y="2205000"/>
            <a:chExt cx="5545440" cy="459720"/>
          </a:xfrm>
        </p:grpSpPr>
        <p:sp>
          <p:nvSpPr>
            <p:cNvPr id="118" name="Line 7"/>
            <p:cNvSpPr/>
            <p:nvPr/>
          </p:nvSpPr>
          <p:spPr>
            <a:xfrm>
              <a:off x="2050920" y="2276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Line 8"/>
            <p:cNvSpPr/>
            <p:nvPr/>
          </p:nvSpPr>
          <p:spPr>
            <a:xfrm>
              <a:off x="2050920" y="2637000"/>
              <a:ext cx="554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Line 9"/>
            <p:cNvSpPr/>
            <p:nvPr/>
          </p:nvSpPr>
          <p:spPr>
            <a:xfrm flipV="1">
              <a:off x="7596360" y="2276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Text Box 10"/>
            <p:cNvSpPr/>
            <p:nvPr/>
          </p:nvSpPr>
          <p:spPr>
            <a:xfrm>
              <a:off x="2961000" y="220500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80"/>
                  </a:solidFill>
                  <a:latin typeface="Garamond"/>
                </a:rPr>
                <a:t>поток электронов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Line 11"/>
          <p:cNvSpPr/>
          <p:nvPr/>
        </p:nvSpPr>
        <p:spPr>
          <a:xfrm>
            <a:off x="774072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5433840" y="3068640"/>
            <a:ext cx="319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c0504d"/>
                </a:solidFill>
                <a:latin typeface="Garamond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Garamond"/>
              </a:rPr>
              <a:t>2Н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1" lang="ru-RU" sz="3200" spc="-1" strike="noStrike">
                <a:solidFill>
                  <a:srgbClr val="800080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800080"/>
                </a:solidFill>
                <a:latin typeface="Garamond"/>
              </a:rPr>
              <a:t>ē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→ </a:t>
            </a:r>
            <a:r>
              <a:rPr b="1" lang="ru-RU" sz="3200" spc="-1" strike="noStrike">
                <a:solidFill>
                  <a:srgbClr val="c0504d"/>
                </a:solidFill>
                <a:latin typeface="Garamond"/>
              </a:rPr>
              <a:t>Н</a:t>
            </a:r>
            <a:r>
              <a:rPr b="1" lang="en-US" sz="3200" spc="-1" strike="noStrike">
                <a:solidFill>
                  <a:srgbClr val="c0504d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c0504d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c0504d"/>
                </a:solidFill>
                <a:latin typeface="Garamond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Group 13"/>
          <p:cNvGrpSpPr/>
          <p:nvPr/>
        </p:nvGrpSpPr>
        <p:grpSpPr>
          <a:xfrm>
            <a:off x="7740720" y="2205000"/>
            <a:ext cx="464760" cy="1079640"/>
            <a:chOff x="7740720" y="2205000"/>
            <a:chExt cx="464760" cy="1079640"/>
          </a:xfrm>
        </p:grpSpPr>
        <p:sp>
          <p:nvSpPr>
            <p:cNvPr id="125" name="Line 14"/>
            <p:cNvSpPr/>
            <p:nvPr/>
          </p:nvSpPr>
          <p:spPr>
            <a:xfrm>
              <a:off x="7740720" y="220500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Text Box 15"/>
            <p:cNvSpPr/>
            <p:nvPr/>
          </p:nvSpPr>
          <p:spPr>
            <a:xfrm>
              <a:off x="7793280" y="2349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Garamond"/>
                </a:rPr>
                <a:t>ē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" name="Oval 16"/>
          <p:cNvSpPr/>
          <p:nvPr/>
        </p:nvSpPr>
        <p:spPr>
          <a:xfrm>
            <a:off x="611280" y="4221000"/>
            <a:ext cx="2448000" cy="2089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1265040" y="53737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29"/>
          <p:cNvGrpSpPr/>
          <p:nvPr/>
        </p:nvGrpSpPr>
        <p:grpSpPr>
          <a:xfrm>
            <a:off x="2234880" y="4365720"/>
            <a:ext cx="857520" cy="1251720"/>
            <a:chOff x="2234880" y="4365720"/>
            <a:chExt cx="857520" cy="1251720"/>
          </a:xfrm>
        </p:grpSpPr>
        <p:sp>
          <p:nvSpPr>
            <p:cNvPr id="130" name="Text Box 19"/>
            <p:cNvSpPr/>
            <p:nvPr/>
          </p:nvSpPr>
          <p:spPr>
            <a:xfrm>
              <a:off x="2234880" y="4365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504d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21"/>
            <p:cNvSpPr/>
            <p:nvPr/>
          </p:nvSpPr>
          <p:spPr>
            <a:xfrm>
              <a:off x="2450520" y="458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504d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Text Box 22"/>
            <p:cNvSpPr/>
            <p:nvPr/>
          </p:nvSpPr>
          <p:spPr>
            <a:xfrm>
              <a:off x="2627280" y="4797360"/>
              <a:ext cx="43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504d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23"/>
            <p:cNvSpPr/>
            <p:nvPr/>
          </p:nvSpPr>
          <p:spPr>
            <a:xfrm>
              <a:off x="2737800" y="51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504d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" name="Group 40"/>
          <p:cNvGrpSpPr/>
          <p:nvPr/>
        </p:nvGrpSpPr>
        <p:grpSpPr>
          <a:xfrm>
            <a:off x="3059280" y="4292640"/>
            <a:ext cx="914400" cy="2151000"/>
            <a:chOff x="3059280" y="4292640"/>
            <a:chExt cx="914400" cy="2151000"/>
          </a:xfrm>
        </p:grpSpPr>
        <p:sp>
          <p:nvSpPr>
            <p:cNvPr id="135" name="AutoShape 27"/>
            <p:cNvSpPr/>
            <p:nvPr/>
          </p:nvSpPr>
          <p:spPr>
            <a:xfrm>
              <a:off x="3059280" y="4292640"/>
              <a:ext cx="914400" cy="2151000"/>
            </a:xfrm>
            <a:prstGeom prst="can">
              <a:avLst>
                <a:gd name="adj" fmla="val 25000"/>
              </a:avLst>
            </a:prstGeom>
            <a:solidFill>
              <a:srgbClr val="faa4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Text Box 33"/>
            <p:cNvSpPr/>
            <p:nvPr/>
          </p:nvSpPr>
          <p:spPr>
            <a:xfrm>
              <a:off x="3350160" y="580392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Tahoma"/>
                </a:rPr>
                <a:t>Cu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" name="Group 34"/>
          <p:cNvGrpSpPr/>
          <p:nvPr/>
        </p:nvGrpSpPr>
        <p:grpSpPr>
          <a:xfrm>
            <a:off x="1765800" y="4724280"/>
            <a:ext cx="676800" cy="990720"/>
            <a:chOff x="1765800" y="4724280"/>
            <a:chExt cx="676800" cy="990720"/>
          </a:xfrm>
        </p:grpSpPr>
        <p:sp>
          <p:nvSpPr>
            <p:cNvPr id="138" name="Text Box 35"/>
            <p:cNvSpPr/>
            <p:nvPr/>
          </p:nvSpPr>
          <p:spPr>
            <a:xfrm>
              <a:off x="1765800" y="4724280"/>
              <a:ext cx="31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Tahoma"/>
                </a:rPr>
                <a:t>ē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Text Box 36"/>
            <p:cNvSpPr/>
            <p:nvPr/>
          </p:nvSpPr>
          <p:spPr>
            <a:xfrm>
              <a:off x="1981800" y="5003640"/>
              <a:ext cx="31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Tahoma"/>
                </a:rPr>
                <a:t>ē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Text Box 37"/>
            <p:cNvSpPr/>
            <p:nvPr/>
          </p:nvSpPr>
          <p:spPr>
            <a:xfrm>
              <a:off x="2126160" y="5346720"/>
              <a:ext cx="31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Tahoma"/>
                </a:rPr>
                <a:t>ē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1" name="AutoShape 39"/>
          <p:cNvSpPr/>
          <p:nvPr/>
        </p:nvSpPr>
        <p:spPr>
          <a:xfrm rot="19687800">
            <a:off x="4013280" y="4502160"/>
            <a:ext cx="1881000" cy="270000"/>
          </a:xfrm>
          <a:prstGeom prst="rightArrow">
            <a:avLst>
              <a:gd name="adj1" fmla="val 50000"/>
              <a:gd name="adj2" fmla="val 174167"/>
            </a:avLst>
          </a:prstGeom>
          <a:solidFill>
            <a:srgbClr val="e318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60768E-006 L 0.15191 0.00162 E">
                                      <p:cBhvr>
                                        <p:cTn id="12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84360" y="692280"/>
            <a:ext cx="424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Химически чистое железо не ржавеет, т.к. не содержит примесей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5724360" y="476280"/>
            <a:ext cx="2260800" cy="47815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4284720" y="573408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дия, Новый Дели, Железный столб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в н.э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3:36:57Z</dcterms:created>
  <dc:creator>User</dc:creator>
  <dc:description/>
  <dc:language>en-US</dc:language>
  <cp:lastModifiedBy>Семен Сытов</cp:lastModifiedBy>
  <dcterms:modified xsi:type="dcterms:W3CDTF">2015-11-02T16:11:11Z</dcterms:modified>
  <cp:revision>11</cp:revision>
  <dc:subject/>
  <dc:title>Коррозия металлов</dc:title>
</cp:coreProperties>
</file>