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CA1-7898-464B-A040-E1DA626F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400-70A1-4D4B-92D7-9FE9EA68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870E-FCAC-4C43-9152-FB950D0E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CFE-123E-4ED4-8B33-493CF380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EA34-2702-4ADA-94C3-23736077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E66-9B44-404F-862C-5C0E1B32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58E-C137-43FB-BF78-2B3C8022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09B-023B-4D14-B53D-B958F6AC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536-E175-4E38-A60D-18FCBEE4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9B1-A2C8-4C6F-9A72-50D0DE9C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EA88-155F-444F-BE1A-D9A5BC5C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DEF-A941-4406-9907-B5E205CF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B782-BE82-4F6C-BBE1-2ACD3E4021F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468360" y="1268280"/>
            <a:ext cx="84344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"/>
              </a:rPr>
              <a:t>Lecture 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  <a:ea typeface="Arial"/>
              </a:rPr>
              <a:t>21</a:t>
            </a:r>
            <a:br>
              <a:rPr sz="4000"/>
            </a:br>
            <a:r>
              <a:rPr b="1" lang="en-US" sz="9600" spc="-1" strike="noStrike">
                <a:solidFill>
                  <a:srgbClr val="000000"/>
                </a:solidFill>
                <a:latin typeface="Arial Black"/>
                <a:ea typeface="Arial"/>
              </a:rPr>
              <a:t>SIMPLE SENTENCE</a:t>
            </a:r>
            <a:r>
              <a:rPr b="1" lang="en-US" sz="72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br>
              <a:rPr sz="6000"/>
            </a:b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ierarchy of member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principal (main)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subjec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predica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dify each oth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13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subject is the “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erson” modifier of the predica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predicate is th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“process” modifier of the subjec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terdependen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7840" y="40464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 secondar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bje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a substance modifier of the predica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ttribu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a quality modifier of substantive parts, either the subject or the object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ppos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a special kind of an attribute, a substance modifier of the subject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dverbial modifi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a quality modifier of the predica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arenthesis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(parenthetical enclosure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a detached speaker-bound modifier either of one of the nominative parts of the sentence or of the sentence in general: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o be sure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, Morris had treaded her badly.                 H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bably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won’t be able to make it today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ddress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(addressing enclosure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a modifier of the destination of the whole sentence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interjection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(interjectional enclosure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an emotional modifi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27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nominative parts of the sentence are syntagmatically connected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27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the relations between them can be representned in a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as well as in a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hierarchical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w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alisy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020240" y="2923200"/>
            <a:ext cx="77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My child always obeys me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1476360" y="234936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>
            <a:off x="7956720" y="2421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643280" y="2421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1476360" y="2349360"/>
            <a:ext cx="151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2771640" y="4653000"/>
            <a:ext cx="381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6588000" y="2421000"/>
            <a:ext cx="136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4643280" y="2421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2987640" y="234936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6588000" y="2421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6143760" y="2421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8"/>
          <p:cNvSpPr/>
          <p:nvPr/>
        </p:nvSpPr>
        <p:spPr>
          <a:xfrm flipV="1">
            <a:off x="2771640" y="386028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9"/>
          <p:cNvSpPr/>
          <p:nvPr/>
        </p:nvSpPr>
        <p:spPr>
          <a:xfrm flipV="1">
            <a:off x="6588000" y="386028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alisy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84000" y="5443920"/>
            <a:ext cx="77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My child always obeys me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"/>
          <p:cNvSpPr/>
          <p:nvPr/>
        </p:nvSpPr>
        <p:spPr>
          <a:xfrm>
            <a:off x="1332000" y="479736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5"/>
          <p:cNvSpPr/>
          <p:nvPr/>
        </p:nvSpPr>
        <p:spPr>
          <a:xfrm>
            <a:off x="7740720" y="479736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4643280" y="4869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2700360" y="4869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6300720" y="4869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8"/>
          <p:cNvSpPr/>
          <p:nvPr/>
        </p:nvSpPr>
        <p:spPr>
          <a:xfrm flipV="1">
            <a:off x="1258920" y="3573360"/>
            <a:ext cx="79200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9"/>
          <p:cNvSpPr/>
          <p:nvPr/>
        </p:nvSpPr>
        <p:spPr>
          <a:xfrm flipH="1" flipV="1">
            <a:off x="2050920" y="3573000"/>
            <a:ext cx="720720" cy="10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0"/>
          <p:cNvSpPr/>
          <p:nvPr/>
        </p:nvSpPr>
        <p:spPr>
          <a:xfrm flipV="1">
            <a:off x="6227640" y="3716280"/>
            <a:ext cx="79236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1"/>
          <p:cNvSpPr/>
          <p:nvPr/>
        </p:nvSpPr>
        <p:spPr>
          <a:xfrm flipH="1" flipV="1">
            <a:off x="7020000" y="3645000"/>
            <a:ext cx="79200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2"/>
          <p:cNvSpPr/>
          <p:nvPr/>
        </p:nvSpPr>
        <p:spPr>
          <a:xfrm flipH="1" flipV="1">
            <a:off x="6227640" y="2349000"/>
            <a:ext cx="720720" cy="10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3"/>
          <p:cNvSpPr/>
          <p:nvPr/>
        </p:nvSpPr>
        <p:spPr>
          <a:xfrm flipV="1">
            <a:off x="4643280" y="2349000"/>
            <a:ext cx="1584360" cy="208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4"/>
          <p:cNvSpPr/>
          <p:nvPr/>
        </p:nvSpPr>
        <p:spPr>
          <a:xfrm flipH="1" flipV="1">
            <a:off x="4788000" y="1196640"/>
            <a:ext cx="129672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5"/>
          <p:cNvSpPr/>
          <p:nvPr/>
        </p:nvSpPr>
        <p:spPr>
          <a:xfrm flipV="1">
            <a:off x="2195640" y="1196640"/>
            <a:ext cx="2592360" cy="21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6"/>
          <p:cNvSpPr/>
          <p:nvPr/>
        </p:nvSpPr>
        <p:spPr>
          <a:xfrm>
            <a:off x="252360" y="429984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Pro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144160" y="4365000"/>
            <a:ext cx="6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8"/>
          <p:cNvSpPr/>
          <p:nvPr/>
        </p:nvSpPr>
        <p:spPr>
          <a:xfrm>
            <a:off x="3873240" y="4291920"/>
            <a:ext cx="6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9"/>
          <p:cNvSpPr/>
          <p:nvPr/>
        </p:nvSpPr>
        <p:spPr>
          <a:xfrm>
            <a:off x="5384520" y="4291920"/>
            <a:ext cx="6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0"/>
          <p:cNvSpPr/>
          <p:nvPr/>
        </p:nvSpPr>
        <p:spPr>
          <a:xfrm>
            <a:off x="7804080" y="429192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Pro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1"/>
          <p:cNvSpPr/>
          <p:nvPr/>
        </p:nvSpPr>
        <p:spPr>
          <a:xfrm>
            <a:off x="901080" y="2923560"/>
            <a:ext cx="8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2"/>
          <p:cNvSpPr/>
          <p:nvPr/>
        </p:nvSpPr>
        <p:spPr>
          <a:xfrm>
            <a:off x="6301800" y="1628280"/>
            <a:ext cx="8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P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"/>
          <p:cNvSpPr/>
          <p:nvPr/>
        </p:nvSpPr>
        <p:spPr>
          <a:xfrm>
            <a:off x="7236720" y="2923560"/>
            <a:ext cx="8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P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4"/>
          <p:cNvSpPr/>
          <p:nvPr/>
        </p:nvSpPr>
        <p:spPr>
          <a:xfrm>
            <a:off x="4644720" y="404280"/>
            <a:ext cx="5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39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b) e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xpanded and unexpanded sentences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3640" y="3357360"/>
            <a:ext cx="856908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 algn="r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may or may not be actually represented in the senten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 algn="r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is is determined by the valency of the verb-predi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692720" y="44280"/>
            <a:ext cx="523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entence parts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9800" y="1628640"/>
            <a:ext cx="30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bligatory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5365800" y="1700280"/>
            <a:ext cx="25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2339640" y="981000"/>
            <a:ext cx="576360" cy="865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5867280" y="981000"/>
            <a:ext cx="433440" cy="93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921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nstituent stru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AutoNum type="alphaLcParenR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notional parts of the senten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AutoNum type="alphaLcParenR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expanded and unexpanded sent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the category of “</a:t>
            </a:r>
            <a:r>
              <a:rPr b="0" i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elementary sentence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63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a sentence in which all the positions are obligator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63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(the principal parts + complementive modifiers)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ple sentences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 b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nexpanded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elementary sent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cludes only obligatory nominative parts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panded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includes some optional parts, i.e. supplementive modifiers, which do not change the simple sentence into a composite or semi-composite senten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74560" y="62064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-3463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He gave me the book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nexpand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all the nominative parts of this sentence are required by the obligatory valency of the verb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o give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f.: *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 gave…; He gave me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semantically and structurally deficien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-361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He gave me a </a:t>
            </a:r>
            <a:r>
              <a:rPr b="0" i="1" lang="en-US" sz="5400" spc="-1" strike="noStrike">
                <a:solidFill>
                  <a:srgbClr val="ff0000"/>
                </a:solidFill>
                <a:latin typeface="Arial"/>
              </a:rPr>
              <a:t>very interesting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 book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pande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ncludes the attribute-supplement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very interes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reducible to the elementary unexpanded sen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39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spcBef>
                <a:spcPts val="16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c) c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omplete and incomplete (elliptical) sentences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716360" y="333360"/>
            <a:ext cx="424836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42920" y="333360"/>
            <a:ext cx="392436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421000"/>
            <a:ext cx="91440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x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he sentenc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ubject group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ubject ax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dicate group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edicate ax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9280" y="404640"/>
            <a:ext cx="38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ubject and the predica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716360" y="40464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ubordinate secondary par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069080" y="76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24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with both axes present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lete sentences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wo-member sentenc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wo-axis sentenc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)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4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with one of the axes prese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complete sentences,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ne-member sente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, “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ne-axis sente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 nice 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80000"/>
              </a:lnSpc>
              <a:spcBef>
                <a:spcPts val="4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fre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one-axis sent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the zero axis can be easily restored from the conext.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Elliptical sentence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is there? – Your brothe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fixed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one-axis sent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- the absent axis cannot be easily and accurately restored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48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amples of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ixed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one-axis sentence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otionally colored name-callings,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te!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sychologically tense descriptions,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ght. Silence. No one in sigh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so-called nominative sentences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ous emphatic constructions,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sk a question like this! What a joy!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onversational formulas,         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! Nice meeting you!;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c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21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mplete and incomplete (elliptical) sent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semantic classification of simple sent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U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negatio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affirmation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formula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Yes; No; All right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vocative sentence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Ladies and gentlemen!  Dear friends!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greeting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parting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mulas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(Hello! Good-bye!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ong to th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periphery of the category of the sen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51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exclamations of interjectional typ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like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My God! For heaven’s sake! Gosh!,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etc.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“pseudo-sentences”, or “non-communicative utterances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render no situational nomination, predication or informative perspective of any ki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39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16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d) s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emantic classification of simple sentences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30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semantic classification of simple sentences is based on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rincipal parts semantic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n the basis of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subject</a:t>
            </a:r>
            <a:r>
              <a:rPr b="0" i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 categorial meaning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, sentences are divided int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 impersonal</a:t>
            </a:r>
            <a:r>
              <a:rPr b="1" i="1" lang="en-US" sz="4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rizzles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r>
              <a:rPr b="0" i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use crying over spilt milk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ctu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rizz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erception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looks like r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mells of hay here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137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2) persona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human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defini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now i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indefini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never knows such things for su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993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non-human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nima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at entered the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room;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inanima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ind opened the door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the basis of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edicate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categorial mea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sentences are divided i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cess featur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“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erb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action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lay ba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at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enjoy your par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ubstance featuring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(“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nomina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factua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is cleve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erceptiona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seems to be cleve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subdivisions of simple sentences based on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structure of the predica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dicates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I rea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ou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Paradigmatic structu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812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derivational procedu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812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clausalization and phrasaliz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812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predicative func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ompoun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ompound nominal predicat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with pure and specifying link verbs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looked beautiful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ompound verbal predicat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V modal P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ou can prove i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V aspect P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rted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y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820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On the basis of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ubject-object relations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, simple sentences are divided into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bjective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He is a writer;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He is writing a book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utral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or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tentially objective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He is writing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7920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Paradigmatic structure</a:t>
            </a: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24000" y="484560"/>
            <a:ext cx="8497800" cy="52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Traditionally, the sentence was studied only syntagmatical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F. de Saussur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paradigmatics is quite natural for morphology, while syntax should be studied primarily as the linear connections of words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24000" y="341280"/>
            <a:ext cx="8497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Regular paradigmatic description of syntax started in the middle of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the 20th century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N.Chomsky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’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transformational grammar theor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6000" y="277200"/>
            <a:ext cx="882000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rious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ntence patterns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various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functional meanings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y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make up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yntactic categorie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the oppositions of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aradigmatically correlated sentence patterns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324000" y="75456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Stud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of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these oppositions </a:t>
            </a:r>
            <a:r>
              <a:rPr b="0" lang="en-US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distinguish </a:t>
            </a:r>
            <a:r>
              <a:rPr b="0" lang="ru-RU" sz="5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mal marks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ru-RU" sz="5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vidual grammatical meanings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of paradigmatically opposed sentence patterns.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5614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a) d</a:t>
            </a: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erivational procedur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24000" y="169560"/>
            <a:ext cx="8497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yntactic derivation starts with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kernel sentenc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elementary sentenc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the principal parts + complementive modifier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ary put the book on the tabl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560" y="1267920"/>
            <a:ext cx="7380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Constituent structure</a:t>
            </a:r>
            <a:r>
              <a:rPr b="1" i="1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214200" y="508320"/>
            <a:ext cx="849816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Derivation of a sentence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veral </a:t>
            </a:r>
            <a:r>
              <a:rPr b="0" i="1" lang="ru-RU" sz="6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formational steps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89080" y="304560"/>
            <a:ext cx="8497800" cy="76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formational steps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rphological arrange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of the sentence parts (word forms within categories)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- changes of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nite form of the ver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ary put the book on the table </a:t>
            </a:r>
            <a:r>
              <a:rPr b="0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Mary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ould have put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the book on the table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50920" y="636120"/>
            <a:ext cx="849780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use of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nctional wor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functional expansion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, which transform syntactic constru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ary put the book on the table. </a:t>
            </a:r>
            <a:r>
              <a:rPr b="0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Did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Mary put the book on the tabl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He understood my question. </a:t>
            </a:r>
            <a:r>
              <a:rPr b="0" i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He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seemed to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understand my question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95280" y="548640"/>
            <a:ext cx="8497800" cy="54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process of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bstit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, (the use of personal, demonstrative and indefinite pronouns and of various substitutive half-notional words),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ary put the book on the table. </a:t>
            </a:r>
            <a:r>
              <a:rPr b="0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Mary put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on the table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I want another pen, please. </a:t>
            </a:r>
            <a:r>
              <a:rPr b="0" i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I want another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95280" y="1356480"/>
            <a:ext cx="8497800" cy="38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4)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elet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, i.e. elimination of some elements in various contextual conditions,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Put the book on the table! </a:t>
            </a:r>
            <a:r>
              <a:rPr b="0" i="1" lang="ru-RU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On the table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395280" y="376200"/>
            <a:ext cx="849780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sitional arrangemen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, (changes of the word order)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ary put the book on the table. </a:t>
            </a:r>
            <a:r>
              <a:rPr b="0" i="1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On the table Mary put the book.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We must go. </a:t>
            </a:r>
            <a:r>
              <a:rPr b="0" i="1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Must we go?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395280" y="755640"/>
            <a:ext cx="8497800" cy="50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6) the process of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onational arran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i.e. application of various functional tones and accents,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ary put the book on the table. </a:t>
            </a:r>
            <a:r>
              <a:rPr b="0" i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Mary put the book on the table?(!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324000" y="522720"/>
            <a:ext cx="849780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se steps may be employed either alone or in combination with each other;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.g. Where did Mary put the book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kernel sentence                  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ary put the book on the table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16000" y="333000"/>
            <a:ext cx="8820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derivational relations in the paradigmatic system of sentence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structional rel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the formation of more complex syntactic structures out of simpler on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edicative relation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expression of the predicative semantics of the senten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7920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b) c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lausalization and phrasalization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32000" indent="0" algn="ctr">
              <a:lnSpc>
                <a:spcPct val="9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finite verb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subjec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basic predicative meaning of the senten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32000" indent="0" algn="ctr">
              <a:lnSpc>
                <a:spcPct val="9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predicative line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f the sent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32000" indent="0">
              <a:lnSpc>
                <a:spcPct val="9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44000" y="476280"/>
            <a:ext cx="8675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kernel senten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ansfor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828000" y="4437000"/>
            <a:ext cx="246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lause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581440" y="4438800"/>
            <a:ext cx="268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hrase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 flipH="1">
            <a:off x="1979280" y="2857680"/>
            <a:ext cx="1235160" cy="1722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5786280" y="2786040"/>
            <a:ext cx="1090800" cy="1795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395280" y="507960"/>
            <a:ext cx="8424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lausalizat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 = the transformation of a base sentence into a clause in the process o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subordinative or coordinative combination of sentences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95280" y="507960"/>
            <a:ext cx="8424720" cy="53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e of conjunctive words;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change of the word order;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change of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onational arran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le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bstitu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th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derivational procedures may be involved.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50920" y="404640"/>
            <a:ext cx="8424720" cy="57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Cf.: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The team won.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+ It caused a sensa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The team won and it caused a sensation; When the team won, it caused a sensation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phrasalizatio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= the transformation of a base sentence into a phrase in the process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of building the syntactic constructions of various degrees of complexity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ypes of phrasalization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nominalizat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i.e. the transformation of a sentence into a nominal phrase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lete nominaliz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the kernel sentenc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regular noun phr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predicative semantics,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am won. </a:t>
            </a:r>
            <a:r>
              <a:rPr b="0" i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team’s victory; The weather changed. </a:t>
            </a:r>
            <a:r>
              <a:rPr b="0" i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hange of the weath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rtial nominaliz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the sentenc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semi-predicative gerundial or infinitive phr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its predicative semantics is lost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am’s winning; for the team to win; the weather changing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488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6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c) predicative fun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67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17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kernel sentence undergoes transformations connected with the expression of predicative syntactic semantic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7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30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ntences are divided int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30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nopredica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one predicative line, i.e.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impl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30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lypredica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two or more predicative lines, i.e.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osi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mi-composi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9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729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ative functions, expressed by primary sentence patterns, can be subdivided i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29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low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include the expression of such morphological categories as tense and aspect; they have 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actu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, 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uth-sta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 semantic charac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1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gh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valua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; they are expressed by syntactic categorial opposition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make up the following syntactic categori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96472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721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the category of communicative purpo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-359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irst sub-catego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question is opposed to stat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.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         Did Mary put the book on the table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-359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econd sub-catego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ement is opposed to induc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Mary, put the book on the ta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9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721440" indent="-411480">
              <a:spcBef>
                <a:spcPts val="2614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the category of existence quality (affirmation and negation)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- affirmation is opposed to negation,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 – Mary didn’t put the book on the table;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21440" indent="-411480">
              <a:spcBef>
                <a:spcPts val="2614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the category of realizatio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- unreality is opposed to reality,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Mary would have put the book on the table…;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9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69320" indent="-43884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category of probabil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probability is opposed to fact,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Mary might put he book on the table;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69320" indent="-43884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category of modal ident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modal identity is opposed to fact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Mary happened to put the book on the table;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713520" indent="-406800">
              <a:spcBef>
                <a:spcPts val="901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category of subjective modal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- modal subject-action relation is opposed to fact,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Mary must put the book on the table;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520" indent="-406800">
              <a:spcBef>
                <a:spcPts val="901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category of subject-action rela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- specified actual subject-action relation is opposed to fact,                    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Mary tried to put the book on the table;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713520" indent="-406800">
              <a:spcBef>
                <a:spcPts val="1800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category of pha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phase of action is opposed to fact,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Mary started putting her book on the table (though I asked her not to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520" indent="-406800">
              <a:spcBef>
                <a:spcPts val="1800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category of subject-object rela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passive action is opposed to active action,     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          The book was put on the table by Mary;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9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729360" indent="-415800">
              <a:spcBef>
                <a:spcPts val="2339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the category of informative perspectiv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- specialized, reverse actual division is opposed to non-specialized, direct actual division,                            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It was Mary who put the book on the table;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9360" indent="-415800">
              <a:spcBef>
                <a:spcPts val="2339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the category of (emotional) intensity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- emphasis (emotiveness) is opposed to emotional neutrality,                               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               Mary did put the book on the table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>
              <a:lnSpc>
                <a:spcPct val="90000"/>
              </a:lnSpc>
              <a:spcBef>
                <a:spcPts val="40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total volume of the strong members of predicative oppositions actually represented in a sentence = its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redicative loa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395280" y="547200"/>
            <a:ext cx="835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kernel sentence, which is characterized in oppositional terms a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n-interrogative, non-imperative, non-negative, non-modal-identify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etc., = predicatively “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n-load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” (has a “zero predicative load”);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58560" y="1267920"/>
            <a:ext cx="7380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a) notional parts of the sent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539640" y="1338480"/>
            <a:ext cx="835344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ntences with th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st typical predicative loads of one or two positive feature expresse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ghtl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ade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539640" y="783360"/>
            <a:ext cx="8353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ntences wit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dicative semantics of more than two positive predicative feature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(normally, no more than six) are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eavil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ade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24000" y="615240"/>
            <a:ext cx="835344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hy on earth has Mary failed to put my book back on the table?!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ng positive predicative semantics of interrogations, subject-action relations and intensity;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s predicative load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av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r">
              <a:spcBef>
                <a:spcPts val="25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imple sentence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a system of function-expressing positions reflecting certain element of situa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>
              <a:spcBef>
                <a:spcPts val="25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Each position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the member of the senten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>
              <a:spcBef>
                <a:spcPts val="25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y are arranged in a hierarchy </a:t>
            </a:r>
            <a:r>
              <a:rPr b="0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each of them modifying the others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18:10:57Z</dcterms:created>
  <dc:creator>User</dc:creator>
  <dc:description/>
  <dc:language>en-US</dc:language>
  <cp:lastModifiedBy>User</cp:lastModifiedBy>
  <dcterms:modified xsi:type="dcterms:W3CDTF">2017-11-01T20:29:43Z</dcterms:modified>
  <cp:revision>73</cp:revision>
  <dc:subject/>
  <dc:title>Lecture 2 MORPHEMIC STRUCTURE OF THE WORD </dc:title>
</cp:coreProperties>
</file>