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5B2-84B4-49B1-BD5B-B3E22278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CB2-E503-4EC1-B564-01FF2D5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BB9-A7FF-4757-A2EE-25380083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A9B-64CE-43ED-B3C1-75A2C77E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EDD-4237-41CF-9A1F-2C8F9A41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85E-2E1C-42BF-BF13-93688C6D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44B-32F5-4EE6-B45D-8FD4DA4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D05-2DFB-4725-A8A7-4CDAF909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56E-881D-4DEE-B91B-CF2AA32A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ACB-1B6F-4C0C-B5B5-4B86D6E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5D2-50F8-4A5D-A35C-A2DC90EE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1B5-CD8D-4266-BD39-02659E3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B45-67DD-4797-9C20-5486769C0C7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68360" y="1268280"/>
            <a:ext cx="84344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"/>
              </a:rPr>
              <a:t>Lecture 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Arial"/>
              </a:rPr>
              <a:t>21</a:t>
            </a:r>
            <a:br>
              <a:rPr sz="4000"/>
            </a:br>
            <a:r>
              <a:rPr b="1" lang="en-US" sz="9600" spc="-1" strike="noStrike">
                <a:solidFill>
                  <a:srgbClr val="000000"/>
                </a:solidFill>
                <a:latin typeface="Arial Black"/>
                <a:ea typeface="Arial"/>
              </a:rPr>
              <a:t>SIMPLE SENTENCE</a:t>
            </a:r>
            <a:r>
              <a:rPr b="1" lang="en-US" sz="7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br>
              <a:rPr sz="6000"/>
            </a:b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ierarchy of memb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principal (main)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ubje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dify each oth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ubject is the “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son” modifier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predicate is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“process” modifier of the subjec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terdepend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7840" y="40464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 seconda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ubstance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ttribu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quality modifier of substantive parts, either the subject or the o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ppos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a special kind of an attribute, a substance modifier of the subject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dverbial modifi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a quality modifier of the predicate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renthesi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(parenthetical enclosure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 detached speaker-bound modifier either of one of the nominative parts of the sentence or of the sentence in general: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o be sur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, Morris had treaded her badly.                 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obably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won’t be able to make it today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ddress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addressing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 modifier of the destination of the whole sentenc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terjection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(interjectional enclosure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an emotional modifi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247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nominative parts of the sentence are syntagmatically connected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27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the relations between them can be representned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as well as in a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hierarchical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w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020240" y="292320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47636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795672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64328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476360" y="2349360"/>
            <a:ext cx="151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771640" y="4653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6588000" y="2421000"/>
            <a:ext cx="1366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4643280" y="2421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2987640" y="2349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658800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6143760" y="2421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 flipV="1">
            <a:off x="277164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V="1">
            <a:off x="6588000" y="386028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alisy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4000" y="5443920"/>
            <a:ext cx="77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My child always obeys me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33200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7740720" y="4797360"/>
            <a:ext cx="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464328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270036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630072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1258920" y="357336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9"/>
          <p:cNvSpPr/>
          <p:nvPr/>
        </p:nvSpPr>
        <p:spPr>
          <a:xfrm flipH="1" flipV="1">
            <a:off x="2050920" y="3573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 flipV="1">
            <a:off x="6227640" y="3716280"/>
            <a:ext cx="79236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1"/>
          <p:cNvSpPr/>
          <p:nvPr/>
        </p:nvSpPr>
        <p:spPr>
          <a:xfrm flipH="1" flipV="1">
            <a:off x="7020000" y="3645000"/>
            <a:ext cx="79200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H="1" flipV="1">
            <a:off x="6227640" y="2349000"/>
            <a:ext cx="720720" cy="10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 flipV="1">
            <a:off x="4643280" y="2349000"/>
            <a:ext cx="1584360" cy="20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 flipH="1" flipV="1">
            <a:off x="4788000" y="1196640"/>
            <a:ext cx="129672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5"/>
          <p:cNvSpPr/>
          <p:nvPr/>
        </p:nvSpPr>
        <p:spPr>
          <a:xfrm flipV="1">
            <a:off x="2195640" y="1196640"/>
            <a:ext cx="2592360" cy="21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252360" y="429984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2144160" y="436500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8"/>
          <p:cNvSpPr/>
          <p:nvPr/>
        </p:nvSpPr>
        <p:spPr>
          <a:xfrm>
            <a:off x="387324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5384520" y="4291920"/>
            <a:ext cx="6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7804080" y="4291920"/>
            <a:ext cx="11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Pro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1"/>
          <p:cNvSpPr/>
          <p:nvPr/>
        </p:nvSpPr>
        <p:spPr>
          <a:xfrm>
            <a:off x="90108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6301800" y="162828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7236720" y="2923560"/>
            <a:ext cx="8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P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4644720" y="404280"/>
            <a:ext cx="5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e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xpanded and unexpanded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3640" y="3357360"/>
            <a:ext cx="856908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ay or may not be actually represented in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 algn="r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is is determined by the valency of the verb-predi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692720" y="44280"/>
            <a:ext cx="523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Sentence parts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9800" y="1628640"/>
            <a:ext cx="30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bligatory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5365800" y="1700280"/>
            <a:ext cx="250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2339640" y="981000"/>
            <a:ext cx="57636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867280" y="981000"/>
            <a:ext cx="43344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921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notional parts of the sente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expanded and unexpanded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the category of “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elementary sentence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a sentence in which all the positions are obligato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632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(the principal parts + complementive modifiers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sentence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lementary sent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cludes only obligatory nominative parts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includes some optional parts, i.e. supplementive modifiers, which do not change the simple sentence into a composite or semi-composit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4560" y="620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He gave me the boo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’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nexpand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all the nominative parts of this sentence are required by the obligatory valency of the verb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o give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6320" indent="-346320"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f.: *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e gave…; He gave me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semantically and structurally defici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He gave me a </a:t>
            </a:r>
            <a:r>
              <a:rPr b="0" i="1" lang="en-US" sz="5400" spc="-1" strike="noStrike">
                <a:solidFill>
                  <a:srgbClr val="ff0000"/>
                </a:solidFill>
                <a:latin typeface="Arial"/>
              </a:rPr>
              <a:t>very interesting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 boo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and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cludes the attribute-supplement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very interes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ducible to the elementary unexpanded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omplete and incomplete (elliptical)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716360" y="333360"/>
            <a:ext cx="4248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42920" y="333360"/>
            <a:ext cx="392436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1440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ente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bject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ubject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dicate group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edicate ax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404640"/>
            <a:ext cx="38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ject and the predic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716360" y="40464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subordinate secondary pa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069080" y="7650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both axes present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sentences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member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wo-axis sent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ith one of the axes presen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complete sentences,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member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ne-axis sent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 nice d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the zero axis can be easily restored from the conext.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liptical sentenc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is there? – Your broth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one-axis sent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- the absent axis cannot be easily and accurately restored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4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amples of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ixed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one-axis sentence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otionally colored name-calling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te!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ychologically tense descriptions,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ght. Silence. No one in s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so-called nominative sentences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ous emphatic constructions,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sk a question like this! What a joy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onversational formulas,     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! Nice meeting you!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21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mplete and incomplete (elliptical)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emantic classification of simple sent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negatio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affirmation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formula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Yes; No; All right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vocative sentenc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Ladies and gentlemen!  Dear friends!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gree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parting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mula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(Hello! Good-bye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ng to th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periphery of the category of th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xclamations of interjectional typ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like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My God! For heaven’s sake! Gosh!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etc.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“pseudo-sentences”, or “non-communicative utterances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render no situational nomination, predication or informative perspective of any k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39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d) s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emantic classification of simple sentences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30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semantic classification of simple sentences is based o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incipal parts semantic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n the basis of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subject</a:t>
            </a:r>
            <a:r>
              <a:rPr b="0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 impersonal</a:t>
            </a:r>
            <a:r>
              <a:rPr b="1" i="1" lang="en-US" sz="4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r>
              <a:rPr b="0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use crying over spilt milk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rizz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ooks like r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mells of hay here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137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2) pers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human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now i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defini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ever knows such things for s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non-human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t entered the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 room;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nanim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ind opened the door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the basis of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dicat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categorial mea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sentences are divided i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cess featu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erb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ctio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lay b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joy your par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ubstance featuri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“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”)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is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perceptiona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seems to be cleve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subdivisions of simple sentences based on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structure of the predicat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dicates: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simpl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I rea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derivational procedu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clausalization and phrasaliz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812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Arial"/>
              </a:rPr>
              <a:t>predicative func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nomin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with pure and specifying link verbs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looked beautifu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ound verbal predicat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modal Pr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ou can prove i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 aspect P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rt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y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On the basis of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ject-object relations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simple sentences are divided into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a writer;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 a book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11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utral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tentially objective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He is writing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Paradigmatic structure</a:t>
            </a: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24000" y="484560"/>
            <a:ext cx="849780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Traditionally, the sentence was studied only syntagmatica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F. de Saussu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paradigmatics is quite natural for morphology, while syntax should be studied primarily as the linear connections of words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24000" y="341280"/>
            <a:ext cx="8497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Regular paradigmatic description of syntax started in the middle of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he 20th century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N.Chomsky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’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grammar theor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6000" y="277200"/>
            <a:ext cx="88200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iou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functional meanings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make up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yntactic categori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the oppositions of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radigmatically correlated sentence patterns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24000" y="75456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Study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of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these oppositions </a:t>
            </a:r>
            <a:r>
              <a:rPr b="0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distinguish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l mark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vidual grammatical meanings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of paradigmatically opposed sentence patterns.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5614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a) d</a:t>
            </a: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erivational procedur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324000" y="169560"/>
            <a:ext cx="8497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yntactic derivation starts with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kernel sentenc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elementary sentenc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the principal parts + complementive modifier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Constituent structure</a:t>
            </a: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14200" y="508320"/>
            <a:ext cx="849816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Derivation of a sentence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veral </a:t>
            </a:r>
            <a:r>
              <a:rPr b="0" i="1" lang="ru-RU" sz="6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89080" y="304560"/>
            <a:ext cx="8497800" cy="76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al steps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phological arrangem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of the sentence parts (word forms within categories)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- change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ite form of the ver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ould have pu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the book on the table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636120"/>
            <a:ext cx="849780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use of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al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functional expansion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which transform syntactic constru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id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the book on the tabl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He understood my question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He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seemed to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understand my question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95280" y="548640"/>
            <a:ext cx="849780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process o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, (the use of personal, demonstrative and indefinite pronouns and of various substitutive half-notional words),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Mary put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on the tabl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I want another pen, please. </a:t>
            </a:r>
            <a:r>
              <a:rPr b="0" i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I want another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395280" y="1356480"/>
            <a:ext cx="849780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ele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i.e. elimination of some elements in various contextual conditions,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Put the book on the table! </a:t>
            </a:r>
            <a:r>
              <a:rPr b="0" i="1" lang="ru-RU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On the table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95280" y="376200"/>
            <a:ext cx="849780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process of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itional arrangemen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, (changes of the word order)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On the table Mary put the book.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e must go. </a:t>
            </a:r>
            <a:r>
              <a:rPr b="0" i="1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Must we go?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95280" y="755640"/>
            <a:ext cx="8497800" cy="50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6) the process of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i.e. application of various functional tones and accents,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Mary put the book on the table?(!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24000" y="522720"/>
            <a:ext cx="849780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se steps may be employed either alone or in combination with each other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.g. Where did Mary put the book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                     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ary put the book on the table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16000" y="33300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derivational relations in the paradigmatic system of sentence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tructional rel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the formation of more complex syntactic structures out of simpler one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dicative rela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expression of the predicative semantics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792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b) c</a:t>
            </a: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lausalization and phrasalization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finite verb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subjec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the basic predicative meaning of the sent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 algn="ctr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predicative line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f the sent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4000" y="476280"/>
            <a:ext cx="867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ernel sent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828000" y="443700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lau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581440" y="4438800"/>
            <a:ext cx="26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hrase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 flipH="1">
            <a:off x="1979280" y="2857680"/>
            <a:ext cx="1235160" cy="172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5786280" y="2786040"/>
            <a:ext cx="1090800" cy="1795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395280" y="50796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aus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 = the transformation of a base sentence into a clause in the process of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subordinative or coordinative combination of sentences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95280" y="507960"/>
            <a:ext cx="8424720" cy="53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of conjunctive words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the word order;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change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national arran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e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stit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t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derivational procedures may be involved.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50920" y="404640"/>
            <a:ext cx="8424720" cy="57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Cf.: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.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+ It caused a sens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team won and it caused a sensation; When the team won, it caused a sensation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phrasal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= the transformation of a base sentence into a phrase in the process </a:t>
            </a:r>
            <a:r>
              <a:rPr b="0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of building the syntactic constructions of various degrees of complexit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ypes of phrasalization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ominalizatio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, i.e. the transformation of a sentence into a nominal phrase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lete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 kernel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regular noun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predicative semantics,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won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team’s victory; The weather changed. </a:t>
            </a:r>
            <a:r>
              <a:rPr b="0" i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hange of the weath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►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ial nom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the sentenc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semi-predicative gerundial or infinitive phr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its predicative semantics is lost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’s winning; for the team to win; the weather changing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488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c) predicative 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67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kernel sentence undergoes transformations connected with the expression of predicative syntactic semantic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30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ntences are divided in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no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one predicative line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impl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30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ypredic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two or more predicative lines, i.e.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mi-composi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ative functions, expressed by primary sentence patterns, can be subdivided i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low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include the expression of such morphological categories as tense and aspect; they have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u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uth-sta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 semantic charac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valua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; they are expressed by syntactic categorial opposition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make up the following syntactic categories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the category of communicative purpo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irst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 is opposed to stat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Did Mary put the book on the table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4240" indent="-35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econd sub-categor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tatement is opposed to induce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, put the book on the t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existence quality (affirmation and negation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affirmation is opposed to negation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 – Mary didn’t put the book on the table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21440" indent="-411480">
              <a:spcBef>
                <a:spcPts val="2614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the category of realizatio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- unreality is opposed to reality,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would have put the book on the table…;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prob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probability is opposed to fact,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might put 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69320" indent="-43884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ategory of modal ident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- modal identity is opposed to fact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happened to put the book on the table;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ive mod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modal subject-action relation is opposed to fact,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must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901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action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- specified actual subject-action relation is opposed to fact,           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Mary tried to put the book on the table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ph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hase of action is opposed to fact,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Mary started putting her book on the table (though I asked her not to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406800">
              <a:spcBef>
                <a:spcPts val="1800"/>
              </a:spcBef>
              <a:buClr>
                <a:srgbClr val="000000"/>
              </a:buClr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ategory of subject-object rel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passive action is opposed to active action,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The book was put on the table by Mary;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informative perspect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specialized, reverse actual division is opposed to non-specialized, direct actual division,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It was Mary who put the book on the table;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9360" indent="-415800">
              <a:spcBef>
                <a:spcPts val="2339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the category of (emotional) intensity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emphasis (emotiveness) is opposed to emotional neutrality,                        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: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y put the book on the table. –                 Mary did put the book on the tabl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90000"/>
              </a:lnSpc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total volume of the strong members of predicative oppositions actually represented in a sentence = its 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edicative load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95280" y="547200"/>
            <a:ext cx="8353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e kernel sentence, which is characterized in oppositional terms a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interrogative, non-imperative, non-negative, non-modal-identify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etc., = predicatively “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n-load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” (has a “zero predicative load”)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73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a) notional parts of the sent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539640" y="1338480"/>
            <a:ext cx="835344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the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st typical predicative loads of one or two positive feature expressed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ght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539640" y="78336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entences with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icative semantics of more than two positive predicative feature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(normally, no more than six) are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v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ad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24000" y="615240"/>
            <a:ext cx="835344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Why on earth has Mary failed to put my book back on the table?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ng positive predicative semantics of interrogations, subject-action relations and intensity;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predicative load is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eav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imple sentenc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a system of function-expressing positions reflecting certain element of situa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ach position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the member of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r">
              <a:spcBef>
                <a:spcPts val="2500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y are arranged in a hierarchy </a:t>
            </a:r>
            <a:r>
              <a:rPr b="0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each of them modifying the others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8:10:57Z</dcterms:created>
  <dc:creator>User</dc:creator>
  <dc:description/>
  <dc:language>en-US</dc:language>
  <cp:lastModifiedBy>User</cp:lastModifiedBy>
  <dcterms:modified xsi:type="dcterms:W3CDTF">2017-11-01T20:29:43Z</dcterms:modified>
  <cp:revision>73</cp:revision>
  <dc:subject/>
  <dc:title>Lecture 2 MORPHEMIC STRUCTURE OF THE WORD </dc:title>
</cp:coreProperties>
</file>