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A54-BA7A-411A-9B81-E3BAF37D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DC0-1A38-4AC6-9B52-DDA23507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DCE-FE1C-4050-9737-D142D74D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34D-451D-42E9-AD65-19FBAFCF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015E-0709-4392-B50B-4CCBE841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78DB-2F9C-49CB-9B85-E964D082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1A48-78FB-414F-AEFA-4F3E662A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2B71-61D6-467E-88F0-7E548F64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BE67-A408-4989-B04F-1C16C1B4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8FB5-51A0-4241-8EE5-8C10A25A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4A0A-2E41-48FD-829B-1E6970A7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C2B-AD18-4CD4-A6D8-E4081BE1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9C6B-80DB-490B-B423-E4C2ECC7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A3DA-1FE0-4529-8A3E-5A83849B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BEFE-A5C4-4EA1-9A16-89B14B81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31E0-DD10-481A-849F-05174BDE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7788-A7D9-4B05-A9C5-75FCBD8B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997-8352-488A-8B6D-F4EE69FB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611-4ED5-4A13-94AB-1A24F282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99D-DF9C-4F01-A595-1A270F05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723-342E-4BE7-BAC0-105B3A4B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90F-AE9D-43D7-958C-68F653C7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7D9-E486-455D-A504-E7DC6FFF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E7A-C65F-4391-909C-26C199FB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5B83164-DAD6-4E88-932F-BDE247337719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A44F505-D2B4-4341-A6E9-4E1E285AE131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Franklin Gothic Medium"/>
              </a:rPr>
              <a:t>7 </a:t>
            </a:r>
            <a:r>
              <a:rPr b="0" lang="uk-UA" sz="3200" spc="-1" strike="noStrike" cap="all">
                <a:solidFill>
                  <a:srgbClr val="000000"/>
                </a:solidFill>
                <a:latin typeface="Franklin Gothic Medium"/>
              </a:rPr>
              <a:t>Найоригінальніших готелів світу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uk-UA" sz="1400" spc="398" strike="noStrike" cap="all">
                <a:solidFill>
                  <a:srgbClr val="000000"/>
                </a:solidFill>
                <a:latin typeface="Franklin Gothic Book"/>
              </a:rPr>
              <a:t>Підготував головач андр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1331640" y="5877360"/>
            <a:ext cx="575640" cy="575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2" name="Управляющая кнопка: в конец 4">
            <a:hlinkClick r:id="" action="ppaction://hlinkshowjump?jump=lastslide"/>
          </p:cNvPr>
          <p:cNvSpPr/>
          <p:nvPr/>
        </p:nvSpPr>
        <p:spPr>
          <a:xfrm>
            <a:off x="2195640" y="5877360"/>
            <a:ext cx="575640" cy="575640"/>
          </a:xfrm>
          <a:prstGeom prst="actionButtonEnd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9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унікальному плавучому готелі на архіпелазі Занзібар постояльці можуть відчути, як це, спати нижче рівня океану. Вікна спальні виходять на всі 4 сторони, тож туристи можуть сповна насолодитись видами підводного світу та коралового рифу, що залягає біля підніжжя острова Пемба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4" name="Объект 6" descr=""/>
          <p:cNvPicPr/>
          <p:nvPr/>
        </p:nvPicPr>
        <p:blipFill>
          <a:blip r:embed="rId1"/>
          <a:stretch/>
        </p:blipFill>
        <p:spPr>
          <a:xfrm>
            <a:off x="4284000" y="836640"/>
            <a:ext cx="3831480" cy="3831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 </a:t>
            </a: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-поплавок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1547640" y="5949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7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1115640" y="59493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9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Готель, що зовні нагадує пташине гніздо, був побудований, або точніше «звитий» у лісі в Швеції. Розробили чудернацьку споруду в архітектурному бюро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Incrednin Gsgruppen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9" name="Объект 4" descr=""/>
          <p:cNvPicPr/>
          <p:nvPr/>
        </p:nvPicPr>
        <p:blipFill>
          <a:blip r:embed="rId1"/>
          <a:stretch/>
        </p:blipFill>
        <p:spPr>
          <a:xfrm>
            <a:off x="4140000" y="908640"/>
            <a:ext cx="3904560" cy="3904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 </a:t>
            </a: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-гніздо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598760" y="5949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0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186200" y="59493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317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Franklin Gothic Book"/>
              </a:rPr>
              <a:t>Ще однин оригінальний готель, що височіє над землею — дзеркальний куб від архітектурного бюро </a:t>
            </a:r>
            <a:r>
              <a:rPr b="0" lang="en-US" sz="3300" spc="-1" strike="noStrike">
                <a:solidFill>
                  <a:srgbClr val="000000"/>
                </a:solidFill>
                <a:latin typeface="Franklin Gothic Book"/>
              </a:rPr>
              <a:t>Tham&amp;Videgård Arkitekter. </a:t>
            </a:r>
            <a:r>
              <a:rPr b="0" lang="ru-RU" sz="3300" spc="-1" strike="noStrike">
                <a:solidFill>
                  <a:srgbClr val="000000"/>
                </a:solidFill>
                <a:latin typeface="Franklin Gothic Book"/>
              </a:rPr>
              <a:t>Кімната в ньому розміщується навколо стовбура дерева, а стіни зовні вкриті дзеркальним покриттям, що дозволяє такому житлу повністю злитись із навколишнім середовищем. Однак, очевидно, через цю його особливу рису знайти такий готель у лісі також непросто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4356000" y="1124640"/>
            <a:ext cx="3960000" cy="36885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 </a:t>
            </a: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 на дереві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887480" y="58611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0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523160" y="58611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91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Готель «Parkroyal» у Сінгапурі славний своїми величезними терасами, на яких ростуть тропічні рослини — вікна кожного номеру такого готелю виходять на такі зелені подвір’я. Насолода для любителів красивих садків гарантована!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9" name="Объект 4" descr=""/>
          <p:cNvPicPr/>
          <p:nvPr/>
        </p:nvPicPr>
        <p:blipFill>
          <a:blip r:embed="rId1"/>
          <a:stretch/>
        </p:blipFill>
        <p:spPr>
          <a:xfrm>
            <a:off x="3996000" y="764640"/>
            <a:ext cx="4120560" cy="3879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 із зеленими терасами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691640" y="6021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259640" y="60213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13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Готель від архітектурного бюро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Marcel Wanders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формлений в постмодерному стилі із посиланням на голландський Золотий вік. Люстри у формі дзвонів, шпалери з цікавими рисунками та унікальні меблі — все це робить цей готель дуже і дуже особливим і вартим уваги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4" name="Объект 4" descr=""/>
          <p:cNvPicPr/>
          <p:nvPr/>
        </p:nvPicPr>
        <p:blipFill>
          <a:blip r:embed="rId1"/>
          <a:stretch/>
        </p:blipFill>
        <p:spPr>
          <a:xfrm>
            <a:off x="4284000" y="908640"/>
            <a:ext cx="3616560" cy="361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Цікаво оформлений готель в Амстердамі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665360" y="5949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259640" y="595008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9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правжнім цінителям сучасного дизайну надається чудова можливість пожити прямо в стінах всесвітньо відомої школи проектування. Із осені минулого року постояльці можуть зупинятись у кімнатах її колишніх гуртожитків, оформлених дуже просто та, звичайно, в стилі Баухауса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9" name="Объект 4" descr=""/>
          <p:cNvPicPr/>
          <p:nvPr/>
        </p:nvPicPr>
        <p:blipFill>
          <a:blip r:embed="rId1"/>
          <a:stretch/>
        </p:blipFill>
        <p:spPr>
          <a:xfrm>
            <a:off x="4212000" y="764640"/>
            <a:ext cx="3976560" cy="3976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 </a:t>
            </a: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 у легендарному Баухаусі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782360" y="5877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403640" y="58773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Готель у Берліні, що позиціонує себе як куточок джунглів у сучасному місті, має у своїх приміщеннях величезну кількість рослин. Зелень у такому готелі розташована всюди — тут і там стоять вазони, а стебла в’юнких рослин обплітають стіни. У такому готелі є ресторан, що нагадує теплиц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Объект 4" descr=""/>
          <p:cNvPicPr/>
          <p:nvPr/>
        </p:nvPicPr>
        <p:blipFill>
          <a:blip r:embed="rId1"/>
          <a:stretch/>
        </p:blipFill>
        <p:spPr>
          <a:xfrm>
            <a:off x="4068000" y="764640"/>
            <a:ext cx="3976560" cy="3976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Міські джунглі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43640" y="6093360"/>
            <a:ext cx="503640" cy="503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7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1835640" y="6093360"/>
            <a:ext cx="503640" cy="503640"/>
          </a:xfrm>
          <a:prstGeom prst="actionButtonBeginning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</Template>
  <TotalTime>10</TotalTime>
  <Application>LibreOffice/7.4.7.2$Linux_X86_64 LibreOffice_project/40$Build-2</Application>
  <AppVersion>15.0000</AppVersion>
  <Words>324</Words>
  <Paragraphs>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2T10:45:50Z</dcterms:created>
  <dc:creator>STAR</dc:creator>
  <dc:description/>
  <dc:language>en-US</dc:language>
  <cp:lastModifiedBy>STAR</cp:lastModifiedBy>
  <dcterms:modified xsi:type="dcterms:W3CDTF">2015-12-12T13:28:39Z</dcterms:modified>
  <cp:revision>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