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CDB-AD93-4421-BC82-A0188504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2DE-5DF1-40DE-8079-86200052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1F6-38F5-452B-BD09-D6977340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C6A-B263-45E7-8991-F9E4EA37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FBD2-9AC8-4BE9-B301-8E3EA5D6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5B0F-96BE-49CE-A3D5-8E020C0B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507B-EF8B-45BC-A235-505A5D9C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4E2E-8950-44A9-BCA7-E6529B85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654D-BE5D-4B61-BD2A-43AAEA74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CDDC-CAB5-4993-89CF-F2DD1216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F50A-AEE0-4241-AD05-07863DDA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C93-B1DD-4CCE-8B5B-92B94E77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0632-89FF-4BBC-BF6B-FF3FBC4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80E4-66C5-4E71-B0F9-52F96D5A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2DCC-69FA-4DFD-96ED-CDB69DFD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C471-8FFC-4F59-8EA7-A16B0DB6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61ED-EC39-4D5E-A2B1-9FD92FCA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1A7-B8F9-4ACE-8ABA-D7FF482F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4D5-47A0-47FD-A1B2-EBEBCD96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843-F38C-4E99-ACF3-B677CAD7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401-857D-4BB5-A278-202C0201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4CE-B1AC-4AF8-A601-A7D569C8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D0D-9531-4965-9564-6AC5F73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2DB-4C25-473B-8A36-B87E3004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8EF313C-3C60-42BF-9920-E8F0141AC2CC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7B7D3A1-7307-412F-8541-2DC187E72A62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Franklin Gothic Medium"/>
              </a:rPr>
              <a:t>7 </a:t>
            </a:r>
            <a:r>
              <a:rPr b="0" lang="uk-UA" sz="3200" spc="-1" strike="noStrike" cap="all">
                <a:solidFill>
                  <a:srgbClr val="000000"/>
                </a:solidFill>
                <a:latin typeface="Franklin Gothic Medium"/>
              </a:rPr>
              <a:t>Найоригінальніших готелів світу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uk-UA" sz="1400" spc="398" strike="noStrike" cap="all">
                <a:solidFill>
                  <a:srgbClr val="000000"/>
                </a:solidFill>
                <a:latin typeface="Franklin Gothic Book"/>
              </a:rPr>
              <a:t>Підготував головач андр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1331640" y="5877360"/>
            <a:ext cx="575640" cy="575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2" name="Управляющая кнопка: в конец 4">
            <a:hlinkClick r:id="" action="ppaction://hlinkshowjump?jump=lastslide"/>
          </p:cNvPr>
          <p:cNvSpPr/>
          <p:nvPr/>
        </p:nvSpPr>
        <p:spPr>
          <a:xfrm>
            <a:off x="2195640" y="5877360"/>
            <a:ext cx="575640" cy="575640"/>
          </a:xfrm>
          <a:prstGeom prst="actionButtonEnd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унікальному плавучому готелі на архіпелазі Занзібар постояльці можуть відчути, як це, спати нижче рівня океану. Вікна спальні виходять на всі 4 сторони, тож туристи можуть сповна насолодитись видами підводного світу та коралового рифу, що залягає біля підніжжя острова Пемба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4" name="Объект 6" descr=""/>
          <p:cNvPicPr/>
          <p:nvPr/>
        </p:nvPicPr>
        <p:blipFill>
          <a:blip r:embed="rId1"/>
          <a:stretch/>
        </p:blipFill>
        <p:spPr>
          <a:xfrm>
            <a:off x="4284000" y="836640"/>
            <a:ext cx="3831480" cy="3831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-поплавок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1547640" y="5949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7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1115640" y="5949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9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, що зовні нагадує пташине гніздо, був побудований, або точніше «звитий» у лісі в Швеції. Розробили чудернацьку споруду в архітектурному бюро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Incrednin Gsgruppen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9" name="Объект 4" descr=""/>
          <p:cNvPicPr/>
          <p:nvPr/>
        </p:nvPicPr>
        <p:blipFill>
          <a:blip r:embed="rId1"/>
          <a:stretch/>
        </p:blipFill>
        <p:spPr>
          <a:xfrm>
            <a:off x="4140000" y="908640"/>
            <a:ext cx="3904560" cy="3904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-гніздо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598760" y="5949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0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186200" y="5949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317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Franklin Gothic Book"/>
              </a:rPr>
              <a:t>Ще однин оригінальний готель, що височіє над землею — дзеркальний куб від архітектурного бюро </a:t>
            </a:r>
            <a:r>
              <a:rPr b="0" lang="en-US" sz="3300" spc="-1" strike="noStrike">
                <a:solidFill>
                  <a:srgbClr val="000000"/>
                </a:solidFill>
                <a:latin typeface="Franklin Gothic Book"/>
              </a:rPr>
              <a:t>Tham&amp;Videgård Arkitekter. </a:t>
            </a:r>
            <a:r>
              <a:rPr b="0" lang="ru-RU" sz="3300" spc="-1" strike="noStrike">
                <a:solidFill>
                  <a:srgbClr val="000000"/>
                </a:solidFill>
                <a:latin typeface="Franklin Gothic Book"/>
              </a:rPr>
              <a:t>Кімната в ньому розміщується навколо стовбура дерева, а стіни зовні вкриті дзеркальним покриттям, що дозволяє такому житлу повністю злитись із навколишнім середовищем. Однак, очевидно, через цю його особливу рису знайти такий готель у лісі також непросто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4356000" y="1124640"/>
            <a:ext cx="3960000" cy="36885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 на дерев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887480" y="58611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0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523160" y="58611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 «Parkroyal» у Сінгапурі славний своїми величезними терасами, на яких ростуть тропічні рослини — вікна кожного номеру такого готелю виходять на такі зелені подвір’я. Насолода для любителів красивих садків гарантована!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9" name="Объект 4" descr=""/>
          <p:cNvPicPr/>
          <p:nvPr/>
        </p:nvPicPr>
        <p:blipFill>
          <a:blip r:embed="rId1"/>
          <a:stretch/>
        </p:blipFill>
        <p:spPr>
          <a:xfrm>
            <a:off x="3996000" y="764640"/>
            <a:ext cx="4120560" cy="3879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 із зеленими терасами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691640" y="6021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259640" y="6021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13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 від архітектурного бюро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Marcel Wanders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формлений в постмодерному стилі із посиланням на голландський Золотий вік. Люстри у формі дзвонів, шпалери з цікавими рисунками та унікальні меблі — все це робить цей готель дуже і дуже особливим і вартим уваги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4" name="Объект 4" descr=""/>
          <p:cNvPicPr/>
          <p:nvPr/>
        </p:nvPicPr>
        <p:blipFill>
          <a:blip r:embed="rId1"/>
          <a:stretch/>
        </p:blipFill>
        <p:spPr>
          <a:xfrm>
            <a:off x="4284000" y="908640"/>
            <a:ext cx="3616560" cy="361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Цікаво оформлений готель в Амстердам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665360" y="5949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259640" y="595008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правжнім цінителям сучасного дизайну надається чудова можливість пожити прямо в стінах всесвітньо відомої школи проектування. Із осені минулого року постояльці можуть зупинятись у кімнатах її колишніх гуртожитків, оформлених дуже просто та, звичайно, в стилі Баухауса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9" name="Объект 4" descr=""/>
          <p:cNvPicPr/>
          <p:nvPr/>
        </p:nvPicPr>
        <p:blipFill>
          <a:blip r:embed="rId1"/>
          <a:stretch/>
        </p:blipFill>
        <p:spPr>
          <a:xfrm>
            <a:off x="4212000" y="764640"/>
            <a:ext cx="3976560" cy="3976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 у легендарному Баухаус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782360" y="5877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403640" y="5877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 у Берліні, що позиціонує себе як куточок джунглів у сучасному місті, має у своїх приміщеннях величезну кількість рослин. Зелень у такому готелі розташована всюди — тут і там стоять вазони, а стебла в’юнких рослин обплітають стіни. У такому готелі є ресторан, що нагадує теплиц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Объект 4" descr=""/>
          <p:cNvPicPr/>
          <p:nvPr/>
        </p:nvPicPr>
        <p:blipFill>
          <a:blip r:embed="rId1"/>
          <a:stretch/>
        </p:blipFill>
        <p:spPr>
          <a:xfrm>
            <a:off x="4068000" y="764640"/>
            <a:ext cx="3976560" cy="3976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Міські джунгл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43640" y="6093360"/>
            <a:ext cx="503640" cy="503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7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1835640" y="6093360"/>
            <a:ext cx="503640" cy="503640"/>
          </a:xfrm>
          <a:prstGeom prst="actionButtonBeginning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10</TotalTime>
  <Application>LibreOffice/7.4.7.2$Linux_X86_64 LibreOffice_project/40$Build-2</Application>
  <AppVersion>15.0000</AppVersion>
  <Words>324</Words>
  <Paragraphs>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2T10:45:50Z</dcterms:created>
  <dc:creator>STAR</dc:creator>
  <dc:description/>
  <dc:language>en-US</dc:language>
  <cp:lastModifiedBy>STAR</cp:lastModifiedBy>
  <dcterms:modified xsi:type="dcterms:W3CDTF">2015-12-12T13:28:39Z</dcterms:modified>
  <cp:revision>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