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9DF-8D67-4F6B-A59F-58EB43AA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6A7-1CA3-4F63-80F1-E453783C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FEB-FE25-4812-ACD1-28361677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3A7-BE7F-4A41-8376-FEEDB987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FC00-8BE3-434D-984D-6D420003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370F-B8ED-4B0B-B481-8D76FD1D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27B3-35AB-49BB-9A4F-04CA72F1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1C35-1567-4BFE-AD5C-6ECCCD8A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2EA4-826A-494F-9A6A-46DA6D0A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0EB7-14DE-4BA8-98B1-19AA7056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07C9-061F-4AAA-92FD-C1AA9DB5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C4E-0C77-49E5-9415-EB1A92FB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4E32-DD6E-4BB4-9631-F427AE6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862D-DD27-489D-ADBF-7E168F94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EB61-2BCA-4DF8-AF1F-C3C9E58D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0A30-FA6F-4437-8C4F-1B66674B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90512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987280" y="109728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2296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190512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2987280" y="3036240"/>
            <a:ext cx="1030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322C-B36C-4249-8E8D-91DE5E32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F81-2C8A-475C-A359-C8EF1B18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E26-636A-4EBA-91C7-5B3B01C9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BDB-124B-4586-B62C-C259A30E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B26-4902-4A08-BA10-923095E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E32-A79B-475A-8F18-6CBDB6A0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37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62760" y="303624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8BF-86D7-4CF3-AAE0-2F8107F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62760" y="1097280"/>
            <a:ext cx="156132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3036240"/>
            <a:ext cx="3200040" cy="17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3A9-173A-4885-8C18-B53C4CD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73F849-4A2B-4D30-BF68-3ABB344EF5B5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7001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621F5E-C4E0-49A1-B111-539D11EC8E07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rgbClr val="000000"/>
                </a:solidFill>
                <a:latin typeface="Franklin Gothic Medium"/>
              </a:rPr>
              <a:t>7 </a:t>
            </a:r>
            <a:r>
              <a:rPr b="0" lang="uk-UA" sz="3200" spc="-1" strike="noStrike" cap="all">
                <a:solidFill>
                  <a:srgbClr val="000000"/>
                </a:solidFill>
                <a:latin typeface="Franklin Gothic Medium"/>
              </a:rPr>
              <a:t>Найоригінальніших готелів світу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 rot="19140000">
            <a:off x="1212120" y="2471040"/>
            <a:ext cx="6510600" cy="3290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uk-UA" sz="1400" spc="398" strike="noStrike" cap="all">
                <a:solidFill>
                  <a:srgbClr val="000000"/>
                </a:solidFill>
                <a:latin typeface="Franklin Gothic Book"/>
              </a:rPr>
              <a:t>Підготував головач андрі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1331640" y="5877360"/>
            <a:ext cx="575640" cy="575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2" name="Управляющая кнопка: в конец 4">
            <a:hlinkClick r:id="" action="ppaction://hlinkshowjump?jump=lastslide"/>
          </p:cNvPr>
          <p:cNvSpPr/>
          <p:nvPr/>
        </p:nvSpPr>
        <p:spPr>
          <a:xfrm>
            <a:off x="2195640" y="5877360"/>
            <a:ext cx="575640" cy="575640"/>
          </a:xfrm>
          <a:prstGeom prst="actionButtonEnd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 унікальному плавучому готелі на архіпелазі Занзібар постояльці можуть відчути, як це, спати нижче рівня океану. Вікна спальні виходять на всі 4 сторони, тож туристи можуть сповна насолодитись видами підводного світу та коралового рифу, що залягає біля підніжжя острова Пемба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4" name="Объект 6" descr=""/>
          <p:cNvPicPr/>
          <p:nvPr/>
        </p:nvPicPr>
        <p:blipFill>
          <a:blip r:embed="rId1"/>
          <a:stretch/>
        </p:blipFill>
        <p:spPr>
          <a:xfrm>
            <a:off x="4284000" y="836640"/>
            <a:ext cx="3831480" cy="38314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-поплавок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1547640" y="5949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7" name="Управляющая кнопка: назад 8">
            <a:hlinkClick r:id="" action="ppaction://hlinkshowjump?jump=previousslide"/>
          </p:cNvPr>
          <p:cNvSpPr/>
          <p:nvPr/>
        </p:nvSpPr>
        <p:spPr>
          <a:xfrm>
            <a:off x="1115640" y="5949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9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, що зовні нагадує пташине гніздо, був побудований, або точніше «звитий» у лісі в Швеції. Розробили чудернацьку споруду в архітектурному бюро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Incrednin Gsgruppen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99" name="Объект 4" descr=""/>
          <p:cNvPicPr/>
          <p:nvPr/>
        </p:nvPicPr>
        <p:blipFill>
          <a:blip r:embed="rId1"/>
          <a:stretch/>
        </p:blipFill>
        <p:spPr>
          <a:xfrm>
            <a:off x="4140000" y="908640"/>
            <a:ext cx="3904560" cy="3904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-гніздо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598760" y="5949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0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186200" y="5949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317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Franklin Gothic Book"/>
              </a:rPr>
              <a:t>Ще однин оригінальний готель, що височіє над землею — дзеркальний куб від архітектурного бюро </a:t>
            </a:r>
            <a:r>
              <a:rPr b="0" lang="en-US" sz="3300" spc="-1" strike="noStrike">
                <a:solidFill>
                  <a:srgbClr val="000000"/>
                </a:solidFill>
                <a:latin typeface="Franklin Gothic Book"/>
              </a:rPr>
              <a:t>Tham&amp;Videgård Arkitekter. </a:t>
            </a:r>
            <a:r>
              <a:rPr b="0" lang="ru-RU" sz="3300" spc="-1" strike="noStrike">
                <a:solidFill>
                  <a:srgbClr val="000000"/>
                </a:solidFill>
                <a:latin typeface="Franklin Gothic Book"/>
              </a:rPr>
              <a:t>Кімната в ньому розміщується навколо стовбура дерева, а стіни зовні вкриті дзеркальним покриттям, що дозволяє такому житлу повністю злитись із навколишнім середовищем. Однак, очевидно, через цю його особливу рису знайти такий готель у лісі також непросто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4" name="Объект 4" descr=""/>
          <p:cNvPicPr/>
          <p:nvPr/>
        </p:nvPicPr>
        <p:blipFill>
          <a:blip r:embed="rId1"/>
          <a:stretch/>
        </p:blipFill>
        <p:spPr>
          <a:xfrm>
            <a:off x="4356000" y="1124640"/>
            <a:ext cx="3960000" cy="36885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 на дерев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887480" y="58611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0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523160" y="58611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 «Parkroyal» у Сінгапурі славний своїми величезними терасами, на яких ростуть тропічні рослини — вікна кожного номеру такого готелю виходять на такі зелені подвір’я. Насолода для любителів красивих садків гарантована!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09" name="Объект 4" descr=""/>
          <p:cNvPicPr/>
          <p:nvPr/>
        </p:nvPicPr>
        <p:blipFill>
          <a:blip r:embed="rId1"/>
          <a:stretch/>
        </p:blipFill>
        <p:spPr>
          <a:xfrm>
            <a:off x="3996000" y="764640"/>
            <a:ext cx="4120560" cy="3879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 із зеленими терасами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691640" y="6021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259640" y="6021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13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 від архітектурного бюро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Marcel Wanders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формлений в постмодерному стилі із посиланням на голландський Золотий вік. Люстри у формі дзвонів, шпалери з цікавими рисунками та унікальні меблі — все це робить цей готель дуже і дуже особливим і вартим уваги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4" name="Объект 4" descr=""/>
          <p:cNvPicPr/>
          <p:nvPr/>
        </p:nvPicPr>
        <p:blipFill>
          <a:blip r:embed="rId1"/>
          <a:stretch/>
        </p:blipFill>
        <p:spPr>
          <a:xfrm>
            <a:off x="4284000" y="908640"/>
            <a:ext cx="3616560" cy="361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Цікаво оформлений готель в Амстердам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665360" y="5949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17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259640" y="595008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Справжнім цінителям сучасного дизайну надається чудова можливість пожити прямо в стінах всесвітньо відомої школи проектування. Із осені минулого року постояльці можуть зупинятись у кімнатах її колишніх гуртожитків, оформлених дуже просто та, звичайно, в стилі Баухауса.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19" name="Объект 4" descr=""/>
          <p:cNvPicPr/>
          <p:nvPr/>
        </p:nvPicPr>
        <p:blipFill>
          <a:blip r:embed="rId1"/>
          <a:stretch/>
        </p:blipFill>
        <p:spPr>
          <a:xfrm>
            <a:off x="4212000" y="764640"/>
            <a:ext cx="3976560" cy="3976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 </a:t>
            </a: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Готель у легендарному Баухаус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1782360" y="5877360"/>
            <a:ext cx="287640" cy="287640"/>
          </a:xfrm>
          <a:prstGeom prst="actionButtonForwardNext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2" name="Управляющая кнопка: назад 6">
            <a:hlinkClick r:id="" action="ppaction://hlinkshowjump?jump=previousslide"/>
          </p:cNvPr>
          <p:cNvSpPr/>
          <p:nvPr/>
        </p:nvSpPr>
        <p:spPr>
          <a:xfrm>
            <a:off x="1403640" y="5877360"/>
            <a:ext cx="287640" cy="287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2960" y="1097280"/>
            <a:ext cx="3200040" cy="37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Готель у Берліні, що позиціонує себе як куточок джунглів у сучасному місті, має у своїх приміщеннях величезну кількість рослин. Зелень у такому готелі розташована всюди — тут і там стоять вазони, а стебла в’юнких рослин обплітають стіни. У такому готелі є ресторан, що нагадує теплиц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Объект 4" descr=""/>
          <p:cNvPicPr/>
          <p:nvPr/>
        </p:nvPicPr>
        <p:blipFill>
          <a:blip r:embed="rId1"/>
          <a:stretch/>
        </p:blipFill>
        <p:spPr>
          <a:xfrm>
            <a:off x="4068000" y="764640"/>
            <a:ext cx="3976560" cy="39765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Міські джунглі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Управляющая кнопка: назад 5">
            <a:hlinkClick r:id="" action="ppaction://hlinkshowjump?jump=previousslide"/>
          </p:cNvPr>
          <p:cNvSpPr/>
          <p:nvPr/>
        </p:nvSpPr>
        <p:spPr>
          <a:xfrm>
            <a:off x="1043640" y="6093360"/>
            <a:ext cx="503640" cy="503640"/>
          </a:xfrm>
          <a:prstGeom prst="actionButtonBackPrevious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27" name="Управляющая кнопка: в начало 6">
            <a:hlinkClick r:id="" action="ppaction://hlinkshowjump?jump=firstslide"/>
          </p:cNvPr>
          <p:cNvSpPr/>
          <p:nvPr/>
        </p:nvSpPr>
        <p:spPr>
          <a:xfrm>
            <a:off x="1835640" y="6093360"/>
            <a:ext cx="503640" cy="503640"/>
          </a:xfrm>
          <a:prstGeom prst="actionButtonBeginning">
            <a:avLst/>
          </a:prstGeom>
          <a:solidFill>
            <a:srgbClr val="797b7e"/>
          </a:solidFill>
          <a:ln>
            <a:solidFill>
              <a:srgbClr val="595a5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10</TotalTime>
  <Application>LibreOffice/7.4.7.2$Linux_X86_64 LibreOffice_project/40$Build-2</Application>
  <AppVersion>15.0000</AppVersion>
  <Words>324</Words>
  <Paragraphs>1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2T10:45:50Z</dcterms:created>
  <dc:creator>STAR</dc:creator>
  <dc:description/>
  <dc:language>en-US</dc:language>
  <cp:lastModifiedBy>STAR</cp:lastModifiedBy>
  <dcterms:modified xsi:type="dcterms:W3CDTF">2015-12-12T13:28:39Z</dcterms:modified>
  <cp:revision>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