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3A328-77AC-4800-98EF-9CB2B16C9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88CB3-4E1A-43F5-BE23-72FF05A64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AE34B-AE24-47D2-A182-7B7B5489D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88E16-6976-424F-B2E0-FA18BE26C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EDF08-B48F-49E6-9099-ED55ACA22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8B1F7-1557-45B6-9AF0-95C4BE1C1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E4D14-4382-4884-9707-A43B52036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E7423-3170-48AA-86B6-9416E9CA5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6D5EF-7657-4683-ADBC-97670296A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1C45A-6E2A-4264-AB95-E159E3F2C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78CB2-F5E6-4B4C-B817-A6267D4B5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12742-FB96-4175-8473-D8DA3AC2F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93AC2-C6E0-4E25-97C3-0CE9C624D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229B0-0F64-44AA-B76E-03F60B14C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1CF9D-06D4-4445-AAC8-AE8FAB2CF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4A945-27F0-4970-8C7B-D1E3B1026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8A716-5D01-434D-9D01-BAEE214CC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AA0F57-4525-469A-A627-8DCA4B714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67101B-AA8A-42ED-949F-952FC04E3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52D787-24FA-496E-BBA6-BA0C6B93E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794706-062C-4712-A966-D2353D687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A1D94F-AF1A-474F-A6F7-015755C54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6B538-6FD9-4923-B954-5083EF5E8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F33CE5-ECEA-4F1A-91DC-5DEA2EE36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99F8A9-B156-43A2-B024-F7BC7E192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F0BB35-BD96-4D45-841F-21D7E4D21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5D3533-90EA-4072-849C-3AA7F93A1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9894D5-E233-479D-9919-0C9EB0E7F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924E05-D7D5-4D69-8B65-37640EC87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3F2FB2-4222-426A-B46E-7BBDAA55D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6A10D7-9C92-4698-813E-7BA534C2B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B91284-316F-4D82-B036-7B7BCDB05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8CBB3B-6EFE-43C9-8129-B2B35BC2E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B3ADB-EF61-4493-8135-E2B090E54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65152D-7A16-4440-8222-9551DCAAF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C1C230-729A-4513-805B-D8C528D13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29B421-DF82-4404-B545-574D6724F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4E6873-4A45-4957-AAAB-F68381684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523111-8330-45A9-87D2-3B944759C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16E623-6A03-4B96-B2F8-764B71F2E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57FD8E-6D2E-4C56-837A-AF0FCCB44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D1BE30-F7EF-47BE-AA98-A4C3F2813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1961C2-15D5-4586-BE5F-94F5EC53B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577C9-DE34-438F-B66B-75B189919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E5EC6-E279-48F0-884F-405438FF1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AD505-6B18-41EA-90A0-2293E7231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DC414-3217-40CC-AB5B-20C2D5351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37F0C-D18A-428E-8DC8-D6F75A23D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C3087D6-E1D9-42ED-A86C-F2D58DDE3CCC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body"/>
          </p:nvPr>
        </p:nvSpPr>
        <p:spPr>
          <a:xfrm>
            <a:off x="464832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18D3A2B-C3CE-4823-8C56-7ACA7CC5E319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8F3D14C-2C21-41EF-A1C1-2A8F89C5A0D1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sldNum" idx="12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E1E5749-E65A-4CFA-AD2E-5C1A6517C4B8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6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6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6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6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6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6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6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6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6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6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6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3640" y="1052640"/>
            <a:ext cx="7630200" cy="28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7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Экзаменационная работа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о предмету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ФИЗКУЛЬТУРА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ученицы 5класса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Червовой Евы Константиновны.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272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оя персональная тренировка, как раз, совмещает в себе эти два направления: детский фитнес и фитбол. Подготовим всё необходимое для занятия. Нам понадобится коврик, фитболл, небольшие гантели, песочный мячик (весом 2кг) и хорошее настроение!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2" name="Объект 3" descr=""/>
          <p:cNvPicPr/>
          <p:nvPr/>
        </p:nvPicPr>
        <p:blipFill>
          <a:blip r:embed="rId1"/>
          <a:stretch/>
        </p:blipFill>
        <p:spPr>
          <a:xfrm>
            <a:off x="3060000" y="2925000"/>
            <a:ext cx="2880000" cy="34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85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Любая тренировка всегда начинается с разминки, чтобы подготовить организм и мышцы к нагрузке, предварительно его разогрев. Сначала разогреваем верхнюю часть корпуса. 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4" name="Объект 4" descr=""/>
          <p:cNvPicPr/>
          <p:nvPr/>
        </p:nvPicPr>
        <p:blipFill>
          <a:blip r:embed="rId1"/>
          <a:stretch/>
        </p:blipFill>
        <p:spPr>
          <a:xfrm>
            <a:off x="1259640" y="2277000"/>
            <a:ext cx="2985840" cy="4392000"/>
          </a:xfrm>
          <a:prstGeom prst="rect">
            <a:avLst/>
          </a:prstGeom>
          <a:ln w="0">
            <a:noFill/>
          </a:ln>
        </p:spPr>
      </p:pic>
      <p:pic>
        <p:nvPicPr>
          <p:cNvPr id="185" name="Объект 5" descr=""/>
          <p:cNvPicPr/>
          <p:nvPr/>
        </p:nvPicPr>
        <p:blipFill>
          <a:blip r:embed="rId2"/>
          <a:stretch/>
        </p:blipFill>
        <p:spPr>
          <a:xfrm>
            <a:off x="4788000" y="2277000"/>
            <a:ext cx="2952000" cy="43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64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азогрев верхней части корпуса с использованием фитболла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.Поднимаем вверх и опускаем до параллели с полом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2.Перекидываем с тренером друг другу фитболл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7" name="Объект 4" descr=""/>
          <p:cNvPicPr/>
          <p:nvPr/>
        </p:nvPicPr>
        <p:blipFill>
          <a:blip r:embed="rId1"/>
          <a:stretch/>
        </p:blipFill>
        <p:spPr>
          <a:xfrm>
            <a:off x="1259640" y="2349000"/>
            <a:ext cx="2841840" cy="4237560"/>
          </a:xfrm>
          <a:prstGeom prst="rect">
            <a:avLst/>
          </a:prstGeom>
          <a:ln w="0">
            <a:noFill/>
          </a:ln>
        </p:spPr>
      </p:pic>
      <p:pic>
        <p:nvPicPr>
          <p:cNvPr id="188" name="Объект 5" descr=""/>
          <p:cNvPicPr/>
          <p:nvPr/>
        </p:nvPicPr>
        <p:blipFill>
          <a:blip r:embed="rId2"/>
          <a:stretch/>
        </p:blipFill>
        <p:spPr>
          <a:xfrm>
            <a:off x="4572000" y="2637000"/>
            <a:ext cx="3816000" cy="338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67640" y="188640"/>
            <a:ext cx="8229240" cy="186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ереходим к разогреву нижней части корпуса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. отводим поочерёдно левую и правую ногу в сторону, круговыми вращениями сверху вниз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2.Упражнение «Джампинг Джек»- прыжки в сторуну и к середине с подниманием рук вверх и опусканием до параллели с полом через сторону.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0" name="Объект 4" descr=""/>
          <p:cNvPicPr/>
          <p:nvPr/>
        </p:nvPicPr>
        <p:blipFill>
          <a:blip r:embed="rId1"/>
          <a:stretch/>
        </p:blipFill>
        <p:spPr>
          <a:xfrm>
            <a:off x="971640" y="2348640"/>
            <a:ext cx="2640240" cy="3744360"/>
          </a:xfrm>
          <a:prstGeom prst="rect">
            <a:avLst/>
          </a:prstGeom>
          <a:ln w="0">
            <a:noFill/>
          </a:ln>
        </p:spPr>
      </p:pic>
      <p:pic>
        <p:nvPicPr>
          <p:cNvPr id="191" name="Объект 5" descr=""/>
          <p:cNvPicPr/>
          <p:nvPr/>
        </p:nvPicPr>
        <p:blipFill>
          <a:blip r:embed="rId2"/>
          <a:stretch/>
        </p:blipFill>
        <p:spPr>
          <a:xfrm>
            <a:off x="4140000" y="2925000"/>
            <a:ext cx="4038120" cy="30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.Приседания (важно чтобы колени не выходили за носки)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2. Бег с прыжком в сторону по периметру зала, поочерёдно: в лево, затем вправо.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3" name="Объект 4" descr=""/>
          <p:cNvPicPr/>
          <p:nvPr/>
        </p:nvPicPr>
        <p:blipFill>
          <a:blip r:embed="rId1"/>
          <a:stretch/>
        </p:blipFill>
        <p:spPr>
          <a:xfrm>
            <a:off x="4356000" y="2565000"/>
            <a:ext cx="4038120" cy="3028680"/>
          </a:xfrm>
          <a:prstGeom prst="rect">
            <a:avLst/>
          </a:prstGeom>
          <a:ln w="0">
            <a:noFill/>
          </a:ln>
        </p:spPr>
      </p:pic>
      <p:pic>
        <p:nvPicPr>
          <p:cNvPr id="194" name="Объект 5" descr=""/>
          <p:cNvPicPr/>
          <p:nvPr/>
        </p:nvPicPr>
        <p:blipFill>
          <a:blip r:embed="rId2"/>
          <a:stretch/>
        </p:blipFill>
        <p:spPr>
          <a:xfrm>
            <a:off x="755640" y="1772640"/>
            <a:ext cx="3394080" cy="452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92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Упражнения на фитболле: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. Уходим вперёд и возвращаемся назад руками по полу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2.Отводим ноги вверх и вниз, поочерёдно левую и правую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6" name="Объект 4" descr=""/>
          <p:cNvPicPr/>
          <p:nvPr/>
        </p:nvPicPr>
        <p:blipFill>
          <a:blip r:embed="rId1"/>
          <a:stretch/>
        </p:blipFill>
        <p:spPr>
          <a:xfrm>
            <a:off x="457200" y="2348640"/>
            <a:ext cx="4038120" cy="3028680"/>
          </a:xfrm>
          <a:prstGeom prst="rect">
            <a:avLst/>
          </a:prstGeom>
          <a:ln w="0">
            <a:noFill/>
          </a:ln>
        </p:spPr>
      </p:pic>
      <p:pic>
        <p:nvPicPr>
          <p:cNvPr id="197" name="Объект 5" descr=""/>
          <p:cNvPicPr/>
          <p:nvPr/>
        </p:nvPicPr>
        <p:blipFill>
          <a:blip r:embed="rId2"/>
          <a:stretch/>
        </p:blipFill>
        <p:spPr>
          <a:xfrm>
            <a:off x="4648320" y="2348640"/>
            <a:ext cx="4038120" cy="30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пражнения на фитболле сидя с грифом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днимаем руки вверх и опускаем вниз вместе с грифом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9" name="Объект 4" descr=""/>
          <p:cNvPicPr/>
          <p:nvPr/>
        </p:nvPicPr>
        <p:blipFill>
          <a:blip r:embed="rId1"/>
          <a:stretch/>
        </p:blipFill>
        <p:spPr>
          <a:xfrm>
            <a:off x="779400" y="1600200"/>
            <a:ext cx="3394080" cy="4525560"/>
          </a:xfrm>
          <a:prstGeom prst="rect">
            <a:avLst/>
          </a:prstGeom>
          <a:ln w="0">
            <a:noFill/>
          </a:ln>
        </p:spPr>
      </p:pic>
      <p:pic>
        <p:nvPicPr>
          <p:cNvPr id="200" name="Объект 5" descr=""/>
          <p:cNvPicPr/>
          <p:nvPr/>
        </p:nvPicPr>
        <p:blipFill>
          <a:blip r:embed="rId2"/>
          <a:stretch/>
        </p:blipFill>
        <p:spPr>
          <a:xfrm>
            <a:off x="4970160" y="1600200"/>
            <a:ext cx="3394080" cy="452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95640" y="3326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.Перевёрнутое упражнение с фитболлом. Поочерёдно поднимаем и опускаем разноимённые руки и ноги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2.Перекаты вперёд и назад на фитболле на спине, это помогает расслабить и растянуть спину.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2" name="Объект 4" descr=""/>
          <p:cNvPicPr/>
          <p:nvPr/>
        </p:nvPicPr>
        <p:blipFill>
          <a:blip r:embed="rId1"/>
          <a:stretch/>
        </p:blipFill>
        <p:spPr>
          <a:xfrm>
            <a:off x="457200" y="2348640"/>
            <a:ext cx="4038120" cy="3028680"/>
          </a:xfrm>
          <a:prstGeom prst="rect">
            <a:avLst/>
          </a:prstGeom>
          <a:ln w="0">
            <a:noFill/>
          </a:ln>
        </p:spPr>
      </p:pic>
      <p:pic>
        <p:nvPicPr>
          <p:cNvPr id="203" name="Объект 5" descr=""/>
          <p:cNvPicPr/>
          <p:nvPr/>
        </p:nvPicPr>
        <p:blipFill>
          <a:blip r:embed="rId2"/>
          <a:stretch/>
        </p:blipFill>
        <p:spPr>
          <a:xfrm>
            <a:off x="4970160" y="1600200"/>
            <a:ext cx="3394080" cy="452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Упражнение «планка»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5" name="Объект 4" descr=""/>
          <p:cNvPicPr/>
          <p:nvPr/>
        </p:nvPicPr>
        <p:blipFill>
          <a:blip r:embed="rId1"/>
          <a:stretch/>
        </p:blipFill>
        <p:spPr>
          <a:xfrm>
            <a:off x="457200" y="2348640"/>
            <a:ext cx="4038120" cy="3028680"/>
          </a:xfrm>
          <a:prstGeom prst="rect">
            <a:avLst/>
          </a:prstGeom>
          <a:ln w="0">
            <a:noFill/>
          </a:ln>
        </p:spPr>
      </p:pic>
      <p:pic>
        <p:nvPicPr>
          <p:cNvPr id="206" name="Объект 5" descr=""/>
          <p:cNvPicPr/>
          <p:nvPr/>
        </p:nvPicPr>
        <p:blipFill>
          <a:blip r:embed="rId2"/>
          <a:stretch/>
        </p:blipFill>
        <p:spPr>
          <a:xfrm>
            <a:off x="4648320" y="2348640"/>
            <a:ext cx="4038120" cy="30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64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аждая тренировка заканчивается растяжкой, чтобы помочь мышцам снять напряжение и сохранить гибкость. Растяжка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8" name="Объект 4" descr=""/>
          <p:cNvPicPr/>
          <p:nvPr/>
        </p:nvPicPr>
        <p:blipFill>
          <a:blip r:embed="rId1"/>
          <a:stretch/>
        </p:blipFill>
        <p:spPr>
          <a:xfrm>
            <a:off x="779400" y="1989000"/>
            <a:ext cx="3072240" cy="4392000"/>
          </a:xfrm>
          <a:prstGeom prst="rect">
            <a:avLst/>
          </a:prstGeom>
          <a:ln w="0">
            <a:noFill/>
          </a:ln>
        </p:spPr>
      </p:pic>
      <p:pic>
        <p:nvPicPr>
          <p:cNvPr id="209" name="Объект 5" descr=""/>
          <p:cNvPicPr/>
          <p:nvPr/>
        </p:nvPicPr>
        <p:blipFill>
          <a:blip r:embed="rId2"/>
          <a:stretch/>
        </p:blipFill>
        <p:spPr>
          <a:xfrm>
            <a:off x="4648320" y="2348640"/>
            <a:ext cx="4038120" cy="331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8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Тема презентации: детский фитнес и фитболл.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7" name="Объект 4" descr=""/>
          <p:cNvPicPr/>
          <p:nvPr/>
        </p:nvPicPr>
        <p:blipFill>
          <a:blip r:embed="rId1"/>
          <a:stretch/>
        </p:blipFill>
        <p:spPr>
          <a:xfrm>
            <a:off x="457200" y="2421000"/>
            <a:ext cx="4038120" cy="3384000"/>
          </a:xfrm>
          <a:prstGeom prst="rect">
            <a:avLst/>
          </a:prstGeom>
          <a:ln w="0">
            <a:noFill/>
          </a:ln>
        </p:spPr>
      </p:pic>
      <p:pic>
        <p:nvPicPr>
          <p:cNvPr id="168" name="Объект 5" descr=""/>
          <p:cNvPicPr/>
          <p:nvPr/>
        </p:nvPicPr>
        <p:blipFill>
          <a:blip r:embed="rId2"/>
          <a:stretch/>
        </p:blipFill>
        <p:spPr>
          <a:xfrm>
            <a:off x="4648320" y="2421000"/>
            <a:ext cx="4038120" cy="338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Тянем ноги и поясницу.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1" name="Объект 4" descr=""/>
          <p:cNvPicPr/>
          <p:nvPr/>
        </p:nvPicPr>
        <p:blipFill>
          <a:blip r:embed="rId1"/>
          <a:stretch/>
        </p:blipFill>
        <p:spPr>
          <a:xfrm>
            <a:off x="779400" y="1600200"/>
            <a:ext cx="3394080" cy="4525560"/>
          </a:xfrm>
          <a:prstGeom prst="rect">
            <a:avLst/>
          </a:prstGeom>
          <a:ln w="0">
            <a:noFill/>
          </a:ln>
        </p:spPr>
      </p:pic>
      <p:pic>
        <p:nvPicPr>
          <p:cNvPr id="212" name="Объект 5" descr=""/>
          <p:cNvPicPr/>
          <p:nvPr/>
        </p:nvPicPr>
        <p:blipFill>
          <a:blip r:embed="rId2"/>
          <a:stretch/>
        </p:blipFill>
        <p:spPr>
          <a:xfrm>
            <a:off x="4648320" y="2348640"/>
            <a:ext cx="4038120" cy="30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3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1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Не забывайте пить много воды во время тренировки. Вода помогает организму быстрее восстанавливаться от нагрузки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4" name="Объект 4" descr=""/>
          <p:cNvPicPr/>
          <p:nvPr/>
        </p:nvPicPr>
        <p:blipFill>
          <a:blip r:embed="rId1"/>
          <a:stretch/>
        </p:blipFill>
        <p:spPr>
          <a:xfrm>
            <a:off x="4356000" y="2133000"/>
            <a:ext cx="4038120" cy="3028680"/>
          </a:xfrm>
          <a:prstGeom prst="rect">
            <a:avLst/>
          </a:prstGeom>
          <a:ln w="0">
            <a:noFill/>
          </a:ln>
        </p:spPr>
      </p:pic>
      <p:pic>
        <p:nvPicPr>
          <p:cNvPr id="215" name="Объект 5" descr=""/>
          <p:cNvPicPr/>
          <p:nvPr/>
        </p:nvPicPr>
        <p:blipFill>
          <a:blip r:embed="rId2"/>
          <a:stretch/>
        </p:blipFill>
        <p:spPr>
          <a:xfrm>
            <a:off x="755640" y="1772640"/>
            <a:ext cx="3394080" cy="489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49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конце каждой тренировке нужно обязательно себя благодарить и поаплодировать себе за выносливость и труд!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Будьте здоровыми и спортивными!!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Объект 3" descr=""/>
          <p:cNvPicPr/>
          <p:nvPr/>
        </p:nvPicPr>
        <p:blipFill>
          <a:blip r:embed="rId1"/>
          <a:stretch/>
        </p:blipFill>
        <p:spPr>
          <a:xfrm>
            <a:off x="2843640" y="2061000"/>
            <a:ext cx="3394080" cy="452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214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Фитболл- это упражнения на мяче. Несмотря на свою простоту, позволяет выполнять много различных упражнений и тренировать те мышцы, которые трудно "достать" при классических тренировках. На фитболле приходится постоянно поддерживать равновесие, автоматически включая в работу большое количество мышц.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0" name="Объект 4" descr=""/>
          <p:cNvPicPr/>
          <p:nvPr/>
        </p:nvPicPr>
        <p:blipFill>
          <a:blip r:embed="rId1"/>
          <a:stretch/>
        </p:blipFill>
        <p:spPr>
          <a:xfrm>
            <a:off x="611640" y="2493000"/>
            <a:ext cx="3380040" cy="3816000"/>
          </a:xfrm>
          <a:prstGeom prst="rect">
            <a:avLst/>
          </a:prstGeom>
          <a:ln w="0">
            <a:noFill/>
          </a:ln>
        </p:spPr>
      </p:pic>
      <p:pic>
        <p:nvPicPr>
          <p:cNvPr id="171" name="Объект 5" descr=""/>
          <p:cNvPicPr/>
          <p:nvPr/>
        </p:nvPicPr>
        <p:blipFill>
          <a:blip r:embed="rId2"/>
          <a:stretch/>
        </p:blipFill>
        <p:spPr>
          <a:xfrm>
            <a:off x="4500000" y="2205000"/>
            <a:ext cx="410400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116640"/>
            <a:ext cx="8229240" cy="22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се большую популярность в последнее время набирает фитболл. Он представляет собой большой виниловый мяч, который бывает разного диаметра и с разнообразной поверхностью (гладкой или выпуклой), с ручками или без.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н является отличным домашним тренажером. Ведь на нем можно эффективно заниматься, параллельно смотря телевизор или слушая музыку. При занятиях на фитболле развивается гибкость и равновесие, укрепляется вестибулярный аппарат.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3" name="Объект 4" descr=""/>
          <p:cNvPicPr/>
          <p:nvPr/>
        </p:nvPicPr>
        <p:blipFill>
          <a:blip r:embed="rId1"/>
          <a:stretch/>
        </p:blipFill>
        <p:spPr>
          <a:xfrm>
            <a:off x="659520" y="2492280"/>
            <a:ext cx="3633480" cy="3633480"/>
          </a:xfrm>
          <a:prstGeom prst="rect">
            <a:avLst/>
          </a:prstGeom>
          <a:ln w="0">
            <a:noFill/>
          </a:ln>
        </p:spPr>
      </p:pic>
      <p:pic>
        <p:nvPicPr>
          <p:cNvPr id="174" name="Объект 5" descr=""/>
          <p:cNvPicPr/>
          <p:nvPr/>
        </p:nvPicPr>
        <p:blipFill>
          <a:blip r:embed="rId2"/>
          <a:stretch/>
        </p:blipFill>
        <p:spPr>
          <a:xfrm>
            <a:off x="4648320" y="2926080"/>
            <a:ext cx="4038120" cy="276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279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етский фитнес — это своего рода спортивные занятия, включающие в себя элементы гимнастики, хореографии, аэробики, йоги и даже восточных единоборств. Группы для занятий детским фитнесом обычно не превышают 15 человек, а обучение происходит в форме игры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 протяжении развития детского организма грамотные тренировки положительно влияют на детский и подростковый организм. Прежде всего, устанавливаются правильные двигательные стереотипы, ребенок учится управлять свои телом, развивается координация, ловкость и пластичность. </a:t>
            </a:r>
            <a:br>
              <a:rPr sz="1800"/>
            </a:b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6" name="Объект 3" descr=""/>
          <p:cNvPicPr/>
          <p:nvPr/>
        </p:nvPicPr>
        <p:blipFill>
          <a:blip r:embed="rId1"/>
          <a:stretch/>
        </p:blipFill>
        <p:spPr>
          <a:xfrm>
            <a:off x="2267640" y="3069000"/>
            <a:ext cx="432468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95640" y="274680"/>
            <a:ext cx="8290800" cy="567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4000"/>
          </a:bodyPr>
          <a:p>
            <a:pPr indent="0" algn="ctr">
              <a:lnSpc>
                <a:spcPct val="100000"/>
              </a:lnSpc>
              <a:buNone/>
            </a:pPr>
            <a:br>
              <a:rPr sz="44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 период средней школы тренировки помогают поддерживать мышечный тонус ребенка, он необходим для правильной осанки. В подростковом периоде, когда ускоряется рост костной ткани, тренировки помогают разгрузить опорно-двигательный аппарат, сформировать сбалансированную работу мышц и, конечно, дарят ребенку уверенность в себе и своих движениях.</a:t>
            </a: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574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Регулярные тренировки с раннего возраста — прекрасная профилактика заболеваний. Прежде всего, опорно-двигательного аппарата, а именно — искривлений и нарушений осанки. Также занятия фитнесом способны предупредить нарушения нервно-психической сферы (депрессии, переутомляемость, неврозы, фобии и т. д.)</a:t>
            </a:r>
            <a:br>
              <a:rPr sz="3600"/>
            </a:br>
            <a:endParaRPr b="0" lang="ru-RU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67640" y="260640"/>
            <a:ext cx="8229240" cy="59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9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Регулярные физические нагрузки при грамотной «дозировке», позволяют ребенку правильно распределить силы, избавиться от чрезмерного напряжения. Также тренировки прививают понимание дисциплины и организованности, создавая здоровый соревновательный дух.</a:t>
            </a:r>
            <a:br>
              <a:rPr sz="4400"/>
            </a:b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240" cy="666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етский фитнес можно разделить на 3 основных направления: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бщеразвивающее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етям помогают заложить основы, они изучают разные виды движения, прототип физических качеств. Тут и ходьба, и ползание, и лазание, и прыжки, равновесие, и бег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орригирующее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Это профилактика плоскостопия, тренировки уже подразумевают работу с соответствующим фитнес-оборудованием. Специалисты советуют обратить внимание на такие занятия уже с раннего детства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елкая моторика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же давно известно, что мелкие движения кисти напрямую связаны с работой мозга и развитием речи. Занятия этой направленности укрепляют кистевые мышцы.</a:t>
            </a:r>
            <a:br>
              <a:rPr sz="2400"/>
            </a:b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</TotalTime>
  <Application>LibreOffice/7.4.7.2$Linux_X86_64 LibreOffice_project/40$Build-2</Application>
  <AppVersion>15.0000</AppVersion>
  <Words>386</Words>
  <Paragraphs>22</Paragraphs>
  <Company>Krokoz™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23T05:11:28Z</dcterms:created>
  <dc:creator>1</dc:creator>
  <dc:description/>
  <dc:language>en-US</dc:language>
  <cp:lastModifiedBy>Admin</cp:lastModifiedBy>
  <dcterms:modified xsi:type="dcterms:W3CDTF">2018-10-22T17:50:56Z</dcterms:modified>
  <cp:revision>32</cp:revision>
  <dc:subject/>
  <dc:title>Экзаменационная работа  по физкультуре  Ученицы 4 класса  Червовой Евы Константиновны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22</vt:r8>
  </property>
</Properties>
</file>