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719C-CE0E-49B1-BED0-70030958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983B-438C-4BE7-B411-4EA3D34B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407F-2AD7-4CD1-B17C-5141ABC3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2D78-6040-4C54-8864-650AA3A2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B74D-2C5D-46C9-A619-B7838424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58ED-E60F-4D68-B94C-C841ABC9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8A58-955B-4EC0-B2AF-9DCDCD82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07E8-D780-409A-BCAE-1D102C5D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7991-616C-4306-9854-CD636914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DC6E-21A6-456B-9A17-044A1F49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85D1-6230-4F1F-9D6D-8316DE67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1C85-073A-49CE-87B6-7CCA7154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399B-1F7F-4350-B18E-88F06581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C444-BE5B-4292-ACBA-F93EF838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9D0E-4E17-4E74-B0EE-1AD80CD5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865E-EAB8-403C-A9C2-1220735D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7884-5D56-442D-8780-33957780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FE163-ADC5-458C-B568-3E0DCAB1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0CB97-0813-4B2A-84AA-E2138D43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03841-633A-4523-8A74-7EA09DD9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8A7AE-BED2-477F-97AD-7C58F49A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1F240-FF61-4C2F-A1B4-78FA64D1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2609-5C34-4A6F-9295-11A943AD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71254-7A45-4117-B8E0-E0CB23D5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27F2B-489E-4D09-A258-50F46185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FE846-6C66-4F87-9C9F-2531B65E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78518-BB6E-444F-A6D9-83B30651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D7530-DDCD-4F8F-94D4-78DB9510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D84CA-7761-46E8-A3BA-094179CA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8055F-DBA9-49E3-81ED-4180F154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EE14B-EC93-42FD-BDF0-FF717A5F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98C67-D5FC-4A2F-B221-66FCC9FC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CAD3C-1845-4B9F-9C81-D7827A9C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F65F-05CE-449A-9CB9-40ADE2C7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9148E-8D94-4F3B-AC42-F14029C8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D599A-D0A8-4DA5-8F79-E9C1C41F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0F61B-D8AD-4EA8-8B93-110169D2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B8F04-9FBA-44EE-8DDB-19ACB46F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24C47-63B0-469B-B8E3-F7BE14EA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09835-744B-4600-9948-695440C4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0607D-A2C1-49DA-BCD7-A3C80587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788F9-77EE-4D5D-8763-4C6CEB85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D1F63-F216-4C7B-8516-F799836C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CA30-3204-4F2F-980D-BDDA052F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9926-B7BF-4EAD-90AF-7CDF863A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3C01-DAF9-43CA-AD3A-FFAC1C61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15E5-9DAC-45E7-8E50-028A5BCC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17D6-C2F9-437D-962D-1034E46A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02A554-9EA5-4188-AB95-FACF714E379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C37AA5-3B88-47C1-AA66-0E922C70977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AF14DD-0E61-46DA-BB1C-372F2BDC7C5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556149-92AF-4BF4-BEB3-A6510C5ACEF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3640" y="1052640"/>
            <a:ext cx="76302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кзаменационная работ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 предмету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ИЗКУЛЬТУР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ченицы 5класс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рвовой Евы Константиновны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272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я персональная тренировка, как раз, совмещает в себе эти два направления: детский фитнес и фитбол. Подготовим всё необходимое для занятия. Нам понадобится коврик, фитболл, небольшие гантели, песочный мячик (весом 2кг) и хорошее настроение!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Объект 3" descr=""/>
          <p:cNvPicPr/>
          <p:nvPr/>
        </p:nvPicPr>
        <p:blipFill>
          <a:blip r:embed="rId1"/>
          <a:stretch/>
        </p:blipFill>
        <p:spPr>
          <a:xfrm>
            <a:off x="3060000" y="2925000"/>
            <a:ext cx="2880000" cy="34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8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ая тренировка всегда начинается с разминки, чтобы подготовить организм и мышцы к нагрузке, предварительно его разогрев. Сначала разогреваем верхнюю часть корпуса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Объект 4" descr=""/>
          <p:cNvPicPr/>
          <p:nvPr/>
        </p:nvPicPr>
        <p:blipFill>
          <a:blip r:embed="rId1"/>
          <a:stretch/>
        </p:blipFill>
        <p:spPr>
          <a:xfrm>
            <a:off x="1259640" y="2277000"/>
            <a:ext cx="2985840" cy="4392000"/>
          </a:xfrm>
          <a:prstGeom prst="rect">
            <a:avLst/>
          </a:prstGeom>
          <a:ln w="0">
            <a:noFill/>
          </a:ln>
        </p:spPr>
      </p:pic>
      <p:pic>
        <p:nvPicPr>
          <p:cNvPr id="185" name="Объект 5" descr=""/>
          <p:cNvPicPr/>
          <p:nvPr/>
        </p:nvPicPr>
        <p:blipFill>
          <a:blip r:embed="rId2"/>
          <a:stretch/>
        </p:blipFill>
        <p:spPr>
          <a:xfrm>
            <a:off x="4788000" y="2277000"/>
            <a:ext cx="2952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6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огрев верхней части корпуса с использованием фитболла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Поднимаем вверх и опускаем до параллели с поло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2.Перекидываем с тренером друг другу фитболл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Объект 4" descr=""/>
          <p:cNvPicPr/>
          <p:nvPr/>
        </p:nvPicPr>
        <p:blipFill>
          <a:blip r:embed="rId1"/>
          <a:stretch/>
        </p:blipFill>
        <p:spPr>
          <a:xfrm>
            <a:off x="1259640" y="2349000"/>
            <a:ext cx="2841840" cy="4237560"/>
          </a:xfrm>
          <a:prstGeom prst="rect">
            <a:avLst/>
          </a:prstGeom>
          <a:ln w="0">
            <a:noFill/>
          </a:ln>
        </p:spPr>
      </p:pic>
      <p:pic>
        <p:nvPicPr>
          <p:cNvPr id="188" name="Объект 5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3816000" cy="33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7640" y="188640"/>
            <a:ext cx="8229240" cy="186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ходим к разогреву нижней части корпус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отводим поочерёдно левую и правую ногу в сторону, круговыми вращениями сверху вниз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Упражнение «Джампинг Джек»- прыжки в сторуну и к середине с подниманием рук вверх и опусканием до параллели с полом через сторону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Объект 4" descr=""/>
          <p:cNvPicPr/>
          <p:nvPr/>
        </p:nvPicPr>
        <p:blipFill>
          <a:blip r:embed="rId1"/>
          <a:stretch/>
        </p:blipFill>
        <p:spPr>
          <a:xfrm>
            <a:off x="971640" y="2348640"/>
            <a:ext cx="2640240" cy="3744360"/>
          </a:xfrm>
          <a:prstGeom prst="rect">
            <a:avLst/>
          </a:prstGeom>
          <a:ln w="0">
            <a:noFill/>
          </a:ln>
        </p:spPr>
      </p:pic>
      <p:pic>
        <p:nvPicPr>
          <p:cNvPr id="191" name="Объект 5" descr=""/>
          <p:cNvPicPr/>
          <p:nvPr/>
        </p:nvPicPr>
        <p:blipFill>
          <a:blip r:embed="rId2"/>
          <a:stretch/>
        </p:blipFill>
        <p:spPr>
          <a:xfrm>
            <a:off x="4140000" y="2925000"/>
            <a:ext cx="4038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Приседания (важно чтобы колени не выходили за носки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Бег с прыжком в сторону по периметру зала, поочерёдно: в лево, затем вправо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Объект 4" descr=""/>
          <p:cNvPicPr/>
          <p:nvPr/>
        </p:nvPicPr>
        <p:blipFill>
          <a:blip r:embed="rId1"/>
          <a:stretch/>
        </p:blipFill>
        <p:spPr>
          <a:xfrm>
            <a:off x="4356000" y="2565000"/>
            <a:ext cx="4038120" cy="3028680"/>
          </a:xfrm>
          <a:prstGeom prst="rect">
            <a:avLst/>
          </a:prstGeom>
          <a:ln w="0">
            <a:noFill/>
          </a:ln>
        </p:spPr>
      </p:pic>
      <p:pic>
        <p:nvPicPr>
          <p:cNvPr id="194" name="Объект 5" descr=""/>
          <p:cNvPicPr/>
          <p:nvPr/>
        </p:nvPicPr>
        <p:blipFill>
          <a:blip r:embed="rId2"/>
          <a:stretch/>
        </p:blipFill>
        <p:spPr>
          <a:xfrm>
            <a:off x="755640" y="1772640"/>
            <a:ext cx="3394080" cy="45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9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жнения на фитболле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Уходим вперёд и возвращаемся назад руками по пол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Отводим ноги вверх и вниз, поочерёдно левую и правую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Объект 4" descr=""/>
          <p:cNvPicPr/>
          <p:nvPr/>
        </p:nvPicPr>
        <p:blipFill>
          <a:blip r:embed="rId1"/>
          <a:stretch/>
        </p:blipFill>
        <p:spPr>
          <a:xfrm>
            <a:off x="457200" y="2348640"/>
            <a:ext cx="4038120" cy="3028680"/>
          </a:xfrm>
          <a:prstGeom prst="rect">
            <a:avLst/>
          </a:prstGeom>
          <a:ln w="0">
            <a:noFill/>
          </a:ln>
        </p:spPr>
      </p:pic>
      <p:pic>
        <p:nvPicPr>
          <p:cNvPr id="197" name="Объект 5" descr=""/>
          <p:cNvPicPr/>
          <p:nvPr/>
        </p:nvPicPr>
        <p:blipFill>
          <a:blip r:embed="rId2"/>
          <a:stretch/>
        </p:blipFill>
        <p:spPr>
          <a:xfrm>
            <a:off x="4648320" y="2348640"/>
            <a:ext cx="4038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жнения на фитболле сидя с грифо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нимаем руки вверх и опускаем вниз вместе с грифо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Объект 4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560"/>
          </a:xfrm>
          <a:prstGeom prst="rect">
            <a:avLst/>
          </a:prstGeom>
          <a:ln w="0">
            <a:noFill/>
          </a:ln>
        </p:spPr>
      </p:pic>
      <p:pic>
        <p:nvPicPr>
          <p:cNvPr id="200" name="Объект 5" descr=""/>
          <p:cNvPicPr/>
          <p:nvPr/>
        </p:nvPicPr>
        <p:blipFill>
          <a:blip r:embed="rId2"/>
          <a:stretch/>
        </p:blipFill>
        <p:spPr>
          <a:xfrm>
            <a:off x="4970160" y="1600200"/>
            <a:ext cx="3394080" cy="45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640" y="332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Перевёрнутое упражнение с фитболлом. Поочерёдно поднимаем и опускаем разноимённые руки и ног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Перекаты вперёд и назад на фитболле на спине, это помогает расслабить и растянуть спину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Объект 4" descr=""/>
          <p:cNvPicPr/>
          <p:nvPr/>
        </p:nvPicPr>
        <p:blipFill>
          <a:blip r:embed="rId1"/>
          <a:stretch/>
        </p:blipFill>
        <p:spPr>
          <a:xfrm>
            <a:off x="457200" y="2348640"/>
            <a:ext cx="4038120" cy="3028680"/>
          </a:xfrm>
          <a:prstGeom prst="rect">
            <a:avLst/>
          </a:prstGeom>
          <a:ln w="0">
            <a:noFill/>
          </a:ln>
        </p:spPr>
      </p:pic>
      <p:pic>
        <p:nvPicPr>
          <p:cNvPr id="203" name="Объект 5" descr=""/>
          <p:cNvPicPr/>
          <p:nvPr/>
        </p:nvPicPr>
        <p:blipFill>
          <a:blip r:embed="rId2"/>
          <a:stretch/>
        </p:blipFill>
        <p:spPr>
          <a:xfrm>
            <a:off x="4970160" y="1600200"/>
            <a:ext cx="3394080" cy="45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пражнение «планка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Объект 4" descr=""/>
          <p:cNvPicPr/>
          <p:nvPr/>
        </p:nvPicPr>
        <p:blipFill>
          <a:blip r:embed="rId1"/>
          <a:stretch/>
        </p:blipFill>
        <p:spPr>
          <a:xfrm>
            <a:off x="457200" y="2348640"/>
            <a:ext cx="4038120" cy="3028680"/>
          </a:xfrm>
          <a:prstGeom prst="rect">
            <a:avLst/>
          </a:prstGeom>
          <a:ln w="0">
            <a:noFill/>
          </a:ln>
        </p:spPr>
      </p:pic>
      <p:pic>
        <p:nvPicPr>
          <p:cNvPr id="206" name="Объект 5" descr=""/>
          <p:cNvPicPr/>
          <p:nvPr/>
        </p:nvPicPr>
        <p:blipFill>
          <a:blip r:embed="rId2"/>
          <a:stretch/>
        </p:blipFill>
        <p:spPr>
          <a:xfrm>
            <a:off x="4648320" y="2348640"/>
            <a:ext cx="4038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6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ая тренировка заканчивается растяжкой, чтобы помочь мышцам снять напряжение и сохранить гибкость. Растяж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Объект 4" descr=""/>
          <p:cNvPicPr/>
          <p:nvPr/>
        </p:nvPicPr>
        <p:blipFill>
          <a:blip r:embed="rId1"/>
          <a:stretch/>
        </p:blipFill>
        <p:spPr>
          <a:xfrm>
            <a:off x="779400" y="1989000"/>
            <a:ext cx="3072240" cy="4392000"/>
          </a:xfrm>
          <a:prstGeom prst="rect">
            <a:avLst/>
          </a:prstGeom>
          <a:ln w="0">
            <a:noFill/>
          </a:ln>
        </p:spPr>
      </p:pic>
      <p:pic>
        <p:nvPicPr>
          <p:cNvPr id="209" name="Объект 5" descr=""/>
          <p:cNvPicPr/>
          <p:nvPr/>
        </p:nvPicPr>
        <p:blipFill>
          <a:blip r:embed="rId2"/>
          <a:stretch/>
        </p:blipFill>
        <p:spPr>
          <a:xfrm>
            <a:off x="4648320" y="2348640"/>
            <a:ext cx="4038120" cy="33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презентации: детский фитнес и фитболл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Объект 4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4038120" cy="3384000"/>
          </a:xfrm>
          <a:prstGeom prst="rect">
            <a:avLst/>
          </a:prstGeom>
          <a:ln w="0">
            <a:noFill/>
          </a:ln>
        </p:spPr>
      </p:pic>
      <p:pic>
        <p:nvPicPr>
          <p:cNvPr id="168" name="Объект 5" descr=""/>
          <p:cNvPicPr/>
          <p:nvPr/>
        </p:nvPicPr>
        <p:blipFill>
          <a:blip r:embed="rId2"/>
          <a:stretch/>
        </p:blipFill>
        <p:spPr>
          <a:xfrm>
            <a:off x="4648320" y="2421000"/>
            <a:ext cx="4038120" cy="33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янем ноги и поясницу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Объект 4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560"/>
          </a:xfrm>
          <a:prstGeom prst="rect">
            <a:avLst/>
          </a:prstGeom>
          <a:ln w="0">
            <a:noFill/>
          </a:ln>
        </p:spPr>
      </p:pic>
      <p:pic>
        <p:nvPicPr>
          <p:cNvPr id="212" name="Объект 5" descr=""/>
          <p:cNvPicPr/>
          <p:nvPr/>
        </p:nvPicPr>
        <p:blipFill>
          <a:blip r:embed="rId2"/>
          <a:stretch/>
        </p:blipFill>
        <p:spPr>
          <a:xfrm>
            <a:off x="4648320" y="2348640"/>
            <a:ext cx="4038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 забывайте пить много воды во время тренировки. Вода помогает организму быстрее восстанавливаться от нагрузк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Объект 4" descr=""/>
          <p:cNvPicPr/>
          <p:nvPr/>
        </p:nvPicPr>
        <p:blipFill>
          <a:blip r:embed="rId1"/>
          <a:stretch/>
        </p:blipFill>
        <p:spPr>
          <a:xfrm>
            <a:off x="4356000" y="2133000"/>
            <a:ext cx="4038120" cy="3028680"/>
          </a:xfrm>
          <a:prstGeom prst="rect">
            <a:avLst/>
          </a:prstGeom>
          <a:ln w="0">
            <a:noFill/>
          </a:ln>
        </p:spPr>
      </p:pic>
      <p:pic>
        <p:nvPicPr>
          <p:cNvPr id="215" name="Объект 5" descr=""/>
          <p:cNvPicPr/>
          <p:nvPr/>
        </p:nvPicPr>
        <p:blipFill>
          <a:blip r:embed="rId2"/>
          <a:stretch/>
        </p:blipFill>
        <p:spPr>
          <a:xfrm>
            <a:off x="755640" y="1772640"/>
            <a:ext cx="3394080" cy="489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49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онце каждой тренировке нужно обязательно себя благодарить и поаплодировать себе за выносливость и труд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дьте здоровыми и спортивными!!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Объект 3" descr=""/>
          <p:cNvPicPr/>
          <p:nvPr/>
        </p:nvPicPr>
        <p:blipFill>
          <a:blip r:embed="rId1"/>
          <a:stretch/>
        </p:blipFill>
        <p:spPr>
          <a:xfrm>
            <a:off x="2843640" y="2061000"/>
            <a:ext cx="3394080" cy="45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21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тболл- это упражнения на мяче. Несмотря на свою простоту, позволяет выполнять много различных упражнений и тренировать те мышцы, которые трудно "достать" при классических тренировках. На фитболле приходится постоянно поддерживать равновесие, автоматически включая в работу большое количество мышц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Объект 4" descr=""/>
          <p:cNvPicPr/>
          <p:nvPr/>
        </p:nvPicPr>
        <p:blipFill>
          <a:blip r:embed="rId1"/>
          <a:stretch/>
        </p:blipFill>
        <p:spPr>
          <a:xfrm>
            <a:off x="611640" y="2493000"/>
            <a:ext cx="3380040" cy="3816000"/>
          </a:xfrm>
          <a:prstGeom prst="rect">
            <a:avLst/>
          </a:prstGeom>
          <a:ln w="0">
            <a:noFill/>
          </a:ln>
        </p:spPr>
      </p:pic>
      <p:pic>
        <p:nvPicPr>
          <p:cNvPr id="171" name="Объект 5" descr=""/>
          <p:cNvPicPr/>
          <p:nvPr/>
        </p:nvPicPr>
        <p:blipFill>
          <a:blip r:embed="rId2"/>
          <a:stretch/>
        </p:blipFill>
        <p:spPr>
          <a:xfrm>
            <a:off x="4500000" y="2205000"/>
            <a:ext cx="4104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большую популярность в последнее время набирает фитболл. Он представляет собой большой виниловый мяч, который бывает разного диаметра и с разнообразной поверхностью (гладкой или выпуклой), с ручками или без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является отличным домашним тренажером. Ведь на нем можно эффективно заниматься, параллельно смотря телевизор или слушая музыку. При занятиях на фитболле развивается гибкость и равновесие, укрепляется вестибулярный аппарат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Объект 4" descr=""/>
          <p:cNvPicPr/>
          <p:nvPr/>
        </p:nvPicPr>
        <p:blipFill>
          <a:blip r:embed="rId1"/>
          <a:stretch/>
        </p:blipFill>
        <p:spPr>
          <a:xfrm>
            <a:off x="659520" y="2492280"/>
            <a:ext cx="3633480" cy="3633480"/>
          </a:xfrm>
          <a:prstGeom prst="rect">
            <a:avLst/>
          </a:prstGeom>
          <a:ln w="0">
            <a:noFill/>
          </a:ln>
        </p:spPr>
      </p:pic>
      <p:pic>
        <p:nvPicPr>
          <p:cNvPr id="174" name="Объект 5" descr=""/>
          <p:cNvPicPr/>
          <p:nvPr/>
        </p:nvPicPr>
        <p:blipFill>
          <a:blip r:embed="rId2"/>
          <a:stretch/>
        </p:blipFill>
        <p:spPr>
          <a:xfrm>
            <a:off x="4648320" y="2926080"/>
            <a:ext cx="4038120" cy="276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ский фитнес — это своего рода спортивные занятия, включающие в себя элементы гимнастики, хореографии, аэробики, йоги и даже восточных единоборств. Группы для занятий детским фитнесом обычно не превышают 15 человек, а обучение происходит в форме игр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протяжении развития детского организма грамотные тренировки положительно влияют на детский и подростковый организм. Прежде всего, устанавливаются правильные двигательные стереотипы, ребенок учится управлять свои телом, развивается координация, ловкость и пластичность. 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Объект 3" descr=""/>
          <p:cNvPicPr/>
          <p:nvPr/>
        </p:nvPicPr>
        <p:blipFill>
          <a:blip r:embed="rId1"/>
          <a:stretch/>
        </p:blipFill>
        <p:spPr>
          <a:xfrm>
            <a:off x="2267640" y="3069000"/>
            <a:ext cx="43246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640" y="274680"/>
            <a:ext cx="8290800" cy="56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период средней школы тренировки помогают поддерживать мышечный тонус ребенка, он необходим для правильной осанки. В подростковом периоде, когда ускоряется рост костной ткани, тренировки помогают разгрузить опорно-двигательный аппарат, сформировать сбалансированную работу мышц и, конечно, дарят ребенку уверенность в себе и своих движениях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7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гулярные тренировки с раннего возраста — прекрасная профилактика заболеваний. Прежде всего, опорно-двигательного аппарата, а именно — искривлений и нарушений осанки. Также занятия фитнесом способны предупредить нарушения нервно-психической сферы (депрессии, переутомляемость, неврозы, фобии и т. д.)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59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гулярные физические нагрузки при грамотной «дозировке», позволяют ребенку правильно распределить силы, избавиться от чрезмерного напряжения. Также тренировки прививают понимание дисциплины и организованности, создавая здоровый соревновательный дух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ский фитнес можно разделить на 3 основных направления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развивающе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ям помогают заложить основы, они изучают разные виды движения, прототип физических качеств. Тут и ходьба, и ползание, и лазание, и прыжки, равновесие, и бег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игирующе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профилактика плоскостопия, тренировки уже подразумевают работу с соответствующим фитнес-оборудованием. Специалисты советуют обратить внимание на такие занятия уже с раннего детств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лкая мотори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же давно известно, что мелкие движения кисти напрямую связаны с работой мозга и развитием речи. Занятия этой направленности укрепляют кистевые мышцы.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  <Words>386</Words>
  <Paragraphs>22</Paragraphs>
  <Company>Krokoz™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3T05:11:28Z</dcterms:created>
  <dc:creator>1</dc:creator>
  <dc:description/>
  <dc:language>en-US</dc:language>
  <cp:lastModifiedBy>Admin</cp:lastModifiedBy>
  <dcterms:modified xsi:type="dcterms:W3CDTF">2018-10-22T17:50:56Z</dcterms:modified>
  <cp:revision>32</cp:revision>
  <dc:subject/>
  <dc:title>Экзаменационная работа  по физкультуре  Ученицы 4 класса  Червовой Евы Константинов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2</vt:r8>
  </property>
</Properties>
</file>