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9BCB0-9C19-4B3C-BD4F-184C274A6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DC750-17CE-42FC-93FE-8A8031EF3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F2A9D-4E3E-47A8-9BD6-2A57D43F1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B3C27-473F-4A47-8AAE-39F5F4D6C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0ED2E-C2B5-406D-89A4-CDFC04E03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A3AA5-06F3-4B7F-B2C5-BBF435849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85A84-93C7-4F24-A640-0E0EEBD1D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97FCA-0F29-49AB-B519-7ACD02ADF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2DD3A-E58E-4740-8F11-2102942D4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22A86-9CF3-4766-9EF7-E9CDC9B3C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204D7-55E8-479C-9CC8-757B8C561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9A25C-55DF-4FD2-AD69-AC5CEB296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7B861-5F0A-4B89-8046-BDAAEFE56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93E1D-A84B-4421-ADB8-192C3015A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65873-5FBC-416D-A6A1-D2A4786F0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C7876-E94E-42ED-9576-FC60E03B3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5F877-1AF1-4C1D-A430-3AFD7CE5D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B66972-F171-4B2B-85D0-26E5FDD3E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EEFDB1-CD6C-470F-B7C1-E871A2151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FFBDB2-9ACF-425E-9A2E-AA7E00DE0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50C8AE-FDA2-4EE6-A052-37669B42A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A0A032-33A3-4ACA-9B4B-E876507F4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1602B-2ABE-4C15-9243-EB4E2EBB7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CF88ED-844C-40A0-AB54-9437130C1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F8F381-F792-4C16-AFA3-694D25BE7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C67338-869A-4371-B2CD-AAB2CB954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943134-F202-41C8-B433-D30FD8FFF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51D5C6-9841-46AA-AFB9-D018D294D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7F9042-CEF6-4C85-ABF1-764853131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C28AD9-AA12-4E7F-833E-736DABFCE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1217E5-E9C2-4EF2-80BB-525E28697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B91F11-1F31-4135-8EDC-1E3CCF1CD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163B9D-76B9-4B19-9107-0C9A85068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88BF9-4AB7-4787-AF51-F47E88393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62519F-80CF-4BFB-8835-AEE704F37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733627-4B25-482F-984A-15B66F147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41671D-C077-452C-9076-F3D696B0A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17AB92-8E2F-4ADC-B8D0-020757CCF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7F30BA-6B7C-420D-B299-BB011D9CB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245A79-0988-420C-98AA-C205E5906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E3909B-EEAA-47EE-8290-CC5DD0122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534836-6254-417F-91C2-59CF6365D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BD04F0-3FEB-40C3-A741-AC1154D66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6C0DD-052C-413B-BFAB-F48EFAB05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0DC47-2A50-4E40-AF10-B5F056FC6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8D97A-B411-4B8E-BAFA-86AD0D792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A39F3-FB20-418E-AD11-F7ED2B97C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82DC2-0172-4301-B3A2-9ADA68D8F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A9B74CC-EE27-4C43-927A-006B66D8451B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body"/>
          </p:nvPr>
        </p:nvSpPr>
        <p:spPr>
          <a:xfrm>
            <a:off x="464832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205C074-160B-4380-8493-ADFEAA58DD5A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BD25EA8-B75E-4BA3-B05D-650DE11F7B62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sldNum" idx="12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1D775C7-BDC8-4895-8C9A-D9F4A0545189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6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6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6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6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6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6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6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6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6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6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6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3640" y="1052640"/>
            <a:ext cx="7630200" cy="28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7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Экзаменационная работа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о предмету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ФИЗКУЛЬТУРА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ученицы 5класса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Червовой Евы Константиновны.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272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оя персональная тренировка, как раз, совмещает в себе эти два направления: детский фитнес и фитбол. Подготовим всё необходимое для занятия. Нам понадобится коврик, фитболл, небольшие гантели, песочный мячик (весом 2кг) и хорошее настроение!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2" name="Объект 3" descr=""/>
          <p:cNvPicPr/>
          <p:nvPr/>
        </p:nvPicPr>
        <p:blipFill>
          <a:blip r:embed="rId1"/>
          <a:stretch/>
        </p:blipFill>
        <p:spPr>
          <a:xfrm>
            <a:off x="3060000" y="2925000"/>
            <a:ext cx="2880000" cy="34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85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Любая тренировка всегда начинается с разминки, чтобы подготовить организм и мышцы к нагрузке, предварительно его разогрев. Сначала разогреваем верхнюю часть корпуса. 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4" name="Объект 4" descr=""/>
          <p:cNvPicPr/>
          <p:nvPr/>
        </p:nvPicPr>
        <p:blipFill>
          <a:blip r:embed="rId1"/>
          <a:stretch/>
        </p:blipFill>
        <p:spPr>
          <a:xfrm>
            <a:off x="1259640" y="2277000"/>
            <a:ext cx="2985840" cy="4392000"/>
          </a:xfrm>
          <a:prstGeom prst="rect">
            <a:avLst/>
          </a:prstGeom>
          <a:ln w="0">
            <a:noFill/>
          </a:ln>
        </p:spPr>
      </p:pic>
      <p:pic>
        <p:nvPicPr>
          <p:cNvPr id="185" name="Объект 5" descr=""/>
          <p:cNvPicPr/>
          <p:nvPr/>
        </p:nvPicPr>
        <p:blipFill>
          <a:blip r:embed="rId2"/>
          <a:stretch/>
        </p:blipFill>
        <p:spPr>
          <a:xfrm>
            <a:off x="4788000" y="2277000"/>
            <a:ext cx="2952000" cy="43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64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азогрев верхней части корпуса с использованием фитболла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.Поднимаем вверх и опускаем до параллели с полом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2.Перекидываем с тренером друг другу фитболл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7" name="Объект 4" descr=""/>
          <p:cNvPicPr/>
          <p:nvPr/>
        </p:nvPicPr>
        <p:blipFill>
          <a:blip r:embed="rId1"/>
          <a:stretch/>
        </p:blipFill>
        <p:spPr>
          <a:xfrm>
            <a:off x="1259640" y="2349000"/>
            <a:ext cx="2841840" cy="4237560"/>
          </a:xfrm>
          <a:prstGeom prst="rect">
            <a:avLst/>
          </a:prstGeom>
          <a:ln w="0">
            <a:noFill/>
          </a:ln>
        </p:spPr>
      </p:pic>
      <p:pic>
        <p:nvPicPr>
          <p:cNvPr id="188" name="Объект 5" descr=""/>
          <p:cNvPicPr/>
          <p:nvPr/>
        </p:nvPicPr>
        <p:blipFill>
          <a:blip r:embed="rId2"/>
          <a:stretch/>
        </p:blipFill>
        <p:spPr>
          <a:xfrm>
            <a:off x="4572000" y="2637000"/>
            <a:ext cx="3816000" cy="338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67640" y="188640"/>
            <a:ext cx="8229240" cy="186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ереходим к разогреву нижней части корпуса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. отводим поочерёдно левую и правую ногу в сторону, круговыми вращениями сверху вниз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2.Упражнение «Джампинг Джек»- прыжки в сторуну и к середине с подниманием рук вверх и опусканием до параллели с полом через сторону.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0" name="Объект 4" descr=""/>
          <p:cNvPicPr/>
          <p:nvPr/>
        </p:nvPicPr>
        <p:blipFill>
          <a:blip r:embed="rId1"/>
          <a:stretch/>
        </p:blipFill>
        <p:spPr>
          <a:xfrm>
            <a:off x="971640" y="2348640"/>
            <a:ext cx="2640240" cy="3744360"/>
          </a:xfrm>
          <a:prstGeom prst="rect">
            <a:avLst/>
          </a:prstGeom>
          <a:ln w="0">
            <a:noFill/>
          </a:ln>
        </p:spPr>
      </p:pic>
      <p:pic>
        <p:nvPicPr>
          <p:cNvPr id="191" name="Объект 5" descr=""/>
          <p:cNvPicPr/>
          <p:nvPr/>
        </p:nvPicPr>
        <p:blipFill>
          <a:blip r:embed="rId2"/>
          <a:stretch/>
        </p:blipFill>
        <p:spPr>
          <a:xfrm>
            <a:off x="4140000" y="2925000"/>
            <a:ext cx="4038120" cy="30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.Приседания (важно чтобы колени не выходили за носки)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2. Бег с прыжком в сторону по периметру зала, поочерёдно: в лево, затем вправо.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3" name="Объект 4" descr=""/>
          <p:cNvPicPr/>
          <p:nvPr/>
        </p:nvPicPr>
        <p:blipFill>
          <a:blip r:embed="rId1"/>
          <a:stretch/>
        </p:blipFill>
        <p:spPr>
          <a:xfrm>
            <a:off x="4356000" y="2565000"/>
            <a:ext cx="4038120" cy="3028680"/>
          </a:xfrm>
          <a:prstGeom prst="rect">
            <a:avLst/>
          </a:prstGeom>
          <a:ln w="0">
            <a:noFill/>
          </a:ln>
        </p:spPr>
      </p:pic>
      <p:pic>
        <p:nvPicPr>
          <p:cNvPr id="194" name="Объект 5" descr=""/>
          <p:cNvPicPr/>
          <p:nvPr/>
        </p:nvPicPr>
        <p:blipFill>
          <a:blip r:embed="rId2"/>
          <a:stretch/>
        </p:blipFill>
        <p:spPr>
          <a:xfrm>
            <a:off x="755640" y="1772640"/>
            <a:ext cx="3394080" cy="452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92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Упражнения на фитболле: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. Уходим вперёд и возвращаемся назад руками по полу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2.Отводим ноги вверх и вниз, поочерёдно левую и правую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6" name="Объект 4" descr=""/>
          <p:cNvPicPr/>
          <p:nvPr/>
        </p:nvPicPr>
        <p:blipFill>
          <a:blip r:embed="rId1"/>
          <a:stretch/>
        </p:blipFill>
        <p:spPr>
          <a:xfrm>
            <a:off x="457200" y="2348640"/>
            <a:ext cx="4038120" cy="3028680"/>
          </a:xfrm>
          <a:prstGeom prst="rect">
            <a:avLst/>
          </a:prstGeom>
          <a:ln w="0">
            <a:noFill/>
          </a:ln>
        </p:spPr>
      </p:pic>
      <p:pic>
        <p:nvPicPr>
          <p:cNvPr id="197" name="Объект 5" descr=""/>
          <p:cNvPicPr/>
          <p:nvPr/>
        </p:nvPicPr>
        <p:blipFill>
          <a:blip r:embed="rId2"/>
          <a:stretch/>
        </p:blipFill>
        <p:spPr>
          <a:xfrm>
            <a:off x="4648320" y="2348640"/>
            <a:ext cx="4038120" cy="30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пражнения на фитболле сидя с грифом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днимаем руки вверх и опускаем вниз вместе с грифом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9" name="Объект 4" descr=""/>
          <p:cNvPicPr/>
          <p:nvPr/>
        </p:nvPicPr>
        <p:blipFill>
          <a:blip r:embed="rId1"/>
          <a:stretch/>
        </p:blipFill>
        <p:spPr>
          <a:xfrm>
            <a:off x="779400" y="1600200"/>
            <a:ext cx="3394080" cy="4525560"/>
          </a:xfrm>
          <a:prstGeom prst="rect">
            <a:avLst/>
          </a:prstGeom>
          <a:ln w="0">
            <a:noFill/>
          </a:ln>
        </p:spPr>
      </p:pic>
      <p:pic>
        <p:nvPicPr>
          <p:cNvPr id="200" name="Объект 5" descr=""/>
          <p:cNvPicPr/>
          <p:nvPr/>
        </p:nvPicPr>
        <p:blipFill>
          <a:blip r:embed="rId2"/>
          <a:stretch/>
        </p:blipFill>
        <p:spPr>
          <a:xfrm>
            <a:off x="4970160" y="1600200"/>
            <a:ext cx="3394080" cy="452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95640" y="3326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.Перевёрнутое упражнение с фитболлом. Поочерёдно поднимаем и опускаем разноимённые руки и ноги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2.Перекаты вперёд и назад на фитболле на спине, это помогает расслабить и растянуть спину.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2" name="Объект 4" descr=""/>
          <p:cNvPicPr/>
          <p:nvPr/>
        </p:nvPicPr>
        <p:blipFill>
          <a:blip r:embed="rId1"/>
          <a:stretch/>
        </p:blipFill>
        <p:spPr>
          <a:xfrm>
            <a:off x="457200" y="2348640"/>
            <a:ext cx="4038120" cy="3028680"/>
          </a:xfrm>
          <a:prstGeom prst="rect">
            <a:avLst/>
          </a:prstGeom>
          <a:ln w="0">
            <a:noFill/>
          </a:ln>
        </p:spPr>
      </p:pic>
      <p:pic>
        <p:nvPicPr>
          <p:cNvPr id="203" name="Объект 5" descr=""/>
          <p:cNvPicPr/>
          <p:nvPr/>
        </p:nvPicPr>
        <p:blipFill>
          <a:blip r:embed="rId2"/>
          <a:stretch/>
        </p:blipFill>
        <p:spPr>
          <a:xfrm>
            <a:off x="4970160" y="1600200"/>
            <a:ext cx="3394080" cy="452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Упражнение «планка»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5" name="Объект 4" descr=""/>
          <p:cNvPicPr/>
          <p:nvPr/>
        </p:nvPicPr>
        <p:blipFill>
          <a:blip r:embed="rId1"/>
          <a:stretch/>
        </p:blipFill>
        <p:spPr>
          <a:xfrm>
            <a:off x="457200" y="2348640"/>
            <a:ext cx="4038120" cy="3028680"/>
          </a:xfrm>
          <a:prstGeom prst="rect">
            <a:avLst/>
          </a:prstGeom>
          <a:ln w="0">
            <a:noFill/>
          </a:ln>
        </p:spPr>
      </p:pic>
      <p:pic>
        <p:nvPicPr>
          <p:cNvPr id="206" name="Объект 5" descr=""/>
          <p:cNvPicPr/>
          <p:nvPr/>
        </p:nvPicPr>
        <p:blipFill>
          <a:blip r:embed="rId2"/>
          <a:stretch/>
        </p:blipFill>
        <p:spPr>
          <a:xfrm>
            <a:off x="4648320" y="2348640"/>
            <a:ext cx="4038120" cy="30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64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аждая тренировка заканчивается растяжкой, чтобы помочь мышцам снять напряжение и сохранить гибкость. Растяжка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8" name="Объект 4" descr=""/>
          <p:cNvPicPr/>
          <p:nvPr/>
        </p:nvPicPr>
        <p:blipFill>
          <a:blip r:embed="rId1"/>
          <a:stretch/>
        </p:blipFill>
        <p:spPr>
          <a:xfrm>
            <a:off x="779400" y="1989000"/>
            <a:ext cx="3072240" cy="4392000"/>
          </a:xfrm>
          <a:prstGeom prst="rect">
            <a:avLst/>
          </a:prstGeom>
          <a:ln w="0">
            <a:noFill/>
          </a:ln>
        </p:spPr>
      </p:pic>
      <p:pic>
        <p:nvPicPr>
          <p:cNvPr id="209" name="Объект 5" descr=""/>
          <p:cNvPicPr/>
          <p:nvPr/>
        </p:nvPicPr>
        <p:blipFill>
          <a:blip r:embed="rId2"/>
          <a:stretch/>
        </p:blipFill>
        <p:spPr>
          <a:xfrm>
            <a:off x="4648320" y="2348640"/>
            <a:ext cx="4038120" cy="331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8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Тема презентации: детский фитнес и фитболл.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7" name="Объект 4" descr=""/>
          <p:cNvPicPr/>
          <p:nvPr/>
        </p:nvPicPr>
        <p:blipFill>
          <a:blip r:embed="rId1"/>
          <a:stretch/>
        </p:blipFill>
        <p:spPr>
          <a:xfrm>
            <a:off x="457200" y="2421000"/>
            <a:ext cx="4038120" cy="3384000"/>
          </a:xfrm>
          <a:prstGeom prst="rect">
            <a:avLst/>
          </a:prstGeom>
          <a:ln w="0">
            <a:noFill/>
          </a:ln>
        </p:spPr>
      </p:pic>
      <p:pic>
        <p:nvPicPr>
          <p:cNvPr id="168" name="Объект 5" descr=""/>
          <p:cNvPicPr/>
          <p:nvPr/>
        </p:nvPicPr>
        <p:blipFill>
          <a:blip r:embed="rId2"/>
          <a:stretch/>
        </p:blipFill>
        <p:spPr>
          <a:xfrm>
            <a:off x="4648320" y="2421000"/>
            <a:ext cx="4038120" cy="338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Тянем ноги и поясницу.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1" name="Объект 4" descr=""/>
          <p:cNvPicPr/>
          <p:nvPr/>
        </p:nvPicPr>
        <p:blipFill>
          <a:blip r:embed="rId1"/>
          <a:stretch/>
        </p:blipFill>
        <p:spPr>
          <a:xfrm>
            <a:off x="779400" y="1600200"/>
            <a:ext cx="3394080" cy="4525560"/>
          </a:xfrm>
          <a:prstGeom prst="rect">
            <a:avLst/>
          </a:prstGeom>
          <a:ln w="0">
            <a:noFill/>
          </a:ln>
        </p:spPr>
      </p:pic>
      <p:pic>
        <p:nvPicPr>
          <p:cNvPr id="212" name="Объект 5" descr=""/>
          <p:cNvPicPr/>
          <p:nvPr/>
        </p:nvPicPr>
        <p:blipFill>
          <a:blip r:embed="rId2"/>
          <a:stretch/>
        </p:blipFill>
        <p:spPr>
          <a:xfrm>
            <a:off x="4648320" y="2348640"/>
            <a:ext cx="4038120" cy="30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3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1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Не забывайте пить много воды во время тренировки. Вода помогает организму быстрее восстанавливаться от нагрузки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4" name="Объект 4" descr=""/>
          <p:cNvPicPr/>
          <p:nvPr/>
        </p:nvPicPr>
        <p:blipFill>
          <a:blip r:embed="rId1"/>
          <a:stretch/>
        </p:blipFill>
        <p:spPr>
          <a:xfrm>
            <a:off x="4356000" y="2133000"/>
            <a:ext cx="4038120" cy="3028680"/>
          </a:xfrm>
          <a:prstGeom prst="rect">
            <a:avLst/>
          </a:prstGeom>
          <a:ln w="0">
            <a:noFill/>
          </a:ln>
        </p:spPr>
      </p:pic>
      <p:pic>
        <p:nvPicPr>
          <p:cNvPr id="215" name="Объект 5" descr=""/>
          <p:cNvPicPr/>
          <p:nvPr/>
        </p:nvPicPr>
        <p:blipFill>
          <a:blip r:embed="rId2"/>
          <a:stretch/>
        </p:blipFill>
        <p:spPr>
          <a:xfrm>
            <a:off x="755640" y="1772640"/>
            <a:ext cx="3394080" cy="489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49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конце каждой тренировке нужно обязательно себя благодарить и поаплодировать себе за выносливость и труд!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Будьте здоровыми и спортивными!!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Объект 3" descr=""/>
          <p:cNvPicPr/>
          <p:nvPr/>
        </p:nvPicPr>
        <p:blipFill>
          <a:blip r:embed="rId1"/>
          <a:stretch/>
        </p:blipFill>
        <p:spPr>
          <a:xfrm>
            <a:off x="2843640" y="2061000"/>
            <a:ext cx="3394080" cy="452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214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Фитболл- это упражнения на мяче. Несмотря на свою простоту, позволяет выполнять много различных упражнений и тренировать те мышцы, которые трудно "достать" при классических тренировках. На фитболле приходится постоянно поддерживать равновесие, автоматически включая в работу большое количество мышц.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0" name="Объект 4" descr=""/>
          <p:cNvPicPr/>
          <p:nvPr/>
        </p:nvPicPr>
        <p:blipFill>
          <a:blip r:embed="rId1"/>
          <a:stretch/>
        </p:blipFill>
        <p:spPr>
          <a:xfrm>
            <a:off x="611640" y="2493000"/>
            <a:ext cx="3380040" cy="3816000"/>
          </a:xfrm>
          <a:prstGeom prst="rect">
            <a:avLst/>
          </a:prstGeom>
          <a:ln w="0">
            <a:noFill/>
          </a:ln>
        </p:spPr>
      </p:pic>
      <p:pic>
        <p:nvPicPr>
          <p:cNvPr id="171" name="Объект 5" descr=""/>
          <p:cNvPicPr/>
          <p:nvPr/>
        </p:nvPicPr>
        <p:blipFill>
          <a:blip r:embed="rId2"/>
          <a:stretch/>
        </p:blipFill>
        <p:spPr>
          <a:xfrm>
            <a:off x="4500000" y="2205000"/>
            <a:ext cx="410400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116640"/>
            <a:ext cx="8229240" cy="22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се большую популярность в последнее время набирает фитболл. Он представляет собой большой виниловый мяч, который бывает разного диаметра и с разнообразной поверхностью (гладкой или выпуклой), с ручками или без.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н является отличным домашним тренажером. Ведь на нем можно эффективно заниматься, параллельно смотря телевизор или слушая музыку. При занятиях на фитболле развивается гибкость и равновесие, укрепляется вестибулярный аппарат.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3" name="Объект 4" descr=""/>
          <p:cNvPicPr/>
          <p:nvPr/>
        </p:nvPicPr>
        <p:blipFill>
          <a:blip r:embed="rId1"/>
          <a:stretch/>
        </p:blipFill>
        <p:spPr>
          <a:xfrm>
            <a:off x="659520" y="2492280"/>
            <a:ext cx="3633480" cy="3633480"/>
          </a:xfrm>
          <a:prstGeom prst="rect">
            <a:avLst/>
          </a:prstGeom>
          <a:ln w="0">
            <a:noFill/>
          </a:ln>
        </p:spPr>
      </p:pic>
      <p:pic>
        <p:nvPicPr>
          <p:cNvPr id="174" name="Объект 5" descr=""/>
          <p:cNvPicPr/>
          <p:nvPr/>
        </p:nvPicPr>
        <p:blipFill>
          <a:blip r:embed="rId2"/>
          <a:stretch/>
        </p:blipFill>
        <p:spPr>
          <a:xfrm>
            <a:off x="4648320" y="2926080"/>
            <a:ext cx="4038120" cy="276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279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етский фитнес — это своего рода спортивные занятия, включающие в себя элементы гимнастики, хореографии, аэробики, йоги и даже восточных единоборств. Группы для занятий детским фитнесом обычно не превышают 15 человек, а обучение происходит в форме игры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 протяжении развития детского организма грамотные тренировки положительно влияют на детский и подростковый организм. Прежде всего, устанавливаются правильные двигательные стереотипы, ребенок учится управлять свои телом, развивается координация, ловкость и пластичность. </a:t>
            </a:r>
            <a:br>
              <a:rPr sz="1800"/>
            </a:b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6" name="Объект 3" descr=""/>
          <p:cNvPicPr/>
          <p:nvPr/>
        </p:nvPicPr>
        <p:blipFill>
          <a:blip r:embed="rId1"/>
          <a:stretch/>
        </p:blipFill>
        <p:spPr>
          <a:xfrm>
            <a:off x="2267640" y="3069000"/>
            <a:ext cx="432468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95640" y="274680"/>
            <a:ext cx="8290800" cy="567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4000"/>
          </a:bodyPr>
          <a:p>
            <a:pPr indent="0" algn="ctr">
              <a:lnSpc>
                <a:spcPct val="100000"/>
              </a:lnSpc>
              <a:buNone/>
            </a:pPr>
            <a:br>
              <a:rPr sz="44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 период средней школы тренировки помогают поддерживать мышечный тонус ребенка, он необходим для правильной осанки. В подростковом периоде, когда ускоряется рост костной ткани, тренировки помогают разгрузить опорно-двигательный аппарат, сформировать сбалансированную работу мышц и, конечно, дарят ребенку уверенность в себе и своих движениях.</a:t>
            </a: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574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Регулярные тренировки с раннего возраста — прекрасная профилактика заболеваний. Прежде всего, опорно-двигательного аппарата, а именно — искривлений и нарушений осанки. Также занятия фитнесом способны предупредить нарушения нервно-психической сферы (депрессии, переутомляемость, неврозы, фобии и т. д.)</a:t>
            </a:r>
            <a:br>
              <a:rPr sz="3600"/>
            </a:br>
            <a:endParaRPr b="0" lang="ru-RU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67640" y="260640"/>
            <a:ext cx="8229240" cy="59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9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Регулярные физические нагрузки при грамотной «дозировке», позволяют ребенку правильно распределить силы, избавиться от чрезмерного напряжения. Также тренировки прививают понимание дисциплины и организованности, создавая здоровый соревновательный дух.</a:t>
            </a:r>
            <a:br>
              <a:rPr sz="4400"/>
            </a:b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240" cy="666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етский фитнес можно разделить на 3 основных направления: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бщеразвивающее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етям помогают заложить основы, они изучают разные виды движения, прототип физических качеств. Тут и ходьба, и ползание, и лазание, и прыжки, равновесие, и бег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орригирующее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Это профилактика плоскостопия, тренировки уже подразумевают работу с соответствующим фитнес-оборудованием. Специалисты советуют обратить внимание на такие занятия уже с раннего детства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елкая моторика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же давно известно, что мелкие движения кисти напрямую связаны с работой мозга и развитием речи. Занятия этой направленности укрепляют кистевые мышцы.</a:t>
            </a:r>
            <a:br>
              <a:rPr sz="2400"/>
            </a:b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</TotalTime>
  <Application>LibreOffice/7.4.7.2$Linux_X86_64 LibreOffice_project/40$Build-2</Application>
  <AppVersion>15.0000</AppVersion>
  <Words>386</Words>
  <Paragraphs>22</Paragraphs>
  <Company>Krokoz™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23T05:11:28Z</dcterms:created>
  <dc:creator>1</dc:creator>
  <dc:description/>
  <dc:language>en-US</dc:language>
  <cp:lastModifiedBy>Admin</cp:lastModifiedBy>
  <dcterms:modified xsi:type="dcterms:W3CDTF">2018-10-22T17:50:56Z</dcterms:modified>
  <cp:revision>32</cp:revision>
  <dc:subject/>
  <dc:title>Экзаменационная работа  по физкультуре  Ученицы 4 класса  Червовой Евы Константиновны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22</vt:r8>
  </property>
</Properties>
</file>