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576-1E2A-43B0-9E2A-650F52B8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52E-81D9-4043-8CCC-41B66896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81F-B0C8-4F79-A67A-43F7243A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67B-1ADC-406A-BB5E-A4BC63A7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5E50-72C4-431C-9260-F6E0B99C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5223-5C05-4E73-8B0C-1EEF8617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C143-E88D-4AF3-95E8-AAF982AB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12CF-253A-4B09-88FD-EC11CFBD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919E-3514-4303-B361-880D6A28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79A9-E612-4D2B-BAC2-E5F15B52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63D8-E49C-4BA8-9746-946ABF78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84A-6F60-421B-87D1-CAA4EBA5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E208-C115-481D-B820-43757A63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F120-D098-41C7-97A1-0D670B46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BC1E-D775-4543-847B-B1F88147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E8A6-3705-49A8-8686-704E0233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8139-7BEE-49D2-845F-C31AC892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77C2-2F44-4012-A744-98098C6D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176-81A2-4DA7-B4C7-A46DC788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388-819A-4138-8EA6-9973C813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FD0-9B90-4446-A93C-CE02988C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2B68-8D9E-43F9-ACF0-7AE40428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EEF-C45E-4B8E-A4B8-EA5AAA5B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001-EFC6-4206-B178-203F0855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BC8964-FB8E-4BFA-9334-8112183CD804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FC9EBF-7DEE-43BB-956C-A99F01F58D68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Modal Verbs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7640" y="3717000"/>
            <a:ext cx="8305560" cy="1142640"/>
          </a:xfrm>
          <a:prstGeom prst="rect">
            <a:avLst/>
          </a:prstGeom>
          <a:solidFill>
            <a:schemeClr val="accent2"/>
          </a:solidFill>
          <a:ln w="0">
            <a:solidFill>
              <a:srgbClr val="0f6fc6"/>
            </a:solidFill>
          </a:ln>
        </p:spPr>
        <p:txBody>
          <a:bodyPr lIns="0" rIns="1836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hou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ve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Соединительная линия уступом 4"/>
          <p:cNvCxnSpPr/>
          <p:nvPr/>
        </p:nvCxnSpPr>
        <p:spPr>
          <a:xfrm flipH="1" rot="16200000">
            <a:off x="6876000" y="3284640"/>
            <a:ext cx="914760" cy="914760"/>
          </a:xfrm>
          <a:prstGeom prst="bentConnector3">
            <a:avLst>
              <a:gd name="adj1" fmla="val 50000"/>
            </a:avLst>
          </a:prstGeom>
          <a:ln>
            <a:solidFill>
              <a:srgbClr val="095294"/>
            </a:solidFill>
            <a:round/>
            <a:tailEnd len="med" type="arrow" w="med"/>
          </a:ln>
        </p:spPr>
      </p:cxn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дальные глаголы в английском языке отличаются от остальных глаголов тем, что они не используются самостоятельно и не обозначают конкретного действия или состояния, они отражают его модальность, то есть отношение к нему говорящего.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ay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выражает позволение и разрешение сделать что-либо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may ask me any question you want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y I borrow your dictionary?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y I come in?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" name="Рисунок 3" descr="Без названия.jpg"/>
          <p:cNvPicPr/>
          <p:nvPr/>
        </p:nvPicPr>
        <p:blipFill>
          <a:blip r:embed="rId1"/>
          <a:stretch/>
        </p:blipFill>
        <p:spPr>
          <a:xfrm>
            <a:off x="2915640" y="3933000"/>
            <a:ext cx="2619000" cy="174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1000"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ve to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быть вынужденным», «быть должным», «приходится», «надо»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ave t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visit my grandma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very wee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ex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as t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make many international phone calls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Have to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заменяет модальный глагол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Mus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там, где тот не может использоваться – в прошедшем и будущем времени, а также при отрицаниях: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Yesterday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ad t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help my sister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oad is blocked, the bus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ill have t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go around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on’t have t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work full time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hould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используется для выражения долженствования в форме рекомендации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houl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visit a doctor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houl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think about wild life more often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should check the computer for antiviruses more often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7" name="Рисунок 6" descr="images.jpg"/>
          <p:cNvPicPr/>
          <p:nvPr/>
        </p:nvPicPr>
        <p:blipFill>
          <a:blip r:embed="rId1"/>
          <a:stretch/>
        </p:blipFill>
        <p:spPr>
          <a:xfrm>
            <a:off x="2843640" y="3933000"/>
            <a:ext cx="282852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1000"/>
          </a:bodyPr>
          <a:p>
            <a:pPr indent="0">
              <a:lnSpc>
                <a:spcPct val="100000"/>
              </a:lnSpc>
              <a:buNone/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AN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мочь, уметь, быть в состоянии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uld (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шедшее время)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можность совершения действия в силу наличия условий для его совершения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a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stay with them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ul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speak English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br>
              <a:rPr sz="2600"/>
            </a:br>
            <a:br>
              <a:rPr sz="2600"/>
            </a:b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Рисунок 4" descr="Без названия (1).jpg"/>
          <p:cNvPicPr/>
          <p:nvPr/>
        </p:nvPicPr>
        <p:blipFill>
          <a:blip r:embed="rId1"/>
          <a:stretch/>
        </p:blipFill>
        <p:spPr>
          <a:xfrm>
            <a:off x="3348000" y="4365000"/>
            <a:ext cx="257148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Must</a:t>
            </a:r>
            <a:br>
              <a:rPr sz="5000"/>
            </a:b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лжен, должны, должно (нужно, необходимо, должно быть что-то сделано)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must stop smoking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must try to get to work on time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3" name="Picture 2" descr="ÐÐ°ÑÑÐ¸Ð½ÐºÐ¸ Ð¿Ð¾ Ð·Ð°Ð¿ÑÐ¾ÑÑ ÐºÑÑÐ¸Ð»ÑÑÐ¸ÐºÐ¸"/>
          <p:cNvPicPr/>
          <p:nvPr/>
        </p:nvPicPr>
        <p:blipFill>
          <a:blip r:embed="rId1"/>
          <a:stretch/>
        </p:blipFill>
        <p:spPr>
          <a:xfrm>
            <a:off x="1547640" y="4365000"/>
            <a:ext cx="3161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71</TotalTime>
  <Application>LibreOffice/7.4.7.2$Linux_X86_64 LibreOffice_project/40$Build-2</Application>
  <AppVersion>15.0000</AppVersion>
  <Words>147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30T15:06:31Z</dcterms:created>
  <dc:creator>fdfd</dc:creator>
  <dc:description/>
  <dc:language>en-US</dc:language>
  <cp:lastModifiedBy>fdfd</cp:lastModifiedBy>
  <dcterms:modified xsi:type="dcterms:W3CDTF">2018-10-30T16:27:17Z</dcterms:modified>
  <cp:revision>9</cp:revision>
  <dc:subject/>
  <dc:title>Modal Verb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