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AD4-1DC2-4B0C-938C-F84B5601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DE08-2203-48AE-AC09-7C179A08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028-A8A9-4D62-A4B9-E997CC02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EA5-D7AB-4878-9442-C9008AAD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F68C-4E50-4C8A-9B0C-B641FF54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CCB0-E2FB-422B-B796-40B64601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6530-E7AC-4377-987F-FD1CDEE7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96B4-9C0F-4970-B722-06E707F6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F758-EE36-4517-868E-0B30B797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4FF8-1AA2-4AFC-8321-849450CD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04F2-34DA-4ECF-8272-207801E2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140-3A75-4573-8B37-ABB84AD4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1C94-E7AD-4C3D-85EF-8A9971CE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A30A-EA2F-4123-BCBB-F24A088E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5179-9151-4696-956C-9B107E09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81DC-7CAB-4E2A-9205-4F99AB76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5CDE-3087-4747-971A-108BB41A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D39-7C7A-4501-B043-D713FB04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02E-03CF-44AB-A351-4BA27D8E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B4C-2CE8-4ED3-ADE7-A4B62582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628-5801-43DD-B352-CD1BFAAA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F2C8-8459-4EC2-BEA1-DFB7C9F7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E8C5-E79C-4AAC-8F06-336D454D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5ADE-86C6-41DA-8A0B-581D75F0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7084FF-47C7-49FB-8D10-0C8EB885B89A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1F91A8-D4EC-428D-A7FB-12E6B6858836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Modal Verbs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7640" y="3717000"/>
            <a:ext cx="8305560" cy="1142640"/>
          </a:xfrm>
          <a:prstGeom prst="rect">
            <a:avLst/>
          </a:prstGeom>
          <a:solidFill>
            <a:schemeClr val="accent2"/>
          </a:solidFill>
          <a:ln w="0">
            <a:solidFill>
              <a:srgbClr val="0f6fc6"/>
            </a:solidFill>
          </a:ln>
        </p:spPr>
        <p:txBody>
          <a:bodyPr lIns="0" rIns="1836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hou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ve 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Соединительная линия уступом 4"/>
          <p:cNvCxnSpPr/>
          <p:nvPr/>
        </p:nvCxnSpPr>
        <p:spPr>
          <a:xfrm flipH="1" rot="16200000">
            <a:off x="6876000" y="3284640"/>
            <a:ext cx="914760" cy="914760"/>
          </a:xfrm>
          <a:prstGeom prst="bentConnector3">
            <a:avLst>
              <a:gd name="adj1" fmla="val 50000"/>
            </a:avLst>
          </a:prstGeom>
          <a:ln>
            <a:solidFill>
              <a:srgbClr val="095294"/>
            </a:solidFill>
            <a:round/>
            <a:tailEnd len="med" type="arrow" w="med"/>
          </a:ln>
        </p:spPr>
      </p:cxn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дальные глаголы в английском языке отличаются от остальных глаголов тем, что они не используются самостоятельно и не обозначают конкретного действия или состояния, они отражают его модальность, то есть отношение к нему говорящего. 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May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выражает позволение и разрешение сделать что-либо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may ask me any question you want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y I borrow your dictionary?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y I come in?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" name="Рисунок 3" descr="Без названия.jpg"/>
          <p:cNvPicPr/>
          <p:nvPr/>
        </p:nvPicPr>
        <p:blipFill>
          <a:blip r:embed="rId1"/>
          <a:stretch/>
        </p:blipFill>
        <p:spPr>
          <a:xfrm>
            <a:off x="2915640" y="3933000"/>
            <a:ext cx="2619000" cy="1742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1000"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ave to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быть вынужденным», «быть должным», «приходится», «надо»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ave t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visit my grandma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very wee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ex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as t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make many international phone calls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Have to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заменяет модальный глагол 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Must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там, где тот не может использоваться – в прошедшем и будущем времени, а также при отрицаниях: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Yesterday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had t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help my sister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oad is blocked, the bus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ill have t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go around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don’t have to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work full time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hould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используется для выражения долженствования в форме рекомендации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houl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visit a doctor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houl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think about wild life more often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should check the computer for antiviruses more often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7" name="Рисунок 6" descr="images.jpg"/>
          <p:cNvPicPr/>
          <p:nvPr/>
        </p:nvPicPr>
        <p:blipFill>
          <a:blip r:embed="rId1"/>
          <a:stretch/>
        </p:blipFill>
        <p:spPr>
          <a:xfrm>
            <a:off x="2843640" y="3933000"/>
            <a:ext cx="2828520" cy="16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1000"/>
          </a:bodyPr>
          <a:p>
            <a:pPr indent="0">
              <a:lnSpc>
                <a:spcPct val="100000"/>
              </a:lnSpc>
              <a:buNone/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CAN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мочь, уметь, быть в состоянии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uld (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шедшее время)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зможность совершения действия в силу наличия условий для его совершения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a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stay with them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ul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speak English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br>
              <a:rPr sz="2600"/>
            </a:br>
            <a:br>
              <a:rPr sz="2600"/>
            </a:b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0" name="Рисунок 4" descr="Без названия (1).jpg"/>
          <p:cNvPicPr/>
          <p:nvPr/>
        </p:nvPicPr>
        <p:blipFill>
          <a:blip r:embed="rId1"/>
          <a:stretch/>
        </p:blipFill>
        <p:spPr>
          <a:xfrm>
            <a:off x="3348000" y="4365000"/>
            <a:ext cx="257148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Must</a:t>
            </a:r>
            <a:br>
              <a:rPr sz="5000"/>
            </a:b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лжен, должны, должно (нужно, необходимо, должно быть что-то сделано)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must stop smoking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must try to get to work on time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3" name="Picture 2" descr="ÐÐ°ÑÑÐ¸Ð½ÐºÐ¸ Ð¿Ð¾ Ð·Ð°Ð¿ÑÐ¾ÑÑ ÐºÑÑÐ¸Ð»ÑÑÐ¸ÐºÐ¸"/>
          <p:cNvPicPr/>
          <p:nvPr/>
        </p:nvPicPr>
        <p:blipFill>
          <a:blip r:embed="rId1"/>
          <a:stretch/>
        </p:blipFill>
        <p:spPr>
          <a:xfrm>
            <a:off x="1547640" y="4365000"/>
            <a:ext cx="3161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71</TotalTime>
  <Application>LibreOffice/7.4.7.2$Linux_X86_64 LibreOffice_project/40$Build-2</Application>
  <AppVersion>15.0000</AppVersion>
  <Words>147</Words>
  <Paragraphs>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30T15:06:31Z</dcterms:created>
  <dc:creator>fdfd</dc:creator>
  <dc:description/>
  <dc:language>en-US</dc:language>
  <cp:lastModifiedBy>fdfd</cp:lastModifiedBy>
  <dcterms:modified xsi:type="dcterms:W3CDTF">2018-10-30T16:27:17Z</dcterms:modified>
  <cp:revision>9</cp:revision>
  <dc:subject/>
  <dc:title>Modal Verb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