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63C7-203A-465D-B5F1-1E6AFE3B8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EDEE-C220-4B9B-9186-5AB4F6D0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2063-32F4-42B2-A151-FDF2E6647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3ED4-91ED-4DB4-957F-A20A4EA19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F1BE-E3E6-430A-AB98-7BE6674FB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62E1-9A2B-4602-BC12-BDE3B046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C0CA-0435-4B9C-AD45-C4C78ED5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5D01-D85A-4B14-AB30-9DBC507B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F632-3C03-4388-A8F0-B5DED65F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C83C-5654-4ADB-803E-96BE0B68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59BD-27B5-4128-A1CD-88B8AE46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07FB-8810-4859-91FF-26459057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CEB8-52DE-4077-A78C-0E5BAC96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FF5A-E6FE-46CA-B274-C575378C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4F5B-7C31-4BFB-9B46-BDE05CF5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46FB-A66A-42E7-B5E4-4776F8752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9DFB-828D-44D5-8189-97E05DE86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FD43-B3B8-4AC2-9B02-9ECF51F9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470B-D073-4463-9B44-2209E69A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3461-1617-42D6-8EAC-2BA2D18D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1C12-6453-4A4A-ABA3-278284A1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EEFF-EFB5-4F6B-BD68-5E65FEDD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BFAF-E99E-48F0-9515-58784D8D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6E6D-CE7E-4BA6-A59F-CCDBAB17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Образец заголовка</a:t>
            </a: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8B0EFE-A9F0-4AD0-AF99-90C3C1635A12}" type="slidenum"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24EB006-5938-4AC0-83CE-8A8DACA62F5B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5600" spc="-1" strike="noStrike">
                <a:solidFill>
                  <a:srgbClr val="50e0ea"/>
                </a:solidFill>
                <a:latin typeface="Calibri"/>
              </a:rPr>
              <a:t>Modal Verbs</a:t>
            </a: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67640" y="3717000"/>
            <a:ext cx="8305560" cy="1142640"/>
          </a:xfrm>
          <a:prstGeom prst="rect">
            <a:avLst/>
          </a:prstGeom>
          <a:solidFill>
            <a:schemeClr val="accent2"/>
          </a:solidFill>
          <a:ln w="0">
            <a:solidFill>
              <a:srgbClr val="0f6fc6"/>
            </a:solidFill>
          </a:ln>
        </p:spPr>
        <p:txBody>
          <a:bodyPr lIns="0" rIns="1836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u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hou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ave 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Соединительная линия уступом 4"/>
          <p:cNvCxnSpPr/>
          <p:nvPr/>
        </p:nvCxnSpPr>
        <p:spPr>
          <a:xfrm flipH="1" rot="16200000">
            <a:off x="6876000" y="3284640"/>
            <a:ext cx="914760" cy="914760"/>
          </a:xfrm>
          <a:prstGeom prst="bentConnector3">
            <a:avLst>
              <a:gd name="adj1" fmla="val 50000"/>
            </a:avLst>
          </a:prstGeom>
          <a:ln>
            <a:solidFill>
              <a:srgbClr val="095294"/>
            </a:solidFill>
            <a:round/>
            <a:tailEnd len="med" type="arrow" w="med"/>
          </a:ln>
        </p:spPr>
      </p:cxn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одальные глаголы в английском языке отличаются от остальных глаголов тем, что они не используются самостоятельно и не обозначают конкретного действия или состояния, они отражают его модальность, то есть отношение к нему говорящего. 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2000"/>
          </a:bodyPr>
          <a:p>
            <a:pPr indent="0">
              <a:lnSpc>
                <a:spcPct val="100000"/>
              </a:lnSpc>
              <a:buNone/>
            </a:pPr>
            <a:r>
              <a:rPr b="1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May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выражает позволение и разрешение сделать что-либо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may ask me any question you want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y I borrow your dictionary?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y I come in?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9" name="Рисунок 3" descr="Без названия.jpg"/>
          <p:cNvPicPr/>
          <p:nvPr/>
        </p:nvPicPr>
        <p:blipFill>
          <a:blip r:embed="rId1"/>
          <a:stretch/>
        </p:blipFill>
        <p:spPr>
          <a:xfrm>
            <a:off x="2915640" y="3933000"/>
            <a:ext cx="2619000" cy="1742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1000"/>
          </a:bodyPr>
          <a:p>
            <a:pPr indent="0">
              <a:lnSpc>
                <a:spcPct val="100000"/>
              </a:lnSpc>
              <a:buNone/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ave to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«быть вынужденным», «быть должным», «приходится», «надо»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 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have t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visit my grandma 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every week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ex 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has t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make many international phone calls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Have to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заменяет модальный глагол 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Must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там, где тот не может использоваться – в прошедшем и будущем времени, а также при отрицаниях: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Yesterday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 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had t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help my sister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road is blocked, the bus 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will have t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go around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 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don’t have t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work full time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hould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 используется для выражения долженствования в форме рекомендации.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 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houl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visit a doctor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e 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houl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think about wild life more often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 should check the computer for antiviruses more often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7" name="Рисунок 6" descr="images.jpg"/>
          <p:cNvPicPr/>
          <p:nvPr/>
        </p:nvPicPr>
        <p:blipFill>
          <a:blip r:embed="rId1"/>
          <a:stretch/>
        </p:blipFill>
        <p:spPr>
          <a:xfrm>
            <a:off x="2843640" y="3933000"/>
            <a:ext cx="2828520" cy="16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1000"/>
          </a:bodyPr>
          <a:p>
            <a:pPr indent="0">
              <a:lnSpc>
                <a:spcPct val="100000"/>
              </a:lnSpc>
              <a:buNone/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CAN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мочь, уметь, быть в состоянии</a:t>
            </a:r>
            <a:br>
              <a:rPr sz="5000"/>
            </a:b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uld (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шедшее время)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зможность совершения действия в силу наличия условий для его совершения 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 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a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stay with them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 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oul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speak English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br>
              <a:rPr sz="2600"/>
            </a:br>
            <a:br>
              <a:rPr sz="2600"/>
            </a:b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0" name="Рисунок 4" descr="Без названия (1).jpg"/>
          <p:cNvPicPr/>
          <p:nvPr/>
        </p:nvPicPr>
        <p:blipFill>
          <a:blip r:embed="rId1"/>
          <a:stretch/>
        </p:blipFill>
        <p:spPr>
          <a:xfrm>
            <a:off x="3348000" y="4365000"/>
            <a:ext cx="257148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2000"/>
          </a:bodyPr>
          <a:p>
            <a:pPr indent="0">
              <a:lnSpc>
                <a:spcPct val="100000"/>
              </a:lnSpc>
              <a:buNone/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Must</a:t>
            </a:r>
            <a:br>
              <a:rPr sz="5000"/>
            </a:b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лжен, должны, должно (нужно, необходимо, должно быть что-то сделано)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must stop smoking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must try to get to work on time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3" name="Picture 2" descr="ÐÐ°ÑÑÐ¸Ð½ÐºÐ¸ Ð¿Ð¾ Ð·Ð°Ð¿ÑÐ¾ÑÑ ÐºÑÑÐ¸Ð»ÑÑÐ¸ÐºÐ¸"/>
          <p:cNvPicPr/>
          <p:nvPr/>
        </p:nvPicPr>
        <p:blipFill>
          <a:blip r:embed="rId1"/>
          <a:stretch/>
        </p:blipFill>
        <p:spPr>
          <a:xfrm>
            <a:off x="1547640" y="4365000"/>
            <a:ext cx="31618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71</TotalTime>
  <Application>LibreOffice/7.4.7.2$Linux_X86_64 LibreOffice_project/40$Build-2</Application>
  <AppVersion>15.0000</AppVersion>
  <Words>147</Words>
  <Paragraphs>3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30T15:06:31Z</dcterms:created>
  <dc:creator>fdfd</dc:creator>
  <dc:description/>
  <dc:language>en-US</dc:language>
  <cp:lastModifiedBy>fdfd</cp:lastModifiedBy>
  <dcterms:modified xsi:type="dcterms:W3CDTF">2018-10-30T16:27:17Z</dcterms:modified>
  <cp:revision>9</cp:revision>
  <dc:subject/>
  <dc:title>Modal Verb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7</vt:r8>
  </property>
</Properties>
</file>