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data3.xml" ContentType="application/vnd.openxmlformats-officedocument.drawingml.diagramData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quickStyle1.xml" ContentType="application/vnd.openxmlformats-officedocument.drawingml.diagramStyle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quickStyle3.xml" ContentType="application/vnd.openxmlformats-officedocument.drawingml.diagramStyl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33FB75B-197C-4FA0-A212-DE39D0D30696}" type="doc">
      <dgm:prSet loTypeId="urn:microsoft.com/office/officeart/2005/8/layout/hProcess9" loCatId="process" qsTypeId="urn:microsoft.com/office/officeart/2005/8/quickstyle/simple1" qsCatId="simple" csTypeId="urn:microsoft.com/office/officeart/2005/8/colors/accent0_1" csCatId="mainScheme" phldr="1"/>
      <dgm:spPr/>
    </dgm:pt>
    <dgm:pt modelId="{A233880C-70F9-47E0-A29C-36C0268836C3}">
      <dgm:prSet phldrT="[Текст]" custT="1"/>
      <dgm:spPr>
        <a:ln w="28575">
          <a:solidFill>
            <a:schemeClr val="tx1">
              <a:lumMod val="95000"/>
              <a:lumOff val="5000"/>
            </a:schemeClr>
          </a:solidFill>
        </a:ln>
      </dgm:spPr>
      <dgm:t>
        <a:bodyPr/>
        <a:lstStyle/>
        <a:p>
          <a:r>
            <a:rPr lang="ru-RU" sz="2200" b="0" i="0" dirty="0" smtClean="0"/>
            <a:t>ТОО на настоящий момент является самой популярной формой организации и ведения предпринимательской деятельности в РК</a:t>
          </a:r>
          <a:endParaRPr lang="ru-RU" sz="2200" b="0" dirty="0"/>
        </a:p>
      </dgm:t>
    </dgm:pt>
    <dgm:pt modelId="{87151B87-2F9C-4DF6-810D-F7479CF5A4D6}" type="parTrans" cxnId="{D7187E54-28B1-461E-B5FC-9EB776F07584}">
      <dgm:prSet/>
      <dgm:spPr/>
      <dgm:t>
        <a:bodyPr/>
        <a:lstStyle/>
        <a:p>
          <a:endParaRPr lang="ru-RU"/>
        </a:p>
      </dgm:t>
    </dgm:pt>
    <dgm:pt modelId="{9B0B26E6-81E9-4BF1-B381-F29F916906A9}" type="sibTrans" cxnId="{D7187E54-28B1-461E-B5FC-9EB776F07584}">
      <dgm:prSet/>
      <dgm:spPr/>
      <dgm:t>
        <a:bodyPr/>
        <a:lstStyle/>
        <a:p>
          <a:endParaRPr lang="ru-RU"/>
        </a:p>
      </dgm:t>
    </dgm:pt>
    <dgm:pt modelId="{EFB66088-DDBC-4FE2-B6D2-FA856AFA084C}">
      <dgm:prSet phldrT="[Текст]" custT="1"/>
      <dgm:spPr>
        <a:ln w="28575">
          <a:solidFill>
            <a:schemeClr val="tx1">
              <a:lumMod val="95000"/>
              <a:lumOff val="5000"/>
            </a:schemeClr>
          </a:solidFill>
        </a:ln>
      </dgm:spPr>
      <dgm:t>
        <a:bodyPr/>
        <a:lstStyle/>
        <a:p>
          <a:r>
            <a:rPr lang="ru-RU" sz="2100" b="0" i="0" dirty="0" smtClean="0"/>
            <a:t>ТОО имеет фирменное наименование, которое должно содержать наименования товарищества или аббревиатуру, разрешается сокращенной формы наименования и его эквиваленты на иностранных языках</a:t>
          </a:r>
          <a:endParaRPr lang="ru-RU" sz="2100" b="0" dirty="0"/>
        </a:p>
      </dgm:t>
    </dgm:pt>
    <dgm:pt modelId="{99BF80FF-7C39-4284-8095-969C56C73FCA}" type="sibTrans" cxnId="{A39A14DD-0C9D-47E5-B36A-EB21292369BE}">
      <dgm:prSet/>
      <dgm:spPr/>
      <dgm:t>
        <a:bodyPr/>
        <a:lstStyle/>
        <a:p>
          <a:endParaRPr lang="ru-RU"/>
        </a:p>
      </dgm:t>
    </dgm:pt>
    <dgm:pt modelId="{8DF003F9-7D46-4388-A5CC-2FA03099E8E8}" type="parTrans" cxnId="{A39A14DD-0C9D-47E5-B36A-EB21292369BE}">
      <dgm:prSet/>
      <dgm:spPr/>
      <dgm:t>
        <a:bodyPr/>
        <a:lstStyle/>
        <a:p>
          <a:endParaRPr lang="ru-RU"/>
        </a:p>
      </dgm:t>
    </dgm:pt>
    <dgm:pt modelId="{365BFE0C-E963-431B-9197-A4BA3C8A4A52}" type="pres">
      <dgm:prSet presAssocID="{A33FB75B-197C-4FA0-A212-DE39D0D30696}" presName="CompostProcess" presStyleCnt="0">
        <dgm:presLayoutVars>
          <dgm:dir/>
          <dgm:resizeHandles val="exact"/>
        </dgm:presLayoutVars>
      </dgm:prSet>
      <dgm:spPr/>
    </dgm:pt>
    <dgm:pt modelId="{EF35BB9B-19E5-4010-802E-507B204FF4B3}" type="pres">
      <dgm:prSet presAssocID="{A33FB75B-197C-4FA0-A212-DE39D0D30696}" presName="arrow" presStyleLbl="bgShp" presStyleIdx="0" presStyleCnt="1"/>
      <dgm:spPr/>
    </dgm:pt>
    <dgm:pt modelId="{A8A05075-D232-4CDE-88EA-69DA3ACA3A2E}" type="pres">
      <dgm:prSet presAssocID="{A33FB75B-197C-4FA0-A212-DE39D0D30696}" presName="linearProcess" presStyleCnt="0"/>
      <dgm:spPr/>
    </dgm:pt>
    <dgm:pt modelId="{BE718CFC-3449-49A5-96A5-E59FA76B8F2C}" type="pres">
      <dgm:prSet presAssocID="{A233880C-70F9-47E0-A29C-36C0268836C3}" presName="textNode" presStyleLbl="node1" presStyleIdx="0" presStyleCnt="2" custScaleX="159549" custScaleY="10632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ABFFA13-0DAC-46F1-ACA9-367B94A3BE0D}" type="pres">
      <dgm:prSet presAssocID="{9B0B26E6-81E9-4BF1-B381-F29F916906A9}" presName="sibTrans" presStyleCnt="0"/>
      <dgm:spPr/>
    </dgm:pt>
    <dgm:pt modelId="{15D99CD7-B518-4884-8F22-3D29D3AEFB4F}" type="pres">
      <dgm:prSet presAssocID="{EFB66088-DDBC-4FE2-B6D2-FA856AFA084C}" presName="textNode" presStyleLbl="node1" presStyleIdx="1" presStyleCnt="2" custScaleX="182251" custScaleY="10632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3ACF8B3-00D6-4A45-9B52-498587424B21}" type="presOf" srcId="{A33FB75B-197C-4FA0-A212-DE39D0D30696}" destId="{365BFE0C-E963-431B-9197-A4BA3C8A4A52}" srcOrd="0" destOrd="0" presId="urn:microsoft.com/office/officeart/2005/8/layout/hProcess9"/>
    <dgm:cxn modelId="{C1A5BE12-2D4D-4B46-8C97-122822D3BBEA}" type="presOf" srcId="{EFB66088-DDBC-4FE2-B6D2-FA856AFA084C}" destId="{15D99CD7-B518-4884-8F22-3D29D3AEFB4F}" srcOrd="0" destOrd="0" presId="urn:microsoft.com/office/officeart/2005/8/layout/hProcess9"/>
    <dgm:cxn modelId="{A39A14DD-0C9D-47E5-B36A-EB21292369BE}" srcId="{A33FB75B-197C-4FA0-A212-DE39D0D30696}" destId="{EFB66088-DDBC-4FE2-B6D2-FA856AFA084C}" srcOrd="1" destOrd="0" parTransId="{8DF003F9-7D46-4388-A5CC-2FA03099E8E8}" sibTransId="{99BF80FF-7C39-4284-8095-969C56C73FCA}"/>
    <dgm:cxn modelId="{D7187E54-28B1-461E-B5FC-9EB776F07584}" srcId="{A33FB75B-197C-4FA0-A212-DE39D0D30696}" destId="{A233880C-70F9-47E0-A29C-36C0268836C3}" srcOrd="0" destOrd="0" parTransId="{87151B87-2F9C-4DF6-810D-F7479CF5A4D6}" sibTransId="{9B0B26E6-81E9-4BF1-B381-F29F916906A9}"/>
    <dgm:cxn modelId="{ACAFFE92-3404-47F9-B46F-BE61F9F636DF}" type="presOf" srcId="{A233880C-70F9-47E0-A29C-36C0268836C3}" destId="{BE718CFC-3449-49A5-96A5-E59FA76B8F2C}" srcOrd="0" destOrd="0" presId="urn:microsoft.com/office/officeart/2005/8/layout/hProcess9"/>
    <dgm:cxn modelId="{46C77373-AC47-4E37-A75A-A38FDC6C1B0F}" type="presParOf" srcId="{365BFE0C-E963-431B-9197-A4BA3C8A4A52}" destId="{EF35BB9B-19E5-4010-802E-507B204FF4B3}" srcOrd="0" destOrd="0" presId="urn:microsoft.com/office/officeart/2005/8/layout/hProcess9"/>
    <dgm:cxn modelId="{7D7FFD9E-7C98-427F-A956-BF6B7D689FAE}" type="presParOf" srcId="{365BFE0C-E963-431B-9197-A4BA3C8A4A52}" destId="{A8A05075-D232-4CDE-88EA-69DA3ACA3A2E}" srcOrd="1" destOrd="0" presId="urn:microsoft.com/office/officeart/2005/8/layout/hProcess9"/>
    <dgm:cxn modelId="{65D53A9D-61F1-4657-9A20-DE5C19440E3B}" type="presParOf" srcId="{A8A05075-D232-4CDE-88EA-69DA3ACA3A2E}" destId="{BE718CFC-3449-49A5-96A5-E59FA76B8F2C}" srcOrd="0" destOrd="0" presId="urn:microsoft.com/office/officeart/2005/8/layout/hProcess9"/>
    <dgm:cxn modelId="{55B63B0A-2233-4DD2-B3D0-67D632517318}" type="presParOf" srcId="{A8A05075-D232-4CDE-88EA-69DA3ACA3A2E}" destId="{BABFFA13-0DAC-46F1-ACA9-367B94A3BE0D}" srcOrd="1" destOrd="0" presId="urn:microsoft.com/office/officeart/2005/8/layout/hProcess9"/>
    <dgm:cxn modelId="{665AE00F-76C8-48CD-BE58-B924553CA44C}" type="presParOf" srcId="{A8A05075-D232-4CDE-88EA-69DA3ACA3A2E}" destId="{15D99CD7-B518-4884-8F22-3D29D3AEFB4F}" srcOrd="2" destOrd="0" presId="urn:microsoft.com/office/officeart/2005/8/layout/hProcess9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DB57BA8D-936C-4DAD-A9D1-99C454180E3B}" type="doc">
      <dgm:prSet loTypeId="urn:microsoft.com/office/officeart/2005/8/layout/vProcess5" loCatId="process" qsTypeId="urn:microsoft.com/office/officeart/2005/8/quickstyle/simple1" qsCatId="simple" csTypeId="urn:microsoft.com/office/officeart/2005/8/colors/accent0_1" csCatId="mainScheme" phldr="1"/>
      <dgm:spPr/>
      <dgm:t>
        <a:bodyPr/>
        <a:lstStyle/>
        <a:p>
          <a:endParaRPr lang="ru-RU"/>
        </a:p>
      </dgm:t>
    </dgm:pt>
    <dgm:pt modelId="{F0499052-A31C-4838-BC81-C6A8072F64B7}">
      <dgm:prSet phldrT="[Текст]"/>
      <dgm:spPr>
        <a:ln w="28575"/>
      </dgm:spPr>
      <dgm:t>
        <a:bodyPr/>
        <a:lstStyle/>
        <a:p>
          <a:r>
            <a:rPr lang="ru-RU" dirty="0" smtClean="0"/>
            <a:t>Создание ТОО начинается с заключения его учредителями учредительного договора и заканчивается государственной регистрацией</a:t>
          </a:r>
          <a:endParaRPr lang="ru-RU" dirty="0"/>
        </a:p>
      </dgm:t>
    </dgm:pt>
    <dgm:pt modelId="{BD855148-0B30-4F0D-B742-A27EF5B4EA0C}" type="parTrans" cxnId="{A3114FF4-8ADC-4E64-963F-BAEBEC5E034F}">
      <dgm:prSet/>
      <dgm:spPr/>
      <dgm:t>
        <a:bodyPr/>
        <a:lstStyle/>
        <a:p>
          <a:endParaRPr lang="ru-RU"/>
        </a:p>
      </dgm:t>
    </dgm:pt>
    <dgm:pt modelId="{52E5BBAE-CE40-4D0F-A01F-95747B95498F}" type="sibTrans" cxnId="{A3114FF4-8ADC-4E64-963F-BAEBEC5E034F}">
      <dgm:prSet/>
      <dgm:spPr/>
      <dgm:t>
        <a:bodyPr/>
        <a:lstStyle/>
        <a:p>
          <a:endParaRPr lang="ru-RU"/>
        </a:p>
      </dgm:t>
    </dgm:pt>
    <dgm:pt modelId="{DE6E7A92-357B-49BF-A950-A04442D51BD1}">
      <dgm:prSet phldrT="[Текст]"/>
      <dgm:spPr>
        <a:ln w="28575"/>
      </dgm:spPr>
      <dgm:t>
        <a:bodyPr/>
        <a:lstStyle/>
        <a:p>
          <a:r>
            <a:rPr lang="ru-RU" dirty="0" smtClean="0"/>
            <a:t>Государственная регистрация ТОО подчиняется общим положениям о регистрации юридических лиц и производится органами юстиции</a:t>
          </a:r>
          <a:endParaRPr lang="ru-RU" dirty="0"/>
        </a:p>
      </dgm:t>
    </dgm:pt>
    <dgm:pt modelId="{B8B3883B-D68B-4E79-98E3-1094F4401A75}" type="parTrans" cxnId="{7DFFFC0F-5E3C-4BEB-8006-462593786D86}">
      <dgm:prSet/>
      <dgm:spPr/>
      <dgm:t>
        <a:bodyPr/>
        <a:lstStyle/>
        <a:p>
          <a:endParaRPr lang="ru-RU"/>
        </a:p>
      </dgm:t>
    </dgm:pt>
    <dgm:pt modelId="{0AAB6D1D-A20A-45A7-BF81-FD3566DA4200}" type="sibTrans" cxnId="{7DFFFC0F-5E3C-4BEB-8006-462593786D86}">
      <dgm:prSet/>
      <dgm:spPr/>
      <dgm:t>
        <a:bodyPr/>
        <a:lstStyle/>
        <a:p>
          <a:endParaRPr lang="ru-RU"/>
        </a:p>
      </dgm:t>
    </dgm:pt>
    <dgm:pt modelId="{D6785E6F-81B4-4BD8-8179-98A575F11BA2}">
      <dgm:prSet phldrT="[Текст]"/>
      <dgm:spPr>
        <a:ln w="28575"/>
      </dgm:spPr>
      <dgm:t>
        <a:bodyPr/>
        <a:lstStyle/>
        <a:p>
          <a:r>
            <a:rPr lang="ru-RU" dirty="0" smtClean="0"/>
            <a:t>При изменении состава участников ТОО обязано перерегистрироваться</a:t>
          </a:r>
          <a:endParaRPr lang="ru-RU" dirty="0"/>
        </a:p>
      </dgm:t>
    </dgm:pt>
    <dgm:pt modelId="{AF15D426-6AD4-440B-BA4F-9B662E9C0CFA}" type="parTrans" cxnId="{40114D0F-5B4D-4D31-97D4-571A9822BCE1}">
      <dgm:prSet/>
      <dgm:spPr/>
      <dgm:t>
        <a:bodyPr/>
        <a:lstStyle/>
        <a:p>
          <a:endParaRPr lang="ru-RU"/>
        </a:p>
      </dgm:t>
    </dgm:pt>
    <dgm:pt modelId="{D6A4F8D7-2967-4C63-8CA6-4657FDCDC6F4}" type="sibTrans" cxnId="{40114D0F-5B4D-4D31-97D4-571A9822BCE1}">
      <dgm:prSet/>
      <dgm:spPr/>
      <dgm:t>
        <a:bodyPr/>
        <a:lstStyle/>
        <a:p>
          <a:endParaRPr lang="ru-RU"/>
        </a:p>
      </dgm:t>
    </dgm:pt>
    <dgm:pt modelId="{ED4EA490-F397-49E8-B7B7-9043E6C306FC}" type="pres">
      <dgm:prSet presAssocID="{DB57BA8D-936C-4DAD-A9D1-99C454180E3B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CCB7A403-4B4E-4B40-AB77-4A1125401B0D}" type="pres">
      <dgm:prSet presAssocID="{DB57BA8D-936C-4DAD-A9D1-99C454180E3B}" presName="dummyMaxCanvas" presStyleCnt="0">
        <dgm:presLayoutVars/>
      </dgm:prSet>
      <dgm:spPr/>
    </dgm:pt>
    <dgm:pt modelId="{C05DA99F-F8A4-4C7C-A3B3-41B0A9819AE3}" type="pres">
      <dgm:prSet presAssocID="{DB57BA8D-936C-4DAD-A9D1-99C454180E3B}" presName="ThreeNodes_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46523F8-181A-4F35-ABC4-E70AB661D0D4}" type="pres">
      <dgm:prSet presAssocID="{DB57BA8D-936C-4DAD-A9D1-99C454180E3B}" presName="ThreeNodes_2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622ECBA-1974-485F-8A10-2FE0591D3DF7}" type="pres">
      <dgm:prSet presAssocID="{DB57BA8D-936C-4DAD-A9D1-99C454180E3B}" presName="ThreeNodes_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3699BE9-42BD-400C-9529-999274170268}" type="pres">
      <dgm:prSet presAssocID="{DB57BA8D-936C-4DAD-A9D1-99C454180E3B}" presName="ThreeConn_1-2" presStyleLbl="fgAccFollow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3A3AEBF-489C-46C1-A75F-B0F3F6231D13}" type="pres">
      <dgm:prSet presAssocID="{DB57BA8D-936C-4DAD-A9D1-99C454180E3B}" presName="ThreeConn_2-3" presStyleLbl="fgAccFollow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551C90-7B0A-44D9-B0F0-87C94F39FCE1}" type="pres">
      <dgm:prSet presAssocID="{DB57BA8D-936C-4DAD-A9D1-99C454180E3B}" presName="ThreeNodes_1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4569A15-163F-4942-AA5A-C8ED87B3C65A}" type="pres">
      <dgm:prSet presAssocID="{DB57BA8D-936C-4DAD-A9D1-99C454180E3B}" presName="ThreeNodes_2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6C7005E-E69A-4876-8BA6-92D590C8E0D2}" type="pres">
      <dgm:prSet presAssocID="{DB57BA8D-936C-4DAD-A9D1-99C454180E3B}" presName="ThreeNodes_3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BBB3352-DCA6-4183-872D-2E32CF200B3B}" type="presOf" srcId="{DB57BA8D-936C-4DAD-A9D1-99C454180E3B}" destId="{ED4EA490-F397-49E8-B7B7-9043E6C306FC}" srcOrd="0" destOrd="0" presId="urn:microsoft.com/office/officeart/2005/8/layout/vProcess5"/>
    <dgm:cxn modelId="{36281B39-C973-4F79-BDCE-1406CD53CC8A}" type="presOf" srcId="{D6785E6F-81B4-4BD8-8179-98A575F11BA2}" destId="{8622ECBA-1974-485F-8A10-2FE0591D3DF7}" srcOrd="0" destOrd="0" presId="urn:microsoft.com/office/officeart/2005/8/layout/vProcess5"/>
    <dgm:cxn modelId="{7DFFFC0F-5E3C-4BEB-8006-462593786D86}" srcId="{DB57BA8D-936C-4DAD-A9D1-99C454180E3B}" destId="{DE6E7A92-357B-49BF-A950-A04442D51BD1}" srcOrd="1" destOrd="0" parTransId="{B8B3883B-D68B-4E79-98E3-1094F4401A75}" sibTransId="{0AAB6D1D-A20A-45A7-BF81-FD3566DA4200}"/>
    <dgm:cxn modelId="{0752217E-7292-4563-A637-9DCD7DF4ACB3}" type="presOf" srcId="{D6785E6F-81B4-4BD8-8179-98A575F11BA2}" destId="{E6C7005E-E69A-4876-8BA6-92D590C8E0D2}" srcOrd="1" destOrd="0" presId="urn:microsoft.com/office/officeart/2005/8/layout/vProcess5"/>
    <dgm:cxn modelId="{322B2541-DA88-499C-B3CD-CCF6D0F35573}" type="presOf" srcId="{DE6E7A92-357B-49BF-A950-A04442D51BD1}" destId="{946523F8-181A-4F35-ABC4-E70AB661D0D4}" srcOrd="0" destOrd="0" presId="urn:microsoft.com/office/officeart/2005/8/layout/vProcess5"/>
    <dgm:cxn modelId="{40FDE3DB-A16F-4178-ABA6-FE143FAD6A44}" type="presOf" srcId="{0AAB6D1D-A20A-45A7-BF81-FD3566DA4200}" destId="{B3A3AEBF-489C-46C1-A75F-B0F3F6231D13}" srcOrd="0" destOrd="0" presId="urn:microsoft.com/office/officeart/2005/8/layout/vProcess5"/>
    <dgm:cxn modelId="{4DE27911-7A9F-45F5-9E6E-C2A4FA9928C7}" type="presOf" srcId="{F0499052-A31C-4838-BC81-C6A8072F64B7}" destId="{C05DA99F-F8A4-4C7C-A3B3-41B0A9819AE3}" srcOrd="0" destOrd="0" presId="urn:microsoft.com/office/officeart/2005/8/layout/vProcess5"/>
    <dgm:cxn modelId="{40114D0F-5B4D-4D31-97D4-571A9822BCE1}" srcId="{DB57BA8D-936C-4DAD-A9D1-99C454180E3B}" destId="{D6785E6F-81B4-4BD8-8179-98A575F11BA2}" srcOrd="2" destOrd="0" parTransId="{AF15D426-6AD4-440B-BA4F-9B662E9C0CFA}" sibTransId="{D6A4F8D7-2967-4C63-8CA6-4657FDCDC6F4}"/>
    <dgm:cxn modelId="{B4AACEFC-C160-461F-8B38-8B3D67CA427E}" type="presOf" srcId="{F0499052-A31C-4838-BC81-C6A8072F64B7}" destId="{9F551C90-7B0A-44D9-B0F0-87C94F39FCE1}" srcOrd="1" destOrd="0" presId="urn:microsoft.com/office/officeart/2005/8/layout/vProcess5"/>
    <dgm:cxn modelId="{8E20BF3F-F172-46F8-B2DF-DFE3EADBCA91}" type="presOf" srcId="{52E5BBAE-CE40-4D0F-A01F-95747B95498F}" destId="{B3699BE9-42BD-400C-9529-999274170268}" srcOrd="0" destOrd="0" presId="urn:microsoft.com/office/officeart/2005/8/layout/vProcess5"/>
    <dgm:cxn modelId="{A3114FF4-8ADC-4E64-963F-BAEBEC5E034F}" srcId="{DB57BA8D-936C-4DAD-A9D1-99C454180E3B}" destId="{F0499052-A31C-4838-BC81-C6A8072F64B7}" srcOrd="0" destOrd="0" parTransId="{BD855148-0B30-4F0D-B742-A27EF5B4EA0C}" sibTransId="{52E5BBAE-CE40-4D0F-A01F-95747B95498F}"/>
    <dgm:cxn modelId="{1068C768-8ACB-4093-9B13-8D641044F35D}" type="presOf" srcId="{DE6E7A92-357B-49BF-A950-A04442D51BD1}" destId="{54569A15-163F-4942-AA5A-C8ED87B3C65A}" srcOrd="1" destOrd="0" presId="urn:microsoft.com/office/officeart/2005/8/layout/vProcess5"/>
    <dgm:cxn modelId="{7314D5A3-F476-40CB-9323-E0B97CF73863}" type="presParOf" srcId="{ED4EA490-F397-49E8-B7B7-9043E6C306FC}" destId="{CCB7A403-4B4E-4B40-AB77-4A1125401B0D}" srcOrd="0" destOrd="0" presId="urn:microsoft.com/office/officeart/2005/8/layout/vProcess5"/>
    <dgm:cxn modelId="{1730B457-E3CE-4043-80E1-D6C421D6496F}" type="presParOf" srcId="{ED4EA490-F397-49E8-B7B7-9043E6C306FC}" destId="{C05DA99F-F8A4-4C7C-A3B3-41B0A9819AE3}" srcOrd="1" destOrd="0" presId="urn:microsoft.com/office/officeart/2005/8/layout/vProcess5"/>
    <dgm:cxn modelId="{633AB552-3FB8-4E76-8C20-574FF55D5F41}" type="presParOf" srcId="{ED4EA490-F397-49E8-B7B7-9043E6C306FC}" destId="{946523F8-181A-4F35-ABC4-E70AB661D0D4}" srcOrd="2" destOrd="0" presId="urn:microsoft.com/office/officeart/2005/8/layout/vProcess5"/>
    <dgm:cxn modelId="{C8056263-E9A6-455B-9086-55E9400A3E69}" type="presParOf" srcId="{ED4EA490-F397-49E8-B7B7-9043E6C306FC}" destId="{8622ECBA-1974-485F-8A10-2FE0591D3DF7}" srcOrd="3" destOrd="0" presId="urn:microsoft.com/office/officeart/2005/8/layout/vProcess5"/>
    <dgm:cxn modelId="{26551625-91DD-4D6B-A31A-91613397603B}" type="presParOf" srcId="{ED4EA490-F397-49E8-B7B7-9043E6C306FC}" destId="{B3699BE9-42BD-400C-9529-999274170268}" srcOrd="4" destOrd="0" presId="urn:microsoft.com/office/officeart/2005/8/layout/vProcess5"/>
    <dgm:cxn modelId="{7330E2CC-93EA-4063-AD88-A30A89665A53}" type="presParOf" srcId="{ED4EA490-F397-49E8-B7B7-9043E6C306FC}" destId="{B3A3AEBF-489C-46C1-A75F-B0F3F6231D13}" srcOrd="5" destOrd="0" presId="urn:microsoft.com/office/officeart/2005/8/layout/vProcess5"/>
    <dgm:cxn modelId="{021770CB-4F83-4F2D-83FA-27A51DA6808D}" type="presParOf" srcId="{ED4EA490-F397-49E8-B7B7-9043E6C306FC}" destId="{9F551C90-7B0A-44D9-B0F0-87C94F39FCE1}" srcOrd="6" destOrd="0" presId="urn:microsoft.com/office/officeart/2005/8/layout/vProcess5"/>
    <dgm:cxn modelId="{4742D270-DFB5-47C7-AE48-EF4E114DE832}" type="presParOf" srcId="{ED4EA490-F397-49E8-B7B7-9043E6C306FC}" destId="{54569A15-163F-4942-AA5A-C8ED87B3C65A}" srcOrd="7" destOrd="0" presId="urn:microsoft.com/office/officeart/2005/8/layout/vProcess5"/>
    <dgm:cxn modelId="{11786A65-A116-45A3-9DF5-27B839939CA0}" type="presParOf" srcId="{ED4EA490-F397-49E8-B7B7-9043E6C306FC}" destId="{E6C7005E-E69A-4876-8BA6-92D590C8E0D2}" srcOrd="8" destOrd="0" presId="urn:microsoft.com/office/officeart/2005/8/layout/vProcess5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C055D88-604C-4D50-8F3C-15B8C4C7F6EE}" type="doc">
      <dgm:prSet loTypeId="urn:microsoft.com/office/officeart/2005/8/layout/vProcess5" loCatId="process" qsTypeId="urn:microsoft.com/office/officeart/2005/8/quickstyle/simple1" qsCatId="simple" csTypeId="urn:microsoft.com/office/officeart/2005/8/colors/accent0_1" csCatId="mainScheme" phldr="1"/>
      <dgm:spPr/>
      <dgm:t>
        <a:bodyPr/>
        <a:lstStyle/>
        <a:p>
          <a:endParaRPr lang="ru-RU"/>
        </a:p>
      </dgm:t>
    </dgm:pt>
    <dgm:pt modelId="{1649BCF6-0D02-4189-876D-F18335274686}">
      <dgm:prSet phldrT="[Текст]"/>
      <dgm:spPr>
        <a:ln w="28575"/>
      </dgm:spPr>
      <dgm:t>
        <a:bodyPr/>
        <a:lstStyle/>
        <a:p>
          <a:r>
            <a:rPr lang="ru-RU" dirty="0" smtClean="0"/>
            <a:t>1. У</a:t>
          </a:r>
          <a:r>
            <a:rPr lang="ru-RU" b="0" i="0" dirty="0" smtClean="0"/>
            <a:t>частвовать в управлении делами ТОО </a:t>
          </a:r>
          <a:endParaRPr lang="ru-RU" dirty="0"/>
        </a:p>
      </dgm:t>
    </dgm:pt>
    <dgm:pt modelId="{5DB878AB-9614-49B0-8A47-64A6DD94A058}" type="parTrans" cxnId="{57393C9D-8233-499A-95E3-49DDAAC36781}">
      <dgm:prSet/>
      <dgm:spPr/>
      <dgm:t>
        <a:bodyPr/>
        <a:lstStyle/>
        <a:p>
          <a:endParaRPr lang="ru-RU"/>
        </a:p>
      </dgm:t>
    </dgm:pt>
    <dgm:pt modelId="{5926697C-0445-4BC8-BC19-A3BBEDFA25E5}" type="sibTrans" cxnId="{57393C9D-8233-499A-95E3-49DDAAC36781}">
      <dgm:prSet/>
      <dgm:spPr/>
      <dgm:t>
        <a:bodyPr/>
        <a:lstStyle/>
        <a:p>
          <a:endParaRPr lang="ru-RU"/>
        </a:p>
      </dgm:t>
    </dgm:pt>
    <dgm:pt modelId="{06F7A896-C740-4BAC-B490-650EF9B3BCD1}">
      <dgm:prSet phldrT="[Текст]"/>
      <dgm:spPr>
        <a:ln w="28575"/>
      </dgm:spPr>
      <dgm:t>
        <a:bodyPr/>
        <a:lstStyle/>
        <a:p>
          <a:r>
            <a:rPr lang="ru-RU" dirty="0" smtClean="0"/>
            <a:t>2. П</a:t>
          </a:r>
          <a:r>
            <a:rPr lang="ru-RU" b="0" i="0" dirty="0" smtClean="0"/>
            <a:t>олучать информацию о деятельности ТОО и знакомится с его документацией</a:t>
          </a:r>
          <a:endParaRPr lang="ru-RU" dirty="0"/>
        </a:p>
      </dgm:t>
    </dgm:pt>
    <dgm:pt modelId="{54A75A3A-22C7-47B9-92D1-03382273B052}" type="parTrans" cxnId="{4C430F66-F39F-4888-8A67-D3F250FC32C2}">
      <dgm:prSet/>
      <dgm:spPr/>
      <dgm:t>
        <a:bodyPr/>
        <a:lstStyle/>
        <a:p>
          <a:endParaRPr lang="ru-RU"/>
        </a:p>
      </dgm:t>
    </dgm:pt>
    <dgm:pt modelId="{F06BA843-DB17-42F4-BF40-DE8117A39767}" type="sibTrans" cxnId="{4C430F66-F39F-4888-8A67-D3F250FC32C2}">
      <dgm:prSet/>
      <dgm:spPr/>
      <dgm:t>
        <a:bodyPr/>
        <a:lstStyle/>
        <a:p>
          <a:endParaRPr lang="ru-RU"/>
        </a:p>
      </dgm:t>
    </dgm:pt>
    <dgm:pt modelId="{5ADB74D0-2206-46B3-B330-19CA0B4CDC22}">
      <dgm:prSet phldrT="[Текст]"/>
      <dgm:spPr>
        <a:ln w="28575"/>
      </dgm:spPr>
      <dgm:t>
        <a:bodyPr/>
        <a:lstStyle/>
        <a:p>
          <a:r>
            <a:rPr lang="ru-RU" dirty="0" smtClean="0"/>
            <a:t>3. П</a:t>
          </a:r>
          <a:r>
            <a:rPr lang="ru-RU" b="0" i="0" dirty="0" smtClean="0"/>
            <a:t>олучать доход от деятельности товарищества</a:t>
          </a:r>
          <a:endParaRPr lang="ru-RU" dirty="0"/>
        </a:p>
      </dgm:t>
    </dgm:pt>
    <dgm:pt modelId="{0C4ABDBF-47B2-4E35-B8B0-0E0E683C4E5E}" type="parTrans" cxnId="{955B0378-559B-4A4D-98BD-1185E54E6E7E}">
      <dgm:prSet/>
      <dgm:spPr/>
      <dgm:t>
        <a:bodyPr/>
        <a:lstStyle/>
        <a:p>
          <a:endParaRPr lang="ru-RU"/>
        </a:p>
      </dgm:t>
    </dgm:pt>
    <dgm:pt modelId="{EDB70BCD-5BB7-46D3-8623-D458913784EC}" type="sibTrans" cxnId="{955B0378-559B-4A4D-98BD-1185E54E6E7E}">
      <dgm:prSet/>
      <dgm:spPr/>
      <dgm:t>
        <a:bodyPr/>
        <a:lstStyle/>
        <a:p>
          <a:endParaRPr lang="ru-RU"/>
        </a:p>
      </dgm:t>
    </dgm:pt>
    <dgm:pt modelId="{F8428CA5-6FA9-4456-A203-4922A377481D}">
      <dgm:prSet phldrT="[Текст]"/>
      <dgm:spPr>
        <a:ln w="28575"/>
      </dgm:spPr>
      <dgm:t>
        <a:bodyPr/>
        <a:lstStyle/>
        <a:p>
          <a:r>
            <a:rPr lang="ru-RU" dirty="0" smtClean="0"/>
            <a:t>4. О</a:t>
          </a:r>
          <a:r>
            <a:rPr lang="ru-RU" b="0" i="0" dirty="0" smtClean="0"/>
            <a:t>тчуждать свою долю (ее часть)</a:t>
          </a:r>
          <a:endParaRPr lang="ru-RU" dirty="0"/>
        </a:p>
      </dgm:t>
    </dgm:pt>
    <dgm:pt modelId="{D1851E12-A5E3-48D5-B665-42D3786264A3}" type="parTrans" cxnId="{B1682ECD-4AF5-4F55-B634-155D86058CF9}">
      <dgm:prSet/>
      <dgm:spPr/>
      <dgm:t>
        <a:bodyPr/>
        <a:lstStyle/>
        <a:p>
          <a:endParaRPr lang="ru-RU"/>
        </a:p>
      </dgm:t>
    </dgm:pt>
    <dgm:pt modelId="{750B22F8-0388-4255-89DC-EC00A7AAFC73}" type="sibTrans" cxnId="{B1682ECD-4AF5-4F55-B634-155D86058CF9}">
      <dgm:prSet/>
      <dgm:spPr/>
      <dgm:t>
        <a:bodyPr/>
        <a:lstStyle/>
        <a:p>
          <a:endParaRPr lang="ru-RU"/>
        </a:p>
      </dgm:t>
    </dgm:pt>
    <dgm:pt modelId="{8CC4750E-3EB1-4580-A1EA-986138598A76}" type="pres">
      <dgm:prSet presAssocID="{9C055D88-604C-4D50-8F3C-15B8C4C7F6EE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5D0DE6A-07E3-446F-A9F3-464A28CD1772}" type="pres">
      <dgm:prSet presAssocID="{9C055D88-604C-4D50-8F3C-15B8C4C7F6EE}" presName="dummyMaxCanvas" presStyleCnt="0">
        <dgm:presLayoutVars/>
      </dgm:prSet>
      <dgm:spPr/>
    </dgm:pt>
    <dgm:pt modelId="{D309B9B3-0E29-455F-A71E-B137B7DCBBCE}" type="pres">
      <dgm:prSet presAssocID="{9C055D88-604C-4D50-8F3C-15B8C4C7F6EE}" presName="FourNodes_1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D16B7E0-E03D-46CC-A38F-46C17B5A5AA6}" type="pres">
      <dgm:prSet presAssocID="{9C055D88-604C-4D50-8F3C-15B8C4C7F6EE}" presName="FourNodes_2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EBFE56A-76A1-4C87-B359-6908BFD79AE5}" type="pres">
      <dgm:prSet presAssocID="{9C055D88-604C-4D50-8F3C-15B8C4C7F6EE}" presName="FourNodes_3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38F9F-0410-43EC-91D3-C4F2037F0C0B}" type="pres">
      <dgm:prSet presAssocID="{9C055D88-604C-4D50-8F3C-15B8C4C7F6EE}" presName="FourNodes_4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93C3AFA-3145-4FC4-8018-D17BF864B545}" type="pres">
      <dgm:prSet presAssocID="{9C055D88-604C-4D50-8F3C-15B8C4C7F6EE}" presName="FourConn_1-2" presStyleLbl="fg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E3F44BE-98C0-43C2-B060-6FD261E23154}" type="pres">
      <dgm:prSet presAssocID="{9C055D88-604C-4D50-8F3C-15B8C4C7F6EE}" presName="FourConn_2-3" presStyleLbl="fg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946A1DD-6E55-4842-8682-B4335529A932}" type="pres">
      <dgm:prSet presAssocID="{9C055D88-604C-4D50-8F3C-15B8C4C7F6EE}" presName="FourConn_3-4" presStyleLbl="fg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BE2AA9B-BB17-45E9-8534-D16CE409A66D}" type="pres">
      <dgm:prSet presAssocID="{9C055D88-604C-4D50-8F3C-15B8C4C7F6EE}" presName="FourNodes_1_text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54CD12-B1E3-40DF-A752-BAE31D769985}" type="pres">
      <dgm:prSet presAssocID="{9C055D88-604C-4D50-8F3C-15B8C4C7F6EE}" presName="FourNodes_2_text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0DABEA3-4C9C-4BA1-9C02-65951F8A6BAE}" type="pres">
      <dgm:prSet presAssocID="{9C055D88-604C-4D50-8F3C-15B8C4C7F6EE}" presName="FourNodes_3_text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096506C-ECCA-4D8B-AD73-4DDC50508459}" type="pres">
      <dgm:prSet presAssocID="{9C055D88-604C-4D50-8F3C-15B8C4C7F6EE}" presName="FourNodes_4_text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9A161B6-A8E4-4248-B7C3-5E59E59A5A07}" type="presOf" srcId="{5ADB74D0-2206-46B3-B330-19CA0B4CDC22}" destId="{2EBFE56A-76A1-4C87-B359-6908BFD79AE5}" srcOrd="0" destOrd="0" presId="urn:microsoft.com/office/officeart/2005/8/layout/vProcess5"/>
    <dgm:cxn modelId="{24158A2F-BC90-4AC6-B448-2D2E20781DFF}" type="presOf" srcId="{5926697C-0445-4BC8-BC19-A3BBEDFA25E5}" destId="{793C3AFA-3145-4FC4-8018-D17BF864B545}" srcOrd="0" destOrd="0" presId="urn:microsoft.com/office/officeart/2005/8/layout/vProcess5"/>
    <dgm:cxn modelId="{C924159E-ED5B-45D1-8254-3B73406EFA6F}" type="presOf" srcId="{1649BCF6-0D02-4189-876D-F18335274686}" destId="{D309B9B3-0E29-455F-A71E-B137B7DCBBCE}" srcOrd="0" destOrd="0" presId="urn:microsoft.com/office/officeart/2005/8/layout/vProcess5"/>
    <dgm:cxn modelId="{4C430F66-F39F-4888-8A67-D3F250FC32C2}" srcId="{9C055D88-604C-4D50-8F3C-15B8C4C7F6EE}" destId="{06F7A896-C740-4BAC-B490-650EF9B3BCD1}" srcOrd="1" destOrd="0" parTransId="{54A75A3A-22C7-47B9-92D1-03382273B052}" sibTransId="{F06BA843-DB17-42F4-BF40-DE8117A39767}"/>
    <dgm:cxn modelId="{BCE84090-DE22-47A2-8F3B-F629D4DD377E}" type="presOf" srcId="{EDB70BCD-5BB7-46D3-8623-D458913784EC}" destId="{2946A1DD-6E55-4842-8682-B4335529A932}" srcOrd="0" destOrd="0" presId="urn:microsoft.com/office/officeart/2005/8/layout/vProcess5"/>
    <dgm:cxn modelId="{4053AFD7-F8CA-413B-A9E8-954A713476C0}" type="presOf" srcId="{1649BCF6-0D02-4189-876D-F18335274686}" destId="{1BE2AA9B-BB17-45E9-8534-D16CE409A66D}" srcOrd="1" destOrd="0" presId="urn:microsoft.com/office/officeart/2005/8/layout/vProcess5"/>
    <dgm:cxn modelId="{5FD5A703-F50F-4E50-88E2-B77E28172EA5}" type="presOf" srcId="{F8428CA5-6FA9-4456-A203-4922A377481D}" destId="{5096506C-ECCA-4D8B-AD73-4DDC50508459}" srcOrd="1" destOrd="0" presId="urn:microsoft.com/office/officeart/2005/8/layout/vProcess5"/>
    <dgm:cxn modelId="{57393C9D-8233-499A-95E3-49DDAAC36781}" srcId="{9C055D88-604C-4D50-8F3C-15B8C4C7F6EE}" destId="{1649BCF6-0D02-4189-876D-F18335274686}" srcOrd="0" destOrd="0" parTransId="{5DB878AB-9614-49B0-8A47-64A6DD94A058}" sibTransId="{5926697C-0445-4BC8-BC19-A3BBEDFA25E5}"/>
    <dgm:cxn modelId="{D64ABDB5-04BB-4FCF-8378-4C3882BAF7BC}" type="presOf" srcId="{F06BA843-DB17-42F4-BF40-DE8117A39767}" destId="{8E3F44BE-98C0-43C2-B060-6FD261E23154}" srcOrd="0" destOrd="0" presId="urn:microsoft.com/office/officeart/2005/8/layout/vProcess5"/>
    <dgm:cxn modelId="{955B0378-559B-4A4D-98BD-1185E54E6E7E}" srcId="{9C055D88-604C-4D50-8F3C-15B8C4C7F6EE}" destId="{5ADB74D0-2206-46B3-B330-19CA0B4CDC22}" srcOrd="2" destOrd="0" parTransId="{0C4ABDBF-47B2-4E35-B8B0-0E0E683C4E5E}" sibTransId="{EDB70BCD-5BB7-46D3-8623-D458913784EC}"/>
    <dgm:cxn modelId="{E54D5174-096C-40CF-92B5-0584C028269B}" type="presOf" srcId="{F8428CA5-6FA9-4456-A203-4922A377481D}" destId="{9FD38F9F-0410-43EC-91D3-C4F2037F0C0B}" srcOrd="0" destOrd="0" presId="urn:microsoft.com/office/officeart/2005/8/layout/vProcess5"/>
    <dgm:cxn modelId="{7DB155BB-E463-4E4D-A53A-C9E91BD2A2DD}" type="presOf" srcId="{5ADB74D0-2206-46B3-B330-19CA0B4CDC22}" destId="{10DABEA3-4C9C-4BA1-9C02-65951F8A6BAE}" srcOrd="1" destOrd="0" presId="urn:microsoft.com/office/officeart/2005/8/layout/vProcess5"/>
    <dgm:cxn modelId="{167BEDB6-58C8-4AD6-BD57-BFB6DA2F9FE2}" type="presOf" srcId="{06F7A896-C740-4BAC-B490-650EF9B3BCD1}" destId="{6754CD12-B1E3-40DF-A752-BAE31D769985}" srcOrd="1" destOrd="0" presId="urn:microsoft.com/office/officeart/2005/8/layout/vProcess5"/>
    <dgm:cxn modelId="{69AF713E-33C5-4073-81BF-FE6FE147FE1A}" type="presOf" srcId="{9C055D88-604C-4D50-8F3C-15B8C4C7F6EE}" destId="{8CC4750E-3EB1-4580-A1EA-986138598A76}" srcOrd="0" destOrd="0" presId="urn:microsoft.com/office/officeart/2005/8/layout/vProcess5"/>
    <dgm:cxn modelId="{B1682ECD-4AF5-4F55-B634-155D86058CF9}" srcId="{9C055D88-604C-4D50-8F3C-15B8C4C7F6EE}" destId="{F8428CA5-6FA9-4456-A203-4922A377481D}" srcOrd="3" destOrd="0" parTransId="{D1851E12-A5E3-48D5-B665-42D3786264A3}" sibTransId="{750B22F8-0388-4255-89DC-EC00A7AAFC73}"/>
    <dgm:cxn modelId="{DFB2CF36-8DFD-41D9-A9FC-305209BEC110}" type="presOf" srcId="{06F7A896-C740-4BAC-B490-650EF9B3BCD1}" destId="{DD16B7E0-E03D-46CC-A38F-46C17B5A5AA6}" srcOrd="0" destOrd="0" presId="urn:microsoft.com/office/officeart/2005/8/layout/vProcess5"/>
    <dgm:cxn modelId="{AD0ACB61-E5B0-437F-8AF7-245FD0F361AD}" type="presParOf" srcId="{8CC4750E-3EB1-4580-A1EA-986138598A76}" destId="{35D0DE6A-07E3-446F-A9F3-464A28CD1772}" srcOrd="0" destOrd="0" presId="urn:microsoft.com/office/officeart/2005/8/layout/vProcess5"/>
    <dgm:cxn modelId="{780D1D83-265B-43BE-9BFC-E76BBFB8028F}" type="presParOf" srcId="{8CC4750E-3EB1-4580-A1EA-986138598A76}" destId="{D309B9B3-0E29-455F-A71E-B137B7DCBBCE}" srcOrd="1" destOrd="0" presId="urn:microsoft.com/office/officeart/2005/8/layout/vProcess5"/>
    <dgm:cxn modelId="{84074183-A30B-4C61-8DD6-1341A7A22A20}" type="presParOf" srcId="{8CC4750E-3EB1-4580-A1EA-986138598A76}" destId="{DD16B7E0-E03D-46CC-A38F-46C17B5A5AA6}" srcOrd="2" destOrd="0" presId="urn:microsoft.com/office/officeart/2005/8/layout/vProcess5"/>
    <dgm:cxn modelId="{78B80350-FBA1-44FA-8763-D8EA517AD66C}" type="presParOf" srcId="{8CC4750E-3EB1-4580-A1EA-986138598A76}" destId="{2EBFE56A-76A1-4C87-B359-6908BFD79AE5}" srcOrd="3" destOrd="0" presId="urn:microsoft.com/office/officeart/2005/8/layout/vProcess5"/>
    <dgm:cxn modelId="{0CF8032E-EFA3-4262-9C61-1D1875E7ED8F}" type="presParOf" srcId="{8CC4750E-3EB1-4580-A1EA-986138598A76}" destId="{9FD38F9F-0410-43EC-91D3-C4F2037F0C0B}" srcOrd="4" destOrd="0" presId="urn:microsoft.com/office/officeart/2005/8/layout/vProcess5"/>
    <dgm:cxn modelId="{B066EAF0-DF3C-4D86-AD88-65BF32C4DBEA}" type="presParOf" srcId="{8CC4750E-3EB1-4580-A1EA-986138598A76}" destId="{793C3AFA-3145-4FC4-8018-D17BF864B545}" srcOrd="5" destOrd="0" presId="urn:microsoft.com/office/officeart/2005/8/layout/vProcess5"/>
    <dgm:cxn modelId="{D25796FF-6DDA-484F-9524-08DDA92CDB41}" type="presParOf" srcId="{8CC4750E-3EB1-4580-A1EA-986138598A76}" destId="{8E3F44BE-98C0-43C2-B060-6FD261E23154}" srcOrd="6" destOrd="0" presId="urn:microsoft.com/office/officeart/2005/8/layout/vProcess5"/>
    <dgm:cxn modelId="{49F521A4-316D-4C08-8A47-F0384BC8C675}" type="presParOf" srcId="{8CC4750E-3EB1-4580-A1EA-986138598A76}" destId="{2946A1DD-6E55-4842-8682-B4335529A932}" srcOrd="7" destOrd="0" presId="urn:microsoft.com/office/officeart/2005/8/layout/vProcess5"/>
    <dgm:cxn modelId="{D7E9F7E7-4E95-4AFC-9A12-64C7197E0276}" type="presParOf" srcId="{8CC4750E-3EB1-4580-A1EA-986138598A76}" destId="{1BE2AA9B-BB17-45E9-8534-D16CE409A66D}" srcOrd="8" destOrd="0" presId="urn:microsoft.com/office/officeart/2005/8/layout/vProcess5"/>
    <dgm:cxn modelId="{EC492BBF-8F5B-44AA-82B5-809172CDCFE5}" type="presParOf" srcId="{8CC4750E-3EB1-4580-A1EA-986138598A76}" destId="{6754CD12-B1E3-40DF-A752-BAE31D769985}" srcOrd="9" destOrd="0" presId="urn:microsoft.com/office/officeart/2005/8/layout/vProcess5"/>
    <dgm:cxn modelId="{B708528E-8DAF-405E-BD8D-8B6BA708C6A8}" type="presParOf" srcId="{8CC4750E-3EB1-4580-A1EA-986138598A76}" destId="{10DABEA3-4C9C-4BA1-9C02-65951F8A6BAE}" srcOrd="10" destOrd="0" presId="urn:microsoft.com/office/officeart/2005/8/layout/vProcess5"/>
    <dgm:cxn modelId="{6A763D86-AA0C-4A0E-A7F5-BD7503ACF193}" type="presParOf" srcId="{8CC4750E-3EB1-4580-A1EA-986138598A76}" destId="{5096506C-ECCA-4D8B-AD73-4DDC50508459}" srcOrd="11" destOrd="0" presId="urn:microsoft.com/office/officeart/2005/8/layout/vProcess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6D79A20A-8668-4BAC-8907-27A31E29F35F}" type="doc">
      <dgm:prSet loTypeId="urn:microsoft.com/office/officeart/2005/8/layout/process2" loCatId="process" qsTypeId="urn:microsoft.com/office/officeart/2005/8/quickstyle/simple1" qsCatId="simple" csTypeId="urn:microsoft.com/office/officeart/2005/8/colors/accent0_1" csCatId="mainScheme" phldr="1"/>
      <dgm:spPr/>
    </dgm:pt>
    <dgm:pt modelId="{F17B7F0D-4A74-4243-A4C7-B6C6235683AB}">
      <dgm:prSet phldrT="[Текст]"/>
      <dgm:spPr>
        <a:ln w="28575">
          <a:solidFill>
            <a:schemeClr val="tx1">
              <a:lumMod val="95000"/>
              <a:lumOff val="5000"/>
            </a:schemeClr>
          </a:solidFill>
        </a:ln>
      </dgm:spPr>
      <dgm:t>
        <a:bodyPr/>
        <a:lstStyle/>
        <a:p>
          <a:r>
            <a:rPr lang="ru-RU" dirty="0" smtClean="0"/>
            <a:t>1. С</a:t>
          </a:r>
          <a:r>
            <a:rPr lang="ru-RU" b="0" i="0" dirty="0" smtClean="0"/>
            <a:t>облюдать требования учредительного договора</a:t>
          </a:r>
          <a:endParaRPr lang="ru-RU" dirty="0"/>
        </a:p>
      </dgm:t>
    </dgm:pt>
    <dgm:pt modelId="{284D60B2-BBE0-4A83-9B4D-D44982C9011E}" type="parTrans" cxnId="{E2E93D2C-BCED-4BD6-9EF0-C0D470D0151F}">
      <dgm:prSet/>
      <dgm:spPr/>
      <dgm:t>
        <a:bodyPr/>
        <a:lstStyle/>
        <a:p>
          <a:endParaRPr lang="ru-RU"/>
        </a:p>
      </dgm:t>
    </dgm:pt>
    <dgm:pt modelId="{1F42A3F6-7752-46E1-B405-A079A9A9E262}" type="sibTrans" cxnId="{E2E93D2C-BCED-4BD6-9EF0-C0D470D0151F}">
      <dgm:prSet/>
      <dgm:spPr/>
      <dgm:t>
        <a:bodyPr/>
        <a:lstStyle/>
        <a:p>
          <a:endParaRPr lang="ru-RU"/>
        </a:p>
      </dgm:t>
    </dgm:pt>
    <dgm:pt modelId="{1FB6B0E4-F180-4D7F-8BF5-8567DD2DFC14}">
      <dgm:prSet phldrT="[Текст]"/>
      <dgm:spPr>
        <a:ln w="28575">
          <a:solidFill>
            <a:schemeClr val="tx1">
              <a:lumMod val="95000"/>
              <a:lumOff val="5000"/>
            </a:schemeClr>
          </a:solidFill>
        </a:ln>
      </dgm:spPr>
      <dgm:t>
        <a:bodyPr/>
        <a:lstStyle/>
        <a:p>
          <a:r>
            <a:rPr lang="ru-RU" dirty="0" smtClean="0"/>
            <a:t>2. В</a:t>
          </a:r>
          <a:r>
            <a:rPr lang="ru-RU" b="0" i="0" dirty="0" smtClean="0"/>
            <a:t>носить вклады в уставный капитал ТОО</a:t>
          </a:r>
          <a:endParaRPr lang="ru-RU" dirty="0"/>
        </a:p>
      </dgm:t>
    </dgm:pt>
    <dgm:pt modelId="{9B56383F-A196-4455-84B6-44F9D6FC7C52}" type="parTrans" cxnId="{6459D8FF-5182-4FB6-BCF0-6E3B1D91F0B5}">
      <dgm:prSet/>
      <dgm:spPr/>
      <dgm:t>
        <a:bodyPr/>
        <a:lstStyle/>
        <a:p>
          <a:endParaRPr lang="ru-RU"/>
        </a:p>
      </dgm:t>
    </dgm:pt>
    <dgm:pt modelId="{CFD73E10-80C7-4848-A7F3-639E0C274379}" type="sibTrans" cxnId="{6459D8FF-5182-4FB6-BCF0-6E3B1D91F0B5}">
      <dgm:prSet/>
      <dgm:spPr/>
      <dgm:t>
        <a:bodyPr/>
        <a:lstStyle/>
        <a:p>
          <a:endParaRPr lang="ru-RU"/>
        </a:p>
      </dgm:t>
    </dgm:pt>
    <dgm:pt modelId="{0F9A095E-E632-456A-AF37-A7ACA4025CAB}">
      <dgm:prSet phldrT="[Текст]"/>
      <dgm:spPr>
        <a:ln w="28575">
          <a:solidFill>
            <a:schemeClr val="tx1">
              <a:lumMod val="95000"/>
              <a:lumOff val="5000"/>
            </a:schemeClr>
          </a:solidFill>
        </a:ln>
      </dgm:spPr>
      <dgm:t>
        <a:bodyPr/>
        <a:lstStyle/>
        <a:p>
          <a:r>
            <a:rPr lang="ru-RU" dirty="0" smtClean="0"/>
            <a:t>3. Н</a:t>
          </a:r>
          <a:r>
            <a:rPr lang="ru-RU" b="0" i="0" dirty="0" smtClean="0"/>
            <a:t>е разглашать коммерческих тайн ТОО</a:t>
          </a:r>
          <a:endParaRPr lang="ru-RU" dirty="0"/>
        </a:p>
      </dgm:t>
    </dgm:pt>
    <dgm:pt modelId="{353C0ED5-94A4-4CFC-9507-8B6FD7211BFA}" type="parTrans" cxnId="{B86921BA-940E-41F4-9CED-E7B5FD505BA7}">
      <dgm:prSet/>
      <dgm:spPr/>
      <dgm:t>
        <a:bodyPr/>
        <a:lstStyle/>
        <a:p>
          <a:endParaRPr lang="ru-RU"/>
        </a:p>
      </dgm:t>
    </dgm:pt>
    <dgm:pt modelId="{7DAEF82D-8322-4BA4-B00F-85CA895D001F}" type="sibTrans" cxnId="{B86921BA-940E-41F4-9CED-E7B5FD505BA7}">
      <dgm:prSet/>
      <dgm:spPr/>
      <dgm:t>
        <a:bodyPr/>
        <a:lstStyle/>
        <a:p>
          <a:endParaRPr lang="ru-RU"/>
        </a:p>
      </dgm:t>
    </dgm:pt>
    <dgm:pt modelId="{E47547B8-5DD1-4F76-84C4-C3BE9CD500EA}" type="pres">
      <dgm:prSet presAssocID="{6D79A20A-8668-4BAC-8907-27A31E29F35F}" presName="linearFlow" presStyleCnt="0">
        <dgm:presLayoutVars>
          <dgm:resizeHandles val="exact"/>
        </dgm:presLayoutVars>
      </dgm:prSet>
      <dgm:spPr/>
    </dgm:pt>
    <dgm:pt modelId="{6556B0D8-413C-4AB6-A6F5-DD567EE3EC68}" type="pres">
      <dgm:prSet presAssocID="{F17B7F0D-4A74-4243-A4C7-B6C6235683AB}" presName="node" presStyleLbl="node1" presStyleIdx="0" presStyleCnt="3" custScaleX="20634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67F4E36-AF5E-4C57-BFCB-FDC8DC4DFE1E}" type="pres">
      <dgm:prSet presAssocID="{1F42A3F6-7752-46E1-B405-A079A9A9E262}" presName="sibTrans" presStyleLbl="sibTrans2D1" presStyleIdx="0" presStyleCnt="2"/>
      <dgm:spPr/>
      <dgm:t>
        <a:bodyPr/>
        <a:lstStyle/>
        <a:p>
          <a:endParaRPr lang="ru-RU"/>
        </a:p>
      </dgm:t>
    </dgm:pt>
    <dgm:pt modelId="{66DF26D7-199F-4676-9A2C-EE092C4A0C07}" type="pres">
      <dgm:prSet presAssocID="{1F42A3F6-7752-46E1-B405-A079A9A9E262}" presName="connectorText" presStyleLbl="sibTrans2D1" presStyleIdx="0" presStyleCnt="2"/>
      <dgm:spPr/>
      <dgm:t>
        <a:bodyPr/>
        <a:lstStyle/>
        <a:p>
          <a:endParaRPr lang="ru-RU"/>
        </a:p>
      </dgm:t>
    </dgm:pt>
    <dgm:pt modelId="{46B89F48-1DF8-45FB-A15F-564A39FAAA5A}" type="pres">
      <dgm:prSet presAssocID="{1FB6B0E4-F180-4D7F-8BF5-8567DD2DFC14}" presName="node" presStyleLbl="node1" presStyleIdx="1" presStyleCnt="3" custScaleX="20634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D9F9995-D0AC-40B5-B3F8-A1C54D4ECC79}" type="pres">
      <dgm:prSet presAssocID="{CFD73E10-80C7-4848-A7F3-639E0C274379}" presName="sibTrans" presStyleLbl="sibTrans2D1" presStyleIdx="1" presStyleCnt="2"/>
      <dgm:spPr/>
      <dgm:t>
        <a:bodyPr/>
        <a:lstStyle/>
        <a:p>
          <a:endParaRPr lang="ru-RU"/>
        </a:p>
      </dgm:t>
    </dgm:pt>
    <dgm:pt modelId="{81A5B055-B77D-4054-9748-4F26C7C64636}" type="pres">
      <dgm:prSet presAssocID="{CFD73E10-80C7-4848-A7F3-639E0C274379}" presName="connectorText" presStyleLbl="sibTrans2D1" presStyleIdx="1" presStyleCnt="2"/>
      <dgm:spPr/>
      <dgm:t>
        <a:bodyPr/>
        <a:lstStyle/>
        <a:p>
          <a:endParaRPr lang="ru-RU"/>
        </a:p>
      </dgm:t>
    </dgm:pt>
    <dgm:pt modelId="{B0487CBE-21E9-4B04-9671-89B5958616DF}" type="pres">
      <dgm:prSet presAssocID="{0F9A095E-E632-456A-AF37-A7ACA4025CAB}" presName="node" presStyleLbl="node1" presStyleIdx="2" presStyleCnt="3" custScaleX="20634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E232842-0A87-4A75-B37B-608BA926B129}" type="presOf" srcId="{F17B7F0D-4A74-4243-A4C7-B6C6235683AB}" destId="{6556B0D8-413C-4AB6-A6F5-DD567EE3EC68}" srcOrd="0" destOrd="0" presId="urn:microsoft.com/office/officeart/2005/8/layout/process2"/>
    <dgm:cxn modelId="{7273FB9A-9179-4E4F-B20E-23F1921D5486}" type="presOf" srcId="{1F42A3F6-7752-46E1-B405-A079A9A9E262}" destId="{66DF26D7-199F-4676-9A2C-EE092C4A0C07}" srcOrd="1" destOrd="0" presId="urn:microsoft.com/office/officeart/2005/8/layout/process2"/>
    <dgm:cxn modelId="{2854E2E6-7886-4C3A-B021-D765F3F2BEEB}" type="presOf" srcId="{1F42A3F6-7752-46E1-B405-A079A9A9E262}" destId="{F67F4E36-AF5E-4C57-BFCB-FDC8DC4DFE1E}" srcOrd="0" destOrd="0" presId="urn:microsoft.com/office/officeart/2005/8/layout/process2"/>
    <dgm:cxn modelId="{E2E93D2C-BCED-4BD6-9EF0-C0D470D0151F}" srcId="{6D79A20A-8668-4BAC-8907-27A31E29F35F}" destId="{F17B7F0D-4A74-4243-A4C7-B6C6235683AB}" srcOrd="0" destOrd="0" parTransId="{284D60B2-BBE0-4A83-9B4D-D44982C9011E}" sibTransId="{1F42A3F6-7752-46E1-B405-A079A9A9E262}"/>
    <dgm:cxn modelId="{A0E3D8C4-8DFD-4E9E-BE56-F9F12C3C1AFE}" type="presOf" srcId="{CFD73E10-80C7-4848-A7F3-639E0C274379}" destId="{2D9F9995-D0AC-40B5-B3F8-A1C54D4ECC79}" srcOrd="0" destOrd="0" presId="urn:microsoft.com/office/officeart/2005/8/layout/process2"/>
    <dgm:cxn modelId="{C70CF9F6-51C5-4409-889C-8502E84B4B1F}" type="presOf" srcId="{1FB6B0E4-F180-4D7F-8BF5-8567DD2DFC14}" destId="{46B89F48-1DF8-45FB-A15F-564A39FAAA5A}" srcOrd="0" destOrd="0" presId="urn:microsoft.com/office/officeart/2005/8/layout/process2"/>
    <dgm:cxn modelId="{B86921BA-940E-41F4-9CED-E7B5FD505BA7}" srcId="{6D79A20A-8668-4BAC-8907-27A31E29F35F}" destId="{0F9A095E-E632-456A-AF37-A7ACA4025CAB}" srcOrd="2" destOrd="0" parTransId="{353C0ED5-94A4-4CFC-9507-8B6FD7211BFA}" sibTransId="{7DAEF82D-8322-4BA4-B00F-85CA895D001F}"/>
    <dgm:cxn modelId="{6459D8FF-5182-4FB6-BCF0-6E3B1D91F0B5}" srcId="{6D79A20A-8668-4BAC-8907-27A31E29F35F}" destId="{1FB6B0E4-F180-4D7F-8BF5-8567DD2DFC14}" srcOrd="1" destOrd="0" parTransId="{9B56383F-A196-4455-84B6-44F9D6FC7C52}" sibTransId="{CFD73E10-80C7-4848-A7F3-639E0C274379}"/>
    <dgm:cxn modelId="{61043C4E-2DD0-41EF-9F07-5B4F81F9D6E5}" type="presOf" srcId="{0F9A095E-E632-456A-AF37-A7ACA4025CAB}" destId="{B0487CBE-21E9-4B04-9671-89B5958616DF}" srcOrd="0" destOrd="0" presId="urn:microsoft.com/office/officeart/2005/8/layout/process2"/>
    <dgm:cxn modelId="{CD24A7D3-CBF9-43AF-9EAA-C2BA15A158C9}" type="presOf" srcId="{6D79A20A-8668-4BAC-8907-27A31E29F35F}" destId="{E47547B8-5DD1-4F76-84C4-C3BE9CD500EA}" srcOrd="0" destOrd="0" presId="urn:microsoft.com/office/officeart/2005/8/layout/process2"/>
    <dgm:cxn modelId="{7BCA6B1F-AC02-406E-83E1-46B435BE5A97}" type="presOf" srcId="{CFD73E10-80C7-4848-A7F3-639E0C274379}" destId="{81A5B055-B77D-4054-9748-4F26C7C64636}" srcOrd="1" destOrd="0" presId="urn:microsoft.com/office/officeart/2005/8/layout/process2"/>
    <dgm:cxn modelId="{580D4F47-08FE-42DC-A23A-6AF482B9E9A3}" type="presParOf" srcId="{E47547B8-5DD1-4F76-84C4-C3BE9CD500EA}" destId="{6556B0D8-413C-4AB6-A6F5-DD567EE3EC68}" srcOrd="0" destOrd="0" presId="urn:microsoft.com/office/officeart/2005/8/layout/process2"/>
    <dgm:cxn modelId="{B5D92237-2EC7-49E9-8F10-BD27A762FBBE}" type="presParOf" srcId="{E47547B8-5DD1-4F76-84C4-C3BE9CD500EA}" destId="{F67F4E36-AF5E-4C57-BFCB-FDC8DC4DFE1E}" srcOrd="1" destOrd="0" presId="urn:microsoft.com/office/officeart/2005/8/layout/process2"/>
    <dgm:cxn modelId="{D7CB713D-3C0E-468B-95DF-37D9CD6BA7A6}" type="presParOf" srcId="{F67F4E36-AF5E-4C57-BFCB-FDC8DC4DFE1E}" destId="{66DF26D7-199F-4676-9A2C-EE092C4A0C07}" srcOrd="0" destOrd="0" presId="urn:microsoft.com/office/officeart/2005/8/layout/process2"/>
    <dgm:cxn modelId="{9834C24F-C3DD-43D3-B03D-7753D021A564}" type="presParOf" srcId="{E47547B8-5DD1-4F76-84C4-C3BE9CD500EA}" destId="{46B89F48-1DF8-45FB-A15F-564A39FAAA5A}" srcOrd="2" destOrd="0" presId="urn:microsoft.com/office/officeart/2005/8/layout/process2"/>
    <dgm:cxn modelId="{E3D6346E-F2DB-47C4-863E-A2D89502EF09}" type="presParOf" srcId="{E47547B8-5DD1-4F76-84C4-C3BE9CD500EA}" destId="{2D9F9995-D0AC-40B5-B3F8-A1C54D4ECC79}" srcOrd="3" destOrd="0" presId="urn:microsoft.com/office/officeart/2005/8/layout/process2"/>
    <dgm:cxn modelId="{A58214AC-0BFE-4C94-9CA8-7953828E4EBC}" type="presParOf" srcId="{2D9F9995-D0AC-40B5-B3F8-A1C54D4ECC79}" destId="{81A5B055-B77D-4054-9748-4F26C7C64636}" srcOrd="0" destOrd="0" presId="urn:microsoft.com/office/officeart/2005/8/layout/process2"/>
    <dgm:cxn modelId="{202D4DBB-4795-4C13-A739-9C2BB757974D}" type="presParOf" srcId="{E47547B8-5DD1-4F76-84C4-C3BE9CD500EA}" destId="{B0487CBE-21E9-4B04-9671-89B5958616DF}" srcOrd="4" destOrd="0" presId="urn:microsoft.com/office/officeart/2005/8/layout/process2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9">
  <dgm:title val=""/>
  <dgm:desc val=""/>
  <dgm:catLst>
    <dgm:cat type="process" pri="5000"/>
    <dgm:cat type="convert" pri="1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CompostProcess">
    <dgm:varLst>
      <dgm:dir/>
      <dgm:resizeHandles val="exact"/>
    </dgm:varLst>
    <dgm:alg type="composite">
      <dgm:param type="horzAlign" val="ctr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arrow" refType="w" fact="0.85"/>
      <dgm:constr type="h" for="ch" forName="arrow" refType="h"/>
      <dgm:constr type="ctrX" for="ch" forName="arrow" refType="w" fact="0.5"/>
      <dgm:constr type="ctrY" for="ch" forName="arrow" refType="h" fact="0.5"/>
      <dgm:constr type="w" for="ch" forName="linearProcess" refType="w"/>
      <dgm:constr type="h" for="ch" forName="linearProcess" refType="h" fact="0.4"/>
      <dgm:constr type="ctrX" for="ch" forName="linearProcess" refType="w" fact="0.5"/>
      <dgm:constr type="ctrY" for="ch" forName="linearProcess" refType="h" fact="0.5"/>
    </dgm:constrLst>
    <dgm:ruleLst/>
    <dgm:layoutNode name="arrow" styleLbl="bgShp">
      <dgm:alg type="sp"/>
      <dgm:choose name="Name0">
        <dgm:if name="Name1" func="var" arg="dir" op="equ" val="norm">
          <dgm:shape xmlns:r="http://schemas.openxmlformats.org/officeDocument/2006/relationships" type="rightArrow" r:blip="">
            <dgm:adjLst/>
          </dgm:shape>
        </dgm:if>
        <dgm:else name="Name2">
          <dgm:shape xmlns:r="http://schemas.openxmlformats.org/officeDocument/2006/relationships" type="leftArrow" r:blip="">
            <dgm:adjLst/>
          </dgm:shape>
        </dgm:else>
      </dgm:choose>
      <dgm:presOf/>
      <dgm:constrLst/>
      <dgm:ruleLst/>
    </dgm:layoutNode>
    <dgm:layoutNode name="linearProcess">
      <dgm:choose name="Name3">
        <dgm:if name="Name4" func="var" arg="dir" op="equ" val="norm">
          <dgm:alg type="lin"/>
        </dgm:if>
        <dgm:else name="Name5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userA" for="ch" ptType="node" refType="w"/>
        <dgm:constr type="h" for="ch" ptType="node" refType="h"/>
        <dgm:constr type="w" for="ch" ptType="node" op="equ"/>
        <dgm:constr type="w" for="ch" forName="sibTrans" refType="w" fact="0.05"/>
        <dgm:constr type="primFontSz" for="ch" ptType="node" op="equ" val="65"/>
      </dgm:constrLst>
      <dgm:ruleLst/>
      <dgm:forEach name="Name6" axis="ch" ptType="node">
        <dgm:layoutNode name="textNode" styleLbl="node1">
          <dgm:varLst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desOrSelf" ptType="node"/>
          <dgm:constrLst>
            <dgm:constr type="userA"/>
            <dgm:constr type="w" refType="userA" fact="0.3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w" val="NaN" fact="1" max="NaN"/>
            <dgm:rule type="primFontSz" val="5" fact="NaN" max="NaN"/>
          </dgm:ruleLst>
        </dgm:layoutNode>
        <dgm:forEach name="Name7" axis="followSib" ptType="sibTrans" cnt="1">
          <dgm:layoutNode name="sibTrans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forEach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rocess2">
  <dgm:title val=""/>
  <dgm:desc val=""/>
  <dgm:catLst>
    <dgm:cat type="process" pri="1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resizeHandles val="exact"/>
    </dgm:varLst>
    <dgm:alg type="lin">
      <dgm:param type="linDir" val="fromT"/>
    </dgm:alg>
    <dgm:shape xmlns:r="http://schemas.openxmlformats.org/officeDocument/2006/relationships" r:blip="">
      <dgm:adjLst/>
    </dgm:shape>
    <dgm:presOf/>
    <dgm:constrLst>
      <dgm:constr type="h" for="ch" ptType="node" refType="h"/>
      <dgm:constr type="h" for="ch" ptType="sibTrans" refType="h" refFor="ch" refPtType="node" fact="0.5"/>
      <dgm:constr type="w" for="ch" ptType="node" op="equ"/>
      <dgm:constr type="primFontSz" for="ch" ptType="node" op="equ" val="65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choose name="Name0">
          <dgm:if name="Name1" axis="root des" ptType="all node" func="maxDepth" op="gt" val="1">
            <dgm:alg type="tx">
              <dgm:param type="parTxLTRAlign" val="l"/>
              <dgm:param type="parTxRTLAlign" val="r"/>
              <dgm:param type="txAnchorVertCh" val="mid"/>
            </dgm:alg>
          </dgm:if>
          <dgm:else name="Name2">
            <dgm:alg type="tx"/>
          </dgm:else>
        </dgm:choose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w" refType="h" fact="1.8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w" val="NaN" fact="4" max="NaN"/>
          <dgm:rule type="primFontSz" val="5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w" refType="h" fact="0.9"/>
            <dgm:constr type="connDist"/>
            <dgm:constr type="wArH" refType="w" fact="0.5"/>
            <dgm:constr type="hArH" refType="w"/>
            <dgm:constr type="stemThick" refType="w" fact="0.6"/>
            <dgm:constr type="begPad" refType="connDist" fact="0.125"/>
            <dgm:constr type="endPad" refType="connDist" fact="0.125"/>
          </dgm:constrLst>
          <dgm:ruleLst/>
          <dgm:layoutNode name="connectorText">
            <dgm:alg type="tx">
              <dgm:param type="autoTxRot" val="upr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99E-69BE-447F-9C64-DD6BF105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3280" y="425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D40-5C7A-46F2-A8D8-F0F16DBB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00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00B9-F1AA-43F9-B444-948CB566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9332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328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9332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4AF-7DAA-4314-9E1A-D182ACD5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3DD2-6EBB-4F9C-8482-ADC2F4C2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5621-C26C-4C6A-9457-7BFFFD50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6DE1-04B0-4A34-824D-C2785E20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F967-1BD0-49F5-9054-7FCD3408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C0FF-59CC-4C34-8531-A314D6EE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3280" y="964800"/>
            <a:ext cx="5797080" cy="55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5761-CFB5-43DA-A5B4-AA792DFB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19C3-6A49-4583-8F50-3FCA6649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E6B-55C1-460C-B751-C7032D3A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00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D957-8CF1-4364-B705-2A2519D6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8544-3DDA-4643-AD7E-94A8E693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3280" y="425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530B-330B-470E-97A5-04716B2F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00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EFED-770B-4F2B-9267-59D745BC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312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9332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328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312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9332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04B4-4082-4F54-B0E2-EE873440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BB0-5E5A-47F1-B5C2-C8C64C52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D05-4626-4892-B1B2-A1C30BF3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B1C-9A8A-49D4-9D7D-0271A8AF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3280" y="964800"/>
            <a:ext cx="5797080" cy="55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88AF-7A61-4777-B835-F8484E61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380-E100-44B1-A29F-09B01095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00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E73-5BDA-4110-84E0-35E7B105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802-31D9-453D-A062-0EF3CD66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2386800"/>
            <a:ext cx="6743520" cy="1645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3800" spc="199" strike="noStrike" cap="all">
                <a:solidFill>
                  <a:srgbClr val="262626"/>
                </a:solidFill>
                <a:latin typeface="Gill Sans MT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866200" y="6238800"/>
            <a:ext cx="20649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ffffff">
                    <a:alpha val="70000"/>
                  </a:srgbClr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>
                    <a:alpha val="70000"/>
                  </a:srgbClr>
                </a:solidFill>
                <a:latin typeface="Gill Sans MT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200240" y="6236280"/>
            <a:ext cx="4425480" cy="3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069040" y="6217920"/>
            <a:ext cx="273960" cy="36540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165E82E-9089-4BEB-9F0F-90D8F892B81F}" type="slidenum">
              <a:rPr b="0" lang="ru-RU" sz="11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ru-RU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ru-RU" sz="1600" spc="-1" strike="noStrike">
              <a:solidFill>
                <a:srgbClr val="ffffff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62626"/>
                </a:solidFill>
                <a:latin typeface="Gill Sans MT"/>
              </a:rPr>
              <a:t>Образец текста</a:t>
            </a: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ill Sans MT"/>
              </a:rPr>
              <a:t>Второй уровень</a:t>
            </a:r>
            <a:endParaRPr b="0" lang="ru-RU" sz="16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ill Sans MT"/>
              </a:rPr>
              <a:t>Третий уровень</a:t>
            </a:r>
            <a:endParaRPr b="0" lang="ru-RU" sz="16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ill Sans MT"/>
              </a:rPr>
              <a:t>Четвертый уровень</a:t>
            </a:r>
            <a:endParaRPr b="0" lang="ru-RU" sz="16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866200" y="6238800"/>
            <a:ext cx="20649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000000">
                    <a:alpha val="70000"/>
                  </a:srgbClr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>
                    <a:alpha val="70000"/>
                  </a:srgbClr>
                </a:solidFill>
                <a:latin typeface="Gill Sans MT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200240" y="6236280"/>
            <a:ext cx="4425480" cy="3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69040" y="6217920"/>
            <a:ext cx="273960" cy="36540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EA363C2-50DB-4DE3-8055-EC2048991F60}" type="slidenum">
              <a:rPr b="0" lang="ru-RU" sz="11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28800" y="1785960"/>
            <a:ext cx="7286400" cy="171432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rmAutofit fontScale="90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51" strike="noStrike">
                <a:solidFill>
                  <a:srgbClr val="262626"/>
                </a:solidFill>
                <a:latin typeface="Gill Sans MT"/>
              </a:rPr>
              <a:t>Товарищество с ограниченной ответственностью</a:t>
            </a:r>
            <a:endParaRPr b="0" lang="ru-RU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86080" y="4786200"/>
            <a:ext cx="5529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51" strike="noStrike">
                <a:solidFill>
                  <a:srgbClr val="ffffff"/>
                </a:solidFill>
                <a:latin typeface="Gill Sans MT"/>
              </a:rPr>
              <a:t>Выполнили: Биримтай Жан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51" strike="noStrike">
                <a:solidFill>
                  <a:srgbClr val="ffffff"/>
                </a:solidFill>
                <a:latin typeface="Gill Sans MT"/>
              </a:rPr>
              <a:t>Бой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51" strike="noStrike">
                <a:solidFill>
                  <a:srgbClr val="ffffff"/>
                </a:solidFill>
                <a:latin typeface="Gill Sans MT"/>
              </a:rPr>
              <a:t>Проверила: Баетова М.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643520" cy="9284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Обязанности участников то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1412378675"/>
              </p:ext>
            </p:extLst>
          </p:nvPr>
        </p:nvGraphicFramePr>
        <p:xfrm>
          <a:off x="357120" y="1571760"/>
          <a:ext cx="8500680" cy="5000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1480" y="2071800"/>
            <a:ext cx="8500680" cy="20714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800" spc="199" strike="noStrike" cap="all">
                <a:solidFill>
                  <a:srgbClr val="262626"/>
                </a:solidFill>
                <a:latin typeface="Gill Sans MT"/>
              </a:rPr>
              <a:t>Спасибо за внимание!</a:t>
            </a: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85920" y="357120"/>
            <a:ext cx="6571800" cy="99972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 fontScale="96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400" spc="199" strike="noStrike" cap="all">
                <a:solidFill>
                  <a:srgbClr val="262626"/>
                </a:solidFill>
                <a:latin typeface="Gill Sans MT"/>
              </a:rPr>
              <a:t>Товарищество с ограниченной ответственностью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5840" y="1785960"/>
            <a:ext cx="8572320" cy="207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d0d0d"/>
            </a:solidFill>
            <a:round/>
          </a:ln>
        </p:spPr>
        <p:txBody>
          <a:bodyPr anchor="ctr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Gill Sans MT"/>
              </a:rPr>
              <a:t>	</a:t>
            </a:r>
            <a:r>
              <a:rPr b="0" lang="ru-RU" sz="2300" spc="-1" strike="noStrike">
                <a:solidFill>
                  <a:srgbClr val="262626"/>
                </a:solidFill>
                <a:latin typeface="Gill Sans MT"/>
              </a:rPr>
              <a:t>Товариществом с ограниченной ответственностью признается учрежденное одним или несколькими лицами товарищество, уставный капитал которого разделен на доли определенных учредительными документами размеров</a:t>
            </a:r>
            <a:endParaRPr b="0" lang="ru-RU" sz="2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6" name="Picture 2"/>
          <p:cNvSpPr/>
          <p:nvPr/>
        </p:nvSpPr>
        <p:spPr>
          <a:xfrm>
            <a:off x="2178720" y="4214880"/>
            <a:ext cx="4785840" cy="22636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Gill Sans MT"/>
              </a:rPr>
              <a:t>	</a:t>
            </a: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76557203"/>
              </p:ext>
            </p:extLst>
          </p:nvPr>
        </p:nvGraphicFramePr>
        <p:xfrm>
          <a:off x="214200" y="357120"/>
          <a:ext cx="8786520" cy="6214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3280" y="275400"/>
            <a:ext cx="5797080" cy="7956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Регистрация ТО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0882547"/>
              </p:ext>
            </p:extLst>
          </p:nvPr>
        </p:nvGraphicFramePr>
        <p:xfrm>
          <a:off x="285840" y="1285920"/>
          <a:ext cx="8429400" cy="5143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8840" y="261360"/>
            <a:ext cx="6286320" cy="8100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500" spc="199" strike="noStrike" cap="all">
                <a:solidFill>
                  <a:srgbClr val="262626"/>
                </a:solidFill>
                <a:latin typeface="Gill Sans MT"/>
              </a:rPr>
              <a:t>Основной признак тоо</a:t>
            </a:r>
            <a:endParaRPr b="0" lang="ru-RU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143560" cy="1928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d0d0d"/>
            </a:solidFill>
            <a:round/>
          </a:ln>
        </p:spPr>
        <p:txBody>
          <a:bodyPr anchor="ctr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Gill Sans MT"/>
              </a:rPr>
              <a:t>	</a:t>
            </a:r>
            <a:r>
              <a:rPr b="0" lang="ru-RU" sz="2100" spc="-1" strike="noStrike">
                <a:solidFill>
                  <a:srgbClr val="262626"/>
                </a:solidFill>
                <a:latin typeface="Gill Sans MT"/>
              </a:rPr>
              <a:t>Основным признаком ТОО является отсутствие ответственности участников по его долгам. Т.е участники несут риск убытков, связанных с деятельностью ТОО, только в пределах стоимости своих вкладов в уставной капитал</a:t>
            </a:r>
            <a:endParaRPr b="0" lang="ru-RU" sz="21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91" name="Picture 2" descr="ÐÐ°ÑÑÐ¸Ð½ÐºÐ¸ Ð¿Ð¾ Ð·Ð°Ð¿ÑÐ¾ÑÑ Ð³Ð°Ð»Ð¾ÑÐºÐ° ÐºÐ°ÑÐ°Ð½Ð´Ð°Ñ"/>
          <p:cNvPicPr/>
          <p:nvPr/>
        </p:nvPicPr>
        <p:blipFill>
          <a:blip r:embed="rId1"/>
          <a:stretch/>
        </p:blipFill>
        <p:spPr>
          <a:xfrm>
            <a:off x="2356560" y="3571920"/>
            <a:ext cx="4430880" cy="2928600"/>
          </a:xfrm>
          <a:prstGeom prst="rect">
            <a:avLst/>
          </a:prstGeom>
          <a:ln w="28575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3280" y="285840"/>
            <a:ext cx="5797080" cy="7138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 fontScale="91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Участники ТО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400" y="1285920"/>
            <a:ext cx="8214840" cy="1714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d0d0d"/>
            </a:solidFill>
            <a:round/>
          </a:ln>
        </p:spPr>
        <p:txBody>
          <a:bodyPr anchor="ctr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Gill Sans MT"/>
              </a:rPr>
              <a:t>	</a:t>
            </a:r>
            <a:r>
              <a:rPr b="0" lang="ru-RU" sz="2100" spc="-1" strike="noStrike">
                <a:solidFill>
                  <a:srgbClr val="262626"/>
                </a:solidFill>
                <a:latin typeface="Gill Sans MT"/>
              </a:rPr>
              <a:t>Участниками товарищества с ограниченной ответственностью могут являться любые юридические или физические лица, включая иностранные. </a:t>
            </a:r>
            <a:endParaRPr b="0" lang="ru-RU" sz="21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94" name="Picture 2" descr="ÐÐ°ÑÑÐ¸Ð½ÐºÐ¸ Ð¿Ð¾ Ð·Ð°Ð¿ÑÐ¾ÑÑ ÑÑÐ°ÑÑÐ½Ð¸ÐºÐ¸"/>
          <p:cNvPicPr/>
          <p:nvPr/>
        </p:nvPicPr>
        <p:blipFill>
          <a:blip r:embed="rId1"/>
          <a:stretch/>
        </p:blipFill>
        <p:spPr>
          <a:xfrm>
            <a:off x="1607400" y="3286080"/>
            <a:ext cx="5928840" cy="3285720"/>
          </a:xfrm>
          <a:prstGeom prst="rect">
            <a:avLst/>
          </a:prstGeom>
          <a:ln w="28575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64440" y="321840"/>
            <a:ext cx="7214760" cy="8208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 fontScale="77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Уставной Капитал ТОО и имуществ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643600" cy="228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d0d0d"/>
            </a:solidFill>
            <a:round/>
          </a:ln>
        </p:spPr>
        <p:txBody>
          <a:bodyPr anchor="ctr">
            <a:no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Gill Sans MT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Gill Sans MT"/>
              </a:rPr>
              <a:t>Размер уставного капитала определяется учредителями (участниками) товарищества с ограниченной ответственностью. Имущество ТОО формируется с за счет вкладов его учредителей (участников), доходов, полученных товариществом, а также иных источников.</a:t>
            </a:r>
            <a:endParaRPr b="0" lang="ru-RU" sz="25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97" name="Picture 2" descr="ÐÐ°ÑÑÐ¸Ð½ÐºÐ¸ Ð¿Ð¾ Ð·Ð°Ð¿ÑÐ¾ÑÑ ÑÑÑÐ°Ð²Ð½Ð¾Ð¹ ÐºÐ°Ð¿Ð¸ÑÐ°Ð»"/>
          <p:cNvPicPr/>
          <p:nvPr/>
        </p:nvPicPr>
        <p:blipFill>
          <a:blip r:embed="rId1"/>
          <a:stretch/>
        </p:blipFill>
        <p:spPr>
          <a:xfrm>
            <a:off x="1071360" y="4071960"/>
            <a:ext cx="7214760" cy="2295000"/>
          </a:xfrm>
          <a:prstGeom prst="rect">
            <a:avLst/>
          </a:prstGeom>
          <a:ln w="28575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357680" cy="78552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 fontScale="74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Уставной Капитал ТОО и имуществ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1480" y="1285920"/>
            <a:ext cx="8500680" cy="207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d0d0d"/>
            </a:solidFill>
            <a:round/>
          </a:ln>
        </p:spPr>
        <p:txBody>
          <a:bodyPr anchor="ctr">
            <a:normAutofit fontScale="98000"/>
          </a:bodyPr>
          <a:p>
            <a:pPr marL="223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Gill Sans MT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Gill Sans MT"/>
              </a:rPr>
              <a:t>Вкладом участника в уставной капитал ТОО могут быть деньги, ценные бумаги, вещи, имущественные права, в том числе право землепользование и право на результаты интеллектуальной деятельности и иное имущество.</a:t>
            </a:r>
            <a:endParaRPr b="0" lang="ru-RU" sz="25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100" name="Picture 2" descr="ÐÐ°ÑÑÐ¸Ð½ÐºÐ¸ Ð¿Ð¾ Ð·Ð°Ð¿ÑÐ¾ÑÑ ÑÑÑÐ°Ð²Ð½Ð¾Ð¹ ÐºÐ°Ð¿Ð¸ÑÐ°Ð»"/>
          <p:cNvPicPr/>
          <p:nvPr/>
        </p:nvPicPr>
        <p:blipFill>
          <a:blip r:embed="rId1"/>
          <a:stretch/>
        </p:blipFill>
        <p:spPr>
          <a:xfrm>
            <a:off x="1238400" y="3929040"/>
            <a:ext cx="6667200" cy="2633400"/>
          </a:xfrm>
          <a:prstGeom prst="rect">
            <a:avLst/>
          </a:prstGeom>
          <a:ln w="28575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14320" y="285840"/>
            <a:ext cx="5797080" cy="7138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 fontScale="91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Права участников то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570833769"/>
              </p:ext>
            </p:extLst>
          </p:nvPr>
        </p:nvGraphicFramePr>
        <p:xfrm>
          <a:off x="357120" y="1285920"/>
          <a:ext cx="8357760" cy="5143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arcel">
  <a:themeElements>
    <a:clrScheme name="Parcel">
      <a:dk1>
        <a:srgbClr val="000000"/>
      </a:dk1>
      <a:lt1>
        <a:srgbClr val="ffffff"/>
      </a:lt1>
      <a:dk2>
        <a:srgbClr val="4a5356"/>
      </a:dk2>
      <a:lt2>
        <a:srgbClr val="e8e3ce"/>
      </a:lt2>
      <a:accent1>
        <a:srgbClr val="f6a21d"/>
      </a:accent1>
      <a:accent2>
        <a:srgbClr val="9bafb5"/>
      </a:accent2>
      <a:accent3>
        <a:srgbClr val="c96731"/>
      </a:accent3>
      <a:accent4>
        <a:srgbClr val="9ca383"/>
      </a:accent4>
      <a:accent5>
        <a:srgbClr val="87795d"/>
      </a:accent5>
      <a:accent6>
        <a:srgbClr val="a0988c"/>
      </a:accent6>
      <a:hlink>
        <a:srgbClr val="00b0f0"/>
      </a:hlink>
      <a:folHlink>
        <a:srgbClr val="738f9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arcel">
  <a:themeElements>
    <a:clrScheme name="Parcel">
      <a:dk1>
        <a:srgbClr val="000000"/>
      </a:dk1>
      <a:lt1>
        <a:srgbClr val="ffffff"/>
      </a:lt1>
      <a:dk2>
        <a:srgbClr val="4a5356"/>
      </a:dk2>
      <a:lt2>
        <a:srgbClr val="e8e3ce"/>
      </a:lt2>
      <a:accent1>
        <a:srgbClr val="f6a21d"/>
      </a:accent1>
      <a:accent2>
        <a:srgbClr val="9bafb5"/>
      </a:accent2>
      <a:accent3>
        <a:srgbClr val="c96731"/>
      </a:accent3>
      <a:accent4>
        <a:srgbClr val="9ca383"/>
      </a:accent4>
      <a:accent5>
        <a:srgbClr val="87795d"/>
      </a:accent5>
      <a:accent6>
        <a:srgbClr val="a0988c"/>
      </a:accent6>
      <a:hlink>
        <a:srgbClr val="00b0f0"/>
      </a:hlink>
      <a:folHlink>
        <a:srgbClr val="738f9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Тема посылка</Template>
  <TotalTime>102</TotalTime>
  <Application>LibreOffice/7.4.7.2$Linux_X86_64 LibreOffice_project/40$Build-2</Application>
  <AppVersion>15.0000</AppVersion>
  <Words>160</Words>
  <Paragraphs>31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5T16:35:25Z</dcterms:created>
  <dc:creator>1</dc:creator>
  <dc:description/>
  <dc:language>en-US</dc:language>
  <cp:lastModifiedBy>1</cp:lastModifiedBy>
  <dcterms:modified xsi:type="dcterms:W3CDTF">2018-11-08T14:34:57Z</dcterms:modified>
  <cp:revision>15</cp:revision>
  <dc:subject/>
  <dc:title>Товарищество с ограниченной ответственност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