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7512-6718-40F7-9837-36F0FCFE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273EE-6321-4767-92E6-68C8B54B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E5DC6-542C-42C0-AA3C-853CCDA2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EC7A-966A-4DC1-ADC7-B55F3D5C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503C-FED5-4772-A0CB-873B5F7C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9BE6-AFEA-4950-99DF-915EDE7A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75E2-F5E9-46B1-B507-6CDB458A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D57D-8856-43E0-AC4E-EDFD197A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0206-DCE6-482D-A9E9-9C53241E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534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F91F-4363-437B-8E93-92A877C7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9E3B-BD59-4220-BFB1-96B32126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F4D77-5F76-4B3F-B06B-0E7D62C5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1732-DDA3-462F-9D86-5212A4C4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0FC1-8AF9-47C2-BF5D-C9203AE7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322B-877B-458A-A54C-C089692F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9531-5EDE-4659-83E9-A187F614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D779-DE65-4E35-BA96-46542B03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145D-75F0-477A-9BBA-6A0C99F1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623E-FB83-42DD-BF34-6F184931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DF54-C287-4D4C-BFC7-468B514C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534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7CBB-D369-4C6B-9035-94225B28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E2E3-3744-43A9-9902-3ACAFD2F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A4636-9251-4255-9F55-BCA10739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D265-B91F-4F43-93E9-7269B83E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двумя скругленными противолежащими углами 6" hidden="1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1" name="Прямоугольник с двумя скругленными противолежащими углами 6"/>
          <p:cNvSpPr/>
          <p:nvPr/>
        </p:nvSpPr>
        <p:spPr>
          <a:xfrm>
            <a:off x="164520" y="146160"/>
            <a:ext cx="8814600" cy="250524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4400" y="380880"/>
            <a:ext cx="8229240" cy="2209320"/>
          </a:xfrm>
          <a:prstGeom prst="rect">
            <a:avLst/>
          </a:prstGeom>
          <a:noFill/>
          <a:ln w="0">
            <a:noFill/>
          </a:ln>
        </p:spPr>
        <p:txBody>
          <a:bodyPr lIns="45720" rIns="2286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e6e9cb"/>
                </a:solidFill>
                <a:latin typeface="Rockwell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562720" y="650916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638920" y="65091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5d6c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D5E284-1BFF-4161-B823-68945E56E649}" type="slidenum">
              <a:rPr b="0" lang="ru-RU" sz="1600" spc="-1" strike="noStrike">
                <a:solidFill>
                  <a:srgbClr val="d5d6c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1600200" y="6509160"/>
            <a:ext cx="390708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с двумя скругленными противолежащими углами 6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88240" y="1424520"/>
            <a:ext cx="8000640" cy="8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algn="tl" blurRad="12600" dir="5400000" dist="12960" rotWithShape="0">
              <a:srgbClr val="000000">
                <a:alpha val="7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Symbol" charset="2"/>
              <a:buChar char=""/>
            </a:pPr>
            <a:r>
              <a:rPr b="0" lang="ru-RU" sz="2600" spc="-1" strike="noStrike">
                <a:solidFill>
                  <a:srgbClr val="ffffff"/>
                </a:solidFill>
                <a:latin typeface="Rockwel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960" indent="-191880">
              <a:lnSpc>
                <a:spcPct val="10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3" marL="1005840" indent="-182880">
              <a:lnSpc>
                <a:spcPct val="10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4" marL="1188720" indent="-182880">
              <a:lnSpc>
                <a:spcPct val="10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Пятый уровень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562720" y="640080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295280" y="6400800"/>
            <a:ext cx="421200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638920" y="65145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6C88F2-E1B6-4488-A4B4-FB413D5D9132}" type="slidenum">
              <a:rPr b="0" lang="ru-R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4400" y="380880"/>
            <a:ext cx="8229240" cy="2209320"/>
          </a:xfrm>
          <a:prstGeom prst="rect">
            <a:avLst/>
          </a:prstGeom>
          <a:noFill/>
          <a:ln w="0">
            <a:noFill/>
          </a:ln>
        </p:spPr>
        <p:txBody>
          <a:bodyPr lIns="45720" rIns="2286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7200" spc="-1" strike="noStrike">
                <a:solidFill>
                  <a:srgbClr val="000000"/>
                </a:solidFill>
                <a:latin typeface="Rockwell"/>
              </a:rPr>
              <a:t>Описторхоз</a:t>
            </a:r>
            <a:endParaRPr b="0" lang="ru-RU" sz="7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57280" y="4857840"/>
            <a:ext cx="6400440" cy="1599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5000" bIns="4500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229240" cy="61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83680" indent="-28368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Тифоподобный вариант: остро, температура 38-39,озноб, при осмотре могут отмечаться легкая субиктеричность, кожные высыпания (розеолезная, розеолезно-папулёзная, петехиальная сыпь), лимфаденопатия, умеренное увеличение печени, селезенки. В лёгких могут обнаруживаться летучие эозинофильные инфильтраты. В анализе крови: лейкемоидная эозинофильная реакция (лейкоцитоз до 20-30×109 /л, эозинофилия до 80-90%), ускорение СОЭ до 30-40 мм/ч. 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640" y="332640"/>
            <a:ext cx="8424720" cy="61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3000"/>
          </a:bodyPr>
          <a:p>
            <a:pPr marL="262440" indent="-26244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Гепатохолангитический: подострое начало, фебрильная температура, больные жалуются на боли в правом подреберье (иррадиирующие в спину, правое плечо), реже - в эпигастральной области. Печень увеличена, болезненна при пальпации. Симптомы Ортнера, Керра, Мюсси часто положительные. Более чем у 80% больных выявляется цитолитический синдром с повышением активности аминотрансфераз в 2-7 раз по сравнению с нормой, развивается мезенхимально-воспалительный печеночный синдром, гипербилирубинемия, может наблюдаться холестаз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Гастроэнтнроколитический вариант острого описторхоза характеризуется непродолжительным лихорадочным периодом. В большей степени выражены изменения со стороны желудка и кишечника. Больные жалуются на боли и ощущение тяжести в эпигастрии, тошноту, рвоту, изжогу, отсутствие аппетита, появляются частый жидкий стул, метеоризм, боли вокруг пупка и по ходу толстой кишки. При фиброгастроскопии обнаруживают эрозивногеморрагический гастродуоденит, язвы желудка и ДПК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Хронический описторхоз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55240" indent="-2552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Хронический холецистит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55240" indent="-2552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Хронический гастродуоденит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55240" indent="-2552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Хронический панкреатит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55240" indent="-2552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Для большинства больных с длительностью инвазии 5 лет и более характерна гипомоторная дискинезия желчного пузыря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55240" indent="-2552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Аллергический синдром при хроническом описторхозе может проявляться кожным зудом, крапивницей, рецидивирующим отёком Квинке, артралгией, пищевой аллергией, умеренной эозинофилией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Диагностика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606520" cy="52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71080" indent="-27108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Копроовоскопия: выявление на 4 неделе после заражения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71080" indent="-27108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паразитологический метод - выявление яиц гельминта и самих описторхисов в дуоденальном содержимом, кроме того, при микроскопии дуоденального содержимого определяется увеличение количества лейкоцитов, эпителиальных клеток, детрита, кристаллов билирубина и холестерина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71080" indent="-27108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серологический метод - ИФА с антигенами гельминта (недостаточно специфичен и чувствителен)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785880" y="3429000"/>
            <a:ext cx="7857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2292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Дуодельное зондирование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Поскольку яйца анкилостомид имеют одинаковое строение, идентификация гельминтов (анкилостом и некаторов) возможна лишь после проведения дегельминтизации и отхождения с калом взрослых особей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Лечение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2960" y="1700640"/>
            <a:ext cx="7772040" cy="51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3 этапа: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1) подготовительный (базисная патогенетическая терапия);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2) специфическая химиотерапия;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3) реабилитационный восстановительный этап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640" y="332640"/>
            <a:ext cx="842472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1 этап: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-диета ЩД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Десенсибилизирующая терапия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Холеретики(холензим) или холекинетики(холецистокинин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d.</a:t>
            </a: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холестаза- гепатопротекторы(урсофальк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Прокинетики(мотилиум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Спазмолитики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2 этап: празиквантель( бильтрицид) 60 мг/кг в 2-3 према с интервалом в 4 часа в течение 1 суток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e6e9cb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80440" indent="-280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Критериями освобождения от гельминтов являются отрицательные результаты трёхкратной копроовоскопии и однократного дуоденального зондирования (исследования проводятся через 3 и 6 месяцев после лечения). Больные, перенесшие описторхоз, в зависимости от наличия и интенсивности остаточных явлений, находятся на диспансерном наблюдении до 1 года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Профилактика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500040" y="1357200"/>
            <a:ext cx="69292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Rockwell"/>
              </a:rPr>
              <a:t>Употребление в пищу обеззараженной рыбы, что достигается термической обработкой, замораживанием, копчением, солением в соответствии с разработанными рекоменд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57120" y="332640"/>
            <a:ext cx="8390880" cy="61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1960" indent="-29196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Arial Unicode MS"/>
              </a:rPr>
              <a:t>Описторхоз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— гельминтоз, поражающий преимущественно гепатобилиарную систему и поджелудочную железу, отличающийся длительным течением, протекающий с частыми обострениями, способствующий возникновению первичного рака печени и поджелудочной железы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361960" cy="1980720"/>
          </a:xfrm>
          <a:prstGeom prst="rect">
            <a:avLst/>
          </a:prstGeom>
          <a:ln w="9525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2971800" y="3733920"/>
            <a:ext cx="3352320" cy="2437920"/>
          </a:xfrm>
          <a:prstGeom prst="rect">
            <a:avLst/>
          </a:prstGeom>
          <a:ln w="9525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6400800" y="3809880"/>
            <a:ext cx="2437920" cy="2057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7772040" cy="48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61000" indent="-26100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Возбудитель описторхоза - Opisthorchis felineus - двуустка кошачья, двуустка сибирская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1000" indent="-26100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Имеет плоское тело длиной 4-13 мм и шириной 1,2-3,5 мм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1000" indent="-26100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отовая присоска — у переднего конца тела, брюшная - на границе первой и второй четвертей тела. Яйца бледно-желтой окраски, с нежной двухконтурной оболочкой, с крышечкой на одном полюсе и утолщением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1000" indent="-26100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корлупы на противоположном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1000" indent="-26100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онце; их размер 0,010—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1000" indent="-26100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0,019 х 023—0,034 мм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5292000" y="4077000"/>
            <a:ext cx="3352320" cy="2437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Характеристика гельминтов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53800" indent="-25380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Ареал распространения: Описторхоз часто встречается у населения бассейнов рек Оби и Иртыша (Западная Сибирь, Казахская Республика), Камы (Пермская область), Днепра (некоторые районы Украины), зарегистрирован в бассейнах Волги, Дона, Донца, Северной Двины, Немана. В последнее время наблюдается распространение этого гельминтоза в неэндемичных регионах, что связано с возросшей миграцией населения, ростом удельного веса рыбы в рационе питания, недостаточным контролем за ее переработкой и приготовлением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Биогельминт (перроральный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Природно-очаговая инфазия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Человек является окончательным хозяином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Механизм заражения ф-о, путь передачи алиментарный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2 промежуточных хозяина: пресноводные моллюски и рыбы семейства карповых(язь, елец, чебак, плотва, вобла, линь, красноперка, сазан, лещ, густера, подуст, жерех, уклея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Жизненный цикл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8" name="Содержимое 5" descr="tsikl-opistorhoza-v-cheloveke-3.jpg"/>
          <p:cNvPicPr/>
          <p:nvPr/>
        </p:nvPicPr>
        <p:blipFill>
          <a:blip r:embed="rId1"/>
          <a:stretch/>
        </p:blipFill>
        <p:spPr>
          <a:xfrm>
            <a:off x="539640" y="1484640"/>
            <a:ext cx="8208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Классификация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1. Острый описторхоз: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1.1. Латентный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1.2. Клинически выраженный: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- легкая форма;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- среднетяжелая форма;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- тяжелая форма: а) тифоподобный вариант; б) гепатохолангитический вариант; в) гастроэнтероколитический вариант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2. Суперинвазия в острой стадии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3. Хронический описторхоз: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3.1. Латентный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3.2. Клинически выраженный: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а) холангит,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б) холангиохолецистит,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в) холангиогепатит,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г) гепатопанкреатит,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д) холангитический цирроз печени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4. Суперинвазия в хронической стадии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5. Реинвазия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6. Резидуальные явления после избавления от описторхоза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294300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Клиника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462880" cy="538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Инкубационный период: 2-4 недели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Острый период(гиперлейкоцитоз эозинофильного типа и лихорадочная реакция различной степени выраженности (постоянная или ремитирующая лихорадка от субфебрильной до 40-410С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Латентный период(ч/з 2-4 недели): лихорадка исчезает, но появляются боли в правом подреберье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oundry</Template>
  <TotalTime>225</TotalTime>
  <Application>LibreOffice/7.4.7.2$Linux_X86_64 LibreOffice_project/40$Build-2</Application>
  <AppVersion>15.0000</AppVersion>
  <Words>857</Words>
  <Paragraphs>71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23:36:47Z</dcterms:created>
  <dc:creator>ABC</dc:creator>
  <dc:description/>
  <dc:language>en-US</dc:language>
  <cp:lastModifiedBy>царъ</cp:lastModifiedBy>
  <dcterms:modified xsi:type="dcterms:W3CDTF">2018-09-26T12:58:06Z</dcterms:modified>
  <cp:revision>24</cp:revision>
  <dc:subject/>
  <dc:title>Анкилостомидоз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