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D23-9254-41F6-82A1-2263AB353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DC3-7D9A-42EE-94F2-8057DBA1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5822-2FA6-4619-BAB4-2684BC5B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345-F3C5-4290-A5C6-7EEA3751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7E17-AE83-470C-B496-A34EF24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638F-5868-47BF-A7E0-4626345B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5DF3-99AD-4322-ACD0-02C90BE4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EBDC-5FA5-4DA7-AB32-D5D70B6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1F95-DB7F-4A57-9D89-944E47C4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0509-7057-43F6-A09F-45DA1EB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7B94-5472-4486-B44E-E5A2433E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CF8-3F44-49A9-AB15-46BEB6E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620E3-936C-457E-9B6B-54E09E64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FFEC-7575-4245-A669-DA27B935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4E26-10DA-428C-8313-DC68F167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5E9-BC98-4D30-A657-DB9BE389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701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55520" y="6858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436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701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55520" y="257400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DE62-2BB0-4613-8248-CDAFDAF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6BB-8E6B-4573-80AC-DB7FB099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19D-7822-45DE-91F1-DFA091EA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B48-EDF1-46CB-887D-E80AA434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C37-40B7-4BBD-8012-4BD757EF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361-3115-4551-80DD-C084EE74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57280" y="25740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9D10-87B9-4D81-A7B5-DC98935A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68580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257400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1FC9-E957-465B-BF7C-C05CF087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1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2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3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4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8000640" cy="29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4293F2-5EBE-4E94-B0F4-ABB3D2DA238B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15"/>
          <p:cNvCxnSpPr/>
          <p:nvPr/>
        </p:nvCxnSpPr>
        <p:spPr>
          <a:xfrm flipH="1">
            <a:off x="8227800" y="8280"/>
            <a:ext cx="3810240" cy="3810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1" name="Straight Connector 16"/>
          <p:cNvCxnSpPr/>
          <p:nvPr/>
        </p:nvCxnSpPr>
        <p:spPr>
          <a:xfrm flipH="1">
            <a:off x="6108120" y="91440"/>
            <a:ext cx="6080760" cy="608112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2" name="Straight Connector 18"/>
          <p:cNvCxnSpPr/>
          <p:nvPr/>
        </p:nvCxnSpPr>
        <p:spPr>
          <a:xfrm flipH="1">
            <a:off x="7235640" y="228600"/>
            <a:ext cx="4953240" cy="4953240"/>
          </a:xfrm>
          <a:prstGeom prst="straightConnector1">
            <a:avLst/>
          </a:prstGeom>
          <a:ln cap="rnd" w="12700">
            <a:solidFill>
              <a:srgbClr val="ffffff"/>
            </a:solidFill>
            <a:round/>
          </a:ln>
        </p:spPr>
      </p:cxnSp>
      <p:cxnSp>
        <p:nvCxnSpPr>
          <p:cNvPr id="13" name="Straight Connector 20"/>
          <p:cNvCxnSpPr/>
          <p:nvPr/>
        </p:nvCxnSpPr>
        <p:spPr>
          <a:xfrm flipH="1">
            <a:off x="7335720" y="32040"/>
            <a:ext cx="4853160" cy="485352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cxnSp>
        <p:nvCxnSpPr>
          <p:cNvPr id="14" name="Straight Connector 22"/>
          <p:cNvCxnSpPr/>
          <p:nvPr/>
        </p:nvCxnSpPr>
        <p:spPr>
          <a:xfrm flipH="1">
            <a:off x="7845120" y="609480"/>
            <a:ext cx="4343760" cy="4343760"/>
          </a:xfrm>
          <a:prstGeom prst="straightConnector1">
            <a:avLst/>
          </a:prstGeom>
          <a:ln cap="rnd" w="31750">
            <a:solidFill>
              <a:srgbClr val="ffffff"/>
            </a:solidFill>
            <a:round/>
          </a:ln>
        </p:spPr>
      </p:cxn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10000">
              <a:srgbClr val="acde54"/>
            </a:gs>
            <a:gs pos="100000">
              <a:srgbClr val="4b77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9206640" y="2963160"/>
            <a:ext cx="2981880" cy="3209040"/>
            <a:chOff x="9206640" y="2963160"/>
            <a:chExt cx="2981880" cy="3209040"/>
          </a:xfrm>
        </p:grpSpPr>
        <p:cxnSp>
          <p:nvCxnSpPr>
            <p:cNvPr id="53" name="Straight Connector 7"/>
            <p:cNvCxnSpPr/>
            <p:nvPr/>
          </p:nvCxnSpPr>
          <p:spPr>
            <a:xfrm flipH="1">
              <a:off x="11275920" y="2963160"/>
              <a:ext cx="912960" cy="91332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4" name="Straight Connector 8"/>
            <p:cNvCxnSpPr/>
            <p:nvPr/>
          </p:nvCxnSpPr>
          <p:spPr>
            <a:xfrm flipH="1">
              <a:off x="9206640" y="3190320"/>
              <a:ext cx="2982240" cy="29822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5" name="Straight Connector 9"/>
            <p:cNvCxnSpPr/>
            <p:nvPr/>
          </p:nvCxnSpPr>
          <p:spPr>
            <a:xfrm flipH="1">
              <a:off x="10292040" y="3285000"/>
              <a:ext cx="1896840" cy="1896840"/>
            </a:xfrm>
            <a:prstGeom prst="straightConnector1">
              <a:avLst/>
            </a:prstGeom>
            <a:ln cap="rnd" w="9525">
              <a:solidFill>
                <a:srgbClr val="ffffff"/>
              </a:solidFill>
              <a:round/>
            </a:ln>
          </p:spPr>
        </p:cxnSp>
        <p:cxnSp>
          <p:nvCxnSpPr>
            <p:cNvPr id="56" name="Straight Connector 10"/>
            <p:cNvCxnSpPr/>
            <p:nvPr/>
          </p:nvCxnSpPr>
          <p:spPr>
            <a:xfrm flipH="1">
              <a:off x="10442880" y="3130920"/>
              <a:ext cx="1746000" cy="174600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  <p:cxnSp>
          <p:nvCxnSpPr>
            <p:cNvPr id="57" name="Straight Connector 11"/>
            <p:cNvCxnSpPr/>
            <p:nvPr/>
          </p:nvCxnSpPr>
          <p:spPr>
            <a:xfrm flipH="1">
              <a:off x="10918800" y="3682800"/>
              <a:ext cx="1270080" cy="1270440"/>
            </a:xfrm>
            <a:prstGeom prst="straightConnector1">
              <a:avLst/>
            </a:prstGeom>
            <a:ln cap="rnd" w="28575">
              <a:solidFill>
                <a:srgbClr val="ffffff"/>
              </a:solidFill>
              <a:round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4360" y="68580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3e5e08"/>
                </a:solidFill>
                <a:latin typeface="Century Gothic"/>
              </a:rPr>
              <a:t>Образец текста</a:t>
            </a: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800" spc="-1" strike="noStrike">
                <a:solidFill>
                  <a:srgbClr val="3e5e08"/>
                </a:solidFill>
                <a:latin typeface="Century Gothic"/>
              </a:rPr>
              <a:t>Второй уровень</a:t>
            </a:r>
            <a:endParaRPr b="0" lang="ru-RU" sz="18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3e5e08"/>
                </a:solidFill>
                <a:latin typeface="Century Gothic"/>
              </a:rPr>
              <a:t>Третий уровень</a:t>
            </a:r>
            <a:endParaRPr b="0" lang="ru-RU" sz="16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Четвер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3e5e08"/>
                </a:solidFill>
                <a:latin typeface="Century Gothic"/>
              </a:rPr>
              <a:t>Пятый уровень</a:t>
            </a:r>
            <a:endParaRPr b="0" lang="ru-RU" sz="14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293e05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3200" spc="-1" strike="noStrike">
                <a:solidFill>
                  <a:srgbClr val="293e05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597FBE-00DD-4711-AF48-34F2F097D225}" type="slidenum">
              <a:rPr b="0" lang="ru-RU" sz="3200" spc="-1" strike="noStrike">
                <a:solidFill>
                  <a:srgbClr val="293e05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"/>
          <p:cNvSpPr/>
          <p:nvPr/>
        </p:nvSpPr>
        <p:spPr>
          <a:xfrm>
            <a:off x="2729520" y="295560"/>
            <a:ext cx="63759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ЛИТЕРАТУРНЫЙ 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ПРОЦЕСС</a:t>
            </a:r>
            <a:br>
              <a:rPr sz="5400"/>
            </a:b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Arial"/>
              </a:rPr>
              <a:t>20</a:t>
            </a:r>
            <a:r>
              <a:rPr b="1" i="1" lang="ru-RU" sz="5400" spc="-1" strike="noStrike">
                <a:ln>
                  <a:solidFill>
                    <a:schemeClr val="accent2"/>
                  </a:solidFill>
                </a:ln>
                <a:solidFill>
                  <a:srgbClr val="ffffff"/>
                </a:solidFill>
                <a:latin typeface="Georgia"/>
              </a:rPr>
              <a:t>-Х ГО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4179960" y="407880"/>
            <a:ext cx="283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евый фро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5"/>
          <p:cNvSpPr/>
          <p:nvPr/>
        </p:nvSpPr>
        <p:spPr>
          <a:xfrm>
            <a:off x="1682280" y="1251720"/>
            <a:ext cx="8352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точки зрения участников этой группировки, в задачу искусства входило обеспечение максимального комфорта для производителя материальных ценностей – для отдельной человеко-единицы, стоящей у станка. Индивидуальность человека с его запросами и противоречиями, радостями и горестями была просто неразлич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фовцы приходили даже к идее унификации личности, размышляя об «отчётливо функционирующем человеке». Человек интересовал их, прежде всего, как производитель материальных ценностей. Искусство и должно было, по их мысли, как можно лучше проводить подобную унифик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4"/>
          <p:cNvSpPr/>
          <p:nvPr/>
        </p:nvSpPr>
        <p:spPr>
          <a:xfrm>
            <a:off x="3612240" y="346680"/>
            <a:ext cx="4490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Серапионовы</a:t>
            </a: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3" action="ppaction://hlinksldjump"/>
              </a:rPr>
              <a:t> брат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2228760" y="1164240"/>
            <a:ext cx="8019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феврале 1921 года в петроградском Доме искусств сложился этот круж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него вошли М.Зощенко, В.Каверин, Л.Лунц, К.Федин, Н.Тихонов, критик И.Груздев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Серапионы» защищали традиционные представления об искусстве, о самоценности творчества, об общечеловеческой, а не узкоклассовой значимости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160" y="380160"/>
            <a:ext cx="636948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Орнаментальная проз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2264400" y="1213920"/>
            <a:ext cx="649944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илевое явление, которое связано с организацией прозаического текста по законам текста поэтического: сюжет как способ организации повествования уходит на второй план, наибольшее значение обретают повторы образов, лейтмотивы, ритм, метафоры, ассоциации. Слово становится самоценным, обретает множество метафорических зна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02960" y="320760"/>
            <a:ext cx="1940040" cy="104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 к а з</a:t>
            </a: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2727360" y="1362960"/>
            <a:ext cx="609552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а повествования, которая ориентирована на чужое сознание, на социально иной тип мышления. Поэтому сказ всегда социально окрашен, выражает точку зрения определённого социума: крестьянской или рабочей среды, мещ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0"/>
            <a:ext cx="6280200" cy="68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4300" spc="-1" strike="noStrike">
                <a:solidFill>
                  <a:srgbClr val="000000"/>
                </a:solidFill>
                <a:latin typeface="Times New Roman"/>
              </a:rPr>
              <a:t>Русская литература этого периода полнее и глубже других форм общественного сознания выразила мироощущение нашего соотечественника-мироощущение разорванное, часто трагическое.</a:t>
            </a:r>
            <a:endParaRPr b="0" lang="ru-RU" sz="43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360520" y="0"/>
            <a:ext cx="725544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Направления литературного процесса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4121280" y="3903840"/>
            <a:ext cx="302544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«Потаённа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119960" y="1739520"/>
            <a:ext cx="2808000" cy="165528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русског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Зарубежья</a:t>
            </a:r>
            <a:r>
              <a:rPr b="0" i="1" lang="ru-RU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7318800" y="1811160"/>
            <a:ext cx="2736360" cy="1584000"/>
          </a:xfrm>
          <a:prstGeom prst="rect">
            <a:avLst/>
          </a:prstGeom>
          <a:solidFill>
            <a:schemeClr val="folHlink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Советская</a:t>
            </a:r>
            <a:r>
              <a:rPr b="0" i="1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>
            <a:off x="2718360" y="655560"/>
            <a:ext cx="3024360" cy="1152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5742720" y="655560"/>
            <a:ext cx="360" cy="338436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5742720" y="655560"/>
            <a:ext cx="2808000" cy="1224000"/>
          </a:xfrm>
          <a:prstGeom prst="line">
            <a:avLst/>
          </a:prstGeom>
          <a:ln w="76200">
            <a:solidFill>
              <a:srgbClr val="6888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042280" y="258840"/>
            <a:ext cx="73389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Century Gothic"/>
                <a:hlinkClick r:id="rId1" action="ppaction://hlinksldjump"/>
              </a:rPr>
              <a:t>Литератур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20720" y="1397160"/>
            <a:ext cx="3382560" cy="93636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387760" y="1419120"/>
            <a:ext cx="3166560" cy="914040"/>
          </a:xfrm>
          <a:prstGeom prst="rect">
            <a:avLst/>
          </a:prstGeom>
          <a:solidFill>
            <a:srgbClr val="ff9966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ОДЕРН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2179800" y="2313720"/>
            <a:ext cx="14472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339640" y="2372040"/>
            <a:ext cx="3240360" cy="863640"/>
          </a:xfrm>
          <a:prstGeom prst="line">
            <a:avLst/>
          </a:prstGeom>
          <a:ln w="76200">
            <a:solidFill>
              <a:srgbClr val="ff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740160" y="3177360"/>
            <a:ext cx="316836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ОБНОВЛЁ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Р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4734720" y="3264840"/>
            <a:ext cx="2881080" cy="1368000"/>
          </a:xfrm>
          <a:prstGeom prst="rect">
            <a:avLst/>
          </a:prstGeom>
          <a:solidFill>
            <a:srgbClr val="ffccff"/>
          </a:solidFill>
          <a:ln w="9525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НОРМАТИВ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19"/>
          <p:cNvCxnSpPr/>
          <p:nvPr/>
        </p:nvCxnSpPr>
        <p:spPr>
          <a:xfrm flipV="1" rot="10800000">
            <a:off x="4734360" y="4615560"/>
            <a:ext cx="1765800" cy="79236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cxnSp>
        <p:nvCxnSpPr>
          <p:cNvPr id="116" name="AutoShape 22"/>
          <p:cNvCxnSpPr/>
          <p:nvPr/>
        </p:nvCxnSpPr>
        <p:spPr>
          <a:xfrm>
            <a:off x="2252160" y="4563360"/>
            <a:ext cx="1764000" cy="792720"/>
          </a:xfrm>
          <a:prstGeom prst="curvedConnector2">
            <a:avLst/>
          </a:prstGeom>
          <a:ln w="76200">
            <a:solidFill>
              <a:srgbClr val="ffccff"/>
            </a:solidFill>
            <a:round/>
            <a:tailEnd len="med" type="triangle" w="med"/>
          </a:ln>
        </p:spPr>
      </p:cxnSp>
      <p:sp>
        <p:nvSpPr>
          <p:cNvPr id="117" name="Oval 20"/>
          <p:cNvSpPr/>
          <p:nvPr/>
        </p:nvSpPr>
        <p:spPr>
          <a:xfrm>
            <a:off x="2252160" y="5407920"/>
            <a:ext cx="3958920" cy="863280"/>
          </a:xfrm>
          <a:prstGeom prst="ellipse">
            <a:avLst/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ИСТИЧЕСК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5960" y="247680"/>
            <a:ext cx="1079892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u="sng" cap="all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Литературные кружки и группировки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Oval 8"/>
          <p:cNvSpPr/>
          <p:nvPr/>
        </p:nvSpPr>
        <p:spPr>
          <a:xfrm>
            <a:off x="1979640" y="1755000"/>
            <a:ext cx="3384360" cy="1800000"/>
          </a:xfrm>
          <a:prstGeom prst="ellipse">
            <a:avLst/>
          </a:prstGeom>
          <a:solidFill>
            <a:srgbClr val="ffff99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2" action="ppaction://hlinksldjump"/>
              </a:rPr>
              <a:t>РА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(Российская ассо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ролетар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cc6600"/>
                </a:solidFill>
                <a:latin typeface="Century Gothic"/>
              </a:rPr>
              <a:t>писа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128720" y="1784520"/>
            <a:ext cx="3239640" cy="1872720"/>
          </a:xfrm>
          <a:prstGeom prst="ellipse">
            <a:avLst/>
          </a:prstGeom>
          <a:solidFill>
            <a:srgbClr val="ff99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3" action="ppaction://hlinksldjump"/>
              </a:rPr>
              <a:t>«ПЕРЕВА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6"/>
          <p:cNvSpPr/>
          <p:nvPr/>
        </p:nvSpPr>
        <p:spPr>
          <a:xfrm>
            <a:off x="2052000" y="3984120"/>
            <a:ext cx="3239640" cy="2015640"/>
          </a:xfrm>
          <a:prstGeom prst="ellipse">
            <a:avLst/>
          </a:prstGeom>
          <a:solidFill>
            <a:srgbClr val="99ccff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4" action="ppaction://hlinksldjump"/>
              </a:rPr>
              <a:t>ЛЕ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ff"/>
                </a:solidFill>
                <a:latin typeface="Century Gothic"/>
              </a:rPr>
              <a:t>(Левый фро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056360" y="4092840"/>
            <a:ext cx="3384360" cy="1798200"/>
          </a:xfrm>
          <a:prstGeom prst="ellipse">
            <a:avLst/>
          </a:prstGeom>
          <a:solidFill>
            <a:srgbClr val="66ff66"/>
          </a:solidFill>
          <a:ln w="9525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5" action="ppaction://hlinksldjump"/>
              </a:rPr>
              <a:t>«СЕРАПИОНОВЫ</a:t>
            </a:r>
            <a:r>
              <a:rPr b="0" lang="ru-RU" sz="2800" spc="-1" strike="noStrike" u="sng">
                <a:solidFill>
                  <a:srgbClr val="293f06"/>
                </a:solidFill>
                <a:uFillTx/>
                <a:latin typeface="Century Gothic"/>
                <a:hlinkClick r:id="rId6" action="ppaction://hlinksldjump"/>
              </a:rPr>
              <a:t>БРАТЬ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2372400" y="0"/>
            <a:ext cx="7710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Центральные пункты разногласий</a:t>
            </a: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2" action="ppaction://hlinksldjump"/>
              </a:rPr>
              <a:t>РАППА и «Перевал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478800" y="1200240"/>
            <a:ext cx="60955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шение искусства к действительност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творцах новой культуры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опрос о культурном наслед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4"/>
          <p:cNvSpPr/>
          <p:nvPr/>
        </p:nvSpPr>
        <p:spPr>
          <a:xfrm>
            <a:off x="3411720" y="32760"/>
            <a:ext cx="6164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Стилевые тенден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4"/>
          <p:cNvSpPr/>
          <p:nvPr/>
        </p:nvSpPr>
        <p:spPr>
          <a:xfrm>
            <a:off x="97920" y="1176480"/>
            <a:ext cx="12178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rgbClr val="000000"/>
                </a:solidFill>
                <a:latin typeface="Century Gothic"/>
              </a:rPr>
              <a:t>Традиционный нейтральный сти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2095560" y="2412720"/>
            <a:ext cx="81820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Орнаментальная про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6"/>
          <p:cNvSpPr/>
          <p:nvPr/>
        </p:nvSpPr>
        <p:spPr>
          <a:xfrm>
            <a:off x="5336640" y="3648960"/>
            <a:ext cx="17002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5400" spc="-1" strike="noStrike">
                <a:solidFill>
                  <a:schemeClr val="accent1"/>
                </a:solidFill>
                <a:latin typeface="Century Gothic"/>
              </a:rPr>
              <a:t>Ска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801080" y="1243800"/>
            <a:ext cx="881568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РАПП оформилась в январе 1925г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Наиболее активными в РАППе были литературные критики С.Родов, Г.Лелевич, Л.Авербах, а из известных писателей – А.Фадеев, Д.Фурманов, А.Весёлый, Ю.Либединский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marL="262800" indent="-262800">
              <a:lnSpc>
                <a:spcPct val="100000"/>
              </a:lnSpc>
              <a:spcBef>
                <a:spcPts val="223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11200" spc="-1" strike="noStrike">
                <a:solidFill>
                  <a:srgbClr val="3e5e08"/>
                </a:solidFill>
                <a:latin typeface="Times New Roman"/>
              </a:rPr>
              <a:t>Краеугольным камнем эстетической платформы РАППа стала фраза: «Пролетарской является такая литература, которая организует психику и сознание рабочего класса и широких трудовых масс в сторону конечных задач пролетариата как переустроителя мира и создателя коммунистического общества».</a:t>
            </a:r>
            <a:endParaRPr b="0" lang="ru-RU" sz="112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801080" y="279360"/>
            <a:ext cx="9290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Российская ассоциация пролетарских писа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4160" y="1279440"/>
            <a:ext cx="9456840" cy="54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Основоположник группировки – литературный критик А.К.Воронский. Организационно Всесоюзное объединение рабоче-крестьянских писателей – так официально называлась эта группировка – оформилась в 924 году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Её рождение и существование оказалось бы невозможным, если бы ещё в начале 20-х годов по инициативе Воронского не был бы создан первый советский «толстый» журнал «Красная новь»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marL="285840" indent="-285840">
              <a:lnSpc>
                <a:spcPct val="100000"/>
              </a:lnSpc>
              <a:spcBef>
                <a:spcPts val="56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</a:pPr>
            <a:r>
              <a:rPr b="1" lang="ru-RU" sz="2800" spc="-1" strike="noStrike">
                <a:solidFill>
                  <a:srgbClr val="3e5e08"/>
                </a:solidFill>
                <a:latin typeface="Times New Roman"/>
              </a:rPr>
              <a:t>«Перевал» сумел составить в 20-е годы реальную оппозицию рапповцам.</a:t>
            </a:r>
            <a:endParaRPr b="0" lang="ru-RU" sz="2800" spc="-1" strike="noStrike">
              <a:solidFill>
                <a:srgbClr val="3e5e08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</a:pPr>
            <a:endParaRPr b="0" lang="ru-RU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4598280" y="251640"/>
            <a:ext cx="2389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 u="sng">
                <a:solidFill>
                  <a:srgbClr val="293f06"/>
                </a:solidFill>
                <a:uFillTx/>
                <a:latin typeface="Times New Roman"/>
                <a:hlinkClick r:id="rId1" action="ppaction://hlinksldjump"/>
              </a:rPr>
              <a:t>«Перев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ектор">
  <a:themeElements>
    <a:clrScheme name="Сектор">
      <a:dk1>
        <a:srgbClr val="000000"/>
      </a:dk1>
      <a:lt1>
        <a:srgbClr val="ffffff"/>
      </a:lt1>
      <a:dk2>
        <a:srgbClr val="537d0b"/>
      </a:dk2>
      <a:lt2>
        <a:srgbClr val="a9e257"/>
      </a:lt2>
      <a:accent1>
        <a:srgbClr val="38540a"/>
      </a:accent1>
      <a:accent2>
        <a:srgbClr val="31a274"/>
      </a:accent2>
      <a:accent3>
        <a:srgbClr val="236073"/>
      </a:accent3>
      <a:accent4>
        <a:srgbClr val="6c4d90"/>
      </a:accent4>
      <a:accent5>
        <a:srgbClr val="983c27"/>
      </a:accent5>
      <a:accent6>
        <a:srgbClr val="cd811f"/>
      </a:accent6>
      <a:hlink>
        <a:srgbClr val="293f06"/>
      </a:hlink>
      <a:folHlink>
        <a:srgbClr val="6888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ce</Template>
  <TotalTime>201</TotalTime>
  <Application>LibreOffice/7.4.7.2$Linux_X86_64 LibreOffice_project/40$Build-2</Application>
  <AppVersion>15.0000</AppVersion>
  <Words>463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09:46:41Z</dcterms:created>
  <dc:creator>Sagyn</dc:creator>
  <dc:description/>
  <dc:language>en-US</dc:language>
  <cp:lastModifiedBy>Sagyn</cp:lastModifiedBy>
  <dcterms:modified xsi:type="dcterms:W3CDTF">2015-12-06T13:08:37Z</dcterms:modified>
  <cp:revision>1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3</vt:r8>
  </property>
</Properties>
</file>