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352B-4518-4689-9B2F-170F7522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38858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2827800"/>
            <a:ext cx="38858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4842-492F-4900-8E16-0F58380E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282780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372040" y="282780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B48-0F67-4FE8-9856-C6843601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694880" y="163368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08880" y="163368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282780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1694880" y="282780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008880" y="282780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3D3D-8ED0-483A-A702-CD7E8F68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98D5-A314-4B3C-BF6B-201F92A9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880" y="1633680"/>
            <a:ext cx="388584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590F-3811-44CA-9EEE-816A99FF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388584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4E48-BEB0-4E28-A9FE-28FCD4C0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9B2E-D735-4DBC-943A-D58A9BDB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DA89-D69E-41E9-821C-947EFEDB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80880" y="271440"/>
            <a:ext cx="723852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6CFD-837E-4328-B531-5411F993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282780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85DC-EF07-4610-910C-84F28B95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633680"/>
            <a:ext cx="388584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16E8-1EE9-4434-9923-FA8CE965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72040" y="282780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5EF3-550F-4116-8F34-E62CB59F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2827800"/>
            <a:ext cx="38858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F3A2-2058-4BEE-B675-BB82FCD3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38858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880" y="2827800"/>
            <a:ext cx="38858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60A5-EF87-4BDB-ABBE-DF7BBA28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880" y="282780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372040" y="282780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62F7-567B-4A17-880A-FAAAE700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694880" y="163368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008880" y="163368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880" y="282780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1694880" y="282780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3008880" y="282780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80C5-35CA-440B-870F-CB984ABC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388584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3827-693A-4C40-8E69-EBE7016E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70D5-BC43-4338-9610-33B01A41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720A-5C5D-4573-9508-B8C4405A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271440"/>
            <a:ext cx="723852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4A4E-2517-49B6-8AD8-2CF1F1FC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282780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B6A-E203-4D74-9C73-1808DCD5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72040" y="282780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F944-346D-4932-BD53-6AC827B2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2827800"/>
            <a:ext cx="38858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053-3659-4A42-9419-3FC9531C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8adb"/>
            </a:gs>
            <a:gs pos="100000">
              <a:srgbClr val="a7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7200" y="14040"/>
            <a:ext cx="9129600" cy="6836400"/>
          </a:xfrm>
          <a:prstGeom prst="rtTriangle">
            <a:avLst/>
          </a:prstGeom>
          <a:gradFill rotWithShape="0">
            <a:gsLst>
              <a:gs pos="0">
                <a:srgbClr val="87baff">
                  <a:alpha val="10196"/>
                </a:srgbClr>
              </a:gs>
              <a:gs pos="100000">
                <a:srgbClr val="87baff">
                  <a:alpha val="1176"/>
                </a:srgbClr>
              </a:gs>
            </a:gsLst>
            <a:lin ang="7998000"/>
          </a:gradFill>
          <a:ln>
            <a:noFill/>
          </a:ln>
          <a:effectLst>
            <a:outerShdw algn="t" blurRad="63360" dir="14693110" dist="25445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cxnSp>
        <p:nvCxnSpPr>
          <p:cNvPr id="1" name="Прямая соединительная линия 7"/>
          <p:cNvCxnSpPr/>
          <p:nvPr/>
        </p:nvCxnSpPr>
        <p:spPr>
          <a:xfrm>
            <a:off x="0" y="6840"/>
            <a:ext cx="9137160" cy="6844320"/>
          </a:xfrm>
          <a:prstGeom prst="straightConnector1">
            <a:avLst/>
          </a:prstGeom>
          <a:ln cap="rnd" w="5000">
            <a:solidFill>
              <a:srgbClr val="b8cfff">
                <a:tint val="55000"/>
                <a:satMod val="200000"/>
                <a:alpha val="35000"/>
              </a:srgbClr>
            </a:solidFill>
            <a:round/>
          </a:ln>
        </p:spPr>
      </p:cxnSp>
      <p:cxnSp>
        <p:nvCxnSpPr>
          <p:cNvPr id="2" name="Прямая соединительная линия 8"/>
          <p:cNvCxnSpPr/>
          <p:nvPr/>
        </p:nvCxnSpPr>
        <p:spPr>
          <a:xfrm flipH="1">
            <a:off x="6468480" y="4948200"/>
            <a:ext cx="2673360" cy="1900440"/>
          </a:xfrm>
          <a:prstGeom prst="straightConnector1">
            <a:avLst/>
          </a:prstGeom>
          <a:ln cap="rnd" w="6000">
            <a:solidFill>
              <a:srgbClr val="b8cfff">
                <a:tint val="50000"/>
                <a:satMod val="200000"/>
                <a:alpha val="45000"/>
              </a:srgbClr>
            </a:solidFill>
            <a:round/>
          </a:ln>
        </p:spPr>
      </p:cxnSp>
      <p:sp>
        <p:nvSpPr>
          <p:cNvPr id="3" name="Равнобедренный треугольник 6"/>
          <p:cNvSpPr/>
          <p:nvPr/>
        </p:nvSpPr>
        <p:spPr>
          <a:xfrm rot="16200000">
            <a:off x="7554240" y="5254560"/>
            <a:ext cx="1892520" cy="1293840"/>
          </a:xfrm>
          <a:prstGeom prst="triangle">
            <a:avLst>
              <a:gd name="adj" fmla="val 51323"/>
            </a:avLst>
          </a:prstGeom>
          <a:gradFill rotWithShape="0">
            <a:gsLst>
              <a:gs pos="0">
                <a:srgbClr val="979700"/>
              </a:gs>
              <a:gs pos="100000">
                <a:srgbClr val="ffff00"/>
              </a:gs>
            </a:gsLst>
            <a:lin ang="10098000"/>
          </a:gradFill>
          <a:ln>
            <a:noFill/>
          </a:ln>
          <a:effectLst>
            <a:outerShdw algn="t" blurRad="63360" dir="14693110" dist="25445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0720" y="776160"/>
            <a:ext cx="806256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marL="484560" indent="0" algn="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76"/>
                </a:solidFill>
                <a:latin typeface="Century Gothic"/>
              </a:rPr>
              <a:t>Образец заголовка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371600" y="6012720"/>
            <a:ext cx="57909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1371600" y="5650560"/>
            <a:ext cx="57909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392320" y="5752440"/>
            <a:ext cx="5025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6FA6272-2453-4C14-9B59-C917B403A1E0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ef"/>
            </a:gs>
            <a:gs pos="100000">
              <a:srgbClr val="3e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ый треугольник 10" hidden="1"/>
          <p:cNvSpPr/>
          <p:nvPr/>
        </p:nvSpPr>
        <p:spPr>
          <a:xfrm>
            <a:off x="7200" y="14040"/>
            <a:ext cx="9129600" cy="6836400"/>
          </a:xfrm>
          <a:prstGeom prst="rtTriangle">
            <a:avLst/>
          </a:prstGeom>
          <a:gradFill rotWithShape="0">
            <a:gsLst>
              <a:gs pos="0">
                <a:srgbClr val="87baff">
                  <a:alpha val="10196"/>
                </a:srgbClr>
              </a:gs>
              <a:gs pos="100000">
                <a:srgbClr val="87baff">
                  <a:alpha val="1176"/>
                </a:srgbClr>
              </a:gs>
            </a:gsLst>
            <a:lin ang="7998000"/>
          </a:gradFill>
          <a:ln>
            <a:noFill/>
          </a:ln>
          <a:effectLst>
            <a:outerShdw algn="t" blurRad="63360" dir="14693110" dist="25445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cxnSp>
        <p:nvCxnSpPr>
          <p:cNvPr id="46" name="Прямая соединительная линия 7"/>
          <p:cNvCxnSpPr/>
          <p:nvPr/>
        </p:nvCxnSpPr>
        <p:spPr>
          <a:xfrm>
            <a:off x="0" y="6840"/>
            <a:ext cx="9137160" cy="6844320"/>
          </a:xfrm>
          <a:prstGeom prst="straightConnector1">
            <a:avLst/>
          </a:prstGeom>
          <a:ln cap="rnd" w="5000">
            <a:solidFill>
              <a:srgbClr val="b8cfff">
                <a:tint val="55000"/>
                <a:satMod val="200000"/>
                <a:alpha val="35000"/>
              </a:srgbClr>
            </a:solidFill>
            <a:round/>
          </a:ln>
        </p:spPr>
      </p:cxnSp>
      <p:cxnSp>
        <p:nvCxnSpPr>
          <p:cNvPr id="47" name="Прямая соединительная линия 8"/>
          <p:cNvCxnSpPr/>
          <p:nvPr/>
        </p:nvCxnSpPr>
        <p:spPr>
          <a:xfrm flipH="1">
            <a:off x="6468480" y="4948200"/>
            <a:ext cx="2673360" cy="1900440"/>
          </a:xfrm>
          <a:prstGeom prst="straightConnector1">
            <a:avLst/>
          </a:prstGeom>
          <a:ln cap="rnd" w="6000">
            <a:solidFill>
              <a:srgbClr val="b8cfff">
                <a:tint val="50000"/>
                <a:satMod val="200000"/>
                <a:alpha val="45000"/>
              </a:srgbClr>
            </a:solidFill>
            <a:round/>
          </a:ln>
        </p:spPr>
      </p:cxnSp>
      <p:sp>
        <p:nvSpPr>
          <p:cNvPr id="48" name="Прямоугольный треугольник 8"/>
          <p:cNvSpPr/>
          <p:nvPr/>
        </p:nvSpPr>
        <p:spPr>
          <a:xfrm flipV="1">
            <a:off x="7200" y="6840"/>
            <a:ext cx="9129600" cy="6836400"/>
          </a:xfrm>
          <a:prstGeom prst="rtTriangle">
            <a:avLst/>
          </a:prstGeom>
          <a:gradFill rotWithShape="0">
            <a:gsLst>
              <a:gs pos="0">
                <a:srgbClr val="87baff">
                  <a:alpha val="10196"/>
                </a:srgbClr>
              </a:gs>
              <a:gs pos="100000">
                <a:srgbClr val="87baff">
                  <a:alpha val="1176"/>
                </a:srgbClr>
              </a:gs>
            </a:gsLst>
            <a:lin ang="13602000"/>
          </a:gradFill>
          <a:ln>
            <a:noFill/>
          </a:ln>
          <a:effectLst>
            <a:outerShdw algn="t" blurRad="63360" dir="14693110" dist="25445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9" name="Равнобедренный треугольник 7"/>
          <p:cNvSpPr/>
          <p:nvPr/>
        </p:nvSpPr>
        <p:spPr>
          <a:xfrm flipV="1" rot="5400000">
            <a:off x="7554240" y="308880"/>
            <a:ext cx="1892520" cy="1293840"/>
          </a:xfrm>
          <a:prstGeom prst="triangle">
            <a:avLst>
              <a:gd name="adj" fmla="val 51323"/>
            </a:avLst>
          </a:prstGeom>
          <a:gradFill rotWithShape="0">
            <a:gsLst>
              <a:gs pos="0">
                <a:srgbClr val="979700"/>
              </a:gs>
              <a:gs pos="100000">
                <a:srgbClr val="ffff00"/>
              </a:gs>
            </a:gsLst>
            <a:lin ang="11502000"/>
          </a:gradFill>
          <a:ln>
            <a:noFill/>
          </a:ln>
          <a:effectLst>
            <a:outerShdw algn="t" blurRad="63360" dir="14693110" dist="25445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695556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2619360" y="6481080"/>
            <a:ext cx="4259520" cy="3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8451000" y="809640"/>
            <a:ext cx="502560" cy="3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6E3BFCF-8B6A-4CAF-A4B7-215667C4DF46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Прямая соединительная линия 10"/>
          <p:cNvCxnSpPr/>
          <p:nvPr/>
        </p:nvCxnSpPr>
        <p:spPr>
          <a:xfrm flipH="1" flipV="1">
            <a:off x="6468480" y="9360"/>
            <a:ext cx="2673360" cy="1900440"/>
          </a:xfrm>
          <a:prstGeom prst="straightConnector1">
            <a:avLst/>
          </a:prstGeom>
          <a:ln cap="rnd" w="6000">
            <a:solidFill>
              <a:srgbClr val="b8cfff">
                <a:tint val="50000"/>
                <a:satMod val="200000"/>
                <a:alpha val="45000"/>
              </a:srgbClr>
            </a:solidFill>
            <a:round/>
          </a:ln>
        </p:spPr>
      </p:cxnSp>
      <p:cxnSp>
        <p:nvCxnSpPr>
          <p:cNvPr id="54" name="Прямая соединительная линия 9"/>
          <p:cNvCxnSpPr/>
          <p:nvPr/>
        </p:nvCxnSpPr>
        <p:spPr>
          <a:xfrm flipV="1">
            <a:off x="0" y="6840"/>
            <a:ext cx="9137160" cy="6844320"/>
          </a:xfrm>
          <a:prstGeom prst="straightConnector1">
            <a:avLst/>
          </a:prstGeom>
          <a:ln cap="rnd" w="5000">
            <a:solidFill>
              <a:srgbClr val="b8cfff">
                <a:tint val="55000"/>
                <a:satMod val="200000"/>
                <a:alpha val="35000"/>
              </a:srgbClr>
            </a:solidFill>
            <a:round/>
          </a:ln>
        </p:spPr>
      </p:cxn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76"/>
                </a:solidFill>
                <a:latin typeface="Century Gothic"/>
              </a:rPr>
              <a:t>Образец заголовка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380880" y="1633680"/>
            <a:ext cx="3885840" cy="22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2760" cy="13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484560" indent="0" algn="ctr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ffff00"/>
                </a:solidFill>
                <a:latin typeface="Times New Roman"/>
              </a:rPr>
              <a:t>«УЖГОРОДСЬКИЙ НАЦІОНАЛЬНИЙ УНІВЕРСИТЕТ»</a:t>
            </a:r>
            <a:br>
              <a:rPr sz="2000"/>
            </a:br>
            <a:r>
              <a:rPr b="0" lang="uk-UA" sz="1800" spc="-1" strike="noStrike">
                <a:solidFill>
                  <a:srgbClr val="ffff00"/>
                </a:solidFill>
                <a:latin typeface="Times New Roman"/>
              </a:rPr>
              <a:t>ФІЗИЧНИЙ ФАКУЛЬТЕТ</a:t>
            </a:r>
            <a:br>
              <a:rPr sz="2800"/>
            </a:b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7854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Дипломна робота бакалав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На тему: </a:t>
            </a:r>
            <a:r>
              <a:rPr b="0" lang="uk-UA" sz="20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Сучасні програмні продукти моделюва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електронних сх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Виконав:Паулик А.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Керівник: проф. Гомонай О.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Ужгород – 2017 р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0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ffff76"/>
                </a:solidFill>
                <a:latin typeface="Times New Roman"/>
              </a:rPr>
              <a:t>Актуальність тем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391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72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ьогодні наука зробила крок далеко вперед у виробництві електронних схем. Але в зв'язку з цим виникають технологічні труднощі – мікросхеми ускладнюються за своєю структурою та процесом виготовлення. І, як наслідок, виникає проблема контролю виходу придатних виробів і виявлення причин виникаючих збоїв в їх роботі. Електронні схеми можуть бути різноманітного призначення – від надскладних процесорів до побутової електроніки, але загальні підходи та принципи дослідження параметрів за допомогою симуляторів є однаковими. Проведений аналіз показав, що програмні продукти моделювання та симуляції електронних схем є невід'ємною частиною процесс</a:t>
            </a: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у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розробки сучасних радіоелектронних пристроїв, їх високу ефективність в навчальному процесі та науковій практиці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ffff76"/>
                </a:solidFill>
                <a:latin typeface="Century Gothic"/>
              </a:rPr>
              <a:t>Метою роботи є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Розглянути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ограмні продукти моделювання та симуляції електронних схем та показа</a:t>
            </a: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ти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можливість їх ефективного застосування в навчальному процесі та науковій діяльності. Створити лічильник з переходами з меншого порядку на старший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040" cy="8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ffff76"/>
                </a:solidFill>
                <a:latin typeface="Century Gothic"/>
              </a:rPr>
              <a:t>Сучасні програмні продукт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7772040" cy="15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1" lang="uk-UA" sz="2000" spc="-1" strike="noStrike">
                <a:solidFill>
                  <a:srgbClr val="ffffff"/>
                </a:solidFill>
                <a:latin typeface="Century Gothic"/>
              </a:rPr>
              <a:t>Програмний продукт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1" lang="uk-UA" sz="20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CA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2.</a:t>
            </a:r>
            <a:r>
              <a:rPr b="1" lang="uk-UA" sz="2000" spc="-1" strike="noStrike">
                <a:solidFill>
                  <a:srgbClr val="ffffff"/>
                </a:solidFill>
                <a:latin typeface="Century Gothic"/>
              </a:rPr>
              <a:t> Програмний продукт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Altium Design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3.</a:t>
            </a:r>
            <a:r>
              <a:rPr b="1" lang="uk-UA" sz="2000" spc="-1" strike="noStrike">
                <a:solidFill>
                  <a:srgbClr val="ffffff"/>
                </a:solidFill>
                <a:latin typeface="Century Gothic"/>
              </a:rPr>
              <a:t> Програмний продукт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Eagl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entury Gothic"/>
              </a:rPr>
              <a:t>4. Програмний продукт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NI Multisi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600" spc="-1" strike="noStrike">
                <a:solidFill>
                  <a:srgbClr val="ffff76"/>
                </a:solidFill>
                <a:latin typeface="Century Gothic"/>
              </a:rPr>
              <a:t>Інтерфейс програми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8381520" cy="48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Picture 2" descr="C:\Users\user\Desktop\курс\545.png"/>
          <p:cNvPicPr/>
          <p:nvPr/>
        </p:nvPicPr>
        <p:blipFill>
          <a:blip r:embed="rId1"/>
          <a:stretch/>
        </p:blipFill>
        <p:spPr>
          <a:xfrm>
            <a:off x="1219320" y="1295280"/>
            <a:ext cx="6525360" cy="52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600" spc="-1" strike="noStrike">
                <a:solidFill>
                  <a:srgbClr val="ffff76"/>
                </a:solidFill>
                <a:latin typeface="Century Gothic"/>
              </a:rPr>
              <a:t>Зовнішній вигляд схеми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8457840" cy="50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6" name="Picture 2" descr="C:\Users\user\Desktop\рис.png"/>
          <p:cNvPicPr/>
          <p:nvPr/>
        </p:nvPicPr>
        <p:blipFill>
          <a:blip r:embed="rId1"/>
          <a:stretch/>
        </p:blipFill>
        <p:spPr>
          <a:xfrm>
            <a:off x="685800" y="1676520"/>
            <a:ext cx="7619760" cy="499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600" spc="-1" strike="noStrike">
                <a:solidFill>
                  <a:srgbClr val="ffff76"/>
                </a:solidFill>
                <a:latin typeface="Century Gothic"/>
              </a:rPr>
              <a:t>Демонстрація роботи схеми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8381520" cy="47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9" name="Рисунок 3" descr="Animation.gif"/>
          <p:cNvPicPr/>
          <p:nvPr/>
        </p:nvPicPr>
        <p:blipFill>
          <a:blip r:embed="rId1"/>
          <a:stretch/>
        </p:blipFill>
        <p:spPr>
          <a:xfrm>
            <a:off x="0" y="1295280"/>
            <a:ext cx="9143640" cy="5144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600" spc="-1" strike="noStrike">
                <a:solidFill>
                  <a:srgbClr val="ffff76"/>
                </a:solidFill>
                <a:latin typeface="Century Gothic"/>
              </a:rPr>
              <a:t>Висновки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8534160" cy="50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11920" indent="-4572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 2" charset="2"/>
              <a:buAutoNum type="arabicPeriod"/>
            </a:pP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Вивченно і засвоєно програмні продукти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AD</a:t>
            </a: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AltiumDesigner</a:t>
            </a: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, 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I Multisi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11920" indent="-4572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 2" charset="2"/>
              <a:buAutoNum type="arabicPeriod"/>
            </a:pP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Запропоновано і розглянуто схему електронного лічильника створеного по двох шифраторів та дешифраторів. Дана схема дозволяє при необхідності збільшувати кількість регістрів і таким чином збільшувати чило регістрів лічильника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11920" indent="-4572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 2" charset="2"/>
              <a:buAutoNum type="arabicPeriod"/>
            </a:pP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Показано алгоритм створення моделі відповідної схеми у програмному продукті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I Multisim</a:t>
            </a: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. Відтворенно функціонування даної схеми в режимі розрахунку кількості імпульсів генератора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51460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3600" spc="-1" strike="noStrike">
                <a:solidFill>
                  <a:srgbClr val="ffff76"/>
                </a:solidFill>
                <a:latin typeface="Century Gothic"/>
              </a:rPr>
              <a:t>Дякую за увагу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Яркая">
  <a:themeElements>
    <a:clrScheme name="Другая 7">
      <a:dk1>
        <a:srgbClr val="4b98ff"/>
      </a:dk1>
      <a:lt1>
        <a:srgbClr val="ffffff"/>
      </a:lt1>
      <a:dk2>
        <a:srgbClr val="b8cfff"/>
      </a:dk2>
      <a:lt2>
        <a:srgbClr val="87baff"/>
      </a:lt2>
      <a:accent1>
        <a:srgbClr val="ffff00"/>
      </a:accent1>
      <a:accent2>
        <a:srgbClr val="ff1b97"/>
      </a:accent2>
      <a:accent3>
        <a:srgbClr val="005bd3"/>
      </a:accent3>
      <a:accent4>
        <a:srgbClr val="68007f"/>
      </a:accent4>
      <a:accent5>
        <a:srgbClr val="005bd3"/>
      </a:accent5>
      <a:accent6>
        <a:srgbClr val="00349e"/>
      </a:accent6>
      <a:hlink>
        <a:srgbClr val="17bbfd"/>
      </a:hlink>
      <a:folHlink>
        <a:srgbClr val="ff79c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Яркая">
  <a:themeElements>
    <a:clrScheme name="Другая 7">
      <a:dk1>
        <a:srgbClr val="4b98ff"/>
      </a:dk1>
      <a:lt1>
        <a:srgbClr val="ffffff"/>
      </a:lt1>
      <a:dk2>
        <a:srgbClr val="b8cfff"/>
      </a:dk2>
      <a:lt2>
        <a:srgbClr val="87baff"/>
      </a:lt2>
      <a:accent1>
        <a:srgbClr val="ffff00"/>
      </a:accent1>
      <a:accent2>
        <a:srgbClr val="ff1b97"/>
      </a:accent2>
      <a:accent3>
        <a:srgbClr val="005bd3"/>
      </a:accent3>
      <a:accent4>
        <a:srgbClr val="68007f"/>
      </a:accent4>
      <a:accent5>
        <a:srgbClr val="005bd3"/>
      </a:accent5>
      <a:accent6>
        <a:srgbClr val="00349e"/>
      </a:accent6>
      <a:hlink>
        <a:srgbClr val="17bbfd"/>
      </a:hlink>
      <a:folHlink>
        <a:srgbClr val="ff79c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Verve</Template>
  <TotalTime>52</TotalTime>
  <Application>LibreOffice/7.4.7.2$Linux_X86_64 LibreOffice_project/40$Build-2</Application>
  <AppVersion>15.0000</AppVersion>
  <Words>134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4T07:00:22Z</dcterms:created>
  <dc:creator>Андрей Федоров</dc:creator>
  <dc:description/>
  <dc:language>en-US</dc:language>
  <cp:lastModifiedBy>Пользователь Windows</cp:lastModifiedBy>
  <dcterms:modified xsi:type="dcterms:W3CDTF">2017-06-20T04:25:29Z</dcterms:modified>
  <cp:revision>10</cp:revision>
  <dc:subject/>
  <dc:title>«УЖГОРОДСЬКИЙ НАЦІОНАЛЬНИЙ УНІВЕРСИТЕТ» ФІЗИЧНИЙ ФАКУЛЬТЕТ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