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378E-7B49-4428-AC9F-A9D49C22C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388584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2827800"/>
            <a:ext cx="388584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E860-B9CB-48D5-B77D-A5821301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372040" y="163368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282780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372040" y="282780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01EA-5A98-4A5F-BDB6-319F67E58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1251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694880" y="1633680"/>
            <a:ext cx="1251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08880" y="1633680"/>
            <a:ext cx="1251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2827800"/>
            <a:ext cx="1251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1694880" y="2827800"/>
            <a:ext cx="1251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3008880" y="2827800"/>
            <a:ext cx="1251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1AA9-6A53-4B49-B4AC-8163CF83F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ED33-EBB4-427B-8A95-8274B4F71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80880" y="1633680"/>
            <a:ext cx="3885840" cy="22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E563-F04E-494D-A238-BBA72776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3885840" cy="22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4C6F-6F8E-474E-AC99-F62E00AE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1896120" cy="22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372040" y="1633680"/>
            <a:ext cx="1896120" cy="22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F9E9-9CA7-4DD1-8C56-9CF80328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FD8B-1649-4A26-B909-74D8157B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80880" y="271440"/>
            <a:ext cx="723852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EE71-A1E6-4008-B6D3-115BD9D3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372040" y="1633680"/>
            <a:ext cx="1896120" cy="22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880" y="282780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36A1-2700-4459-BAB5-7D0B4666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633680"/>
            <a:ext cx="3885840" cy="22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3DAC-4D7F-4177-B57A-A01DD284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1896120" cy="22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372040" y="163368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372040" y="282780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5411-0F17-48AF-BD48-0DEB30BB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372040" y="163368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2827800"/>
            <a:ext cx="388584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E042-579C-4885-B83D-1DBAB256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388584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0880" y="2827800"/>
            <a:ext cx="388584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525E-B08F-4DE2-925F-1D537949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372040" y="163368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0880" y="282780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372040" y="282780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28AC-8486-4E41-890A-E82448330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1251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694880" y="1633680"/>
            <a:ext cx="1251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008880" y="1633680"/>
            <a:ext cx="1251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80880" y="2827800"/>
            <a:ext cx="1251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1694880" y="2827800"/>
            <a:ext cx="1251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3008880" y="2827800"/>
            <a:ext cx="1251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C20B-FD2A-44AC-B40A-584122AB8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3885840" cy="22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1B93-B5A6-4E8A-AA6E-5ECF13C5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1896120" cy="22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372040" y="1633680"/>
            <a:ext cx="1896120" cy="22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D743-81DB-423B-809C-3CC5E796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6F7E-F13E-43E9-8A6B-565DE593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271440"/>
            <a:ext cx="723852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6BE9-CB10-4E05-AF4A-435E23E4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372040" y="1633680"/>
            <a:ext cx="1896120" cy="22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282780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37D8-3D29-4110-9608-40179AC3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1896120" cy="22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372040" y="163368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72040" y="282780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6163-E1DE-4AA5-87D0-D4849229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72040" y="163368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2827800"/>
            <a:ext cx="388584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74BB-BBC1-43EA-B3E9-9A09A53D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8adb"/>
            </a:gs>
            <a:gs pos="100000">
              <a:srgbClr val="a7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7200" y="14040"/>
            <a:ext cx="9129600" cy="6836400"/>
          </a:xfrm>
          <a:prstGeom prst="rtTriangle">
            <a:avLst/>
          </a:prstGeom>
          <a:gradFill rotWithShape="0">
            <a:gsLst>
              <a:gs pos="0">
                <a:srgbClr val="87baff">
                  <a:alpha val="10196"/>
                </a:srgbClr>
              </a:gs>
              <a:gs pos="100000">
                <a:srgbClr val="87baff">
                  <a:alpha val="1176"/>
                </a:srgbClr>
              </a:gs>
            </a:gsLst>
            <a:lin ang="7998000"/>
          </a:gradFill>
          <a:ln>
            <a:noFill/>
          </a:ln>
          <a:effectLst>
            <a:outerShdw algn="t" blurRad="63360" dir="14693110" dist="25445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cxnSp>
        <p:nvCxnSpPr>
          <p:cNvPr id="1" name="Прямая соединительная линия 7"/>
          <p:cNvCxnSpPr/>
          <p:nvPr/>
        </p:nvCxnSpPr>
        <p:spPr>
          <a:xfrm>
            <a:off x="0" y="6840"/>
            <a:ext cx="9137160" cy="6844320"/>
          </a:xfrm>
          <a:prstGeom prst="straightConnector1">
            <a:avLst/>
          </a:prstGeom>
          <a:ln cap="rnd" w="5000">
            <a:solidFill>
              <a:srgbClr val="b8cfff">
                <a:tint val="55000"/>
                <a:satMod val="200000"/>
                <a:alpha val="35000"/>
              </a:srgbClr>
            </a:solidFill>
            <a:round/>
          </a:ln>
        </p:spPr>
      </p:cxnSp>
      <p:cxnSp>
        <p:nvCxnSpPr>
          <p:cNvPr id="2" name="Прямая соединительная линия 8"/>
          <p:cNvCxnSpPr/>
          <p:nvPr/>
        </p:nvCxnSpPr>
        <p:spPr>
          <a:xfrm flipH="1">
            <a:off x="6468480" y="4948200"/>
            <a:ext cx="2673360" cy="1900440"/>
          </a:xfrm>
          <a:prstGeom prst="straightConnector1">
            <a:avLst/>
          </a:prstGeom>
          <a:ln cap="rnd" w="6000">
            <a:solidFill>
              <a:srgbClr val="b8cfff">
                <a:tint val="50000"/>
                <a:satMod val="200000"/>
                <a:alpha val="45000"/>
              </a:srgbClr>
            </a:solidFill>
            <a:round/>
          </a:ln>
        </p:spPr>
      </p:cxnSp>
      <p:sp>
        <p:nvSpPr>
          <p:cNvPr id="3" name="Равнобедренный треугольник 6"/>
          <p:cNvSpPr/>
          <p:nvPr/>
        </p:nvSpPr>
        <p:spPr>
          <a:xfrm rot="16200000">
            <a:off x="7554240" y="5254560"/>
            <a:ext cx="1892520" cy="1293840"/>
          </a:xfrm>
          <a:prstGeom prst="triangle">
            <a:avLst>
              <a:gd name="adj" fmla="val 51323"/>
            </a:avLst>
          </a:prstGeom>
          <a:gradFill rotWithShape="0">
            <a:gsLst>
              <a:gs pos="0">
                <a:srgbClr val="979700"/>
              </a:gs>
              <a:gs pos="100000">
                <a:srgbClr val="ffff00"/>
              </a:gs>
            </a:gsLst>
            <a:lin ang="10098000"/>
          </a:gradFill>
          <a:ln>
            <a:noFill/>
          </a:ln>
          <a:effectLst>
            <a:outerShdw algn="t" blurRad="63360" dir="14693110" dist="25445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40720" y="776160"/>
            <a:ext cx="806256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marL="484560" indent="0" algn="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76"/>
                </a:solidFill>
                <a:latin typeface="Century Gothic"/>
              </a:rPr>
              <a:t>Образец заголовка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371600" y="6012720"/>
            <a:ext cx="57909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1371600" y="5650560"/>
            <a:ext cx="57909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392320" y="5752440"/>
            <a:ext cx="5025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8369B65-5753-49D4-BFAF-D271176D763B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ef"/>
            </a:gs>
            <a:gs pos="100000">
              <a:srgbClr val="3e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ый треугольник 10" hidden="1"/>
          <p:cNvSpPr/>
          <p:nvPr/>
        </p:nvSpPr>
        <p:spPr>
          <a:xfrm>
            <a:off x="7200" y="14040"/>
            <a:ext cx="9129600" cy="6836400"/>
          </a:xfrm>
          <a:prstGeom prst="rtTriangle">
            <a:avLst/>
          </a:prstGeom>
          <a:gradFill rotWithShape="0">
            <a:gsLst>
              <a:gs pos="0">
                <a:srgbClr val="87baff">
                  <a:alpha val="10196"/>
                </a:srgbClr>
              </a:gs>
              <a:gs pos="100000">
                <a:srgbClr val="87baff">
                  <a:alpha val="1176"/>
                </a:srgbClr>
              </a:gs>
            </a:gsLst>
            <a:lin ang="7998000"/>
          </a:gradFill>
          <a:ln>
            <a:noFill/>
          </a:ln>
          <a:effectLst>
            <a:outerShdw algn="t" blurRad="63360" dir="14693110" dist="25445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cxnSp>
        <p:nvCxnSpPr>
          <p:cNvPr id="46" name="Прямая соединительная линия 7"/>
          <p:cNvCxnSpPr/>
          <p:nvPr/>
        </p:nvCxnSpPr>
        <p:spPr>
          <a:xfrm>
            <a:off x="0" y="6840"/>
            <a:ext cx="9137160" cy="6844320"/>
          </a:xfrm>
          <a:prstGeom prst="straightConnector1">
            <a:avLst/>
          </a:prstGeom>
          <a:ln cap="rnd" w="5000">
            <a:solidFill>
              <a:srgbClr val="b8cfff">
                <a:tint val="55000"/>
                <a:satMod val="200000"/>
                <a:alpha val="35000"/>
              </a:srgbClr>
            </a:solidFill>
            <a:round/>
          </a:ln>
        </p:spPr>
      </p:cxnSp>
      <p:cxnSp>
        <p:nvCxnSpPr>
          <p:cNvPr id="47" name="Прямая соединительная линия 8"/>
          <p:cNvCxnSpPr/>
          <p:nvPr/>
        </p:nvCxnSpPr>
        <p:spPr>
          <a:xfrm flipH="1">
            <a:off x="6468480" y="4948200"/>
            <a:ext cx="2673360" cy="1900440"/>
          </a:xfrm>
          <a:prstGeom prst="straightConnector1">
            <a:avLst/>
          </a:prstGeom>
          <a:ln cap="rnd" w="6000">
            <a:solidFill>
              <a:srgbClr val="b8cfff">
                <a:tint val="50000"/>
                <a:satMod val="200000"/>
                <a:alpha val="45000"/>
              </a:srgbClr>
            </a:solidFill>
            <a:round/>
          </a:ln>
        </p:spPr>
      </p:cxnSp>
      <p:sp>
        <p:nvSpPr>
          <p:cNvPr id="48" name="Прямоугольный треугольник 8"/>
          <p:cNvSpPr/>
          <p:nvPr/>
        </p:nvSpPr>
        <p:spPr>
          <a:xfrm flipV="1">
            <a:off x="7200" y="6840"/>
            <a:ext cx="9129600" cy="6836400"/>
          </a:xfrm>
          <a:prstGeom prst="rtTriangle">
            <a:avLst/>
          </a:prstGeom>
          <a:gradFill rotWithShape="0">
            <a:gsLst>
              <a:gs pos="0">
                <a:srgbClr val="87baff">
                  <a:alpha val="10196"/>
                </a:srgbClr>
              </a:gs>
              <a:gs pos="100000">
                <a:srgbClr val="87baff">
                  <a:alpha val="1176"/>
                </a:srgbClr>
              </a:gs>
            </a:gsLst>
            <a:lin ang="13602000"/>
          </a:gradFill>
          <a:ln>
            <a:noFill/>
          </a:ln>
          <a:effectLst>
            <a:outerShdw algn="t" blurRad="63360" dir="14693110" dist="25445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49" name="Равнобедренный треугольник 7"/>
          <p:cNvSpPr/>
          <p:nvPr/>
        </p:nvSpPr>
        <p:spPr>
          <a:xfrm flipV="1" rot="5400000">
            <a:off x="7554240" y="308880"/>
            <a:ext cx="1892520" cy="1293840"/>
          </a:xfrm>
          <a:prstGeom prst="triangle">
            <a:avLst>
              <a:gd name="adj" fmla="val 51323"/>
            </a:avLst>
          </a:prstGeom>
          <a:gradFill rotWithShape="0">
            <a:gsLst>
              <a:gs pos="0">
                <a:srgbClr val="979700"/>
              </a:gs>
              <a:gs pos="100000">
                <a:srgbClr val="ffff00"/>
              </a:gs>
            </a:gsLst>
            <a:lin ang="11502000"/>
          </a:gradFill>
          <a:ln>
            <a:noFill/>
          </a:ln>
          <a:effectLst>
            <a:outerShdw algn="t" blurRad="63360" dir="14693110" dist="25445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695556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2619360" y="6481080"/>
            <a:ext cx="4259520" cy="3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8451000" y="809640"/>
            <a:ext cx="502560" cy="3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D9D140C-EC15-4E2D-9902-85C97F901983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Прямая соединительная линия 10"/>
          <p:cNvCxnSpPr/>
          <p:nvPr/>
        </p:nvCxnSpPr>
        <p:spPr>
          <a:xfrm flipH="1" flipV="1">
            <a:off x="6468480" y="9360"/>
            <a:ext cx="2673360" cy="1900440"/>
          </a:xfrm>
          <a:prstGeom prst="straightConnector1">
            <a:avLst/>
          </a:prstGeom>
          <a:ln cap="rnd" w="6000">
            <a:solidFill>
              <a:srgbClr val="b8cfff">
                <a:tint val="50000"/>
                <a:satMod val="200000"/>
                <a:alpha val="45000"/>
              </a:srgbClr>
            </a:solidFill>
            <a:round/>
          </a:ln>
        </p:spPr>
      </p:cxnSp>
      <p:cxnSp>
        <p:nvCxnSpPr>
          <p:cNvPr id="54" name="Прямая соединительная линия 9"/>
          <p:cNvCxnSpPr/>
          <p:nvPr/>
        </p:nvCxnSpPr>
        <p:spPr>
          <a:xfrm flipV="1">
            <a:off x="0" y="6840"/>
            <a:ext cx="9137160" cy="6844320"/>
          </a:xfrm>
          <a:prstGeom prst="straightConnector1">
            <a:avLst/>
          </a:prstGeom>
          <a:ln cap="rnd" w="5000">
            <a:solidFill>
              <a:srgbClr val="b8cfff">
                <a:tint val="55000"/>
                <a:satMod val="200000"/>
                <a:alpha val="35000"/>
              </a:srgbClr>
            </a:solidFill>
            <a:round/>
          </a:ln>
        </p:spPr>
      </p:cxn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ff76"/>
                </a:solidFill>
                <a:latin typeface="Century Gothic"/>
              </a:rPr>
              <a:t>Образец заголовка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380880" y="1633680"/>
            <a:ext cx="3885840" cy="22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2760" cy="13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marL="484560" indent="0" algn="ctr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ffff00"/>
                </a:solidFill>
                <a:latin typeface="Times New Roman"/>
              </a:rPr>
              <a:t>«УЖГОРОДСЬКИЙ НАЦІОНАЛЬНИЙ УНІВЕРСИТЕТ»</a:t>
            </a:r>
            <a:br>
              <a:rPr sz="2000"/>
            </a:br>
            <a:r>
              <a:rPr b="0" lang="uk-UA" sz="1800" spc="-1" strike="noStrike">
                <a:solidFill>
                  <a:srgbClr val="ffff00"/>
                </a:solidFill>
                <a:latin typeface="Times New Roman"/>
              </a:rPr>
              <a:t>ФІЗИЧНИЙ ФАКУЛЬТЕТ</a:t>
            </a:r>
            <a:br>
              <a:rPr sz="2800"/>
            </a:b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7854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Дипломна робота бакалав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На тему: </a:t>
            </a:r>
            <a:r>
              <a:rPr b="0" lang="uk-UA" sz="20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Сучасні програмні продукти моделюва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електронних сх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Виконав:Паулик А.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Керівник: проф. Гомонай О.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Ужгород – 2017 рі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0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400" spc="-1" strike="noStrike">
                <a:solidFill>
                  <a:srgbClr val="ffff76"/>
                </a:solidFill>
                <a:latin typeface="Times New Roman"/>
              </a:rPr>
              <a:t>Актуальність тем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391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472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Сьогодні наука зробила крок далеко вперед у виробництві електронних схем. Але в зв'язку з цим виникають технологічні труднощі – мікросхеми ускладнюються за своєю структурою та процесом виготовлення. І, як наслідок, виникає проблема контролю виходу придатних виробів і виявлення причин виникаючих збоїв в їх роботі. Електронні схеми можуть бути різноманітного призначення – від надскладних процесорів до побутової електроніки, але загальні підходи та принципи дослідження параметрів за допомогою симуляторів є однаковими. Проведений аналіз показав, що програмні продукти моделювання та симуляції електронних схем є невід'ємною частиною процесс</a:t>
            </a:r>
            <a:r>
              <a:rPr b="0" lang="uk-UA" sz="2000" spc="-1" strike="noStrike">
                <a:solidFill>
                  <a:srgbClr val="ffffff"/>
                </a:solidFill>
                <a:latin typeface="Century Gothic"/>
              </a:rPr>
              <a:t>у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розробки сучасних радіоелектронних пристроїв, їх високу ефективність в навчальному процесі та науковій практиці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4400" spc="-1" strike="noStrike">
                <a:solidFill>
                  <a:srgbClr val="ffff76"/>
                </a:solidFill>
                <a:latin typeface="Century Gothic"/>
              </a:rPr>
              <a:t>Метою роботи є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4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Century Gothic"/>
              </a:rPr>
              <a:t>Розглянути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рограмні продукти моделювання та симуляції електронних схем та показа</a:t>
            </a:r>
            <a:r>
              <a:rPr b="0" lang="uk-UA" sz="2000" spc="-1" strike="noStrike">
                <a:solidFill>
                  <a:srgbClr val="ffffff"/>
                </a:solidFill>
                <a:latin typeface="Century Gothic"/>
              </a:rPr>
              <a:t>ти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можливість їх ефективного застосування в навчальному процесі та науковій діяльності. Створити лічильник з переходами з меншого порядку на старший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040" cy="8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1" lang="uk-UA" sz="4400" spc="-1" strike="noStrike">
                <a:solidFill>
                  <a:srgbClr val="ffff76"/>
                </a:solidFill>
                <a:latin typeface="Century Gothic"/>
              </a:rPr>
              <a:t>Сучасні програмні продукт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7772040" cy="15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Century Gothic"/>
              </a:rPr>
              <a:t>1. </a:t>
            </a:r>
            <a:r>
              <a:rPr b="1" lang="uk-UA" sz="2000" spc="-1" strike="noStrike">
                <a:solidFill>
                  <a:srgbClr val="ffffff"/>
                </a:solidFill>
                <a:latin typeface="Century Gothic"/>
              </a:rPr>
              <a:t>Програмний продукт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1" lang="uk-UA" sz="2000" spc="-1" strike="noStrike">
                <a:solidFill>
                  <a:srgbClr val="ffffff"/>
                </a:solidFill>
                <a:latin typeface="Century Gothic"/>
              </a:rPr>
              <a:t>-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CA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Century Gothic"/>
              </a:rPr>
              <a:t>2.</a:t>
            </a:r>
            <a:r>
              <a:rPr b="1" lang="uk-UA" sz="2000" spc="-1" strike="noStrike">
                <a:solidFill>
                  <a:srgbClr val="ffffff"/>
                </a:solidFill>
                <a:latin typeface="Century Gothic"/>
              </a:rPr>
              <a:t> Програмний продукт 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Altium Design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Century Gothic"/>
              </a:rPr>
              <a:t>3.</a:t>
            </a:r>
            <a:r>
              <a:rPr b="1" lang="uk-UA" sz="2000" spc="-1" strike="noStrike">
                <a:solidFill>
                  <a:srgbClr val="ffffff"/>
                </a:solidFill>
                <a:latin typeface="Century Gothic"/>
              </a:rPr>
              <a:t> Програмний продукт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Eagl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entury Gothic"/>
              </a:rPr>
              <a:t>4. Програмний продукт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NI Multisi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3600" spc="-1" strike="noStrike">
                <a:solidFill>
                  <a:srgbClr val="ffff76"/>
                </a:solidFill>
                <a:latin typeface="Century Gothic"/>
              </a:rPr>
              <a:t>Інтерфейс програми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8381520" cy="48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Picture 2" descr="C:\Users\user\Desktop\курс\545.png"/>
          <p:cNvPicPr/>
          <p:nvPr/>
        </p:nvPicPr>
        <p:blipFill>
          <a:blip r:embed="rId1"/>
          <a:stretch/>
        </p:blipFill>
        <p:spPr>
          <a:xfrm>
            <a:off x="1219320" y="1295280"/>
            <a:ext cx="6525360" cy="525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3600" spc="-1" strike="noStrike">
                <a:solidFill>
                  <a:srgbClr val="ffff76"/>
                </a:solidFill>
                <a:latin typeface="Century Gothic"/>
              </a:rPr>
              <a:t>Зовнішній вигляд схеми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8457840" cy="50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6" name="Picture 2" descr="C:\Users\user\Desktop\рис.png"/>
          <p:cNvPicPr/>
          <p:nvPr/>
        </p:nvPicPr>
        <p:blipFill>
          <a:blip r:embed="rId1"/>
          <a:stretch/>
        </p:blipFill>
        <p:spPr>
          <a:xfrm>
            <a:off x="685800" y="1676520"/>
            <a:ext cx="7619760" cy="4994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3600" spc="-1" strike="noStrike">
                <a:solidFill>
                  <a:srgbClr val="ffff76"/>
                </a:solidFill>
                <a:latin typeface="Century Gothic"/>
              </a:rPr>
              <a:t>Демонстрація роботи схеми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8381520" cy="47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9" name="Рисунок 3" descr="Animation.gif"/>
          <p:cNvPicPr/>
          <p:nvPr/>
        </p:nvPicPr>
        <p:blipFill>
          <a:blip r:embed="rId1"/>
          <a:stretch/>
        </p:blipFill>
        <p:spPr>
          <a:xfrm>
            <a:off x="0" y="1295280"/>
            <a:ext cx="9143640" cy="5144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3600" spc="-1" strike="noStrike">
                <a:solidFill>
                  <a:srgbClr val="ffff76"/>
                </a:solidFill>
                <a:latin typeface="Century Gothic"/>
              </a:rPr>
              <a:t>Висновки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8534160" cy="50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11920" indent="-45720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 2" charset="2"/>
              <a:buAutoNum type="arabicPeriod"/>
            </a:pPr>
            <a:r>
              <a:rPr b="0" lang="uk-UA" sz="2000" spc="-1" strike="noStrike">
                <a:solidFill>
                  <a:srgbClr val="ffffff"/>
                </a:solidFill>
                <a:latin typeface="Century Gothic"/>
              </a:rPr>
              <a:t>Вивченно і засвоєно програмні продукти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uk-UA" sz="2000" spc="-1" strike="noStrike">
                <a:solidFill>
                  <a:srgbClr val="ffffff"/>
                </a:solidFill>
                <a:latin typeface="Century Gothic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AD</a:t>
            </a:r>
            <a:r>
              <a:rPr b="0" lang="uk-UA" sz="2000" spc="-1" strike="noStrike">
                <a:solidFill>
                  <a:srgbClr val="ffffff"/>
                </a:solidFill>
                <a:latin typeface="Century Gothic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AltiumDesigner</a:t>
            </a:r>
            <a:r>
              <a:rPr b="0" lang="uk-UA" sz="2000" spc="-1" strike="noStrike">
                <a:solidFill>
                  <a:srgbClr val="ffffff"/>
                </a:solidFill>
                <a:latin typeface="Century Gothic"/>
              </a:rPr>
              <a:t>, 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NI Multisi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11920" indent="-45720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 2" charset="2"/>
              <a:buAutoNum type="arabicPeriod"/>
            </a:pPr>
            <a:r>
              <a:rPr b="0" lang="uk-UA" sz="2000" spc="-1" strike="noStrike">
                <a:solidFill>
                  <a:srgbClr val="ffffff"/>
                </a:solidFill>
                <a:latin typeface="Century Gothic"/>
              </a:rPr>
              <a:t>Запропоновано і розглянуто схему електронного лічильника створеного по двох шифраторів та дешифраторів. Дана схема дозволяє при необхідності збільшувати кількість регістрів і таким чином збільшувати чило регістрів лічильника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11920" indent="-45720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 2" charset="2"/>
              <a:buAutoNum type="arabicPeriod"/>
            </a:pPr>
            <a:r>
              <a:rPr b="0" lang="uk-UA" sz="2000" spc="-1" strike="noStrike">
                <a:solidFill>
                  <a:srgbClr val="ffffff"/>
                </a:solidFill>
                <a:latin typeface="Century Gothic"/>
              </a:rPr>
              <a:t>Показано алгоритм створення моделі відповідної схеми у програмному продукті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NI Multisim</a:t>
            </a:r>
            <a:r>
              <a:rPr b="0" lang="uk-UA" sz="2000" spc="-1" strike="noStrike">
                <a:solidFill>
                  <a:srgbClr val="ffffff"/>
                </a:solidFill>
                <a:latin typeface="Century Gothic"/>
              </a:rPr>
              <a:t>. Відтворенно функціонування даної схеми в режимі розрахунку кількості імпульсів генератора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51460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3600" spc="-1" strike="noStrike">
                <a:solidFill>
                  <a:srgbClr val="ffff76"/>
                </a:solidFill>
                <a:latin typeface="Century Gothic"/>
              </a:rPr>
              <a:t>Дякую за увагу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Яркая">
  <a:themeElements>
    <a:clrScheme name="Другая 7">
      <a:dk1>
        <a:srgbClr val="4b98ff"/>
      </a:dk1>
      <a:lt1>
        <a:srgbClr val="ffffff"/>
      </a:lt1>
      <a:dk2>
        <a:srgbClr val="b8cfff"/>
      </a:dk2>
      <a:lt2>
        <a:srgbClr val="87baff"/>
      </a:lt2>
      <a:accent1>
        <a:srgbClr val="ffff00"/>
      </a:accent1>
      <a:accent2>
        <a:srgbClr val="ff1b97"/>
      </a:accent2>
      <a:accent3>
        <a:srgbClr val="005bd3"/>
      </a:accent3>
      <a:accent4>
        <a:srgbClr val="68007f"/>
      </a:accent4>
      <a:accent5>
        <a:srgbClr val="005bd3"/>
      </a:accent5>
      <a:accent6>
        <a:srgbClr val="00349e"/>
      </a:accent6>
      <a:hlink>
        <a:srgbClr val="17bbfd"/>
      </a:hlink>
      <a:folHlink>
        <a:srgbClr val="ff79c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Яркая">
  <a:themeElements>
    <a:clrScheme name="Другая 7">
      <a:dk1>
        <a:srgbClr val="4b98ff"/>
      </a:dk1>
      <a:lt1>
        <a:srgbClr val="ffffff"/>
      </a:lt1>
      <a:dk2>
        <a:srgbClr val="b8cfff"/>
      </a:dk2>
      <a:lt2>
        <a:srgbClr val="87baff"/>
      </a:lt2>
      <a:accent1>
        <a:srgbClr val="ffff00"/>
      </a:accent1>
      <a:accent2>
        <a:srgbClr val="ff1b97"/>
      </a:accent2>
      <a:accent3>
        <a:srgbClr val="005bd3"/>
      </a:accent3>
      <a:accent4>
        <a:srgbClr val="68007f"/>
      </a:accent4>
      <a:accent5>
        <a:srgbClr val="005bd3"/>
      </a:accent5>
      <a:accent6>
        <a:srgbClr val="00349e"/>
      </a:accent6>
      <a:hlink>
        <a:srgbClr val="17bbfd"/>
      </a:hlink>
      <a:folHlink>
        <a:srgbClr val="ff79c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Verve</Template>
  <TotalTime>52</TotalTime>
  <Application>LibreOffice/7.4.7.2$Linux_X86_64 LibreOffice_project/40$Build-2</Application>
  <AppVersion>15.0000</AppVersion>
  <Words>134</Words>
  <Paragraphs>3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4T07:00:22Z</dcterms:created>
  <dc:creator>Андрей Федоров</dc:creator>
  <dc:description/>
  <dc:language>en-US</dc:language>
  <cp:lastModifiedBy>Пользователь Windows</cp:lastModifiedBy>
  <dcterms:modified xsi:type="dcterms:W3CDTF">2017-06-20T04:25:29Z</dcterms:modified>
  <cp:revision>10</cp:revision>
  <dc:subject/>
  <dc:title>«УЖГОРОДСЬКИЙ НАЦІОНАЛЬНИЙ УНІВЕРСИТЕТ» ФІЗИЧНИЙ ФАКУЛЬТЕТ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9</vt:r8>
  </property>
</Properties>
</file>