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83C-FEC7-41FD-9D04-7E69AB99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4FD-A33F-4E06-927F-4B308A4C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BB3-A4A1-4519-A1BD-30940BEB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4AC-7A89-45DF-A71B-F6439475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B5CE-1E8D-4EF5-9CC4-12B87346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47CC-19FD-4A29-A1A6-2CB7B699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258C-6AC0-4384-BCBA-B3928E31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BD0F-B4C2-440E-BA18-E821E1E8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B537-B2A5-45E0-BC3A-A904175D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037B-F99D-49D2-9CE3-E9F63895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DB91-1685-4927-9033-5DE31A28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5DA-BF1B-4B19-8BD7-0D8A9340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3FAE-72CC-4D65-8B38-03E4D524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1395-6464-4720-85B6-3AB31989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60EA-288E-452B-A2BA-A28D8122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526B-294D-4AA8-A7CE-32F7517D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C944-133A-47F5-B652-7E38C241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3DCD-BF41-467F-86EE-943216EE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BD86A-082D-40AC-9072-37F22C57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D3C53-6CC5-4B13-85F2-2C3F106E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91C5-2750-46E2-9940-FCE6ECFB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C202-A3DE-42CB-A4A8-B9879E48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57A-8896-4202-B657-357EE7DE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50BB7-85B2-4CA9-952B-06B5E27B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EFC9E-7965-430C-91F7-FDFF1736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92D7-0200-49EC-8E12-85E303FF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96261-77D1-4AD7-BD16-D62634AB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3CF5-2053-4BA7-AE19-83B862ED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5605-1057-437F-BB1D-5E17BC98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B7A9-F958-4AF0-9DF5-3A517393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F56-82FD-4ED8-AA4C-FD45B3F8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ECD-3FD0-427B-9330-80D24BC2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77C-06F4-4AB0-BF1B-9111C3A3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CFA-AEE9-472E-AFFA-8A9FD923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762-F9F8-4032-9477-F69477DC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BF1-E6B9-4844-8632-031A942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4ACDCC-F152-452D-BC60-FECA04DACE1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1F3B2A-59F4-44E8-B12C-5297B87984D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54668A-EEF3-4199-8F8C-7465403B4B0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Малое предпринимательство Югры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1877184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9520" bIns="2952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Диаграмма 14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6794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9376560" y="1064160"/>
            <a:ext cx="28152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я внешних совместителей в числе работающих на малых предприятиях, %. Регионы РФ с наиболее высокой долей внешних совмест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ля строительных фирм в общем числе малых предприятий, %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332160" y="2479680"/>
            <a:ext cx="1219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Диаграмма 1" descr=""/>
          <p:cNvPicPr/>
          <p:nvPr/>
        </p:nvPicPr>
        <p:blipFill>
          <a:blip r:embed="rId1"/>
          <a:stretch/>
        </p:blipFill>
        <p:spPr>
          <a:xfrm>
            <a:off x="1751400" y="1690560"/>
            <a:ext cx="9602280" cy="50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еографическое расширение объектов предпринимательской инфраструктуры в Югр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Таблица 2"/>
          <p:cNvGraphicFramePr/>
          <p:nvPr/>
        </p:nvGraphicFramePr>
        <p:xfrm>
          <a:off x="852480" y="1890720"/>
          <a:ext cx="10343160" cy="4261680"/>
        </p:xfrm>
        <a:graphic>
          <a:graphicData uri="http://schemas.openxmlformats.org/drawingml/2006/table">
            <a:tbl>
              <a:tblPr/>
              <a:tblGrid>
                <a:gridCol w="4568040"/>
                <a:gridCol w="70920"/>
                <a:gridCol w="1427040"/>
                <a:gridCol w="1545120"/>
                <a:gridCol w="1391760"/>
                <a:gridCol w="1339560"/>
              </a:tblGrid>
              <a:tr h="852120"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1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852120">
                <a:tc gridSpan="6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рганизации инфраструктуры поддер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онд поддержки предпринимательства Югры (с  филиалами), един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852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ОО “Окружной Бизнес–инкубатор” (с филиалами), един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852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О “Фонд микрофинансирования” (с филиалами), един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Таблица 1"/>
          <p:cNvGraphicFramePr/>
          <p:nvPr/>
        </p:nvGraphicFramePr>
        <p:xfrm>
          <a:off x="309960" y="325440"/>
          <a:ext cx="11561400" cy="6833160"/>
        </p:xfrm>
        <a:graphic>
          <a:graphicData uri="http://schemas.openxmlformats.org/drawingml/2006/table">
            <a:tbl>
              <a:tblPr/>
              <a:tblGrid>
                <a:gridCol w="3060720"/>
                <a:gridCol w="8500320"/>
              </a:tblGrid>
              <a:tr h="201240">
                <a:tc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ЗОВ: грани феномена (черт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ТВЕТ: специфичные виды/пробле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0860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«Срединность» положения между Арктикой и умеренной зон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кно возможностей шире, чем в Арктике, но уже, чем в умеренной зоне для северного предприним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61596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есурсность, монопрофи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висимость северного малого предпринимательства от стадии освоения природных активов. На стадии роста добычи минимум на стадии истощения максимум присутствия:стадия роста «глушит» малый бизнес, на стадии стабилизации ресурсный сервис субконтрактинга, на стадии обвального спада – добычное производство и сервис.  Диверсификация экономики силами малого бизн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11347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Холодовая (климатическая) дискомфор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льше вероятность получить господдержку для предпринимателя, чем в умеренной зоне – самих предпринимателей меньше (редкость предпринимательских ресурсов), а государство вынужденно щедрее (условия жестк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оритет энергосбережения и энергоэффективности в проектах малого бизнеса по сокращению северных издержек для других бизнесов и для себя. Бизнес в энергосервисе, теплоэнергообеспечении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овая широкая (защитная для местного сообщества) роль социального предпринимательства для смягчение дискомфорта внешней и жесткости рыноч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10310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ериферийност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Транспортная недоступ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едоступность институтов поддержки в периферийных территор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Широкая филиальная сеть инфраструктуры поддержки предприниматель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чевые экспедиции из региональных центров в северную глубинку для консультаций предпринимате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становка сенсорных информационных терминалах в труднодоступных поселени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нцип одного окна при оказании господдержки для уменьшения пространственных трансакционных издержек для предпринимателей. Совместная работа нескольких институтов развития предприниматель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049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Удаленность от крупных рын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нужденная инновационность предпринимателей с невесомой продукцие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пулярность франчайзинга на Сев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134208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еверные зарплатные удорожания (отпуск, районные коэффициенты, стажные надбавк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сокая доля работников привлекаемых на условиях трудовых соглашений (контрактов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 u="sng">
                          <a:solidFill>
                            <a:schemeClr val="dk1"/>
                          </a:solidFill>
                          <a:uFillTx/>
                          <a:latin typeface="Calibri"/>
                        </a:rPr>
                        <a:t>Предлож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сширить перечень расходов, вычитаемых из суммы налога при применении УСН с объектом налогообложения «доходы» и ЕНВД за счет включения в этот перечень расходов на оплату стоимости проезда и провоза багажа работников организаций, расположенных в районах Крайнего Севера и приравненных к ним местностям, к месту использования отпуска и обратно, в размере не более чем на 50% от суммы налога.Аналогичный механизм может быть использован в отношении патентной системы налогообложения (в случае ее применения индивидуальными предпринимателями с наемными работниками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049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сокие производственные издерж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равнительно с умеренной зоной малый уровень трансакционных издержек (коррупционной составляющей) взаимоотношений власти и бизнеса (вменяемость вла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049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нкуренция крупного и малого бизнеса за местные тал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убконтрактинг крупного и малого бизн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2012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алый размер местных рын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обильность (нестационарность) бизнеса, готовность работать на нескольких сопряженных малых рын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2012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Этни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циональное предпринимательство: этнический туриз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циональные (родовые) общ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40860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олодость (средний возраст населения менее 35 лет) и неопыт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олодежное предпринимательство как мощный феномен (до 31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оль малого и среднего бизнеса в экономике Югр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Таблица 2"/>
          <p:cNvGraphicFramePr/>
          <p:nvPr/>
        </p:nvGraphicFramePr>
        <p:xfrm>
          <a:off x="960840" y="1690560"/>
          <a:ext cx="8740800" cy="5167080"/>
        </p:xfrm>
        <a:graphic>
          <a:graphicData uri="http://schemas.openxmlformats.org/drawingml/2006/table">
            <a:tbl>
              <a:tblPr/>
              <a:tblGrid>
                <a:gridCol w="3872160"/>
                <a:gridCol w="988560"/>
                <a:gridCol w="988560"/>
                <a:gridCol w="931680"/>
                <a:gridCol w="980280"/>
                <a:gridCol w="978480"/>
              </a:tblGrid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1068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ичество субъектов малого и среднего предпринимательства (без учета индивидуальных предпринимателей), един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0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58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4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7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526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ндивидуальные предприниматели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9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6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98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797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реднесписочная численность работающих на малых и средних предприятиях, тыс.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1050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ля работающих на предприятиях малого и среднего предпринимательства в общей численности работающих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6933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орот предприятий малого и среднего предпринимательства, млрд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7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6933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ля в объеме валового регионального продукта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18682560" cy="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451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15557040" cy="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55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16421040" cy="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5920" bIns="2592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" descr="2"/>
          <p:cNvPicPr/>
          <p:nvPr/>
        </p:nvPicPr>
        <p:blipFill>
          <a:blip r:embed="rId1"/>
          <a:stretch/>
        </p:blipFill>
        <p:spPr>
          <a:xfrm>
            <a:off x="0" y="0"/>
            <a:ext cx="12191760" cy="54860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450000" y="5765400"/>
            <a:ext cx="1095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предпринимательской активности. Число малых и средних предприятий на 1000 человек насе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225960" cy="5656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518760" y="5842800"/>
            <a:ext cx="938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м инвестиций в основные фонды малых предприятий в расчете на 1000 чел., млн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12225960" cy="565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  <Words>665</Words>
  <Paragraphs>1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9T21:27:37Z</dcterms:created>
  <dc:creator>Александр Пилясов</dc:creator>
  <dc:description/>
  <dc:language>en-US</dc:language>
  <cp:lastModifiedBy>Александр Пилясов</cp:lastModifiedBy>
  <dcterms:modified xsi:type="dcterms:W3CDTF">2016-11-29T21:42:30Z</dcterms:modified>
  <cp:revision>10</cp:revision>
  <dc:subject/>
  <dc:title>Малое предпринимательство Юг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0</vt:r8>
  </property>
</Properties>
</file>