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CD7-F3FB-41A1-8AEF-69154F22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039-42A9-430E-805C-1BFEA716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CD2-45D3-4678-B785-1632F02B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52C-5832-4153-9A4B-C4BB752A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AFDA-11A9-480F-9F8F-8FEEFFF1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1756-05FC-411F-A07D-B6087089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A339-66F2-488D-917A-940A00E1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7F88-D10B-41C1-A4B2-69E42215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C04F-56A1-4DA8-851F-290FA435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93E3-364B-4A3C-A158-8D02C1E2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7166-B03A-4C3B-AF56-C99AA9B9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DAC-B882-4A12-B2F5-CC28A271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BE00-0EA1-4F17-B10A-CF53114D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CC57-3260-4FC2-A0DD-81274135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578F-5ACE-4B5B-8B4B-54643FB7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3723-4502-4814-8C5C-AE1E794A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192C-ADAE-4025-B181-5951C632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B13E7-C1E6-41B7-81F5-2FE66EB9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0F5B5-6280-4B70-93E6-CB8EB8E0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6999E-A4E8-4681-A269-5FA3407A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E14D9-CB3A-4B9D-915E-488A6FB2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0C500-B7E7-4889-8EA3-C2ACF69F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69FF-4B02-4E8C-9BE4-DEB49741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7175-3D51-4060-9F97-38BFBFEB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0E90A-E4AD-4234-8F2B-570039BC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1E862-78DE-49B1-95AB-2703055D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6A278-9613-43E8-BB6C-9BE098A5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69E61-939B-4F67-8C70-D3EABBC6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BB932-F593-407A-980F-12839C42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FE8D2-7F82-49F3-97E3-187A170A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BA22-49AC-49A1-9142-FC37D2C2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3AC-03EA-4489-9F0A-BA44AF28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36D-DD7E-4B4C-A84A-51841017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BF8-FA06-406E-BEB8-1EA52916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C762-9AE4-4A6A-B93C-5DF2A715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52B9-0883-4FBB-80EB-2A0319EA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CC2B72-FBD8-4945-8403-84F8D90DC9B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17642B-7EBC-4D0E-BDCC-67FBEE31408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B01A45-BE36-4A58-9052-E295CB828FE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Малое предпринимательство Югры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18771840" cy="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9520" bIns="2952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Диаграмма 14" descr=""/>
          <p:cNvPicPr/>
          <p:nvPr/>
        </p:nvPicPr>
        <p:blipFill>
          <a:blip r:embed="rId1"/>
          <a:stretch/>
        </p:blipFill>
        <p:spPr>
          <a:xfrm>
            <a:off x="0" y="0"/>
            <a:ext cx="9190080" cy="66794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"/>
          <p:cNvSpPr/>
          <p:nvPr/>
        </p:nvSpPr>
        <p:spPr>
          <a:xfrm>
            <a:off x="9376560" y="1064160"/>
            <a:ext cx="28152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ля внешних совместителей в числе работающих на малых предприятиях, %. Регионы РФ с наиболее высокой долей внешних совмест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Доля строительных фирм в общем числе малых предприятий, %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332160" y="2479680"/>
            <a:ext cx="1219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Диаграмма 1" descr=""/>
          <p:cNvPicPr/>
          <p:nvPr/>
        </p:nvPicPr>
        <p:blipFill>
          <a:blip r:embed="rId1"/>
          <a:stretch/>
        </p:blipFill>
        <p:spPr>
          <a:xfrm>
            <a:off x="1751400" y="1690560"/>
            <a:ext cx="9602280" cy="50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еографическое расширение объектов предпринимательской инфраструктуры в Югр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Таблица 2"/>
          <p:cNvGraphicFramePr/>
          <p:nvPr/>
        </p:nvGraphicFramePr>
        <p:xfrm>
          <a:off x="852480" y="1890720"/>
          <a:ext cx="10343160" cy="4261680"/>
        </p:xfrm>
        <a:graphic>
          <a:graphicData uri="http://schemas.openxmlformats.org/drawingml/2006/table">
            <a:tbl>
              <a:tblPr/>
              <a:tblGrid>
                <a:gridCol w="4568040"/>
                <a:gridCol w="70920"/>
                <a:gridCol w="1427040"/>
                <a:gridCol w="1545120"/>
                <a:gridCol w="1391760"/>
                <a:gridCol w="1339560"/>
              </a:tblGrid>
              <a:tr h="852120">
                <a:tc grid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1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852120">
                <a:tc gridSpan="6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рганизации инфраструктуры поддер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Фонд поддержки предпринимательства Югры (с  филиалами), един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852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ОО “Окружной Бизнес–инкубатор” (с филиалами), един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852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О “Фонд микрофинансирования” (с филиалами), един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Таблица 1"/>
          <p:cNvGraphicFramePr/>
          <p:nvPr/>
        </p:nvGraphicFramePr>
        <p:xfrm>
          <a:off x="309960" y="325440"/>
          <a:ext cx="11561400" cy="6833160"/>
        </p:xfrm>
        <a:graphic>
          <a:graphicData uri="http://schemas.openxmlformats.org/drawingml/2006/table">
            <a:tbl>
              <a:tblPr/>
              <a:tblGrid>
                <a:gridCol w="3060720"/>
                <a:gridCol w="8500320"/>
              </a:tblGrid>
              <a:tr h="201240">
                <a:tc>
                  <a:txBody>
                    <a:bodyPr lIns="30600" rIns="30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ЫЗОВ: грани феномена (черт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ТВЕТ: специфичные виды/проблем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0860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«Срединность» положения между Арктикой и умеренной зон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кно возможностей шире, чем в Арктике, но уже, чем в умеренной зоне для северного предприним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61596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есурсность, монопрофи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ависимость северного малого предпринимательства от стадии освоения природных активов. На стадии роста добычи минимум на стадии истощения максимум присутствия:стадия роста «глушит» малый бизнес, на стадии стабилизации ресурсный сервис субконтрактинга, на стадии обвального спада – добычное производство и сервис.  Диверсификация экономики силами малого бизн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11347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Холодовая (климатическая) дискомфор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ольше вероятность получить господдержку для предпринимателя, чем в умеренной зоне – самих предпринимателей меньше (редкость предпринимательских ресурсов), а государство вынужденно щедрее (условия жестк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иоритет энергосбережения и энергоэффективности в проектах малого бизнеса по сокращению северных издержек для других бизнесов и для себя. Бизнес в энергосервисе, теплоэнергообеспечении и 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овая широкая (защитная для местного сообщества) роль социального предпринимательства для смягчение дискомфорта внешней и жесткости рыночной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10310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ериферийность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Транспортная недоступ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едоступность институтов поддержки в периферийных территор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Широкая филиальная сеть инфраструктуры поддержки предприниматель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чевые экспедиции из региональных центров в северную глубинку для консультаций предпринимател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становка сенсорных информационных терминалах в труднодоступных поселения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инцип одного окна при оказании господдержки для уменьшения пространственных трансакционных издержек для предпринимателей. Совместная работа нескольких институтов развития предприниматель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049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Удаленность от крупных рын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нужденная инновационность предпринимателей с невесомой продукцией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пулярность франчайзинга на Сев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134208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еверные зарплатные удорожания (отпуск, районные коэффициенты, стажные надбавк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сокая доля работников привлекаемых на условиях трудовых соглашений (контрактов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 u="sng">
                          <a:solidFill>
                            <a:schemeClr val="dk1"/>
                          </a:solidFill>
                          <a:uFillTx/>
                          <a:latin typeface="Calibri"/>
                        </a:rPr>
                        <a:t>Предложени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асширить перечень расходов, вычитаемых из суммы налога при применении УСН с объектом налогообложения «доходы» и ЕНВД за счет включения в этот перечень расходов на оплату стоимости проезда и провоза багажа работников организаций, расположенных в районах Крайнего Севера и приравненных к ним местностям, к месту использования отпуска и обратно, в размере не более чем на 50% от суммы налога.Аналогичный механизм может быть использован в отношении патентной системы налогообложения (в случае ее применения индивидуальными предпринимателями с наемными работниками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049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ысокие производственные издерж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равнительно с умеренной зоной малый уровень трансакционных издержек (коррупционной составляющей) взаимоотношений власти и бизнеса (вменяемость вла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3049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онкуренция крупного и малого бизнеса за местные тал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убконтрактинг крупного и малого бизн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2012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алый размер местных рын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обильность (нестационарность) бизнеса, готовность работать на нескольких сопряженных малых рын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2012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Этни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циональное предпринимательство: этнический туризм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циональные (родовые) общ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40860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олодость (средний возраст населения менее 35 лет) и неопыт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олодежное предпринимательство как мощный феномен (до 31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оль малого и среднего бизнеса в экономике Югры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Таблица 2"/>
          <p:cNvGraphicFramePr/>
          <p:nvPr/>
        </p:nvGraphicFramePr>
        <p:xfrm>
          <a:off x="960840" y="1690560"/>
          <a:ext cx="8740800" cy="5167080"/>
        </p:xfrm>
        <a:graphic>
          <a:graphicData uri="http://schemas.openxmlformats.org/drawingml/2006/table">
            <a:tbl>
              <a:tblPr/>
              <a:tblGrid>
                <a:gridCol w="3872160"/>
                <a:gridCol w="988560"/>
                <a:gridCol w="988560"/>
                <a:gridCol w="931680"/>
                <a:gridCol w="980280"/>
                <a:gridCol w="978480"/>
              </a:tblGrid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10688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личество субъектов малого и среднего предпринимательства (без учета индивидуальных предпринимателей), един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0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58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4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7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5263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ндивидуальные предприниматели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9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26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98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0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2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797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реднесписочная численность работающих на малых и средних предприятиях, тыс.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10508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ля работающих на предприятиях малого и среднего предпринимательства в общей численности работающих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6933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орот предприятий малого и среднего предпринимательства, млрд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7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1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5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6933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ля в объеме валового регионального продукта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18682560" cy="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451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15557040" cy="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55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16421040" cy="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5920" bIns="2592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1" descr="2"/>
          <p:cNvPicPr/>
          <p:nvPr/>
        </p:nvPicPr>
        <p:blipFill>
          <a:blip r:embed="rId1"/>
          <a:stretch/>
        </p:blipFill>
        <p:spPr>
          <a:xfrm>
            <a:off x="0" y="0"/>
            <a:ext cx="12191760" cy="54860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"/>
          <p:cNvSpPr/>
          <p:nvPr/>
        </p:nvSpPr>
        <p:spPr>
          <a:xfrm>
            <a:off x="450000" y="5765400"/>
            <a:ext cx="1095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предпринимательской активности. Число малых и средних предприятий на 1000 человек насе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225960" cy="5656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518760" y="5842800"/>
            <a:ext cx="938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м инвестиций в основные фонды малых предприятий в расчете на 1000 чел., млн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12225960" cy="565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  <Words>665</Words>
  <Paragraphs>10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9T21:27:37Z</dcterms:created>
  <dc:creator>Александр Пилясов</dc:creator>
  <dc:description/>
  <dc:language>en-US</dc:language>
  <cp:lastModifiedBy>Александр Пилясов</cp:lastModifiedBy>
  <dcterms:modified xsi:type="dcterms:W3CDTF">2016-11-29T21:42:30Z</dcterms:modified>
  <cp:revision>10</cp:revision>
  <dc:subject/>
  <dc:title>Малое предпринимательство Югр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0</vt:r8>
  </property>
</Properties>
</file>