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9ED-2386-42BB-A700-3258AAE0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0AA-ABB2-47A1-8110-D67AF449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D87-272B-4496-B86F-9D067055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4F22-16D9-4233-828C-ABA91BA0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A28A-9DA9-40EF-8EBF-26EC0BD2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B934-59D7-4238-9E13-0E57C7E4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7737-C5D6-4826-8DE9-40D70BEF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6B84-D1CB-4603-BA08-5DE8F37B7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0AA9-24B7-4EC5-B37A-778CA6A6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FCAA-85BE-4B44-A6F3-6AB55310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4DF2-038C-44C7-A645-A02FBB7D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8FA4-60D8-4245-9D1E-A22ED56C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E6DA-E170-40BA-8C3C-DEF4586A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9676-C59D-4BB4-A62B-B879FC5C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1B7B-394D-423E-BEA5-79F1D900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0260-6D65-415B-A77F-942B8F1D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6C8C-A12A-4151-80A4-3232F9D7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41733-06E5-4FF1-9C51-278C04FF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4EF1D-5F05-42D3-BFEB-2EEF450E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81605-7F07-492E-8738-EAC7652D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60041-6146-453C-BCFE-2D65DEB4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7996B-63A9-48D7-8EA4-2FCBBAAC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FF4-FCE4-4077-9AAA-83CB7848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299B4-C5E3-4996-97A1-095DFA54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7E3A4-4018-49EF-824D-312A55C8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8B109-4438-46CA-ADDB-11AC506E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55FA4-D1A3-44CA-9AAE-919AC071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09D35-9D5B-4683-BF6D-60415AF0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EFA84-8166-4521-B0D9-79063695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DC4A0-9370-45AA-87E5-7E2E07C8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2EA-7B1B-4454-9A86-6E952E64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7A1C-9FD5-4236-9691-3F13F4EA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70CC-C8F1-4AC4-94D9-3B04B575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4058-B938-4BC2-AD94-5E39669F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C75-D26B-4E55-8F26-E2076731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7AF-2393-452B-A442-2BC0E21A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5F1796-9FDE-47D2-9F85-62561270867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3C4C74-4C12-4CD9-AC12-4EC332CAA85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9DAC62-A95B-4731-9366-4AAD214F6A4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Малое предпринимательство Югры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18771840" cy="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9520" bIns="2952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Диаграмма 14" descr=""/>
          <p:cNvPicPr/>
          <p:nvPr/>
        </p:nvPicPr>
        <p:blipFill>
          <a:blip r:embed="rId1"/>
          <a:stretch/>
        </p:blipFill>
        <p:spPr>
          <a:xfrm>
            <a:off x="0" y="0"/>
            <a:ext cx="9190080" cy="66794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"/>
          <p:cNvSpPr/>
          <p:nvPr/>
        </p:nvSpPr>
        <p:spPr>
          <a:xfrm>
            <a:off x="9376560" y="1064160"/>
            <a:ext cx="28152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ля внешних совместителей в числе работающих на малых предприятиях, %. Регионы РФ с наиболее высокой долей внешних совмест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Доля строительных фирм в общем числе малых предприятий, %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332160" y="2479680"/>
            <a:ext cx="1219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Диаграмма 1" descr=""/>
          <p:cNvPicPr/>
          <p:nvPr/>
        </p:nvPicPr>
        <p:blipFill>
          <a:blip r:embed="rId1"/>
          <a:stretch/>
        </p:blipFill>
        <p:spPr>
          <a:xfrm>
            <a:off x="1751400" y="1690560"/>
            <a:ext cx="9602280" cy="50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Географическое расширение объектов предпринимательской инфраструктуры в Югр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Таблица 2"/>
          <p:cNvGraphicFramePr/>
          <p:nvPr/>
        </p:nvGraphicFramePr>
        <p:xfrm>
          <a:off x="852480" y="1890720"/>
          <a:ext cx="10343160" cy="4261680"/>
        </p:xfrm>
        <a:graphic>
          <a:graphicData uri="http://schemas.openxmlformats.org/drawingml/2006/table">
            <a:tbl>
              <a:tblPr/>
              <a:tblGrid>
                <a:gridCol w="4568040"/>
                <a:gridCol w="70920"/>
                <a:gridCol w="1427040"/>
                <a:gridCol w="1545120"/>
                <a:gridCol w="1391760"/>
                <a:gridCol w="1339560"/>
              </a:tblGrid>
              <a:tr h="852120">
                <a:tc grid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0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1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852120">
                <a:tc gridSpan="6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рганизации инфраструктуры поддер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Фонд поддержки предпринимательства Югры (с  филиалами), един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852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ОО “Окружной Бизнес–инкубатор” (с филиалами), един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852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О “Фонд микрофинансирования” (с филиалами), един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gridSpan="2"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Таблица 1"/>
          <p:cNvGraphicFramePr/>
          <p:nvPr/>
        </p:nvGraphicFramePr>
        <p:xfrm>
          <a:off x="309960" y="325440"/>
          <a:ext cx="11561400" cy="6833160"/>
        </p:xfrm>
        <a:graphic>
          <a:graphicData uri="http://schemas.openxmlformats.org/drawingml/2006/table">
            <a:tbl>
              <a:tblPr/>
              <a:tblGrid>
                <a:gridCol w="3060720"/>
                <a:gridCol w="8500320"/>
              </a:tblGrid>
              <a:tr h="201240">
                <a:tc>
                  <a:txBody>
                    <a:bodyPr lIns="30600" rIns="30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ЫЗОВ: грани феномена (черт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ТВЕТ: специфичные виды/проблем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0860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«Срединность» положения между Арктикой и умеренной зон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кно возможностей шире, чем в Арктике, но уже, чем в умеренной зоне для северного предприним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61596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есурсность, монопрофи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ависимость северного малого предпринимательства от стадии освоения природных активов. На стадии роста добычи минимум на стадии истощения максимум присутствия:стадия роста «глушит» малый бизнес, на стадии стабилизации ресурсный сервис субконтрактинга, на стадии обвального спада – добычное производство и сервис.  Диверсификация экономики силами малого бизн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11347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Холодовая (климатическая) дискомфор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ольше вероятность получить господдержку для предпринимателя, чем в умеренной зоне – самих предпринимателей меньше (редкость предпринимательских ресурсов), а государство вынужденно щедрее (условия жестк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иоритет энергосбережения и энергоэффективности в проектах малого бизнеса по сокращению северных издержек для других бизнесов и для себя. Бизнес в энергосервисе, теплоэнергообеспечении и 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овая широкая (защитная для местного сообщества) роль социального предпринимательства для смягчение дискомфорта внешней и жесткости рыночной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10310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ериферийность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Транспортная недоступ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едоступность институтов поддержки в периферийных территория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Широкая филиальная сеть инфраструктуры поддержки предприниматель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чевые экспедиции из региональных центров в северную глубинку для консультаций предпринимател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становка сенсорных информационных терминалах в труднодоступных поселения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инцип одного окна при оказании господдержки для уменьшения пространственных трансакционных издержек для предпринимателей. Совместная работа нескольких институтов развития предприниматель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049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Удаленность от крупных рын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нужденная инновационность предпринимателей с невесомой продукцией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пулярность франчайзинга на Сев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134208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еверные зарплатные удорожания (отпуск, районные коэффициенты, стажные надбавк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сокая доля работников привлекаемых на условиях трудовых соглашений (контрактов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 u="sng">
                          <a:solidFill>
                            <a:schemeClr val="dk1"/>
                          </a:solidFill>
                          <a:uFillTx/>
                          <a:latin typeface="Calibri"/>
                        </a:rPr>
                        <a:t>Предложени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асширить перечень расходов, вычитаемых из суммы налога при применении УСН с объектом налогообложения «доходы» и ЕНВД за счет включения в этот перечень расходов на оплату стоимости проезда и провоза багажа работников организаций, расположенных в районах Крайнего Севера и приравненных к ним местностям, к месту использования отпуска и обратно, в размере не более чем на 50% от суммы налога.Аналогичный механизм может быть использован в отношении патентной системы налогообложения (в случае ее применения индивидуальными предпринимателями с наемными работниками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3049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ысокие производственные издерж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равнительно с умеренной зоной малый уровень трансакционных издержек (коррупционной составляющей) взаимоотношений власти и бизнеса (вменяемость вла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3049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онкуренция крупного и малого бизнеса за местные тала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убконтрактинг крупного и малого бизне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2012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алый размер местных рын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обильность (нестационарность) бизнеса, готовность работать на нескольких сопряженных малых рын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  <a:tr h="2012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Этни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циональное предпринимательство: этнический туризм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циональные (родовые) общ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40860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олодость (средний возраст населения менее 35 лет) и неопыт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Молодежное предпринимательство как мощный феномен (до 31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d5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оль малого и среднего бизнеса в экономике Югры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Таблица 2"/>
          <p:cNvGraphicFramePr/>
          <p:nvPr/>
        </p:nvGraphicFramePr>
        <p:xfrm>
          <a:off x="960840" y="1690560"/>
          <a:ext cx="8740800" cy="5167080"/>
        </p:xfrm>
        <a:graphic>
          <a:graphicData uri="http://schemas.openxmlformats.org/drawingml/2006/table">
            <a:tbl>
              <a:tblPr/>
              <a:tblGrid>
                <a:gridCol w="3872160"/>
                <a:gridCol w="988560"/>
                <a:gridCol w="988560"/>
                <a:gridCol w="931680"/>
                <a:gridCol w="980280"/>
                <a:gridCol w="978480"/>
              </a:tblGrid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10688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личество субъектов малого и среднего предпринимательства (без учета индивидуальных предпринимателей), един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0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58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34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7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5263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ндивидуальные предприниматели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9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26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98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0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2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7974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реднесписочная численность работающих на малых и средних предприятиях, тыс.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10508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ля работающих на предприятиях малого и среднего предпринимательства в общей численности работающих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6933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орот предприятий малого и среднего предпринимательства, млрд. руб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9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3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7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1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5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  <a:tr h="6933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ля в объеме валового регионального продукта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030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4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7840">
                        <a:lnSpc>
                          <a:spcPct val="115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18682560" cy="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4514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15557040" cy="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2680" bIns="2268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55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16421040" cy="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5920" bIns="25920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1" descr="2"/>
          <p:cNvPicPr/>
          <p:nvPr/>
        </p:nvPicPr>
        <p:blipFill>
          <a:blip r:embed="rId1"/>
          <a:stretch/>
        </p:blipFill>
        <p:spPr>
          <a:xfrm>
            <a:off x="0" y="0"/>
            <a:ext cx="12191760" cy="54860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"/>
          <p:cNvSpPr/>
          <p:nvPr/>
        </p:nvSpPr>
        <p:spPr>
          <a:xfrm>
            <a:off x="450000" y="5765400"/>
            <a:ext cx="1095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предпринимательской активности. Число малых и средних предприятий на 1000 человек насе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225960" cy="5656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518760" y="5842800"/>
            <a:ext cx="9384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−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м инвестиций в основные фонды малых предприятий в расчете на 1000 чел., млн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12225960" cy="565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  <Words>665</Words>
  <Paragraphs>10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9T21:27:37Z</dcterms:created>
  <dc:creator>Александр Пилясов</dc:creator>
  <dc:description/>
  <dc:language>en-US</dc:language>
  <cp:lastModifiedBy>Александр Пилясов</cp:lastModifiedBy>
  <dcterms:modified xsi:type="dcterms:W3CDTF">2016-11-29T21:42:30Z</dcterms:modified>
  <cp:revision>10</cp:revision>
  <dc:subject/>
  <dc:title>Малое предпринимательство Югр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0</vt:r8>
  </property>
</Properties>
</file>