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5ED-B3DB-434C-A90C-4D8B3247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0AA-84DE-4E7B-BB80-E5B4373F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57A-4C7E-4A7C-8530-756027DF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1E4-E56F-496D-B9E0-0AE8FEA4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B91B-4F1A-4159-8A2D-5E01F39F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BF32-20EE-4729-A22E-67796B52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90CB-BC78-4B3A-A428-451FC75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1E9A-F630-4251-A6BA-B3B29331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0D47-A65D-43C9-AB97-6E717C6F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9190-AAEB-49B7-9BBC-F5C1424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DF1-B34E-4A4A-BD00-52ACAF0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1D3-C07B-4A95-8C46-49F666B1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E46E-3F7C-4708-AAF5-2A61DEC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1939-B706-4E6B-86CD-D567B30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B448-306F-4DF7-B09F-38A2DC5A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6286-BE2D-486E-8B20-629AF51C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F69B-2303-4E2E-B4AB-E4A52FF5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AC86-AAA7-4B29-8BF8-F5D109A8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D463-43CD-4A20-A72C-C373529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5DC3-F435-482B-A62C-8234F09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ED92-29A6-4C89-9A3D-94CC9F75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9588-6FDC-4EC8-8D3D-5B87B697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B82-2BF9-4EF7-AA32-F202F04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0445-F42C-4B34-8CC5-63528DE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A1F4-38CE-42D7-B1B1-DC8E419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B7C0-B3E1-424B-B5CA-913703BD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8324-1B42-4048-878C-EFF6C6E0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2214-5CBE-4654-82AF-FDE8CD09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D7A1-1C42-4BAF-8BC9-C0F5D8C7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6A7C-8FAD-410A-9F10-FFF2A233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EBC-634D-4F17-87DD-A69EE4C7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523-A9E6-4460-9E38-B01FC38E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69B-8A33-4F37-9E9C-37680518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C70-4FB3-45EA-AC89-B1BF059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79C-94E0-4311-BA51-8C7430B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E1A-89E0-4EDB-9DF6-8D83224A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17F0AB-2628-4313-92C4-5907B08F3D5B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860D43-A2FF-4994-A9FD-87488CEC8435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4E6B5-AE4F-4EED-B0E6-22EEA055DAEA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72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АНАЛИЗ АССОРТИМЕНТА И ЭКСПЕРТИЗА КАЧЕСТВА МАЙОНЕЗА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6400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8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тудентка 4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ециальности (направл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енеджмент (логис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чная форма обуч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руппа 36М132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атхуллина А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3640" cy="64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9" name="Таблица 2"/>
          <p:cNvGraphicFramePr/>
          <p:nvPr/>
        </p:nvGraphicFramePr>
        <p:xfrm>
          <a:off x="0" y="0"/>
          <a:ext cx="9143640" cy="7408800"/>
        </p:xfrm>
        <a:graphic>
          <a:graphicData uri="http://schemas.openxmlformats.org/drawingml/2006/table">
            <a:tbl>
              <a:tblPr/>
              <a:tblGrid>
                <a:gridCol w="2133360"/>
                <a:gridCol w="7010280"/>
              </a:tblGrid>
              <a:tr h="684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Требования для органолептических характеристик майо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Характеристика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075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нешний вид, консис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Однородный сметанообразный продукт; допускаются единичные пузырьки воздуха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Для майонезных соусов допускается более жидкая сметанообразная, слегка тянущаяся и желеобразная консистенция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Допускается наличие включений в случае внесения измельченных вкусоароматических добавок, в том числе натуральных,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11181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кус и 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кус слегка острый, кисловатый, с запахом и привкусом внесенных вкусоароматических добавок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3698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От белого до желтовато-кремового, однородный по всей массе или обусловленный внесенными добавками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51" name="Таблица 2"/>
          <p:cNvGraphicFramePr/>
          <p:nvPr/>
        </p:nvGraphicFramePr>
        <p:xfrm>
          <a:off x="0" y="0"/>
          <a:ext cx="9143640" cy="738288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  <a:gridCol w="3047760"/>
              </a:tblGrid>
              <a:tr h="763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Требования для физико-химических характеристик майо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2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йон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йонезные со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81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ссовая доля жира, %, не менее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81324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Массовая доля влаги, %,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2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 соответствии с техническим документом на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Массовая доля яичных продуктов в пересчете на сухой желток, %, не ме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е регламентир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Кислотность, % в пересчете на уксусную кислоту,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Стойкость эмульсии, процент неразрушенной эмульсии, не ме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813240">
                <a:tc gridSpan="3"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* Конкретное значение массовой доли жира указывают в техническом документе на продукт конкретного наимен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Тара и упаковка должны соответствовать требованиям санитарии и стандартов или технических условий и обеспечивать сохранность майонезов при транспортировании и хранении.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Упаковывают майонез: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стеклянные банки массой 100-25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тубы из алюминия или из полимерных материалов массой 50-25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стаканы и банки из полимерных материалов массой 250-5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пластиковые ведра массой 750-60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пластиковые бутылки массой 9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пакеты из полимерных материалов массой 100,150 и 200 г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Майонез должен храниться у изготовителя и потребителя в складских охлаждаемых помещениях или холодильниках при циркуляции воздуха, при температуре не ниже 0°С и не выше 18°С, при относительной влажности воздуха не более 75%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ля проведения экспертизы качества майонеза были выбраны следующие образцы: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1 – «Махеевъ. Провансаль» – майонез высококалорийный, жирность 67%.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2 – «Ряба. Провансаль» – майонез высококалорийный, жирность 67% .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3 – «Слобода. Провансаль» – майонез высококалорийный, жирность 67%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721499_fullimage.jpg"/>
          <p:cNvPicPr/>
          <p:nvPr/>
        </p:nvPicPr>
        <p:blipFill>
          <a:blip r:embed="rId1"/>
          <a:stretch/>
        </p:blipFill>
        <p:spPr>
          <a:xfrm>
            <a:off x="3124080" y="1600200"/>
            <a:ext cx="3084480" cy="34372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prov.jpg"/>
          <p:cNvPicPr/>
          <p:nvPr/>
        </p:nvPicPr>
        <p:blipFill>
          <a:blip r:embed="rId2"/>
          <a:stretch/>
        </p:blipFill>
        <p:spPr>
          <a:xfrm>
            <a:off x="6400800" y="2209680"/>
            <a:ext cx="2742840" cy="4334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ryaba_provans.gif"/>
          <p:cNvPicPr/>
          <p:nvPr/>
        </p:nvPicPr>
        <p:blipFill>
          <a:blip r:embed="rId3"/>
          <a:stretch/>
        </p:blipFill>
        <p:spPr>
          <a:xfrm>
            <a:off x="609480" y="2362320"/>
            <a:ext cx="2371320" cy="40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39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ервым этапом проведения экспертизы качества стало изучение маркировки майонезов. Экспертиза проводилась на основании требований ГОСТ 31761-2012. Данные о результатах экспертизы проиллюстрированы в следующей таблице.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Таблица 1"/>
          <p:cNvGraphicFramePr/>
          <p:nvPr/>
        </p:nvGraphicFramePr>
        <p:xfrm>
          <a:off x="0" y="0"/>
          <a:ext cx="9143640" cy="8229960"/>
        </p:xfrm>
        <a:graphic>
          <a:graphicData uri="http://schemas.openxmlformats.org/drawingml/2006/table">
            <a:tbl>
              <a:tblPr/>
              <a:tblGrid>
                <a:gridCol w="2061360"/>
                <a:gridCol w="2532240"/>
                <a:gridCol w="2184120"/>
                <a:gridCol w="2365560"/>
              </a:tblGrid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аиме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ЗАО «Эссен продакшн АГ», Россия, 445142, Самарская обл., Ставрапольский район, с.Васильевка, ул.Коллективная, д 54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АО «Нижегородский масложировой комбинат». Адрес: Россия, 603950, г.Нижний Новгород, ш. Жиркомбинат, 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АО "ЭФКО". Адрес: Россия, 309850, Белгородская обл., г.Алексеевка, ул.Фрунзе, д.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са (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ормативный доку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ицевой состав на 100 г.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ки 0,5г, Жиры 6,7г, Углеводы 2,1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Жиры 67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ки 3,0г, Жиры 67г, Углеводы 2.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Срок го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˚…+14˚ - 180 сут.; свыше 14˚…+20 – 90 с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Constantia"/>
                        <a:ea typeface="Calibri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˚…+10 – 90 сут; +10˚…+18˚- 45 с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ирменное 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ло подсолнечное, вода, яичный желток, сахар, соль, уксус из пищевого сырья, масло горчичное, сорбино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Масло подсолнечное, вода, сахар, яичные продукты, соль, уксус, эфирное горчичное масло, провитамин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одсолнечное масло, вода, яичный желток, сухое молоко, сахар, соль поваренная, уксусная кислота, горчичное мас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Рекомендации по хра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аименование ФЗ и ГО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Р 53590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Р 53590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3176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9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Доп. информ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ез ГМО, марка премиум, без крахмала, с витамином А, без искусственных ароматизаторов и крас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ез ГМО, с маслом первого отж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Товар года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Таблица 1"/>
          <p:cNvGraphicFramePr/>
          <p:nvPr/>
        </p:nvGraphicFramePr>
        <p:xfrm>
          <a:off x="0" y="990720"/>
          <a:ext cx="9143640" cy="7038720"/>
        </p:xfrm>
        <a:graphic>
          <a:graphicData uri="http://schemas.openxmlformats.org/drawingml/2006/table">
            <a:tbl>
              <a:tblPr/>
              <a:tblGrid>
                <a:gridCol w="1845000"/>
                <a:gridCol w="1698840"/>
                <a:gridCol w="1870560"/>
                <a:gridCol w="1870560"/>
                <a:gridCol w="1857960"/>
              </a:tblGrid>
              <a:tr h="557280"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Требования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Характеристика образ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Запах и в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чистые, слегка острые, кисловатые, без горечи, соответствовать данному виду майонеза без посторонних привкусов и запах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Внешний вид и консист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сметанообразный продукт с единичными пузырьками возду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ый или кремовато-желтый по всей массе, установленными техническими опис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0899a0"/>
            </a:solidFill>
            <a:round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рганолептические показатели образцов майоне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0899a0"/>
            </a:solidFill>
            <a:round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Физико-химические показатели образцов майоне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62" name="Таблица 2"/>
          <p:cNvGraphicFramePr/>
          <p:nvPr/>
        </p:nvGraphicFramePr>
        <p:xfrm>
          <a:off x="0" y="1143000"/>
          <a:ext cx="9143640" cy="5818680"/>
        </p:xfrm>
        <a:graphic>
          <a:graphicData uri="http://schemas.openxmlformats.org/drawingml/2006/table">
            <a:tbl>
              <a:tblPr/>
              <a:tblGrid>
                <a:gridCol w="2793960"/>
                <a:gridCol w="1510200"/>
                <a:gridCol w="1627200"/>
                <a:gridCol w="1609560"/>
                <a:gridCol w="1602000"/>
              </a:tblGrid>
              <a:tr h="80748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ормы по Г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28119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актические д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совая доля влаг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более 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9,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8,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9,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т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более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0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.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Стойкость эмульси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менее 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circle">
              <a:fillToRect l="50000" t="100000" r="50000" b="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57240" rotWithShape="0">
              <a:srgbClr val="032647">
                <a:alpha val="48000"/>
              </a:srgbClr>
            </a:outerShdw>
          </a:effectLst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356ac9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560" cy="577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айонез - сметанообразная мелкодисперсная эмульсия типа «масло в воде», приготовленная из рафинированных дезодорированных растительных масел с добавлением эмульгаторов, стабилизаторов, вкусовых добавок и пряностей, разрешенных органами государственного санитарно-эпидемиологического надзора. Майонезы применяются в качестве приправы для улучшения вкуса и усвояемости продуктов, а также в качестве добавки при изготовлении пищевых продукт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айонез является наиболее употребляемым товаром, относящимся к пищевым жира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Цель контрольной работы: изучить товароведную характеристику и провести оценку качества высококалорийных майонезов «Ряба», «Слобода», «Махеевъ»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Для достижения поставленной цели необходимо решить следующие задачи:</a:t>
            </a: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- Изучить товароведную характеристику майонеза - состав, пищевую ценность, сырье, классификацию.</a:t>
            </a: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- Провести сравнительные исследования отобранных образцов майонеза по органолептическим и физико-химическим показателям качества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Объектом исследования является майонез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Предмет исследования - качество выбранных трех товарных образцов майонеза.</a:t>
            </a:r>
            <a:br>
              <a:rPr sz="2400"/>
            </a:b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92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ищевая ценность майонеза определяется содержанием растительного масла (30-66 %) и тем, что он представляет собой эмульсию прямого типа, легко усваиваемую организм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нергетическая ценность майонеза зависит от содержания в нем растительного масла и составляет в среднем от 300 до 628 кка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704160"/>
            <a:ext cx="861012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Согласно ГОСТ 30004.1-93 «Майонезы. Общие технические условия» майонез классифицируется по содержанию растительного масла на три групп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ысококалорийные с содержанием масла более 55%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Среднекалорийные с содержанием масла в пределах 40% - 55%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Низкокалорийные с содержанием масла менее 40%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77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о характеру содержащихся специй и добавок различают следующие майонезы: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 томатом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 хреном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«Южный»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алатный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витаминизированный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лимонный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зависимости от состава и назначения майонезы подразделяют н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Закусочные майонезы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Десертные майонезы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Диетические майонез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 консистенции майонезы подразделяют н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сметанообразные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порошкообразные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пастообразные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амыми известными торговыми марками на российском рынке являются: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CALVE» (ООО «Юнилевер Русь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MRRicco» и «Ласка» (ОАО «Казанский жировой комбинат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Скит» (ООО «Компания Скит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Обжорка» и «Ермак» (ООО «Счастливые времена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Янта» (ОАО «Иркутский МЖК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Моя семья» и «Мечта хозяйки» (компания «Hainz-Ps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Балтимор» (Компания «Балтимор»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3</TotalTime>
  <Application>LibreOffice/7.4.7.2$Linux_X86_64 LibreOffice_project/40$Build-2</Application>
  <AppVersion>15.0000</AppVersion>
  <Words>908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20:28:09Z</dcterms:created>
  <dc:creator>ars</dc:creator>
  <dc:description/>
  <dc:language>en-US</dc:language>
  <cp:lastModifiedBy>ars</cp:lastModifiedBy>
  <dcterms:modified xsi:type="dcterms:W3CDTF">2016-11-27T21:12:27Z</dcterms:modified>
  <cp:revision>5</cp:revision>
  <dc:subject/>
  <dc:title>АНАЛИЗ АССОРТИМЕНТА И ЭКСПЕРТИЗА КАЧЕСТВА МАЙОНЕЗ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