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0CA0-AC24-44CC-8CBF-F13B4C64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3045-35CF-48BF-AC07-7593BF7C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C361-7BA1-46AC-A51B-D20E50E4A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F56F-B69D-45C3-8C84-EFFCF966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5AE7-FA21-4DE7-9B55-0A51F8DB1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93C6-907A-44F4-9FBB-09E6D2DA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3C71-6090-4735-B2E8-E5755BAD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BC17B-16CF-4145-8EFE-9C6F6117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3A1FD-1583-4EC2-9095-971588085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2618-0B6F-4F9D-BD7F-E6A35C23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322-2212-40C5-8FC9-4234775F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FB3-4525-47DC-944C-B6850203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8D60-9953-4C7C-9ABD-67B04442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CD75D-283C-4412-B664-4DE4C285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FFFC-28E8-4514-8E4E-245C98CA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E40E-2550-4680-8322-74F58B61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185F-515A-4AD0-B4D6-D9B49365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2B19D-B158-4691-82C5-2FAC5311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93A96-9B22-4FB5-83AE-A6FBD982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884F-B5A4-4DF0-89B6-6143A26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CFD5E-8B2C-4ECA-A776-2E056907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16869-508E-4B8F-A15A-06D033E7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9D05-54A4-407D-B25F-B4B86A74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B8C5F-D432-481B-91B8-508021CB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39E4-B37E-44C1-8828-6C21F688D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CDD6E-9779-4106-8896-96306D01E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BF9C3-9EB2-4B3A-82F5-C4F9D6CB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EB03AA-C25D-4F24-942D-DE752752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89D25-23F5-4C8E-BF79-6CF256DF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7C960-487E-4F19-B577-2D7E2AD0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6AF3-5E2A-4D17-8E55-66F0527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78D-746D-48F3-81EA-682B5B4C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30556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9A3C-EABA-4CBB-8688-A9567AB30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71B9-BDA7-4087-AC90-FDF9BEDE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3AA4-E545-4B92-876E-5ED5EFFA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A30A-FEE0-482A-9BAE-CEBDC472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Образец заголовка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F23C92-1EB8-4919-BDEE-24DCD06720CB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Образец заголовка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24E95E6-618D-4782-B0E3-ABB900B963B3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олилиния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Полилиния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Группа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Полилиния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Полилиния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9CBACB-6782-4142-8E81-471E99176ED1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 fontScale="72000"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5600" spc="-1" strike="noStrike">
                <a:solidFill>
                  <a:srgbClr val="50e0ea"/>
                </a:solidFill>
                <a:latin typeface="Calibri"/>
              </a:rPr>
              <a:t>АНАЛИЗ АССОРТИМЕНТА И ЭКСПЕРТИЗА КАЧЕСТВА МАЙОНЕЗА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8600" y="4419720"/>
            <a:ext cx="6400440" cy="2209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 fontScale="86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тудентка 4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специальности (направлен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менеджмент (логис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очная форма обучения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группа 36М132 «б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Фатхуллина А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9143640" cy="64004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49" name="Таблица 2"/>
          <p:cNvGraphicFramePr/>
          <p:nvPr/>
        </p:nvGraphicFramePr>
        <p:xfrm>
          <a:off x="0" y="0"/>
          <a:ext cx="9143640" cy="7408800"/>
        </p:xfrm>
        <a:graphic>
          <a:graphicData uri="http://schemas.openxmlformats.org/drawingml/2006/table">
            <a:tbl>
              <a:tblPr/>
              <a:tblGrid>
                <a:gridCol w="2133360"/>
                <a:gridCol w="7010280"/>
              </a:tblGrid>
              <a:tr h="68472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Требования для органолептических характеристик майон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8760"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Характеристика проду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075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нешний вид, консистен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Однородный сметанообразный продукт; допускаются единичные пузырьки воздуха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Для майонезных соусов допускается более жидкая сметанообразная, слегка тянущаяся и желеобразная консистенция.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Допускается наличие включений в случае внесения измельченных вкусоароматических добавок, в том числе натуральных, в соответствии с техническим документом на эмульсионный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111816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кус и зап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кус слегка острый, кисловатый, с запахом и привкусом внесенных вкусоароматических добавок в соответствии с техническим документом на эмульсионный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36980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От белого до желтовато-кремового, однородный по всей массе или обусловленный внесенными добавками в соответствии с техническим документом на эмульсионный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151" name="Таблица 2"/>
          <p:cNvGraphicFramePr/>
          <p:nvPr/>
        </p:nvGraphicFramePr>
        <p:xfrm>
          <a:off x="0" y="0"/>
          <a:ext cx="9143640" cy="7382880"/>
        </p:xfrm>
        <a:graphic>
          <a:graphicData uri="http://schemas.openxmlformats.org/drawingml/2006/table">
            <a:tbl>
              <a:tblPr/>
              <a:tblGrid>
                <a:gridCol w="3047760"/>
                <a:gridCol w="3047760"/>
                <a:gridCol w="3047760"/>
              </a:tblGrid>
              <a:tr h="763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000" spc="-1" strike="noStrike">
                          <a:solidFill>
                            <a:schemeClr val="lt1"/>
                          </a:solidFill>
                          <a:latin typeface="Constantia"/>
                        </a:rPr>
                        <a:t>Требования для физико-химических характеристик майон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784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Наименование показател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2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Нор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йоне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йонезные соу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81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Массовая доля жира, %, не менее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5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81324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Массовая доля влаги, %, 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2"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В соответствии с техническим документом на продукт конкретного наимен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3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Массовая доля яичных продуктов в пересчете на сухой желток, %, не ме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Не регламентируе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933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Кислотность, % в пересчете на уксусную кислоту, 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onstantia"/>
                        </a:rPr>
                        <a:t>1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3480">
                <a:tc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Стойкость эмульсии, процент неразрушенной эмульсии, не ме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46800" rIns="468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813240">
                <a:tc gridSpan="3">
                  <a:txBody>
                    <a:bodyPr lIns="46800" rIns="468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800" spc="9" strike="noStrike">
                          <a:solidFill>
                            <a:schemeClr val="dk1"/>
                          </a:solidFill>
                          <a:latin typeface="Constantia"/>
                          <a:ea typeface="Times New Roman"/>
                        </a:rPr>
                        <a:t>* Конкретное значение массовой доли жира указывают в техническом документе на продукт конкретного наимен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800" marR="468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704160"/>
            <a:ext cx="9143640" cy="615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Тара и упаковка должны соответствовать требованиям санитарии и стандартов или технических условий и обеспечивать сохранность майонезов при транспортировании и хранении.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Упаковывают майонез: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 стеклянные банки массой 100-25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тубы из алюминия или из полимерных материалов массой 50-25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 стаканы и банки из полимерных материалов массой 250-50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пластиковые ведра массой 750-600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пластиковые бутылки массой 900 г;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 пакеты из полимерных материалов массой 100,150 и 200 г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Майонез должен храниться у изготовителя и потребителя в складских охлаждаемых помещениях или холодильниках при циркуляции воздуха, при температуре не ниже 0°С и не выше 18°С, при относительной влажности воздуха не более 75%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704160"/>
            <a:ext cx="9143640" cy="615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Для проведения экспертизы качества майонеза были выбраны следующие образцы: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разец №1 – «Махеевъ. Провансаль» – майонез высококалорийный, жирность 67%.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разец №2 – «Ряба. Провансаль» – майонез высококалорийный, жирность 67% .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бразец №3 – «Слобода. Провансаль» – майонез высококалорийный, жирность 67%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2" descr="721499_fullimage.jpg"/>
          <p:cNvPicPr/>
          <p:nvPr/>
        </p:nvPicPr>
        <p:blipFill>
          <a:blip r:embed="rId1"/>
          <a:stretch/>
        </p:blipFill>
        <p:spPr>
          <a:xfrm>
            <a:off x="3124080" y="1600200"/>
            <a:ext cx="3084480" cy="343728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3" descr="prov.jpg"/>
          <p:cNvPicPr/>
          <p:nvPr/>
        </p:nvPicPr>
        <p:blipFill>
          <a:blip r:embed="rId2"/>
          <a:stretch/>
        </p:blipFill>
        <p:spPr>
          <a:xfrm>
            <a:off x="6400800" y="2209680"/>
            <a:ext cx="2742840" cy="43347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4" descr="ryaba_provans.gif"/>
          <p:cNvPicPr/>
          <p:nvPr/>
        </p:nvPicPr>
        <p:blipFill>
          <a:blip r:embed="rId3"/>
          <a:stretch/>
        </p:blipFill>
        <p:spPr>
          <a:xfrm>
            <a:off x="609480" y="2362320"/>
            <a:ext cx="2371320" cy="40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391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ервым этапом проведения экспертизы качества стало изучение маркировки майонезов. Экспертиза проводилась на основании требований ГОСТ 31761-2012. Данные о результатах экспертизы проиллюстрированы в следующей таблице..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Таблица 1"/>
          <p:cNvGraphicFramePr/>
          <p:nvPr/>
        </p:nvGraphicFramePr>
        <p:xfrm>
          <a:off x="0" y="0"/>
          <a:ext cx="9143640" cy="8229960"/>
        </p:xfrm>
        <a:graphic>
          <a:graphicData uri="http://schemas.openxmlformats.org/drawingml/2006/table">
            <a:tbl>
              <a:tblPr/>
              <a:tblGrid>
                <a:gridCol w="2061360"/>
                <a:gridCol w="2532240"/>
                <a:gridCol w="2184120"/>
                <a:gridCol w="2365560"/>
              </a:tblGrid>
              <a:tr h="2163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аиме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00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роизвод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ЗАО «Эссен продакшн АГ», Россия, 445142, Самарская обл., Ставрапольский район, с.Васильевка, ул.Коллективная, д 54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АО «Нижегородский масложировой комбинат». Адрес: Россия, 603950, г.Нижний Новгород, ш. Жиркомбинат, 1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АО "ЭФКО". Адрес: Россия, 309850, Белгородская обл., г.Алексеевка, ул.Фрунзе, д.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Масса (г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ормативный доку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З № 90 от 24.06.2008 и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З № 90 от 24.06.2008 и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З № 90 от 24.06.2008 и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ицевой состав на 100 г. проду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Белки 0,5г, Жиры 6,7г, Углеводы 2,1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Жиры 67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Белки 3,0г, Жиры 67г, Углеводы 2.8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Срок го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˚…+14˚ - 180 сут.; свыше 14˚…+20 – 90 с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ru-RU" sz="1400" spc="-1" strike="noStrike">
                        <a:solidFill>
                          <a:srgbClr val="000000"/>
                        </a:solidFill>
                        <a:latin typeface="Constantia"/>
                        <a:ea typeface="Calibri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˚…+10 – 90 сут; +10˚…+18˚- 45 с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3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ирменное 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Соста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Масло подсолнечное, вода, яичный желток, сахар, соль, уксус из пищевого сырья, масло горчичное, сорбиновая кисл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Масло подсолнечное, вода, сахар, яичные продукты, соль, уксус, эфирное горчичное масло, провитамин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одсолнечное масло, вода, яичный желток, сухое молоко, сахар, соль поваренная, уксусная кислота, горчичное масл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Рекомендации по хран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Хранить в холодиль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Хранить в холодиль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Хранить в холодильни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Наименование ФЗ и ГО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ФЗ №90 от 24.06.08г ГОСТ Р 53590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ФЗ №90 от 24.06.08г ГОСТ Р 53590-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ФЗ №90 от 24.06.08г ГОСТ 31761-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4960"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Доп. информ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Без ГМО, марка премиум, без крахмала, с витамином А, без искусственных ароматизаторов и крас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Без ГМО, с маслом первого отж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3840" rIns="33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Товар года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3840" marR="338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Таблица 1"/>
          <p:cNvGraphicFramePr/>
          <p:nvPr/>
        </p:nvGraphicFramePr>
        <p:xfrm>
          <a:off x="0" y="990720"/>
          <a:ext cx="9143640" cy="7038720"/>
        </p:xfrm>
        <a:graphic>
          <a:graphicData uri="http://schemas.openxmlformats.org/drawingml/2006/table">
            <a:tbl>
              <a:tblPr/>
              <a:tblGrid>
                <a:gridCol w="1845000"/>
                <a:gridCol w="1698840"/>
                <a:gridCol w="1870560"/>
                <a:gridCol w="1870560"/>
                <a:gridCol w="1857960"/>
              </a:tblGrid>
              <a:tr h="557280"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Требования ГОСТа 30004.1-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Характеристика образ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Запах и вку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чистые, слегка острые, кисловатые, без горечи, соответствовать данному виду майонеза без посторонних привкусов и запах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вато-острый, без посторонних т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вато-острый, без посторонних т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вато-острый, без посторонних тон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20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Внешний вид и консисте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сметанообразный продукт с единичными пузырьками воздух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ая, нежная, обладающая высокими распределяющимися свой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ая, нежная, обладающая высокими распределяющимися свой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ая, нежная, обладающая высокими распределяющимися свойств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Белый или кремовато-желтый по всей массе, установленными техническими описа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по всей массе, без крап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по всей массе, без крап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Однородный по всей массе, без крапин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99036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0899a0"/>
            </a:solidFill>
            <a:round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рганолептические показатели образцов майоне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1142640"/>
          </a:xfrm>
          <a:prstGeom prst="rect">
            <a:avLst/>
          </a:prstGeom>
          <a:solidFill>
            <a:schemeClr val="accent3"/>
          </a:solidFill>
          <a:ln w="25560">
            <a:solidFill>
              <a:srgbClr val="0899a0"/>
            </a:solidFill>
            <a:round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Физико-химические показатели образцов майонез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62" name="Таблица 2"/>
          <p:cNvGraphicFramePr/>
          <p:nvPr/>
        </p:nvGraphicFramePr>
        <p:xfrm>
          <a:off x="0" y="1143000"/>
          <a:ext cx="9143640" cy="5818680"/>
        </p:xfrm>
        <a:graphic>
          <a:graphicData uri="http://schemas.openxmlformats.org/drawingml/2006/table">
            <a:tbl>
              <a:tblPr/>
              <a:tblGrid>
                <a:gridCol w="2793960"/>
                <a:gridCol w="1510200"/>
                <a:gridCol w="1627200"/>
                <a:gridCol w="1609560"/>
                <a:gridCol w="1602000"/>
              </a:tblGrid>
              <a:tr h="80748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Показате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ормы по Г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28119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Фактические д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Махеевъ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Ряб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«Слобод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Массовая доля влаги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е более 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9,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8,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29,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Кислотное 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е более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0.0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.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0.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Стойкость эмульсии,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Не менее 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onstantia"/>
                          <a:ea typeface="Calibri"/>
                        </a:rPr>
                        <a:t>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8da7e3"/>
              </a:gs>
              <a:gs pos="100000">
                <a:srgbClr val="f7f9fe"/>
              </a:gs>
            </a:gsLst>
            <a:path path="circle">
              <a:fillToRect l="50000" t="100000" r="50000" b="0"/>
            </a:path>
          </a:gradFill>
          <a:ln w="9360">
            <a:solidFill>
              <a:srgbClr val="095294"/>
            </a:solidFill>
            <a:round/>
          </a:ln>
          <a:effectLst>
            <a:outerShdw dist="38160" dir="5400000" blurRad="57240" rotWithShape="0">
              <a:srgbClr val="032647">
                <a:alpha val="48000"/>
              </a:srgbClr>
            </a:outerShdw>
          </a:effectLst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356ac9"/>
                </a:solidFill>
                <a:latin typeface="Calibri"/>
              </a:rPr>
              <a:t>Спасибо За Внимание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305560" cy="577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айонез - сметанообразная мелкодисперсная эмульсия типа «масло в воде», приготовленная из рафинированных дезодорированных растительных масел с добавлением эмульгаторов, стабилизаторов, вкусовых добавок и пряностей, разрешенных органами государственного санитарно-эпидемиологического надзора. Майонезы применяются в качестве приправы для улучшения вкуса и усвояемости продуктов, а также в качестве добавки при изготовлении пищевых продуктов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айонез является наиболее употребляемым товаром, относящимся к пищевым жира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704160"/>
            <a:ext cx="9143640" cy="6153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Цель контрольной работы: изучить товароведную характеристику и провести оценку качества высококалорийных майонезов «Ряба», «Слобода», «Махеевъ»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Для достижения поставленной цели необходимо решить следующие задачи:</a:t>
            </a: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- Изучить товароведную характеристику майонеза - состав, пищевую ценность, сырье, классификацию.</a:t>
            </a: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- Провести сравнительные исследования отобранных образцов майонеза по органолептическим и физико-химическим показателям качества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Объектом исследования является майонез.</a:t>
            </a:r>
            <a:br>
              <a:rPr sz="2700"/>
            </a:br>
            <a:br>
              <a:rPr sz="2700"/>
            </a:br>
            <a:r>
              <a:rPr b="1" lang="ru-RU" sz="2700" spc="-1" strike="noStrike">
                <a:solidFill>
                  <a:srgbClr val="04617b"/>
                </a:solidFill>
                <a:latin typeface="Calibri"/>
              </a:rPr>
              <a:t>Предмет исследования - качество выбранных трех товарных образцов майонеза.</a:t>
            </a:r>
            <a:br>
              <a:rPr sz="2400"/>
            </a:b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924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Пищевая ценность майонеза определяется содержанием растительного масла (30-66 %) и тем, что он представляет собой эмульсию прямого типа, легко усваиваемую организмом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Энергетическая ценность майонеза зависит от содержания в нем растительного масла и составляет в среднем от 300 до 628 ккал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704160"/>
            <a:ext cx="861012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Согласно ГОСТ 30004.1-93 «Майонезы. Общие технические условия» майонез классифицируется по содержанию растительного масла на три группы: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Высококалорийные с содержанием масла более 55%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Среднекалорийные с содержанием масла в пределах 40% - 55%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- Низкокалорийные с содержанием масла менее 40%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772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По характеру содержащихся специй и добавок различают следующие майонезы: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с томатом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с хреном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«Южный»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салатный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витаминизированный</a:t>
            </a:r>
            <a:br>
              <a:rPr sz="32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- Майонез лимонный</a:t>
            </a: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 зависимости от состава и назначения майонезы подразделяют на: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Закусочные майонезы.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Десертные майонезы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Диетические майонез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По консистенции майонезы подразделяют на: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сметанообразные 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порошкообразные</a:t>
            </a:r>
            <a:br>
              <a:rPr sz="36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- пастообразные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305560" cy="584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Самыми известными торговыми марками на российском рынке являются: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CALVE» (ООО «Юнилевер Русь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MRRicco» и «Ласка» (ОАО «Казанский жировой комбинат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Скит» (ООО «Компания Скит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Обжорка» и «Ермак» (ООО «Счастливые времена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Янта» (ОАО «Иркутский МЖК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Моя семья» и «Мечта хозяйки» (компания «Hainz-Ps»);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- «Балтимор» (Компания «Балтимор»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Поток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33</TotalTime>
  <Application>LibreOffice/7.4.7.2$Linux_X86_64 LibreOffice_project/40$Build-2</Application>
  <AppVersion>15.0000</AppVersion>
  <Words>908</Words>
  <Paragraphs>13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7T20:28:09Z</dcterms:created>
  <dc:creator>ars</dc:creator>
  <dc:description/>
  <dc:language>en-US</dc:language>
  <cp:lastModifiedBy>ars</cp:lastModifiedBy>
  <dcterms:modified xsi:type="dcterms:W3CDTF">2016-11-27T21:12:27Z</dcterms:modified>
  <cp:revision>5</cp:revision>
  <dc:subject/>
  <dc:title>АНАЛИЗ АССОРТИМЕНТА И ЭКСПЕРТИЗА КАЧЕСТВА МАЙОНЕЗ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