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822A-53CF-4DD1-83F3-C48C3E553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30F3-364F-4D8F-9DF9-3B4019AAD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B7F4-BCE3-4688-856F-4EAD5A81D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0434-365F-4923-9342-4ADC8A32F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4EE2C-9292-4AEB-B218-099D19E7E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B56C9-1B25-4EA1-914C-DBB4FFD6F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F3FAE-8F93-4841-931E-151A4E416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B967F-2697-450B-B861-4FC24C05E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90C30-D863-45D2-880D-462B3CBC5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3055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1D41B-E627-482A-89B5-835BD3872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3816A-E98F-4B88-9E4A-CCA54997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7418-23C7-49D6-A69E-1DE890CB5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813B1-17DE-4A23-B95C-FC3C75E3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C0908-B50C-4869-A71D-DBAF7D8F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21D78-ED14-4051-9AF3-143574A32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80AF7-0031-40C3-BAD7-A51AD1AA2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0F229-CEF6-4324-982D-1ED95F463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36CCE-D9C0-4A6B-A9C4-88F4A8AD8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742C4-4FE5-47C2-A87F-5A107E0F1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17281-E63C-45BD-94A2-8DBD60A67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07B81-C001-436C-84E1-73BF5A3FA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03FFE-E2CC-40FE-8B2E-73459B6E4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6CE6-C864-4601-AF5A-041D14B3C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3055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0B22D-D199-482B-A9D1-3BD764E84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A685E-5207-4691-A87D-FBC44135C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BF176-C05E-4B92-97FD-08077809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FF12F-23AC-4A74-A2C9-946C34FD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74B05-49D2-4337-A3ED-732A3C462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BB9CC-5C4E-4AF0-905A-33FBDF33C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1B660-0183-440C-ACE2-7020E2E10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B5A1-05F4-41E9-B7D2-F105FBA55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9486-65B2-4B5F-A3B9-AD2D04C45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3055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A6BA-D245-4701-ADEF-CB3DF942A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A926-BE2B-49BA-9477-12F2C642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09B6-8E88-45DE-B2A0-91D7B8CF3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7B69-8016-4430-AD7C-156C1B49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aa2d6"/>
            </a:gs>
            <a:gs pos="100000">
              <a:srgbClr val="002b36"/>
            </a:gs>
          </a:gsLst>
          <a:path path="circle">
            <a:fillToRect l="50000" t="55000" r="50000" b="4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3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4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5600" spc="-1" strike="noStrike">
                <a:solidFill>
                  <a:srgbClr val="50e0ea"/>
                </a:solidFill>
                <a:latin typeface="Calibri"/>
              </a:rPr>
              <a:t>Образец заголовка</a:t>
            </a: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d1eaed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1eaed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1eaed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D9F4A6D-9AE7-4F98-9743-9A2B6FE4AA06}" type="slidenum">
              <a:rPr b="0" lang="en-US" sz="1200" spc="-1" strike="noStrike">
                <a:solidFill>
                  <a:srgbClr val="d1eaed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64772" sy="64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8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49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0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бразец заголовка</a:t>
            </a: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C9932B4-4EF0-4D81-9DD4-C115F29E0F63}" type="slidenum">
              <a:rPr b="0" lang="en-US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64772" sy="64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94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95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6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Num" idx="9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C4A833A-9ED1-440A-9485-F0DE77F0CDD1}" type="slidenum">
              <a:rPr b="0" lang="en-US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rmAutofit fontScale="72000"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5600" spc="-1" strike="noStrike">
                <a:solidFill>
                  <a:srgbClr val="50e0ea"/>
                </a:solidFill>
                <a:latin typeface="Calibri"/>
              </a:rPr>
              <a:t>АНАЛИЗ АССОРТИМЕНТА И ЭКСПЕРТИЗА КАЧЕСТВА МАЙОНЕЗА</a:t>
            </a: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228600" y="4419720"/>
            <a:ext cx="6400440" cy="22093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rmAutofit fontScale="86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Выполни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студентка 4 курс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специальности (направления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менеджмент (логисти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очная форма обучен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группа 36М132 «б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Фатхуллина А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3640" cy="6400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149" name="Таблица 2"/>
          <p:cNvGraphicFramePr/>
          <p:nvPr/>
        </p:nvGraphicFramePr>
        <p:xfrm>
          <a:off x="0" y="0"/>
          <a:ext cx="9143640" cy="7408800"/>
        </p:xfrm>
        <a:graphic>
          <a:graphicData uri="http://schemas.openxmlformats.org/drawingml/2006/table">
            <a:tbl>
              <a:tblPr/>
              <a:tblGrid>
                <a:gridCol w="2133360"/>
                <a:gridCol w="7010280"/>
              </a:tblGrid>
              <a:tr h="68472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chemeClr val="lt1"/>
                          </a:solidFill>
                          <a:latin typeface="Constantia"/>
                        </a:rPr>
                        <a:t>Требования для органолептических характеристик майонез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8760">
                <a:tc>
                  <a:txBody>
                    <a:bodyPr lIns="46800" rIns="46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onstantia"/>
                          <a:ea typeface="Times New Roman"/>
                        </a:rPr>
                        <a:t>Наименование показа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onstantia"/>
                          <a:ea typeface="Times New Roman"/>
                        </a:rPr>
                        <a:t>Характеристика проду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</a:tr>
              <a:tr h="3075480"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onstantia"/>
                          <a:ea typeface="Times New Roman"/>
                        </a:rPr>
                        <a:t>Внешний вид, консистен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onstantia"/>
                          <a:ea typeface="Times New Roman"/>
                        </a:rPr>
                        <a:t>Однородный сметанообразный продукт; допускаются единичные пузырьки воздуха.</a:t>
                      </a:r>
                      <a:br>
                        <a:rPr sz="1800"/>
                      </a:b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onstantia"/>
                          <a:ea typeface="Times New Roman"/>
                        </a:rPr>
                        <a:t>Для майонезных соусов допускается более жидкая сметанообразная, слегка тянущаяся и желеобразная консистенция.</a:t>
                      </a:r>
                      <a:br>
                        <a:rPr sz="1800"/>
                      </a:b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onstantia"/>
                          <a:ea typeface="Times New Roman"/>
                        </a:rPr>
                        <a:t>Допускается наличие включений в случае внесения измельченных вкусоароматических добавок, в том числе натуральных, в соответствии с техническим документом на эмульсионный продукт конкретного наимен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</a:tr>
              <a:tr h="1118160"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onstantia"/>
                          <a:ea typeface="Times New Roman"/>
                        </a:rPr>
                        <a:t>Вкус и зап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onstantia"/>
                          <a:ea typeface="Times New Roman"/>
                        </a:rPr>
                        <a:t>Вкус слегка острый, кисловатый, с запахом и привкусом внесенных вкусоароматических добавок в соответствии с техническим документом на эмульсионный продукт конкретного наимен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</a:tr>
              <a:tr h="1369800"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onstantia"/>
                          <a:ea typeface="Times New Roman"/>
                        </a:rPr>
                        <a:t>Цв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onstantia"/>
                          <a:ea typeface="Times New Roman"/>
                        </a:rPr>
                        <a:t>От белого до желтовато-кремового, однородный по всей массе или обусловленный внесенными добавками в соответствии с техническим документом на эмульсионный продукт конкретного наимен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685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151" name="Таблица 2"/>
          <p:cNvGraphicFramePr/>
          <p:nvPr/>
        </p:nvGraphicFramePr>
        <p:xfrm>
          <a:off x="0" y="0"/>
          <a:ext cx="9143640" cy="7382880"/>
        </p:xfrm>
        <a:graphic>
          <a:graphicData uri="http://schemas.openxmlformats.org/drawingml/2006/table">
            <a:tbl>
              <a:tblPr/>
              <a:tblGrid>
                <a:gridCol w="3047760"/>
                <a:gridCol w="3047760"/>
                <a:gridCol w="3047760"/>
              </a:tblGrid>
              <a:tr h="763920"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chemeClr val="lt1"/>
                          </a:solidFill>
                          <a:latin typeface="Constantia"/>
                        </a:rPr>
                        <a:t>Требования для физико-химических характеристик майонез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7840"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Наименование показа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 gridSpan="2">
                  <a:txBody>
                    <a:bodyPr lIns="46800" rIns="468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0" lang="ru-RU" sz="1800" spc="9" strike="noStrike">
                          <a:solidFill>
                            <a:schemeClr val="dk1"/>
                          </a:solidFill>
                          <a:latin typeface="Constantia"/>
                          <a:ea typeface="Times New Roman"/>
                        </a:rPr>
                        <a:t>Нор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3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Майонез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Майонезные соу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</a:tr>
              <a:tr h="813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Массовая доля жира, %, не менее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0" lang="ru-RU" sz="1800" spc="9" strike="noStrike">
                          <a:solidFill>
                            <a:schemeClr val="dk1"/>
                          </a:solidFill>
                          <a:latin typeface="Constantia"/>
                          <a:ea typeface="Times New Roman"/>
                        </a:rPr>
                        <a:t>5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0" lang="ru-RU" sz="1800" spc="9" strike="noStrike">
                          <a:solidFill>
                            <a:schemeClr val="dk1"/>
                          </a:solidFill>
                          <a:latin typeface="Constantia"/>
                          <a:ea typeface="Times New Roman"/>
                        </a:rPr>
                        <a:t>1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</a:tr>
              <a:tr h="813240"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800" spc="9" strike="noStrike">
                          <a:solidFill>
                            <a:schemeClr val="dk1"/>
                          </a:solidFill>
                          <a:latin typeface="Constantia"/>
                          <a:ea typeface="Times New Roman"/>
                        </a:rPr>
                        <a:t>Массовая доля влаги, %, не боле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 gridSpan="2">
                  <a:txBody>
                    <a:bodyPr lIns="46800" rIns="468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0" lang="ru-RU" sz="1800" spc="9" strike="noStrike">
                          <a:solidFill>
                            <a:schemeClr val="dk1"/>
                          </a:solidFill>
                          <a:latin typeface="Constantia"/>
                          <a:ea typeface="Times New Roman"/>
                        </a:rPr>
                        <a:t>В соответствии с техническим документом на продукт конкретного наимен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3480"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800" spc="9" strike="noStrike">
                          <a:solidFill>
                            <a:schemeClr val="dk1"/>
                          </a:solidFill>
                          <a:latin typeface="Constantia"/>
                          <a:ea typeface="Times New Roman"/>
                        </a:rPr>
                        <a:t>Массовая доля яичных продуктов в пересчете на сухой желток, %, не мене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0" lang="ru-RU" sz="1800" spc="9" strike="noStrike">
                          <a:solidFill>
                            <a:schemeClr val="dk1"/>
                          </a:solidFill>
                          <a:latin typeface="Constantia"/>
                          <a:ea typeface="Times New Roman"/>
                        </a:rPr>
                        <a:t>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0" lang="ru-RU" sz="1800" spc="9" strike="noStrike">
                          <a:solidFill>
                            <a:schemeClr val="dk1"/>
                          </a:solidFill>
                          <a:latin typeface="Constantia"/>
                          <a:ea typeface="Times New Roman"/>
                        </a:rPr>
                        <a:t>Не регламентирует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</a:tr>
              <a:tr h="933480"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800" spc="9" strike="noStrike">
                          <a:solidFill>
                            <a:schemeClr val="dk1"/>
                          </a:solidFill>
                          <a:latin typeface="Constantia"/>
                          <a:ea typeface="Times New Roman"/>
                        </a:rPr>
                        <a:t>Кислотность, % в пересчете на уксусную кислоту, не боле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3480"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800" spc="9" strike="noStrike">
                          <a:solidFill>
                            <a:schemeClr val="dk1"/>
                          </a:solidFill>
                          <a:latin typeface="Constantia"/>
                          <a:ea typeface="Times New Roman"/>
                        </a:rPr>
                        <a:t>Стойкость эмульсии, процент неразрушенной эмульсии, не мене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0" lang="ru-RU" sz="1800" spc="9" strike="noStrike">
                          <a:solidFill>
                            <a:schemeClr val="dk1"/>
                          </a:solidFill>
                          <a:latin typeface="Constantia"/>
                          <a:ea typeface="Times New Roman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0" lang="ru-RU" sz="1800" spc="9" strike="noStrike">
                          <a:solidFill>
                            <a:schemeClr val="dk1"/>
                          </a:solidFill>
                          <a:latin typeface="Constantia"/>
                          <a:ea typeface="Times New Roman"/>
                        </a:rPr>
                        <a:t>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</a:tr>
              <a:tr h="813240">
                <a:tc gridSpan="3"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800" spc="9" strike="noStrike">
                          <a:solidFill>
                            <a:schemeClr val="dk1"/>
                          </a:solidFill>
                          <a:latin typeface="Constantia"/>
                          <a:ea typeface="Times New Roman"/>
                        </a:rPr>
                        <a:t>* Конкретное значение массовой доли жира указывают в техническом документе на продукт конкретного наименова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704160"/>
            <a:ext cx="9143640" cy="6153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Тара и упаковка должны соответствовать требованиям санитарии и стандартов или технических условий и обеспечивать сохранность майонезов при транспортировании и хранении.</a:t>
            </a:r>
            <a:br>
              <a:rPr sz="2400"/>
            </a:b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Упаковывают майонез:</a:t>
            </a:r>
            <a:br>
              <a:rPr sz="2400"/>
            </a:b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- в стеклянные банки массой 100-250 г;</a:t>
            </a:r>
            <a:br>
              <a:rPr sz="2400"/>
            </a:b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- тубы из алюминия или из полимерных материалов массой 50-250 г;</a:t>
            </a:r>
            <a:br>
              <a:rPr sz="2400"/>
            </a:b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- в стаканы и банки из полимерных материалов массой 250-500 г;</a:t>
            </a:r>
            <a:br>
              <a:rPr sz="2400"/>
            </a:b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- пластиковые ведра массой 750-6000 г;</a:t>
            </a:r>
            <a:br>
              <a:rPr sz="2400"/>
            </a:b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- пластиковые бутылки массой 900 г;</a:t>
            </a:r>
            <a:br>
              <a:rPr sz="2400"/>
            </a:b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- в пакеты из полимерных материалов массой 100,150 и 200 г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Майонез должен храниться у изготовителя и потребителя в складских охлаждаемых помещениях или холодильниках при циркуляции воздуха, при температуре не ниже 0°С и не выше 18°С, при относительной влажности воздуха не более 75%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704160"/>
            <a:ext cx="9143640" cy="6153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Для проведения экспертизы качества майонеза были выбраны следующие образцы:</a:t>
            </a:r>
            <a:br>
              <a:rPr sz="2800"/>
            </a:b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Образец №1 – «Махеевъ. Провансаль» – майонез высококалорийный, жирность 67%. </a:t>
            </a:r>
            <a:br>
              <a:rPr sz="2800"/>
            </a:b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Образец №2 – «Ряба. Провансаль» – майонез высококалорийный, жирность 67% . </a:t>
            </a:r>
            <a:br>
              <a:rPr sz="2800"/>
            </a:b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Образец №3 – «Слобода. Провансаль» – майонез высококалорийный, жирность 67%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Рисунок 2" descr="721499_fullimage.jpg"/>
          <p:cNvPicPr/>
          <p:nvPr/>
        </p:nvPicPr>
        <p:blipFill>
          <a:blip r:embed="rId1"/>
          <a:stretch/>
        </p:blipFill>
        <p:spPr>
          <a:xfrm>
            <a:off x="3124080" y="1600200"/>
            <a:ext cx="3084480" cy="343728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3" descr="prov.jpg"/>
          <p:cNvPicPr/>
          <p:nvPr/>
        </p:nvPicPr>
        <p:blipFill>
          <a:blip r:embed="rId2"/>
          <a:stretch/>
        </p:blipFill>
        <p:spPr>
          <a:xfrm>
            <a:off x="6400800" y="2209680"/>
            <a:ext cx="2742840" cy="433476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4" descr="ryaba_provans.gif"/>
          <p:cNvPicPr/>
          <p:nvPr/>
        </p:nvPicPr>
        <p:blipFill>
          <a:blip r:embed="rId3"/>
          <a:stretch/>
        </p:blipFill>
        <p:spPr>
          <a:xfrm>
            <a:off x="609480" y="2362320"/>
            <a:ext cx="2371320" cy="40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539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Первым этапом проведения экспертизы качества стало изучение маркировки майонезов. Экспертиза проводилась на основании требований ГОСТ 31761-2012. Данные о результатах экспертизы проиллюстрированы в следующей таблице..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Таблица 1"/>
          <p:cNvGraphicFramePr/>
          <p:nvPr/>
        </p:nvGraphicFramePr>
        <p:xfrm>
          <a:off x="0" y="0"/>
          <a:ext cx="9143640" cy="8229960"/>
        </p:xfrm>
        <a:graphic>
          <a:graphicData uri="http://schemas.openxmlformats.org/drawingml/2006/table">
            <a:tbl>
              <a:tblPr/>
              <a:tblGrid>
                <a:gridCol w="2061360"/>
                <a:gridCol w="2532240"/>
                <a:gridCol w="2184120"/>
                <a:gridCol w="2365560"/>
              </a:tblGrid>
              <a:tr h="216360"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Наимен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«Махеевъ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«Ряб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«Слобод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0000"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Производи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ЗАО «Эссен продакшн АГ», Россия, 445142, Самарская обл., Ставрапольский район, с.Васильевка, ул.Коллективная, д 54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ОАО «Нижегородский масложировой комбинат». Адрес: Россия, 603950, г.Нижний Новгород, ш. Жиркомбинат, 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ОАО "ЭФКО". Адрес: Россия, 309850, Белгородская обл., г.Алексеевка, ул.Фрунзе, д.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360"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Масса (г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2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2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400"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Нормативный докуме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ФЗ № 90 от 24.06.2008 и ГОСТа 30004.1-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ФЗ № 90 от 24.06.2008 и ГОСТа 30004.1-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ФЗ № 90 от 24.06.2008 и ГОСТа 30004.1-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Пицевой состав на 100 г. проду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Белки 0,5г, Жиры 6,7г, Углеводы 2,1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Жиры 67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Белки 3,0г, Жиры 67г, Углеводы 2.8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Срок год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0˚…+14˚ - 180 сут.; свыше 14˚…+20 – 90 су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endParaRPr b="0" lang="ru-RU" sz="1400" spc="-1" strike="noStrike">
                        <a:solidFill>
                          <a:srgbClr val="000000"/>
                        </a:solidFill>
                        <a:latin typeface="Constantia"/>
                        <a:ea typeface="Calibri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0˚…+10 – 90 сут; +10˚…+18˚- 45 су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360"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Фирменное наз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«Махеевъ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«Ряб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«Слобод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3840"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Соста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Масло подсолнечное, вода, яичный желток, сахар, соль, уксус из пищевого сырья, масло горчичное, сорбиновая кисло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Масло подсолнечное, вода, сахар, яичные продукты, соль, уксус, эфирное горчичное масло, провитамин 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Подсолнечное масло, вода, яичный желток, сухое молоко, сахар, соль поваренная, уксусная кислота, горчичное масло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Рекомендации по хранен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Хранить в холодильни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Хранить в холодильни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Хранить в холодильни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Наименование ФЗ и ГОС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ФЗ №90 от 24.06.08г ГОСТ Р 53590-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ФЗ №90 от 24.06.08г ГОСТ Р 53590-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ФЗ №90 от 24.06.08г ГОСТ 31761-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4960"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Доп. информ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Без ГМО, марка премиум, без крахмала, с витамином А, без искусственных ароматизаторов и красителе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Без ГМО, с маслом первого отжи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Товар года 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Таблица 1"/>
          <p:cNvGraphicFramePr/>
          <p:nvPr/>
        </p:nvGraphicFramePr>
        <p:xfrm>
          <a:off x="0" y="990720"/>
          <a:ext cx="9143640" cy="7038720"/>
        </p:xfrm>
        <a:graphic>
          <a:graphicData uri="http://schemas.openxmlformats.org/drawingml/2006/table">
            <a:tbl>
              <a:tblPr/>
              <a:tblGrid>
                <a:gridCol w="1845000"/>
                <a:gridCol w="1698840"/>
                <a:gridCol w="1870560"/>
                <a:gridCol w="1870560"/>
                <a:gridCol w="1857960"/>
              </a:tblGrid>
              <a:tr h="557280">
                <a:tc rowSpan="2"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Требования ГОСТа 30004.1-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Характеристика образ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«Махеевъ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«Ряб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«Слобод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696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Запах и вку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чистые, слегка острые, кисловатые, без горечи, соответствовать данному виду майонеза без посторонних привкусов и запах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кисловато-острый, без посторонних тон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кисловато-острый, без посторонних тон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Кисловато-острый, без посторонних тон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200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Внешний вид и консистен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Однородный сметанообразный продукт с единичными пузырьками воздух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однородная, нежная, обладающая высокими распределяющимися свойствам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однородная, нежная, обладающая высокими распределяющимися свойствам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однородная, нежная, обладающая высокими распределяющимися свойствам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Цв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Белый или кремовато-желтый по всей массе, установленными техническими описани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Однородный по всей массе, без крапин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Однородный по всей массе, без крапин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Однородный по всей массе, без крапин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990360"/>
          </a:xfrm>
          <a:prstGeom prst="rect">
            <a:avLst/>
          </a:prstGeom>
          <a:solidFill>
            <a:schemeClr val="accent3"/>
          </a:solidFill>
          <a:ln w="25560">
            <a:solidFill>
              <a:srgbClr val="0899a0"/>
            </a:solidFill>
            <a:round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Органолептические показатели образцов майонез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1142640"/>
          </a:xfrm>
          <a:prstGeom prst="rect">
            <a:avLst/>
          </a:prstGeom>
          <a:solidFill>
            <a:schemeClr val="accent3"/>
          </a:solidFill>
          <a:ln w="25560">
            <a:solidFill>
              <a:srgbClr val="0899a0"/>
            </a:solidFill>
            <a:round/>
          </a:ln>
        </p:spPr>
        <p:txBody>
          <a:bodyPr lIns="0" rIns="0" bIns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Физико-химические показатели образцов майонез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162" name="Таблица 2"/>
          <p:cNvGraphicFramePr/>
          <p:nvPr/>
        </p:nvGraphicFramePr>
        <p:xfrm>
          <a:off x="0" y="1143000"/>
          <a:ext cx="9143640" cy="5818680"/>
        </p:xfrm>
        <a:graphic>
          <a:graphicData uri="http://schemas.openxmlformats.org/drawingml/2006/table">
            <a:tbl>
              <a:tblPr/>
              <a:tblGrid>
                <a:gridCol w="2793960"/>
                <a:gridCol w="1510200"/>
                <a:gridCol w="1627200"/>
                <a:gridCol w="1609560"/>
                <a:gridCol w="1602000"/>
              </a:tblGrid>
              <a:tr h="807480">
                <a:tc rowSpan="2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Показате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Нормы по ГОС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28119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Фактические дан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«Махеевъ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«Ряба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«Слобода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53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Массовая доля влаги,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Не более 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29,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28,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29,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79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Кислотное числ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Не более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0.0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0.0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0.0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53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Стойкость эмульсии,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Не менее 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6857640"/>
          </a:xfrm>
          <a:prstGeom prst="rect">
            <a:avLst/>
          </a:prstGeom>
          <a:gradFill rotWithShape="0">
            <a:gsLst>
              <a:gs pos="0">
                <a:srgbClr val="8da7e3"/>
              </a:gs>
              <a:gs pos="100000">
                <a:srgbClr val="f7f9fe"/>
              </a:gs>
            </a:gsLst>
            <a:path path="circle">
              <a:fillToRect l="50000" t="100000" r="50000" b="0"/>
            </a:path>
          </a:gradFill>
          <a:ln w="9360">
            <a:solidFill>
              <a:srgbClr val="095294"/>
            </a:solidFill>
            <a:round/>
          </a:ln>
          <a:effectLst>
            <a:outerShdw dist="38160" dir="5400000" blurRad="57240" rotWithShape="0">
              <a:srgbClr val="032647">
                <a:alpha val="48000"/>
              </a:srgbClr>
            </a:outerShdw>
          </a:effectLst>
        </p:spPr>
        <p:txBody>
          <a:bodyPr lIns="0" rIns="0" bIns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6000" spc="-1" strike="noStrike" cap="all">
                <a:solidFill>
                  <a:srgbClr val="356ac9"/>
                </a:solidFill>
                <a:latin typeface="Calibri"/>
              </a:rPr>
              <a:t>Спасибо За Внимание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560" cy="5772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Майонез - сметанообразная мелкодисперсная эмульсия типа «масло в воде», приготовленная из рафинированных дезодорированных растительных масел с добавлением эмульгаторов, стабилизаторов, вкусовых добавок и пряностей, разрешенных органами государственного санитарно-эпидемиологического надзора. Майонезы применяются в качестве приправы для улучшения вкуса и усвояемости продуктов, а также в качестве добавки при изготовлении пищевых продуктов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Майонез является наиболее употребляемым товаром, относящимся к пищевым жирам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704160"/>
            <a:ext cx="9143640" cy="6153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rmAutofit fontScale="87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700" spc="-1" strike="noStrike">
                <a:solidFill>
                  <a:srgbClr val="04617b"/>
                </a:solidFill>
                <a:latin typeface="Calibri"/>
              </a:rPr>
              <a:t>Цель контрольной работы: изучить товароведную характеристику и провести оценку качества высококалорийных майонезов «Ряба», «Слобода», «Махеевъ».</a:t>
            </a:r>
            <a:br>
              <a:rPr sz="2700"/>
            </a:br>
            <a:br>
              <a:rPr sz="2700"/>
            </a:br>
            <a:r>
              <a:rPr b="1" lang="ru-RU" sz="2700" spc="-1" strike="noStrike">
                <a:solidFill>
                  <a:srgbClr val="04617b"/>
                </a:solidFill>
                <a:latin typeface="Calibri"/>
              </a:rPr>
              <a:t>Для достижения поставленной цели необходимо решить следующие задачи:</a:t>
            </a:r>
            <a:br>
              <a:rPr sz="2700"/>
            </a:br>
            <a:r>
              <a:rPr b="1" lang="ru-RU" sz="2700" spc="-1" strike="noStrike">
                <a:solidFill>
                  <a:srgbClr val="04617b"/>
                </a:solidFill>
                <a:latin typeface="Calibri"/>
              </a:rPr>
              <a:t>- Изучить товароведную характеристику майонеза - состав, пищевую ценность, сырье, классификацию.</a:t>
            </a:r>
            <a:br>
              <a:rPr sz="2700"/>
            </a:br>
            <a:r>
              <a:rPr b="1" lang="ru-RU" sz="2700" spc="-1" strike="noStrike">
                <a:solidFill>
                  <a:srgbClr val="04617b"/>
                </a:solidFill>
                <a:latin typeface="Calibri"/>
              </a:rPr>
              <a:t>- Провести сравнительные исследования отобранных образцов майонеза по органолептическим и физико-химическим показателям качества.</a:t>
            </a:r>
            <a:br>
              <a:rPr sz="2700"/>
            </a:br>
            <a:br>
              <a:rPr sz="2700"/>
            </a:br>
            <a:r>
              <a:rPr b="1" lang="ru-RU" sz="2700" spc="-1" strike="noStrike">
                <a:solidFill>
                  <a:srgbClr val="04617b"/>
                </a:solidFill>
                <a:latin typeface="Calibri"/>
              </a:rPr>
              <a:t>Объектом исследования является майонез.</a:t>
            </a:r>
            <a:br>
              <a:rPr sz="2700"/>
            </a:br>
            <a:br>
              <a:rPr sz="2700"/>
            </a:br>
            <a:r>
              <a:rPr b="1" lang="ru-RU" sz="2700" spc="-1" strike="noStrike">
                <a:solidFill>
                  <a:srgbClr val="04617b"/>
                </a:solidFill>
                <a:latin typeface="Calibri"/>
              </a:rPr>
              <a:t>Предмет исследования - качество выбранных трех товарных образцов майонеза.</a:t>
            </a:r>
            <a:br>
              <a:rPr sz="2400"/>
            </a:b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5924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Пищевая ценность майонеза определяется содержанием растительного масла (30-66 %) и тем, что он представляет собой эмульсию прямого типа, легко усваиваемую организмом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Энергетическая ценность майонеза зависит от содержания в нем растительного масла и составляет в среднем от 300 до 628 ккал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704160"/>
            <a:ext cx="8610120" cy="5848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Согласно ГОСТ 30004.1-93 «Майонезы. Общие технические условия» майонез классифицируется по содержанию растительного масла на три группы: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- Высококалорийные с содержанием масла более 55%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- Среднекалорийные с содержанием масла в пределах 40% - 55%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- Низкокалорийные с содержанием масла менее 40%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5772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По характеру содержащихся специй и добавок различают следующие майонезы:</a:t>
            </a:r>
            <a:br>
              <a:rPr sz="3200"/>
            </a:b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- Майонез с томатом</a:t>
            </a:r>
            <a:br>
              <a:rPr sz="3200"/>
            </a:b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- Майонез с хреном</a:t>
            </a:r>
            <a:br>
              <a:rPr sz="3200"/>
            </a:b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- Майонез «Южный»</a:t>
            </a:r>
            <a:br>
              <a:rPr sz="3200"/>
            </a:b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- Майонез салатный</a:t>
            </a:r>
            <a:br>
              <a:rPr sz="3200"/>
            </a:b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- Майонез витаминизированный</a:t>
            </a:r>
            <a:br>
              <a:rPr sz="3200"/>
            </a:b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- Майонез лимонный</a:t>
            </a:r>
            <a:br>
              <a:rPr sz="1800"/>
            </a:b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5848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В зависимости от состава и назначения майонезы подразделяют на:</a:t>
            </a: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- Закусочные майонезы.</a:t>
            </a: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- Десертные майонезы</a:t>
            </a: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- Диетические майонезы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5848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По консистенции майонезы подразделяют на:</a:t>
            </a: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- сметанообразные </a:t>
            </a: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- порошкообразные</a:t>
            </a: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- пастообразные </a:t>
            </a:r>
            <a:br>
              <a:rPr sz="3600"/>
            </a:b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5848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Самыми известными торговыми марками на российском рынке являются:</a:t>
            </a:r>
            <a:br>
              <a:rPr sz="2800"/>
            </a:b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- «CALVE» (ООО «Юнилевер Русь»);</a:t>
            </a:r>
            <a:br>
              <a:rPr sz="2800"/>
            </a:b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- «MRRicco» и «Ласка» (ОАО «Казанский жировой комбинат»);</a:t>
            </a:r>
            <a:br>
              <a:rPr sz="2800"/>
            </a:b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- «Скит» (ООО «Компания Скит»);</a:t>
            </a:r>
            <a:br>
              <a:rPr sz="2800"/>
            </a:b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- «Обжорка» и «Ермак» (ООО «Счастливые времена»);</a:t>
            </a:r>
            <a:br>
              <a:rPr sz="2800"/>
            </a:b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- «Янта» (ОАО «Иркутский МЖК»);</a:t>
            </a:r>
            <a:br>
              <a:rPr sz="2800"/>
            </a:b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- «Моя семья» и «Мечта хозяйки» (компания «Hainz-Ps»);</a:t>
            </a:r>
            <a:br>
              <a:rPr sz="2800"/>
            </a:b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- «Балтимор» (Компания «Балтимор»)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Flow</Template>
  <TotalTime>33</TotalTime>
  <Application>LibreOffice/7.4.7.2$Linux_X86_64 LibreOffice_project/40$Build-2</Application>
  <AppVersion>15.0000</AppVersion>
  <Words>908</Words>
  <Paragraphs>13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27T20:28:09Z</dcterms:created>
  <dc:creator>ars</dc:creator>
  <dc:description/>
  <dc:language>en-US</dc:language>
  <cp:lastModifiedBy>ars</cp:lastModifiedBy>
  <dcterms:modified xsi:type="dcterms:W3CDTF">2016-11-27T21:12:27Z</dcterms:modified>
  <cp:revision>5</cp:revision>
  <dc:subject/>
  <dc:title>АНАЛИЗ АССОРТИМЕНТА И ЭКСПЕРТИЗА КАЧЕСТВА МАЙОНЕЗ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9</vt:r8>
  </property>
</Properties>
</file>