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5F9-C529-4D0E-BC92-5384DCB0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C3F-4641-4A80-8055-CEAAD216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691-AE68-493A-89CD-D4BEE933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BE0-6D77-43F8-BA08-172306BB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2038-90F2-4229-A249-1E4DAC76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73F7-FFAA-4152-939D-B2D3A3E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E121-983D-42F4-84F6-47979304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6186-6FCF-428B-9D20-327DFE5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8CB3-D4BF-4F2C-A73F-C8CE2F4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4EE9-A48F-4125-AE38-FE9A055F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1F6-CCFA-4FE0-83A3-C2CBD52A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A32-302E-41C2-BFDF-FF99908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2CC4-186B-4E20-B09E-FE567C9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1EE2-D9D1-4A71-8902-84F903A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9F7-B4B6-4547-88C8-C52D5455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391B-FD1F-44B4-BD8F-757DBDF4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7FEF-98B4-4ACA-AD7D-8B58E9CF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A7F-7A3B-4173-97AA-D96723B9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0B0-EAAF-4C75-8036-332C7371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55F-7198-4884-85DB-B2208C1D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890-534F-4220-BDA9-01831DF6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F9C-1E99-43F9-907C-54D9431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816-1E69-4F96-9FA4-A85D4C8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BE0-4E77-49F6-A697-5F3FD64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7C3098-F551-4CAE-9326-24E3311EB91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D9A395-4DC4-4DAF-9982-59C36BE7E5D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464646"/>
                </a:solidFill>
                <a:latin typeface="Bookman Old Style"/>
              </a:rPr>
              <a:t>Областной конкурс «Юный предприниматель Вологодской области»</a:t>
            </a:r>
            <a:br>
              <a:rPr sz="16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980640"/>
            <a:ext cx="8097840" cy="3546360"/>
          </a:xfrm>
          <a:prstGeom prst="rect">
            <a:avLst/>
          </a:prstGeom>
          <a:noFill/>
          <a:ln w="0">
            <a:solidFill>
              <a:srgbClr val="2b4a76"/>
            </a:solidFill>
          </a:ln>
        </p:spPr>
        <p:txBody>
          <a:bodyPr lIns="45720" rIns="4572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accent4">
                    <a:lumMod val="50000"/>
                  </a:schemeClr>
                </a:solidFill>
                <a:latin typeface="Bookman Old Style"/>
              </a:rPr>
              <a:t>«ПТИЦЕполис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</a:rPr>
              <a:t>Автор проекта: Носок Владимир Андр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</a:rPr>
              <a:t>обуч-ся 10 класса МАОУ СМР «Сямженская С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7" descr="http://agrarnik.ru/_files/u11881/c6306d.jpg"/>
          <p:cNvPicPr/>
          <p:nvPr/>
        </p:nvPicPr>
        <p:blipFill>
          <a:blip r:embed="rId1"/>
          <a:stretch/>
        </p:blipFill>
        <p:spPr>
          <a:xfrm>
            <a:off x="2051640" y="3141000"/>
            <a:ext cx="518436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веденный в данном бизнес-плане анализ показал, что проект по разведению кур является в данный момент в нашем селе высокоприбыльным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укция имеет устойчиво-высокий спрос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новными рисками являются болезни птиц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 умелой организации птицефермы и грамотном руководстве проект вполне способен в заданные сроки реализовать намеченные цели.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 составлении правильного бизнес-плана, можно начать свою деятельность с маленького курятника и через несколько лет дорасти до реализации яиц на промышленном уровне.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Можно смело приниматься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за дело!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а рис. первый опыт-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курятник родителей.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заключение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8" name="Рисунок 3" descr="F:\ЮНый предприниматель-18\ocXcTB4E8hE.jpg"/>
          <p:cNvPicPr/>
          <p:nvPr/>
        </p:nvPicPr>
        <p:blipFill>
          <a:blip r:embed="rId1"/>
          <a:stretch/>
        </p:blipFill>
        <p:spPr>
          <a:xfrm>
            <a:off x="4428000" y="3213000"/>
            <a:ext cx="44640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3000"/>
          </a:bodyPr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Цель проекта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здание мини-фермы по разведению кур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«ПТИЦЕполис"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получение стабильной прибыли уже в первые 1,5-2 года.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Задачи проекта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нормативно-правовую базу, возможности создания мини-фермы по разведению кур в домашних условиях, опыт создания мини-ферм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особенности содержания  кур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вить риск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ставить программу действий по реализации проек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читать необходимые ресурсы и экономический эффект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лить условия, необходимые для успешной реализации проек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еделить перспективы развития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чать реализацию проект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точник финансирования проекта: собственные средства, либо банковский кредит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464646"/>
                </a:solidFill>
                <a:latin typeface="Lucida Sans Unicode"/>
              </a:rPr>
              <a:t>Настоящий проект представляет собой описание организации разведения кур-несушек, создание собственной птицефермы со сроком окупаемости проекта 1,5- 2 года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"/>
          </a:bodyPr>
          <a:p>
            <a:pPr indent="0" algn="ctr">
              <a:lnSpc>
                <a:spcPct val="100000"/>
              </a:lnSpc>
              <a:buNone/>
            </a:pP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Обобщенные результаты оценки сферы птецеводства в Сямже представлены в виде матрицы SWOT– анализа (табл.1)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аблица 1 – SWOT-анализ </a:t>
            </a:r>
            <a:br>
              <a:rPr sz="4100"/>
            </a:b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03" name="Таблица 4"/>
          <p:cNvGraphicFramePr/>
          <p:nvPr/>
        </p:nvGraphicFramePr>
        <p:xfrm>
          <a:off x="107640" y="618480"/>
          <a:ext cx="9036000" cy="6095160"/>
        </p:xfrm>
        <a:graphic>
          <a:graphicData uri="http://schemas.openxmlformats.org/drawingml/2006/table">
            <a:tbl>
              <a:tblPr/>
              <a:tblGrid>
                <a:gridCol w="3096000"/>
                <a:gridCol w="5940000"/>
              </a:tblGrid>
              <a:tr h="26676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b82236"/>
                          </a:solidFill>
                          <a:latin typeface="Times New Roman"/>
                          <a:ea typeface="Times New Roman"/>
                        </a:rPr>
                        <a:t>Сильные сто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1176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 кур являются основным риском в этом бизнесе. Наиболее опасными заболеваниями кур считаются болезнь Ньюкасла (псевдочума), птичий грипп, инфекционная бурсальная болезнь, инфекционный бронхит, болезнь Марека, оспа, сальмонеллез, колибактериоз и друг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спышке на не вакцинированном поголовье через 2-3 дня птица погибает, в таких случаях смертность достигает 70-100%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уриные яйца  очень популярный продукт: в год один среднестатистический взрослый человек потребляет до 292 яиц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взрослую часть населения нашей страны приходится примерно 100 млн. челове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прос на экологическую продукцию, полученную естественным способом, постоян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стоянный спрос, отсутствие сезонности на продукц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выбрать направление (выращивание кур для реализации яиц, мяса или молодняка), совмещать и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озможность начать дело с небольших масштабов (на приусадебном участке) без регистрации бизнеса и постепенно расширять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высокий уровень стартовых влож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оме основной продукции можно продавать пух, субпродукты, помет для удоб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164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c5000b"/>
                          </a:solidFill>
                          <a:latin typeface="Times New Roman"/>
                          <a:ea typeface="Times New Roman"/>
                        </a:rPr>
                        <a:t>Возм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9176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ц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собственных финансовых средств и инвестиционных ресурсов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 качество и однообразие продук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овых бизнес-про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 ВК и др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 объемов продаж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спектра предлагаемых услуг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лучшение качества и безопас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Содержимое 3"/>
          <p:cNvGraphicFramePr/>
          <p:nvPr/>
        </p:nvGraphicFramePr>
        <p:xfrm>
          <a:off x="467640" y="1917000"/>
          <a:ext cx="8229240" cy="4159800"/>
        </p:xfrm>
        <a:graphic>
          <a:graphicData uri="http://schemas.openxmlformats.org/drawingml/2006/table">
            <a:tbl>
              <a:tblPr/>
              <a:tblGrid>
                <a:gridCol w="1666440"/>
                <a:gridCol w="3819600"/>
                <a:gridCol w="27432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Этапы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стройка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 обустройство курят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Сентябрь -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бор  содержания несушек /напольное/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бор породы кур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Октябрь-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купка молодня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ход и содерж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рм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азведение несу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/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вод молодняка и инкуб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/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держание светового  и температурного режи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роведение профилакти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сновные этапы реализации проекта.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сновные затраты включают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готовка помещения для содержания птиц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упка цыплят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лата услуг птицевода, ветеринар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еспечение кормом, витаминам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гистрация бизнеса, налоговые отчисл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экономить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на закупке комбикорма, заготавливая корма самостоятельно. Чтобы не тратить деньги на покупку молодняка, можно оборудовать курятник инкубатор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Доход поступает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т яиц (а позже от продажи мяса, молодняка, взрослых кур, навоза, удобрения, пера…) Его размер зависит от таких параметров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ынки сбы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ъема реализованной продукци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атегия ведения бизнес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нтабельность бизнеса по разведению кур сегодня оценивается в 90-95%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Окупаемость проекта составляет 1,5-2 год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464646"/>
                </a:solidFill>
                <a:latin typeface="Lucida Sans Unicode"/>
              </a:rPr>
              <a:t>Описание результатов реализации проекта.</a:t>
            </a:r>
            <a:br>
              <a:rPr sz="4100"/>
            </a:br>
            <a:endParaRPr b="0" lang="ru-RU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Содержимое 3"/>
          <p:cNvGraphicFramePr/>
          <p:nvPr/>
        </p:nvGraphicFramePr>
        <p:xfrm>
          <a:off x="457200" y="1481040"/>
          <a:ext cx="8229240" cy="502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Цена за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купка куриц -30 ш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50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0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стественная убыл не оплодотворенные яйца, 140 ш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12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стройка птич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0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купка инкуба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Электроэне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корм для цыплят, 280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итам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корм для молодых пету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38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  <a:ea typeface="Calibri"/>
                        </a:rPr>
                        <a:t>Всего  затратим: 1093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сходы за первый год.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так, в хозяйстве 30 кур. В год каждая курица несет примерно 250 яиц. Цена яйца высока из-за вкусовых и питательных веществ ,поэтому яйцо стоит 8 рубл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ведем расчёты сколько  яиц будет от всего хозяйства : 30*250=7500 штук. Из этого количества мы оставляем 700 штук на инкубацию  (выводок молодняка). Покупаем инкубатор за 5000 рублей на количество 63 яиц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оимость одного цыпленка выращенного в домашних  условиях  составляет 178 рублей .  Если мы покупаем у фермера такого же возраста куриц  ,то стоимость составляет 350 рублей . прибыл от продажи одной курицы   равна 172 рубля .Так же мы продаем молодых петушков в количестве 280 штук по цене 200 рублей за одного и получаем 56 000 рублей 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йц  Семья в среднем за год потребляет 2000 штук яиц .У нас остается 4800 штук яиц .продаем из по 8 рублей за штуку и получаем  38 400 рублей  .Затраты на электроэнергию составили 800 рублей ,так как с апреля по сентябрь куры живут в загонах на улице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7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йцо от 30 кур *250=7500 штук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яиц на инкубацию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60 цыплят вылупилось в год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йца 7500-700-2000=4800 яиц * 8 рублей за штуку =38 400 рубл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ход от продажи петушков 280*200=56000 рублей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иц от молодых куриц 3160 яиц в год *8 рублей за штуку =25 280 рубле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того: мы получаем  доход  - 119 232 рублей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464646"/>
                </a:solidFill>
                <a:latin typeface="Lucida Sans Unicode"/>
              </a:rPr>
              <a:t>Теперь подсчитаем доход за 1 г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56640"/>
            <a:ext cx="8218800" cy="475200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 fontScale="87000"/>
          </a:bodyPr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На 2-й год мы можем получить доход от 200 кур. 200*250=50000яиц в год, из них оставляем на инкубацию 756 яиц,  в год мы получим 560цыплят.  Яйцо мы можем продать на 361952 рубля (50000-756-4000(на собствен. нужды)= 45244*8 руб=361952 руб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Также можно продать петушков на сумму 36000 руб (180 пет. *200 руб= 36000), а остальных оставляя себ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Подадим яйцо молодых курочек  25280 руб.(280 кур получаем 3160 яиц и продаем по 8 руб.)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Получаем прибыль 423232-274980= 148 252 рубле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Выгодно ли создание мини птицефермы в домашних условиях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c00000"/>
                </a:solidFill>
                <a:latin typeface="Lucida Sans Unicode"/>
              </a:rPr>
              <a:t>Как видите, доход очевиден!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4100" spc="-1" strike="noStrike">
                <a:solidFill>
                  <a:schemeClr val="dk1"/>
                </a:solidFill>
                <a:latin typeface="Lucida Sans Unicode"/>
              </a:rPr>
              <a:t>доход 423232 рубля</a:t>
            </a:r>
            <a:br>
              <a:rPr sz="4100"/>
            </a:br>
            <a:r>
              <a:rPr b="1" lang="ru-RU" sz="4100" spc="-1" strike="noStrike">
                <a:solidFill>
                  <a:schemeClr val="dk1"/>
                </a:solidFill>
                <a:latin typeface="Lucida Sans Unicode"/>
              </a:rPr>
              <a:t>расход:  274 980 рублей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67</TotalTime>
  <Application>LibreOffice/7.4.7.2$Linux_X86_64 LibreOffice_project/40$Build-2</Application>
  <AppVersion>15.0000</AppVersion>
  <Words>1097</Words>
  <Paragraphs>17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2T08:07:15Z</dcterms:created>
  <dc:creator>Pioner</dc:creator>
  <dc:description/>
  <dc:language>en-US</dc:language>
  <cp:lastModifiedBy>Pioner</cp:lastModifiedBy>
  <dcterms:modified xsi:type="dcterms:W3CDTF">2018-11-27T05:10:55Z</dcterms:modified>
  <cp:revision>9</cp:revision>
  <dc:subject/>
  <dc:title>Областной конкурс «Юный предприниматель Вологодской област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