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4DC-9941-49A6-80F1-1344A915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419-AEA1-4E9A-AEFD-F0671DA3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DBF-C5A5-4EF4-88BD-5420091CA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FED-66E9-4155-A369-DB251AE6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F741-B2A8-4327-A45B-D2058E57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5DEF-2A28-4F3B-855F-5F2018D1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7AA5-040E-4C96-994B-5AA6D73D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E473-E3AA-44C4-88ED-F222DB49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8180-C63C-4927-AF40-C0EAB17A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D144-044A-4D07-8905-9298E5F3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D612-17BD-42F4-8628-EC5EF8B9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632-EE99-47A2-A08F-7F52058D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F1DD-AB93-4B2E-9C31-4CC3A51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9F27-E4F7-4178-81AF-BDAD1379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6B4B-F5D4-48B0-AEEC-59E6C542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A1F4-6FBE-4104-9CC3-BA1DE896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A047-A466-4286-89B3-8786A67C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B9A0-5819-4A5F-B63A-46017A5F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0EC-1A5C-4184-B3CC-8F6D54CD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912-930C-455C-9906-E9E482BA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C54-5FF2-40BA-88DE-170BCDF2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828-63F5-402C-AA5C-5F29A293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8DD-1049-4087-A8C9-F95F43D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44D-87CB-4303-855D-DFFC7FF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40978E-F93A-4CB7-A19A-B4C092C3A42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D9574F-7E8D-4659-8DA3-C3AE272A48B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2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464646"/>
                </a:solidFill>
                <a:latin typeface="Bookman Old Style"/>
              </a:rPr>
              <a:t>Областной конкурс «Юный предприниматель Вологодской области»</a:t>
            </a:r>
            <a:br>
              <a:rPr sz="16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 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980640"/>
            <a:ext cx="8097840" cy="3546360"/>
          </a:xfrm>
          <a:prstGeom prst="rect">
            <a:avLst/>
          </a:prstGeom>
          <a:noFill/>
          <a:ln w="0">
            <a:solidFill>
              <a:srgbClr val="2b4a76"/>
            </a:solidFill>
          </a:ln>
        </p:spPr>
        <p:txBody>
          <a:bodyPr lIns="45720" rIns="4572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accent4">
                    <a:lumMod val="50000"/>
                  </a:schemeClr>
                </a:solidFill>
                <a:latin typeface="Bookman Old Style"/>
              </a:rPr>
              <a:t>«ПТИЦЕполис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Bookman Old Style"/>
              </a:rPr>
              <a:t>Автор проекта: Носок Владимир Андр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Bookman Old Style"/>
              </a:rPr>
              <a:t>обуч-ся 10 класса МАОУ СМР «Сямженская С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7" descr="http://agrarnik.ru/_files/u11881/c6306d.jpg"/>
          <p:cNvPicPr/>
          <p:nvPr/>
        </p:nvPicPr>
        <p:blipFill>
          <a:blip r:embed="rId1"/>
          <a:stretch/>
        </p:blipFill>
        <p:spPr>
          <a:xfrm>
            <a:off x="2051640" y="3141000"/>
            <a:ext cx="518436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48640"/>
            <a:ext cx="8229240" cy="612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веденный в данном бизнес-плане анализ показал, что проект по разведению кур является в данный момент в нашем селе высокоприбыльным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одукция имеет устойчиво-высокий спрос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новными рисками являются болезни птиц.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 умелой организации птицефермы и грамотном руководстве проект вполне способен в заданные сроки реализовать намеченные цели.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ри составлении правильного бизнес-плана, можно начать свою деятельность с маленького курятника и через несколько лет дорасти до реализации яиц на промышленном уровне. </a:t>
            </a: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Можно смело приниматься 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Lucida Sans Unicode"/>
              </a:rPr>
              <a:t>за дело!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На рис. первый опыт-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курятник родителей. </a:t>
            </a: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заключение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8" name="Рисунок 3" descr="F:\ЮНый предприниматель-18\ocXcTB4E8hE.jpg"/>
          <p:cNvPicPr/>
          <p:nvPr/>
        </p:nvPicPr>
        <p:blipFill>
          <a:blip r:embed="rId1"/>
          <a:stretch/>
        </p:blipFill>
        <p:spPr>
          <a:xfrm>
            <a:off x="4428000" y="3213000"/>
            <a:ext cx="44640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3000"/>
          </a:bodyPr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Цель проекта: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здание мини-фермы по разведению кур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«ПТИЦЕполис"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получение стабильной прибыли уже в первые 1,5-2 года.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Задачи проекта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нормативно-правовую базу, возможности создания мини-фермы по разведению кур в домашних условиях, опыт создания мини-ферм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зучить особенности содержания  кур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явить риск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оставить программу действий по реализации проек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ссчитать необходимые ресурсы и экономический эффект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ыделить условия, необходимые для успешной реализации проек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ределить перспективы развития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чать реализацию проект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-2462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сточник финансирования проекта: собственные средства, либо банковский кредит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464646"/>
                </a:solidFill>
                <a:latin typeface="Lucida Sans Unicode"/>
              </a:rPr>
              <a:t>Настоящий проект представляет собой описание организации разведения кур-несушек, создание собственной птицефермы со сроком окупаемости проекта 1,5- 2 года.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"/>
          </a:bodyPr>
          <a:p>
            <a:pPr indent="0" algn="ctr">
              <a:lnSpc>
                <a:spcPct val="100000"/>
              </a:lnSpc>
              <a:buNone/>
            </a:pP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Обобщенные результаты оценки сферы птецеводства в Сямже представлены в виде матрицы SWOT– анализа (табл.1).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Таблица 1 – SWOT-анализ </a:t>
            </a:r>
            <a:br>
              <a:rPr sz="4100"/>
            </a:b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03" name="Таблица 4"/>
          <p:cNvGraphicFramePr/>
          <p:nvPr/>
        </p:nvGraphicFramePr>
        <p:xfrm>
          <a:off x="107640" y="618480"/>
          <a:ext cx="9036000" cy="6095160"/>
        </p:xfrm>
        <a:graphic>
          <a:graphicData uri="http://schemas.openxmlformats.org/drawingml/2006/table">
            <a:tbl>
              <a:tblPr/>
              <a:tblGrid>
                <a:gridCol w="3096000"/>
                <a:gridCol w="5940000"/>
              </a:tblGrid>
              <a:tr h="26676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ые сто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b82236"/>
                          </a:solidFill>
                          <a:latin typeface="Times New Roman"/>
                          <a:ea typeface="Times New Roman"/>
                        </a:rPr>
                        <a:t>Сильные сторо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411768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олевания кур являются основным риском в этом бизнесе. Наиболее опасными заболеваниями кур считаются болезнь Ньюкасла (псевдочума), птичий грипп, инфекционная бурсальная болезнь, инфекционный бронхит, болезнь Марека, оспа, сальмонеллез, колибактериоз и други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спышке на не вакцинированном поголовье через 2-3 дня птица погибает, в таких случаях смертность достигает 70-100%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куриные яйца  очень популярный продукт: в год один среднестатистический взрослый человек потребляет до 292 яиц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 взрослую часть населения нашей страны приходится примерно 100 млн. человек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прос на экологическую продукцию, полученную естественным способом, постоянн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стоянный спрос, отсутствие сезонности на продукц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ь выбрать направление (выращивание кур для реализации яиц, мяса или молодняка), совмещать и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озможность начать дело с небольших масштабов (на приусадебном участке) без регистрации бизнеса и постепенно расширять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высокий уровень стартовых вложен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роме основной продукции можно продавать пух, субпродукты, помет для удобр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31644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ро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1" lang="ru-RU" sz="1400" spc="-1" strike="noStrike">
                          <a:solidFill>
                            <a:srgbClr val="c5000b"/>
                          </a:solidFill>
                          <a:latin typeface="Times New Roman"/>
                          <a:ea typeface="Times New Roman"/>
                        </a:rPr>
                        <a:t>Возм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91760"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енц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собственных финансовых средств и инвестиционных ресурсов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ое качество и однообразие продук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21600" rIns="2160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овых бизнес-проек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лама ВК и др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еличение объемов продаж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 спектра предлагаемых услуг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595"/>
                        </a:spcAf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улучшение качества и безопас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Содержимое 3"/>
          <p:cNvGraphicFramePr/>
          <p:nvPr/>
        </p:nvGraphicFramePr>
        <p:xfrm>
          <a:off x="467640" y="1917000"/>
          <a:ext cx="8229240" cy="4159800"/>
        </p:xfrm>
        <a:graphic>
          <a:graphicData uri="http://schemas.openxmlformats.org/drawingml/2006/table">
            <a:tbl>
              <a:tblPr/>
              <a:tblGrid>
                <a:gridCol w="1666440"/>
                <a:gridCol w="3819600"/>
                <a:gridCol w="27432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Этапы реализации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стройка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 обустройство курят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Сентябрь -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бор  содержания несушек /напольное/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бор породы кур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Октябрь-нояб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купка молодня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ход и содерж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Корм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азведение несуш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/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вод молодняка и инкуб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есна/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ддержание светового  и температурного режи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стоян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роведение профилакти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жедн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4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сновные этапы реализации проекта.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2000"/>
          </a:bodyPr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Основные затраты включают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готовка помещения для содержания птиц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купка цыплят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плата услуг птицевода, ветеринар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еспечение кормом, витаминам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гистрация бизнеса, налоговые отчисления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экономить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но на закупке комбикорма, заготавливая корма самостоятельно. Чтобы не тратить деньги на покупку молодняка, можно оборудовать курятник инкубатор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Доход поступает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от яиц (а позже от продажи мяса, молодняка, взрослых кур, навоза, удобрения, пера…) Его размер зависит от таких параметров: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ынки сбыта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ъема реализованной продукции;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ратегия ведения бизнес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-2415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нтабельность бизнеса по разведению кур сегодня оценивается в 90-95%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56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Lucida Sans Unicode"/>
              </a:rPr>
              <a:t>Окупаемость проекта составляет 1,5-2 год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2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3100"/>
            </a:br>
            <a:r>
              <a:rPr b="1" lang="ru-RU" sz="3100" spc="-1" strike="noStrike">
                <a:solidFill>
                  <a:srgbClr val="464646"/>
                </a:solidFill>
                <a:latin typeface="Lucida Sans Unicode"/>
              </a:rPr>
              <a:t>Описание результатов реализации проекта.</a:t>
            </a:r>
            <a:br>
              <a:rPr sz="4100"/>
            </a:br>
            <a:endParaRPr b="0" lang="ru-RU" sz="3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Содержимое 3"/>
          <p:cNvGraphicFramePr/>
          <p:nvPr/>
        </p:nvGraphicFramePr>
        <p:xfrm>
          <a:off x="457200" y="1481040"/>
          <a:ext cx="8229240" cy="502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Цена за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купка куриц -30 шт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50ру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05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естественная убыл не оплодотворенные яйца, 140 шт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12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стройка птичн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0 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Покупка инкубат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Электроэнер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00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корм для цыплят, 280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витам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50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fe8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корм для молодых пету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400" spc="-1" strike="noStrike">
                        <a:solidFill>
                          <a:schemeClr val="dk1"/>
                        </a:solidFill>
                        <a:latin typeface="Times New Roman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1380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Lucida Sans Unicode"/>
                          <a:ea typeface="Calibri"/>
                        </a:rPr>
                        <a:t>Всего  затратим: 1093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f0f3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Расходы за первый год.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2000"/>
          </a:bodyPr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так, в хозяйстве 30 кур. В год каждая курица несет примерно 250 яиц. Цена яйца высока из-за вкусовых и питательных веществ ,поэтому яйцо стоит 8 рубл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дведем расчёты сколько  яиц будет от всего хозяйства : 30*250=7500 штук. Из этого количества мы оставляем 700 штук на инкубацию  (выводок молодняка). Покупаем инкубатор за 5000 рублей на количество 63 яиц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тоимость одного цыпленка выращенного в домашних  условиях  составляет 178 рублей .  Если мы покупаем у фермера такого же возраста куриц  ,то стоимость составляет 350 рублей . прибыл от продажи одной курицы   равна 172 рубля .Так же мы продаем молодых петушков в количестве 280 штук по цене 200 рублей за одного и получаем 56 000 рублей 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2520" indent="-253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йц  Семья в среднем за год потребляет 2000 штук яиц .У нас остается 4800 штук яиц .продаем из по 8 рублей за штуку и получаем  38 400 рублей  .Затраты на электроэнергию составили 800 рублей ,так как с апреля по сентябрь куры живут в загонах на улице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7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Яйцо от 30 кур *250=7500 штук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яиц на инкубацию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60 цыплят вылупилось в год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йца 7500-700-2000=4800 яиц * 8 рублей за штуку =38 400 рублей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оход от продажи петушков 280*200=56000 рублей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дажа яиц от молодых куриц 3160 яиц в год *8 рублей за штуку =25 280 рублей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000" indent="-2455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Итого: мы получаем  доход  - 119 232 рублей 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464646"/>
                </a:solidFill>
                <a:latin typeface="Lucida Sans Unicode"/>
              </a:rPr>
              <a:t>Теперь подсчитаем доход за 1 г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556640"/>
            <a:ext cx="8218800" cy="475200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t">
            <a:normAutofit fontScale="87000"/>
          </a:bodyPr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На 2-й год мы можем получить доход от 200 кур. 200*250=50000яиц в год, из них оставляем на инкубацию 756 яиц,  в год мы получим 560цыплят.  Яйцо мы можем продать на 361952 рубля (50000-756-4000(на собствен. нужды)= 45244*8 руб=361952 руб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Также можно продать петушков на сумму 36000 руб (180 пет. *200 руб= 36000), а остальных оставляя себе.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200" spc="-1" strike="noStrike">
                <a:solidFill>
                  <a:schemeClr val="dk1"/>
                </a:solidFill>
                <a:latin typeface="Lucida Sans Unicode"/>
              </a:rPr>
              <a:t>Подадим яйцо молодых курочек  25280 руб.(280 кур получаем 3160 яиц и продаем по 8 руб.)</a:t>
            </a:r>
            <a:endParaRPr b="0" lang="ru-RU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Получаем прибыль 423232-274980= 148 252 рублей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Выгодно ли создание мини птицефермы в домашних условиях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800" indent="-24048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chemeClr val="dk1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c00000"/>
                </a:solidFill>
                <a:latin typeface="Lucida Sans Unicode"/>
              </a:rPr>
              <a:t>Как видите, доход очевиден!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95d3ee"/>
              </a:gs>
              <a:gs pos="100000">
                <a:srgbClr val="c9ecfb"/>
              </a:gs>
            </a:gsLst>
            <a:lin ang="16200000"/>
          </a:gradFill>
          <a:ln w="9360">
            <a:solidFill>
              <a:srgbClr val="2da2bf"/>
            </a:solidFill>
            <a:round/>
          </a:ln>
          <a:effectLst>
            <a:outerShdw dist="381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rmAutofit fontScale="42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4100" spc="-1" strike="noStrike">
                <a:solidFill>
                  <a:schemeClr val="dk1"/>
                </a:solidFill>
                <a:latin typeface="Lucida Sans Unicode"/>
              </a:rPr>
              <a:t>доход 423232 рубля</a:t>
            </a:r>
            <a:br>
              <a:rPr sz="4100"/>
            </a:br>
            <a:r>
              <a:rPr b="1" lang="ru-RU" sz="4100" spc="-1" strike="noStrike">
                <a:solidFill>
                  <a:schemeClr val="dk1"/>
                </a:solidFill>
                <a:latin typeface="Lucida Sans Unicode"/>
              </a:rPr>
              <a:t>расход:  274 980 рублей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67</TotalTime>
  <Application>LibreOffice/7.4.7.2$Linux_X86_64 LibreOffice_project/40$Build-2</Application>
  <AppVersion>15.0000</AppVersion>
  <Words>1097</Words>
  <Paragraphs>171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2T08:07:15Z</dcterms:created>
  <dc:creator>Pioner</dc:creator>
  <dc:description/>
  <dc:language>en-US</dc:language>
  <cp:lastModifiedBy>Pioner</cp:lastModifiedBy>
  <dcterms:modified xsi:type="dcterms:W3CDTF">2018-11-27T05:10:55Z</dcterms:modified>
  <cp:revision>9</cp:revision>
  <dc:subject/>
  <dc:title>Областной конкурс «Юный предприниматель Вологодской област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