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668-E2F4-477B-8A13-BF766609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8814-08E1-463C-A018-D8209927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DCF2-A51C-45FC-A724-2B4A95CE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7F5-7A67-4E3F-8BC9-B8C34103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D6B-C062-429C-93B8-CD43E762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82A-7B21-4B1E-AA1F-41805728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038-CC17-4BED-B23C-5E314F6D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001-4FA9-47DD-8154-E2A5E9D9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4BD9-9162-43D9-B743-831B61CA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F7AE-3473-43D9-BF32-FD1D9B78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351-4357-4212-BCA4-B4B6AAB4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B6B6-EBAF-42F6-B4C6-37CCB02D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4BB853-2150-436B-A4C9-B46A174DF9C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Заголовок 1"/>
          <p:cNvSpPr/>
          <p:nvPr/>
        </p:nvSpPr>
        <p:spPr>
          <a:xfrm>
            <a:off x="2880720" y="679320"/>
            <a:ext cx="345024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Segoe Print"/>
              </a:rPr>
              <a:t>Три «К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4952520" y="1389240"/>
            <a:ext cx="3285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К</a:t>
            </a:r>
            <a:r>
              <a:rPr b="0" lang="ru-RU" sz="2000" spc="-1" strike="noStrike">
                <a:solidFill>
                  <a:srgbClr val="d0cece"/>
                </a:solidFill>
                <a:latin typeface="Calibri"/>
              </a:rPr>
              <a:t>елды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К</a:t>
            </a:r>
            <a:r>
              <a:rPr b="0" lang="ru-RU" sz="2000" spc="-1" strike="noStrike">
                <a:solidFill>
                  <a:srgbClr val="d0cece"/>
                </a:solidFill>
                <a:latin typeface="Calibri"/>
              </a:rPr>
              <a:t>орол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ffffff"/>
                </a:solidFill>
                <a:latin typeface="Segoe Print"/>
              </a:rPr>
              <a:t>К</a:t>
            </a:r>
            <a:r>
              <a:rPr b="0" lang="ru-RU" sz="2000" spc="-1" strike="noStrike">
                <a:solidFill>
                  <a:srgbClr val="d0cece"/>
                </a:solidFill>
                <a:latin typeface="Calibri"/>
              </a:rPr>
              <a:t>урч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MVKeldish.jpg"/>
          <p:cNvPicPr/>
          <p:nvPr/>
        </p:nvPicPr>
        <p:blipFill>
          <a:blip r:embed="rId1"/>
          <a:stretch/>
        </p:blipFill>
        <p:spPr>
          <a:xfrm>
            <a:off x="500040" y="2714760"/>
            <a:ext cx="2542680" cy="3152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Сергей Павлович Королёв"/>
          <p:cNvPicPr/>
          <p:nvPr/>
        </p:nvPicPr>
        <p:blipFill>
          <a:blip r:embed="rId2"/>
          <a:stretch/>
        </p:blipFill>
        <p:spPr>
          <a:xfrm>
            <a:off x="3429000" y="2714760"/>
            <a:ext cx="2381040" cy="3142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Картинки по запросу курчатов"/>
          <p:cNvPicPr/>
          <p:nvPr/>
        </p:nvPicPr>
        <p:blipFill>
          <a:blip r:embed="rId3"/>
          <a:stretch/>
        </p:blipFill>
        <p:spPr>
          <a:xfrm>
            <a:off x="6143760" y="2714760"/>
            <a:ext cx="2428560" cy="31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071360" y="142920"/>
            <a:ext cx="678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Segoe Print"/>
              </a:rPr>
              <a:t>Келдыш Мстислав Всеволод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142920" y="785880"/>
            <a:ext cx="5500440" cy="41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Мстислав Всеволодович Келдыш родился 10 февраля  1911 г. в Риге  в семье адьюнкт-профессора Рижского политехнического института, крупного инженера-строителя  Всеволода Михайловича Келдыша и домохозяйки Марии Александровны Скворцовой. Отец и мать происходили из дворянских семей, знали французский и немецкий языки, играли на фортепиано, любили музыку и искусство, к которым приучали детей, занимаясь их образованием. В 1915 г., когда к Риге подошли немецкие войска, семье пришлось эвакуироваться в Москву. Склонность к математике у Келдыша проявилась еще в 7-8 классах, учителя уже тогда отличали его незаурядные способности к точным наукам. С 1942 по 1953 год Мстислав Келдыш являлся профессором МГУ. На физико-техническом факультете МГУ он заведовал кафедрой термодинамики и вел курс математической физики, а на механико-математическом - читал лекции и руководил научно-исследовательским семинаром по теории функций комплексного переменного. В 1973 г. ученый перенес сложную операцию на кровеносных сосудах. Скончался Мстислав Келдыш 24 июня 1978 г. Урна с его прахом захоронена в Кремлевской стене на Красной площади в Моск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Картинки по запросу келдыш мстислав всеволодович"/>
          <p:cNvPicPr/>
          <p:nvPr/>
        </p:nvPicPr>
        <p:blipFill>
          <a:blip r:embed="rId1"/>
          <a:stretch/>
        </p:blipFill>
        <p:spPr>
          <a:xfrm>
            <a:off x="5715000" y="1071720"/>
            <a:ext cx="3257280" cy="42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14200" y="928800"/>
            <a:ext cx="87865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 Light"/>
              </a:rPr>
              <a:t>Он внес огромный вклад в осуществление совместного советско‑американского космического полёта "Союз-Апполон"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 Light"/>
              </a:rPr>
              <a:t>Заслуги академика Мстислава Келдыша высоко оценены. Он трижды Герой Социалистического Труда , лауреат Ленинской и Государственных премий, награжден семью орденами Ленина, тремя орденами Трудового Красного Знамени , медалями, а также орденами и медалями иностранных государ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 Light"/>
              </a:rPr>
              <a:t>Мстислав Келдыш был избран иностранным членом 16 Академий мира, почетным доктором шести университ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1785960" y="285840"/>
            <a:ext cx="5285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Segoe Print"/>
              </a:rPr>
              <a:t>Заслуги М.В.Келды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Картинки по запросу келдыш"/>
          <p:cNvPicPr/>
          <p:nvPr/>
        </p:nvPicPr>
        <p:blipFill>
          <a:blip r:embed="rId1"/>
          <a:stretch/>
        </p:blipFill>
        <p:spPr>
          <a:xfrm>
            <a:off x="1632600" y="3360960"/>
            <a:ext cx="4750200" cy="32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714320" y="214200"/>
            <a:ext cx="5643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Segoe Print"/>
              </a:rPr>
              <a:t>Королёв Сергей Пав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142920" y="714240"/>
            <a:ext cx="60717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ергей Павлович Королев родился 12 января 1907 года в Житомире. Его отец – Павел Яковлевич Королев, учитель русской словесности. Мать – Мария Николаевна Москаленко, дочь нежинского купца. Когда ему было 3 года, мама покинула семью, и его отправили в город Нежин к бабушке и дедушке. Учился Сергей Павлович в Киеве, затем в Одессе. Именно в Одессе он познакомился с летчиками местного авиаотряда и много времени проводил в их компании, интересуясь тонкостями их ремесла. В 1938 году в СССР проходила массовая чистка: искали шпионов, врагов народа. Пострадали многие ученые, конструкторы, инженеры. Королёва тоже арестовали и приговорили к 10 годам в исправительно-трудовых лагерях на Колыме. Из заключения его неожиданно освободили в 1944 году, а в 45-м как специалиста в области реактивного ракетостроения отправили в Германию. В 1947 году Королёва пригласили в Кремль для доклада Сталину о разработке баллистической ракеты. Он доложил, но никакой реакции не последовало. И никаких изменений не произошло. Перемены наступили после смерти Сталина, когда новое руководство страны привлекло талантливых ученых и инженеров к созданию нового ракетного оружия, к освоению космоса. Сергей Павлович Королев планировал создать новый корабль, в отсеке которого космонавты могли находиться без скафандров, думал осуществить стыковку двух кораблей в космосе. Но его сердце не выдержало чрезмерных нагрузок и 14 января 1966 года скончался от сердечной недостато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https://pp.userapi.com/c850136/v850136104/8f886/sVZDk6HESAQ.jpg"/>
          <p:cNvPicPr/>
          <p:nvPr/>
        </p:nvPicPr>
        <p:blipFill>
          <a:blip r:embed="rId1"/>
          <a:stretch/>
        </p:blipFill>
        <p:spPr>
          <a:xfrm>
            <a:off x="6368040" y="1357200"/>
            <a:ext cx="277560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457200" y="1116720"/>
            <a:ext cx="80445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2 апреля 1961 г. С. П. Королёв создал первый пилотируемый космический корабль «Восток-1», он реализовал первый в мире полёт человека в космос — гражданина СССР Юрия Алексеевича Гагарина — по околоземной орбите. За подготовку первого полёта человека в космос С. П. Королёв был вторично удостоен звания Героя Социалистического Тру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714320" y="254880"/>
            <a:ext cx="4853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Segoe Print"/>
              </a:rPr>
              <a:t>Заслуги С.П. Королё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Картинки по запросу королев"/>
          <p:cNvPicPr/>
          <p:nvPr/>
        </p:nvPicPr>
        <p:blipFill>
          <a:blip r:embed="rId1"/>
          <a:stretch/>
        </p:blipFill>
        <p:spPr>
          <a:xfrm>
            <a:off x="1157760" y="2910240"/>
            <a:ext cx="5735160" cy="382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357200" y="142920"/>
            <a:ext cx="6000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Segoe Print"/>
              </a:rPr>
              <a:t>Курчатов Игорь Васил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85840" y="714240"/>
            <a:ext cx="8857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Родился 12 января 1903 г. (по новому стилю) в посёлке Симского завода на Южном Урале в семье землемера и учительницы. В 12 лет поступил в гимназию, которую окончил с золотой медалью, несмотря на большую нужду в семье. Учился на физико-математическом факультете Крымского университета в Симферополе. В 1939 г. Игорь Васильевич начал исследовать деление тяжёлых ядер. Через год под его руководством физики К. А. Петржак и Г. Н. Флёров открыли самопроизвольный распад урана. которого был осуществлён в декабре 194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обая роль принадлежит Курчатову в становлении и развитии атомной энергетики. Он руководил созданием атомной бомбы в СССР. Работы начались во время Великой Отечественной войны. Тогда при Академии наук Курчатов создал закрытую лабораторию, где велись исследования, направленные на получение цепной ядерной реакции. В 1955 г. лаборатория была преобразована в Институт атомной энергии. Курчатов с удовольствием поддерживал шутки, любил придумывать товарищам прозвища и сам охотно откликался, когда его звали Борода. Любимым словом Курчатова было «понимаю». Именно оно стало последним в его устах, когда 7 февраля 1960 г. он умер прямо в момент разговора с коллегой, сидя на скамейке в подмосковной Барвих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s://pp.userapi.com/c850136/v850136104/8f946/SOGdejYLuBo.jpg"/>
          <p:cNvPicPr/>
          <p:nvPr/>
        </p:nvPicPr>
        <p:blipFill>
          <a:blip r:embed="rId1"/>
          <a:stretch/>
        </p:blipFill>
        <p:spPr>
          <a:xfrm>
            <a:off x="1357200" y="3357720"/>
            <a:ext cx="59716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714240" y="1285920"/>
            <a:ext cx="7643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кадемик с 1943 г., Курчатов удостоился многих наград, в том числе пяти орденов Ле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1957 г. он стал лауреатом Ленинской премии. Современники Курчатова отмечают, что Игорь Васильевич был человеком огромного интеллекта, таланта и трудолюбия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зже именно Курчатовский коллектив разработал термоядерную бомбу АН602 (Царь-бомба) рекордной мощности 52 000 к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643040" y="142920"/>
            <a:ext cx="5857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Segoe Print"/>
              </a:rPr>
              <a:t>Заслуги И.В. Курч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s://upload.wikimedia.org/wikipedia/commons/0/09/Kurchatov_1930th.jpeg"/>
          <p:cNvPicPr/>
          <p:nvPr/>
        </p:nvPicPr>
        <p:blipFill>
          <a:blip r:embed="rId1"/>
          <a:stretch/>
        </p:blipFill>
        <p:spPr>
          <a:xfrm>
            <a:off x="1828800" y="3728880"/>
            <a:ext cx="51696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85840" y="428760"/>
            <a:ext cx="821484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А когда эти три Великих Человека подружились, они приняли все важнейшие решения по созданию ракетно-ядерного щита СССР, обеспечившего паритет между сверхдержавами – Советским Союзом и Соединенными Штатами и тем самым сохранившим миру ми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Мстислав Всеволодович Келдыш - фантастически интересный человек, великий ученый. Если рассматривать XX век, Келдыш входит в пятерку самых великих ученых в нашей стране. Есть знаменитый кадр, на котором запечатлены Королев, Курчатов, Келдыш – три «К», три человека, которые создали ракетно-ядерный щит СССР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Картинки по запросу курчатов келдыш и королев"/>
          <p:cNvPicPr/>
          <p:nvPr/>
        </p:nvPicPr>
        <p:blipFill>
          <a:blip r:embed="rId1"/>
          <a:stretch/>
        </p:blipFill>
        <p:spPr>
          <a:xfrm>
            <a:off x="1500120" y="2500200"/>
            <a:ext cx="62146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 Them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  <Words>423</Words>
  <Paragraphs>2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4T12:10:47Z</dcterms:created>
  <dc:creator>user</dc:creator>
  <dc:description/>
  <dc:language>en-US</dc:language>
  <cp:lastModifiedBy>Microsoft</cp:lastModifiedBy>
  <dcterms:modified xsi:type="dcterms:W3CDTF">2018-12-06T18:08:08Z</dcterms:modified>
  <cp:revision>27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