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hdphoto1.wdp" ContentType="image/vnd.ms-photo"/>
  <Override PartName="/ppt/media/image3.png" ContentType="image/png"/>
  <Override PartName="/ppt/media/hdphoto2.wdp" ContentType="image/vnd.ms-photo"/>
  <Override PartName="/ppt/media/image4.png" ContentType="image/png"/>
  <Override PartName="/ppt/media/hdphoto3.wdp" ContentType="image/vnd.ms-photo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FADB-3B4C-40F7-9AA3-3AE020AC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436BD-9BCB-4621-9994-0AB2BA9F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68AB-44EC-4E1A-80FF-47AEC902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5855-EB76-4A7D-B0FE-22CB901A2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25FD-B304-4946-8AB9-C1A28187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86F6-709A-4B41-89AC-66C34DDA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2B23-908A-4A2D-8AB8-50CE9EDF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66D0-3BB2-4316-95C8-D983B0BB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FA8E-9E94-4B87-99CA-F692D2DD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2ADD-504A-4F8C-B8B5-72C7A0BF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7C7B-9717-45C2-A25A-59294C26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4577-C7EA-461D-9483-2269F88F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10EC-8AEF-4C68-8C2B-369DADAC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4405-5D7F-4611-8D89-4A1F2C31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A4EB-20EE-4692-BB5F-FEE90EE5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D095-4D74-4202-8198-F8B41D08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9091-67CA-4E81-ABD1-FE19078E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BE8D7-95FD-4ECC-9290-DF7D1641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AAF3D-B8A9-40F7-BC62-D8E5E6C9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F26A-323D-4D92-9272-F6D2F357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E1F2-2880-42F7-9D9E-2B22C81F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FD8B9-21AA-4E19-A956-26BD588B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D7C65-5593-412F-AA5F-3BF333B3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468D-B11A-43FC-8ADE-A50B9DAC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3E18272-7239-48FA-AEA2-3111E55F25D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E42BEF7-AF01-46F9-AFB6-C15CCD5D592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microsoft.com/office/2007/relationships/hdphoto" Target="../media/hdphoto3.wdp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7472160" cy="26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д презентацией работали: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лександрова Ольг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сильева Алин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абич Богдан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428840" y="21420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 авторах презентации 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857240" y="4643280"/>
            <a:ext cx="63576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i="1" lang="ru-RU" sz="4000" spc="-1" strike="noStrike">
                <a:solidFill>
                  <a:srgbClr val="ffffff"/>
                </a:solidFill>
                <a:latin typeface="Constantia"/>
              </a:rPr>
              <a:t>Приятного просмотр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640" y="533160"/>
            <a:ext cx="8424720" cy="64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Гениа́льность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(от лат. </a:t>
            </a:r>
            <a:r>
              <a:rPr b="0" i="1" lang="ru-RU" sz="3200" spc="-1" strike="noStrike">
                <a:solidFill>
                  <a:srgbClr val="ffffff"/>
                </a:solidFill>
                <a:latin typeface="Constantia"/>
              </a:rPr>
              <a:t>genius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— «дух») — высший уровень интеллектуального или творческого функционирования личности</a:t>
            </a:r>
            <a:r>
              <a:rPr b="0" lang="ru-RU" sz="3200" spc="-1" strike="noStrike" baseline="30000">
                <a:solidFill>
                  <a:srgbClr val="ffffff"/>
                </a:solidFill>
                <a:latin typeface="Constantia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который реально проявляется в выдающихся научных открытиях или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философских концепциях, технических 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или технологических изобретениях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 социальных преобразованиях, создании художественных произведений, имеющих отдалённые последствия во многих областях культуры. 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ru-RU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buNone/>
            </a:pPr>
            <a:endParaRPr b="0" lang="en-US" sz="4200" spc="-100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s://sxodim.com/uploads/almaty/2017/01/university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-2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279360" y="0"/>
            <a:ext cx="9423000" cy="68576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301840" y="493200"/>
            <a:ext cx="4314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4800" spc="-1" strike="noStrike">
                <a:solidFill>
                  <a:srgbClr val="002060"/>
                </a:solidFill>
                <a:latin typeface="Constantia"/>
              </a:rPr>
              <a:t>образ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777960" y="3227400"/>
            <a:ext cx="3096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000" spc="-1" strike="noStrike">
                <a:solidFill>
                  <a:srgbClr val="c00000"/>
                </a:solidFill>
                <a:latin typeface="Constantia"/>
              </a:rPr>
              <a:t>труд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6100560" y="3244320"/>
            <a:ext cx="1950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000" spc="-1" strike="noStrike">
                <a:solidFill>
                  <a:srgbClr val="c00000"/>
                </a:solidFill>
                <a:latin typeface="Constantia"/>
              </a:rPr>
              <a:t>дан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Прямая со стрелкой 7"/>
          <p:cNvCxnSpPr/>
          <p:nvPr/>
        </p:nvCxnSpPr>
        <p:spPr>
          <a:xfrm>
            <a:off x="4644000" y="1324080"/>
            <a:ext cx="1656360" cy="21052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92" name="Прямая со стрелкой 9"/>
          <p:cNvCxnSpPr/>
          <p:nvPr/>
        </p:nvCxnSpPr>
        <p:spPr>
          <a:xfrm flipH="1">
            <a:off x="2326320" y="1324080"/>
            <a:ext cx="1508760" cy="21052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5" descr="smartphone-mobile-computer-ss-1920-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-2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54368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1"/>
          <p:cNvSpPr/>
          <p:nvPr/>
        </p:nvSpPr>
        <p:spPr>
          <a:xfrm>
            <a:off x="82080" y="1196640"/>
            <a:ext cx="9756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овременные технологии: прогресс или регресс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2" descr="creating-information-products-your-first-steps-KtTTBL-clipart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harpenSoften amount="-2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-642960"/>
            <a:ext cx="9143640" cy="86436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1"/>
          <p:cNvSpPr/>
          <p:nvPr/>
        </p:nvSpPr>
        <p:spPr>
          <a:xfrm>
            <a:off x="-38880" y="620640"/>
            <a:ext cx="9143640" cy="64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002060"/>
                </a:solidFill>
                <a:latin typeface="Constantia"/>
              </a:rPr>
              <a:t>Джордж Карлин: </a:t>
            </a:r>
            <a:br>
              <a:rPr sz="6000"/>
            </a:br>
            <a:r>
              <a:rPr b="0" i="1" lang="ru-RU" sz="6000" spc="-1" strike="noStrike">
                <a:solidFill>
                  <a:srgbClr val="002060"/>
                </a:solidFill>
                <a:latin typeface="Constantia"/>
              </a:rPr>
              <a:t>“ Главное — не научиться читать. Гораздо важнее научиться сомневаться в прочитанном.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8952b60.jpg"/>
          <p:cNvPicPr/>
          <p:nvPr/>
        </p:nvPicPr>
        <p:blipFill>
          <a:blip r:embed="rId1"/>
          <a:stretch/>
        </p:blipFill>
        <p:spPr>
          <a:xfrm>
            <a:off x="0" y="-198360"/>
            <a:ext cx="9143640" cy="725436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360000" y="404640"/>
            <a:ext cx="758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000" spc="-1" strike="noStrike">
                <a:solidFill>
                  <a:srgbClr val="ffc000"/>
                </a:solidFill>
                <a:latin typeface="Constantia"/>
              </a:rPr>
              <a:t>Мы не лучше и не гениальне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3922200" y="5949360"/>
            <a:ext cx="5260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4000" spc="-1" strike="noStrike">
                <a:solidFill>
                  <a:srgbClr val="ffc000"/>
                </a:solidFill>
                <a:latin typeface="Constantia"/>
              </a:rPr>
              <a:t>мы просто други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259</TotalTime>
  <Application>LibreOffice/7.4.7.2$Linux_X86_64 LibreOffice_project/40$Build-2</Application>
  <AppVersion>15.0000</AppVersion>
  <Words>40</Words>
  <Paragraphs>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4T11:44:27Z</dcterms:created>
  <dc:creator>Steve</dc:creator>
  <dc:description/>
  <dc:language>en-US</dc:language>
  <cp:lastModifiedBy>Пользователь</cp:lastModifiedBy>
  <dcterms:modified xsi:type="dcterms:W3CDTF">2018-12-05T10:27:54Z</dcterms:modified>
  <cp:revision>28</cp:revision>
  <dc:subject/>
  <dc:title>Определение – важно!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