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hdphoto1.wdp" ContentType="image/vnd.ms-photo"/>
  <Override PartName="/ppt/media/image3.png" ContentType="image/png"/>
  <Override PartName="/ppt/media/hdphoto2.wdp" ContentType="image/vnd.ms-photo"/>
  <Override PartName="/ppt/media/image4.png" ContentType="image/png"/>
  <Override PartName="/ppt/media/hdphoto3.wdp" ContentType="image/vnd.ms-photo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BF7E-8DF9-43B2-9ABB-2619D8E7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7F2F-D417-4CE9-BEB7-5877CDE7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7371-DE7D-45D6-BF6F-C8750542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FA31-287D-4F1A-979D-1E31AEF1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4C2B-5AD2-4373-B105-7FCB49CF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1EC-8FC1-47A7-B226-FF045A0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F6A2-5AC7-43A3-B90D-4A5D3AE3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FADE-481E-4943-82A1-20ED7558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6BCD-66F7-4538-9C26-206A496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6F4B-7479-4375-B39D-AF4F64F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34D9-AC97-4D4E-A0B3-771648D5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C554-DCF7-40AF-A973-1A5167E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288-1751-4CDF-B5A1-3FC6B44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D43-AC28-4653-BBF7-B23A1F9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E039-6C55-4DA4-8617-92BE92A2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E03E-427B-4895-BC69-6C6F6536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6412-6EE2-4220-AADE-3C2B0FBA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933A-1F3D-4B08-B4D8-55D8A8E4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A0CC-2D4F-4B49-93D5-4E2E212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4802-0449-4E4D-BB97-AB3201A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CE41-D87F-44F8-BD9D-7BC8BDDC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2FBA-82A0-44FA-A8C6-0381A67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A819-FC6E-46A9-9B48-FD850D2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5424-786A-4A21-AE26-C889EDA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6CC3B0-A0B4-4359-9680-D18974E36D3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520333-1C61-4BAC-94DA-07ED60558E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472160" cy="26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д презентацией работал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ександрова Ольг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сильева Алин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бич Богда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428840" y="21420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 авторах презентации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857240" y="4643280"/>
            <a:ext cx="6357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Приятного просмот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640" y="533160"/>
            <a:ext cx="8424720" cy="64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Гениа́льность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(от лат. 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genius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— «дух») — высший уровень интеллектуального или творческого функционирования личности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который реально проявляется в выдающихся научных открытиях или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лософских концепциях, технических 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ли технологических изобретениях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социальных преобразованиях, создании художественных произведений, имеющих отдалённые последствия во многих областях культуры. 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sxodim.com/uploads/almaty/2017/01/university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79360" y="0"/>
            <a:ext cx="942300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301840" y="493200"/>
            <a:ext cx="43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2060"/>
                </a:solidFill>
                <a:latin typeface="Constantia"/>
              </a:rPr>
              <a:t>образ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77960" y="3227400"/>
            <a:ext cx="3096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100560" y="3244320"/>
            <a:ext cx="1950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дан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7"/>
          <p:cNvCxnSpPr/>
          <p:nvPr/>
        </p:nvCxnSpPr>
        <p:spPr>
          <a:xfrm>
            <a:off x="4644000" y="1324080"/>
            <a:ext cx="1656360" cy="2105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2" name="Прямая со стрелкой 9"/>
          <p:cNvCxnSpPr/>
          <p:nvPr/>
        </p:nvCxnSpPr>
        <p:spPr>
          <a:xfrm flipH="1">
            <a:off x="2326320" y="1324080"/>
            <a:ext cx="1508760" cy="2105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5" descr="smartphone-mobile-computer-ss-1920-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54368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82080" y="1196640"/>
            <a:ext cx="975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овременные технологии: прогресс или регресс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creating-information-products-your-first-steps-KtTTBL-clipart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642960"/>
            <a:ext cx="9143640" cy="8643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-38880" y="620640"/>
            <a:ext cx="9143640" cy="64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2060"/>
                </a:solidFill>
                <a:latin typeface="Constantia"/>
              </a:rPr>
              <a:t>Джордж Карлин: </a:t>
            </a:r>
            <a:br>
              <a:rPr sz="6000"/>
            </a:br>
            <a:r>
              <a:rPr b="0" i="1" lang="ru-RU" sz="6000" spc="-1" strike="noStrike">
                <a:solidFill>
                  <a:srgbClr val="002060"/>
                </a:solidFill>
                <a:latin typeface="Constantia"/>
              </a:rPr>
              <a:t>“ Главное — не научиться читать. Гораздо важнее научиться сомневаться в прочитанном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8952b60.jpg"/>
          <p:cNvPicPr/>
          <p:nvPr/>
        </p:nvPicPr>
        <p:blipFill>
          <a:blip r:embed="rId1"/>
          <a:stretch/>
        </p:blipFill>
        <p:spPr>
          <a:xfrm>
            <a:off x="0" y="-198360"/>
            <a:ext cx="9143640" cy="7254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360000" y="404640"/>
            <a:ext cx="758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c000"/>
                </a:solidFill>
                <a:latin typeface="Constantia"/>
              </a:rPr>
              <a:t>Мы не лучше и не гениальн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3922200" y="5949360"/>
            <a:ext cx="5260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c000"/>
                </a:solidFill>
                <a:latin typeface="Constantia"/>
              </a:rPr>
              <a:t>мы просто друг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59</TotalTime>
  <Application>LibreOffice/7.4.7.2$Linux_X86_64 LibreOffice_project/40$Build-2</Application>
  <AppVersion>15.0000</AppVersion>
  <Words>40</Words>
  <Paragraphs>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4T11:44:27Z</dcterms:created>
  <dc:creator>Steve</dc:creator>
  <dc:description/>
  <dc:language>en-US</dc:language>
  <cp:lastModifiedBy>Пользователь</cp:lastModifiedBy>
  <dcterms:modified xsi:type="dcterms:W3CDTF">2018-12-05T10:27:54Z</dcterms:modified>
  <cp:revision>28</cp:revision>
  <dc:subject/>
  <dc:title>Определение – важно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