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12F-B9FD-40E1-96CB-3F05C805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F0A-E465-4CB9-8C64-1E687366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B7E14-2D9E-42CC-9928-D4E8A47A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F7B66-24CA-45C9-A30E-D9CD514A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BE378-581A-405E-8846-31E43015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6612E-D6AF-46E0-966E-52B408D8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9DC57-A9C4-41A3-9C7A-0BF627BF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FFABF-F97A-4A01-9F8C-91BF32A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F027D-68A0-4E38-A08B-24DB23AB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755EA-2656-4D96-AC49-A5B8C923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137A1-C12D-42CB-9317-A1A013B5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A4F53-02A5-45AD-8C78-92A356CA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DFC-2709-48D5-B2EF-55317771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D215A-40E9-4B5A-9EAD-D5BD0AE5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2FAED-3702-458A-A425-96E1F53F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6D93A-6ED8-463B-86BD-B91D3DE1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16637-3224-462E-970E-75440335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ACFB3-CC29-46AC-B23C-A2ABFBE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414FF-6231-4FFF-AE42-973BBF85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7D9EE-2104-4431-B498-3E61A8F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0A164-78F8-4A29-AEEF-7D0FF5C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B90BA-9997-4E4C-BC98-770A0D01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A0F4E-9852-4C3B-B6D3-8D7A0552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2D3-214E-4850-BA40-4E36DB2C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C2E40-DD82-4751-A093-9A8277FC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9C82B-42D3-483D-A4BE-8DA70788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7E35F-12D4-4475-91C3-10FB2A28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E9D57-3F9B-4DB4-81EF-D1AE7661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EDFB5-75CA-424E-A729-7A0427FB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3F84E-1302-4086-AF5B-D3C1141E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6FBFF-CFFE-4D20-9C06-1FC1196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F9241-745C-43D3-AF9A-9AD94B1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E812A-D61F-4FA0-8C18-2EE99C3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D1F00-4327-4206-A714-F4D6DA7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AF89-3A84-4A35-A30D-FCF5D496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4E034-A981-4BDC-A774-EAE0B584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04BBD-D128-4E16-A7D3-01FF75C6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A6624-8BDF-4980-BB1F-8C39E746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B9D48-E045-437B-AFF9-E3D68FCB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C5590-FFA5-4A1F-9E41-2233CD5D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9FE8B-EB03-4E0C-A04A-6976C615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A4224-A5CC-4AF1-BED9-DC334E84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1539D-28EE-44C4-BA08-E1CCDD8F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EE5AA-5D23-462B-A40C-8F2525BE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F14BD-8F67-4620-BE42-5F9DB4EB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5BCE-CF7C-4291-834B-F8A63AE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B8260-5E11-4337-AB33-F405D90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BF5EF-419F-4F34-8B46-F7A69F0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B66A5-F063-4479-AB24-86680935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22E19-F362-498D-B827-49353319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4F342-85B5-4DCE-A854-00FE50E4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100A1-2A64-439C-94C1-62516336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5CF52-993E-43EA-A894-A29F38C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F87E2-E360-472B-B4E0-59ABAD1F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52718-62B6-4F89-BB31-F8BA5C80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1E700-712C-4A12-8678-4C01CEBA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4CA5-F46A-4BD8-93AF-A6D18AF8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56BE6-9894-45BA-9D40-7564103E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FAC22-D268-43EA-ADA5-0CA21C62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87C06-AECE-43D9-A055-EC763D04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079D8-330D-41BC-AB9D-111E7BA1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74FE2-7EB9-4366-B196-1B6E1184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8C6F1-7422-4FB5-A46C-AF95008E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A030C-2612-4A29-919D-C45E0DE0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5BD17-0992-485F-8B76-4897681E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5676B-7D30-4942-A0A2-F891EC8D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78C78-E3CA-4CE1-80FE-413B8F1D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F261-EFC6-4CBD-906A-6C5D23B6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DFE8D-CCC0-4F04-8F10-E4910423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160B5-770A-46E8-A14B-B0BF1EDF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CB2C6-6C5F-457D-A5E3-F1B4F51B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71A06-A1A2-47FC-85E7-44E7D57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96825-050F-4CAB-B463-89E47294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7C553-C663-45C3-B916-7482F63E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A0EED-AEC1-4971-964A-5FD7C13B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4C5E0-0C57-4487-80FE-CEBBCBBC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BFDCF-C48E-4E2F-8303-BBFE54A1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D3A19-533C-46B3-8074-52009BF6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C2CE-7D45-4DEB-B889-F3C0D1EA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B609B-CAE0-4E7A-A389-910033D4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5CC80-EED2-409F-B1EB-F1C0D2FB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AFE56-CAD7-456C-9B71-70AE253C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9AB86-3540-4EE1-ABED-C306078D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7E538-3F44-44C8-848F-BCCCA6A8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5CCF5-1D96-424B-925F-BA632625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7B511-0D71-427B-BCBA-5E84C98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4802A-2D8F-41E8-B28E-850102D3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B7F15-D32C-4F5E-8EA4-0BF67800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C8B27-A0BD-47DB-8FCD-D36A547C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6886-D1EF-4D4A-90E0-6ED50BE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C3ED3-224A-463C-BD65-6C568CBA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018DF-B1A6-4DF3-91FA-F7EF9A59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9F7C1-E6E5-4951-839B-CF90E457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E5BBC-048E-4EF3-826E-C3387F09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BFF07-8D2F-4F7E-9B42-C26F41DB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31747-14A3-4587-AB77-7CD83813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2755D-CF51-4033-9CA7-3518B29D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6D152E-DDC6-4439-9EDA-DD7ABF1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F30A9-D565-471F-AC74-DF8BE2DF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46FBA-26E6-4688-BE0C-FDE7B545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4888-D536-49BE-9E5A-D18F15BD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48CC9-7E75-4D25-A666-99406BFD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5BBA4C-7D54-4FBA-A623-64FBECC4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490881-EFAC-4547-B84B-B4452B44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F9386-8109-44D5-B91B-51BF2591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5C29D-22B4-4268-A700-EFC3C20D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999C9-D900-4B0D-80B0-A92CAFAC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AC1A7-BCFF-474A-A25D-D8A6420F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FC8F6-9107-4658-812D-5594067C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0771B-3940-4952-A86D-DE314361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4493B-CE5C-4287-BBAC-FABA57D6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264-498F-48D2-948D-A43F6650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E949-5313-4D25-A6D3-6C6DB40F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8CF79-275C-475B-97C7-A04109A6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54D34-AC7D-4B17-B10F-9248191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0B29B-5E35-496C-BBB9-9E387ED8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07DCB-81DE-4473-9A50-52B3C3BE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03632-12AA-4D87-B8A6-C7050BA1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18973-01A7-4E75-9353-9F16E706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8C8D6-2CEC-4988-A1C1-98655DBD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81B35-D88C-4A57-9FA0-55E10F46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35EC4-236F-4463-904B-B8F060D6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988A4-5F68-4272-ADEF-3C97BCC4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0D2E-F329-4DB7-A0D7-A6C7CE5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967C2-B093-4585-8AC6-0B578F3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37808-058B-42C1-8FA7-C252C82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44F56-5BD4-4B9E-B1B7-7A6696CA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33E4D-EF32-4AD0-821A-8D770407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5BA80D-5026-43F7-84DB-9F2B304A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3B180-B43A-4ABB-BC3C-42846F68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72006-E5AA-4059-9CC2-A3C1717F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9986-7CC7-46E1-A5D0-B3C6DF09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5F81-C1DB-4212-ADD5-503CB323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FD57-26A5-4D7D-96FB-4A6304B1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730E-7979-41EA-8EC4-28691EE3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3B09-01FD-40C8-B120-25FFC9A3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8845-9058-41ED-A261-DF6A114B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655B-5D8E-475C-BCB5-D3E10A91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13C7-304D-49A6-A5CF-C7B8D5C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369-1E6D-428C-B2CA-C1DA2140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F019E-2E3D-4789-8606-EE04F8C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F467-F6E3-49BD-8265-04079AD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E78F-CB95-4C2E-A57B-4062C0F5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496A-CDA4-4437-898F-6B45AF99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4EE1-A04C-4543-8477-FAF201AB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7A4C-658D-44ED-B80C-5D9C7DC6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0EC4-69F9-46B9-972F-0F8F8519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5F14-963E-46CE-B2D6-A6F4E31E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6E6A-6ED0-485E-A984-11C9079C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4FF0-0110-46B2-BDB6-265336E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A8D-670A-49C6-B9CD-4043AD6A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8544-42DB-462C-B924-D178CC9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CA727-E8D3-4516-B6BE-6505F18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88AF-5EBA-42E2-BFCB-FB02E1B6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9A93-2265-42D3-ABFD-6813726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AB70-C1F9-4A82-9F48-5607509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B618C-F2E9-4AA2-A527-F9D8171E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90A6-2816-472C-B6E0-2EAA7065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8E90-C823-4879-B164-0CE729A0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E99C-FD39-4EAB-93F6-3C3BE72A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FAEE-871A-413B-8633-88E63B6C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C72-ED47-46D3-AE54-48A787EF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40A45-AE62-4502-A816-F7F3B141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73B0-2965-4680-A551-E39A45D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AB21-E5A7-4D2B-9912-7BA97AC9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A61A-9021-4618-B47F-D475C08C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CD85C-5694-442D-9BF8-7273ADBC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4E506-0587-42C8-8F51-5226631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184DD-29E0-48DA-9FC7-14C32D4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0E5B9-1F5C-4634-92EC-1CD5CAE0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064F-3396-49AA-B95E-D081D3D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F451-7DF1-4D01-AB18-A0B9E4AD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D54-9D3E-413B-A06D-69E76BDF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326A-1F00-445B-AF2F-495F7624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39194-D7A6-478A-9249-F2718AC8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475F2-94EF-42D1-BE8B-38DE825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35769-AA65-4719-88A8-1A0B9674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61E0-D48E-4497-8C55-28CAE075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87F79-9C05-4B38-8C78-134A67AE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3A17-6147-4EBB-85A3-031DE2C8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BF194-9FEE-4C6B-A682-C87A975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71F7F-ADDF-4F34-96BA-8D32985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A92F7-F3F2-47DF-97AD-F11D70C9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4A3-56D2-4E99-8942-B2BFF8BF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FA4A3-95A2-4BC4-8D3F-65793D54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05DA7-7927-438C-8018-C2C3EFC0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637B7-42A2-412D-A84A-B9FAF81B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CE8A4-B698-4E5E-9141-67AFD4F1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F5680-F704-4F52-8182-EDF0F89D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1D873-3D5A-417B-A63E-0A5EAFA5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03AF7-91D9-46DA-97FC-9D545221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7864-102D-4BD1-BF9A-C60A9B8C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9C34-8E41-4DCE-9A39-7E224EDB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59401-16D1-4B0C-A7E5-5AC49B4F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AB4-068B-4513-9331-5919E182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A551F-B3C6-4F49-8E38-10122A2E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A4284-74D3-4930-9FCA-57AC5054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5DC9A-F087-427B-A737-6579662C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0E5C7-42F0-4113-8F96-B3A26353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818AF-0913-4F33-BF7A-D6E4D94C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5F308-0C09-4BBE-8777-0B592E77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15899-78A5-44F6-B621-A0B668AC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93AA6-F7C2-445E-B475-CF1E1771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2499F-B663-4F1B-AFB8-525456C3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0C92A-E8C4-4EB8-85C6-0D0EF4E5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39F-E914-49E3-9D2A-AD67E67A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ECC3A-0636-43EF-BD22-30FE971F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AF6D2-37BB-461F-AEEC-A6B6A89E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C807B-FA9C-42A8-B47A-93904638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B5F3-41BF-4722-80AE-85812D5C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2A39-6F10-4ED9-ACD7-782F8D33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E5AFD-DB02-4A76-B8B7-84DA2856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C6480-DC30-48CB-9D32-AA83DB83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91788-BF24-4947-A31D-0DF9CE48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E330F-147D-47BD-A343-CE5371D2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328F8-6C43-4B24-856E-FEEC2978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1260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260F2B-6303-445F-AE9C-DC3D07BFDCEC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E1F9C8-6F4D-4613-B219-007A7199BD15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6873120" cy="1600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7861320" y="751320"/>
            <a:ext cx="3645000" cy="54673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body"/>
          </p:nvPr>
        </p:nvSpPr>
        <p:spPr>
          <a:xfrm>
            <a:off x="685800" y="3124080"/>
            <a:ext cx="6873120" cy="30945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dt" idx="28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130304-FB4C-4F4D-BB10-7BA98DE134A1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9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30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4A2597-40BC-4B9A-AC29-BF0B73BB700E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697280"/>
            <a:ext cx="10821960" cy="81936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81840" y="941400"/>
            <a:ext cx="10821960" cy="34783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body"/>
          </p:nvPr>
        </p:nvSpPr>
        <p:spPr>
          <a:xfrm>
            <a:off x="685800" y="5516640"/>
            <a:ext cx="10820520" cy="7020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dt" idx="31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D6410B-574B-45CC-8344-CF722416CCD0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32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3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33A7CE-7BE3-400C-82F5-6C3B52769D19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520" cy="28026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24560" y="3648960"/>
            <a:ext cx="10130400" cy="9990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7814520" y="38088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26F06B-E84D-44B0-A195-B2DD6484D7E5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685800" y="37980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8D3931-7F5D-4E4F-A820-2D02726B2E49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2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24560" y="753480"/>
            <a:ext cx="10151640" cy="26046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303920" y="3365640"/>
            <a:ext cx="9592560" cy="4446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body"/>
          </p:nvPr>
        </p:nvSpPr>
        <p:spPr>
          <a:xfrm>
            <a:off x="1024560" y="3960000"/>
            <a:ext cx="10151640" cy="680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dt" idx="37"/>
          </p:nvPr>
        </p:nvSpPr>
        <p:spPr>
          <a:xfrm>
            <a:off x="7814520" y="38088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6E45A6-14B8-4A27-9D60-491A1AAC31B6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38"/>
          </p:nvPr>
        </p:nvSpPr>
        <p:spPr>
          <a:xfrm>
            <a:off x="685800" y="37980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39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7E3427-A396-48B7-9982-936293739370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Box 8"/>
          <p:cNvSpPr txBox="1"/>
          <p:nvPr/>
        </p:nvSpPr>
        <p:spPr>
          <a:xfrm>
            <a:off x="476280" y="933480"/>
            <a:ext cx="609480" cy="5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n-US" sz="8000" spc="-1" strike="noStrike" cap="all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9"/>
          <p:cNvSpPr txBox="1"/>
          <p:nvPr/>
        </p:nvSpPr>
        <p:spPr>
          <a:xfrm>
            <a:off x="10984320" y="2701440"/>
            <a:ext cx="609480" cy="5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8000" spc="-1" strike="noStrike" cap="all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24560" y="1124640"/>
            <a:ext cx="10146240" cy="25117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024560" y="3648240"/>
            <a:ext cx="10144800" cy="9997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7814520" y="3787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B9D848-1873-4A84-83F3-2764E8A0C704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685800" y="37872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796017-FAFE-476B-8F43-BBC44FA60DCE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895480" y="762120"/>
            <a:ext cx="8610480" cy="13039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2202120"/>
            <a:ext cx="3456360" cy="6174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body"/>
          </p:nvPr>
        </p:nvSpPr>
        <p:spPr>
          <a:xfrm>
            <a:off x="685800" y="2904480"/>
            <a:ext cx="3456360" cy="33141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4368960" y="2201400"/>
            <a:ext cx="3456360" cy="6264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body"/>
          </p:nvPr>
        </p:nvSpPr>
        <p:spPr>
          <a:xfrm>
            <a:off x="4366800" y="2904120"/>
            <a:ext cx="3456360" cy="33145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body"/>
          </p:nvPr>
        </p:nvSpPr>
        <p:spPr>
          <a:xfrm>
            <a:off x="8051760" y="2192760"/>
            <a:ext cx="3456360" cy="6264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 type="body"/>
          </p:nvPr>
        </p:nvSpPr>
        <p:spPr>
          <a:xfrm>
            <a:off x="8051760" y="2904480"/>
            <a:ext cx="3456360" cy="33141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8"/>
          <p:cNvSpPr>
            <a:spLocks noGrp="1"/>
          </p:cNvSpPr>
          <p:nvPr>
            <p:ph type="dt" idx="43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0FB6A3-0074-4057-BC52-890FAB264CC0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9"/>
          <p:cNvSpPr>
            <a:spLocks noGrp="1"/>
          </p:cNvSpPr>
          <p:nvPr>
            <p:ph type="ftr" idx="44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0"/>
          <p:cNvSpPr>
            <a:spLocks noGrp="1"/>
          </p:cNvSpPr>
          <p:nvPr>
            <p:ph type="sldNum" idx="45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2A7419-B02F-41FB-80EA-23BEDFA9DB45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95480" y="762120"/>
            <a:ext cx="8610480" cy="129528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8680" y="4191120"/>
            <a:ext cx="3451680" cy="6829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688680" y="2362320"/>
            <a:ext cx="3451680" cy="1523880"/>
          </a:xfrm>
          <a:prstGeom prst="rect">
            <a:avLst/>
          </a:prstGeom>
          <a:noFill/>
          <a:ln w="1260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txBody>
          <a:bodyPr anchor="t" anchorCtr="1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body"/>
          </p:nvPr>
        </p:nvSpPr>
        <p:spPr>
          <a:xfrm>
            <a:off x="688680" y="4873680"/>
            <a:ext cx="3451680" cy="13449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body"/>
          </p:nvPr>
        </p:nvSpPr>
        <p:spPr>
          <a:xfrm>
            <a:off x="4374360" y="4191120"/>
            <a:ext cx="3448800" cy="6829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 type="title"/>
          </p:nvPr>
        </p:nvSpPr>
        <p:spPr>
          <a:xfrm>
            <a:off x="4374360" y="2362320"/>
            <a:ext cx="3448800" cy="1523880"/>
          </a:xfrm>
          <a:prstGeom prst="rect">
            <a:avLst/>
          </a:prstGeom>
          <a:noFill/>
          <a:ln w="1260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txBody>
          <a:bodyPr anchor="t" anchorCtr="1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 type="body"/>
          </p:nvPr>
        </p:nvSpPr>
        <p:spPr>
          <a:xfrm>
            <a:off x="4374360" y="4873680"/>
            <a:ext cx="3448800" cy="13449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8"/>
          <p:cNvSpPr>
            <a:spLocks noGrp="1"/>
          </p:cNvSpPr>
          <p:nvPr>
            <p:ph type="body"/>
          </p:nvPr>
        </p:nvSpPr>
        <p:spPr>
          <a:xfrm>
            <a:off x="8049600" y="4191120"/>
            <a:ext cx="3456360" cy="6829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9"/>
          <p:cNvSpPr>
            <a:spLocks noGrp="1"/>
          </p:cNvSpPr>
          <p:nvPr>
            <p:ph type="title"/>
          </p:nvPr>
        </p:nvSpPr>
        <p:spPr>
          <a:xfrm>
            <a:off x="8049960" y="2362320"/>
            <a:ext cx="3447720" cy="1523880"/>
          </a:xfrm>
          <a:prstGeom prst="rect">
            <a:avLst/>
          </a:prstGeom>
          <a:noFill/>
          <a:ln w="1260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txBody>
          <a:bodyPr anchor="t" anchorCtr="1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0"/>
          <p:cNvSpPr>
            <a:spLocks noGrp="1"/>
          </p:cNvSpPr>
          <p:nvPr>
            <p:ph type="body"/>
          </p:nvPr>
        </p:nvSpPr>
        <p:spPr>
          <a:xfrm>
            <a:off x="8049600" y="4873680"/>
            <a:ext cx="3452400" cy="13449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1"/>
          <p:cNvSpPr>
            <a:spLocks noGrp="1"/>
          </p:cNvSpPr>
          <p:nvPr>
            <p:ph type="dt" idx="46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5D368C-FD57-46D4-8BF3-E54EF6F87AE8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2"/>
          <p:cNvSpPr>
            <a:spLocks noGrp="1"/>
          </p:cNvSpPr>
          <p:nvPr>
            <p:ph type="ftr" idx="47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3"/>
          <p:cNvSpPr>
            <a:spLocks noGrp="1"/>
          </p:cNvSpPr>
          <p:nvPr>
            <p:ph type="sldNum" idx="48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230347-706C-4ECA-BD1A-D8F5F4BE8D51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 vert="eaVer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6E0566-D0B5-45BD-B8F4-3215A59D9BAE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E51822-1896-4FE8-AFA3-A7D41B89739C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448920" y="745200"/>
            <a:ext cx="2057400" cy="3903120"/>
          </a:xfrm>
          <a:prstGeom prst="rect">
            <a:avLst/>
          </a:prstGeom>
          <a:noFill/>
          <a:ln w="12600">
            <a:noFill/>
          </a:ln>
        </p:spPr>
        <p:txBody>
          <a:bodyPr anchor="ctr" vert="eaVert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024560" y="745200"/>
            <a:ext cx="8204040" cy="3903120"/>
          </a:xfrm>
          <a:prstGeom prst="rect">
            <a:avLst/>
          </a:prstGeom>
          <a:noFill/>
          <a:ln w="12600">
            <a:noFill/>
          </a:ln>
        </p:spPr>
        <p:txBody>
          <a:bodyPr anchor="t" vert="eaVer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52"/>
          </p:nvPr>
        </p:nvSpPr>
        <p:spPr>
          <a:xfrm>
            <a:off x="7814520" y="37980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672285-B09A-477F-BC60-31ED74797A6A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3"/>
          </p:nvPr>
        </p:nvSpPr>
        <p:spPr>
          <a:xfrm>
            <a:off x="685800" y="38088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4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82EAA4-D31E-4F89-A32C-ABACC5D6BB6D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920" cy="1825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909560" y="4314240"/>
            <a:ext cx="2910960" cy="37476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ABF1D0-E87B-4E66-AC9D-769407F3E197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371600" y="4323960"/>
            <a:ext cx="64008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077320" y="143100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4E09F2-C59B-4477-9AEB-263CD918CE07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09A993-E7FC-41AF-A6C3-48A521CDD3F3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718467-C38C-4067-8EB5-3432F6154E7D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520" cy="280188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24560" y="3641760"/>
            <a:ext cx="10490040" cy="955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 algn="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7814520" y="38088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0A8C78-EE14-4B22-AF3B-54BFDEFB5843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85800" y="380880"/>
            <a:ext cx="6991560" cy="36396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3BA1A0-BBEE-4696-88A6-73229C1AF596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194560"/>
            <a:ext cx="53341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6172200" y="2194560"/>
            <a:ext cx="53341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E22CDC-A9BA-4086-A9BF-4B705B889256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79E348-B0A8-479D-ADE9-D67976E292EA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95480" y="762120"/>
            <a:ext cx="8610480" cy="129528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2183760"/>
            <a:ext cx="5079960" cy="82404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685800" y="3132720"/>
            <a:ext cx="5311800" cy="30859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400800" y="2183760"/>
            <a:ext cx="5105520" cy="82404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6172200" y="3132720"/>
            <a:ext cx="5334120" cy="30859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dt" idx="16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761C42-E4B5-40C6-9569-00552BF762D7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 type="ftr" idx="17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8"/>
          <p:cNvSpPr>
            <a:spLocks noGrp="1"/>
          </p:cNvSpPr>
          <p:nvPr>
            <p:ph type="sldNum" idx="18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3BC1A2-51E6-415F-8CD1-1AE2D4CE8687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04F9FF-17F7-4CEA-B55C-286FE26B62FB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20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1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8D8938-1683-4A3C-8C04-B70681306B69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dt" idx="22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AF495B-BD64-4932-BA83-2E199D16F4E5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3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4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68C1F6-AC3F-41AB-BAB9-11A26ED2077E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4114800" cy="1600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995720" y="746640"/>
            <a:ext cx="6510600" cy="54720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685800" y="3124080"/>
            <a:ext cx="4114800" cy="30945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dt" idx="25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151FDE-0A7F-4B62-87EB-F3F83857D038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30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6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 type="sldNum" idx="27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0ED0BC-E3A8-49B8-A188-A63690C4123D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omanadvice.ru/sposoby-kontacepcii" TargetMode="External"/><Relationship Id="rId2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920" cy="1825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 cap="all">
                <a:solidFill>
                  <a:srgbClr val="ffffff"/>
                </a:solidFill>
                <a:latin typeface="Century Gothic"/>
              </a:rPr>
              <a:t>Ранние половые связи и их последств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1371600" y="3632040"/>
            <a:ext cx="9448920" cy="685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ричины Беременности в подростковом возрас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 fontScale="69000"/>
          </a:bodyPr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Отсутствие  грамотности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Далеко не в каждой семье подростков своевременно просвещают в плане интимных вопросов. Знания, которые дети получают о из интернета, от сверстников, порой искажены и далеки от тех основ, которые бы позволили им уберечь себя от проблем со здоровьем и психологических труднос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Незнание правил контрацепции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Даже начав половую жизнь, не все подростки пользуются средствами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  <a:hlinkClick r:id="rId1"/>
              </a:rPr>
              <a:t>контрацепции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или умеют правильно ими пользоваться. Из-за стеснительности мало кто из молодых девушек обращается с этим вопросом к гинекологу, приобретает противозачаточные средства в аптеке «при свидетелях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Влияние плохой компании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Знакомство со сверстниками, которые ведут себя раскованно, употребляют алкоголь или наркотические вещества, притупляющие самоконтроль, нередко становится одним из провоцирующих факторов. Возможно, к связи с неблагополучными тинэйджерами привели проблемы в школе, семейные распр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Социально-экономическое положение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Низкий социальный статус, бедность вынуждают некоторых девочек-подростков к ранней половой жизни, когда они ставят своей целью скорее повзрослеть, покинуть семью, выйти замуж ради более обеспеченной жизни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19920" y="764280"/>
            <a:ext cx="683244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Чем опасна ранняя беременнос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19920" y="2194560"/>
            <a:ext cx="683244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рактические всегда признаки подростковой беременности становятся неожиданностью, т.к. это является незапланированным событием, к которому девушки еще не готовы ни физиологически, ни психологическ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С физиологической точки зрения беременность подростков протекает сложнее, чем у взрослых. Неподготовленный организм иногда является не способным перенести вынашивание плода, роды. У юных будущих мам повышен риск токсикоза, анемии, угрозы выкидыша, разрыва матки и прочих патологий. Велика вероятность, что малыш родится недоношенным, будет иметь разные пороки. Если же беременная школьница решит сделать прерывание беременности, это может обернуться гинекологическими и эндокринными патологиями, бесплодием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5" name="Рисунок 4" descr="Изображение выглядит как одежда&#10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7932600" y="746280"/>
            <a:ext cx="3502440" cy="547272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Рисунок 4" descr="Изображение выглядит как одежда, человек, женщина, стоит&#10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685800" y="2903760"/>
            <a:ext cx="4521240" cy="2377440"/>
          </a:xfrm>
          <a:prstGeom prst="rect">
            <a:avLst/>
          </a:prstGeom>
          <a:ln w="12600">
            <a:noFill/>
          </a:ln>
        </p:spPr>
      </p:pic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5689440" y="2194560"/>
            <a:ext cx="5816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Так, начавшая половую жизнь девочка, должна отчетливо понимать, что у нее возможно наступление беременности. Насколько она к этому готова? Хочет ли выносить и родить ребенк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Каждая девочка должна знать, что с появлением первой менструации она уже может забеременеть, причем даже при однократном половом контакте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9" name="Рисунок 4" descr="Изображение выглядит как человек, внутренний, стена, женщина&#10;&#10;Описание создано с очень высокой степенью достоверности"/>
          <p:cNvPicPr/>
          <p:nvPr/>
        </p:nvPicPr>
        <p:blipFill>
          <a:blip r:embed="rId1">
            <a:alphaModFix amt="30000"/>
          </a:blip>
          <a:srcRect l="0" t="0" r="0" b="2500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 ИП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Это проблема, которая касается абсолютно всех, потому что зачастую многие инфекции протекают латентно: они есть, но человек их не чувствует, нет симптомов – болей, нетипичных выделений. И диагностируются такие ИППП только при лабораторном обследовании. У мужчин проявления ИППП наблюдаются несколько чаще, чем у женщин, у которых они либо минимальны, либо их вообще не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685800" y="1422000"/>
            <a:ext cx="10820520" cy="47970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нфекции, передающиеся половым путем  (ИППП) – группа  клинически неоднородных болезней, которые объединяет преимущественно половой путь передачи инфекции. К этим заболеваниям, согласно десятой Международной классификации болезней (МКБ-10), относятся: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сифилис, гонококковая инфекция (гонорея), хламидийная инфекция (урогенитальный хламидиоз), шанкроид, паховая гранулема (донованоз), хламидийная (венерическая) лимфогранулема, урогенитальный трихомониаз, аногенитальная герпетическая вирусная инфекция, аногенитальные бородавки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(А50–А64). Половым путем передаются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ВИЧ, вирусы гепатитов В и С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, а также некоторые паразитарные инфекции ( 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чесотка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),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контагиозный моллюск, амебиаз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и друг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152280" y="485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о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ППП могут иметь серьезные последствия, помимо непосредственного воздействия самой инфекции. Некоторые ИППП могут повышать риск приобретения ВИЧ в три и более раз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нкогенные типы вируса папилломы человека ответственны за развитие рака шейки матки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ППП нельзя вылечить самостоятельно. Заболевание легко переходит в хроническую форму, и тогда лечение проходит гораздо труднее. ИППП, перенесенные в подростковом возрасте, могут оказать влияние на всю последующую жизнь и привести, в числе прочего, к воспалительным заболеваниям малого таза, рождению ребенка с пороками развития. Осложнениями хламидийной и гонококковой инфекции могут быть мужское и женское бесплодие. Больной ИППП опасен для своих половых партнер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Контрацеп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6" name="Рисунок 4" descr="Изображение выглядит как еда&#10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685800" y="2821680"/>
            <a:ext cx="4521240" cy="2541240"/>
          </a:xfrm>
          <a:prstGeom prst="rect">
            <a:avLst/>
          </a:prstGeom>
          <a:ln w="12600">
            <a:noFill/>
          </a:ln>
        </p:spPr>
      </p:pic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689440" y="2194560"/>
            <a:ext cx="5816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Century Gothic"/>
              </a:rPr>
              <a:t>Барьерные  методы контрацеп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Наиболее известным методом барьерной контрацепции является презерватив. Презерватив отвечает всем требованиям по отношению к подростковой контрацепции — он прост в использовании, доступен, совершенно безопасен для здоровья обоих половых партнеров и при правильном использовании гарантирует высокую защиту от нежелательной беременности и инфекций передающихся половым путе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ральные контрацептив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ральные контрацептивы (противозачаточные таблетки) являются одним из наиболее эффективных противозачаточных средств в мире. Однако, сразу заметим, что оральные контрацептивы защищают только от возникновения нежелательной беременности и совершенно не защищают от инфекций передающихся половым путем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ральные контрацептивы (противозачаточные таблетки) являются одним из наиболее эффективных противозачаточных средств в мире. Однако, сразу заметим, что оральные контрацептивы защищают только от возникновения нежелательной беременности и совершенно не защищают от инфекций передающихся половым путем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Ранние половые связи возникают в результате нездорового влечения, незнания  моральных и этических  норм, духовной нищеты, умственной ограниченности, безделья.Умение управлять инстинктом зависит от уровня культуры люд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ловое общение без настоящей любви – низменные связи, которые ведут молодых людей к душевному опустошению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Ученые считают, что половая зрелость наступает в 22-25 лет и половое воздержание полезно, так как в это время происходит активное накопление жизненных сил в организме.  В это время половая энергия должна переключаться в другие интересы и увлечения: спорт, образование, карье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Рисунок 4" descr=""/>
          <p:cNvPicPr/>
          <p:nvPr/>
        </p:nvPicPr>
        <p:blipFill>
          <a:blip r:embed="rId1">
            <a:alphaModFix amt="30000"/>
          </a:blip>
          <a:srcRect l="0" t="9614" r="0" b="417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976480" y="336204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Актуальнос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77160" y="2194560"/>
            <a:ext cx="5816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 последнее время увеличилось число подростков ,вступающих в ранние половые связ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ловая зрелость человека наступает гораздо раньше его социальной, гражданской зрелости — времени, когда молодые люди должны создавать свою семь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Рисунок 4" descr="Изображение выглядит как трава, внешний, человек, дерево&#10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6985080" y="2679480"/>
            <a:ext cx="4521240" cy="282564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3" name="Рисунок 4" descr="Изображение выглядит как человек, девочка, внутренний, молодой&#10;&#10;Описание создано с высокой степенью достоверности"/>
          <p:cNvPicPr/>
          <p:nvPr/>
        </p:nvPicPr>
        <p:blipFill>
          <a:blip r:embed="rId1">
            <a:alphaModFix amt="30000"/>
          </a:blip>
          <a:srcRect l="0" t="0" r="0" b="7788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Ранняя половая жизнь не только не облегчает, но, наоборот, усложняет достижение гармонии, способствует возникновению и развитию некоторых половых расстройств и выработке неправильных представлений о взаимоотношениях между мужем и жен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570240"/>
            <a:ext cx="10868760" cy="59342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Century Gothic"/>
              </a:rPr>
              <a:t>Какой возраст считается подростковым? В психологии и педагогике принято под подростковым возрасте понимать возраст от 10 до 15 лет</a:t>
            </a:r>
            <a:br>
              <a:rPr sz="2400"/>
            </a:br>
            <a:r>
              <a:rPr b="0" lang="ru-RU" sz="2400" spc="-1" strike="noStrike" cap="all">
                <a:solidFill>
                  <a:srgbClr val="ffffff"/>
                </a:solidFill>
                <a:latin typeface="Century Gothic"/>
              </a:rPr>
              <a:t>Границы возраста: Малолетние: 6-14 лет Несовершенолетние: 14-18 лет Подростковый возраст, считают переходным периодом. Подросток частично принадлежит к группе детей, а частично к группе взрослых.</a:t>
            </a:r>
            <a:br>
              <a:rPr sz="2400"/>
            </a:br>
            <a:r>
              <a:rPr b="0" lang="ru-RU" sz="2400" spc="-1" strike="noStrike" cap="all">
                <a:solidFill>
                  <a:srgbClr val="ffffff"/>
                </a:solidFill>
                <a:latin typeface="Century Gothic"/>
              </a:rPr>
              <a:t>Ранние половые отношения негативно влияют на молодой несформированный организм. Причиной этого часто является то, что молодые люди не всегда имеют правильную информацию о последствиях</a:t>
            </a: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Рисунок 4" descr="Изображение выглядит как человек, сидит, стена, внутренний&#10;&#10;Описание создано с очень высокой степенью достоверности"/>
          <p:cNvPicPr/>
          <p:nvPr/>
        </p:nvPicPr>
        <p:blipFill>
          <a:blip r:embed="rId1">
            <a:alphaModFix amt="30000"/>
          </a:blip>
          <a:srcRect l="0" t="0" r="0" b="1379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Наше государство в законодательном порядке регламентировало возраст вступающих в брак: в России — это 18 лет. Под большой охраной закона находятся девушки: вступление в половую связь с девушкой моложе 18 лет может привести к возбуждению уголовного дела против юноши. И это не случайно, так как ранняя половая жизнь наиболее отрицательно сказывается на организме девуш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9920" y="764280"/>
            <a:ext cx="625716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2800" spc="-1" strike="noStrike" cap="all">
                <a:solidFill>
                  <a:srgbClr val="ffffff"/>
                </a:solidFill>
                <a:latin typeface="Century Gothic"/>
              </a:rPr>
              <a:t>Среднестатистический портрет современного подростка: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19920" y="2194560"/>
            <a:ext cx="625716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Начало курения – в 10 ле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Употребление алкоголя – в 11 лет Употребление наркотиков - в 12-13 лет  Начало половой жизни – в 14-15 лет Прерывание беременности в 15-17 л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8"/>
          <p:cNvSpPr/>
          <p:nvPr/>
        </p:nvSpPr>
        <p:spPr>
          <a:xfrm>
            <a:off x="7188840" y="0"/>
            <a:ext cx="500328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f2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Рисунок 4" descr="Изображение выглядит как человек, небо, внешний, спорт&#10;&#10;Описание создано с очень высокой степенью достоверности"/>
          <p:cNvPicPr/>
          <p:nvPr/>
        </p:nvPicPr>
        <p:blipFill>
          <a:blip r:embed="rId1"/>
          <a:srcRect l="20760" t="0" r="51942" b="0"/>
          <a:stretch/>
        </p:blipFill>
        <p:spPr>
          <a:xfrm>
            <a:off x="7519320" y="0"/>
            <a:ext cx="4672440" cy="685800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-951840" y="50220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ричин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707480"/>
            <a:ext cx="10820520" cy="45111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Чтобы чувствовать себя менее одиноким или стать популярн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Чтобы продемонстрировать свою независимость от родите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пытка утвердить своё «я»  , потому что очень неуверенно чувствуют себя и хотят таким образом подчеркнуть свою привлекательность. Мужчины пытаются подтвердить свое мужское начало, женщины – доказать всему миру и самим себе, что они желанны, что их могут люби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Чтобы удержать любов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тому что все ЭТО делаю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тому что подружки делятся опыт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31440" y="553320"/>
            <a:ext cx="6257160" cy="5770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а как же пресловутые Ромео и Джульетта, которым было всего по пятнадцать.?Однако в то время когда они жили, и продолжительность жизни была совсем иной не более 40 лет. И за этот короткий промежуток времени нужно было успеть родить достаточное количество детей и воспитать их. И вред от ранней половой жизни не имел особой важности,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 настоящее время же все совсем иначе и жив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ы дольше, да и несоизмеримо лучше. От начала ранней половой жизни в одинаковой степени страдают как мальчики, так и девочки. Девочки, столкнувшись один раз с грубостью и причиненной болью, могут надолго получить отвращение к процессу как таковому вообще. А мальчики если у них все получилось, не так как хотелось бы могут поставить себе в вину мужскую несосто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роме того существует связь между ранней половой жизнью и наступающими впоследствии психиатрическими заболеваниями. А также никто не отменял венерические заболевания, которые, как правило, не принимаются молодежью в расчет. Ранние половые связи и перенесенные венерические заболевания накладывают значительный отпечаток на формирование личности и могут спровоцировать в будущем депрессии.</a:t>
            </a: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5"/>
          <p:cNvSpPr/>
          <p:nvPr/>
        </p:nvSpPr>
        <p:spPr>
          <a:xfrm>
            <a:off x="7188840" y="0"/>
            <a:ext cx="500328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f2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Рисунок 4" descr="Изображение выглядит как дерево, человек, внешний, женщина&#10;&#10;Описание создано с очень высокой степенью достоверности"/>
          <p:cNvPicPr/>
          <p:nvPr/>
        </p:nvPicPr>
        <p:blipFill>
          <a:blip r:embed="rId1"/>
          <a:srcRect l="27011" t="0" r="27510" b="0"/>
          <a:stretch/>
        </p:blipFill>
        <p:spPr>
          <a:xfrm>
            <a:off x="7519320" y="0"/>
            <a:ext cx="4672440" cy="685800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-377640" y="60336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оследств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ранняя беременность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, которая чаще всего заканчивается прерыванием со всеми его негативными последствия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оспалительные заболевания половых путей и опасность заражения болезнями, передающимися половым пут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гинекологические заболевания как следствие аборта, беременности и родов в подростковом возрасте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трудноразрешимые социальные и морально-этические проблемы, связанные с ранним материнством; ранняя половая жизнь опасна тем, что приводит к нарушению гормональной регуляции репродуктивной системы, которая в этом возрасте только налажива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16:29:22Z</dcterms:created>
  <dc:creator/>
  <dc:description/>
  <dc:language>en-US</dc:language>
  <cp:lastModifiedBy/>
  <dcterms:modified xsi:type="dcterms:W3CDTF">2018-12-13T15:32:42Z</dcterms:modified>
  <cp:revision>267</cp:revision>
  <dc:subject/>
  <dc:title>Презентация PowerPoint</dc:title>
</cp:coreProperties>
</file>