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C65-536D-4354-92B0-E4FD1D79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EE4-63BC-4599-9742-51A82D1A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7CE39-4E22-4ADD-8332-FCD07694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FD5F1-A2FF-4BB9-85BD-32718CEB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338E5-7526-41DE-819F-DFF53A03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C4D03-71DE-443B-9253-24D38680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15010-FF1E-47AB-9CFD-5423697B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0D9E6-2C6E-414E-811B-5D0DB697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96CB5-7082-4E3B-814D-2763B34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165DD-9080-4203-88E4-983B027C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729F4-F3E6-4C16-8AA6-F8539AA6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AA9E4-BF3E-4292-83C9-2D81101F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810-5E27-4862-BCAD-D70E4428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B4A8E-A6ED-42B0-949C-0C2C1E6A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3932C-20C9-4560-AD1E-6CBCC9DD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E8D49-32D8-48D9-988D-8F40690A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3D3F4-3E68-4773-B2BE-E622836C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7C785-773A-4894-BAFF-EBA1BAB9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61449-23A1-4A59-B6D5-77E0CB2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911A4-71D6-40D9-8242-A25C35BA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E5157-A233-4CE2-B664-451D73D9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24699-2EB5-4D89-AF31-FC8F4DBE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9316B-3E6F-406C-BD01-E8969963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DC8-3617-4CEA-928D-A2198339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9C0EE-91B3-4D04-8D42-3E22CD9C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22682-D6A5-4C45-98EE-5D223AD3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6996C-E8D3-4FC4-A7CE-E52309F0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7532A-B36F-4859-9114-A746E963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8A8A9-AA44-4D96-A34C-2C4CD75C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9638F-7644-42DB-AEA5-723355E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EF585-0EB3-4016-A9D6-D626D88D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DE1F9-7454-4A82-B293-8062E205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5BBF4-1CF6-4FC1-8DFB-E94EDA6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DEFCF-94DA-4B9B-AF63-0DE6BFF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A070-58AC-4317-B523-DACFE019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6068D-8B57-4C45-8155-48A60FC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654AC-D84A-4CDC-8008-DB5F18AA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832B1-C8DB-4EAB-81D1-7BC2CF0E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6CB49-06AA-4490-9768-2F5B5043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1D43F-ABF6-49B4-B7D2-F4A89FB4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05219-CA1F-4559-8AB9-3E1337F1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DDAA0-33AD-47C5-A9E7-00170BEF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14D3D-7B7E-47AB-AC2F-836EF75E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AFEE8-B766-42C1-BB83-0FED751D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7F567-2E0A-4538-A78D-F5054FF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6DEB-CE77-47D7-999B-BF8684C7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F6382-4B4C-43B7-8286-5A4B1EB1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B0933-8FB7-4464-92CD-78A871D1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4CED4-44F3-475D-BF31-36D64D50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911E5-1F2D-4F41-A8C1-6EABC7BF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186F9-5535-41A5-BB62-EB2CB068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2C4AA-CD57-4C28-ADBB-158FADD6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CB862-328C-4CC0-9A1E-89CDB6E3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301F9-A5D5-4FC9-AF2E-30B05909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72A69-3DB6-4134-8048-38F78F95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60CAF-623E-42A3-A981-4C0B714B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ECB9-64FD-4479-BE90-470B0E0E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EE9C2-60A1-40E6-BDB5-74CFB389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89B7D-527D-419F-B316-439668D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D8772-BB00-4FA8-A551-11BFAC61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D911F-E887-44F8-968C-E849216D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80058-E751-41D1-BDF0-CD7669BD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A4342-32D5-464E-8D74-AE58BEF3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51505-C771-45C1-A36A-49903DB4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B349C-C935-459D-902F-798DC81A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04409-A633-49E6-AB00-35397599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3EE28-B48D-42B1-93BD-95D9792A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BDBB-F786-47FA-8257-21D350C6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77E8B-97BF-47D2-9AF0-27D3FAE4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C3593-F795-4CBA-A844-D0BF4F5A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38C75-4CBA-4A7C-8DD1-1F114596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2AEAE-AEFF-4E5B-ABB9-97874E8F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C9D8E-2447-4F11-9C56-C2252FFB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2A550-4E50-4583-93E3-42F1918C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0C571-1CE0-4298-9B2A-F8FD21B1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A979C-8CE9-484C-B325-3AEFC7E2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31424-FF88-4D67-BCE8-97122F2C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375BF-45A5-4D0C-9A66-FA39C883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30DB-E023-415E-B2D6-B986891F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EFECE-3D35-465D-9B6C-D56836ED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1074C-D20C-4CA4-B436-266460AF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BBC4A8-5BEB-4C48-AD95-FC327895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4BBF5-12ED-4E4E-8DFE-9FC549C6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F247CC-11A3-4AFE-9241-7EBE03A0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597A9-9507-4880-AFE7-1613E95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FAA0D-14F1-489A-A589-97C3025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40D7E-9778-450D-BDEA-09A56E33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33421-9542-416D-841F-94A3CD05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D8B3B-CFFA-4E85-A176-64C78024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2390-5344-4042-970C-29C32A2C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4D19E-B5A5-4DCB-B557-0DE4AC86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9E06B-AFB8-4E3D-815B-29C964F4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03164-338F-4DC4-A84E-7BD394B5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368F1-62F8-46BD-9346-C3FAE3C6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2C07D-5BF1-4586-996D-D0656BCC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42971-FC3D-4F8B-B6AD-2A5E0CA1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77B44-5E4F-433C-9210-39FE28FF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21109-870D-4D44-AA9A-7AE40AFA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F818A-0C90-4B06-A174-605BAA8B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9622A-E396-4D2B-B0EA-6891352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E2DD-A30B-4F1C-A330-63E0AD6B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95BC0-39C2-4E7E-91BA-C9A8CD5F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CE699-E057-4967-BFCC-4D5CAEB6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4AE12-D959-4A57-AE6A-DD225000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05FDA-D033-486F-AF7E-A71A6872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61BB9B-7F53-4DBB-8A16-C69FF001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BAB90-B581-4520-9689-C77EE048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19F78-A815-427C-8926-4D524277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59DDF-6E8B-4986-849D-B15E9FF3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F4987-358F-4642-B2B1-0E04D6B7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B5D74-751D-4EAD-B3BA-ECF143CD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80B-FC7F-4830-8650-116739CF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EB86-14A6-481D-90D3-2F4F9747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959D7-7B69-422B-A8C5-441D8F43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753B7-C693-4408-9113-FA3D2D52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27B51-53AA-4F7C-99A2-FA9843B7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94D2C-A6C8-45BF-9213-A88E3490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368D8-287C-4C18-B522-E78297B4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81891-1D50-4969-8473-33FBE239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7B86D-0CAE-445C-9BE4-3CDA7010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F1BE2-0F5D-44AA-AB13-BD18B9C1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155BB-2B3B-446A-8787-23D6E029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6819B-8FE3-4D5D-A019-D1179E06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B5AB-045E-4946-8855-CDC654FF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3FE0A-56D6-4A36-BCF5-D87B20E5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9FED7-0134-41C8-A7ED-89800628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73392-538C-460A-8FB1-C6A70FE4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314CF-936E-4E23-ABFF-0B712559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44575-F48C-4478-83F6-01678C80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31F27-9263-4A71-AFF7-CD3BA5AF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8BEEC-2947-49D8-856F-0B1F02C7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C326-17CA-4B7C-8881-28B06F9F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2063-A70F-41FD-A2C7-8C1CBE9B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0723-0B17-40B7-9C2F-D3E789BC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AEE8-DBDC-486F-9159-0E4C1B20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9E98-AD7B-4DBA-AE7C-3BBADCE0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749D-604A-4279-B7AC-7D1D1473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81240-F69E-4DFF-B334-35103C49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9F2C-3CB4-4A75-95D3-C41B203F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C2F-30E3-4596-86A0-6A573760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9D5B-AB1E-4F08-929A-A033F6B3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65E6-AB9E-4C89-9EBD-63EBB89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D5A23-2CF9-4A1E-BDC7-CBDDF96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F5C56-8D85-4089-AF72-85F4B606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003A-CE04-4926-A30C-6922A655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1885-FAC0-45C4-A760-1C6C805E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2A4B-6907-44F0-901D-0A8A6033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09F72-B951-47C0-BF26-4EC3987F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FCEC-C78E-4BE3-842A-9092E2B1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A1C2-1E4E-4773-9013-0D978F2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23C-8CEF-405D-BE71-7A6C8170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EC691-7824-4FB5-9C8D-DA441F03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0343-522F-4389-8446-323669C3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9D674-CBFC-427D-BFA6-96B76EDD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9EFE4-5BCD-43D6-87EE-B1DF574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23F8-026A-47FF-A045-9168EE55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4F8E2-7911-4EBD-BD02-05523DC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07CF1-9A38-4F16-A642-331CE4CA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8F7B-BC3D-4348-A0BB-DFB34051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DB17-39D4-4A5E-99D6-91033940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F032-FC2A-4B27-AF40-7BBE3E3A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7CD-EBAD-46CC-AA7B-0E40E961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D04DD-1AA3-4CDC-892F-1994BBD6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2985-3F5B-44B9-A097-A7F50348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9BCC-0808-484A-A26C-F7EE50F5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BB6E7-209D-446E-BFDC-A17354D8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18631-9319-4060-B99E-CA464ACC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4983-C26E-4E10-A639-8CE8FCEA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B05D-17A4-416D-BE03-412DF3E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8473-97C9-4965-8B32-7647B475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D3ED7-D67E-4DA1-88E9-D5239DC3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BA63-8758-45EE-93BB-65642318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971-2715-4F87-AC2C-C501F0D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6996-FAB6-415D-9F41-31238ACF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E2A9A-684A-47D4-9A2A-23755EBF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73D62-FA00-4CAE-9561-C4DA68A7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AB198-0D81-4817-80AC-C4CBF68E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5CC9D-83F9-420A-8455-64142C2A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8F30D-848B-4E10-8EA6-0F1A3562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49BB8-58C3-4C57-B56C-81D1D9BB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5CE2-4FB7-42B3-93E3-B9D1B697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D2BBE-916F-4834-B1D6-9929DF82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CCE9-669F-4632-AAC7-D73C3386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D05-4973-4641-9233-60C0961F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6EB2B-82E2-4F03-A251-845A2EE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EEDE9-C41E-4B96-A03E-39B774FE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76CD4-22F3-454A-9BE9-EE97CD18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A757C-C109-49AE-BCF2-F818A356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44E41-A44F-435A-92F4-B57557FC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83AC-B4DA-4C6F-900A-2CDED612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18D8A-25E7-46B8-BC10-7B4D201B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FA85C-3ECC-4961-BEA4-75A7ADA9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3117B-6C96-4FC2-8E3B-121482CE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E59B8-0195-46A3-819C-1D902F2B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48B-27EB-406D-8480-EC92AC3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A40AD-CFAC-44FD-B3EE-36DAAA8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CA629-AE66-4650-9DE5-E44DCD78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15502-ABFB-4B5E-8827-301D0E2C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10BCE-89F2-4DB9-8814-C766BFF1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A07FE-FAE4-49AD-9A7A-29DF6392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3A6E0-A4FE-41A7-92CD-EC01A15F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9C96D-B4F4-4F42-8D0D-756127DF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E1E27-35A7-4A4C-8635-A7A98ED1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D9C4C-6066-4AF9-BCF6-01E01DD0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F2667-B577-465C-B58B-54BC7E94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ABA-E4F6-4873-8FB4-0069417B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2895480" y="764280"/>
            <a:ext cx="8610480" cy="5995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CFAE8-EA0C-4DDB-9423-C1F7E3AE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4304B-2EF0-4853-9E9A-7880ECA9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984B9-93ED-4660-97A8-45714EFE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96130-AF70-4E9C-A628-F6F9E3E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23093-44F2-4C36-A686-01F06B43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0F71B-BD8E-491E-A4A0-AD89D893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DEFFA-0743-4008-B9A4-8D041445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A849B-E758-4642-A558-1A7D2F23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CA55E-C6A2-4CDA-9885-DF5E3C70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FD71E-09C0-4B3F-9050-B3C4C5F6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1441440"/>
          </a:xfrm>
          <a:prstGeom prst="rect">
            <a:avLst/>
          </a:prstGeom>
          <a:ln w="1260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11554C-1790-4973-A082-30BA69A79275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B03FCB-A657-4CA5-806F-12FF9C62AA1C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6873120" cy="1600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7861320" y="751320"/>
            <a:ext cx="3645000" cy="54673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body"/>
          </p:nvPr>
        </p:nvSpPr>
        <p:spPr>
          <a:xfrm>
            <a:off x="685800" y="3124080"/>
            <a:ext cx="6873120" cy="30945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dt" idx="28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6A397A-4168-4719-B398-065244C4A812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9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30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1440F9-2BB6-4CB2-B954-4CF5039A0945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697280"/>
            <a:ext cx="10821960" cy="81936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81840" y="941400"/>
            <a:ext cx="10821960" cy="34783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body"/>
          </p:nvPr>
        </p:nvSpPr>
        <p:spPr>
          <a:xfrm>
            <a:off x="685800" y="5516640"/>
            <a:ext cx="10820520" cy="7020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dt" idx="31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BC4877-7CB5-46CE-89B6-54665BF347CB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32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3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203733-009F-4074-9C60-14CD6A28826B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520" cy="28026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24560" y="3648960"/>
            <a:ext cx="10130400" cy="9990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7814520" y="38088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C5E054-08EB-408E-A94A-F983B6E38297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685800" y="37980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CEC641-F3AA-45D8-ADC3-C2BC5047B8DA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2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24560" y="753480"/>
            <a:ext cx="10151640" cy="26046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303920" y="3365640"/>
            <a:ext cx="9592560" cy="4446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body"/>
          </p:nvPr>
        </p:nvSpPr>
        <p:spPr>
          <a:xfrm>
            <a:off x="1024560" y="3960000"/>
            <a:ext cx="10151640" cy="680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dt" idx="37"/>
          </p:nvPr>
        </p:nvSpPr>
        <p:spPr>
          <a:xfrm>
            <a:off x="7814520" y="38088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026B21-9866-4468-8380-CDD02357F52C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38"/>
          </p:nvPr>
        </p:nvSpPr>
        <p:spPr>
          <a:xfrm>
            <a:off x="685800" y="37980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39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B797EE-56F3-4173-B4B6-4B958A2C53E3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TextBox 8"/>
          <p:cNvSpPr txBox="1"/>
          <p:nvPr/>
        </p:nvSpPr>
        <p:spPr>
          <a:xfrm>
            <a:off x="476280" y="933480"/>
            <a:ext cx="609480" cy="5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en-US" sz="8000" spc="-1" strike="noStrike" cap="all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9"/>
          <p:cNvSpPr txBox="1"/>
          <p:nvPr/>
        </p:nvSpPr>
        <p:spPr>
          <a:xfrm>
            <a:off x="10984320" y="2701440"/>
            <a:ext cx="609480" cy="5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8000" spc="-1" strike="noStrike" cap="all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24560" y="1124640"/>
            <a:ext cx="10146240" cy="25117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024560" y="3648240"/>
            <a:ext cx="10144800" cy="9997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7814520" y="3787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5232D0-2612-4974-A0AC-543A37FD280A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685800" y="37872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E94376-D558-42CC-826D-80AE41B3DE92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895480" y="762120"/>
            <a:ext cx="8610480" cy="13039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2202120"/>
            <a:ext cx="3456360" cy="6174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body"/>
          </p:nvPr>
        </p:nvSpPr>
        <p:spPr>
          <a:xfrm>
            <a:off x="685800" y="2904480"/>
            <a:ext cx="3456360" cy="33141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4368960" y="2201400"/>
            <a:ext cx="3456360" cy="6264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body"/>
          </p:nvPr>
        </p:nvSpPr>
        <p:spPr>
          <a:xfrm>
            <a:off x="4366800" y="2904120"/>
            <a:ext cx="3456360" cy="33145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body"/>
          </p:nvPr>
        </p:nvSpPr>
        <p:spPr>
          <a:xfrm>
            <a:off x="8051760" y="2192760"/>
            <a:ext cx="3456360" cy="6264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 type="body"/>
          </p:nvPr>
        </p:nvSpPr>
        <p:spPr>
          <a:xfrm>
            <a:off x="8051760" y="2904480"/>
            <a:ext cx="3456360" cy="33141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8"/>
          <p:cNvSpPr>
            <a:spLocks noGrp="1"/>
          </p:cNvSpPr>
          <p:nvPr>
            <p:ph type="dt" idx="43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5D095B-A621-4C17-A910-0C4DF2C8110C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9"/>
          <p:cNvSpPr>
            <a:spLocks noGrp="1"/>
          </p:cNvSpPr>
          <p:nvPr>
            <p:ph type="ftr" idx="44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10"/>
          <p:cNvSpPr>
            <a:spLocks noGrp="1"/>
          </p:cNvSpPr>
          <p:nvPr>
            <p:ph type="sldNum" idx="45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96025A-A23E-4E52-8917-3015B1F43F8B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95480" y="762120"/>
            <a:ext cx="8610480" cy="129528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8680" y="4191120"/>
            <a:ext cx="3451680" cy="6829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688680" y="2362320"/>
            <a:ext cx="3451680" cy="1523880"/>
          </a:xfrm>
          <a:prstGeom prst="rect">
            <a:avLst/>
          </a:prstGeom>
          <a:noFill/>
          <a:ln w="1260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txBody>
          <a:bodyPr anchor="t" anchorCtr="1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body"/>
          </p:nvPr>
        </p:nvSpPr>
        <p:spPr>
          <a:xfrm>
            <a:off x="688680" y="4873680"/>
            <a:ext cx="3451680" cy="13449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body"/>
          </p:nvPr>
        </p:nvSpPr>
        <p:spPr>
          <a:xfrm>
            <a:off x="4374360" y="4191120"/>
            <a:ext cx="3448800" cy="6829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 type="title"/>
          </p:nvPr>
        </p:nvSpPr>
        <p:spPr>
          <a:xfrm>
            <a:off x="4374360" y="2362320"/>
            <a:ext cx="3448800" cy="1523880"/>
          </a:xfrm>
          <a:prstGeom prst="rect">
            <a:avLst/>
          </a:prstGeom>
          <a:noFill/>
          <a:ln w="1260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txBody>
          <a:bodyPr anchor="t" anchorCtr="1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 type="body"/>
          </p:nvPr>
        </p:nvSpPr>
        <p:spPr>
          <a:xfrm>
            <a:off x="4374360" y="4873680"/>
            <a:ext cx="3448800" cy="13449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8"/>
          <p:cNvSpPr>
            <a:spLocks noGrp="1"/>
          </p:cNvSpPr>
          <p:nvPr>
            <p:ph type="body"/>
          </p:nvPr>
        </p:nvSpPr>
        <p:spPr>
          <a:xfrm>
            <a:off x="8049600" y="4191120"/>
            <a:ext cx="3456360" cy="68292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9"/>
          <p:cNvSpPr>
            <a:spLocks noGrp="1"/>
          </p:cNvSpPr>
          <p:nvPr>
            <p:ph type="title"/>
          </p:nvPr>
        </p:nvSpPr>
        <p:spPr>
          <a:xfrm>
            <a:off x="8049960" y="2362320"/>
            <a:ext cx="3447720" cy="1523880"/>
          </a:xfrm>
          <a:prstGeom prst="rect">
            <a:avLst/>
          </a:prstGeom>
          <a:noFill/>
          <a:ln w="1260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txBody>
          <a:bodyPr anchor="t" anchorCtr="1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ставка рису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0"/>
          <p:cNvSpPr>
            <a:spLocks noGrp="1"/>
          </p:cNvSpPr>
          <p:nvPr>
            <p:ph type="body"/>
          </p:nvPr>
        </p:nvSpPr>
        <p:spPr>
          <a:xfrm>
            <a:off x="8049600" y="4873680"/>
            <a:ext cx="3452400" cy="13449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1"/>
          <p:cNvSpPr>
            <a:spLocks noGrp="1"/>
          </p:cNvSpPr>
          <p:nvPr>
            <p:ph type="dt" idx="46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91506E-8B8C-420F-B2C3-0FB5A15ADA90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2"/>
          <p:cNvSpPr>
            <a:spLocks noGrp="1"/>
          </p:cNvSpPr>
          <p:nvPr>
            <p:ph type="ftr" idx="47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3"/>
          <p:cNvSpPr>
            <a:spLocks noGrp="1"/>
          </p:cNvSpPr>
          <p:nvPr>
            <p:ph type="sldNum" idx="48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2572EE-75EA-492B-A67A-7A3D3236A728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 vert="eaVer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E52297-4515-41E6-8CAF-0206E65999A6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8EAF6C-1066-4444-AA18-496C9FAE8DEA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7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448920" y="745200"/>
            <a:ext cx="2057400" cy="3903120"/>
          </a:xfrm>
          <a:prstGeom prst="rect">
            <a:avLst/>
          </a:prstGeom>
          <a:noFill/>
          <a:ln w="12600">
            <a:noFill/>
          </a:ln>
        </p:spPr>
        <p:txBody>
          <a:bodyPr anchor="ctr" vert="eaVert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024560" y="745200"/>
            <a:ext cx="8204040" cy="3903120"/>
          </a:xfrm>
          <a:prstGeom prst="rect">
            <a:avLst/>
          </a:prstGeom>
          <a:noFill/>
          <a:ln w="12600">
            <a:noFill/>
          </a:ln>
        </p:spPr>
        <p:txBody>
          <a:bodyPr anchor="t" vert="eaVer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52"/>
          </p:nvPr>
        </p:nvSpPr>
        <p:spPr>
          <a:xfrm>
            <a:off x="7814520" y="37980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84A871-7FA4-4F24-A00A-DB9C3DB4F96F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3"/>
          </p:nvPr>
        </p:nvSpPr>
        <p:spPr>
          <a:xfrm>
            <a:off x="685800" y="380880"/>
            <a:ext cx="69915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4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CC9ECF-E2C5-4C88-80D7-A80EDEAB2DD2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920" cy="1825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909560" y="4314240"/>
            <a:ext cx="2910960" cy="37476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841496-4CCC-4168-A16F-00C35F48C97C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371600" y="4323960"/>
            <a:ext cx="64008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077320" y="143100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C38CE6-BB75-47C5-B19F-98BB8DA108D3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343D5B-DB27-487B-AAF6-D6E279062ACB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E15592-A458-4E3E-9769-473080A45743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C0-HD-BTM.png"/>
          <p:cNvPicPr/>
          <p:nvPr/>
        </p:nvPicPr>
        <p:blipFill>
          <a:blip r:embed="rId2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1260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3480"/>
            <a:ext cx="10820520" cy="280188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24560" y="3641760"/>
            <a:ext cx="10490040" cy="955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 algn="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7814520" y="38088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F1DFB1-1B8B-4949-BDB1-0C9FD770D20A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85800" y="380880"/>
            <a:ext cx="6991560" cy="36396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10862280" y="380880"/>
            <a:ext cx="64368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64FD52-EE1D-46F2-AAB0-E7D1D0163B4A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194560"/>
            <a:ext cx="53341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6172200" y="2194560"/>
            <a:ext cx="53341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D69CC7-7B7F-41F1-A578-11A97BF6CF00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5A3F18-06D6-4868-96F9-D1D71FE7A159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95480" y="762120"/>
            <a:ext cx="8610480" cy="129528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2183760"/>
            <a:ext cx="5079960" cy="82404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685800" y="3132720"/>
            <a:ext cx="5311800" cy="30859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400800" y="2183760"/>
            <a:ext cx="5105520" cy="82404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6172200" y="3132720"/>
            <a:ext cx="5334120" cy="308592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dt" idx="16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E33486-10C9-43D1-AD6A-846094134710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 type="ftr" idx="17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8"/>
          <p:cNvSpPr>
            <a:spLocks noGrp="1"/>
          </p:cNvSpPr>
          <p:nvPr>
            <p:ph type="sldNum" idx="18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9211DF-9850-48E1-AD60-A1166BCA16C7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7941FC-F016-4195-91D0-49516D1698BA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20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1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AAF120-6980-4EAC-97D8-F80C4C051721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dt" idx="22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66B38E-1B1A-4D12-A976-1B2ED377F89E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3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4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9ECBD4-D7F3-46E1-8088-8B455D6B448A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4114800" cy="1600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995720" y="746640"/>
            <a:ext cx="6510600" cy="547200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685800" y="3124080"/>
            <a:ext cx="4114800" cy="30945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432000" indent="-3240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dt" idx="25"/>
          </p:nvPr>
        </p:nvSpPr>
        <p:spPr>
          <a:xfrm>
            <a:off x="8595360" y="6356520"/>
            <a:ext cx="291096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D09FC7-83C5-49BD-BE77-1778056ED2A3}" type="datetime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7/29/26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6"/>
          </p:nvPr>
        </p:nvSpPr>
        <p:spPr>
          <a:xfrm>
            <a:off x="685800" y="6355800"/>
            <a:ext cx="77724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 type="sldNum" idx="27"/>
          </p:nvPr>
        </p:nvSpPr>
        <p:spPr>
          <a:xfrm>
            <a:off x="8763120" y="380880"/>
            <a:ext cx="2743200" cy="3650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F4A018-9021-4B27-890A-4088AC61E863}" type="slidenum">
              <a:rPr b="0" lang="en-US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omanadvice.ru/sposoby-kontacepcii" TargetMode="External"/><Relationship Id="rId2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71600" y="1803240"/>
            <a:ext cx="9448920" cy="1825200"/>
          </a:xfrm>
          <a:prstGeom prst="rect">
            <a:avLst/>
          </a:prstGeom>
          <a:noFill/>
          <a:ln w="1260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 cap="all">
                <a:solidFill>
                  <a:srgbClr val="ffffff"/>
                </a:solidFill>
                <a:latin typeface="Century Gothic"/>
              </a:rPr>
              <a:t>Ранние половые связи и их последств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1371600" y="3632040"/>
            <a:ext cx="9448920" cy="685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ричины Беременности в подростковом возрас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 fontScale="69000"/>
          </a:bodyPr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Отсутствие  грамотности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Далеко не в каждой семье подростков своевременно просвещают в плане интимных вопросов. Знания, которые дети получают о из интернета, от сверстников, порой искажены и далеки от тех основ, которые бы позволили им уберечь себя от проблем со здоровьем и психологических труднос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Незнание правил контрацепции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Даже начав половую жизнь, не все подростки пользуются средствами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  <a:hlinkClick r:id="rId1"/>
              </a:rPr>
              <a:t>контрацепции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или умеют правильно ими пользоваться. Из-за стеснительности мало кто из молодых девушек обращается с этим вопросом к гинекологу, приобретает противозачаточные средства в аптеке «при свидетелях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Влияние плохой компании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Знакомство со сверстниками, которые ведут себя раскованно, употребляют алкоголь или наркотические вещества, притупляющие самоконтроль, нередко становится одним из провоцирующих факторов. Возможно, к связи с неблагополучными тинэйджерами привели проблемы в школе, семейные распр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Социально-экономическое положение.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Низкий социальный статус, бедность вынуждают некоторых девочек-подростков к ранней половой жизни, когда они ставят своей целью скорее повзрослеть, покинуть семью, выйти замуж ради более обеспеченной жизни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19920" y="764280"/>
            <a:ext cx="683244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Чем опасна ранняя беременнос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19920" y="2194560"/>
            <a:ext cx="683244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рактические всегда признаки подростковой беременности становятся неожиданностью, т.к. это является незапланированным событием, к которому девушки еще не готовы ни физиологически, ни психологическ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С физиологической точки зрения беременность подростков протекает сложнее, чем у взрослых. Неподготовленный организм иногда является не способным перенести вынашивание плода, роды. У юных будущих мам повышен риск токсикоза, анемии, угрозы выкидыша, разрыва матки и прочих патологий. Велика вероятность, что малыш родится недоношенным, будет иметь разные пороки. Если же беременная школьница решит сделать прерывание беременности, это может обернуться гинекологическими и эндокринными патологиями, бесплодием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5" name="Рисунок 4" descr="Изображение выглядит как одежда&#10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7932600" y="746280"/>
            <a:ext cx="3502440" cy="547272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Рисунок 4" descr="Изображение выглядит как одежда, человек, женщина, стоит&#10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685800" y="2903760"/>
            <a:ext cx="4521240" cy="2377440"/>
          </a:xfrm>
          <a:prstGeom prst="rect">
            <a:avLst/>
          </a:prstGeom>
          <a:ln w="12600">
            <a:noFill/>
          </a:ln>
        </p:spPr>
      </p:pic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5689440" y="2194560"/>
            <a:ext cx="5816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Так, начавшая половую жизнь девочка, должна отчетливо понимать, что у нее возможно наступление беременности. Насколько она к этому готова? Хочет ли выносить и родить ребенк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Каждая девочка должна знать, что с появлением первой менструации она уже может забеременеть, причем даже при однократном половом контакте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9" name="Рисунок 4" descr="Изображение выглядит как человек, внутренний, стена, женщина&#10;&#10;Описание создано с очень высокой степенью достоверности"/>
          <p:cNvPicPr/>
          <p:nvPr/>
        </p:nvPicPr>
        <p:blipFill>
          <a:blip r:embed="rId1">
            <a:alphaModFix amt="30000"/>
          </a:blip>
          <a:srcRect l="0" t="0" r="0" b="2500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 ИПП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Это проблема, которая касается абсолютно всех, потому что зачастую многие инфекции протекают латентно: они есть, но человек их не чувствует, нет симптомов – болей, нетипичных выделений. И диагностируются такие ИППП только при лабораторном обследовании. У мужчин проявления ИППП наблюдаются несколько чаще, чем у женщин, у которых они либо минимальны, либо их вообще не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685800" y="1422000"/>
            <a:ext cx="10820520" cy="47970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нфекции, передающиеся половым путем  (ИППП) – группа  клинически неоднородных болезней, которые объединяет преимущественно половой путь передачи инфекции. К этим заболеваниям, согласно десятой Международной классификации болезней (МКБ-10), относятся: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сифилис, гонококковая инфекция (гонорея), хламидийная инфекция (урогенитальный хламидиоз), шанкроид, паховая гранулема (донованоз), хламидийная (венерическая) лимфогранулема, урогенитальный трихомониаз, аногенитальная герпетическая вирусная инфекция, аногенитальные бородавки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(А50–А64). Половым путем передаются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ВИЧ, вирусы гепатитов В и С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, а также некоторые паразитарные инфекции ( 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чесотка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), </a:t>
            </a:r>
            <a:r>
              <a:rPr b="1" i="1" lang="ru-RU" sz="2200" spc="-1" strike="noStrike">
                <a:solidFill>
                  <a:srgbClr val="ffffff"/>
                </a:solidFill>
                <a:latin typeface="Century Gothic"/>
              </a:rPr>
              <a:t>контагиозный моллюск, амебиаз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и друг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-152280" y="485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о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ППП могут иметь серьезные последствия, помимо непосредственного воздействия самой инфекции. Некоторые ИППП могут повышать риск приобретения ВИЧ в три и более раз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нкогенные типы вируса папилломы человека ответственны за развитие рака шейки матки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080" indent="-21708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ППП нельзя вылечить самостоятельно. Заболевание легко переходит в хроническую форму, и тогда лечение проходит гораздо труднее. ИППП, перенесенные в подростковом возрасте, могут оказать влияние на всю последующую жизнь и привести, в числе прочего, к воспалительным заболеваниям малого таза, рождению ребенка с пороками развития. Осложнениями хламидийной и гонококковой инфекции могут быть мужское и женское бесплодие. Больной ИППП опасен для своих половых партнер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Контрацеп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6" name="Рисунок 4" descr="Изображение выглядит как еда&#10;&#10;Описание создано с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685800" y="2821680"/>
            <a:ext cx="4521240" cy="2541240"/>
          </a:xfrm>
          <a:prstGeom prst="rect">
            <a:avLst/>
          </a:prstGeom>
          <a:ln w="12600">
            <a:noFill/>
          </a:ln>
        </p:spPr>
      </p:pic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689440" y="2194560"/>
            <a:ext cx="5816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Century Gothic"/>
              </a:rPr>
              <a:t>Барьерные  методы контрацеп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Наиболее известным методом барьерной контрацепции является презерватив. Презерватив отвечает всем требованиям по отношению к подростковой контрацепции — он прост в использовании, доступен, совершенно безопасен для здоровья обоих половых партнеров и при правильном использовании гарантирует высокую защиту от нежелательной беременности и инфекций передающихся половым путе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ральные контрацептив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ральные контрацептивы (противозачаточные таблетки) являются одним из наиболее эффективных противозачаточных средств в мире. Однако, сразу заметим, что оральные контрацептивы защищают только от возникновения нежелательной беременности и совершенно не защищают от инфекций передающихся половым путем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ральные контрацептивы (противозачаточные таблетки) являются одним из наиболее эффективных противозачаточных средств в мире. Однако, сразу заметим, что оральные контрацептивы защищают только от возникновения нежелательной беременности и совершенно не защищают от инфекций передающихся половым путем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Заклю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Ранние половые связи возникают в результате нездорового влечения, незнания  моральных и этических  норм, духовной нищеты, умственной ограниченности, безделья.Умение управлять инстинктом зависит от уровня культуры люд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ловое общение без настоящей любви – низменные связи, которые ведут молодых людей к душевному опустошению.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Ученые считают, что половая зрелость наступает в 22-25 лет и половое воздержание полезно, так как в это время происходит активное накопление жизненных сил в организме.  В это время половая энергия должна переключаться в другие интересы и увлечения: спорт, образование, карье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Рисунок 4" descr=""/>
          <p:cNvPicPr/>
          <p:nvPr/>
        </p:nvPicPr>
        <p:blipFill>
          <a:blip r:embed="rId1">
            <a:alphaModFix amt="30000"/>
          </a:blip>
          <a:srcRect l="0" t="9614" r="0" b="417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976480" y="336204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Актуальнос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77160" y="2194560"/>
            <a:ext cx="5816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 последнее время увеличилось число подростков ,вступающих в ранние половые связ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ловая зрелость человека наступает гораздо раньше его социальной, гражданской зрелости — времени, когда молодые люди должны создавать свою семь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Рисунок 4" descr="Изображение выглядит как трава, внешний, человек, дерево&#10;&#10;Описание создано с очень высокой степенью достоверности"/>
          <p:cNvPicPr/>
          <p:nvPr/>
        </p:nvPicPr>
        <p:blipFill>
          <a:blip r:embed="rId1"/>
          <a:stretch/>
        </p:blipFill>
        <p:spPr>
          <a:xfrm>
            <a:off x="6985080" y="2679480"/>
            <a:ext cx="4521240" cy="282564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3" name="Рисунок 4" descr="Изображение выглядит как человек, девочка, внутренний, молодой&#10;&#10;Описание создано с высокой степенью достоверности"/>
          <p:cNvPicPr/>
          <p:nvPr/>
        </p:nvPicPr>
        <p:blipFill>
          <a:blip r:embed="rId1">
            <a:alphaModFix amt="30000"/>
          </a:blip>
          <a:srcRect l="0" t="0" r="0" b="7788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Ранняя половая жизнь не только не облегчает, но, наоборот, усложняет достижение гармонии, способствует возникновению и развитию некоторых половых расстройств и выработке неправильных представлений о взаимоотношениях между мужем и жен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570240"/>
            <a:ext cx="10868760" cy="593424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Century Gothic"/>
              </a:rPr>
              <a:t>Какой возраст считается подростковым? В психологии и педагогике принято под подростковым возрасте понимать возраст от 10 до 15 лет</a:t>
            </a:r>
            <a:br>
              <a:rPr sz="2400"/>
            </a:br>
            <a:r>
              <a:rPr b="0" lang="ru-RU" sz="2400" spc="-1" strike="noStrike" cap="all">
                <a:solidFill>
                  <a:srgbClr val="ffffff"/>
                </a:solidFill>
                <a:latin typeface="Century Gothic"/>
              </a:rPr>
              <a:t>Границы возраста: Малолетние: 6-14 лет Несовершенолетние: 14-18 лет Подростковый возраст, считают переходным периодом. Подросток частично принадлежит к группе детей, а частично к группе взрослых.</a:t>
            </a:r>
            <a:br>
              <a:rPr sz="2400"/>
            </a:br>
            <a:r>
              <a:rPr b="0" lang="ru-RU" sz="2400" spc="-1" strike="noStrike" cap="all">
                <a:solidFill>
                  <a:srgbClr val="ffffff"/>
                </a:solidFill>
                <a:latin typeface="Century Gothic"/>
              </a:rPr>
              <a:t>Ранние половые отношения негативно влияют на молодой несформированный организм. Причиной этого часто является то, что молодые люди не всегда имеют правильную информацию о последствиях</a:t>
            </a: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8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Рисунок 4" descr="Изображение выглядит как человек, сидит, стена, внутренний&#10;&#10;Описание создано с очень высокой степенью достоверности"/>
          <p:cNvPicPr/>
          <p:nvPr/>
        </p:nvPicPr>
        <p:blipFill>
          <a:blip r:embed="rId1">
            <a:alphaModFix amt="30000"/>
          </a:blip>
          <a:srcRect l="0" t="0" r="0" b="13794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1260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895480" y="76428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Наше государство в законодательном порядке регламентировало возраст вступающих в брак: в России — это 18 лет. Под большой охраной закона находятся девушки: вступление в половую связь с девушкой моложе 18 лет может привести к возбуждению уголовного дела против юноши. И это не случайно, так как ранняя половая жизнь наиболее отрицательно сказывается на организме девуш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9920" y="764280"/>
            <a:ext cx="625716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2800" spc="-1" strike="noStrike" cap="all">
                <a:solidFill>
                  <a:srgbClr val="ffffff"/>
                </a:solidFill>
                <a:latin typeface="Century Gothic"/>
              </a:rPr>
              <a:t>Среднестатистический портрет современного подростка: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19920" y="2194560"/>
            <a:ext cx="625716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Начало курения – в 10 ле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Употребление алкоголя – в 11 лет Употребление наркотиков - в 12-13 лет  Начало половой жизни – в 14-15 лет Прерывание беременности в 15-17 л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8"/>
          <p:cNvSpPr/>
          <p:nvPr/>
        </p:nvSpPr>
        <p:spPr>
          <a:xfrm>
            <a:off x="7188840" y="0"/>
            <a:ext cx="500328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f2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Рисунок 4" descr="Изображение выглядит как человек, небо, внешний, спорт&#10;&#10;Описание создано с очень высокой степенью достоверности"/>
          <p:cNvPicPr/>
          <p:nvPr/>
        </p:nvPicPr>
        <p:blipFill>
          <a:blip r:embed="rId1"/>
          <a:srcRect l="20760" t="0" r="51942" b="0"/>
          <a:stretch/>
        </p:blipFill>
        <p:spPr>
          <a:xfrm>
            <a:off x="7519320" y="0"/>
            <a:ext cx="4672440" cy="685800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-951840" y="50220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ричин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707480"/>
            <a:ext cx="10820520" cy="451116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Чтобы чувствовать себя менее одиноким или стать популярно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Чтобы продемонстрировать свою независимость от родите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пытка утвердить своё «я»  , потому что очень неуверенно чувствуют себя и хотят таким образом подчеркнуть свою привлекательность. Мужчины пытаются подтвердить свое мужское начало, женщины – доказать всему миру и самим себе, что они желанны, что их могут люби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Чтобы удержать любов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тому что все ЭТО делаю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тому что подружки делятся опыт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31440" y="553320"/>
            <a:ext cx="6257160" cy="577080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а как же пресловутые Ромео и Джульетта, которым было всего по пятнадцать.?Однако в то время когда они жили, и продолжительность жизни была совсем иной не более 40 лет. И за этот короткий промежуток времени нужно было успеть родить достаточное количество детей и воспитать их. И вред от ранней половой жизни не имел особой важности,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 настоящее время же все совсем иначе и жив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ы дольше, да и несоизмеримо лучше. От начала ранней половой жизни в одинаковой степени страдают как мальчики, так и девочки. Девочки, столкнувшись один раз с грубостью и причиненной болью, могут надолго получить отвращение к процессу как таковому вообще. А мальчики если у них все получилось, не так как хотелось бы могут поставить себе в вину мужскую несосто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роме того существует связь между ранней половой жизнью и наступающими впоследствии психиатрическими заболеваниями. А также никто не отменял венерические заболевания, которые, как правило, не принимаются молодежью в расчет. Ранние половые связи и перенесенные венерические заболевания накладывают значительный отпечаток на формирование личности и могут спровоцировать в будущем депрессии.</a:t>
            </a: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5"/>
          <p:cNvSpPr/>
          <p:nvPr/>
        </p:nvSpPr>
        <p:spPr>
          <a:xfrm>
            <a:off x="7188840" y="0"/>
            <a:ext cx="500328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f2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Рисунок 4" descr="Изображение выглядит как дерево, человек, внешний, женщина&#10;&#10;Описание создано с очень высокой степенью достоверности"/>
          <p:cNvPicPr/>
          <p:nvPr/>
        </p:nvPicPr>
        <p:blipFill>
          <a:blip r:embed="rId1"/>
          <a:srcRect l="27011" t="0" r="27510" b="0"/>
          <a:stretch/>
        </p:blipFill>
        <p:spPr>
          <a:xfrm>
            <a:off x="7519320" y="0"/>
            <a:ext cx="4672440" cy="6858000"/>
          </a:xfrm>
          <a:prstGeom prst="rect">
            <a:avLst/>
          </a:prstGeom>
          <a:ln w="126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-377640" y="603360"/>
            <a:ext cx="8610480" cy="1293120"/>
          </a:xfrm>
          <a:prstGeom prst="rect">
            <a:avLst/>
          </a:prstGeom>
          <a:noFill/>
          <a:ln w="1260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Последств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94560"/>
            <a:ext cx="10820520" cy="4024080"/>
          </a:xfrm>
          <a:prstGeom prst="rect">
            <a:avLst/>
          </a:prstGeom>
          <a:noFill/>
          <a:ln w="1260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ранняя беременность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, которая чаще всего заканчивается прерыванием со всеми его негативными последствия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оспалительные заболевания половых путей и опасность заражения болезнями, передающимися половым пут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гинекологические заболевания как следствие аборта, беременности и родов в подростковом возрасте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трудноразрешимые социальные и морально-этические проблемы, связанные с ранним материнством; ранняя половая жизнь опасна тем, что приводит к нарушению гормональной регуляции репродуктивной системы, которая в этом возрасте только налажива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16:29:22Z</dcterms:created>
  <dc:creator/>
  <dc:description/>
  <dc:language>en-US</dc:language>
  <cp:lastModifiedBy/>
  <dcterms:modified xsi:type="dcterms:W3CDTF">2018-12-13T15:32:42Z</dcterms:modified>
  <cp:revision>267</cp:revision>
  <dc:subject/>
  <dc:title>Презентация PowerPoint</dc:title>
</cp:coreProperties>
</file>