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80B-8AA7-4450-806A-CA055A58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462-EB57-4A7B-96F1-7442CBD6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9A8F0-C554-4F46-807C-D5139C22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96CF7-0E56-4DD0-ADA4-ED872C24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A0AE3-750D-424D-990A-89B72511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12292-E3DB-4C7F-999D-57269CFF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C1D97-0DBE-4AF2-B91B-EA070CCF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C96E2-6688-40EB-9B8F-F36EB702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513FF-D1BB-4DD6-A8AA-4F9C60A7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19C18-9AEA-4F13-ACDC-76531A04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BB50B-1108-4162-9B2B-7AD3B36B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C1EA9-D12B-42C2-9DA6-D92C36F8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044-788F-4315-8D1E-119CBB0E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4D91F-580C-45A2-9085-3FBAED41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A35E0-76BD-4ED3-94EB-A758C72C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FA1CC-7055-4B4A-BB2B-7009455C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10E4D-B802-4E78-BDBA-69428BB1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CA902-9FB2-49CC-A2A3-095FBE5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64BC7-10B2-439B-8ABE-ED4C108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3634B-39C0-4DC1-AEDD-BD35036B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E805A-CD0B-4ECA-8F94-13B228B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96AE7-373C-4900-94E0-C710C07B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11A30-520F-4346-98FC-E17BCDE1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4FD-1BE9-414D-8268-44B403E5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29C0F-3250-4D8A-825A-FB126B84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BF68D-D153-4039-93EE-59951AF3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E3C9B-1301-4E88-9B52-8C80F12D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D8218-95E2-45BA-BC40-0B825260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95759-4D8D-47BF-A6EB-E24FF7F1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C81ED-01DA-4763-AB37-E7D7B42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50D24-A024-492A-9156-86CB9EC4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3B118-0E67-4A19-A3A7-878303C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F8069-721F-45A0-8AA1-E1EE73F1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BADDE-BFA0-4D93-9B80-91BAA4EF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F735-5923-4492-B3D3-11DABA11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15D77-30F7-4A79-BA92-1692AA6B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FB120-B1C6-4639-BDA9-29C010FE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CDE17-51DA-461E-A9C2-55C4D889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2E2EB-9D9D-4E6D-87A7-7766677A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725CD-8865-4026-ACB3-C60885AB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9BF96-F440-41BD-A4E4-9C930AB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C1FB8-FA59-4040-814E-45685FF8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D8E0D-C663-488F-936B-B5A5350F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882AB-0F0A-4192-A4FE-F66193AF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1A7F8-514D-4905-9424-D5197DE1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5C3-B005-493A-B0B6-3B68548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31D71-9A93-4383-81DC-C73E1BCE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84F37-3A83-4AA7-8D29-E9F84001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8E9E4-6E84-4903-B509-B4ECB1D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6E3B2-694C-4029-98A2-9E9CE1D0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509ED-689C-4BA7-A828-3C318A2E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150BC-F4E5-49E8-886D-2E937B91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BB350-6C47-466E-8DB1-7043797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9E152-F8C6-4509-9BA0-7DAF58C2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5D8C0-E83E-4004-8F27-D61CE5F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925F1-0344-457D-976F-FF34E85E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9237-D947-4F2F-AEAC-C8D87469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3433B-F527-47BF-95AD-18A3499B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68A46-054B-491B-96A0-6126CF4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1DBA0-3F2C-410E-8966-756B3E91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A9BDA-198B-4AAB-A484-1D3E7CF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299CC-B880-4C3E-8DDF-ED27C985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3745B-E6A0-4533-83B4-9D142D46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A527C-4769-4451-8EC7-1585C575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A4B38-1AB8-403E-85B0-CBE81F96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933F1-53D7-43C7-90E2-22EB36A9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88EFC-666F-4E42-BBF6-7D2A317D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3A6E-69E3-4A8A-88EF-93E77EC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58962-90FC-42E2-9925-4B20B731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13E8B-DD3E-42B4-932E-EE27AD9D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D5E06-400C-465C-AA9B-79D55E04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88C12-C4F1-4DC4-8B26-662D4F80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B2CE9-C53E-4066-B126-3E8F3E9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8639E-4158-4932-9CD8-D91AF7D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2D3B6-DA38-46F2-ACA8-B6796B4B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A4365-DBD0-474C-996C-A2E1123E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3EEAD-16F7-48A1-8D40-684C267C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48389-0478-45FE-B9D3-31E6EE58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49A3-F17E-4EDF-975A-C36BB6CF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E62C3-4F02-4404-B546-23A38977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50D78-E792-4B2D-81D0-35205465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8068A-8487-421B-A638-4952DDA7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1EB4C-E980-4C64-A1AE-09C27396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98807-7861-48B1-BDC4-C969F14B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E1D7B-1906-4A02-8685-CED0F43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06AE1-0E3A-4C47-8D36-ACBFF90B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1EF87-27E5-4E3A-AA32-B482617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F93B5-E8CB-48C3-9FB6-65AD9BC2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11454-6F5F-4D25-A978-64D54211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8F7E-4CCB-42F9-A06D-DF4CC488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404F1-C934-42F5-8ED2-298FB15F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BC4F8-7034-404C-8653-57E56D33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BF95E-64D7-434B-8BE7-483B5FA2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EEA76-187E-49D8-85F6-C416542D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F6FD8-C9F5-4061-95CD-E5235BFD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4EEAC-3F58-4A59-A94F-4B098DDB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47213-852C-48C7-8E1D-EE9D4971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A6F04-C664-45D6-B29B-6A086139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869D4-CAAE-4534-9A63-5B111B95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1F08D-9E8C-4A44-A6CE-9B82BCF2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64AD-CE83-44A5-88F0-FC3A49D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81E83B-398C-429C-87A7-61FBB7A7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0AE6C-99FA-4A55-A955-128A42E5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BC013-A7B7-478A-9C48-DF9A19E4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5C060-9702-4BAA-BEF3-C252F3D5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A5C5A-F6A0-4491-939B-22D9833E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4E2DF-017A-47DB-B533-91E8D471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D78AC-C2A9-4CAA-9D48-95D3E90C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F052F-5AC7-4E5D-B0E9-6B0E68FF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D5405-3ABA-477B-AE72-18A913F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7F796-F7AC-419E-9357-DE462F9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766-8373-405F-A5DE-4C959478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EE7C-B48E-4FD9-8C3E-0E75D42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1C0A2E-B23B-4A6A-A3C6-3F1EE98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924AE-EA7C-4E1B-A039-6C4DC2A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D5E039-FE6C-402C-9DED-374A2289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9AE60-E2E8-49F2-B9DE-BAE186C2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0C3A7C-83B3-4F1A-A9DC-99F11B3A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1D59C-78C0-49DD-B1A6-6D58C902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9EFD9B-552B-4AFE-B392-ABF30024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A2754-809D-419D-BE72-B04206B0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1880D-DD2D-4E01-AF40-E2584B2A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B12FF-2F1A-433E-94C1-5EC635F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7E8B-CA64-4F50-82F2-5BF433B0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1DC4F-3440-4F13-8234-40D38E83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53AFD0-E6C5-444E-89DF-3C7E4C17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BBFEB-832B-44EC-8FCA-95074165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6088F7-1F18-4B12-86B9-559C7B9C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F1DFE-534E-48C9-80D6-DC881E12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650E0-EEFA-4838-8462-1200EE79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DAEED-9C55-486D-8AC9-FDE3DEF6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F672-0C43-4B3E-8A52-F8C40DB1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4D28-4A3D-4B42-A13D-752EDC8D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3274-7413-480B-A812-F3AA3F0F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9835-BBB7-4341-B769-C7312330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A6BE-5390-4C5D-B9D8-88E6CCBD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1990-B7AF-43AD-8992-E5D293F7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84D2-B6FF-4A42-BD2D-EFAA2E4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ECB14-8D63-418A-B488-B11E142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40E-4C03-418D-8C31-1561B06D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71BE-C8F5-4329-AFCC-DA60BC4A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47B7-A6A4-4847-83D8-16A4134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DAA7-A986-43CD-9D70-C183C1AD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6905-3D96-4778-8309-7DD868BC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B6D6-96BB-47B6-BB6E-618207CA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6ED3A-C9DE-4071-81D7-88E9D230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2BF9-F84D-4BB8-9D32-2818F7EA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12E5-0AE6-4CC8-815B-A649C0A8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CEE1-AF47-45C7-8EC3-365D1DA5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AB63-4423-4716-A872-AF56F991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C84-DBF4-4AC9-B9FF-0DAD21E4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3E500-176E-4BF7-8855-C51E5444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3A5F1-C190-4869-BF72-128F0D91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239C-E458-4B8C-B8A1-26D04697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B1DD-3F07-4667-8C78-55BC20BA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241B-631A-4C23-87B6-613D60D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DA482-9A64-4190-A947-FCE9C4B2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E849-F904-4192-8B08-F1CF95F6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AB8B-40C7-4F5B-98C3-6C67231B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4845-27A9-4DA6-90C3-A39F278E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F80C5-C858-495C-AF9C-B4EA3FAE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AA1-1C3D-47A3-A262-F4D67E08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88606-EF07-42EC-8E8F-29821FEC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65004-E7FD-4E4B-B222-93D45C65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0C08-CEE9-41C6-AAE6-CB4200E7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0E39-50C6-46E9-85B6-98228832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D4EB-9366-4115-A858-B249A1C8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F28C9-5BF3-4A63-B4C6-B160CBC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34B5-9B5C-494F-A534-DED6000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03161-9A5B-4703-8408-D84C0E87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D620-DC0E-43CB-A34D-BE76AB70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BE77D-5AF9-43DD-B862-D0E763C8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E58-5C8C-4E37-A3C8-5543FD84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FA13-B22C-4099-BA92-B75BE831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64421-82C6-4585-922E-29F59CE1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29C1C-3D21-406C-BA7C-51E1ADD3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81F1F-CBFA-4552-BEC8-E1FE180C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B38CD-423D-48BC-939D-FF707280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6D715-CB6C-4489-8605-D5D94F48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23B7-4AA3-4C02-BFD9-784EADFE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2D3B-91A9-48F9-A78C-3C56B62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69DE-F315-45D1-9A1B-8BC2F8FC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DC80-A21A-4DDB-9F1D-256D06D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BC0-8AE9-487D-965D-05CD08D9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D935-CD42-4CDD-8F07-9AF2997E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55CFD-373A-4D1A-9FA2-600A6A52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9510-BBC7-4F24-A915-5601449C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02A3E-A5D8-4566-9A5E-3882D70B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4C059-1383-45EA-A052-7C40CF79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3949A-9BA8-4A39-825D-7B4CD516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483E1-6377-40A5-97BB-EA68992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0266-D45C-4CC3-A600-751EB491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A5C66-E769-48BE-92D6-86675CAB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EDC83-0D4B-4325-8E0B-53865C5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E39-0721-4F72-AA82-505929F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D15D-B3BF-44EC-9631-812533CE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9F00B-E942-4A5A-B8EF-0DABD9E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7EC90-DD42-4235-A9D7-E4E2F81E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27CE1-872E-42FE-B37F-EB31C82C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8EDEF-9C99-4260-A6D9-B260C46D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43E6-2ACE-434E-BA3F-4756436F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1DBF5-2CDD-49E4-9687-A058B6D3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B911-0E5F-4643-B365-9508814B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2D940-E9AB-42E3-A17C-7485C8CE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81B0F-2D93-4C08-9E54-A674A271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D4B-E203-4A79-85AB-F2409C6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C1E4D-0886-40F0-954E-8686BAAE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54720-AF5A-4667-A79C-31C3EA8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3CB7C-8E66-4C51-AF79-3269467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FD9DD-EF8F-4BF2-ABA2-0E9CA9EF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ED3F4-07D4-4146-9D60-1BE790E4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1B7C1-9321-43F6-8F5F-8ED39F2F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501D9-5569-44AF-A957-180311F7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F3730-2B8F-4A01-A211-9D532241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5AC51-B51F-4E4D-B023-ABF60DF0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F52C5-3B2A-42D9-BC8C-49700733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1260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CFD756-27C6-4957-A346-6A3B4454D29C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9BA81A-E9CA-4E4A-9465-507B223DA946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6873120" cy="1600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7861320" y="751320"/>
            <a:ext cx="3645000" cy="54673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body"/>
          </p:nvPr>
        </p:nvSpPr>
        <p:spPr>
          <a:xfrm>
            <a:off x="685800" y="3124080"/>
            <a:ext cx="6873120" cy="30945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dt" idx="28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32AADF-BD56-4C6A-80E0-51CE93F00A96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9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30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B97975-2E6D-4CB9-884E-F522EA8474F3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697280"/>
            <a:ext cx="10821960" cy="81936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81840" y="941400"/>
            <a:ext cx="10821960" cy="34783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body"/>
          </p:nvPr>
        </p:nvSpPr>
        <p:spPr>
          <a:xfrm>
            <a:off x="685800" y="5516640"/>
            <a:ext cx="10820520" cy="7020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dt" idx="31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41E20B-2647-4D2E-A60E-532408A4C8CC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32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3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DAD7EE-5301-47EC-A6ED-6026DBBCCF71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520" cy="28026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24560" y="3648960"/>
            <a:ext cx="10130400" cy="9990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7814520" y="38088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375462-EC56-46E8-8B61-0FC13A3774BD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685800" y="37980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E2F308-11DA-42D3-A8D2-40B4F5C12879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2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24560" y="753480"/>
            <a:ext cx="10151640" cy="26046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303920" y="3365640"/>
            <a:ext cx="9592560" cy="4446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body"/>
          </p:nvPr>
        </p:nvSpPr>
        <p:spPr>
          <a:xfrm>
            <a:off x="1024560" y="3960000"/>
            <a:ext cx="10151640" cy="680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dt" idx="37"/>
          </p:nvPr>
        </p:nvSpPr>
        <p:spPr>
          <a:xfrm>
            <a:off x="7814520" y="38088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C79F5B-8E02-4A85-A409-70CDDAEE3B0C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38"/>
          </p:nvPr>
        </p:nvSpPr>
        <p:spPr>
          <a:xfrm>
            <a:off x="685800" y="37980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39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EE03A0-0273-4D6D-A405-8E1266B0112E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Box 8"/>
          <p:cNvSpPr txBox="1"/>
          <p:nvPr/>
        </p:nvSpPr>
        <p:spPr>
          <a:xfrm>
            <a:off x="476280" y="933480"/>
            <a:ext cx="609480" cy="5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n-US" sz="8000" spc="-1" strike="noStrike" cap="all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9"/>
          <p:cNvSpPr txBox="1"/>
          <p:nvPr/>
        </p:nvSpPr>
        <p:spPr>
          <a:xfrm>
            <a:off x="10984320" y="2701440"/>
            <a:ext cx="609480" cy="5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8000" spc="-1" strike="noStrike" cap="all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24560" y="1124640"/>
            <a:ext cx="10146240" cy="25117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024560" y="3648240"/>
            <a:ext cx="10144800" cy="9997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7814520" y="3787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DEFD9A-D058-472F-9BEA-F7DBF88F139B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685800" y="37872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3F11DC-09FF-4FD5-BF13-E34B0FF9D42F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895480" y="762120"/>
            <a:ext cx="8610480" cy="13039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2202120"/>
            <a:ext cx="3456360" cy="6174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body"/>
          </p:nvPr>
        </p:nvSpPr>
        <p:spPr>
          <a:xfrm>
            <a:off x="685800" y="2904480"/>
            <a:ext cx="3456360" cy="33141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4368960" y="2201400"/>
            <a:ext cx="3456360" cy="6264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body"/>
          </p:nvPr>
        </p:nvSpPr>
        <p:spPr>
          <a:xfrm>
            <a:off x="4366800" y="2904120"/>
            <a:ext cx="3456360" cy="33145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body"/>
          </p:nvPr>
        </p:nvSpPr>
        <p:spPr>
          <a:xfrm>
            <a:off x="8051760" y="2192760"/>
            <a:ext cx="3456360" cy="6264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 type="body"/>
          </p:nvPr>
        </p:nvSpPr>
        <p:spPr>
          <a:xfrm>
            <a:off x="8051760" y="2904480"/>
            <a:ext cx="3456360" cy="33141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8"/>
          <p:cNvSpPr>
            <a:spLocks noGrp="1"/>
          </p:cNvSpPr>
          <p:nvPr>
            <p:ph type="dt" idx="43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3B445D-C353-4C1E-88E4-209EEFA3766D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9"/>
          <p:cNvSpPr>
            <a:spLocks noGrp="1"/>
          </p:cNvSpPr>
          <p:nvPr>
            <p:ph type="ftr" idx="44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0"/>
          <p:cNvSpPr>
            <a:spLocks noGrp="1"/>
          </p:cNvSpPr>
          <p:nvPr>
            <p:ph type="sldNum" idx="45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7BD74B-25B4-45C4-A2CD-BE77F9E6418B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95480" y="762120"/>
            <a:ext cx="8610480" cy="129528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8680" y="4191120"/>
            <a:ext cx="3451680" cy="6829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688680" y="2362320"/>
            <a:ext cx="3451680" cy="1523880"/>
          </a:xfrm>
          <a:prstGeom prst="rect">
            <a:avLst/>
          </a:prstGeom>
          <a:noFill/>
          <a:ln w="1260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txBody>
          <a:bodyPr anchor="t" anchorCtr="1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body"/>
          </p:nvPr>
        </p:nvSpPr>
        <p:spPr>
          <a:xfrm>
            <a:off x="688680" y="4873680"/>
            <a:ext cx="3451680" cy="13449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body"/>
          </p:nvPr>
        </p:nvSpPr>
        <p:spPr>
          <a:xfrm>
            <a:off x="4374360" y="4191120"/>
            <a:ext cx="3448800" cy="6829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 type="title"/>
          </p:nvPr>
        </p:nvSpPr>
        <p:spPr>
          <a:xfrm>
            <a:off x="4374360" y="2362320"/>
            <a:ext cx="3448800" cy="1523880"/>
          </a:xfrm>
          <a:prstGeom prst="rect">
            <a:avLst/>
          </a:prstGeom>
          <a:noFill/>
          <a:ln w="1260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txBody>
          <a:bodyPr anchor="t" anchorCtr="1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 type="body"/>
          </p:nvPr>
        </p:nvSpPr>
        <p:spPr>
          <a:xfrm>
            <a:off x="4374360" y="4873680"/>
            <a:ext cx="3448800" cy="13449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8"/>
          <p:cNvSpPr>
            <a:spLocks noGrp="1"/>
          </p:cNvSpPr>
          <p:nvPr>
            <p:ph type="body"/>
          </p:nvPr>
        </p:nvSpPr>
        <p:spPr>
          <a:xfrm>
            <a:off x="8049600" y="4191120"/>
            <a:ext cx="3456360" cy="6829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9"/>
          <p:cNvSpPr>
            <a:spLocks noGrp="1"/>
          </p:cNvSpPr>
          <p:nvPr>
            <p:ph type="title"/>
          </p:nvPr>
        </p:nvSpPr>
        <p:spPr>
          <a:xfrm>
            <a:off x="8049960" y="2362320"/>
            <a:ext cx="3447720" cy="1523880"/>
          </a:xfrm>
          <a:prstGeom prst="rect">
            <a:avLst/>
          </a:prstGeom>
          <a:noFill/>
          <a:ln w="1260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txBody>
          <a:bodyPr anchor="t" anchorCtr="1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0"/>
          <p:cNvSpPr>
            <a:spLocks noGrp="1"/>
          </p:cNvSpPr>
          <p:nvPr>
            <p:ph type="body"/>
          </p:nvPr>
        </p:nvSpPr>
        <p:spPr>
          <a:xfrm>
            <a:off x="8049600" y="4873680"/>
            <a:ext cx="3452400" cy="13449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1"/>
          <p:cNvSpPr>
            <a:spLocks noGrp="1"/>
          </p:cNvSpPr>
          <p:nvPr>
            <p:ph type="dt" idx="46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F427B8-0D52-4508-868F-E910989ADFC9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2"/>
          <p:cNvSpPr>
            <a:spLocks noGrp="1"/>
          </p:cNvSpPr>
          <p:nvPr>
            <p:ph type="ftr" idx="47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3"/>
          <p:cNvSpPr>
            <a:spLocks noGrp="1"/>
          </p:cNvSpPr>
          <p:nvPr>
            <p:ph type="sldNum" idx="48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B9C09E-94DB-4B6A-86D4-3BB4CEC42976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 vert="eaVer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DC9E3F-79D5-4226-86C7-8CFE79A0E4F3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3A89B8-734C-440C-875E-AD5BF6AE3934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448920" y="745200"/>
            <a:ext cx="2057400" cy="3903120"/>
          </a:xfrm>
          <a:prstGeom prst="rect">
            <a:avLst/>
          </a:prstGeom>
          <a:noFill/>
          <a:ln w="12600">
            <a:noFill/>
          </a:ln>
        </p:spPr>
        <p:txBody>
          <a:bodyPr anchor="ctr" vert="eaVert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024560" y="745200"/>
            <a:ext cx="8204040" cy="3903120"/>
          </a:xfrm>
          <a:prstGeom prst="rect">
            <a:avLst/>
          </a:prstGeom>
          <a:noFill/>
          <a:ln w="12600">
            <a:noFill/>
          </a:ln>
        </p:spPr>
        <p:txBody>
          <a:bodyPr anchor="t" vert="eaVer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52"/>
          </p:nvPr>
        </p:nvSpPr>
        <p:spPr>
          <a:xfrm>
            <a:off x="7814520" y="37980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EA8088-E9E0-43D9-81F8-78A8D790E12A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3"/>
          </p:nvPr>
        </p:nvSpPr>
        <p:spPr>
          <a:xfrm>
            <a:off x="685800" y="38088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4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78CE02-B9D3-48A9-8DAD-DADDF386AFA0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920" cy="1825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909560" y="4314240"/>
            <a:ext cx="2910960" cy="37476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C3690C-D6C6-40B9-BA53-872635F443BF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371600" y="4323960"/>
            <a:ext cx="64008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077320" y="143100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078757-1928-43CA-A161-BD04967E67F7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3603E5-9201-4BE5-BBB3-05FC356925FE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69E9D8-8054-4C2A-BD9C-163217DAA1FC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520" cy="280188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24560" y="3641760"/>
            <a:ext cx="10490040" cy="955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 algn="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7814520" y="38088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99207C-2069-47D3-BC92-AB912734FCBA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85800" y="380880"/>
            <a:ext cx="6991560" cy="36396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426187-8CAD-4B96-A525-6E6A3183AA23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194560"/>
            <a:ext cx="53341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6172200" y="2194560"/>
            <a:ext cx="53341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59F8BC-88F3-4362-8057-610E1EAF2F9E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CE9DE5-366E-4631-A178-3A1207282EDF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95480" y="762120"/>
            <a:ext cx="8610480" cy="129528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2183760"/>
            <a:ext cx="5079960" cy="82404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685800" y="3132720"/>
            <a:ext cx="5311800" cy="30859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400800" y="2183760"/>
            <a:ext cx="5105520" cy="82404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6172200" y="3132720"/>
            <a:ext cx="5334120" cy="30859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dt" idx="16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D724E7-2E5E-4D38-9CD1-4525C52A2714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 type="ftr" idx="17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8"/>
          <p:cNvSpPr>
            <a:spLocks noGrp="1"/>
          </p:cNvSpPr>
          <p:nvPr>
            <p:ph type="sldNum" idx="18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8EE5E0-97BF-4C4D-9881-34BFCA00B2DD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78910C-674F-4A87-A0AF-D84F0FF58B82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20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1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6AC528-2269-48EF-BF43-B5FB3578F27D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dt" idx="22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20E520-1FE5-454E-8C1E-6BBE81EEE71B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3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4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ED7604-B169-498B-BBD5-AA68AD4D0A75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4114800" cy="1600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995720" y="746640"/>
            <a:ext cx="6510600" cy="54720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685800" y="3124080"/>
            <a:ext cx="4114800" cy="30945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dt" idx="25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D077A4-05F4-4D61-987B-FE9A7AFED560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6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 type="sldNum" idx="27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E8BC16-46C1-4969-867F-0731143B2B7A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omanadvice.ru/sposoby-kontacepcii" TargetMode="External"/><Relationship Id="rId2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920" cy="1825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 cap="all">
                <a:solidFill>
                  <a:srgbClr val="ffffff"/>
                </a:solidFill>
                <a:latin typeface="Century Gothic"/>
              </a:rPr>
              <a:t>Ранние половые связи и их последств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1371600" y="3632040"/>
            <a:ext cx="9448920" cy="685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ричины Беременности в подростковом возрас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 fontScale="69000"/>
          </a:bodyPr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Отсутствие  грамотности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Далеко не в каждой семье подростков своевременно просвещают в плане интимных вопросов. Знания, которые дети получают о из интернета, от сверстников, порой искажены и далеки от тех основ, которые бы позволили им уберечь себя от проблем со здоровьем и психологических труднос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Незнание правил контрацепции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Даже начав половую жизнь, не все подростки пользуются средствами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  <a:hlinkClick r:id="rId1"/>
              </a:rPr>
              <a:t>контрацепции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или умеют правильно ими пользоваться. Из-за стеснительности мало кто из молодых девушек обращается с этим вопросом к гинекологу, приобретает противозачаточные средства в аптеке «при свидетелях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Влияние плохой компании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Знакомство со сверстниками, которые ведут себя раскованно, употребляют алкоголь или наркотические вещества, притупляющие самоконтроль, нередко становится одним из провоцирующих факторов. Возможно, к связи с неблагополучными тинэйджерами привели проблемы в школе, семейные распр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Социально-экономическое положение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Низкий социальный статус, бедность вынуждают некоторых девочек-подростков к ранней половой жизни, когда они ставят своей целью скорее повзрослеть, покинуть семью, выйти замуж ради более обеспеченной жизни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19920" y="764280"/>
            <a:ext cx="683244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Чем опасна ранняя беременнос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19920" y="2194560"/>
            <a:ext cx="683244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рактические всегда признаки подростковой беременности становятся неожиданностью, т.к. это является незапланированным событием, к которому девушки еще не готовы ни физиологически, ни психологическ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С физиологической точки зрения беременность подростков протекает сложнее, чем у взрослых. Неподготовленный организм иногда является не способным перенести вынашивание плода, роды. У юных будущих мам повышен риск токсикоза, анемии, угрозы выкидыша, разрыва матки и прочих патологий. Велика вероятность, что малыш родится недоношенным, будет иметь разные пороки. Если же беременная школьница решит сделать прерывание беременности, это может обернуться гинекологическими и эндокринными патологиями, бесплодием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5" name="Рисунок 4" descr="Изображение выглядит как одежда&#10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7932600" y="746280"/>
            <a:ext cx="3502440" cy="547272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Рисунок 4" descr="Изображение выглядит как одежда, человек, женщина, стоит&#10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685800" y="2903760"/>
            <a:ext cx="4521240" cy="2377440"/>
          </a:xfrm>
          <a:prstGeom prst="rect">
            <a:avLst/>
          </a:prstGeom>
          <a:ln w="12600">
            <a:noFill/>
          </a:ln>
        </p:spPr>
      </p:pic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5689440" y="2194560"/>
            <a:ext cx="5816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Так, начавшая половую жизнь девочка, должна отчетливо понимать, что у нее возможно наступление беременности. Насколько она к этому готова? Хочет ли выносить и родить ребенк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Каждая девочка должна знать, что с появлением первой менструации она уже может забеременеть, причем даже при однократном половом контакте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9" name="Рисунок 4" descr="Изображение выглядит как человек, внутренний, стена, женщина&#10;&#10;Описание создано с очень высокой степенью достоверности"/>
          <p:cNvPicPr/>
          <p:nvPr/>
        </p:nvPicPr>
        <p:blipFill>
          <a:blip r:embed="rId1">
            <a:alphaModFix amt="30000"/>
          </a:blip>
          <a:srcRect l="0" t="0" r="0" b="2500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 ИП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Это проблема, которая касается абсолютно всех, потому что зачастую многие инфекции протекают латентно: они есть, но человек их не чувствует, нет симптомов – болей, нетипичных выделений. И диагностируются такие ИППП только при лабораторном обследовании. У мужчин проявления ИППП наблюдаются несколько чаще, чем у женщин, у которых они либо минимальны, либо их вообще не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685800" y="1422000"/>
            <a:ext cx="10820520" cy="47970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нфекции, передающиеся половым путем  (ИППП) – группа  клинически неоднородных болезней, которые объединяет преимущественно половой путь передачи инфекции. К этим заболеваниям, согласно десятой Международной классификации болезней (МКБ-10), относятся: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сифилис, гонококковая инфекция (гонорея), хламидийная инфекция (урогенитальный хламидиоз), шанкроид, паховая гранулема (донованоз), хламидийная (венерическая) лимфогранулема, урогенитальный трихомониаз, аногенитальная герпетическая вирусная инфекция, аногенитальные бородавки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(А50–А64). Половым путем передаются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ВИЧ, вирусы гепатитов В и С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, а также некоторые паразитарные инфекции ( 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чесотка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),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контагиозный моллюск, амебиаз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и друг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152280" y="485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о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ППП могут иметь серьезные последствия, помимо непосредственного воздействия самой инфекции. Некоторые ИППП могут повышать риск приобретения ВИЧ в три и более раз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нкогенные типы вируса папилломы человека ответственны за развитие рака шейки матки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ППП нельзя вылечить самостоятельно. Заболевание легко переходит в хроническую форму, и тогда лечение проходит гораздо труднее. ИППП, перенесенные в подростковом возрасте, могут оказать влияние на всю последующую жизнь и привести, в числе прочего, к воспалительным заболеваниям малого таза, рождению ребенка с пороками развития. Осложнениями хламидийной и гонококковой инфекции могут быть мужское и женское бесплодие. Больной ИППП опасен для своих половых партнер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Контрацеп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6" name="Рисунок 4" descr="Изображение выглядит как еда&#10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685800" y="2821680"/>
            <a:ext cx="4521240" cy="2541240"/>
          </a:xfrm>
          <a:prstGeom prst="rect">
            <a:avLst/>
          </a:prstGeom>
          <a:ln w="12600">
            <a:noFill/>
          </a:ln>
        </p:spPr>
      </p:pic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689440" y="2194560"/>
            <a:ext cx="5816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Century Gothic"/>
              </a:rPr>
              <a:t>Барьерные  методы контрацеп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Наиболее известным методом барьерной контрацепции является презерватив. Презерватив отвечает всем требованиям по отношению к подростковой контрацепции — он прост в использовании, доступен, совершенно безопасен для здоровья обоих половых партнеров и при правильном использовании гарантирует высокую защиту от нежелательной беременности и инфекций передающихся половым путе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ральные контрацептив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ральные контрацептивы (противозачаточные таблетки) являются одним из наиболее эффективных противозачаточных средств в мире. Однако, сразу заметим, что оральные контрацептивы защищают только от возникновения нежелательной беременности и совершенно не защищают от инфекций передающихся половым путем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ральные контрацептивы (противозачаточные таблетки) являются одним из наиболее эффективных противозачаточных средств в мире. Однако, сразу заметим, что оральные контрацептивы защищают только от возникновения нежелательной беременности и совершенно не защищают от инфекций передающихся половым путем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Ранние половые связи возникают в результате нездорового влечения, незнания  моральных и этических  норм, духовной нищеты, умственной ограниченности, безделья.Умение управлять инстинктом зависит от уровня культуры люд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ловое общение без настоящей любви – низменные связи, которые ведут молодых людей к душевному опустошению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Ученые считают, что половая зрелость наступает в 22-25 лет и половое воздержание полезно, так как в это время происходит активное накопление жизненных сил в организме.  В это время половая энергия должна переключаться в другие интересы и увлечения: спорт, образование, карье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Рисунок 4" descr=""/>
          <p:cNvPicPr/>
          <p:nvPr/>
        </p:nvPicPr>
        <p:blipFill>
          <a:blip r:embed="rId1">
            <a:alphaModFix amt="30000"/>
          </a:blip>
          <a:srcRect l="0" t="9614" r="0" b="417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976480" y="336204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Актуальнос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77160" y="2194560"/>
            <a:ext cx="5816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 последнее время увеличилось число подростков ,вступающих в ранние половые связ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ловая зрелость человека наступает гораздо раньше его социальной, гражданской зрелости — времени, когда молодые люди должны создавать свою семь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Рисунок 4" descr="Изображение выглядит как трава, внешний, человек, дерево&#10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6985080" y="2679480"/>
            <a:ext cx="4521240" cy="282564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3" name="Рисунок 4" descr="Изображение выглядит как человек, девочка, внутренний, молодой&#10;&#10;Описание создано с высокой степенью достоверности"/>
          <p:cNvPicPr/>
          <p:nvPr/>
        </p:nvPicPr>
        <p:blipFill>
          <a:blip r:embed="rId1">
            <a:alphaModFix amt="30000"/>
          </a:blip>
          <a:srcRect l="0" t="0" r="0" b="7788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Ранняя половая жизнь не только не облегчает, но, наоборот, усложняет достижение гармонии, способствует возникновению и развитию некоторых половых расстройств и выработке неправильных представлений о взаимоотношениях между мужем и жен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570240"/>
            <a:ext cx="10868760" cy="59342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Century Gothic"/>
              </a:rPr>
              <a:t>Какой возраст считается подростковым? В психологии и педагогике принято под подростковым возрасте понимать возраст от 10 до 15 лет</a:t>
            </a:r>
            <a:br>
              <a:rPr sz="2400"/>
            </a:br>
            <a:r>
              <a:rPr b="0" lang="ru-RU" sz="2400" spc="-1" strike="noStrike" cap="all">
                <a:solidFill>
                  <a:srgbClr val="ffffff"/>
                </a:solidFill>
                <a:latin typeface="Century Gothic"/>
              </a:rPr>
              <a:t>Границы возраста: Малолетние: 6-14 лет Несовершенолетние: 14-18 лет Подростковый возраст, считают переходным периодом. Подросток частично принадлежит к группе детей, а частично к группе взрослых.</a:t>
            </a:r>
            <a:br>
              <a:rPr sz="2400"/>
            </a:br>
            <a:r>
              <a:rPr b="0" lang="ru-RU" sz="2400" spc="-1" strike="noStrike" cap="all">
                <a:solidFill>
                  <a:srgbClr val="ffffff"/>
                </a:solidFill>
                <a:latin typeface="Century Gothic"/>
              </a:rPr>
              <a:t>Ранние половые отношения негативно влияют на молодой несформированный организм. Причиной этого часто является то, что молодые люди не всегда имеют правильную информацию о последствиях</a:t>
            </a: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Рисунок 4" descr="Изображение выглядит как человек, сидит, стена, внутренний&#10;&#10;Описание создано с очень высокой степенью достоверности"/>
          <p:cNvPicPr/>
          <p:nvPr/>
        </p:nvPicPr>
        <p:blipFill>
          <a:blip r:embed="rId1">
            <a:alphaModFix amt="30000"/>
          </a:blip>
          <a:srcRect l="0" t="0" r="0" b="1379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Наше государство в законодательном порядке регламентировало возраст вступающих в брак: в России — это 18 лет. Под большой охраной закона находятся девушки: вступление в половую связь с девушкой моложе 18 лет может привести к возбуждению уголовного дела против юноши. И это не случайно, так как ранняя половая жизнь наиболее отрицательно сказывается на организме девуш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9920" y="764280"/>
            <a:ext cx="625716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2800" spc="-1" strike="noStrike" cap="all">
                <a:solidFill>
                  <a:srgbClr val="ffffff"/>
                </a:solidFill>
                <a:latin typeface="Century Gothic"/>
              </a:rPr>
              <a:t>Среднестатистический портрет современного подростка: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19920" y="2194560"/>
            <a:ext cx="625716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Начало курения – в 10 ле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Употребление алкоголя – в 11 лет Употребление наркотиков - в 12-13 лет  Начало половой жизни – в 14-15 лет Прерывание беременности в 15-17 л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8"/>
          <p:cNvSpPr/>
          <p:nvPr/>
        </p:nvSpPr>
        <p:spPr>
          <a:xfrm>
            <a:off x="7188840" y="0"/>
            <a:ext cx="500328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f2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Рисунок 4" descr="Изображение выглядит как человек, небо, внешний, спорт&#10;&#10;Описание создано с очень высокой степенью достоверности"/>
          <p:cNvPicPr/>
          <p:nvPr/>
        </p:nvPicPr>
        <p:blipFill>
          <a:blip r:embed="rId1"/>
          <a:srcRect l="20760" t="0" r="51942" b="0"/>
          <a:stretch/>
        </p:blipFill>
        <p:spPr>
          <a:xfrm>
            <a:off x="7519320" y="0"/>
            <a:ext cx="4672440" cy="685800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-951840" y="50220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ричин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707480"/>
            <a:ext cx="10820520" cy="45111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Чтобы чувствовать себя менее одиноким или стать популярн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Чтобы продемонстрировать свою независимость от родите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пытка утвердить своё «я»  , потому что очень неуверенно чувствуют себя и хотят таким образом подчеркнуть свою привлекательность. Мужчины пытаются подтвердить свое мужское начало, женщины – доказать всему миру и самим себе, что они желанны, что их могут люби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Чтобы удержать любов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тому что все ЭТО делаю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тому что подружки делятся опыт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31440" y="553320"/>
            <a:ext cx="6257160" cy="5770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а как же пресловутые Ромео и Джульетта, которым было всего по пятнадцать.?Однако в то время когда они жили, и продолжительность жизни была совсем иной не более 40 лет. И за этот короткий промежуток времени нужно было успеть родить достаточное количество детей и воспитать их. И вред от ранней половой жизни не имел особой важности,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 настоящее время же все совсем иначе и жив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ы дольше, да и несоизмеримо лучше. От начала ранней половой жизни в одинаковой степени страдают как мальчики, так и девочки. Девочки, столкнувшись один раз с грубостью и причиненной болью, могут надолго получить отвращение к процессу как таковому вообще. А мальчики если у них все получилось, не так как хотелось бы могут поставить себе в вину мужскую несосто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роме того существует связь между ранней половой жизнью и наступающими впоследствии психиатрическими заболеваниями. А также никто не отменял венерические заболевания, которые, как правило, не принимаются молодежью в расчет. Ранние половые связи и перенесенные венерические заболевания накладывают значительный отпечаток на формирование личности и могут спровоцировать в будущем депрессии.</a:t>
            </a: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5"/>
          <p:cNvSpPr/>
          <p:nvPr/>
        </p:nvSpPr>
        <p:spPr>
          <a:xfrm>
            <a:off x="7188840" y="0"/>
            <a:ext cx="500328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f2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Рисунок 4" descr="Изображение выглядит как дерево, человек, внешний, женщина&#10;&#10;Описание создано с очень высокой степенью достоверности"/>
          <p:cNvPicPr/>
          <p:nvPr/>
        </p:nvPicPr>
        <p:blipFill>
          <a:blip r:embed="rId1"/>
          <a:srcRect l="27011" t="0" r="27510" b="0"/>
          <a:stretch/>
        </p:blipFill>
        <p:spPr>
          <a:xfrm>
            <a:off x="7519320" y="0"/>
            <a:ext cx="4672440" cy="685800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-377640" y="60336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оследств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ранняя беременность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, которая чаще всего заканчивается прерыванием со всеми его негативными последствия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оспалительные заболевания половых путей и опасность заражения болезнями, передающимися половым пут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гинекологические заболевания как следствие аборта, беременности и родов в подростковом возрасте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трудноразрешимые социальные и морально-этические проблемы, связанные с ранним материнством; ранняя половая жизнь опасна тем, что приводит к нарушению гормональной регуляции репродуктивной системы, которая в этом возрасте только налажива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16:29:22Z</dcterms:created>
  <dc:creator/>
  <dc:description/>
  <dc:language>en-US</dc:language>
  <cp:lastModifiedBy/>
  <dcterms:modified xsi:type="dcterms:W3CDTF">2018-12-13T15:32:42Z</dcterms:modified>
  <cp:revision>267</cp:revision>
  <dc:subject/>
  <dc:title>Презентация PowerPoint</dc:title>
</cp:coreProperties>
</file>