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87C-98EC-4193-9DAA-FA8349B1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90FA-68C4-4C59-B3B4-3E75EC77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C53A-B4C4-4869-988D-B289FAE1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D061-7E61-455E-8F35-A0A8E384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D86-DC36-42C8-9625-A44DB935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64A-3A0E-4A2F-A5E8-D9DD286A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495-C314-4AF8-B22E-DB63A62C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33C-5B49-4CA9-8F9B-D1DAC0FA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F30-E529-4744-BD91-38B92A93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207-AD50-475B-BFE2-D7B3AAFE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F5B1-0A78-4D9C-874D-EC4923F7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03C-6EAC-4522-996A-38852455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01EC-C69A-4DA0-801A-8A4A1BD950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ністерство освіти і науки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ківський національний автомобільно-дорожній університет (ХНАД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ільний факуль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технічної експлуатації та сервісу автомобілі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люстративний матеріал до роботи магі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ЗНАЧЕННЯ ОСОБЛИВОСТЕЙ ДІАГНОСТУВАННЯ БЛОКІВ КЕРУВАННЯ АВТОМОБІ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ідувач кафедри  докт. техн. наук, проф.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В.П. Вол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оконтролер канд. техн. наук, доцент                               І.А. Марму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канд. техн. наук, доцент                                            І.Ю. Сарає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гр. Ам- 17-22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М.В. Мілентьє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ків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ОВИДИ ДІАГНОСТИЧНИХ РОЗ'ЄМІВ АВТОМОБІЛЯ 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334800" y="1268280"/>
            <a:ext cx="8413920" cy="502128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8654040" y="147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ІЗНОВИДИ ДІАГНОСТИЧНИХ РОЗ'ЄМІВ АВТОМОБІЛЯ HONDA CIV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886600" cy="509112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8682120" y="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OBD ДІАГНОСТИЧНИЙ РОЗ'ЄМ SKODA OCT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50403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8604360" y="19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ДІАГНОСТУВАННЯ ЕБ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78000" y="692280"/>
            <a:ext cx="8658000" cy="559116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8609040" y="179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ДІАГНОСТУВАННЯ ЕБ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7" descr="Описание: d:\Desktop\диогностика\все по диогностике\скриншоты проверок\Ричард\Выбор проверки.bmp"/>
          <p:cNvPicPr/>
          <p:nvPr/>
        </p:nvPicPr>
        <p:blipFill>
          <a:blip r:embed="rId1"/>
          <a:stretch/>
        </p:blipFill>
        <p:spPr>
          <a:xfrm>
            <a:off x="468360" y="765000"/>
            <a:ext cx="3959280" cy="34657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"/>
          <p:cNvPicPr/>
          <p:nvPr/>
        </p:nvPicPr>
        <p:blipFill>
          <a:blip r:embed="rId2"/>
          <a:stretch/>
        </p:blipFill>
        <p:spPr>
          <a:xfrm>
            <a:off x="4541760" y="765000"/>
            <a:ext cx="4311720" cy="34513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7" descr=""/>
          <p:cNvPicPr/>
          <p:nvPr/>
        </p:nvPicPr>
        <p:blipFill>
          <a:blip r:embed="rId3"/>
          <a:stretch/>
        </p:blipFill>
        <p:spPr>
          <a:xfrm>
            <a:off x="388800" y="3573360"/>
            <a:ext cx="4111920" cy="2836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1" descr=""/>
          <p:cNvPicPr/>
          <p:nvPr/>
        </p:nvPicPr>
        <p:blipFill>
          <a:blip r:embed="rId4"/>
          <a:stretch/>
        </p:blipFill>
        <p:spPr>
          <a:xfrm>
            <a:off x="4541760" y="4187880"/>
            <a:ext cx="4351320" cy="21938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>
            <a:off x="8609040" y="179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78920"/>
            <a:ext cx="8229600" cy="59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ізноманіття моделей автомобілів, потребуючих в різних програмах управління і базах даних, вимагає обов'язкового зменшення типажу блоків управління, необхідних для конкретного виготівника автомобілів. Для цього весь діапазон пам'яті Flash-EPROM з програмами і специфічним для конкретного варіанту набором даних може програмуватися на кінцевій стадії виробництва автомобіля за допомогою так званого програмування EoL (End Line — кінець потокової лінії збірк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 даній роботі представлені розробка й вибір алгоритму процесу діагностики електронних блоків керування за допомогою діагностичного обладнання фірми «BOSСH». Також у роботі розглянуті міжнародні стандарти діагностики автомобіля. Проведено порівняльний аналіз існуючих протоколів діагностування, виконані експериментальні перевірки блоків керування різних автомобіл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аналізовано структура до класифікації кодів помилок. У відповідності зі стандартом ОВD-П коди помилок алфавітно-цифрові, містять п'ять символів, наприклад, РО113. Перший символ - буква, яка вказує на систему, в якій сталася несправність. Другий символ - цифра вказує, як визначений код: за допомогою SАЕ або виробником автомобіля. Решта три цифри вказують характер несправност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озглянуто та побудовано алгоритми процесу діагностики ЕБК. Процес діагностування полягає в сприйнятті діагностичних параметрів (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виміру їхніх величин, що визначають у відомому масштабі параметри технічного стану 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X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механізму, і видачі висновку на основі зіставлення обмірюваних величин із допустимими (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1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2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., 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n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або граничними (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1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2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n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еличи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оведено експерименти досліджень електронних блоків керування автомобілів таких, як Ford Mondeo, Skoda Octavia, Honda Civ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8609040" y="179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І ХАРАКТЕРИСТИКИ РОБО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280" y="1125360"/>
            <a:ext cx="842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робот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дослідити процес діагностування ЕБК автомобіля за різними стандартами протоколі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дослідженн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аналізувати міжнародні стандарти та протоколи діагностуван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вчити характерні несправності, що виникають при діагностування електричних систем автомобі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озглянути види діагностичних роз'ємів різних автомобілів, виявити особливост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оаналізувати структуру до класифікації кодів помил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овести експериментальні дослід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'єкт дослідження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іжнародні стандарти діагностування блоку управління автомобі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 дослідження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цес діагностування автомобілів з ЕБ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 дослідженн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наліз роботи електронних блоків керування; аналіз міжнародних вимог до стандартів бортової діагностики; експериментальні дослідження та діагностика електронних блоків керування автомобі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884700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224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УЧАСНІ СТАНДАРТИ ТА МЕТОДИ БОРТОВОЇ ДІАГНО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2680" y="674640"/>
          <a:ext cx="8462880" cy="6058080"/>
        </p:xfrm>
        <a:graphic>
          <a:graphicData uri="http://schemas.openxmlformats.org/drawingml/2006/table">
            <a:tbl>
              <a:tblPr/>
              <a:tblGrid>
                <a:gridCol w="2863800"/>
                <a:gridCol w="2235240"/>
                <a:gridCol w="3363840"/>
              </a:tblGrid>
              <a:tr h="396720">
                <a:tc grid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това діагностика (OB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63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іфорнійський стандарт бортової діагностики(CARD-OB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ерикансь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  бортової діагностики (EPA-OB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вропейський стандарт бортової діагностики (EOB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відносних велич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абсолютних велич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168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есправність призводить до концентрації шкідливих речовин більше 1,15 - кратних межових значень: - Індикації виду дефекту тільки за допомогою тестера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Несправність приводить до концентрацій шкідливих речовин більше предельного значення: - перевірка на функціональність; - індикація виду дефекту за допомогою індикаторної лампи несправності; - індикація виду дефекту за допомогою приладу для сканування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есправність приводить до концентрацій шкідливих речовин більше 1,5-кратного предельного значення: - якісна функціональна перевірка; - індикація виду дефекту за допомогою індикаторної лампи дефект і використання приладу для скануванн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есправність призводить до концентрації шкідливих речовин більше граничного значенн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онтроль електричних приводів або достовірність  макс. значен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індикація виду дефекту за допомогою індикаторної лампи несправності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індикація виду дефекту за допомогою приладу для скануванн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онтракція шкідливих речовин більше граничного значенн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якісна функціональна перевірці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індикація виду дефекту за допомогою індикаторної лампи несправності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індикація виду дефектів за допомогою приладу для скануванн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116"/>
          <p:cNvSpPr/>
          <p:nvPr/>
        </p:nvSpPr>
        <p:spPr>
          <a:xfrm>
            <a:off x="884700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ерелік протоколів ОВD-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7280" y="1079640"/>
          <a:ext cx="8605800" cy="530208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71560"/>
                <a:gridCol w="1641600"/>
                <a:gridCol w="177948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765-4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O 14230-4 (KWP2000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о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ні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O 9141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ліні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E J1850 VPW (Variable Pulse Widt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A J1850 PWM (Pulse-Width Modul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0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і  модел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d, Jagua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yota, Lexu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ault, WV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geot, Audi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rysler, Volvo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edes,Opel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a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ewoo, KIA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aru 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кі модел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ed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і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ura, Honda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inity, Lexu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ssan, Toyo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вроп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edes, WV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sche, Audi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, B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ні модел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rysler, Eagle, Dodge,Plymouth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ick,Cadillac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vrole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dge, GMC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mmer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uzu, Pontiac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ldsmobil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tur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d, Lincol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ury, Jagu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z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62"/>
          <p:cNvSpPr/>
          <p:nvPr/>
        </p:nvSpPr>
        <p:spPr>
          <a:xfrm>
            <a:off x="884700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ЛЕКТРОННІ СИСТЕМИ УПРАВЛІННЯ АВТОМОБІ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876276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1042920" y="40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унок 1 – Основні електронні системи управління автомобіл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5508720" y="4076640"/>
            <a:ext cx="352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атчики і задаючи генератори; 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Електронний блок управління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Виконавчі механізми (приводи); 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Інтерфейс для зв'язку з іншими системами; 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Діагностичний інтерфей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унок 2 – Компоненти електронної систе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2916360" y="5194440"/>
            <a:ext cx="21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унок 3 - Сигнали широтно-імпульсної модуляці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34920" y="907920"/>
            <a:ext cx="5927760" cy="307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2"/>
          <a:srcRect l="0" t="13887" r="0" b="0"/>
          <a:stretch/>
        </p:blipFill>
        <p:spPr>
          <a:xfrm>
            <a:off x="6156360" y="1000080"/>
            <a:ext cx="2484360" cy="301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"/>
          <p:cNvPicPr/>
          <p:nvPr/>
        </p:nvPicPr>
        <p:blipFill>
          <a:blip r:embed="rId3"/>
          <a:srcRect l="11270" t="11857" r="9803" b="18712"/>
          <a:stretch/>
        </p:blipFill>
        <p:spPr>
          <a:xfrm>
            <a:off x="900000" y="4724280"/>
            <a:ext cx="18432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ОЦЕСИ ДІАГНОСТИКИ ТА МЕТОДИ УСУНЕННЯ НЕСПРАВНОСТЕЙ У СИСТЕМАХ CARB-OBD І EPA-O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9640" y="1566720"/>
          <a:ext cx="8158320" cy="4526280"/>
        </p:xfrm>
        <a:graphic>
          <a:graphicData uri="http://schemas.openxmlformats.org/drawingml/2006/table">
            <a:tbl>
              <a:tblPr/>
              <a:tblGrid>
                <a:gridCol w="4043520"/>
                <a:gridCol w="4114800"/>
              </a:tblGrid>
              <a:tr h="5763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това діагностика (CARD-OBD) і (ЕPA-OB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ідвищення токсичності В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 діагност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Неісправность призводить до концентрації шкідливих речовин більше 1,15 кратного граничного 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Неісправность призводить до концентрації шкідливих речовин більше 1,5 кратного граничного 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тільки за допомогою тестер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еревірка на функціональність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індикаторної лампи несправност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приладу для скануванн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Якісна функціональна перевір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індикаторної лампи несправності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приладу для скан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47"/>
          <p:cNvSpPr/>
          <p:nvPr/>
        </p:nvSpPr>
        <p:spPr>
          <a:xfrm>
            <a:off x="8803440" y="6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ІАГНОСТИКА ТА МЕТОДИ УСУНЕННЯ НЕСПРАВНОСТЕЙ У СИСТЕМІ EO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600200"/>
          <a:ext cx="8218440" cy="4311720"/>
        </p:xfrm>
        <a:graphic>
          <a:graphicData uri="http://schemas.openxmlformats.org/drawingml/2006/table">
            <a:tbl>
              <a:tblPr/>
              <a:tblGrid>
                <a:gridCol w="4103640"/>
                <a:gridCol w="4114800"/>
              </a:tblGrid>
              <a:tr h="6048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това діагностика EOB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ідвищення токсичності В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 діагност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есправність призводить до концентрації шкідливих речовин більше 1,15 кратного граничного значе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онцепція шкідливих речовин більше 1,5 кратного граничного значе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нтроль електричних проводів або достовірності макс. значень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індикаторної лампи несправност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приладу для скануванн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якісна функціональна перевір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індикаторної лампи несправності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приладу для скан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32"/>
          <p:cNvSpPr/>
          <p:nvPr/>
        </p:nvSpPr>
        <p:spPr>
          <a:xfrm>
            <a:off x="884772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ДИ ДІАГНОСТИЧНИХ РОЗ'ЄМ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A-44 BMW"/>
          <p:cNvPicPr/>
          <p:nvPr/>
        </p:nvPicPr>
        <p:blipFill>
          <a:blip r:embed="rId1"/>
          <a:srcRect l="0" t="4698" r="0" b="0"/>
          <a:stretch/>
        </p:blipFill>
        <p:spPr>
          <a:xfrm>
            <a:off x="144360" y="993600"/>
            <a:ext cx="4427640" cy="574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разъём мерс"/>
          <p:cNvPicPr/>
          <p:nvPr/>
        </p:nvPicPr>
        <p:blipFill>
          <a:blip r:embed="rId2"/>
          <a:srcRect l="0" t="0" r="11922" b="0"/>
          <a:stretch/>
        </p:blipFill>
        <p:spPr>
          <a:xfrm>
            <a:off x="4643280" y="549360"/>
            <a:ext cx="4345200" cy="6237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73080" y="531720"/>
            <a:ext cx="42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W 3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ерия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E 90/91/92/93] KTS 520,550,65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468360" y="62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874872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873360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и діагностичних роз'єм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3" descr="Ягуар"/>
          <p:cNvPicPr/>
          <p:nvPr/>
        </p:nvPicPr>
        <p:blipFill>
          <a:blip r:embed="rId1"/>
          <a:stretch/>
        </p:blipFill>
        <p:spPr>
          <a:xfrm>
            <a:off x="0" y="1125360"/>
            <a:ext cx="4500720" cy="2656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4"/>
          <p:cNvSpPr/>
          <p:nvPr/>
        </p:nvSpPr>
        <p:spPr>
          <a:xfrm>
            <a:off x="0" y="620640"/>
            <a:ext cx="45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GUAR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ая информац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D(CARB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TS 520,550,6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7" descr="Копия кабели"/>
          <p:cNvPicPr/>
          <p:nvPr/>
        </p:nvPicPr>
        <p:blipFill>
          <a:blip r:embed="rId2"/>
          <a:stretch/>
        </p:blipFill>
        <p:spPr>
          <a:xfrm>
            <a:off x="4500720" y="1197000"/>
            <a:ext cx="4643280" cy="5661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8"/>
          <p:cNvSpPr/>
          <p:nvPr/>
        </p:nvSpPr>
        <p:spPr>
          <a:xfrm>
            <a:off x="4643280" y="620640"/>
            <a:ext cx="45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FA ROMEO ALFA 145 1.6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позитный двигатель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tronic MP3.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KTS 520,550,6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1" descr="dodgge viper"/>
          <p:cNvPicPr/>
          <p:nvPr/>
        </p:nvPicPr>
        <p:blipFill>
          <a:blip r:embed="rId3"/>
          <a:stretch/>
        </p:blipFill>
        <p:spPr>
          <a:xfrm>
            <a:off x="0" y="4437000"/>
            <a:ext cx="4500720" cy="2421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2"/>
          <p:cNvSpPr/>
          <p:nvPr/>
        </p:nvSpPr>
        <p:spPr>
          <a:xfrm>
            <a:off x="0" y="3933720"/>
            <a:ext cx="45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GE VAIPER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09/2002 KTS 520,550,6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3"/>
          <p:cNvSpPr/>
          <p:nvPr/>
        </p:nvSpPr>
        <p:spPr>
          <a:xfrm>
            <a:off x="8676360" y="20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9:08:01Z</dcterms:created>
  <dc:creator/>
  <dc:description/>
  <dc:language>en-US</dc:language>
  <cp:lastModifiedBy>Алексей</cp:lastModifiedBy>
  <cp:lastPrinted>2018-12-11T06:51:19Z</cp:lastPrinted>
  <dcterms:modified xsi:type="dcterms:W3CDTF">2018-12-13T06:57:18Z</dcterms:modified>
  <cp:revision>71</cp:revision>
  <dc:subject/>
  <dc:title>Презентация PowerPoint</dc:title>
</cp:coreProperties>
</file>