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29C-7C36-4B86-9A58-8A55F5C2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A00-56D2-4A5C-974F-D611EE3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2F8-1A15-4FC0-A5A7-4E7178DC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18A-F991-46DA-A8A4-EB6E590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767-C2C0-4B9F-8495-79EAFC7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433-0C82-4184-8B63-13038F2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5E3-A1CD-4431-9934-02DE88A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658-1550-4E5D-86FA-16EA8523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676-1F83-4D1F-ADF7-5212511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FCE-146F-420D-974C-1F910DEB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860-C9D8-4CF2-9631-D321C2BF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716-7B74-460C-9795-A3C505E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0404-0CCD-4B72-9CF0-ACF1782DA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автомобільно-дорожній університет (ХНА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ільн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ехнічної експлуатації та сервісу автомобілі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стративний матеріал до роботи магі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ЕННЯ ОСОБЛИВОСТЕЙ ДІАГНОСТУВАННЯ БЛОКІВ КЕРУВАННЯ АВТОМОБІ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ідувач кафедри  докт. техн. наук, проф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.П. Во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оконтролер канд. техн. наук, доцент                               І.А. Марм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канд. техн. наук, доцент                                            І.Ю. Сарає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Ам- 17-22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М.В. Мілентьє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ДІАГНОСТИЧНИХ РОЗ'ЄМІВ АВТОМОБІЛЯ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8413920" cy="5021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8654040" y="14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ЗНОВИДИ ДІАГНОСТИЧНИХ РОЗ'ЄМІВ АВТОМОБІЛЯ HONDA CI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86600" cy="5091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8682120" y="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BD ДІАГНОСТИЧНИЙ РОЗ'ЄМ SKODA OCT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8604360" y="1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78000" y="692280"/>
            <a:ext cx="8658000" cy="5591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Описание: d:\Desktop\диогностика\все по диогностике\скриншоты проверок\Ричард\Выбор проверки.bmp"/>
          <p:cNvPicPr/>
          <p:nvPr/>
        </p:nvPicPr>
        <p:blipFill>
          <a:blip r:embed="rId1"/>
          <a:stretch/>
        </p:blipFill>
        <p:spPr>
          <a:xfrm>
            <a:off x="468360" y="765000"/>
            <a:ext cx="3959280" cy="3465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"/>
          <p:cNvPicPr/>
          <p:nvPr/>
        </p:nvPicPr>
        <p:blipFill>
          <a:blip r:embed="rId2"/>
          <a:stretch/>
        </p:blipFill>
        <p:spPr>
          <a:xfrm>
            <a:off x="4541760" y="765000"/>
            <a:ext cx="4311720" cy="345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3"/>
          <a:stretch/>
        </p:blipFill>
        <p:spPr>
          <a:xfrm>
            <a:off x="388800" y="3573360"/>
            <a:ext cx="4111920" cy="2836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1" descr=""/>
          <p:cNvPicPr/>
          <p:nvPr/>
        </p:nvPicPr>
        <p:blipFill>
          <a:blip r:embed="rId4"/>
          <a:stretch/>
        </p:blipFill>
        <p:spPr>
          <a:xfrm>
            <a:off x="4541760" y="4187880"/>
            <a:ext cx="4351320" cy="2193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78920"/>
            <a:ext cx="822960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ізноманіття моделей автомобілів, потребуючих в різних програмах управління і базах даних, вимагає обов'язкового зменшення типажу блоків управління, необхідних для конкретного виготівника автомобілів. Для цього весь діапазон пам'яті Flash-EPROM з програмами і специфічним для конкретного варіанту набором даних може програмуватися на кінцевій стадії виробництва автомобіля за допомогою так званого програмування EoL (End Line — кінець потокової лінії збір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даній роботі представлені розробка й вибір алгоритму процесу діагностики електронних блоків керування за допомогою діагностичного обладнання фірми «BOSСH». Також у роботі розглянуті міжнародні стандарти діагностики автомобіля. Проведено порівняльний аналіз існуючих протоколів діагностування, виконані експериментальні перевірки блоків керування різних автомобіл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аналізовано структура до класифікації кодів помилок. У відповідності зі стандартом ОВD-П коди помилок алфавітно-цифрові, містять п'ять символів, наприклад, РО113. Перший символ - буква, яка вказує на систему, в якій сталася несправність. Другий символ - цифра вказує, як визначений код: за допомогою SАЕ або виробником автомобіля. Решта три цифри вказують характер несправност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озглянуто та побудовано алгоритми процесу діагностики ЕБК. Процес діагностування полягає в сприйнятті діагностичних параметрів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иміру їхніх величин, що визначають у відомому масштабі параметри технічного стану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ханізму, і видачі висновку на основі зіставлення обмірюваних величин із допустим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бо граничн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елич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дено експерименти досліджень електронних блоків керування автомобілів таких, як Ford Mondeo, Skoda Octavia, Honda Civ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І ХАРАКТЕРИСТИКИ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125360"/>
            <a:ext cx="842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лідити процес діагностування ЕБК автомобіля за різними стандартами протокол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слідженн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ізувати міжнародні стандарти та протоколи діагностув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вчити характерні несправності, що виникають при діагностування електричних систем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зглянути види діагностичних роз'ємів різних автомобілів, виявити особлив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аналізувати структуру до класифікації кодів поми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сти експериментальні дослі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жнародні стандарти діагностування блоку управлі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 діагностування автомобілів з ЕБ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аліз роботи електронних блоків керування; аналіз міжнародних вимог до стандартів бортової діагностики; експериментальні дослідження та діагностика електронних блоків керува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24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ЧАСНІ СТАНДАРТИ ТА МЕТОДИ БОРТОВОЇ ДІ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2680" y="674640"/>
          <a:ext cx="8462880" cy="6058080"/>
        </p:xfrm>
        <a:graphic>
          <a:graphicData uri="http://schemas.openxmlformats.org/drawingml/2006/table">
            <a:tbl>
              <a:tblPr/>
              <a:tblGrid>
                <a:gridCol w="2863800"/>
                <a:gridCol w="2235240"/>
                <a:gridCol w="3363840"/>
              </a:tblGrid>
              <a:tr h="39672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това діагностика (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форнійський стандарт бортової діагностики(CARD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нс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 бортової діагностики (EPA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ейський стандарт бортової діагностики (E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іднос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бсолют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168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1,15 - кратних межових значень: - Індикації виду дефекту тільки за допомогою тестер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справність приводить до концентрацій шкідливих речовин більше предельного значення: - перевірка на функціональність; - індикація виду дефекту за допомогою індикаторної лампи несправності; - індикація виду дефекту за допомогою приладу для скануванн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справність приводить до концентрацій шкідливих речовин більше 1,5-кратного предельного значення: - якісна функціональна перевірка; - індикація виду дефекту за допомогою індикаторної лампи дефект і використання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нтроль електричних приводів або достовірність  макс. значен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приладу для скануванн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тракція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кісна функціональна перевірц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ів за допомогою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елік протоколів ОВD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7280" y="1079640"/>
          <a:ext cx="8605800" cy="53020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71560"/>
                <a:gridCol w="1641600"/>
                <a:gridCol w="17794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765-4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14230-4 (KWP200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914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E J1850 VPW (Variable Pulse Wid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J1850 PWM (Pulse-Width Modul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0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і  модел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Jagua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yota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ault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geot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Volv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Ope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ewoo, K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aru 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к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і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ra, Hond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inity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san, Toy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sche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, B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Eagle, Dodge,Plymouth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ck,Cadilla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vrole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dge, GM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m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uzu, Pontiac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dsmobi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u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Lincol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ury, Jag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z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62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ЛЕКТРОННІ СИСТЕМИ УПРАВЛІННЯ АВТОМОБІ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76276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42920" y="40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1 – Основні електронні системи управління автомобі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508720" y="407664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атчики і задаючи генератори;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Електронний блок управлінн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иконавчі механізми (приводи);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нтерфейс для зв'язку з іншими системами;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Діагностичний і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2 – Компоненти електронної систе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916360" y="5194440"/>
            <a:ext cx="21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3 - Сигнали широтно-імпульсної модуля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5927760" cy="307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rcRect l="0" t="13887" r="0" b="0"/>
          <a:stretch/>
        </p:blipFill>
        <p:spPr>
          <a:xfrm>
            <a:off x="6156360" y="1000080"/>
            <a:ext cx="248436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3"/>
          <a:srcRect l="11270" t="11857" r="9803" b="18712"/>
          <a:stretch/>
        </p:blipFill>
        <p:spPr>
          <a:xfrm>
            <a:off x="900000" y="4724280"/>
            <a:ext cx="1843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ЦЕСИ ДІАГНОСТИКИ ТА МЕТОДИ УСУНЕННЯ НЕСПРАВНОСТЕЙ У СИСТЕМАХ CARB-OBD І EPA-O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566720"/>
          <a:ext cx="8158320" cy="4526280"/>
        </p:xfrm>
        <a:graphic>
          <a:graphicData uri="http://schemas.openxmlformats.org/drawingml/2006/table">
            <a:tbl>
              <a:tblPr/>
              <a:tblGrid>
                <a:gridCol w="4043520"/>
                <a:gridCol w="4114800"/>
              </a:tblGrid>
              <a:tr h="576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(CARD-OBD) і (ЕPA-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ісправность призводить до концентрації шкідливих речовин більше 1,1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ісправность призводить до концентрації шкідливих речовин більше 1,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тільки за допомогою тестер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еревірка на функціональні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47"/>
          <p:cNvSpPr/>
          <p:nvPr/>
        </p:nvSpPr>
        <p:spPr>
          <a:xfrm>
            <a:off x="88034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АГНОСТИКА ТА МЕТОДИ УСУНЕННЯ НЕСПРАВНОСТЕЙ У СИСТЕМІ EO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600200"/>
          <a:ext cx="8218440" cy="43117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604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EO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справність призводить до концентрації шкідливих речовин більше 1,1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онцепція шкідливих речовин більше 1,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троль електричних проводів або достовірності макс. значен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32"/>
          <p:cNvSpPr/>
          <p:nvPr/>
        </p:nvSpPr>
        <p:spPr>
          <a:xfrm>
            <a:off x="884772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-44 BMW"/>
          <p:cNvPicPr/>
          <p:nvPr/>
        </p:nvPicPr>
        <p:blipFill>
          <a:blip r:embed="rId1"/>
          <a:srcRect l="0" t="4698" r="0" b="0"/>
          <a:stretch/>
        </p:blipFill>
        <p:spPr>
          <a:xfrm>
            <a:off x="144360" y="993600"/>
            <a:ext cx="4427640" cy="574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разъём мерс"/>
          <p:cNvPicPr/>
          <p:nvPr/>
        </p:nvPicPr>
        <p:blipFill>
          <a:blip r:embed="rId2"/>
          <a:srcRect l="0" t="0" r="11922" b="0"/>
          <a:stretch/>
        </p:blipFill>
        <p:spPr>
          <a:xfrm>
            <a:off x="4643280" y="549360"/>
            <a:ext cx="4345200" cy="623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73080" y="531720"/>
            <a:ext cx="42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W 3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и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E 90/91/92/93] KTS 520,550,65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68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7487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7336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3" descr="Ягуар"/>
          <p:cNvPicPr/>
          <p:nvPr/>
        </p:nvPicPr>
        <p:blipFill>
          <a:blip r:embed="rId1"/>
          <a:stretch/>
        </p:blipFill>
        <p:spPr>
          <a:xfrm>
            <a:off x="0" y="1125360"/>
            <a:ext cx="4500720" cy="2656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4"/>
          <p:cNvSpPr/>
          <p:nvPr/>
        </p:nvSpPr>
        <p:spPr>
          <a:xfrm>
            <a:off x="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GUA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D(CARB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7" descr="Копия кабели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566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8"/>
          <p:cNvSpPr/>
          <p:nvPr/>
        </p:nvSpPr>
        <p:spPr>
          <a:xfrm>
            <a:off x="464328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A ROMEO ALFA 145 1.6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позитный двигатель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tronic MP3.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1" descr="dodgge viper"/>
          <p:cNvPicPr/>
          <p:nvPr/>
        </p:nvPicPr>
        <p:blipFill>
          <a:blip r:embed="rId3"/>
          <a:stretch/>
        </p:blipFill>
        <p:spPr>
          <a:xfrm>
            <a:off x="0" y="4437000"/>
            <a:ext cx="4500720" cy="2421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0" y="3933720"/>
            <a:ext cx="45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GE VAIP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9/2002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8676360" y="2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08:01Z</dcterms:created>
  <dc:creator/>
  <dc:description/>
  <dc:language>en-US</dc:language>
  <cp:lastModifiedBy>Алексей</cp:lastModifiedBy>
  <cp:lastPrinted>2018-12-11T06:51:19Z</cp:lastPrinted>
  <dcterms:modified xsi:type="dcterms:W3CDTF">2018-12-13T06:57:18Z</dcterms:modified>
  <cp:revision>71</cp:revision>
  <dc:subject/>
  <dc:title>Презентация PowerPoint</dc:title>
</cp:coreProperties>
</file>