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AC4-EA7B-4460-A492-9448AAA4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CEA-FFED-46D1-893C-9AE81C2F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6BB-9346-45BB-8DD8-469E02ED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7E3-34E3-4BE5-A6D3-A3014290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ECFC-B793-4945-8DB3-8F66CB0A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DF40-E7AE-4228-B4F3-08864EFF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72A9-E749-4F8B-B1C0-B5598D41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E759-1788-40BF-9515-4F18E12F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D0E9-1E0C-439A-8644-09E1DBC1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A1BB-4CE4-422C-BDC3-D65E7A10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B134-5E15-41CC-8A2B-E47DD13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8A4-EB05-4F1A-973D-3E488CD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13AC-E229-4E06-82BC-94B9014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4074-7650-4C85-8C0B-AB3C5AC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130-5A94-4B8C-BECC-B76A60BF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EC74-7947-40BD-971F-99FA949E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0C3-CE14-454C-9290-50E59529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846-58D2-461F-BCA2-C5A4865F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F85-FE16-46AE-B1E4-0E6D40A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887-0DCF-4A73-BA46-310F636B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014-5C70-47ED-A2E6-84645F0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647-7314-46F1-9084-1C75DD2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AC3-DBEC-4A3C-B3AF-822C54C7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70F-3F35-4F3F-B7B3-59AFF37F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C0FE-C51F-4F6C-9B51-EC61116649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EB9-3267-49B2-B695-0A338A9CBA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4104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Порядок слов 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в английском предложении</a:t>
            </a:r>
            <a:endParaRPr b="0" lang="en-US" sz="66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Альтернативный вопрос </a:t>
            </a: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(alternative question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труктура такая же, как у общего вопроса, но после союза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(или) добавляется однородный член предложения, альтернативный тому, к которому задается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d you g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to the club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to the cinema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ester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ill you b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sing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n actres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 альтернативного вопроса повышается на первом (первых, если их несколько) предлагаемом ответе и падает на послед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like    tennis or    swimm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you have    tea,   coffee or    jui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50864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4652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40360" y="4508640"/>
            <a:ext cx="28548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3429000"/>
            <a:ext cx="28584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72000" y="350028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Специальный вопрос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Wh-question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 или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Special Question</a:t>
            </a: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Это вопрос с вопросительны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Специальные вопросы адресуются к подлежащему и к другим членам предл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Вопросы к подлежащему имеют особую структу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Gothic"/>
              </a:rPr>
              <a:t>Структура специального вопроса к подлежащему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опросительное слово </a:t>
            </a:r>
            <a:r>
              <a:rPr b="0" lang="en-US" sz="2800" spc="-1" strike="noStrike">
                <a:solidFill>
                  <a:srgbClr val="ffff00"/>
                </a:solidFill>
                <a:latin typeface="Century Gothic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, если подлежащее выражено неодушевленным существительны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Глагол в форме, употребляемой в повествовательном предлож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o goes to the swimming-pool twice a wee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Структура специального вопроса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к другим членам предложения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5802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просительное сло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спомогательный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ли модальный глагол в нужной фор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длежащ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сновная форма глаго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Например: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di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g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for yo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brok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he v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3628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нтонация специального вопроса характеризуется падением тона в кон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ere does he     l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can you    help 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4221000"/>
            <a:ext cx="3585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2000" y="537372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Gothic"/>
              </a:rPr>
              <a:t>Разделительный</a:t>
            </a: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 вопрос</a:t>
            </a: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ag Question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 своей основной части это утвердительное (или отрицательное) предлож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сле запятой к предложению присоединяется 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«хвост»,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состоящий из соответствующего вспомогательного глагола, отрицания (если его не было в основной части) и подлежащего, выраженного местоим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а русский язык «хвост» разделительного вопроса переводится 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«не так ли?», «не правда ли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 student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are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a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t the theatre yesterday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as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s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Joh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be an engineer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o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have no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one their homework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speak English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 разделительного вопроса характеризуется падением в конце основной части. Интонация «хвоста» может повышаться (если говорящий не уверен в своей правоте), и понижаться (если говорящий не сомневаетс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   doctor,     aren’t you?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ворящий сомневаетс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   doctor,     aren’t you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говорящий уверен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11280" y="3500280"/>
            <a:ext cx="3603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140360" y="3500280"/>
            <a:ext cx="35856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501336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01336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 отличие от русского языка, английский язык имеет фиксированный порядок сл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Все члены предложения имеют свое строго установленное место в предло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Порядок слов в повествовательном предложении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)Подлежаще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) Сказуем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e go to the park ever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ногда обстоятельство (как правило, если оно состоит из одного слова) может стоять перед сказуем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usually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 go to the park every mor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Порядок слов в отрицательном предложении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1)Подлежаще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2) Сказуемое: вспомогательный глагол в нужной временной форме + частица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t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+ основной глаг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W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do not go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to the park every d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My mother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will not read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this bo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стоятельство времени/ образа действия может стоять после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t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д основным глаго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 don’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Century Gothic"/>
              </a:rPr>
              <a:t>often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 play computer ga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Gothic"/>
              </a:rPr>
              <a:t>Порядок слов в вопросительном предложении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нглийском языке существует 4 типа вопрос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и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/No 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ь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-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33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делительный вопрос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495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Общий вопрос</a:t>
            </a: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 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Yes/No question/ general question</a:t>
            </a: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спомогательный глагол в нужной временной форм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Основной глаг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торостепенные члены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you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sleep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well at nigh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n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becom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 teac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Интонация общего вопроса характеризуется повышением тона в конце предло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an you speak English  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you an engi  ne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03640" y="3284280"/>
            <a:ext cx="2890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635280" y="414972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Краткий ответ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на общий вопрос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бщий вопрос обычно требует краткого отве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труктура краткого ответа так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Yes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ответствующее местоим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спомогательный или модальный глагол в той временной форме, которая использовалась в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Частица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t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, если ответ начинается с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8000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Краткий ответ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entury Gothic"/>
              </a:rPr>
              <a:t>на общий вопрос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Наприм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go to the library yesterd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dn'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y student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the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en'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drive a car? – Yes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e live her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, 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/ No, s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esn’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59:15Z</dcterms:created>
  <dc:creator>Zver</dc:creator>
  <dc:description/>
  <dc:language>en-US</dc:language>
  <cp:lastModifiedBy>Елена</cp:lastModifiedBy>
  <dcterms:modified xsi:type="dcterms:W3CDTF">2008-08-21T09:46:21Z</dcterms:modified>
  <cp:revision>9</cp:revision>
  <dc:subject/>
  <dc:title>Порядок слов  в английском предложении</dc:title>
</cp:coreProperties>
</file>