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DA5-A158-436C-90ED-1D7EE218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7C8-17BA-4151-8FAB-0EEB3A3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2CA-81F9-4C55-9F6E-1384AA52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9B9-54C0-4E65-8BA7-28E111B6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5BBB-B3F8-4098-84B4-21F10810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98D9-3D55-4964-9270-8CB6441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8DE-2C38-4C84-8ED2-4FBDAE13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2E1-1669-470C-AA68-B5E9877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01B2-0334-4778-885F-06683100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3152-BC55-49B0-8164-875964B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E7C9-C5A3-4B50-99D8-E0F2D1A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8B7-FBFC-464C-87A2-13F2E3D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B1CF-C259-4BAD-9B27-E764653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0901-0B45-4286-AFCA-8FFF2F2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307-2380-4BD1-A5B6-69FB72A8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349-EE0A-4186-BFB5-88518FB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EB5-34BF-4F98-AAF4-DAADA28A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322-D361-4683-A48C-93BCFACD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B4C-1977-410E-AE01-E3F6A72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4B9-3C7F-4CAE-BE95-93D9F51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32D-1A3E-4898-BABC-530C78CB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655-E2A5-4DBA-ADC2-B1B1553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141-BBBA-4DA8-B6F6-F54BC0A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331-7FA4-44B8-A66A-0BE70DB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864-883A-4083-B265-279CD1045D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BBA3-DEC5-44E7-8DCA-75CA0EDFC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4104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Порядок слов 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в английском предложении</a:t>
            </a:r>
            <a:endParaRPr b="0" lang="en-US" sz="66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Альтернативный вопрос 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(alternative question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труктура такая же, как у общего вопроса, но после союза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(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lub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inema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альтернативного вопроса повышается на первом (первых, если их несколько) предлагаемом ответе и падает на послед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like    tennis or    swimm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you have    tea,   coffee or    ju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50864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4652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4508640"/>
            <a:ext cx="28548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42900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пециальный вопрос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Wh-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 или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Special 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к подлежащему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к другим членам предложения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3628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специального вопроса характеризуется падением тона в ко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ere does he    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can you    help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4221000"/>
            <a:ext cx="3585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373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Разделительный</a:t>
            </a: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 вопрос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ag Question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хвост»,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состоящий 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 русский язык «хвост» разделительного вопроса переводи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не так ли?», «не правда ли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разделительного вопроса характеризуется падением в конце основной части. Интонация «хвоста» может повышаться (если говорящий не уверен в своей правоте), и понижаться (если говорящий не сомневаетс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ворящий сомневае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говорящий увере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140360" y="3500280"/>
            <a:ext cx="3585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повествова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Порядок слов в отрицательном предложении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вопроси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/No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-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ите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495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Общий вопрос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Yes/No question/ general question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общего вопроса характеризуется повышением тона в конце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an you speak English  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you an engi  ne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03640" y="3284280"/>
            <a:ext cx="289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635280" y="4149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go to the library yester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tudent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drive a car? – 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live he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Елена</cp:lastModifiedBy>
  <dcterms:modified xsi:type="dcterms:W3CDTF">2008-08-21T09:46:21Z</dcterms:modified>
  <cp:revision>9</cp:revision>
  <dc:subject/>
  <dc:title>Порядок слов  в английском предложении</dc:title>
</cp:coreProperties>
</file>