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7F4-AC5C-4909-9EAC-BD3AEF52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1C5-D2A9-411C-BF30-CF572EA8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7DC-05D0-43BC-9BB3-B40CF908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AFA-65D6-4483-8D3D-9D134F8A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04CF-D40B-48CA-A988-EEA9B0FA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852A-8910-4956-80D3-8834C7A3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672D-F42F-402C-8D96-57AF3BD7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30DD-29CB-4795-8A87-B0000454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9EDB-705A-40F8-8DA6-8A67C53C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B0B3-6446-41CF-817A-6858561D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2F0-77CB-4C44-A053-268F0A90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E1B-EF27-4DBD-9AD5-967C8AAE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C483-0BCC-4EB3-BEB6-3FBC9BC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4109-B9FC-442B-9839-0A77410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A2F4-E075-420B-80B8-9A7A840E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AF66-76B4-4CAF-A09F-BB587538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E124-F254-4DD3-83FB-77B8A327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A06-648D-497A-A32B-4A060144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25C-055F-4D8E-B46C-8C448E2C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9A8-A336-45F8-8509-5D0935B1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235-5A00-4566-97B0-B6B94402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557-07B1-4DE5-A6AA-A8AD7A33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F17-9353-4D25-8A7F-F479320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94B-1BFB-406F-9B69-5BD40EAD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121E-80F2-4794-8DDC-58A567D65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4B6-943A-428A-8FA1-90D6BD68F1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4104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Порядок слов 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в английском предложении</a:t>
            </a:r>
            <a:endParaRPr b="0" lang="en-US" sz="66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Альтернативный вопрос </a:t>
            </a: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(alternative question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труктура такая же, как у общего вопроса, но после союза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(или) добавляется однородный член предложения, альтернативный тому, к которому задается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d you g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to the club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to the cinema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ester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ill you b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g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n actres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 альтернативного вопроса повышается на первом (первых, если их несколько) предлагаемом ответе и падает на послед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like    tennis or    swimm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you have    tea,   coffee or    ju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50864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4652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4508640"/>
            <a:ext cx="28548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342900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72000" y="350028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пециальный вопрос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Wh-question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 или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Special Question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Это вопрос с вопросительны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Специальные вопросы адресуются к подлежащему и к другим членам предло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Вопросы к подлежащему имеют особую структу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Структура специального вопроса к подлежащему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опросительное слово 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если подлежащее выражено неодушевленным существительны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 в форме, употребляемой в повествовательном пред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o goes to the swimming-pool twice a wee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Структура специального вопроса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к другим членам предложения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802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просительное сло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спомогательный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ли модальный глагол в нужной фор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длежащ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сновная форма глаго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Например: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di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g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ester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I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for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broke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the v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3628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нтонация специального вопроса характеризуется падением тона в ко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ere does he     l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can you    help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4221000"/>
            <a:ext cx="3585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5373720"/>
            <a:ext cx="358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Разделительный</a:t>
            </a: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 вопрос</a:t>
            </a: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ag Question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 своей основной части это утвердительное (или отрицательное) предлож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сле запятой к предложению присоединяется 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«хвост»,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состоящий из соответствующего вспомогательного глагола, отрицания (если его не было в основной части) и подлежащего, выраженного местоим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 русский язык «хвост» разделительного вопроса переводится 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«не так ли?», «не правда ли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 student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re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t the theatre yesterday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as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s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Joh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be an enginee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o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have no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done their homework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h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speak English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 разделительного вопроса характеризуется падением в конце основной части. Интонация «хвоста» может повышаться (если говорящий не уверен в своей правоте), и понижаться (если говорящий не сомневаетс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   doctor,     aren’t you?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ворящий сомневает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   doctor,     aren’t you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говорящий уверен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0028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140360" y="3500280"/>
            <a:ext cx="3585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01336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01336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 отличие от русского языка, английский язык имеет фиксированный порядок сл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се члены предложения имеют свое строго установленное место в предло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Порядок слов в повествовательном предложении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)Подлежа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) Сказуем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e go to the park ever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ногда обстоятельство (как правило, если оно состоит из одного слова) может стоять перед сказуем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usually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 go to the park every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Порядок слов в отрицательном предложении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1)Подлежащ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2) Сказуемое: вспомогательный глагол в нужной временной форме + частица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t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+ основной гла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W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do not go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to the park every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My mother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will not read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this bo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стоятельство времени/ образа действия может стоять после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t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еред основным глаго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I don’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ften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play computer ga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Порядок слов в вопросительном предложении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йском языке существует 4 типа вопрос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и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/No 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ь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-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итель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495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Общий вопрос</a:t>
            </a: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Yes/No question/ general question</a:t>
            </a: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помогательный глагол в нужной временной фор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одлежа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Основной глаг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well at n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n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becom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 teac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нтонация общего вопроса характеризуется повышением тона в конце пред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an you speak English   w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you an engi  ne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003640" y="3284280"/>
            <a:ext cx="2890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635280" y="4149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Краткий ответ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на общий вопрос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щий вопрос обычно требует краткого от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труктура краткого ответа так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Yes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ответствующее местоим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спомогательный или модальный глагол в той временной форме, которая использовалась в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Частица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t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 если ответ начинается с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Краткий ответ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на общий вопрос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прим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go to the library yesterda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n'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student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n'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drive a car? – Yes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live her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59:15Z</dcterms:created>
  <dc:creator>Zver</dc:creator>
  <dc:description/>
  <dc:language>en-US</dc:language>
  <cp:lastModifiedBy>Елена</cp:lastModifiedBy>
  <dcterms:modified xsi:type="dcterms:W3CDTF">2008-08-21T09:46:21Z</dcterms:modified>
  <cp:revision>9</cp:revision>
  <dc:subject/>
  <dc:title>Порядок слов  в английском предложении</dc:title>
</cp:coreProperties>
</file>