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09C-7835-4542-B4C2-C7EFAD0C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021-815B-4294-BBC2-DA3492F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B4A-09C2-4446-8B33-B6884966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7F7-B8E3-49D9-9869-FAC1FF3F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39D0-1747-4E0A-A98B-4CCF41692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343-179A-40CE-8517-A232A9A0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7BC6-6A33-4ABE-9B27-7AA1A7FD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85AA-9DCF-46A9-829D-3EA170C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AE86-4209-45FC-99C3-17A5934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5B36-DA4F-4000-88DB-990DD514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FF7-014F-4BFB-B8BC-D776EF57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70B-7A32-48CC-ABF7-C2B71ED4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8B37-A27A-4E66-B2D7-B07C1F6B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3A2D-6ADD-4AE5-92F7-4F34D4C0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0ED8-8906-47FF-89AB-C41DFAEC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E93-B0D3-485C-84B3-CC59060E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25D5-87C1-47CC-85CF-B06555FA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27C51-BB65-4575-BF9A-75D1A51B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7463-220E-40A2-B419-8810EDC9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85D84-BA5F-446E-9804-80D87B3A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4AD4-AD7E-4190-B8DA-C96F4EC1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494F-E3C4-478E-BAEF-97825923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26A-64AE-4511-9BE3-CE2268E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85BA-7D1E-429C-B041-ACEDA33A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A65E3-9134-4B5B-8DA0-5EA0B1F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02E9E-87A3-4CBC-B9C5-2B4EC56A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D069-5C5B-4218-938F-E23108E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37BB9-ABAA-425F-B4C3-9032633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0832-83B9-4285-BA08-02654E9D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E262A-3152-4A21-8F13-7B12FE36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48B55-D863-4482-80B5-AF703243C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99E2F-42D2-478C-AFB4-5108CD0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70605-3FA6-4300-A8F8-40B670A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475-13A5-450C-B8ED-4AD68373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67BE-D4F3-4373-9B5E-A1427EAD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40DB-34AD-4F0A-9C28-DE2BAE87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2712-D5A4-4A45-A2EB-F8DD61ED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B8D9-E36C-4F2A-9783-45F8335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A364A-D8AF-4337-850F-8F81CD0B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8FF77-4D76-4984-842E-AB67962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49D5E-EF97-4849-9459-34E2F60F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80C1D-DCD2-4186-8590-A00A1E08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CB02B-47C7-46B3-878D-B5CD8EB1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1B38-6E9A-4093-B2AD-8C4173C6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7F1-4111-42C7-AC93-C13EEF72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FAC9-15CE-4A1F-85FC-59D93DBE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39DD-2701-4319-99E4-3F407CC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FF1B3-E28D-4B2F-A316-0F47D83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622C-802C-4020-94CA-87CC6AEC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B9D36-71E4-4B98-A944-1D5DB61D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78B18-B032-4018-B810-798B8CE2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EC9E6-8505-4276-8DC6-98D6D235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10D9F-140F-44FC-BEC8-3BFB867E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7852B-9FB8-4630-8485-2708C22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D488-30B3-44B8-B7F7-7A8BE5D9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0BD-C295-4988-BB7D-E61C09C6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BE6E-8EBA-4905-BB4D-F0DB97FD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35436-E32C-4EAB-8875-016A47B8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7B1E4-8DE2-44EA-93DE-820F1940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68FB-C674-4013-8102-80E63D8C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102B-0BBE-4B2D-BF21-5E39F47F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D55E4-1DA0-486D-B120-8F46CDDC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0400" y="4711680"/>
            <a:ext cx="9613440" cy="272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AD27E-E534-4A14-BCEC-0AF3E0F7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9C8DD-02E0-45AD-83B9-49F0C21D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DF35C-11A1-43DD-96A7-5FD5EC6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1EA0-EE8D-452C-BBCB-BB8F2F0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ABC-1EE5-4B59-9416-82174FB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87D2F-2FE8-44F2-A435-E6D74B6E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C1DAA-A7C0-4C72-BD41-7BE7C3BA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3084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7181280" y="530028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040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3084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7181280" y="5562360"/>
            <a:ext cx="309528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F0DE0-049C-437E-9C49-19148448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6640" y="556236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3AE-A985-4609-9A6F-783B4CC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06640" y="5300280"/>
            <a:ext cx="469116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0400" y="5562360"/>
            <a:ext cx="9613440" cy="2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921-78D0-45E8-B1CC-055F6AC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2960"/>
            <a:ext cx="8967600" cy="275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HD-ShadowShort.png"/>
          <p:cNvPicPr/>
          <p:nvPr/>
        </p:nvPicPr>
        <p:blipFill>
          <a:blip r:embed="rId4"/>
          <a:stretch/>
        </p:blipFill>
        <p:spPr>
          <a:xfrm>
            <a:off x="9111600" y="4243680"/>
            <a:ext cx="3076920" cy="276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8"/>
          <p:cNvSpPr/>
          <p:nvPr/>
        </p:nvSpPr>
        <p:spPr>
          <a:xfrm>
            <a:off x="0" y="2590200"/>
            <a:ext cx="8967600" cy="165996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111600" y="2590200"/>
            <a:ext cx="3076920" cy="16599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54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9255240" y="2750400"/>
            <a:ext cx="1171440" cy="135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87316B8-C8FB-4ABA-8BDB-9675C8B8CB93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be-BY" sz="1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be-BY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5760" y="2336760"/>
            <a:ext cx="56080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789720" cy="35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DD0721-5AE9-4E1C-845F-47B0EF945FBA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400" y="2336760"/>
            <a:ext cx="96134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Второй уровень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Третий уровень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Четвер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Пятый уровень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E188DE6-2AB4-488C-AA76-C0A70D40DC2D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6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0400" y="4297680"/>
            <a:ext cx="30492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680400" y="2336760"/>
            <a:ext cx="304920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0400" y="4873680"/>
            <a:ext cx="3049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3945600" y="42976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body"/>
          </p:nvPr>
        </p:nvSpPr>
        <p:spPr>
          <a:xfrm>
            <a:off x="3945600" y="2336760"/>
            <a:ext cx="306288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body"/>
          </p:nvPr>
        </p:nvSpPr>
        <p:spPr>
          <a:xfrm>
            <a:off x="3944160" y="4873680"/>
            <a:ext cx="306684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body"/>
          </p:nvPr>
        </p:nvSpPr>
        <p:spPr>
          <a:xfrm>
            <a:off x="7230600" y="4297680"/>
            <a:ext cx="30632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9"/>
          <p:cNvSpPr>
            <a:spLocks noGrp="1"/>
          </p:cNvSpPr>
          <p:nvPr>
            <p:ph type="body"/>
          </p:nvPr>
        </p:nvSpPr>
        <p:spPr>
          <a:xfrm>
            <a:off x="7230600" y="2336760"/>
            <a:ext cx="3063240" cy="15235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50760" rotWithShape="0">
              <a:srgbClr val="000000">
                <a:alpha val="43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Вставка рисунк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10"/>
          <p:cNvSpPr>
            <a:spLocks noGrp="1"/>
          </p:cNvSpPr>
          <p:nvPr>
            <p:ph type="body"/>
          </p:nvPr>
        </p:nvSpPr>
        <p:spPr>
          <a:xfrm>
            <a:off x="7230600" y="4873680"/>
            <a:ext cx="3067200" cy="10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11"/>
          <p:cNvSpPr>
            <a:spLocks noGrp="1"/>
          </p:cNvSpPr>
          <p:nvPr>
            <p:ph type="dt" idx="10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2"/>
          <p:cNvSpPr>
            <a:spLocks noGrp="1"/>
          </p:cNvSpPr>
          <p:nvPr>
            <p:ph type="ftr" idx="11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3"/>
          <p:cNvSpPr>
            <a:spLocks noGrp="1"/>
          </p:cNvSpPr>
          <p:nvPr>
            <p:ph type="sldNum" idx="12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E4EA663-93FD-42A6-AAC1-F89B7058F36C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HD-ShadowLong.png"/>
          <p:cNvPicPr/>
          <p:nvPr/>
        </p:nvPicPr>
        <p:blipFill>
          <a:blip r:embed="rId3"/>
          <a:stretch/>
        </p:blipFill>
        <p:spPr>
          <a:xfrm>
            <a:off x="0" y="19702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D-ShadowShort.png"/>
          <p:cNvPicPr/>
          <p:nvPr/>
        </p:nvPicPr>
        <p:blipFill>
          <a:blip r:embed="rId4"/>
          <a:stretch/>
        </p:blipFill>
        <p:spPr>
          <a:xfrm>
            <a:off x="10585800" y="19713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0" y="60948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10585800" y="60948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0400" y="3022560"/>
            <a:ext cx="30492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3956040" y="23367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body"/>
          </p:nvPr>
        </p:nvSpPr>
        <p:spPr>
          <a:xfrm>
            <a:off x="3945600" y="3022560"/>
            <a:ext cx="30628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body"/>
          </p:nvPr>
        </p:nvSpPr>
        <p:spPr>
          <a:xfrm>
            <a:off x="722412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 type="body"/>
          </p:nvPr>
        </p:nvSpPr>
        <p:spPr>
          <a:xfrm>
            <a:off x="7224120" y="3022560"/>
            <a:ext cx="3069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8"/>
          <p:cNvSpPr>
            <a:spLocks noGrp="1"/>
          </p:cNvSpPr>
          <p:nvPr>
            <p:ph type="dt" idx="13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9"/>
          <p:cNvSpPr>
            <a:spLocks noGrp="1"/>
          </p:cNvSpPr>
          <p:nvPr>
            <p:ph type="ftr" idx="14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0"/>
          <p:cNvSpPr>
            <a:spLocks noGrp="1"/>
          </p:cNvSpPr>
          <p:nvPr>
            <p:ph type="sldNum" idx="15"/>
          </p:nvPr>
        </p:nvSpPr>
        <p:spPr>
          <a:xfrm>
            <a:off x="10729440" y="75312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3CD48A2-257D-4342-B77F-CC55951B0EC7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7e2e"/>
            </a:gs>
            <a:gs pos="100000">
              <a:srgbClr val="d44208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hashOverlay-FullResolve.png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8480"/>
            <a:ext cx="10437480" cy="320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HD-ShadowShort.png"/>
          <p:cNvPicPr/>
          <p:nvPr/>
        </p:nvPicPr>
        <p:blipFill>
          <a:blip r:embed="rId4"/>
          <a:stretch/>
        </p:blipFill>
        <p:spPr>
          <a:xfrm>
            <a:off x="10585800" y="5929560"/>
            <a:ext cx="1602720" cy="144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0" y="4568040"/>
            <a:ext cx="10437480" cy="1368000"/>
          </a:xfrm>
          <a:prstGeom prst="rect">
            <a:avLst/>
          </a:prstGeom>
          <a:solidFill>
            <a:schemeClr val="bg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0585800" y="4568040"/>
            <a:ext cx="1602720" cy="13680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Образец заголовка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400" y="5300280"/>
            <a:ext cx="96134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rebuchet MS"/>
              </a:rPr>
              <a:t>Образец текста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7551000" y="593604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be-BY" sz="105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be-BY" sz="105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80400" y="5936040"/>
            <a:ext cx="6870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10729440" y="4709880"/>
            <a:ext cx="11538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be-BY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A67FEBE-4B53-45B5-850F-7757C5F6DE05}" type="slidenum">
              <a:rPr b="0" lang="be-BY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0400" y="2733840"/>
            <a:ext cx="8143920" cy="137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3300"/>
                </a:solidFill>
                <a:latin typeface="Trebuchet MS"/>
              </a:rPr>
              <a:t>Chupa Chups</a:t>
            </a:r>
            <a:endParaRPr b="0" lang="be-BY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1" name="Рисунок 3" descr=""/>
          <p:cNvPicPr/>
          <p:nvPr/>
        </p:nvPicPr>
        <p:blipFill>
          <a:blip r:embed="rId1"/>
          <a:stretch/>
        </p:blipFill>
        <p:spPr>
          <a:xfrm>
            <a:off x="9695160" y="2582640"/>
            <a:ext cx="20300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реимущества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160" y="2948400"/>
            <a:ext cx="3628080" cy="368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– первая карамель, которая стала производиться специально для детей. Сейчас ж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пулярен и среди детей и среди взрослых в равной степени. Может быть,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единственная детская сладость, которая полюбилась и взрослым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8128080" y="3618360"/>
            <a:ext cx="3887640" cy="29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e203b"/>
                </a:solidFill>
                <a:latin typeface="Times New Roman"/>
              </a:rPr>
              <a:t>С помощью специалистов Энрике выяснил, что еще никто не производил карамель специально для детей. Основным отличием карамели Энрике была палочка, на которой размещалась карамель. Конфету можно было сосать, не пачкая руки и одежду. Сначала палочка была деревянной, затем ее стали делать из пластика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3657600" y="2061000"/>
            <a:ext cx="44701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 него необычная форма, привлекательная упаковка и уделяется проявляется особое внимание к вкусам потребителей (создано около ста различных видов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), а также внедрению новейших технологий в процесс производства на сегодня 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 являются самыми узнаваемыми и любимыми леденцами во вс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Атрибуты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1600" y="195372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ФОРМА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0160" y="2615040"/>
            <a:ext cx="34308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Форма логотипа бренда постоянно видоизменялась. С начала это была просто надпись без всяких ограничивающих рамок, а затем логотип «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Chupa Chups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» стал изображаться в виде ромашки. Это достаточно простая и понятная форма, которая в сочетании с яркими цветами  вызывает чувство радости и беззаботности. Благодаря этому логотип бренд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хорошо воспринимается такой целевой аудиторией, как дети и подростки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07840" y="194148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ЦВЕТ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783960" y="2480040"/>
            <a:ext cx="45122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Что касается цветового решения, то  логотип этого бренда выделяется своим многоцветием, яркими оттенками, которые часто присущи оформлению детских и подростковых брендов. Яркие оттенки выполняют функцию – веселить и радовать. Их девиз - игра и динамика. У логотипа </a:t>
            </a:r>
            <a:r>
              <a:rPr b="0" lang="en-US" sz="1600" spc="-1" strike="noStrike">
                <a:solidFill>
                  <a:srgbClr val="002060"/>
                </a:solidFill>
                <a:latin typeface="Trebuchet MS"/>
              </a:rPr>
              <a:t>«Chupa Chups» </a:t>
            </a: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 всегда присутствовал красный цвет ,которым выделялось название бренда. Так же постоянен был и жёлтый, который зачастую присутствовал на фоне надписи. Сочетание этих цветов достаточно распространённое среди различных брендов. Красный цвет сосредотачивает внимание, жёлтый цвет вызывает чувство радости, теплоты и беззаботности. Таким образом такое цветовое решение подчёркивает идею создания данного бренда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9122040" y="218988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e1b07"/>
                </a:solidFill>
                <a:latin typeface="Trebuchet MS"/>
              </a:rPr>
              <a:t>ОТЛИЧИТЕЛЬНАЯ ОСОБЕННОСТЬ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9122040" y="2853000"/>
            <a:ext cx="2712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rebuchet MS"/>
              </a:rPr>
              <a:t>Основным и главным атрибутом является палочка. Сначала она была деревянной, а затем стала пластиковой. Делалась она для удобства детей.</a:t>
            </a:r>
            <a:endParaRPr b="0" lang="be-BY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3300"/>
                </a:solidFill>
                <a:latin typeface="Trebuchet MS"/>
              </a:rPr>
              <a:t>50 лет делаем жизнь СЛАЩЕ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336" name="Объект 4"/>
          <p:cNvGraphicFramePr/>
          <p:nvPr/>
        </p:nvGraphicFramePr>
        <p:xfrm>
          <a:off x="680400" y="1854360"/>
          <a:ext cx="8807040" cy="4514040"/>
        </p:xfrm>
        <a:graphic>
          <a:graphicData uri="http://schemas.openxmlformats.org/drawingml/2006/table">
            <a:tbl>
              <a:tblPr/>
              <a:tblGrid>
                <a:gridCol w="8807400"/>
              </a:tblGrid>
              <a:tr h="5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800" spc="-1" strike="noStrike">
                        <a:solidFill>
                          <a:srgbClr val="ff33cc"/>
                        </a:solidFill>
                        <a:latin typeface="Trebuchet MS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9360">
                <a:tc>
                  <a:txBody>
                    <a:bodyPr lIns="22320" rIns="22320" tIns="22320" bIns="22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июле 2006-го Chupa-Chups Group была приобретена компанией Perfetti Van Melle S.p.A. и стала ее ведущим бренд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2008 году Чупа Чупс</a:t>
                      </a:r>
                      <a:r>
                        <a:rPr b="0" lang="ru-RU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®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тметил свой 50-летний юбилей, в котором участвовали любители этой карамели со всего мира. Многочисленные мероприятия проходили в разных странах в течение всего года: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ольшая вечеринка учащихся в Германии, скайблог во Франции, вечеринка «The Suck for luck» на Филлипинах и множество других. Вершиной празднества стал грандиозный концерт MTV в Барселон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2320" marR="22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Улыбающееся лицо 3"/>
          <p:cNvSpPr/>
          <p:nvPr/>
        </p:nvSpPr>
        <p:spPr>
          <a:xfrm>
            <a:off x="10784520" y="657720"/>
            <a:ext cx="1203480" cy="1196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ПОЗИЦИОНИРОВАННИЕ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5360" y="2336760"/>
            <a:ext cx="5109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Для продажи леденцов Чупа Чупс® был придуман новый способ – вместо того, чтобы класть их в банки и ставить за прилавком вместе с другими конфетами, леденцы Чупа Чупс® стали выставлять на самом прилавке в привлекательных дисплеях(подставках)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0" name="Рисунок 3" descr=""/>
          <p:cNvPicPr/>
          <p:nvPr/>
        </p:nvPicPr>
        <p:blipFill>
          <a:blip r:embed="rId1"/>
          <a:stretch/>
        </p:blipFill>
        <p:spPr>
          <a:xfrm>
            <a:off x="7449840" y="2109240"/>
            <a:ext cx="3012840" cy="449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0400" y="2336760"/>
            <a:ext cx="58006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Более 600 автомобилей Чупа Чупс® развозили менеджеров по продажам по более чем 300 000 торговых точек по всей стране, где их лозунг «Я привез хорошие новости!» всегда встречали с радостью.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>
            <a:off x="7238520" y="3526920"/>
            <a:ext cx="352404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400" y="4711680"/>
            <a:ext cx="9613440" cy="58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200" spc="-1" strike="noStrike">
                <a:solidFill>
                  <a:srgbClr val="d3139c"/>
                </a:solidFill>
                <a:latin typeface="Trebuchet MS"/>
              </a:rPr>
              <a:t>СПАСИБО ЗА ВНИМАНИЕ </a:t>
            </a:r>
            <a:r>
              <a:rPr b="0" lang="ru-RU" sz="3200" spc="-1" strike="noStrike">
                <a:solidFill>
                  <a:srgbClr val="d3139c"/>
                </a:solidFill>
                <a:latin typeface="Wingdings"/>
              </a:rPr>
              <a:t>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710040" y="5300280"/>
            <a:ext cx="3710880" cy="6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60000"/>
                    <a:lumOff val="40000"/>
                  </a:schemeClr>
                </a:solidFill>
                <a:latin typeface="Trebuchet MS"/>
              </a:rPr>
              <a:t>Презентацию подготовила Бачковская Елизавета 311 гр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70956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ИСТОРИЯ СОЗДАНИЯ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9173160" y="3425400"/>
            <a:ext cx="1218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470520" y="2259000"/>
            <a:ext cx="5986080" cy="3976200"/>
          </a:xfrm>
          <a:prstGeom prst="roundRect">
            <a:avLst>
              <a:gd name="adj" fmla="val 16667"/>
            </a:avLst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Самые знаменитые леденцы на палочке в мире —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 появились на свет в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1958-м году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х отцом может считаться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Енрик Бернат (Enric Bernat)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основатель 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Chupa Chups Group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и владелец кондитерской фирмы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Granja Asturias S.A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Рисунок 3"/>
          <p:cNvSpPr/>
          <p:nvPr/>
        </p:nvSpPr>
        <p:spPr>
          <a:xfrm>
            <a:off x="8021160" y="3425040"/>
            <a:ext cx="3722040" cy="28101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152280" dir="868217" dist="11525" kx="110000" ky="200000" rotWithShape="0" sy="98000">
              <a:srgbClr val="000000">
                <a:alpha val="30000"/>
              </a:srgbClr>
            </a:outerShdw>
          </a:effectLst>
          <a:scene3d>
            <a:camera prst="perspectiveRelaxed">
              <a:rot lat="19800000" lon="1200000" rev="20820000"/>
            </a:camera>
            <a:lightRig dir="t" rig="threePt"/>
          </a:scene3d>
          <a:sp3d contourW="6350" prstMaterial="matte">
            <a:bevelT w="101600" h="101600"/>
            <a:contourClr>
              <a:srgbClr val="969696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Скругленная прямоугольная выноска 4"/>
          <p:cNvSpPr/>
          <p:nvPr/>
        </p:nvSpPr>
        <p:spPr>
          <a:xfrm>
            <a:off x="1761480" y="2070720"/>
            <a:ext cx="7678080" cy="4275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ffff"/>
          </a:solidFill>
          <a:ln>
            <a:solidFill>
              <a:srgbClr val="fa7e5c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В 1958-м году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успешный кондитер проводит маркетинговое исследование и  получает интересные результаты. Оказывается, что основными потребителями его продукции были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ти младше 16 лет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 притом, что всегда учитывались интересы только взрослых потребителей. Это подтолкнуло кондитера к мысли создать некую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«вкусность»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которая бы нравилась не только взрослым, но и, в первую очередь, детям. 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814040" y="2264040"/>
            <a:ext cx="75344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Первое название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Чупа-Чупс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было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GOL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 в переводе с испанского, конечно, —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Гол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Но владельцу компании не нравилось это название и позже его сменили сначала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 от испанского 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chupar»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 —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«сосать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 позже и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2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и торговая марка были официально зарегистрированы. Успех леденцов на рынке привел к тому, что </a:t>
            </a:r>
            <a:r>
              <a:rPr b="0" lang="ru-RU" sz="2800" spc="-1" strike="noStrike">
                <a:solidFill>
                  <a:srgbClr val="ffc000"/>
                </a:solidFill>
                <a:latin typeface="Times New Roman"/>
              </a:rPr>
              <a:t>в 1964-м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название компании сменилось на 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Chupa Chups S.A.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0" y="2139840"/>
            <a:ext cx="6663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580841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Интересным фактом в истории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 является то, что дизайн марки, который в общих чертах сохранился и по сей день, разрабатывал Сальвадор Дали в 1969-м году. В течении нескольких часов художник создал логотип </a:t>
            </a:r>
            <a:r>
              <a:rPr b="1" lang="ru-RU" sz="2400" spc="-1" strike="noStrike">
                <a:solidFill>
                  <a:srgbClr val="580841"/>
                </a:solidFill>
                <a:latin typeface="Times New Roman"/>
              </a:rPr>
              <a:t>Чупа-Чупс</a:t>
            </a:r>
            <a:r>
              <a:rPr b="0" lang="ru-RU" sz="2400" spc="-1" strike="noStrike">
                <a:solidFill>
                  <a:srgbClr val="580841"/>
                </a:solidFill>
                <a:latin typeface="Times New Roman"/>
              </a:rPr>
              <a:t>, напоминающий ромашку.</a:t>
            </a:r>
            <a:r>
              <a:rPr b="0" lang="be-BY" sz="2400" spc="-1" strike="noStrike">
                <a:solidFill>
                  <a:srgbClr val="580841"/>
                </a:solidFill>
                <a:latin typeface="Times New Roman"/>
              </a:rPr>
              <a:t>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Основные производственные комплексы 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hupa-Chup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аходятся в Сан-Эстеве-Сесровирес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an Esteve Sesrovires) </a:t>
            </a:r>
            <a:r>
              <a:rPr b="0" lang="be-BY" sz="2400" spc="-1" strike="noStrike">
                <a:solidFill>
                  <a:srgbClr val="ffff00"/>
                </a:solidFill>
                <a:latin typeface="Times New Roman"/>
              </a:rPr>
              <a:t>недалеко от Барселоны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selona). </a:t>
            </a:r>
            <a:endParaRPr b="0" lang="be-BY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99" name="Рисунок 3" descr=""/>
          <p:cNvPicPr/>
          <p:nvPr/>
        </p:nvPicPr>
        <p:blipFill>
          <a:blip r:embed="rId1"/>
          <a:stretch/>
        </p:blipFill>
        <p:spPr>
          <a:xfrm>
            <a:off x="6948720" y="3309120"/>
            <a:ext cx="51267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Рисунок 11"/>
          <p:cNvSpPr/>
          <p:nvPr/>
        </p:nvSpPr>
        <p:spPr>
          <a:xfrm>
            <a:off x="27360" y="622800"/>
            <a:ext cx="3049200" cy="135072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Рисунок 12"/>
          <p:cNvSpPr/>
          <p:nvPr/>
        </p:nvSpPr>
        <p:spPr>
          <a:xfrm>
            <a:off x="3561120" y="622800"/>
            <a:ext cx="3062880" cy="135072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исунок 13"/>
          <p:cNvSpPr/>
          <p:nvPr/>
        </p:nvSpPr>
        <p:spPr>
          <a:xfrm>
            <a:off x="7285320" y="622800"/>
            <a:ext cx="3063240" cy="135072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algn="tl" blurRad="50760" dir="5400000" dist="507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4" descr=""/>
          <p:cNvPicPr/>
          <p:nvPr/>
        </p:nvPicPr>
        <p:blipFill>
          <a:blip r:embed="rId4"/>
          <a:stretch/>
        </p:blipFill>
        <p:spPr>
          <a:xfrm>
            <a:off x="27360" y="3646800"/>
            <a:ext cx="2560320" cy="2032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5" descr=""/>
          <p:cNvPicPr/>
          <p:nvPr/>
        </p:nvPicPr>
        <p:blipFill>
          <a:blip r:embed="rId5"/>
          <a:stretch/>
        </p:blipFill>
        <p:spPr>
          <a:xfrm>
            <a:off x="3964680" y="4409280"/>
            <a:ext cx="2658960" cy="217512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16" descr=""/>
          <p:cNvPicPr/>
          <p:nvPr/>
        </p:nvPicPr>
        <p:blipFill>
          <a:blip r:embed="rId6"/>
          <a:stretch/>
        </p:blipFill>
        <p:spPr>
          <a:xfrm>
            <a:off x="8058240" y="3695760"/>
            <a:ext cx="2425680" cy="20062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8"/>
          <p:cNvSpPr/>
          <p:nvPr/>
        </p:nvSpPr>
        <p:spPr>
          <a:xfrm>
            <a:off x="200520" y="2234880"/>
            <a:ext cx="254160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9"/>
          <p:cNvSpPr/>
          <p:nvPr/>
        </p:nvSpPr>
        <p:spPr>
          <a:xfrm>
            <a:off x="3764520" y="2234880"/>
            <a:ext cx="2655720" cy="34812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0"/>
          <p:cNvSpPr/>
          <p:nvPr/>
        </p:nvSpPr>
        <p:spPr>
          <a:xfrm>
            <a:off x="7501680" y="2234880"/>
            <a:ext cx="2630160" cy="3772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1"/>
          <p:cNvSpPr/>
          <p:nvPr/>
        </p:nvSpPr>
        <p:spPr>
          <a:xfrm>
            <a:off x="2810880" y="3669480"/>
            <a:ext cx="535680" cy="20098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22"/>
          <p:cNvSpPr/>
          <p:nvPr/>
        </p:nvSpPr>
        <p:spPr>
          <a:xfrm>
            <a:off x="6860520" y="4419720"/>
            <a:ext cx="502920" cy="216468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23"/>
          <p:cNvSpPr/>
          <p:nvPr/>
        </p:nvSpPr>
        <p:spPr>
          <a:xfrm>
            <a:off x="10591920" y="3708720"/>
            <a:ext cx="1246680" cy="1980000"/>
          </a:xfrm>
          <a:prstGeom prst="rect">
            <a:avLst/>
          </a:prstGeom>
          <a:solidFill>
            <a:srgbClr val="f09415"/>
          </a:solidFill>
          <a:ln>
            <a:solidFill>
              <a:srgbClr val="b16d0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1988-по сегодняшний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Trebuchet MS"/>
              </a:rPr>
              <a:t>Суть бренда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60960" y="2336760"/>
            <a:ext cx="30697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МИССИЯ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022040" y="3122280"/>
            <a:ext cx="44593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Чистые дети – спокойные родител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581680" y="2347560"/>
            <a:ext cx="30628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rebuchet MS"/>
              </a:rPr>
              <a:t>ЦЕЛИ</a:t>
            </a:r>
            <a:endParaRPr b="0" lang="be-BY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52840" y="3197520"/>
            <a:ext cx="5125680" cy="31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бота о детях и их родителях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здание креативного внешнего вида, который вызовет любопытство</a:t>
            </a:r>
            <a:endParaRPr b="0" lang="be-BY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0400" y="753120"/>
            <a:ext cx="961344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ЛИЧНОСТЬ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18" name="Объект 4" descr=""/>
          <p:cNvPicPr/>
          <p:nvPr/>
        </p:nvPicPr>
        <p:blipFill>
          <a:blip r:embed="rId1"/>
          <a:stretch/>
        </p:blipFill>
        <p:spPr>
          <a:xfrm>
            <a:off x="6118200" y="2562840"/>
            <a:ext cx="5406840" cy="35985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4640" y="2336760"/>
            <a:ext cx="5136480" cy="40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У меня, как и у многих, реклама чупа –чупса ассоциируется с плюшевым раздолбаем Чаком в главной рол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ак  это олицетворение спокойствия и ровного отношения к жизни, которую стоит проводить в свое удовольствие, ни на что не оглядываясь, ни о чем не парясь.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Снимаются такие рекламные ролики под лозунгом 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«менее серьёзная жизнь»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69240" y="753120"/>
            <a:ext cx="9624600" cy="108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i="1" lang="ru-RU" sz="3600" spc="-1" strike="noStrike">
                <a:solidFill>
                  <a:srgbClr val="ffffff"/>
                </a:solidFill>
                <a:latin typeface="Trebuchet MS"/>
              </a:rPr>
              <a:t>ЦЕННОСТИ</a:t>
            </a:r>
            <a:endParaRPr b="0" lang="be-BY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4640" y="2027160"/>
            <a:ext cx="3621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Чупа Чупс®  с момента своего основания делает все, чтобы дарить радость детям любого возраста, сочетая глубокие традиции и современное творчество с инновациями. </a:t>
            </a:r>
            <a:endParaRPr b="0" lang="be-BY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12000" y="3498840"/>
            <a:ext cx="35845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Чупа Чупс® направляет все свои усилия на то, чтобы удовлетворить сладкоежек и производить продукцию высокого качества – это неотъемлемое достоинство марки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251200" y="4940640"/>
            <a:ext cx="34390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Яркая индивидуальность продукта и уникальные радостные отношения с потребителями, являются источником сотен приятных и смешных историй.</a:t>
            </a:r>
            <a:endParaRPr b="0" lang="be-BY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ерлин">
  <a:themeElements>
    <a:clrScheme name="Берлин">
      <a:dk1>
        <a:srgbClr val="000000"/>
      </a:dk1>
      <a:lt1>
        <a:srgbClr val="ffffff"/>
      </a:lt1>
      <a:dk2>
        <a:srgbClr val="9d360e"/>
      </a:dk2>
      <a:lt2>
        <a:srgbClr val="e7e6e6"/>
      </a:lt2>
      <a:accent1>
        <a:srgbClr val="f09415"/>
      </a:accent1>
      <a:accent2>
        <a:srgbClr val="c1b56b"/>
      </a:accent2>
      <a:accent3>
        <a:srgbClr val="4baf73"/>
      </a:accent3>
      <a:accent4>
        <a:srgbClr val="5aa6c0"/>
      </a:accent4>
      <a:accent5>
        <a:srgbClr val="d17df9"/>
      </a:accent5>
      <a:accent6>
        <a:srgbClr val="fa7e5c"/>
      </a:accent6>
      <a:hlink>
        <a:srgbClr val="ffae3e"/>
      </a:hlink>
      <a:folHlink>
        <a:srgbClr val="fcc77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17[[fn=Берлин]]</Template>
  <TotalTime>317</TotalTime>
  <Application>LibreOffice/7.4.7.2$Linux_X86_64 LibreOffice_project/40$Build-2</Application>
  <AppVersion>15.0000</AppVersion>
  <Words>615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2:04:19Z</dcterms:created>
  <dc:creator>Павел Стасяк</dc:creator>
  <dc:description/>
  <dc:language>en-US</dc:language>
  <cp:lastModifiedBy>Елизавета</cp:lastModifiedBy>
  <dcterms:modified xsi:type="dcterms:W3CDTF">2016-04-25T16:04:35Z</dcterms:modified>
  <cp:revision>33</cp:revision>
  <dc:subject/>
  <dc:title>Chupa Chu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5</vt:r8>
  </property>
</Properties>
</file>