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BB7-2E97-45B3-9505-67836528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AA9-F1B7-4AF1-88DD-9B38BC4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E9A-B85F-499F-A009-58093FB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4A1-ABB9-4D20-B9C8-79480BCB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8556-3240-44F7-8FEB-CB0195A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5E4-4F9C-4818-B330-60F97D79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7852-BC08-4014-82BD-50E92EB1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FA2-F61E-4840-B630-22934272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76E2-813D-416F-B659-4AAB5DA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757E-4DA0-4A55-AE25-D57012BC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49C6-FE94-46C4-90F5-BA6E0F3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1C8-1E22-4DE3-A80C-A48D1A5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C9E-4542-423A-BF17-031D58A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1768-7B22-456C-92DD-6AA0585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A5C5-B4AD-4574-A0A6-8503749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92C-AF01-4F32-BF9B-28DE1434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4709-17CD-4DA4-8771-43055F70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A0F0-94F6-430C-A351-7D3093CB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EA0C-D8F0-41D0-A82A-7C374E5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B6A6-7D58-47EC-8CCA-5894619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62A1-86A3-445E-A5C6-58C8F8F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9E2E-8B21-411E-A867-E765FC1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92B-829C-4B8F-80D1-28FFDB8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B1F8-893C-4A03-A3C7-3BAED40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F6A9-007F-4EF1-9C49-B4EB5C4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C8CB-DEE0-4429-8494-A7D28FA6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7685-ED8D-4C9C-BDCD-C7A8D09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C882-7EC4-41F9-89E6-97D0A52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20A3-1660-4518-953F-011C4360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65CE-4EEF-463E-B13F-7B984FAE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2CF1-6C23-42E3-BA0F-407447C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72FF-F85C-4B0C-89AC-A14EE65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9240-D050-48E4-9AC9-E1FBC685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23A-6B2A-4FFB-9696-78D6C56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D452-C897-4794-9F79-61946453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31A6-25B9-4C1E-A155-41D6583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5D48-63BC-44C1-8B2A-3D6B4E1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733E8-C65A-42D2-928F-5DEF687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9C27-EC1C-4D81-B012-523EF013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C9D6-C565-43BC-93C0-8AAAC89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0FEC-4439-4F95-A60B-6E78E2D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93A2-B930-4FAA-B9BF-30435338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49C9-6808-4ACE-A7DD-3EFC0A91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0018-7F71-40CF-839C-FC00809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47F-6D4B-4156-A3D4-BA690BAB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CD98-3D34-4593-8BDE-3C762665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65CF-4024-4D00-A64D-C4F49E08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11EF-600B-4A04-A0F8-E7A713C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8F4E-6627-46EF-ACF9-FA09151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D95A-BD71-432D-9880-E0DEABA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7D6A-1088-49B4-B968-21B7B55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A046-F827-4BC0-A242-5D8882A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732B-A148-4D4A-8709-2BDA801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A45E-568A-46B3-96C4-52773B2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000B-FFA6-4C5A-8734-9965DB5E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CA0-F824-4B4C-89CC-E9BBB5B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D370-4FB6-4469-8D6C-061DEA29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FADCD-A2DE-409D-AA02-685030B1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5E89-58DF-4405-83E0-17E5574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58E7-348D-41D9-A48F-1203CAF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1769-A1F4-4D49-81EC-F9DC376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8E8D-0273-496C-8B1D-C43A4D9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38ED9-6A68-472C-96AF-81A2DEA5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76C7-D460-4E5D-9A72-885657A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5868-C62D-4367-8B20-87B0734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9006-B8AF-41FB-A9D8-668DB77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19B-4494-4918-B0E6-ABEEDEE4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DE94-C582-4056-A79E-658DFDB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A182-6F41-4FD3-9E7E-02E1DE05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982C-C672-456E-962D-E22C215D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530-CB03-4B24-965A-CF433C8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178-910C-43EB-8027-31C7693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2960"/>
            <a:ext cx="8967600" cy="275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HD-ShadowShort.png"/>
          <p:cNvPicPr/>
          <p:nvPr/>
        </p:nvPicPr>
        <p:blipFill>
          <a:blip r:embed="rId4"/>
          <a:stretch/>
        </p:blipFill>
        <p:spPr>
          <a:xfrm>
            <a:off x="9111600" y="4243680"/>
            <a:ext cx="3076920" cy="276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2590200"/>
            <a:ext cx="8967600" cy="165996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111600" y="2590200"/>
            <a:ext cx="3076920" cy="1659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9255240" y="2750400"/>
            <a:ext cx="1171440" cy="13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EE2A02-115A-4F83-B4B7-B358024508BA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5760" y="2336760"/>
            <a:ext cx="5608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78972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C16072F-6D7B-44A5-9FD5-825F66EBFF7F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11B13A-E345-4704-82E7-8F3A30D13657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400" y="4297680"/>
            <a:ext cx="3049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04920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0400" y="4873680"/>
            <a:ext cx="3049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3945600" y="42976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3945600" y="2336760"/>
            <a:ext cx="306288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body"/>
          </p:nvPr>
        </p:nvSpPr>
        <p:spPr>
          <a:xfrm>
            <a:off x="3944160" y="4873680"/>
            <a:ext cx="306684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body"/>
          </p:nvPr>
        </p:nvSpPr>
        <p:spPr>
          <a:xfrm>
            <a:off x="7230600" y="4297680"/>
            <a:ext cx="3063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9"/>
          <p:cNvSpPr>
            <a:spLocks noGrp="1"/>
          </p:cNvSpPr>
          <p:nvPr>
            <p:ph type="body"/>
          </p:nvPr>
        </p:nvSpPr>
        <p:spPr>
          <a:xfrm>
            <a:off x="7230600" y="2336760"/>
            <a:ext cx="306324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10"/>
          <p:cNvSpPr>
            <a:spLocks noGrp="1"/>
          </p:cNvSpPr>
          <p:nvPr>
            <p:ph type="body"/>
          </p:nvPr>
        </p:nvSpPr>
        <p:spPr>
          <a:xfrm>
            <a:off x="7230600" y="4873680"/>
            <a:ext cx="3067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11"/>
          <p:cNvSpPr>
            <a:spLocks noGrp="1"/>
          </p:cNvSpPr>
          <p:nvPr>
            <p:ph type="dt" idx="10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2"/>
          <p:cNvSpPr>
            <a:spLocks noGrp="1"/>
          </p:cNvSpPr>
          <p:nvPr>
            <p:ph type="ftr" idx="11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3"/>
          <p:cNvSpPr>
            <a:spLocks noGrp="1"/>
          </p:cNvSpPr>
          <p:nvPr>
            <p:ph type="sldNum" idx="12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B33426-F4E3-42CC-A32D-A0AF1AA19F10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0400" y="3022560"/>
            <a:ext cx="30492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3956040" y="23367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3945600" y="3022560"/>
            <a:ext cx="30628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body"/>
          </p:nvPr>
        </p:nvSpPr>
        <p:spPr>
          <a:xfrm>
            <a:off x="722412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 type="body"/>
          </p:nvPr>
        </p:nvSpPr>
        <p:spPr>
          <a:xfrm>
            <a:off x="7224120" y="3022560"/>
            <a:ext cx="306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8"/>
          <p:cNvSpPr>
            <a:spLocks noGrp="1"/>
          </p:cNvSpPr>
          <p:nvPr>
            <p:ph type="dt" idx="13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9"/>
          <p:cNvSpPr>
            <a:spLocks noGrp="1"/>
          </p:cNvSpPr>
          <p:nvPr>
            <p:ph type="ftr" idx="14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0"/>
          <p:cNvSpPr>
            <a:spLocks noGrp="1"/>
          </p:cNvSpPr>
          <p:nvPr>
            <p:ph type="sldNum" idx="15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D92A9A3-9990-459D-9BDB-F554CF8AADD0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84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HD-ShadowShort.png"/>
          <p:cNvPicPr/>
          <p:nvPr/>
        </p:nvPicPr>
        <p:blipFill>
          <a:blip r:embed="rId4"/>
          <a:stretch/>
        </p:blipFill>
        <p:spPr>
          <a:xfrm>
            <a:off x="10585800" y="59295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0" y="456804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0585800" y="456804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0729440" y="470988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4D235A7-4261-4DFE-8365-DD88E01EB6D6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3300"/>
                </a:solidFill>
                <a:latin typeface="Trebuchet MS"/>
              </a:rPr>
              <a:t>Chupa Chups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9695160" y="2582640"/>
            <a:ext cx="20300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реимущества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160" y="2948400"/>
            <a:ext cx="362808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– первая карамель, которая стала производиться специально для детей. Сейчас ж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пулярен и среди детей и среди взрослых в равной степени. Может быть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единственная детская сладость, которая полюбилась и взрослым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128080" y="3618360"/>
            <a:ext cx="3887640" cy="29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e203b"/>
                </a:solidFill>
                <a:latin typeface="Times New Roman"/>
              </a:rPr>
              <a:t>С помощью специалистов Энрике выяснил, что еще никто не производил карамель специально для детей. Основным отличием карамели Энрике была палочка, на которой размещалась карамель. Конфету можно было сосать, не пачкая руки и одежду. Сначала палочка была деревянной, затем ее стали делать из пластика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3657600" y="2061000"/>
            <a:ext cx="44701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 него необычная форма, привлекательная упаковка и уделяется проявляется особое внимание к вкусам потребителей (создано около ста различных видов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), а также внедрению новейших технологий в процесс производства на сегодня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 являются самыми узнаваемыми и любимыми леденцами во вс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Атрибуты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1600" y="195372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ФОРМ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0160" y="2615040"/>
            <a:ext cx="343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Форма логотипа бренда постоянно видоизменялась. С начала это была просто надпись без всяких ограничивающих рамок, а затем логотип «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Chupa Chups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» стал изображаться в виде ромашки. Это достаточно простая и понятная форма, которая в сочетании с яркими цветами  вызывает чувство радости и беззаботности. Благодаря этому логотип бренд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хорошо воспринимается такой целевой аудиторией, как дети и подростки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07840" y="19414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ЦВЕТ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783960" y="2480040"/>
            <a:ext cx="45122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Что касается цветового решения, то  логотип этого бренда выделяется своим многоцветием, яркими оттенками, которые часто присущи оформлению детских и подростковых брендов. Яркие оттенки выполняют функцию – веселить и радовать. Их девиз - игра и динамика. У логотип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 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всегда присутствовал красный цвет ,которым выделялось название бренда. Так же постоянен был и жёлтый, который зачастую присутствовал на фоне надписи. Сочетание этих цветов достаточно распространённое среди различных брендов. Красный цвет сосредотачивает внимание, жёлтый цвет вызывает чувство радости, теплоты и беззаботности. Таким образом такое цветовое решение подчёркивает идею создания данного бренда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9122040" y="218988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ОТЛИЧИТЕЛЬНАЯ ОСОБЕННОСТЬ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9122040" y="2853000"/>
            <a:ext cx="2712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Основным и главным атрибутом является палочка. Сначала она была деревянной, а затем стала пластиковой. Делалась она для удобства детей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3300"/>
                </a:solidFill>
                <a:latin typeface="Trebuchet MS"/>
              </a:rPr>
              <a:t>50 лет делаем жизнь СЛАЩЕ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36" name="Объект 4"/>
          <p:cNvGraphicFramePr/>
          <p:nvPr/>
        </p:nvGraphicFramePr>
        <p:xfrm>
          <a:off x="680400" y="1854360"/>
          <a:ext cx="8807040" cy="4514040"/>
        </p:xfrm>
        <a:graphic>
          <a:graphicData uri="http://schemas.openxmlformats.org/drawingml/2006/table">
            <a:tbl>
              <a:tblPr/>
              <a:tblGrid>
                <a:gridCol w="8807400"/>
              </a:tblGrid>
              <a:tr h="5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800" spc="-1" strike="noStrike">
                        <a:solidFill>
                          <a:srgbClr val="ff33cc"/>
                        </a:solidFill>
                        <a:latin typeface="Trebuchet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936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июле 2006-го Chupa-Chups Group была приобретена компанией Perfetti Van Melle S.p.A. и стала ее ведущим бренд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2008 году Чупа Чупс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®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тметил свой 50-летний юбилей, в котором участвовали любители этой карамели со всего мира. Многочисленные мероприятия проходили в разных странах в течение всего года: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ьшая вечеринка учащихся в Германии, скайблог во Франции, вечеринка «The Suck for luck» на Филлипинах и множество других. Вершиной празднества стал грандиозный концерт MTV в Барселон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Улыбающееся лицо 3"/>
          <p:cNvSpPr/>
          <p:nvPr/>
        </p:nvSpPr>
        <p:spPr>
          <a:xfrm>
            <a:off x="10784520" y="657720"/>
            <a:ext cx="1203480" cy="1196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ОЗИЦИОНИРОВАННИЕ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5360" y="2336760"/>
            <a:ext cx="5109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ля продажи леденцов Чупа Чупс® был придуман новый способ – вместо того, чтобы класть их в банки и ставить за прилавком вместе с другими конфетами, леденцы Чупа Чупс® стали выставлять на самом прилавке в привлекательных дисплеях(подставках)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>
            <a:off x="7449840" y="2109240"/>
            <a:ext cx="3012840" cy="449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5800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олее 600 автомобилей Чупа Чупс® развозили менеджеров по продажам по более чем 300 000 торговых точек по всей стране, где их лозунг «Я привез хорошие новости!» всегда встречали с радостью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>
            <a:off x="7238520" y="3526920"/>
            <a:ext cx="35240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d3139c"/>
                </a:solidFill>
                <a:latin typeface="Trebuchet MS"/>
              </a:rPr>
              <a:t>СПАСИБО ЗА ВНИМАНИЕ </a:t>
            </a:r>
            <a:r>
              <a:rPr b="0" lang="ru-RU" sz="3200" spc="-1" strike="noStrike">
                <a:solidFill>
                  <a:srgbClr val="d3139c"/>
                </a:solidFill>
                <a:latin typeface="Wingdings"/>
              </a:rPr>
              <a:t>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710040" y="5300280"/>
            <a:ext cx="3710880" cy="6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rebuchet MS"/>
              </a:rPr>
              <a:t>Презентацию подготовила Бачковская Елизавета 311 гр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70956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ИСТОРИЯ СОЗДАНИЯ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9173160" y="3425400"/>
            <a:ext cx="1218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470520" y="2259000"/>
            <a:ext cx="5986080" cy="3976200"/>
          </a:xfrm>
          <a:prstGeom prst="roundRect">
            <a:avLst>
              <a:gd name="adj" fmla="val 16667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амые знаменитые леденцы на палочке в мире —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 появились на свет в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958-м году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х отцом может считаться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Енрик Бернат (Enric Bernat)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основатель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Chupa Chups Group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 владелец кондитерской фирм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Granja Asturias S.A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Рисунок 3"/>
          <p:cNvSpPr/>
          <p:nvPr/>
        </p:nvSpPr>
        <p:spPr>
          <a:xfrm>
            <a:off x="8021160" y="3425040"/>
            <a:ext cx="3722040" cy="2810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Скругленная прямоугольная выноска 4"/>
          <p:cNvSpPr/>
          <p:nvPr/>
        </p:nvSpPr>
        <p:spPr>
          <a:xfrm>
            <a:off x="1761480" y="2070720"/>
            <a:ext cx="7678080" cy="4275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>
            <a:solidFill>
              <a:srgbClr val="fa7e5c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 1958-м году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спешный кондитер проводит маркетинговое исследование и  получает интересные результаты. Оказывается, что основными потребителями его продукции были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ти младше 16 лет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притом, что всегда учитывались интересы только взрослых потребителей. Это подтолкнуло кондитера к мысли создать некую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«вкусность»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торая бы нравилась не только взрослым, но и, в первую очередь, детям. 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814040" y="2264040"/>
            <a:ext cx="75344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ервое название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было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GOL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 в переводе с испанского, конечно, —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Гол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Но владельцу компании не нравилось это название и позже его сменили сначала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от испанского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chupar»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 —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сосать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 позже и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2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и торговая марка были официально зарегистрированы. Успех леденцов на рынке привел к тому, что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4-м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компании сменилось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 S.A.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2139840"/>
            <a:ext cx="6663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58084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Интересным фактом в истории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 является то, что дизайн марки, который в общих чертах сохранился и по сей день, разрабатывал Сальвадор Дали в 1969-м году. В течении нескольких часов художник создал логотип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, напоминающий ромашку.</a:t>
            </a:r>
            <a:r>
              <a:rPr b="0" lang="be-BY" sz="2400" spc="-1" strike="noStrike">
                <a:solidFill>
                  <a:srgbClr val="580841"/>
                </a:solidFill>
                <a:latin typeface="Times New Roman"/>
              </a:rPr>
              <a:t>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Основные производственные комплексы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upa-Chup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аходятся в Сан-Эстеве-Сесровирес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an Esteve Sesrovires) 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едалеко от Барселоны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selona).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6948720" y="3309120"/>
            <a:ext cx="51267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Рисунок 11"/>
          <p:cNvSpPr/>
          <p:nvPr/>
        </p:nvSpPr>
        <p:spPr>
          <a:xfrm>
            <a:off x="27360" y="622800"/>
            <a:ext cx="3049200" cy="1350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Рисунок 12"/>
          <p:cNvSpPr/>
          <p:nvPr/>
        </p:nvSpPr>
        <p:spPr>
          <a:xfrm>
            <a:off x="3561120" y="622800"/>
            <a:ext cx="3062880" cy="1350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исунок 13"/>
          <p:cNvSpPr/>
          <p:nvPr/>
        </p:nvSpPr>
        <p:spPr>
          <a:xfrm>
            <a:off x="7285320" y="622800"/>
            <a:ext cx="3063240" cy="13507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4" descr=""/>
          <p:cNvPicPr/>
          <p:nvPr/>
        </p:nvPicPr>
        <p:blipFill>
          <a:blip r:embed="rId4"/>
          <a:stretch/>
        </p:blipFill>
        <p:spPr>
          <a:xfrm>
            <a:off x="27360" y="3646800"/>
            <a:ext cx="2560320" cy="2032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5" descr=""/>
          <p:cNvPicPr/>
          <p:nvPr/>
        </p:nvPicPr>
        <p:blipFill>
          <a:blip r:embed="rId5"/>
          <a:stretch/>
        </p:blipFill>
        <p:spPr>
          <a:xfrm>
            <a:off x="3964680" y="4409280"/>
            <a:ext cx="2658960" cy="21751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16" descr=""/>
          <p:cNvPicPr/>
          <p:nvPr/>
        </p:nvPicPr>
        <p:blipFill>
          <a:blip r:embed="rId6"/>
          <a:stretch/>
        </p:blipFill>
        <p:spPr>
          <a:xfrm>
            <a:off x="8058240" y="3695760"/>
            <a:ext cx="2425680" cy="20062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8"/>
          <p:cNvSpPr/>
          <p:nvPr/>
        </p:nvSpPr>
        <p:spPr>
          <a:xfrm>
            <a:off x="200520" y="2234880"/>
            <a:ext cx="254160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9"/>
          <p:cNvSpPr/>
          <p:nvPr/>
        </p:nvSpPr>
        <p:spPr>
          <a:xfrm>
            <a:off x="3764520" y="2234880"/>
            <a:ext cx="265572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0"/>
          <p:cNvSpPr/>
          <p:nvPr/>
        </p:nvSpPr>
        <p:spPr>
          <a:xfrm>
            <a:off x="7501680" y="2234880"/>
            <a:ext cx="2630160" cy="3772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1"/>
          <p:cNvSpPr/>
          <p:nvPr/>
        </p:nvSpPr>
        <p:spPr>
          <a:xfrm>
            <a:off x="2810880" y="3669480"/>
            <a:ext cx="535680" cy="20098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2"/>
          <p:cNvSpPr/>
          <p:nvPr/>
        </p:nvSpPr>
        <p:spPr>
          <a:xfrm>
            <a:off x="6860520" y="4419720"/>
            <a:ext cx="502920" cy="21646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3"/>
          <p:cNvSpPr/>
          <p:nvPr/>
        </p:nvSpPr>
        <p:spPr>
          <a:xfrm>
            <a:off x="10591920" y="3708720"/>
            <a:ext cx="1246680" cy="198000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88-по сегодняшни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уть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МИССИЯ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022040" y="3122280"/>
            <a:ext cx="44593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истые дети – спокойные родител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581680" y="23475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ЦЕЛИ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52840" y="3197520"/>
            <a:ext cx="5125680" cy="31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бота о детях и их родителях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здание креативного внешнего вида, который вызовет любопытство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ЛИЧНОСТЬ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6118200" y="2562840"/>
            <a:ext cx="5406840" cy="35985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4640" y="2336760"/>
            <a:ext cx="5136480" cy="40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У меня, как и у многих, реклама чупа –чупса ассоциируется с плюшевым раздолбаем Чаком в главной рол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ак  это олицетворение спокойствия и ровного отношения к жизни, которую стоит проводить в свое удовольствие, ни на что не оглядываясь, ни о чем не парясь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нимаются такие рекламные ролики под лозунгом 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«менее серьёзная жизнь»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ЦЕННОСТ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4640" y="2027160"/>
            <a:ext cx="3621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упа Чупс®  с момента своего основания делает все, чтобы дарить радость детям любого возраста, сочетая глубокие традиции и современное творчество с инновациям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12000" y="3498840"/>
            <a:ext cx="35845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упа Чупс® направляет все свои усилия на то, чтобы удовлетворить сладкоежек и производить продукцию высокого качества – это неотъемлемое достоинство марки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251200" y="4940640"/>
            <a:ext cx="3439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Яркая индивидуальность продукта и уникальные радостные отношения с потребителями, являются источником сотен приятных и смешных историй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7[[fn=Берлин]]</Template>
  <TotalTime>317</TotalTime>
  <Application>LibreOffice/7.4.7.2$Linux_X86_64 LibreOffice_project/40$Build-2</Application>
  <AppVersion>15.0000</AppVersion>
  <Words>61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2:04:19Z</dcterms:created>
  <dc:creator>Павел Стасяк</dc:creator>
  <dc:description/>
  <dc:language>en-US</dc:language>
  <cp:lastModifiedBy>Елизавета</cp:lastModifiedBy>
  <dcterms:modified xsi:type="dcterms:W3CDTF">2016-04-25T16:04:35Z</dcterms:modified>
  <cp:revision>33</cp:revision>
  <dc:subject/>
  <dc:title>Chupa Ch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