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A70D-BBCD-4652-B51D-35D38245F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0400" y="556236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E72B-1806-4CD5-AE47-F31BD2A3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0664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9C6A-6DAC-4171-97AB-AACC84EBC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3084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18128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040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3084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718128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01FA-E457-4256-BCD4-436CD2DB4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A8CE-CCEA-40F6-B4DC-924F63396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0400" y="5300280"/>
            <a:ext cx="96134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42D2-8CE2-43E0-8349-DDB39F5B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96134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3540-370F-42C5-9BEC-FE9DCCE7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D1C4-C831-4371-AEEC-CA0480A8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CD86-0980-4C05-A531-5C005366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0400" y="4711680"/>
            <a:ext cx="9613440" cy="272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2496-4AFE-4F14-A0EA-2BB0D32B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A8F9-C5B9-405D-AB0F-BADDB03A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0400" y="5300280"/>
            <a:ext cx="96134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2095-2127-474A-A9F4-344B7C18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0664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0E7CB-5EA0-45D7-A8B4-27200440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EBEB-235E-4A50-BBE4-3DAC7058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0400" y="556236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5EDE-1494-42EC-8E08-30FB5BF6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60664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B299-4434-4802-893E-17EE233D6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3084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18128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040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3084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18128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AD15-B332-4A68-92C5-1D68014DB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74EF3-EFB3-4589-B63B-5E89B2259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0400" y="5300280"/>
            <a:ext cx="96134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51E55-F0CA-4FEE-8BB9-71602847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96134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78E99-F5DA-4DE5-811B-462EFB32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4A776-9083-4D4F-886D-CF95FCCC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50B8F-3662-46DD-849B-A072D6F3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96134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9C1F-FB5D-48B4-A614-18D3C18B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80400" y="4711680"/>
            <a:ext cx="9613440" cy="272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2612D-21AE-4B35-AF20-27F16367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088E4-9CF1-402A-AE14-03763D69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0664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A0F3C-59C8-4EE5-B4A8-A550E606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24041-BC78-4E99-A5B3-3B2A089F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80400" y="556236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77EBE-89D9-46E8-BB0B-E7C90C4D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60664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B809C-F23F-43F4-93CA-F0CFA1648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93084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18128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8040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93084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718128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056C8-9CE0-4FFC-88B3-4DA7B1781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AF3EF-B50A-4E32-A71C-CD1556EC7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80400" y="5300280"/>
            <a:ext cx="96134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14B09-2F9E-4B5E-A7EA-3D54CEF0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96134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8F981-E02D-47E6-A260-3F77E6FA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502E-FC63-4200-BEDC-89FFEB33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BE904-990A-4742-A672-60C3B216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36496-51E0-406C-9A0F-7BEA2EFA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80400" y="4711680"/>
            <a:ext cx="9613440" cy="272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CFC0B-08B5-49A7-995D-DDA35EA6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AE919-817C-4FF3-B6AC-3AED41F7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60664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76643-E0F3-439A-ADA4-A9633F16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48E3A-2211-4EC7-9311-207426F8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80400" y="556236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64F15-49DB-48F3-BAA3-C97C3917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560664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C4A3C-2ECB-4D80-A365-1700EE834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93084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18128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8040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93084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18128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EE669-F6C9-4B63-821A-E07158375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4A4B4-07A3-41B7-8A16-62C5889EF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F686-5DB1-4485-84F4-BEA2F237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0400" y="5300280"/>
            <a:ext cx="96134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1997C-1252-4C3B-BF2B-54B3149D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96134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DCEB2-65F9-4F2E-9E06-85F998C9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1A308-F64B-4CB3-9000-4F860045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23A21-13AD-4C33-9429-87C60107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80400" y="4711680"/>
            <a:ext cx="9613440" cy="272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2FC99-4DFF-4D54-AC8C-F10A498E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9AF06-A70D-47FA-B577-E95D75F3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60664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0FEA2-2A0A-4950-94E4-8EBDC707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6F5AC-56B1-42BC-A36B-A707570F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80400" y="556236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34D58-D161-41BD-B74F-40994B86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60664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CF441-3255-4E22-8C02-B57A81B67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0400" y="4711680"/>
            <a:ext cx="9613440" cy="272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573F-EA9F-4BD9-A4FD-3A49419D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93084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18128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8040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93084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718128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2428F-8B2D-4691-803B-9DC7A32C7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54C98-ABAA-422D-9B3D-8F2910016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0400" y="5300280"/>
            <a:ext cx="96134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21F2D-266A-40E1-A180-83D710CA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96134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8556A-A56B-4030-B536-A2120011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10FE9-27E8-4C1B-BD09-B989B2B7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A342C-6D51-4EF3-ACD8-B8C98698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0400" y="4711680"/>
            <a:ext cx="9613440" cy="272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6F55D-F7A9-42DE-BB78-4E9C3155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FBD5F-C2C4-43EE-B6E9-713678E9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60664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33D1F-2425-40A3-B8BD-5677FA9D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97FE3-2361-422F-A2AA-A30E6850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428B-2D39-46AE-A54E-77F1B8B0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0400" y="556236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8EF83-4A4E-4860-A201-5418859D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60664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5841E-C755-498D-B2BC-DC630FFD9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93084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718128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040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93084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718128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C622F-AAB5-447B-AF66-957F33003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0664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8296-E46E-4726-8290-57E06687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B05B-9060-43A4-8FE6-D55C3D03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7e2e"/>
            </a:gs>
            <a:gs pos="100000">
              <a:srgbClr val="d44208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ashOverlay-FullResolve.png"/>
          <p:cNvPicPr/>
          <p:nvPr/>
        </p:nvPicPr>
        <p:blipFill>
          <a:blip r:embed="rId2">
            <a:alphaModFix amt="10000"/>
          </a:blip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HD-ShadowLong.png"/>
          <p:cNvPicPr/>
          <p:nvPr/>
        </p:nvPicPr>
        <p:blipFill>
          <a:blip r:embed="rId3"/>
          <a:stretch/>
        </p:blipFill>
        <p:spPr>
          <a:xfrm>
            <a:off x="0" y="4242960"/>
            <a:ext cx="8967600" cy="275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7" descr="HD-ShadowShort.png"/>
          <p:cNvPicPr/>
          <p:nvPr/>
        </p:nvPicPr>
        <p:blipFill>
          <a:blip r:embed="rId4"/>
          <a:stretch/>
        </p:blipFill>
        <p:spPr>
          <a:xfrm>
            <a:off x="9111600" y="4243680"/>
            <a:ext cx="3076920" cy="276480"/>
          </a:xfrm>
          <a:prstGeom prst="rect">
            <a:avLst/>
          </a:prstGeom>
          <a:ln w="0">
            <a:noFill/>
          </a:ln>
        </p:spPr>
      </p:pic>
      <p:sp>
        <p:nvSpPr>
          <p:cNvPr id="3" name="Rectangle 8"/>
          <p:cNvSpPr/>
          <p:nvPr/>
        </p:nvSpPr>
        <p:spPr>
          <a:xfrm>
            <a:off x="0" y="2590200"/>
            <a:ext cx="8967600" cy="1659960"/>
          </a:xfrm>
          <a:prstGeom prst="rect">
            <a:avLst/>
          </a:prstGeom>
          <a:solidFill>
            <a:schemeClr val="bg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9111600" y="2590200"/>
            <a:ext cx="3076920" cy="165996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400" y="2733840"/>
            <a:ext cx="8143920" cy="137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5400" spc="-1" strike="noStrike"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be-BY" sz="5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7551000" y="593604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be-BY" sz="105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be-BY" sz="105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680400" y="5936040"/>
            <a:ext cx="6870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9255240" y="2750400"/>
            <a:ext cx="1171440" cy="135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be-BY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452BE34-CA04-4800-A209-3E4F1DFCDFEA}" type="slidenum">
              <a:rPr b="0" lang="be-BY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be-BY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be-BY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be-BY" sz="1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be-BY" sz="1600" spc="-1" strike="noStrike">
              <a:solidFill>
                <a:srgbClr val="ffffff"/>
              </a:solidFill>
              <a:latin typeface="Trebuchet MS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be-BY" sz="1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be-BY" sz="1600" spc="-1" strike="noStrike">
              <a:solidFill>
                <a:srgbClr val="ffffff"/>
              </a:solidFill>
              <a:latin typeface="Trebuchet MS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be-BY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be-BY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be-BY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be-BY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be-BY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be-BY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7e2e"/>
            </a:gs>
            <a:gs pos="100000">
              <a:srgbClr val="d44208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hashOverlay-FullResolve.png"/>
          <p:cNvPicPr/>
          <p:nvPr/>
        </p:nvPicPr>
        <p:blipFill>
          <a:blip r:embed="rId2">
            <a:alphaModFix amt="10000"/>
          </a:blip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HD-ShadowLong.png"/>
          <p:cNvPicPr/>
          <p:nvPr/>
        </p:nvPicPr>
        <p:blipFill>
          <a:blip r:embed="rId3"/>
          <a:stretch/>
        </p:blipFill>
        <p:spPr>
          <a:xfrm>
            <a:off x="0" y="1970280"/>
            <a:ext cx="10437480" cy="320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HD-ShadowShort.png"/>
          <p:cNvPicPr/>
          <p:nvPr/>
        </p:nvPicPr>
        <p:blipFill>
          <a:blip r:embed="rId4"/>
          <a:stretch/>
        </p:blipFill>
        <p:spPr>
          <a:xfrm>
            <a:off x="10585800" y="1971360"/>
            <a:ext cx="1602720" cy="144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0" y="609480"/>
            <a:ext cx="10437480" cy="1368000"/>
          </a:xfrm>
          <a:prstGeom prst="rect">
            <a:avLst/>
          </a:prstGeom>
          <a:solidFill>
            <a:schemeClr val="bg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10585800" y="609480"/>
            <a:ext cx="1602720" cy="13680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0400" y="75312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be-BY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685760" y="2336760"/>
            <a:ext cx="56080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Образец текста</a:t>
            </a: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Второй уровень</a:t>
            </a:r>
            <a:endParaRPr b="0" lang="be-BY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Третий уровень</a:t>
            </a: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Четвертый уровень</a:t>
            </a:r>
            <a:endParaRPr b="0" lang="be-BY" sz="16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Пятый уровень</a:t>
            </a:r>
            <a:endParaRPr b="0" lang="be-BY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680400" y="2336760"/>
            <a:ext cx="3789720" cy="359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Образец текста</a:t>
            </a:r>
            <a:endParaRPr b="0" lang="be-BY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dt" idx="4"/>
          </p:nvPr>
        </p:nvSpPr>
        <p:spPr>
          <a:xfrm>
            <a:off x="7551000" y="593604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be-BY" sz="105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be-BY" sz="105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680400" y="5936040"/>
            <a:ext cx="6870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10729440" y="753120"/>
            <a:ext cx="115380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be-BY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5E96A28-7225-4132-B84E-06303DE9259E}" type="slidenum">
              <a:rPr b="0" lang="be-BY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7e2e"/>
            </a:gs>
            <a:gs pos="100000">
              <a:srgbClr val="d44208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hashOverlay-FullResolve.png"/>
          <p:cNvPicPr/>
          <p:nvPr/>
        </p:nvPicPr>
        <p:blipFill>
          <a:blip r:embed="rId2">
            <a:alphaModFix amt="10000"/>
          </a:blip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HD-ShadowLong.png"/>
          <p:cNvPicPr/>
          <p:nvPr/>
        </p:nvPicPr>
        <p:blipFill>
          <a:blip r:embed="rId3"/>
          <a:stretch/>
        </p:blipFill>
        <p:spPr>
          <a:xfrm>
            <a:off x="0" y="1970280"/>
            <a:ext cx="10437480" cy="320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HD-ShadowShort.png"/>
          <p:cNvPicPr/>
          <p:nvPr/>
        </p:nvPicPr>
        <p:blipFill>
          <a:blip r:embed="rId4"/>
          <a:stretch/>
        </p:blipFill>
        <p:spPr>
          <a:xfrm>
            <a:off x="10585800" y="1971360"/>
            <a:ext cx="1602720" cy="144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6"/>
          <p:cNvSpPr/>
          <p:nvPr/>
        </p:nvSpPr>
        <p:spPr>
          <a:xfrm>
            <a:off x="0" y="609480"/>
            <a:ext cx="10437480" cy="1368000"/>
          </a:xfrm>
          <a:prstGeom prst="rect">
            <a:avLst/>
          </a:prstGeom>
          <a:solidFill>
            <a:schemeClr val="bg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17"/>
          <p:cNvSpPr/>
          <p:nvPr/>
        </p:nvSpPr>
        <p:spPr>
          <a:xfrm>
            <a:off x="10585800" y="609480"/>
            <a:ext cx="1602720" cy="13680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0400" y="75312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be-BY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0400" y="2336760"/>
            <a:ext cx="961344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Образец текста</a:t>
            </a: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Второй уровень</a:t>
            </a:r>
            <a:endParaRPr b="0" lang="be-BY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Третий уровень</a:t>
            </a: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Четвертый уровень</a:t>
            </a:r>
            <a:endParaRPr b="0" lang="be-BY" sz="16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Пятый уровень</a:t>
            </a:r>
            <a:endParaRPr b="0" lang="be-BY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7551000" y="593604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be-BY" sz="105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be-BY" sz="105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680400" y="5936040"/>
            <a:ext cx="6870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10729440" y="753120"/>
            <a:ext cx="115380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be-BY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E273D5A-C844-4026-8755-F9BE47309048}" type="slidenum">
              <a:rPr b="0" lang="be-BY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7e2e"/>
            </a:gs>
            <a:gs pos="100000">
              <a:srgbClr val="d44208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6" descr="hashOverlay-FullResolve.png"/>
          <p:cNvPicPr/>
          <p:nvPr/>
        </p:nvPicPr>
        <p:blipFill>
          <a:blip r:embed="rId2">
            <a:alphaModFix amt="10000"/>
          </a:blip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HD-ShadowLong.png"/>
          <p:cNvPicPr/>
          <p:nvPr/>
        </p:nvPicPr>
        <p:blipFill>
          <a:blip r:embed="rId3"/>
          <a:stretch/>
        </p:blipFill>
        <p:spPr>
          <a:xfrm>
            <a:off x="0" y="1970280"/>
            <a:ext cx="10437480" cy="320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HD-ShadowShort.png"/>
          <p:cNvPicPr/>
          <p:nvPr/>
        </p:nvPicPr>
        <p:blipFill>
          <a:blip r:embed="rId4"/>
          <a:stretch/>
        </p:blipFill>
        <p:spPr>
          <a:xfrm>
            <a:off x="10585800" y="1971360"/>
            <a:ext cx="1602720" cy="144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6"/>
          <p:cNvSpPr/>
          <p:nvPr/>
        </p:nvSpPr>
        <p:spPr>
          <a:xfrm>
            <a:off x="0" y="609480"/>
            <a:ext cx="10437480" cy="1368000"/>
          </a:xfrm>
          <a:prstGeom prst="rect">
            <a:avLst/>
          </a:prstGeom>
          <a:solidFill>
            <a:schemeClr val="bg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7"/>
          <p:cNvSpPr/>
          <p:nvPr/>
        </p:nvSpPr>
        <p:spPr>
          <a:xfrm>
            <a:off x="10585800" y="609480"/>
            <a:ext cx="1602720" cy="13680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0400" y="75312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be-BY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0400" y="4297680"/>
            <a:ext cx="30492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Образец текста</a:t>
            </a: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body"/>
          </p:nvPr>
        </p:nvSpPr>
        <p:spPr>
          <a:xfrm>
            <a:off x="680400" y="2336760"/>
            <a:ext cx="3049200" cy="15235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50760" rotWithShape="0">
              <a:srgbClr val="000000">
                <a:alpha val="43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Вставка рисунка</a:t>
            </a:r>
            <a:endParaRPr b="0" lang="be-BY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body"/>
          </p:nvPr>
        </p:nvSpPr>
        <p:spPr>
          <a:xfrm>
            <a:off x="680400" y="4873680"/>
            <a:ext cx="3049200" cy="10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Образец текста</a:t>
            </a:r>
            <a:endParaRPr b="0" lang="be-BY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body"/>
          </p:nvPr>
        </p:nvSpPr>
        <p:spPr>
          <a:xfrm>
            <a:off x="3945600" y="4297680"/>
            <a:ext cx="30628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Образец текста</a:t>
            </a: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 type="body"/>
          </p:nvPr>
        </p:nvSpPr>
        <p:spPr>
          <a:xfrm>
            <a:off x="3945600" y="2336760"/>
            <a:ext cx="3062880" cy="15235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50760" rotWithShape="0">
              <a:srgbClr val="000000">
                <a:alpha val="43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Вставка рисунка</a:t>
            </a:r>
            <a:endParaRPr b="0" lang="be-BY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 type="body"/>
          </p:nvPr>
        </p:nvSpPr>
        <p:spPr>
          <a:xfrm>
            <a:off x="3944160" y="4873680"/>
            <a:ext cx="3066840" cy="10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Образец текста</a:t>
            </a:r>
            <a:endParaRPr b="0" lang="be-BY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8"/>
          <p:cNvSpPr>
            <a:spLocks noGrp="1"/>
          </p:cNvSpPr>
          <p:nvPr>
            <p:ph type="body"/>
          </p:nvPr>
        </p:nvSpPr>
        <p:spPr>
          <a:xfrm>
            <a:off x="7230600" y="4297680"/>
            <a:ext cx="30632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Образец текста</a:t>
            </a: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9"/>
          <p:cNvSpPr>
            <a:spLocks noGrp="1"/>
          </p:cNvSpPr>
          <p:nvPr>
            <p:ph type="body"/>
          </p:nvPr>
        </p:nvSpPr>
        <p:spPr>
          <a:xfrm>
            <a:off x="7230600" y="2336760"/>
            <a:ext cx="3063240" cy="15235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50760" rotWithShape="0">
              <a:srgbClr val="000000">
                <a:alpha val="43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Вставка рисунка</a:t>
            </a:r>
            <a:endParaRPr b="0" lang="be-BY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10"/>
          <p:cNvSpPr>
            <a:spLocks noGrp="1"/>
          </p:cNvSpPr>
          <p:nvPr>
            <p:ph type="body"/>
          </p:nvPr>
        </p:nvSpPr>
        <p:spPr>
          <a:xfrm>
            <a:off x="7230600" y="4873680"/>
            <a:ext cx="3067200" cy="10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Образец текста</a:t>
            </a:r>
            <a:endParaRPr b="0" lang="be-BY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11"/>
          <p:cNvSpPr>
            <a:spLocks noGrp="1"/>
          </p:cNvSpPr>
          <p:nvPr>
            <p:ph type="dt" idx="10"/>
          </p:nvPr>
        </p:nvSpPr>
        <p:spPr>
          <a:xfrm>
            <a:off x="7551000" y="593604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be-BY" sz="105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be-BY" sz="105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2"/>
          <p:cNvSpPr>
            <a:spLocks noGrp="1"/>
          </p:cNvSpPr>
          <p:nvPr>
            <p:ph type="ftr" idx="11"/>
          </p:nvPr>
        </p:nvSpPr>
        <p:spPr>
          <a:xfrm>
            <a:off x="680400" y="5936040"/>
            <a:ext cx="6870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3"/>
          <p:cNvSpPr>
            <a:spLocks noGrp="1"/>
          </p:cNvSpPr>
          <p:nvPr>
            <p:ph type="sldNum" idx="12"/>
          </p:nvPr>
        </p:nvSpPr>
        <p:spPr>
          <a:xfrm>
            <a:off x="10729440" y="753120"/>
            <a:ext cx="115380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be-BY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AAC03CC-0770-4B6F-9BBA-6EB123017C8A}" type="slidenum">
              <a:rPr b="0" lang="be-BY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7e2e"/>
            </a:gs>
            <a:gs pos="100000">
              <a:srgbClr val="d44208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6" descr="hashOverlay-FullResolve.png"/>
          <p:cNvPicPr/>
          <p:nvPr/>
        </p:nvPicPr>
        <p:blipFill>
          <a:blip r:embed="rId2">
            <a:alphaModFix amt="10000"/>
          </a:blip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2" descr="HD-ShadowLong.png"/>
          <p:cNvPicPr/>
          <p:nvPr/>
        </p:nvPicPr>
        <p:blipFill>
          <a:blip r:embed="rId3"/>
          <a:stretch/>
        </p:blipFill>
        <p:spPr>
          <a:xfrm>
            <a:off x="0" y="1970280"/>
            <a:ext cx="10437480" cy="3207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HD-ShadowShort.png"/>
          <p:cNvPicPr/>
          <p:nvPr/>
        </p:nvPicPr>
        <p:blipFill>
          <a:blip r:embed="rId4"/>
          <a:stretch/>
        </p:blipFill>
        <p:spPr>
          <a:xfrm>
            <a:off x="10585800" y="1971360"/>
            <a:ext cx="1602720" cy="1440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5"/>
          <p:cNvSpPr/>
          <p:nvPr/>
        </p:nvSpPr>
        <p:spPr>
          <a:xfrm>
            <a:off x="0" y="609480"/>
            <a:ext cx="10437480" cy="1368000"/>
          </a:xfrm>
          <a:prstGeom prst="rect">
            <a:avLst/>
          </a:prstGeom>
          <a:solidFill>
            <a:schemeClr val="bg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16"/>
          <p:cNvSpPr/>
          <p:nvPr/>
        </p:nvSpPr>
        <p:spPr>
          <a:xfrm>
            <a:off x="10585800" y="609480"/>
            <a:ext cx="1602720" cy="13680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69240" y="753120"/>
            <a:ext cx="9624600" cy="10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be-BY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60960" y="2336760"/>
            <a:ext cx="3069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Образец текста</a:t>
            </a: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body"/>
          </p:nvPr>
        </p:nvSpPr>
        <p:spPr>
          <a:xfrm>
            <a:off x="680400" y="3022560"/>
            <a:ext cx="304920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Образец текста</a:t>
            </a:r>
            <a:endParaRPr b="0" lang="be-BY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body"/>
          </p:nvPr>
        </p:nvSpPr>
        <p:spPr>
          <a:xfrm>
            <a:off x="3956040" y="2336760"/>
            <a:ext cx="30628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Образец текста</a:t>
            </a: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body"/>
          </p:nvPr>
        </p:nvSpPr>
        <p:spPr>
          <a:xfrm>
            <a:off x="3945600" y="3022560"/>
            <a:ext cx="306288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Образец текста</a:t>
            </a:r>
            <a:endParaRPr b="0" lang="be-BY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 type="body"/>
          </p:nvPr>
        </p:nvSpPr>
        <p:spPr>
          <a:xfrm>
            <a:off x="7224120" y="2336760"/>
            <a:ext cx="3069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Образец текста</a:t>
            </a: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 type="body"/>
          </p:nvPr>
        </p:nvSpPr>
        <p:spPr>
          <a:xfrm>
            <a:off x="7224120" y="3022560"/>
            <a:ext cx="306972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Образец текста</a:t>
            </a:r>
            <a:endParaRPr b="0" lang="be-BY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8"/>
          <p:cNvSpPr>
            <a:spLocks noGrp="1"/>
          </p:cNvSpPr>
          <p:nvPr>
            <p:ph type="dt" idx="13"/>
          </p:nvPr>
        </p:nvSpPr>
        <p:spPr>
          <a:xfrm>
            <a:off x="7551000" y="593604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be-BY" sz="105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be-BY" sz="105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9"/>
          <p:cNvSpPr>
            <a:spLocks noGrp="1"/>
          </p:cNvSpPr>
          <p:nvPr>
            <p:ph type="ftr" idx="14"/>
          </p:nvPr>
        </p:nvSpPr>
        <p:spPr>
          <a:xfrm>
            <a:off x="680400" y="5936040"/>
            <a:ext cx="6870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0"/>
          <p:cNvSpPr>
            <a:spLocks noGrp="1"/>
          </p:cNvSpPr>
          <p:nvPr>
            <p:ph type="sldNum" idx="15"/>
          </p:nvPr>
        </p:nvSpPr>
        <p:spPr>
          <a:xfrm>
            <a:off x="10729440" y="753120"/>
            <a:ext cx="115380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be-BY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B47F6EE-38E4-4376-AC5A-38CE31A6AFC3}" type="slidenum">
              <a:rPr b="0" lang="be-BY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7e2e"/>
            </a:gs>
            <a:gs pos="100000">
              <a:srgbClr val="d44208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hashOverlay-FullResolve.png"/>
          <p:cNvPicPr/>
          <p:nvPr/>
        </p:nvPicPr>
        <p:blipFill>
          <a:blip r:embed="rId2">
            <a:alphaModFix amt="10000"/>
          </a:blip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HD-ShadowLong.png"/>
          <p:cNvPicPr/>
          <p:nvPr/>
        </p:nvPicPr>
        <p:blipFill>
          <a:blip r:embed="rId3"/>
          <a:stretch/>
        </p:blipFill>
        <p:spPr>
          <a:xfrm>
            <a:off x="0" y="5928480"/>
            <a:ext cx="10437480" cy="3207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HD-ShadowShort.png"/>
          <p:cNvPicPr/>
          <p:nvPr/>
        </p:nvPicPr>
        <p:blipFill>
          <a:blip r:embed="rId4"/>
          <a:stretch/>
        </p:blipFill>
        <p:spPr>
          <a:xfrm>
            <a:off x="10585800" y="5929560"/>
            <a:ext cx="1602720" cy="14400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0"/>
          <p:cNvSpPr/>
          <p:nvPr/>
        </p:nvSpPr>
        <p:spPr>
          <a:xfrm>
            <a:off x="0" y="4568040"/>
            <a:ext cx="10437480" cy="1368000"/>
          </a:xfrm>
          <a:prstGeom prst="rect">
            <a:avLst/>
          </a:prstGeom>
          <a:solidFill>
            <a:schemeClr val="bg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10585800" y="4568040"/>
            <a:ext cx="1602720" cy="13680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be-BY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0400" y="5300280"/>
            <a:ext cx="96134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Образец текста</a:t>
            </a:r>
            <a:endParaRPr b="0" lang="be-BY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7551000" y="593604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be-BY" sz="105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be-BY" sz="105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680400" y="5936040"/>
            <a:ext cx="6870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10729440" y="4709880"/>
            <a:ext cx="115380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be-BY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6651C8D-3C5F-4292-B34B-E61C10EE5563}" type="slidenum">
              <a:rPr b="0" lang="be-BY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0400" y="2733840"/>
            <a:ext cx="8143920" cy="137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0" lang="en-US" sz="5400" spc="-1" strike="noStrike">
                <a:solidFill>
                  <a:srgbClr val="ff3300"/>
                </a:solidFill>
                <a:latin typeface="Trebuchet MS"/>
              </a:rPr>
              <a:t>Chupa Chups</a:t>
            </a:r>
            <a:endParaRPr b="0" lang="be-BY" sz="5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91" name="Рисунок 3" descr=""/>
          <p:cNvPicPr/>
          <p:nvPr/>
        </p:nvPicPr>
        <p:blipFill>
          <a:blip r:embed="rId1"/>
          <a:stretch/>
        </p:blipFill>
        <p:spPr>
          <a:xfrm>
            <a:off x="9695160" y="2582640"/>
            <a:ext cx="203004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69240" y="753120"/>
            <a:ext cx="9624600" cy="10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i="1" lang="ru-RU" sz="3600" spc="-1" strike="noStrike">
                <a:solidFill>
                  <a:srgbClr val="ffffff"/>
                </a:solidFill>
                <a:latin typeface="Trebuchet MS"/>
              </a:rPr>
              <a:t>Преимущества бренда</a:t>
            </a:r>
            <a:endParaRPr b="0" lang="be-BY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9160" y="2948400"/>
            <a:ext cx="3628080" cy="368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Chupa Chups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– первая карамель, которая стала производиться специально для детей. Сейчас же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Chupa Chups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популярен и среди детей и среди взрослых в равной степени. Может быть,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Chupa Chups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- единственная детская сладость, которая полюбилась и взрослым.</a:t>
            </a:r>
            <a:endParaRPr b="0" lang="be-BY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8128080" y="3618360"/>
            <a:ext cx="3887640" cy="291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e203b"/>
                </a:solidFill>
                <a:latin typeface="Times New Roman"/>
              </a:rPr>
              <a:t>С помощью специалистов Энрике выяснил, что еще никто не производил карамель специально для детей. Основным отличием карамели Энрике была палочка, на которой размещалась карамель. Конфету можно было сосать, не пачкая руки и одежду. Сначала палочка была деревянной, затем ее стали делать из пластика.</a:t>
            </a:r>
            <a:endParaRPr b="0" lang="be-BY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TextBox 8"/>
          <p:cNvSpPr/>
          <p:nvPr/>
        </p:nvSpPr>
        <p:spPr>
          <a:xfrm>
            <a:off x="3657600" y="2061000"/>
            <a:ext cx="4470120" cy="31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У него необычная форма, привлекательная упаковка и уделяется проявляется особое внимание к вкусам потребителей (создано около ста различных видов 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Чупа-Чупс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), а также внедрению новейших технологий в процесс производства на сегодня 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Чупа-Чупс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 являются самыми узнаваемыми и любимыми леденцами во всем ми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69240" y="753120"/>
            <a:ext cx="9624600" cy="10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i="1" lang="ru-RU" sz="3600" spc="-1" strike="noStrike">
                <a:solidFill>
                  <a:srgbClr val="ffffff"/>
                </a:solidFill>
                <a:latin typeface="Trebuchet MS"/>
              </a:rPr>
              <a:t>Атрибуты</a:t>
            </a:r>
            <a:endParaRPr b="0" lang="be-BY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1600" y="1953720"/>
            <a:ext cx="3069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e1b07"/>
                </a:solidFill>
                <a:latin typeface="Trebuchet MS"/>
              </a:rPr>
              <a:t>ФОРМА</a:t>
            </a: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20160" y="2615040"/>
            <a:ext cx="343080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rebuchet MS"/>
              </a:rPr>
              <a:t>Форма логотипа бренда постоянно видоизменялась. С начала это была просто надпись без всяких ограничивающих рамок, а затем логотип «</a:t>
            </a:r>
            <a:r>
              <a:rPr b="0" lang="en-US" sz="1600" spc="-1" strike="noStrike">
                <a:solidFill>
                  <a:srgbClr val="002060"/>
                </a:solidFill>
                <a:latin typeface="Trebuchet MS"/>
              </a:rPr>
              <a:t>Chupa Chups</a:t>
            </a:r>
            <a:r>
              <a:rPr b="0" lang="ru-RU" sz="1600" spc="-1" strike="noStrike">
                <a:solidFill>
                  <a:srgbClr val="002060"/>
                </a:solidFill>
                <a:latin typeface="Trebuchet MS"/>
              </a:rPr>
              <a:t>» стал изображаться в виде ромашки. Это достаточно простая и понятная форма, которая в сочетании с яркими цветами  вызывает чувство радости и беззаботности. Благодаря этому логотип бренда </a:t>
            </a:r>
            <a:r>
              <a:rPr b="0" lang="en-US" sz="1600" spc="-1" strike="noStrike">
                <a:solidFill>
                  <a:srgbClr val="002060"/>
                </a:solidFill>
                <a:latin typeface="Trebuchet MS"/>
              </a:rPr>
              <a:t>«Chupa Chups»</a:t>
            </a:r>
            <a:r>
              <a:rPr b="0" lang="ru-RU" sz="1600" spc="-1" strike="noStrike">
                <a:solidFill>
                  <a:srgbClr val="002060"/>
                </a:solidFill>
                <a:latin typeface="Trebuchet MS"/>
              </a:rPr>
              <a:t> хорошо воспринимается такой целевой аудиторией, как дети и подростки.</a:t>
            </a:r>
            <a:endParaRPr b="0" lang="be-BY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407840" y="1941480"/>
            <a:ext cx="30628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e1b07"/>
                </a:solidFill>
                <a:latin typeface="Trebuchet MS"/>
              </a:rPr>
              <a:t>ЦВЕТ</a:t>
            </a: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783960" y="2480040"/>
            <a:ext cx="4512240" cy="39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rebuchet MS"/>
              </a:rPr>
              <a:t>Что касается цветового решения, то  логотип этого бренда выделяется своим многоцветием, яркими оттенками, которые часто присущи оформлению детских и подростковых брендов. Яркие оттенки выполняют функцию – веселить и радовать. Их девиз - игра и динамика. У логотипа </a:t>
            </a:r>
            <a:r>
              <a:rPr b="0" lang="en-US" sz="1600" spc="-1" strike="noStrike">
                <a:solidFill>
                  <a:srgbClr val="002060"/>
                </a:solidFill>
                <a:latin typeface="Trebuchet MS"/>
              </a:rPr>
              <a:t>«Chupa Chups» </a:t>
            </a:r>
            <a:r>
              <a:rPr b="0" lang="ru-RU" sz="1600" spc="-1" strike="noStrike">
                <a:solidFill>
                  <a:srgbClr val="002060"/>
                </a:solidFill>
                <a:latin typeface="Trebuchet MS"/>
              </a:rPr>
              <a:t> всегда присутствовал красный цвет ,которым выделялось название бренда. Так же постоянен был и жёлтый, который зачастую присутствовал на фоне надписи. Сочетание этих цветов достаточно распространённое среди различных брендов. Красный цвет сосредотачивает внимание, жёлтый цвет вызывает чувство радости, теплоты и беззаботности. Таким образом такое цветовое решение подчёркивает идею создания данного бренда.</a:t>
            </a:r>
            <a:endParaRPr b="0" lang="be-BY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9122040" y="2189880"/>
            <a:ext cx="3069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e1b07"/>
                </a:solidFill>
                <a:latin typeface="Trebuchet MS"/>
              </a:rPr>
              <a:t>ОТЛИЧИТЕЛЬНАЯ ОСОБЕННОСТЬ</a:t>
            </a: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9122040" y="2853000"/>
            <a:ext cx="271296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rebuchet MS"/>
              </a:rPr>
              <a:t>Основным и главным атрибутом является палочка. Сначала она была деревянной, а затем стала пластиковой. Делалась она для удобства детей.</a:t>
            </a:r>
            <a:endParaRPr b="0" lang="be-BY" sz="1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0400" y="75312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3600" spc="-1" strike="noStrike">
                <a:solidFill>
                  <a:srgbClr val="ff3300"/>
                </a:solidFill>
                <a:latin typeface="Trebuchet MS"/>
              </a:rPr>
              <a:t>50 лет делаем жизнь СЛАЩЕ</a:t>
            </a:r>
            <a:endParaRPr b="0" lang="be-BY" sz="36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336" name="Объект 4"/>
          <p:cNvGraphicFramePr/>
          <p:nvPr/>
        </p:nvGraphicFramePr>
        <p:xfrm>
          <a:off x="680400" y="1854360"/>
          <a:ext cx="8807040" cy="4514040"/>
        </p:xfrm>
        <a:graphic>
          <a:graphicData uri="http://schemas.openxmlformats.org/drawingml/2006/table">
            <a:tbl>
              <a:tblPr/>
              <a:tblGrid>
                <a:gridCol w="8807400"/>
              </a:tblGrid>
              <a:tr h="5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800" spc="-1" strike="noStrike">
                        <a:solidFill>
                          <a:srgbClr val="ff33cc"/>
                        </a:solidFill>
                        <a:latin typeface="Trebuchet MS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49360">
                <a:tc>
                  <a:txBody>
                    <a:bodyPr lIns="22320" rIns="22320" tIns="22320" bIns="22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июле 2006-го Chupa-Chups Group была приобретена компанией Perfetti Van Melle S.p.A. и стала ее ведущим брендо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2008 году Чупа Чупс</a:t>
                      </a:r>
                      <a:r>
                        <a:rPr b="0" lang="ru-RU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®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отметил свой 50-летний юбилей, в котором участвовали любители этой карамели со всего мира. Многочисленные мероприятия проходили в разных странах в течение всего года: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ольшая вечеринка учащихся в Германии, скайблог во Франции, вечеринка «The Suck for luck» на Филлипинах и множество других. Вершиной празднества стал грандиозный концерт MTV в Барселон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" name="Улыбающееся лицо 3"/>
          <p:cNvSpPr/>
          <p:nvPr/>
        </p:nvSpPr>
        <p:spPr>
          <a:xfrm>
            <a:off x="10784520" y="657720"/>
            <a:ext cx="1203480" cy="1196280"/>
          </a:xfrm>
          <a:prstGeom prst="smileyFace">
            <a:avLst>
              <a:gd name="adj" fmla="val 4653"/>
            </a:avLst>
          </a:prstGeom>
          <a:solidFill>
            <a:srgbClr val="ffff00"/>
          </a:solidFill>
          <a:ln>
            <a:solidFill>
              <a:srgbClr val="b16d0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0400" y="75312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i="1" lang="ru-RU" sz="3600" spc="-1" strike="noStrike">
                <a:solidFill>
                  <a:srgbClr val="ffffff"/>
                </a:solidFill>
                <a:latin typeface="Trebuchet MS"/>
              </a:rPr>
              <a:t>ПОЗИЦИОНИРОВАННИЕ БРЕНДА</a:t>
            </a:r>
            <a:endParaRPr b="0" lang="be-BY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35360" y="2336760"/>
            <a:ext cx="51094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Для продажи леденцов Чупа Чупс® был придуман новый способ – вместо того, чтобы класть их в банки и ставить за прилавком вместе с другими конфетами, леденцы Чупа Чупс® стали выставлять на самом прилавке в привлекательных дисплеях(подставках).</a:t>
            </a: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40" name="Рисунок 3" descr=""/>
          <p:cNvPicPr/>
          <p:nvPr/>
        </p:nvPicPr>
        <p:blipFill>
          <a:blip r:embed="rId1"/>
          <a:stretch/>
        </p:blipFill>
        <p:spPr>
          <a:xfrm>
            <a:off x="7449840" y="2109240"/>
            <a:ext cx="3012840" cy="449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0400" y="75312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be-BY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0400" y="2336760"/>
            <a:ext cx="58006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Более 600 автомобилей Чупа Чупс® развозили менеджеров по продажам по более чем 300 000 торговых точек по всей стране, где их лозунг «Я привез хорошие новости!» всегда встречали с радостью.</a:t>
            </a: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43" name="Рисунок 4" descr=""/>
          <p:cNvPicPr/>
          <p:nvPr/>
        </p:nvPicPr>
        <p:blipFill>
          <a:blip r:embed="rId1"/>
          <a:stretch/>
        </p:blipFill>
        <p:spPr>
          <a:xfrm>
            <a:off x="7238520" y="3526920"/>
            <a:ext cx="352404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3200" spc="-1" strike="noStrike">
                <a:solidFill>
                  <a:srgbClr val="d3139c"/>
                </a:solidFill>
                <a:latin typeface="Trebuchet MS"/>
              </a:rPr>
              <a:t>СПАСИБО ЗА ВНИМАНИЕ </a:t>
            </a:r>
            <a:r>
              <a:rPr b="0" lang="ru-RU" sz="3200" spc="-1" strike="noStrike">
                <a:solidFill>
                  <a:srgbClr val="d3139c"/>
                </a:solidFill>
                <a:latin typeface="Wingdings"/>
              </a:rPr>
              <a:t></a:t>
            </a:r>
            <a:endParaRPr b="0" lang="be-BY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710040" y="5300280"/>
            <a:ext cx="3710880" cy="6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Trebuchet MS"/>
              </a:rPr>
              <a:t>Презентацию подготовила Бачковская Елизавета 311 гр.</a:t>
            </a:r>
            <a:endParaRPr b="0" lang="be-BY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70956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i="1" lang="ru-RU" sz="3600" spc="-1" strike="noStrike">
                <a:solidFill>
                  <a:srgbClr val="ffffff"/>
                </a:solidFill>
                <a:latin typeface="Trebuchet MS"/>
              </a:rPr>
              <a:t>ИСТОРИЯ СОЗДАНИЯ БРЕНДА</a:t>
            </a:r>
            <a:endParaRPr b="0" lang="be-BY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TextBox 4"/>
          <p:cNvSpPr/>
          <p:nvPr/>
        </p:nvSpPr>
        <p:spPr>
          <a:xfrm>
            <a:off x="9173160" y="3425400"/>
            <a:ext cx="121896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4" name="Скругленный прямоугольник 7"/>
          <p:cNvSpPr/>
          <p:nvPr/>
        </p:nvSpPr>
        <p:spPr>
          <a:xfrm>
            <a:off x="470520" y="2259000"/>
            <a:ext cx="5986080" cy="3976200"/>
          </a:xfrm>
          <a:prstGeom prst="roundRect">
            <a:avLst>
              <a:gd name="adj" fmla="val 16667"/>
            </a:avLst>
          </a:prstGeom>
          <a:solidFill>
            <a:srgbClr val="f09415"/>
          </a:solidFill>
          <a:ln>
            <a:solidFill>
              <a:srgbClr val="b16d0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Самые знаменитые леденцы на палочке в мире — 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Чупа-Чупс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 появились на свет в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1958-м году.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Их отцом может считаться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Енрик Бернат (Enric Bernat)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, основатель 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Chupa Chups Group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и владелец кондитерской фирмы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Granja Asturias S.A.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Рисунок 3"/>
          <p:cNvSpPr/>
          <p:nvPr/>
        </p:nvSpPr>
        <p:spPr>
          <a:xfrm>
            <a:off x="8021160" y="3425040"/>
            <a:ext cx="3722040" cy="28101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tl" blurRad="152280" dir="868217" dist="11525" kx="110000" ky="200000" rotWithShape="0" sy="98000">
              <a:srgbClr val="000000">
                <a:alpha val="30000"/>
              </a:srgbClr>
            </a:outerShdw>
          </a:effectLst>
          <a:scene3d>
            <a:camera prst="perspectiveRelaxed">
              <a:rot lat="19800000" lon="1200000" rev="20820000"/>
            </a:camera>
            <a:lightRig dir="t" rig="threePt"/>
          </a:scene3d>
          <a:sp3d contourW="6350" prstMaterial="matte">
            <a:bevelT w="101600" h="1016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Скругленная прямоугольная выноска 4"/>
          <p:cNvSpPr/>
          <p:nvPr/>
        </p:nvSpPr>
        <p:spPr>
          <a:xfrm>
            <a:off x="1761480" y="2070720"/>
            <a:ext cx="7678080" cy="42757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>
            <a:solidFill>
              <a:srgbClr val="fa7e5c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В 1958-м году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успешный кондитер проводит маркетинговое исследование и  получает интересные результаты. Оказывается, что основными потребителями его продукции были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дети младше 16 лет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, притом, что всегда учитывались интересы только взрослых потребителей. Это подтолкнуло кондитера к мысли создать некую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«вкусность»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которая бы нравилась не только взрослым, но и, в первую очередь, детям.  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1814040" y="2264040"/>
            <a:ext cx="7534440" cy="42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Первое название 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Чупа-Чупс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 было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GOL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, в переводе с испанского, конечно, — </a:t>
            </a:r>
            <a:r>
              <a:rPr b="0" i="1" lang="ru-RU" sz="2800" spc="-1" strike="noStrike">
                <a:solidFill>
                  <a:srgbClr val="ffc000"/>
                </a:solidFill>
                <a:latin typeface="Times New Roman"/>
              </a:rPr>
              <a:t>«Гол»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. Но владельцу компании не нравилось это название и позже его сменили сначала на 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CHUPS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 от испанского </a:t>
            </a:r>
            <a:r>
              <a:rPr b="0" i="1" lang="ru-RU" sz="2800" spc="-1" strike="noStrike">
                <a:solidFill>
                  <a:srgbClr val="ffc000"/>
                </a:solidFill>
                <a:latin typeface="Times New Roman"/>
              </a:rPr>
              <a:t>«chupar»</a:t>
            </a: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 —</a:t>
            </a:r>
            <a:r>
              <a:rPr b="0" i="1" lang="ru-RU" sz="2800" spc="-1" strike="noStrike">
                <a:solidFill>
                  <a:srgbClr val="ffc000"/>
                </a:solidFill>
                <a:latin typeface="Times New Roman"/>
              </a:rPr>
              <a:t>«сосать»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а позже и на 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Chupa Chups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В 1962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название и торговая марка были официально зарегистрированы. Успех леденцов на рынке привел к тому, что </a:t>
            </a: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в 1964-м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название компании сменилось на 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Chupa Chups S.A.</a:t>
            </a:r>
            <a:endParaRPr b="0" lang="be-BY" sz="2800" spc="-1" strike="noStrike">
              <a:solidFill>
                <a:srgbClr val="ffffff"/>
              </a:solidFill>
              <a:latin typeface="Trebuchet MS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be-BY" sz="20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0" y="2139840"/>
            <a:ext cx="6663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580841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580841"/>
                </a:solidFill>
                <a:latin typeface="Times New Roman"/>
              </a:rPr>
              <a:t>Интересным фактом в истории </a:t>
            </a:r>
            <a:r>
              <a:rPr b="1" lang="ru-RU" sz="2400" spc="-1" strike="noStrike">
                <a:solidFill>
                  <a:srgbClr val="580841"/>
                </a:solidFill>
                <a:latin typeface="Times New Roman"/>
              </a:rPr>
              <a:t>Чупа-Чупс</a:t>
            </a:r>
            <a:r>
              <a:rPr b="0" lang="ru-RU" sz="2400" spc="-1" strike="noStrike">
                <a:solidFill>
                  <a:srgbClr val="580841"/>
                </a:solidFill>
                <a:latin typeface="Times New Roman"/>
              </a:rPr>
              <a:t> является то, что дизайн марки, который в общих чертах сохранился и по сей день, разрабатывал Сальвадор Дали в 1969-м году. В течении нескольких часов художник создал логотип </a:t>
            </a:r>
            <a:r>
              <a:rPr b="1" lang="ru-RU" sz="2400" spc="-1" strike="noStrike">
                <a:solidFill>
                  <a:srgbClr val="580841"/>
                </a:solidFill>
                <a:latin typeface="Times New Roman"/>
              </a:rPr>
              <a:t>Чупа-Чупс</a:t>
            </a:r>
            <a:r>
              <a:rPr b="0" lang="ru-RU" sz="2400" spc="-1" strike="noStrike">
                <a:solidFill>
                  <a:srgbClr val="580841"/>
                </a:solidFill>
                <a:latin typeface="Times New Roman"/>
              </a:rPr>
              <a:t>, напоминающий ромашку.</a:t>
            </a:r>
            <a:r>
              <a:rPr b="0" lang="be-BY" sz="2400" spc="-1" strike="noStrike">
                <a:solidFill>
                  <a:srgbClr val="580841"/>
                </a:solidFill>
                <a:latin typeface="Times New Roman"/>
              </a:rPr>
              <a:t> </a:t>
            </a: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</a:pPr>
            <a:r>
              <a:rPr b="0" lang="be-BY" sz="2400" spc="-1" strike="noStrike">
                <a:solidFill>
                  <a:srgbClr val="ffff00"/>
                </a:solidFill>
                <a:latin typeface="Times New Roman"/>
              </a:rPr>
              <a:t>Основные производственные комплексы 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hupa-Chup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0" lang="be-BY" sz="2400" spc="-1" strike="noStrike">
                <a:solidFill>
                  <a:srgbClr val="ffff00"/>
                </a:solidFill>
                <a:latin typeface="Times New Roman"/>
              </a:rPr>
              <a:t>находятся в Сан-Эстеве-Сесровирес 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an Esteve Sesrovires) </a:t>
            </a:r>
            <a:r>
              <a:rPr b="0" lang="be-BY" sz="2400" spc="-1" strike="noStrike">
                <a:solidFill>
                  <a:srgbClr val="ffff00"/>
                </a:solidFill>
                <a:latin typeface="Times New Roman"/>
              </a:rPr>
              <a:t>недалеко от Барселоны 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arselona). </a:t>
            </a: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99" name="Рисунок 3" descr=""/>
          <p:cNvPicPr/>
          <p:nvPr/>
        </p:nvPicPr>
        <p:blipFill>
          <a:blip r:embed="rId1"/>
          <a:stretch/>
        </p:blipFill>
        <p:spPr>
          <a:xfrm>
            <a:off x="6948720" y="3309120"/>
            <a:ext cx="512676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Рисунок 11"/>
          <p:cNvSpPr/>
          <p:nvPr/>
        </p:nvSpPr>
        <p:spPr>
          <a:xfrm>
            <a:off x="27360" y="622800"/>
            <a:ext cx="3049200" cy="135072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tl" blurRad="50760" dir="5400000" dist="507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Рисунок 12"/>
          <p:cNvSpPr/>
          <p:nvPr/>
        </p:nvSpPr>
        <p:spPr>
          <a:xfrm>
            <a:off x="3561120" y="622800"/>
            <a:ext cx="3062880" cy="1350720"/>
          </a:xfrm>
          <a:prstGeom prst="roundRect">
            <a:avLst>
              <a:gd name="adj" fmla="val 0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algn="tl" blurRad="50760" dir="5400000" dist="507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Рисунок 13"/>
          <p:cNvSpPr/>
          <p:nvPr/>
        </p:nvSpPr>
        <p:spPr>
          <a:xfrm>
            <a:off x="7285320" y="622800"/>
            <a:ext cx="3063240" cy="1350720"/>
          </a:xfrm>
          <a:prstGeom prst="roundRect">
            <a:avLst>
              <a:gd name="adj" fmla="val 0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algn="tl" blurRad="50760" dir="5400000" dist="507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Рисунок 14" descr=""/>
          <p:cNvPicPr/>
          <p:nvPr/>
        </p:nvPicPr>
        <p:blipFill>
          <a:blip r:embed="rId4"/>
          <a:stretch/>
        </p:blipFill>
        <p:spPr>
          <a:xfrm>
            <a:off x="27360" y="3646800"/>
            <a:ext cx="2560320" cy="2032560"/>
          </a:xfrm>
          <a:prstGeom prst="rect">
            <a:avLst/>
          </a:prstGeom>
          <a:ln w="0">
            <a:noFill/>
          </a:ln>
        </p:spPr>
      </p:pic>
      <p:pic>
        <p:nvPicPr>
          <p:cNvPr id="304" name="Рисунок 15" descr=""/>
          <p:cNvPicPr/>
          <p:nvPr/>
        </p:nvPicPr>
        <p:blipFill>
          <a:blip r:embed="rId5"/>
          <a:stretch/>
        </p:blipFill>
        <p:spPr>
          <a:xfrm>
            <a:off x="3964680" y="4409280"/>
            <a:ext cx="2658960" cy="2175120"/>
          </a:xfrm>
          <a:prstGeom prst="rect">
            <a:avLst/>
          </a:prstGeom>
          <a:ln w="0">
            <a:noFill/>
          </a:ln>
        </p:spPr>
      </p:pic>
      <p:pic>
        <p:nvPicPr>
          <p:cNvPr id="305" name="Рисунок 16" descr=""/>
          <p:cNvPicPr/>
          <p:nvPr/>
        </p:nvPicPr>
        <p:blipFill>
          <a:blip r:embed="rId6"/>
          <a:stretch/>
        </p:blipFill>
        <p:spPr>
          <a:xfrm>
            <a:off x="8058240" y="3695760"/>
            <a:ext cx="2425680" cy="200628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18"/>
          <p:cNvSpPr/>
          <p:nvPr/>
        </p:nvSpPr>
        <p:spPr>
          <a:xfrm>
            <a:off x="200520" y="2234880"/>
            <a:ext cx="2541600" cy="348120"/>
          </a:xfrm>
          <a:prstGeom prst="rect">
            <a:avLst/>
          </a:prstGeom>
          <a:solidFill>
            <a:srgbClr val="f09415"/>
          </a:solidFill>
          <a:ln>
            <a:solidFill>
              <a:srgbClr val="b16d0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Trebuchet MS"/>
              </a:rPr>
              <a:t>19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9"/>
          <p:cNvSpPr/>
          <p:nvPr/>
        </p:nvSpPr>
        <p:spPr>
          <a:xfrm>
            <a:off x="3764520" y="2234880"/>
            <a:ext cx="2655720" cy="348120"/>
          </a:xfrm>
          <a:prstGeom prst="rect">
            <a:avLst/>
          </a:prstGeom>
          <a:solidFill>
            <a:srgbClr val="f09415"/>
          </a:solidFill>
          <a:ln>
            <a:solidFill>
              <a:srgbClr val="b16d0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Trebuchet MS"/>
              </a:rPr>
              <a:t>19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20"/>
          <p:cNvSpPr/>
          <p:nvPr/>
        </p:nvSpPr>
        <p:spPr>
          <a:xfrm>
            <a:off x="7501680" y="2234880"/>
            <a:ext cx="2630160" cy="377280"/>
          </a:xfrm>
          <a:prstGeom prst="rect">
            <a:avLst/>
          </a:prstGeom>
          <a:solidFill>
            <a:srgbClr val="f09415"/>
          </a:solidFill>
          <a:ln>
            <a:solidFill>
              <a:srgbClr val="b16d0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Trebuchet MS"/>
              </a:rPr>
              <a:t>19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21"/>
          <p:cNvSpPr/>
          <p:nvPr/>
        </p:nvSpPr>
        <p:spPr>
          <a:xfrm>
            <a:off x="2810880" y="3669480"/>
            <a:ext cx="535680" cy="2009880"/>
          </a:xfrm>
          <a:prstGeom prst="rect">
            <a:avLst/>
          </a:prstGeom>
          <a:solidFill>
            <a:srgbClr val="f09415"/>
          </a:solidFill>
          <a:ln>
            <a:solidFill>
              <a:srgbClr val="b16d0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Trebuchet MS"/>
              </a:rPr>
              <a:t>19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22"/>
          <p:cNvSpPr/>
          <p:nvPr/>
        </p:nvSpPr>
        <p:spPr>
          <a:xfrm>
            <a:off x="6860520" y="4419720"/>
            <a:ext cx="502920" cy="2164680"/>
          </a:xfrm>
          <a:prstGeom prst="rect">
            <a:avLst/>
          </a:prstGeom>
          <a:solidFill>
            <a:srgbClr val="f09415"/>
          </a:solidFill>
          <a:ln>
            <a:solidFill>
              <a:srgbClr val="b16d0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Trebuchet MS"/>
              </a:rPr>
              <a:t>19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23"/>
          <p:cNvSpPr/>
          <p:nvPr/>
        </p:nvSpPr>
        <p:spPr>
          <a:xfrm>
            <a:off x="10591920" y="3708720"/>
            <a:ext cx="1246680" cy="1980000"/>
          </a:xfrm>
          <a:prstGeom prst="rect">
            <a:avLst/>
          </a:prstGeom>
          <a:solidFill>
            <a:srgbClr val="f09415"/>
          </a:solidFill>
          <a:ln>
            <a:solidFill>
              <a:srgbClr val="b16d0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Trebuchet MS"/>
              </a:rPr>
              <a:t>1988-по сегодняшний д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69240" y="753120"/>
            <a:ext cx="9624600" cy="10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Суть бренда</a:t>
            </a:r>
            <a:endParaRPr b="0" lang="be-BY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60960" y="2336760"/>
            <a:ext cx="3069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Trebuchet MS"/>
              </a:rPr>
              <a:t>МИССИЯ</a:t>
            </a:r>
            <a:endParaRPr b="0" lang="be-BY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1022040" y="3122280"/>
            <a:ext cx="445932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Чистые дети – спокойные родители</a:t>
            </a:r>
            <a:endParaRPr b="0" lang="be-BY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581680" y="2347560"/>
            <a:ext cx="30628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Trebuchet MS"/>
              </a:rPr>
              <a:t> 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Trebuchet MS"/>
              </a:rPr>
              <a:t>ЦЕЛИ</a:t>
            </a:r>
            <a:endParaRPr b="0" lang="be-BY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6252840" y="3197520"/>
            <a:ext cx="5125680" cy="31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Забота о детях и их родителях</a:t>
            </a:r>
            <a:endParaRPr b="0" lang="be-BY" sz="32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Создание креативного внешнего вида, который вызовет любопытство</a:t>
            </a:r>
            <a:endParaRPr b="0" lang="be-BY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0400" y="75312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i="1" lang="ru-RU" sz="3600" spc="-1" strike="noStrike">
                <a:solidFill>
                  <a:srgbClr val="ffffff"/>
                </a:solidFill>
                <a:latin typeface="Trebuchet MS"/>
              </a:rPr>
              <a:t>ЛИЧНОСТЬ</a:t>
            </a:r>
            <a:endParaRPr b="0" lang="be-BY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18" name="Объект 4" descr=""/>
          <p:cNvPicPr/>
          <p:nvPr/>
        </p:nvPicPr>
        <p:blipFill>
          <a:blip r:embed="rId1"/>
          <a:stretch/>
        </p:blipFill>
        <p:spPr>
          <a:xfrm>
            <a:off x="6118200" y="2562840"/>
            <a:ext cx="5406840" cy="359856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4640" y="2336760"/>
            <a:ext cx="5136480" cy="405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У меня, как и у многих, реклама чупа –чупса ассоциируется с плюшевым раздолбаем Чаком в главной роли. </a:t>
            </a:r>
            <a:endParaRPr b="0" lang="be-BY" sz="2000" spc="-1" strike="noStrike">
              <a:solidFill>
                <a:srgbClr val="ffffff"/>
              </a:solidFill>
              <a:latin typeface="Trebuchet MS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Чак  это олицетворение спокойствия и ровного отношения к жизни, которую стоит проводить в свое удовольствие, ни на что не оглядываясь, ни о чем не парясь.</a:t>
            </a:r>
            <a:endParaRPr b="0" lang="be-BY" sz="2000" spc="-1" strike="noStrike">
              <a:solidFill>
                <a:srgbClr val="ffffff"/>
              </a:solidFill>
              <a:latin typeface="Trebuchet MS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Снимаются такие рекламные ролики под лозунгом </a:t>
            </a:r>
            <a:r>
              <a:rPr b="0" lang="ru-RU" sz="2000" spc="-1" strike="noStrike">
                <a:solidFill>
                  <a:srgbClr val="002060"/>
                </a:solidFill>
                <a:latin typeface="Trebuchet MS"/>
              </a:rPr>
              <a:t>«менее серьёзная жизнь»</a:t>
            </a:r>
            <a:endParaRPr b="0" lang="be-BY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69240" y="753120"/>
            <a:ext cx="9624600" cy="10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i="1" lang="ru-RU" sz="3600" spc="-1" strike="noStrike">
                <a:solidFill>
                  <a:srgbClr val="ffffff"/>
                </a:solidFill>
                <a:latin typeface="Trebuchet MS"/>
              </a:rPr>
              <a:t>ЦЕННОСТИ</a:t>
            </a:r>
            <a:endParaRPr b="0" lang="be-BY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34640" y="2027160"/>
            <a:ext cx="362196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Чупа Чупс®  с момента своего основания делает все, чтобы дарить радость детям любого возраста, сочетая глубокие традиции и современное творчество с инновациями. </a:t>
            </a:r>
            <a:endParaRPr b="0" lang="be-BY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212000" y="3498840"/>
            <a:ext cx="358452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Чупа Чупс® направляет все свои усилия на то, чтобы удовлетворить сладкоежек и производить продукцию высокого качества – это неотъемлемое достоинство марки.</a:t>
            </a: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251200" y="4940640"/>
            <a:ext cx="343908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Яркая индивидуальность продукта и уникальные радостные отношения с потребителями, являются источником сотен приятных и смешных историй.</a:t>
            </a: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Берлин">
  <a:themeElements>
    <a:clrScheme name="Берлин">
      <a:dk1>
        <a:srgbClr val="000000"/>
      </a:dk1>
      <a:lt1>
        <a:srgbClr val="ffffff"/>
      </a:lt1>
      <a:dk2>
        <a:srgbClr val="9d360e"/>
      </a:dk2>
      <a:lt2>
        <a:srgbClr val="e7e6e6"/>
      </a:lt2>
      <a:accent1>
        <a:srgbClr val="f09415"/>
      </a:accent1>
      <a:accent2>
        <a:srgbClr val="c1b56b"/>
      </a:accent2>
      <a:accent3>
        <a:srgbClr val="4baf73"/>
      </a:accent3>
      <a:accent4>
        <a:srgbClr val="5aa6c0"/>
      </a:accent4>
      <a:accent5>
        <a:srgbClr val="d17df9"/>
      </a:accent5>
      <a:accent6>
        <a:srgbClr val="fa7e5c"/>
      </a:accent6>
      <a:hlink>
        <a:srgbClr val="ffae3e"/>
      </a:hlink>
      <a:folHlink>
        <a:srgbClr val="fcc77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Берлин">
  <a:themeElements>
    <a:clrScheme name="Берлин">
      <a:dk1>
        <a:srgbClr val="000000"/>
      </a:dk1>
      <a:lt1>
        <a:srgbClr val="ffffff"/>
      </a:lt1>
      <a:dk2>
        <a:srgbClr val="9d360e"/>
      </a:dk2>
      <a:lt2>
        <a:srgbClr val="e7e6e6"/>
      </a:lt2>
      <a:accent1>
        <a:srgbClr val="f09415"/>
      </a:accent1>
      <a:accent2>
        <a:srgbClr val="c1b56b"/>
      </a:accent2>
      <a:accent3>
        <a:srgbClr val="4baf73"/>
      </a:accent3>
      <a:accent4>
        <a:srgbClr val="5aa6c0"/>
      </a:accent4>
      <a:accent5>
        <a:srgbClr val="d17df9"/>
      </a:accent5>
      <a:accent6>
        <a:srgbClr val="fa7e5c"/>
      </a:accent6>
      <a:hlink>
        <a:srgbClr val="ffae3e"/>
      </a:hlink>
      <a:folHlink>
        <a:srgbClr val="fcc77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Берлин">
  <a:themeElements>
    <a:clrScheme name="Берлин">
      <a:dk1>
        <a:srgbClr val="000000"/>
      </a:dk1>
      <a:lt1>
        <a:srgbClr val="ffffff"/>
      </a:lt1>
      <a:dk2>
        <a:srgbClr val="9d360e"/>
      </a:dk2>
      <a:lt2>
        <a:srgbClr val="e7e6e6"/>
      </a:lt2>
      <a:accent1>
        <a:srgbClr val="f09415"/>
      </a:accent1>
      <a:accent2>
        <a:srgbClr val="c1b56b"/>
      </a:accent2>
      <a:accent3>
        <a:srgbClr val="4baf73"/>
      </a:accent3>
      <a:accent4>
        <a:srgbClr val="5aa6c0"/>
      </a:accent4>
      <a:accent5>
        <a:srgbClr val="d17df9"/>
      </a:accent5>
      <a:accent6>
        <a:srgbClr val="fa7e5c"/>
      </a:accent6>
      <a:hlink>
        <a:srgbClr val="ffae3e"/>
      </a:hlink>
      <a:folHlink>
        <a:srgbClr val="fcc77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Берлин">
  <a:themeElements>
    <a:clrScheme name="Берлин">
      <a:dk1>
        <a:srgbClr val="000000"/>
      </a:dk1>
      <a:lt1>
        <a:srgbClr val="ffffff"/>
      </a:lt1>
      <a:dk2>
        <a:srgbClr val="9d360e"/>
      </a:dk2>
      <a:lt2>
        <a:srgbClr val="e7e6e6"/>
      </a:lt2>
      <a:accent1>
        <a:srgbClr val="f09415"/>
      </a:accent1>
      <a:accent2>
        <a:srgbClr val="c1b56b"/>
      </a:accent2>
      <a:accent3>
        <a:srgbClr val="4baf73"/>
      </a:accent3>
      <a:accent4>
        <a:srgbClr val="5aa6c0"/>
      </a:accent4>
      <a:accent5>
        <a:srgbClr val="d17df9"/>
      </a:accent5>
      <a:accent6>
        <a:srgbClr val="fa7e5c"/>
      </a:accent6>
      <a:hlink>
        <a:srgbClr val="ffae3e"/>
      </a:hlink>
      <a:folHlink>
        <a:srgbClr val="fcc77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Берлин">
  <a:themeElements>
    <a:clrScheme name="Берлин">
      <a:dk1>
        <a:srgbClr val="000000"/>
      </a:dk1>
      <a:lt1>
        <a:srgbClr val="ffffff"/>
      </a:lt1>
      <a:dk2>
        <a:srgbClr val="9d360e"/>
      </a:dk2>
      <a:lt2>
        <a:srgbClr val="e7e6e6"/>
      </a:lt2>
      <a:accent1>
        <a:srgbClr val="f09415"/>
      </a:accent1>
      <a:accent2>
        <a:srgbClr val="c1b56b"/>
      </a:accent2>
      <a:accent3>
        <a:srgbClr val="4baf73"/>
      </a:accent3>
      <a:accent4>
        <a:srgbClr val="5aa6c0"/>
      </a:accent4>
      <a:accent5>
        <a:srgbClr val="d17df9"/>
      </a:accent5>
      <a:accent6>
        <a:srgbClr val="fa7e5c"/>
      </a:accent6>
      <a:hlink>
        <a:srgbClr val="ffae3e"/>
      </a:hlink>
      <a:folHlink>
        <a:srgbClr val="fcc77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Берлин">
  <a:themeElements>
    <a:clrScheme name="Берлин">
      <a:dk1>
        <a:srgbClr val="000000"/>
      </a:dk1>
      <a:lt1>
        <a:srgbClr val="ffffff"/>
      </a:lt1>
      <a:dk2>
        <a:srgbClr val="9d360e"/>
      </a:dk2>
      <a:lt2>
        <a:srgbClr val="e7e6e6"/>
      </a:lt2>
      <a:accent1>
        <a:srgbClr val="f09415"/>
      </a:accent1>
      <a:accent2>
        <a:srgbClr val="c1b56b"/>
      </a:accent2>
      <a:accent3>
        <a:srgbClr val="4baf73"/>
      </a:accent3>
      <a:accent4>
        <a:srgbClr val="5aa6c0"/>
      </a:accent4>
      <a:accent5>
        <a:srgbClr val="d17df9"/>
      </a:accent5>
      <a:accent6>
        <a:srgbClr val="fa7e5c"/>
      </a:accent6>
      <a:hlink>
        <a:srgbClr val="ffae3e"/>
      </a:hlink>
      <a:folHlink>
        <a:srgbClr val="fcc77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M04033917[[fn=Берлин]]</Template>
  <TotalTime>317</TotalTime>
  <Application>LibreOffice/7.4.7.2$Linux_X86_64 LibreOffice_project/40$Build-2</Application>
  <AppVersion>15.0000</AppVersion>
  <Words>615</Words>
  <Paragraphs>4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3T12:04:19Z</dcterms:created>
  <dc:creator>Павел Стасяк</dc:creator>
  <dc:description/>
  <dc:language>en-US</dc:language>
  <cp:lastModifiedBy>Елизавета</cp:lastModifiedBy>
  <dcterms:modified xsi:type="dcterms:W3CDTF">2016-04-25T16:04:35Z</dcterms:modified>
  <cp:revision>33</cp:revision>
  <dc:subject/>
  <dc:title>Chupa Chup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5</vt:r8>
  </property>
</Properties>
</file>