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B28E-5108-4182-8A11-B9975BA05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510E-4347-4F9C-8C91-75700FDEA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C1A3-24E6-4BD3-91C9-58F4AB1DB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B5A5-A5F4-4331-8CA9-D15513A72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E577B-24C8-457D-B9A1-514D3F6E1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5865E-809A-4785-A3A6-337DDFE1E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1C65B-7E29-461E-B9A7-FC945204D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2B289-C359-407D-BD86-0BD444759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5F3FC-1BF0-4F9B-AA29-1DE4B2E9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F19CD-5DF8-45E6-AF37-078D5081A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67215-8B8B-4FB6-8AF2-DA4A4796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F467-E707-4D10-BE52-CB46BF40B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31F38-C0A1-4011-8F08-C41E91D1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2181E-CF9F-400F-8E79-8C603716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33343-E03A-401A-AD4C-CB06B7C62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65266-8E44-4854-A210-0F8B8D14B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5773C-54DA-43AD-B0E5-615376E66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2321E-79CE-4B89-AD39-CC092A7BC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C8992-5742-4B39-8D2D-86583ACD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4E84B-3B2A-4517-A681-E45623B8A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D6803-6888-45FC-A334-9979FBEA4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0B52A-0C0F-4BFC-804A-489CDF5F6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8C8C-38CA-4CC2-B2CD-B30D68FC0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EAFB3-70EF-4F5C-8020-3873DD50B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DF2B4-6CFA-407D-82DF-D2324BD6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7CC56-7FB5-45BB-8994-35EA4154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8EFD8-2919-4150-9038-1036E6A8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07A2C-13DE-4569-82FE-477D94A3B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F08BC-B14A-40DD-B800-1777CC93C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BC22E-1F94-4B63-BD69-B34535E82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2E39-8AAB-4E85-84F5-BC2C63718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C4D2-2F16-430E-9C9B-4A98C322E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B72E-DD7B-4CBF-95AA-606D0CA93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4BAC-1297-44E6-A992-B9F7DC53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D787-89C2-498E-B758-6373037F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A8BE-021C-4446-8B9F-B5E7F595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ая соединительная линия 3"/>
          <p:cNvSpPr/>
          <p:nvPr/>
        </p:nvSpPr>
        <p:spPr>
          <a:xfrm>
            <a:off x="514080" y="534960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4853520"/>
            <a:ext cx="8457840" cy="12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38e2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229600" y="6473880"/>
            <a:ext cx="758520" cy="247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6B21DA5-A162-4658-8558-AAE9FC043F39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38e2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8229600" y="6477120"/>
            <a:ext cx="76176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2F2938F-2254-4B6A-BC02-E64F7605EEE3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dt" idx="7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38e2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9"/>
          </p:nvPr>
        </p:nvSpPr>
        <p:spPr>
          <a:xfrm>
            <a:off x="8229600" y="6477120"/>
            <a:ext cx="76176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A249DA5-3A6F-4C61-BDA2-684F8288016E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63520" y="2565360"/>
            <a:ext cx="8653320" cy="14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800" spc="-1" strike="noStrike" cap="all">
                <a:solidFill>
                  <a:srgbClr val="4e3b30"/>
                </a:solidFill>
                <a:latin typeface="Franklin Gothic Medium"/>
              </a:rPr>
              <a:t>Елементи паралельних КС.</a:t>
            </a:r>
            <a:endParaRPr b="0" lang="ru-RU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263520" y="507960"/>
            <a:ext cx="8457840" cy="914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rmAutofit fontScale="67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1" lang="ru-RU" sz="4800" spc="-1" strike="noStrike">
                <a:solidFill>
                  <a:srgbClr val="44342a"/>
                </a:solidFill>
                <a:latin typeface="Franklin Gothic Book"/>
              </a:rPr>
              <a:t>ТЕМ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228600" y="203040"/>
            <a:ext cx="8505360" cy="609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uk-UA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002060"/>
                </a:solidFill>
                <a:latin typeface="Arial"/>
              </a:rPr>
              <a:t>Особливості асоціативних сист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соціативні системи відносяться до класу: </a:t>
            </a: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один потік команд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- безліч потоків даних (SIM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Ці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системи включають велике число операційних пристроїв, здатних одночасно по командам керуючого пристрою вести обробку декількох потоків даних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. В асоціативних обчислювальних системах інформація на обробку надходить від асоціативних запам'ятовуючих пристроїв (АЗП), що характеризуються тим, що інформація в них вибирається не по певній адресі, а за її зміс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4"/>
          <p:cNvSpPr/>
          <p:nvPr/>
        </p:nvSpPr>
        <p:spPr>
          <a:xfrm>
            <a:off x="2309760" y="6362640"/>
            <a:ext cx="683388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Процесори для побудови систем високої продуктив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"/>
          <p:cNvSpPr/>
          <p:nvPr/>
        </p:nvSpPr>
        <p:spPr>
          <a:xfrm>
            <a:off x="228600" y="-75600"/>
            <a:ext cx="8505360" cy="6425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uk-UA" sz="2600" spc="-1" strike="noStrike">
                <a:solidFill>
                  <a:srgbClr val="002060"/>
                </a:solidFill>
                <a:latin typeface="Arial"/>
              </a:rPr>
              <a:t>Конвеєрні процесор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Ідея конвеєра полягає в тому, щоб складну операцію розбити на кілька простіших, таких, які можуть виконуватися одночасно. Операція підсумовування, наприклад, включає віднімання порядків, вирівнювання порядків, складання мантисс і нормалізацію. Кожна з підоперацій може виконуватися на окремому блоці апаратур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uk-UA" sz="2600" spc="-1" strike="noStrike">
                <a:solidFill>
                  <a:srgbClr val="002060"/>
                </a:solidFill>
                <a:latin typeface="Arial"/>
              </a:rPr>
              <a:t>Принципи конвеєрної оброб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При русі об'єктів по конвеєру одночасно на різних його ділянках (сегментах) виконуються різні підоперації, що дає збільшення продуктивності за рахунок використання паралелізму на рівні команд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Конвеєри застосовуються як при обробці команд (конвеєри команд), так і в арифметичних операціях (конвеєри даних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4"/>
          <p:cNvSpPr/>
          <p:nvPr/>
        </p:nvSpPr>
        <p:spPr>
          <a:xfrm>
            <a:off x="2309760" y="6362640"/>
            <a:ext cx="683388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Процесори для побудови систем високої продуктив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"/>
          <p:cNvSpPr/>
          <p:nvPr/>
        </p:nvSpPr>
        <p:spPr>
          <a:xfrm>
            <a:off x="0" y="196200"/>
            <a:ext cx="8915040" cy="648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2060"/>
                </a:solidFill>
                <a:latin typeface="Arial"/>
              </a:rPr>
              <a:t>Для ефективної реалізації конвеєра необхід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система виконує повторювану операцію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операція може бути розділена на незалежні частин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трудомісткість підоперацій приблизно однаков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Кількість сегментів називають </a:t>
            </a:r>
            <a:r>
              <a:rPr b="1" i="1" lang="uk-UA" sz="2600" spc="-1" strike="noStrike">
                <a:solidFill>
                  <a:srgbClr val="000000"/>
                </a:solidFill>
                <a:latin typeface="Arial"/>
              </a:rPr>
              <a:t>глибиною конвеєра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. Важливою умовою нормальної роботи конвеєра є </a:t>
            </a:r>
            <a:r>
              <a:rPr b="0" i="1" lang="uk-UA" sz="2600" spc="-1" strike="noStrike">
                <a:solidFill>
                  <a:srgbClr val="000000"/>
                </a:solidFill>
                <a:latin typeface="Arial"/>
              </a:rPr>
              <a:t>відсутність конфліктів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, підвідних до простоїв конвеєр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2060"/>
                </a:solidFill>
                <a:latin typeface="Arial"/>
              </a:rPr>
              <a:t>Простої конвеє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Об'єкти, що надходять в конвеєр, повинні бути незалежними. Якщо, наприклад, операндом є результат попередньої операції, виникають періоди роботи конвеєра ("конвеєрні бульбашки"), коли він порожні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"Бульбашка" проходить по конвеєру, займаючи місце, але не виконуючи при цьому ніякої корисної робо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4"/>
          <p:cNvSpPr/>
          <p:nvPr/>
        </p:nvSpPr>
        <p:spPr>
          <a:xfrm>
            <a:off x="2309760" y="6362640"/>
            <a:ext cx="683388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Процесори для побудови систем високої продуктив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1"/>
          <p:cNvSpPr/>
          <p:nvPr/>
        </p:nvSpPr>
        <p:spPr>
          <a:xfrm>
            <a:off x="0" y="-63720"/>
            <a:ext cx="8915040" cy="6821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uk-UA" sz="2600" spc="-1" strike="noStrike">
                <a:solidFill>
                  <a:srgbClr val="002060"/>
                </a:solidFill>
                <a:latin typeface="Arial"/>
              </a:rPr>
              <a:t>Цикл виконання команди складається з декількох кроків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1. Вибірка команд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2. Декодування команди, обчислення адреси операнда і його вибірк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3. Виконання команд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4. Звернення до пам'яті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5. Запис результату в пам'ят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uk-UA" sz="2600" spc="-1" strike="noStrike" u="sng">
                <a:solidFill>
                  <a:srgbClr val="000000"/>
                </a:solidFill>
                <a:uFillTx/>
                <a:latin typeface="Arial"/>
              </a:rPr>
              <a:t>Для виконання кожного етапу команди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відводиться один такт і в кожному новому такті починається виконання нової команд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Для зберігання проміжних результатів кожного етапу використовується швидка пам'ять (регістри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У результаті, в кожному такті будуть виконуватися кілька команд і, незважаючи на те, що час виконання окремої команди дещо збільшиться, виробництво системи в цілому зрост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4"/>
          <p:cNvSpPr/>
          <p:nvPr/>
        </p:nvSpPr>
        <p:spPr>
          <a:xfrm>
            <a:off x="2309760" y="6362640"/>
            <a:ext cx="683388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Процесори для побудови систем високої продуктив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"/>
          <p:cNvSpPr/>
          <p:nvPr/>
        </p:nvSpPr>
        <p:spPr>
          <a:xfrm>
            <a:off x="409680" y="209880"/>
            <a:ext cx="8505360" cy="6122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uk-UA" sz="3200" spc="-1" strike="noStrike">
                <a:solidFill>
                  <a:srgbClr val="002060"/>
                </a:solidFill>
                <a:latin typeface="Arial"/>
              </a:rPr>
              <a:t>Простий конвеєр коман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остий конвеєр команд викликається ситуацією, коли чергову команду з потоку команд не можна завантажити в конвеєр відразу, а з якоїсь причини доводиться очікувати кілька такт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Якщо чергова команда у відповідному їй такті не може бути виконана, кажуть про конфлік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 цьому випадку команда очікує своєї черги, а пропускна здатність конвеєра падає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чікувати своєї черги доводиться і всім наступним команд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оманди, вже завантажені в конвеєр, продовжують виконувати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4"/>
          <p:cNvSpPr/>
          <p:nvPr/>
        </p:nvSpPr>
        <p:spPr>
          <a:xfrm>
            <a:off x="2309760" y="6362640"/>
            <a:ext cx="683388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Процесори для побудови систем високої продуктив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"/>
          <p:cNvSpPr/>
          <p:nvPr/>
        </p:nvSpPr>
        <p:spPr>
          <a:xfrm>
            <a:off x="0" y="-263880"/>
            <a:ext cx="8915040" cy="6821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uk-UA" sz="2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uk-UA" sz="2600" spc="-1" strike="noStrike">
                <a:solidFill>
                  <a:srgbClr val="002060"/>
                </a:solidFill>
                <a:latin typeface="Arial"/>
              </a:rPr>
              <a:t>Прийнято виділяти три типи конфліктів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структурні конфлікт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конфлікти за даним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конфлікти з управлінн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причиною структурних конфліктів є одночасний запит на використання одного ресурсу декількома командам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недостатня кількість регістрів для запису даних в одному такті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uk-UA" sz="2600" spc="-1" strike="noStrike" u="sng">
                <a:solidFill>
                  <a:srgbClr val="000000"/>
                </a:solidFill>
                <a:uFillTx/>
                <a:latin typeface="Arial"/>
              </a:rPr>
              <a:t>Конфлікти за даними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є наслідком логічної залежності команд між собою і відбуваються, якщо для виконання чергової команди потрібний результат виконання попередньої команди (її результат виступає в якості операнда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У цьому випадку команда не буде виконуватися до тих пір, поки попередня команда не завершить своє виконання і не передасть їй свій результа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4"/>
          <p:cNvSpPr/>
          <p:nvPr/>
        </p:nvSpPr>
        <p:spPr>
          <a:xfrm>
            <a:off x="2309760" y="6362640"/>
            <a:ext cx="683388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Процесори для побудови систем високої продуктив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"/>
          <p:cNvSpPr/>
          <p:nvPr/>
        </p:nvSpPr>
        <p:spPr>
          <a:xfrm>
            <a:off x="0" y="-64440"/>
            <a:ext cx="8915040" cy="6914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uk-UA" sz="2600" spc="-1" strike="noStrike">
                <a:solidFill>
                  <a:srgbClr val="002060"/>
                </a:solidFill>
                <a:latin typeface="Arial"/>
              </a:rPr>
              <a:t>Конфлікти з управління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викликаються наявністю в програмах умовних конструкцій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Виконувана гілка умовного оператора визначається тільки після обчислення умови розгалуження. Якщо врахувати, що в програмах до третини операторів є гылкування, втрати продуктивності внаслідок простоїв з управління можуть бути великим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uk-UA" sz="2400" spc="-1" strike="noStrike">
                <a:solidFill>
                  <a:srgbClr val="002060"/>
                </a:solidFill>
                <a:latin typeface="Arial"/>
              </a:rPr>
              <a:t>Оптимізація роботи конвеєра: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 більшості сучасних процесорів використовуються спеціальні пристрої, які виконують вибірку команд і поміщають їх в спеціальні черги ще до того, як вони можуть знадобитися.  Функціональні вузли конвеєра вміють розпізнавати команди безумовного переходу, визначають адреси наступних команд і вибирають ці команди з черги, що дозволяє забезпечити безперервний потік команд в конвеєрі. Умовні переходи важче піддаються оптимізації, але і тут є способи підвищення продуктивності конвеєра при обробці умовних переход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4"/>
          <p:cNvSpPr/>
          <p:nvPr/>
        </p:nvSpPr>
        <p:spPr>
          <a:xfrm>
            <a:off x="2309760" y="6362640"/>
            <a:ext cx="683388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Процесори для побудови систем високої продуктив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"/>
          <p:cNvSpPr/>
          <p:nvPr/>
        </p:nvSpPr>
        <p:spPr>
          <a:xfrm>
            <a:off x="0" y="28440"/>
            <a:ext cx="8915040" cy="7217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uk-UA" sz="2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У багатьох обчислювальних системах, поряд з конвеєром команд, </a:t>
            </a:r>
            <a:r>
              <a:rPr b="1" lang="uk-UA" sz="2600" spc="-1" strike="noStrike">
                <a:solidFill>
                  <a:srgbClr val="002060"/>
                </a:solidFill>
                <a:latin typeface="Arial"/>
              </a:rPr>
              <a:t>використовуються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і </a:t>
            </a:r>
            <a:r>
              <a:rPr b="1" lang="uk-UA" sz="2600" spc="-1" strike="noStrike">
                <a:solidFill>
                  <a:srgbClr val="002060"/>
                </a:solidFill>
                <a:latin typeface="Arial"/>
              </a:rPr>
              <a:t>конвеєри даних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. Поєднання цих двох конвеєрів дає можливість досягти дуже високої продуктивності на певних класах завдань, особливо якщо використовується кілька різних конвеєрних процесорів, здатних працювати одночасно і незалежно один від одног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В даний час створені однокристальні векторно-конвеєрні процесори, такі як SX-6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uk-UA" sz="2600" spc="-1" strike="noStrike">
                <a:solidFill>
                  <a:srgbClr val="002060"/>
                </a:solidFill>
                <a:latin typeface="Arial"/>
              </a:rPr>
              <a:t>Процесор SX-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Основними компонентами мікропроцесора є скалярний процесор і 8 ідентичних векторних пристроїв, сумарна продуктивність яких становить 64 GFLOP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(GFLOPS / с - "гігафлоп в секунду" одиниця виміру швидкодії процесора, складова один мільярд операцій з плаваючою крапкою в секунду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4"/>
          <p:cNvSpPr/>
          <p:nvPr/>
        </p:nvSpPr>
        <p:spPr>
          <a:xfrm>
            <a:off x="2309760" y="6362640"/>
            <a:ext cx="683388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Процесори для побудови систем високої продуктив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"/>
          <p:cNvSpPr/>
          <p:nvPr/>
        </p:nvSpPr>
        <p:spPr>
          <a:xfrm>
            <a:off x="0" y="3240"/>
            <a:ext cx="891504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4"/>
          <p:cNvSpPr/>
          <p:nvPr/>
        </p:nvSpPr>
        <p:spPr>
          <a:xfrm>
            <a:off x="2309760" y="6362640"/>
            <a:ext cx="683388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Процесори для побудови систем високої продуктив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"/>
          <p:cNvSpPr/>
          <p:nvPr/>
        </p:nvSpPr>
        <p:spPr>
          <a:xfrm>
            <a:off x="0" y="33480"/>
            <a:ext cx="8733960" cy="6426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</a:pPr>
            <a:r>
              <a:rPr b="1" lang="uk-UA" sz="2600" spc="-1" strike="noStrike">
                <a:solidFill>
                  <a:srgbClr val="002060"/>
                </a:solidFill>
                <a:latin typeface="Arial"/>
              </a:rPr>
              <a:t>       </a:t>
            </a:r>
            <a:r>
              <a:rPr b="1" lang="uk-UA" sz="2600" spc="-1" strike="noStrike">
                <a:solidFill>
                  <a:srgbClr val="002060"/>
                </a:solidFill>
                <a:latin typeface="Arial"/>
              </a:rPr>
              <a:t>Прикладом комп'ютера з суперскалярним процесором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є IBM RISC/6000. При тактовій частоті 62,5 МГц швидкодія системи на обчислювальних тестах досягала 104 МFLOPS/с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Суперскалярний процесор не вимагає спеціальних векторизуючих компіляторів, хоча компілятор повинен в цьому випадку враховувати особливості архітектур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       </a:t>
            </a:r>
            <a:r>
              <a:rPr b="1" lang="uk-UA" sz="2600" spc="-1" strike="noStrike">
                <a:solidFill>
                  <a:srgbClr val="002060"/>
                </a:solidFill>
                <a:latin typeface="Arial"/>
              </a:rPr>
              <a:t>Підвищення продуктивності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за рахунок збільшення числа функціональних пристроїв і використання низькорівневого паралелізму можна ефективно реалізувати, лише забезпечивши їх збалансовану завантаження. Тут можливі два підходи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Перший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- динамічне завантаження, засноване на аналізі програмного коду під час його виконанн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Другий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підхід - статичний, підтримуваний компілятором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"/>
          <p:cNvSpPr/>
          <p:nvPr/>
        </p:nvSpPr>
        <p:spPr>
          <a:xfrm>
            <a:off x="0" y="3240"/>
            <a:ext cx="891504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4"/>
          <p:cNvSpPr/>
          <p:nvPr/>
        </p:nvSpPr>
        <p:spPr>
          <a:xfrm>
            <a:off x="2309760" y="6362640"/>
            <a:ext cx="683388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Процесори для побудови систем високої продуктив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"/>
          <p:cNvSpPr/>
          <p:nvPr/>
        </p:nvSpPr>
        <p:spPr>
          <a:xfrm>
            <a:off x="409680" y="694080"/>
            <a:ext cx="8324640" cy="5331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</a:pPr>
            <a:r>
              <a:rPr b="1" lang="uk-UA" sz="3200" spc="-1" strike="noStrike">
                <a:solidFill>
                  <a:srgbClr val="002060"/>
                </a:solidFill>
                <a:latin typeface="Arial"/>
              </a:rPr>
              <a:t>Процесори з RISC архітектурою CIS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 основі RISC-архітектури (RISC - Reduced Instruction Set Computer) процесора лежить ідея збільшення швидкості його роботи за рахунок спрощення набору коман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отилежну тенденцію представляють CISC-архітектури, процесори зі складним набором команд (CISC - Complete Instruction Set Computer). Основоположником архітектури CISC є компанія IBM, а в даний час лідером у цій області є Intel (процесори Pentium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3600" spc="-1" strike="noStrike" cap="all">
                <a:solidFill>
                  <a:srgbClr val="4e3b30"/>
                </a:solidFill>
                <a:latin typeface="Franklin Gothic Medium"/>
              </a:rPr>
              <a:t>ПЛАН: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2"/>
          <p:cNvSpPr/>
          <p:nvPr/>
        </p:nvSpPr>
        <p:spPr>
          <a:xfrm>
            <a:off x="681120" y="1528920"/>
            <a:ext cx="7872120" cy="4049280"/>
          </a:xfrm>
          <a:prstGeom prst="rect">
            <a:avLst/>
          </a:prstGeom>
          <a:solidFill>
            <a:schemeClr val="bg1"/>
          </a:solidFill>
          <a:ln>
            <a:solidFill>
              <a:srgbClr val="b1772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uk-UA" sz="3200" spc="-1" strike="noStrike">
                <a:solidFill>
                  <a:srgbClr val="000000"/>
                </a:solidFill>
                <a:latin typeface="Franklin Gothic Book"/>
              </a:rPr>
              <a:t>1 Процесори для побудови систем високої продуктивност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3200" spc="-1" strike="noStrike">
                <a:solidFill>
                  <a:srgbClr val="000000"/>
                </a:solidFill>
                <a:latin typeface="Franklin Gothic Book"/>
              </a:rPr>
              <a:t>2 Пам’ять систем високої продуктивност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3200" spc="-1" strike="noStrike">
                <a:solidFill>
                  <a:srgbClr val="000000"/>
                </a:solidFill>
                <a:latin typeface="Franklin Gothic Book"/>
              </a:rPr>
              <a:t>Виснов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"/>
          <p:cNvSpPr/>
          <p:nvPr/>
        </p:nvSpPr>
        <p:spPr>
          <a:xfrm>
            <a:off x="0" y="3240"/>
            <a:ext cx="891504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4"/>
          <p:cNvSpPr/>
          <p:nvPr/>
        </p:nvSpPr>
        <p:spPr>
          <a:xfrm>
            <a:off x="2309760" y="6362640"/>
            <a:ext cx="683388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Процесори для побудови систем високої продуктив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"/>
          <p:cNvSpPr/>
          <p:nvPr/>
        </p:nvSpPr>
        <p:spPr>
          <a:xfrm>
            <a:off x="0" y="-17280"/>
            <a:ext cx="9143640" cy="6426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</a:pPr>
            <a:r>
              <a:rPr b="1" lang="uk-UA" sz="2600" spc="-1" strike="noStrike">
                <a:solidFill>
                  <a:srgbClr val="002060"/>
                </a:solidFill>
                <a:latin typeface="Arial"/>
              </a:rPr>
              <a:t>Особливості RISC-архітектур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uk-UA" sz="2600" spc="-1" strike="noStrike" u="sng">
                <a:solidFill>
                  <a:srgbClr val="000000"/>
                </a:solidFill>
                <a:uFillTx/>
                <a:latin typeface="Arial"/>
              </a:rPr>
              <a:t>В рамках CISC-підходу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набір команд включає команди, близькі до операторів мови високого рівня. </a:t>
            </a:r>
            <a:r>
              <a:rPr b="1" lang="uk-UA" sz="2600" spc="-1" strike="noStrike" u="sng">
                <a:solidFill>
                  <a:srgbClr val="000000"/>
                </a:solidFill>
                <a:uFillTx/>
                <a:latin typeface="Arial"/>
              </a:rPr>
              <a:t>В рамках RISC-підходу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набір команд спрощується і оптимізується під реальні потреби користувацьких програм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В основу RISC-архітектури покладені наступні принципи і ідеї:набір команд повинен бути обмеженим і включати тільки прості команди, час виконання яких після вибірки і декодування один такт або трохи більше;  використовується конвеєрна обробк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uk-UA" sz="2600" spc="-1" strike="noStrike">
                <a:solidFill>
                  <a:srgbClr val="002060"/>
                </a:solidFill>
                <a:latin typeface="Arial"/>
              </a:rPr>
              <a:t>Ефективність RISC-архітектур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Конструкція пристрою управління у разі RISC-архітектури спрощується, і це дає можливість процесору працювати на великих тактових частотах. Використання простих команд дозволяє ефективно реалізувати і конвеєрну обробку даних, і виконання команд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"/>
          <p:cNvSpPr/>
          <p:nvPr/>
        </p:nvSpPr>
        <p:spPr>
          <a:xfrm>
            <a:off x="0" y="3240"/>
            <a:ext cx="891504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4"/>
          <p:cNvSpPr/>
          <p:nvPr/>
        </p:nvSpPr>
        <p:spPr>
          <a:xfrm>
            <a:off x="2309760" y="6362640"/>
            <a:ext cx="683388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Процесори для побудови систем високої продуктив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"/>
          <p:cNvSpPr/>
          <p:nvPr/>
        </p:nvSpPr>
        <p:spPr>
          <a:xfrm>
            <a:off x="0" y="291960"/>
            <a:ext cx="9143640" cy="5726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</a:pPr>
            <a:r>
              <a:rPr b="1" lang="uk-UA" sz="3200" spc="-1" strike="noStrike">
                <a:solidFill>
                  <a:srgbClr val="002060"/>
                </a:solidFill>
                <a:latin typeface="Arial"/>
              </a:rPr>
              <a:t>Ефективність RISC-архітектур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RISC-процесор має час виконання команд майже удвічі менш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Складні команди RISC-процесором виконуються довше, але їх кількість відносно невелик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В RISC-процесорах невелике число команд адресується до пам'яті. Вибірка даних з оперативної пам'яті вимагає більш одного такту. Велика частина команд працює з операндами, що знаходяться в регістра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Усі команди мають уніфікований формат і фіксовану довжину. Це спрощує і прискорює завантаження і декодування команд, оскільки, наприклад, код операції і поле адреси завжди знаходяться в одній і тій же позиції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"/>
          <p:cNvSpPr/>
          <p:nvPr/>
        </p:nvSpPr>
        <p:spPr>
          <a:xfrm>
            <a:off x="0" y="3240"/>
            <a:ext cx="891504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4"/>
          <p:cNvSpPr/>
          <p:nvPr/>
        </p:nvSpPr>
        <p:spPr>
          <a:xfrm>
            <a:off x="2309760" y="6362640"/>
            <a:ext cx="683388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Процесори для побудови систем високої продуктив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"/>
          <p:cNvSpPr/>
          <p:nvPr/>
        </p:nvSpPr>
        <p:spPr>
          <a:xfrm>
            <a:off x="0" y="295560"/>
            <a:ext cx="9143640" cy="6426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</a:pPr>
            <a:r>
              <a:rPr b="1" lang="uk-UA" sz="2600" spc="-1" strike="noStrike">
                <a:solidFill>
                  <a:srgbClr val="002060"/>
                </a:solidFill>
                <a:latin typeface="Arial"/>
              </a:rPr>
              <a:t>Ефективність RISC-архітектур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Завдяки спрощеній архітектурі RISC-процесора, на мікросхемі з'являється місце для розміщення додаткового набору регістрів. Розподіл реєстрової пам'яті під змінні виконується компіляторо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Не дивлячись на згадані переваги RISC-архітектури, немає простої і однозначної відповіді на питання про те, що краще - RISC або CIS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uk-UA" sz="2600" spc="-1" strike="noStrike" u="sng">
                <a:solidFill>
                  <a:srgbClr val="000000"/>
                </a:solidFill>
                <a:uFillTx/>
                <a:latin typeface="Arial"/>
              </a:rPr>
              <a:t>Прикладом CISC-процесора є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процесор Pentium (кількість команд більше 200, довжина команди 1-11 розрядів, є 8 регістрів загального призначення), а в якості прикладу RISC-процесора можна привести SunSPARC (кількість команд близько 50, довжина команди 4 розряди, є  520 регістрів загального призначення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"/>
          <p:cNvSpPr/>
          <p:nvPr/>
        </p:nvSpPr>
        <p:spPr>
          <a:xfrm>
            <a:off x="0" y="3240"/>
            <a:ext cx="891504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4"/>
          <p:cNvSpPr/>
          <p:nvPr/>
        </p:nvSpPr>
        <p:spPr>
          <a:xfrm>
            <a:off x="2309760" y="6362640"/>
            <a:ext cx="683388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Процесори для побудови систем високої продуктив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"/>
          <p:cNvSpPr/>
          <p:nvPr/>
        </p:nvSpPr>
        <p:spPr>
          <a:xfrm>
            <a:off x="0" y="6840"/>
            <a:ext cx="8962560" cy="6822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Альтернативою суперскалярним процесорам є </a:t>
            </a:r>
            <a:r>
              <a:rPr b="1" lang="uk-UA" sz="2600" spc="-1" strike="noStrike" u="sng">
                <a:solidFill>
                  <a:srgbClr val="000000"/>
                </a:solidFill>
                <a:uFillTx/>
                <a:latin typeface="Arial"/>
              </a:rPr>
              <a:t>процесори з наддовгим командним словом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(VLIW - Very Large Instruction Word). Робота VLIW-процесора заснована на виявленні паралелізму команд під час трансляції. 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Транслятор,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аналізує програму, визначаючи, які операції можуть виконуватися паралельн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Такі операції "упаковуються" в одну велику команд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uk-UA" sz="2600" spc="-1" strike="noStrike">
                <a:solidFill>
                  <a:srgbClr val="002060"/>
                </a:solidFill>
                <a:latin typeface="Arial"/>
              </a:rPr>
              <a:t>Особливості VLIW-процесорі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У трансляторах для VLIW-процесорів застосовуються такі спеціальні прийоми, як розгортка циклів, пророкування розгалужень і планування видачі команд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Метод трасування планування полягає в тому, що з послідовності звичайних команд вихідної програми довгі команди генеруються шляхом перегляду (трасування) лінійних (без розгалужень) ділянок програм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0" y="3240"/>
            <a:ext cx="891504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4"/>
          <p:cNvSpPr/>
          <p:nvPr/>
        </p:nvSpPr>
        <p:spPr>
          <a:xfrm>
            <a:off x="2309760" y="6362640"/>
            <a:ext cx="683388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Процесори для побудови систем високої продуктив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"/>
          <p:cNvSpPr/>
          <p:nvPr/>
        </p:nvSpPr>
        <p:spPr>
          <a:xfrm>
            <a:off x="0" y="25920"/>
            <a:ext cx="9143640" cy="6822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</a:pPr>
            <a:r>
              <a:rPr b="1" lang="uk-UA" sz="2600" spc="-1" strike="noStrike">
                <a:solidFill>
                  <a:srgbClr val="002060"/>
                </a:solidFill>
                <a:latin typeface="Arial"/>
              </a:rPr>
              <a:t>       </a:t>
            </a:r>
            <a:r>
              <a:rPr b="1" lang="uk-UA" sz="2600" spc="-1" strike="noStrike">
                <a:solidFill>
                  <a:srgbClr val="002060"/>
                </a:solidFill>
                <a:latin typeface="Arial"/>
              </a:rPr>
              <a:t>Особливості архітектури VLIW-процесорі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На відміну від традиційної архітектури, регістри не резервуються для певних цілей, їх використання визначається під час компіляції. Висока швидкість роботи оперативної пам'яті досягається її розшаруванням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Прикладами процесорів з VLIW-архітектурою є Itanium, а також деякі процесори, орієнтовані на мультимедіа-додатк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Векторний процесор за один цикл виконання команди зробить поелементне складання масивів і присвоїть отримані значення відповідних елементів масив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Кожен операнд при цьому зберігається в особливому, векторному регістрі. Звичайному, послідовному процесору довелося б багаторазово виконати операцію додавання елементів двох масиві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Векторний процесор виконує лише одну команд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"/>
          <p:cNvSpPr/>
          <p:nvPr/>
        </p:nvSpPr>
        <p:spPr>
          <a:xfrm>
            <a:off x="0" y="3240"/>
            <a:ext cx="891504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4"/>
          <p:cNvSpPr/>
          <p:nvPr/>
        </p:nvSpPr>
        <p:spPr>
          <a:xfrm>
            <a:off x="2309760" y="6362640"/>
            <a:ext cx="683388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Процесори для побудови систем високої продуктив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"/>
          <p:cNvSpPr/>
          <p:nvPr/>
        </p:nvSpPr>
        <p:spPr>
          <a:xfrm>
            <a:off x="0" y="23400"/>
            <a:ext cx="9143640" cy="708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</a:pPr>
            <a:r>
              <a:rPr b="1" lang="uk-UA" sz="2550" spc="-1" strike="noStrike">
                <a:solidFill>
                  <a:srgbClr val="002060"/>
                </a:solidFill>
                <a:latin typeface="Arial"/>
              </a:rPr>
              <a:t>Векторна обробка даних</a:t>
            </a:r>
            <a:endParaRPr b="0" lang="en-US" sz="25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55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uk-UA" sz="2550" spc="-1" strike="noStrike">
                <a:solidFill>
                  <a:srgbClr val="000000"/>
                </a:solidFill>
                <a:latin typeface="Arial"/>
              </a:rPr>
              <a:t>Векторний процесор за один цикл виконання команди зробить поелементне складання масивів і присвоїть отримані значення відповідних елементів масиву. Кожен операнд при цьому зберігається в особливому, векторному регістрі. Звичайному, послідовному процесору довелося б багаторазово виконати операцію додавання елементів двох масивів.</a:t>
            </a:r>
            <a:endParaRPr b="0" lang="en-US" sz="25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55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550" spc="-1" strike="noStrike">
                <a:solidFill>
                  <a:srgbClr val="000000"/>
                </a:solidFill>
                <a:latin typeface="Arial"/>
              </a:rPr>
              <a:t>Векторний процесор виконує лише одну команду.</a:t>
            </a:r>
            <a:endParaRPr b="0" lang="en-US" sz="25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uk-UA" sz="2550" spc="-1" strike="noStrike" u="sng">
                <a:solidFill>
                  <a:srgbClr val="000000"/>
                </a:solidFill>
                <a:uFillTx/>
                <a:latin typeface="Arial"/>
              </a:rPr>
              <a:t>Особливості архітектури: </a:t>
            </a:r>
            <a:r>
              <a:rPr b="0" lang="uk-UA" sz="2550" spc="-1" strike="noStrike">
                <a:solidFill>
                  <a:srgbClr val="000000"/>
                </a:solidFill>
                <a:latin typeface="Arial"/>
              </a:rPr>
              <a:t>Векторні операції можуть бути реалізовані з використанням паралелізму, який забезпечують конвеєрізовані функціональні вузли. Такі архітектури і називаються векторними процесорами. Можна вважати, що векторний процесор побудований на основі SISD-архітектури, в якій реалізовані векторні операції. В результаті цього отримуємо SIMD-архітектуру</a:t>
            </a:r>
            <a:endParaRPr b="0" lang="en-US" sz="25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5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5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"/>
          <p:cNvSpPr/>
          <p:nvPr/>
        </p:nvSpPr>
        <p:spPr>
          <a:xfrm>
            <a:off x="0" y="3240"/>
            <a:ext cx="891504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4"/>
          <p:cNvSpPr/>
          <p:nvPr/>
        </p:nvSpPr>
        <p:spPr>
          <a:xfrm>
            <a:off x="2309760" y="6362640"/>
            <a:ext cx="683388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Процесори для побудови систем високої продуктив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"/>
          <p:cNvSpPr/>
          <p:nvPr/>
        </p:nvSpPr>
        <p:spPr>
          <a:xfrm>
            <a:off x="0" y="27720"/>
            <a:ext cx="8962560" cy="7218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</a:pPr>
            <a:r>
              <a:rPr b="1" lang="uk-UA" sz="2600" spc="-1" strike="noStrike">
                <a:solidFill>
                  <a:srgbClr val="002060"/>
                </a:solidFill>
                <a:latin typeface="Arial"/>
              </a:rPr>
              <a:t>Векторний модул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Векторний модуль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містить декілька векторних регістрів загального призначення, регістр довжини вектора (для зберігання довжини оброблюваного вектора), регістр маск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Регістр маски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містить послідовність бітів - виконавчі розряди вектора, яким відповідають нульові біти маски, в певних ситуаціях ігноруються при виконанні векторних операці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uk-UA" sz="2600" spc="-1" strike="noStrike">
                <a:solidFill>
                  <a:srgbClr val="000000"/>
                </a:solidFill>
                <a:latin typeface="Arial"/>
              </a:rPr>
              <a:t>Мультимедійні програми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зазвичай працюють з великими масивами даних, що складаються з коротких (8- або 16-розрядних) значень з фіксованою точкою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Такі додатки представляють величезний потенціал векторного (SIMD) паралелізму, тому нові покоління мікропроцесорів загального призначення забезпечуються мультимедійними командам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"/>
          <p:cNvSpPr/>
          <p:nvPr/>
        </p:nvSpPr>
        <p:spPr>
          <a:xfrm>
            <a:off x="0" y="3240"/>
            <a:ext cx="891504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4"/>
          <p:cNvSpPr/>
          <p:nvPr/>
        </p:nvSpPr>
        <p:spPr>
          <a:xfrm>
            <a:off x="2309760" y="6362640"/>
            <a:ext cx="683388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Процесори для побудови систем високої продуктив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"/>
          <p:cNvSpPr/>
          <p:nvPr/>
        </p:nvSpPr>
        <p:spPr>
          <a:xfrm>
            <a:off x="0" y="20520"/>
            <a:ext cx="8962560" cy="600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2060"/>
                </a:solidFill>
                <a:latin typeface="Arial"/>
              </a:rPr>
              <a:t>Мультимедійні розшире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ультимедійні розширення включені в системи команд процесорів Intel (MMX-розширення системи команд Pentium і нові SIMD-команди Pentium), AMD (3D Now!), Sun (VIS SPARC), Compaq (Alpha MVI), Hewlett Packard (PA-RISC MAX2  ), SGI (MDMX), Motorola (PowerPC AltiVec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У Pentium введена паралельна обробка в режимі SIMD-процесора чотирьох 32-розрядних операндів в форматі з плаваючою точко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1"/>
          <p:cNvSpPr/>
          <p:nvPr/>
        </p:nvSpPr>
        <p:spPr>
          <a:xfrm>
            <a:off x="0" y="3240"/>
            <a:ext cx="891504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4"/>
          <p:cNvSpPr/>
          <p:nvPr/>
        </p:nvSpPr>
        <p:spPr>
          <a:xfrm>
            <a:off x="2309760" y="6362640"/>
            <a:ext cx="683388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Процесори для побудови систем високої продуктив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"/>
          <p:cNvSpPr/>
          <p:nvPr/>
        </p:nvSpPr>
        <p:spPr>
          <a:xfrm>
            <a:off x="0" y="188640"/>
            <a:ext cx="8962560" cy="6914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</a:pPr>
            <a:r>
              <a:rPr b="1" lang="uk-UA" sz="3200" spc="-1" strike="noStrike">
                <a:solidFill>
                  <a:srgbClr val="002060"/>
                </a:solidFill>
                <a:latin typeface="Arial"/>
              </a:rPr>
              <a:t>Багатопотокова архітек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У даний час з'явилися і розвиваються процесори з багатопотоковою архітектурою (MTA - MultiThread Architecture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Ідея полягає в тому, що програма виконується в декількох потоків і кожному потоку віддається спеціальний регістровий фай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Завдання створення і управління безліччю потоків вирішується трансляторо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Приклад комп'ютера з багатопотоковою архітектурою - Cray MTA-2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Різновидом даного підходу є одночасна багатопоточність (SMT - Simultaneous MultiThreading), коли один фізичний процесор бачиться операційній системі як два «логічних» процесор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"/>
          <p:cNvSpPr/>
          <p:nvPr/>
        </p:nvSpPr>
        <p:spPr>
          <a:xfrm>
            <a:off x="0" y="3240"/>
            <a:ext cx="891504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4"/>
          <p:cNvSpPr/>
          <p:nvPr/>
        </p:nvSpPr>
        <p:spPr>
          <a:xfrm>
            <a:off x="2309760" y="6362640"/>
            <a:ext cx="683388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Процесори для побудови систем високої продуктив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"/>
          <p:cNvSpPr/>
          <p:nvPr/>
        </p:nvSpPr>
        <p:spPr>
          <a:xfrm>
            <a:off x="0" y="183600"/>
            <a:ext cx="8962560" cy="612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</a:pPr>
            <a:r>
              <a:rPr b="1" lang="uk-UA" sz="3200" spc="-1" strike="noStrike">
                <a:solidFill>
                  <a:srgbClr val="002060"/>
                </a:solidFill>
                <a:latin typeface="Arial"/>
              </a:rPr>
              <a:t>Комунікаційні процесо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Комунікаційні процесори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- це мікрочіпи, що являють собою щось середнє між жорсткими спеціалізованими інтегральними мікросхемами і гнучкими процесорами загального призначен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омунікаційні процесори програмуються, як і звичні нам ПК-процесори, але побудовані з урахуванням мережевих завдань, оптимізовані для роботи в мережі, і на їх основі виробники - як процесорів, так і обладнання - пишуть програмне забезпечення для специфічних додатк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5840" y="2643120"/>
            <a:ext cx="8572320" cy="1398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txBody>
          <a:bodyPr lIns="90000" rIns="90000" tIns="45000" bIns="45000" anchor="ctr">
            <a:normAutofit fontScale="39000"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br>
              <a:rPr sz="4400"/>
            </a:br>
            <a:r>
              <a:rPr b="1" lang="uk-UA" sz="4000" spc="-1" strike="noStrike" cap="all">
                <a:solidFill>
                  <a:srgbClr val="000000"/>
                </a:solidFill>
                <a:latin typeface="Franklin Gothic Medium"/>
              </a:rPr>
              <a:t>1 Процесори для побудови систем високої продуктивності.</a:t>
            </a:r>
            <a:br>
              <a:rPr sz="4400"/>
            </a:br>
            <a:br>
              <a:rPr sz="4400"/>
            </a:b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0" y="3240"/>
            <a:ext cx="891504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4"/>
          <p:cNvSpPr/>
          <p:nvPr/>
        </p:nvSpPr>
        <p:spPr>
          <a:xfrm>
            <a:off x="2309760" y="6362640"/>
            <a:ext cx="683388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Процесори для побудови систем високої продуктив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"/>
          <p:cNvSpPr/>
          <p:nvPr/>
        </p:nvSpPr>
        <p:spPr>
          <a:xfrm>
            <a:off x="0" y="307080"/>
            <a:ext cx="8962560" cy="6977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</a:pPr>
            <a:r>
              <a:rPr b="1" lang="uk-UA" sz="3200" spc="-1" strike="noStrike">
                <a:solidFill>
                  <a:srgbClr val="002060"/>
                </a:solidFill>
                <a:latin typeface="Arial"/>
              </a:rPr>
              <a:t>Особливості побуд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2800" spc="-1" strike="noStrike" u="sng">
                <a:solidFill>
                  <a:srgbClr val="000000"/>
                </a:solidFill>
                <a:uFillTx/>
                <a:latin typeface="Arial"/>
              </a:rPr>
              <a:t>Комунікаційний процесор має власну пам'ять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і оснащений високошвидкісними зовнішніми каналами для з'єднання з іншими процесорними вузлами. Його присутність дозволяє в значній мірі звільнити обчислювальний процесор від навантаження, пов'язаного з передачею повідомлень між процесорними вузл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Швидкісний комунікаційний процесор з RISC-ядром дозволяє управляти обміном даних з кількох незалежних каналах, підтримувати практично всі поширені протоколи обміну, гнучко і ефективно розподіляти і обробляти послідовні потоки даних з тимчасовим поділом канал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840" y="2643120"/>
            <a:ext cx="8572320" cy="1398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txBody>
          <a:bodyPr lIns="90000" rIns="90000" tIns="45000" bIns="45000" anchor="ctr">
            <a:normAutofit fontScale="59000"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r>
              <a:rPr b="1" lang="uk-UA" sz="4400" spc="-1" strike="noStrike" cap="all">
                <a:solidFill>
                  <a:srgbClr val="000000"/>
                </a:solidFill>
                <a:latin typeface="Franklin Gothic Medium"/>
              </a:rPr>
              <a:t>2 Пам’ять систем високої продуктивності.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Загнутый угол 1"/>
          <p:cNvSpPr/>
          <p:nvPr/>
        </p:nvSpPr>
        <p:spPr>
          <a:xfrm>
            <a:off x="228600" y="262080"/>
            <a:ext cx="8686440" cy="6152760"/>
          </a:xfrm>
          <a:prstGeom prst="foldedCorner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c17529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uk-UA" sz="3200" spc="-1" strike="noStrike">
                <a:solidFill>
                  <a:srgbClr val="002060"/>
                </a:solidFill>
                <a:latin typeface="Franklin Gothic Book"/>
              </a:rPr>
              <a:t>Пам'ять комп'ютерних сист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У сучасних КС використовуються такі різновиди пам'яті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Оперативна пам'я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Колективна пам'я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Почергова пам'я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Прийнята така </a:t>
            </a:r>
            <a:r>
              <a:rPr b="0" i="1" lang="uk-UA" sz="2600" spc="-1" strike="noStrike" u="sng">
                <a:solidFill>
                  <a:srgbClr val="000000"/>
                </a:solidFill>
                <a:uFillTx/>
                <a:latin typeface="Franklin Gothic Book"/>
              </a:rPr>
              <a:t>класифікація паралельних комп'ютерів по архітектурі підсистем оперативної пам'яті</a:t>
            </a: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uk-UA" sz="2600" spc="-1" strike="noStrike">
                <a:solidFill>
                  <a:srgbClr val="000000"/>
                </a:solidFill>
                <a:latin typeface="Franklin Gothic Book"/>
              </a:rPr>
              <a:t>системи з розділеною пам'яттю</a:t>
            </a: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, у яких є одна велика віртуальна пам'ять, і все процесори мають однаковий доступ до даних і командам, що зберігаються в цій пам'яті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uk-UA" sz="2600" spc="-1" strike="noStrike">
                <a:solidFill>
                  <a:srgbClr val="000000"/>
                </a:solidFill>
                <a:latin typeface="Franklin Gothic Book"/>
              </a:rPr>
              <a:t>системи з розподіленою пам'яттю</a:t>
            </a: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, у яких кожен процесор має свою локальну оперативну пам'ять, і до цієї пам'яті у інших процесорів немає доступ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2"/>
          <p:cNvSpPr/>
          <p:nvPr/>
        </p:nvSpPr>
        <p:spPr>
          <a:xfrm>
            <a:off x="4029120" y="6362640"/>
            <a:ext cx="511452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2. Пам’ять систем високої продуктив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Загнутый угол 1"/>
          <p:cNvSpPr/>
          <p:nvPr/>
        </p:nvSpPr>
        <p:spPr>
          <a:xfrm>
            <a:off x="228600" y="262080"/>
            <a:ext cx="8686440" cy="6152760"/>
          </a:xfrm>
          <a:prstGeom prst="foldedCorner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c17529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uk-UA" sz="3200" spc="-1" strike="noStrike">
                <a:solidFill>
                  <a:srgbClr val="000000"/>
                </a:solidFill>
                <a:latin typeface="Franklin Gothic Book"/>
              </a:rPr>
              <a:t>Проблема когерентност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       </a:t>
            </a: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У багатопроцесорних обчислювальних системах виникає проблема кеш-когерентності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       </a:t>
            </a: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Вона полягає в тому, що </a:t>
            </a:r>
            <a:r>
              <a:rPr b="1" i="1" lang="uk-UA" sz="2600" spc="-1" strike="noStrike">
                <a:solidFill>
                  <a:srgbClr val="000000"/>
                </a:solidFill>
                <a:latin typeface="Franklin Gothic Book"/>
              </a:rPr>
              <a:t>якщо двом або більше процесорам знадобилося значення однієї і тієї ж змінної, воно буде зберігатися у вигляді декількох копій в кеш-пам'яті всіх процесорі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        </a:t>
            </a: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Один з процесорів може змінити це значення в результаті виконання своєї команди і воно буде передано в оперативну пам'ять комп'ютера.  Але в кеш-пам'яті інших процесорів все ще зберігається старе значенн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         </a:t>
            </a:r>
            <a:r>
              <a:rPr b="0" lang="uk-UA" sz="2600" spc="-1" strike="noStrike">
                <a:solidFill>
                  <a:srgbClr val="000000"/>
                </a:solidFill>
                <a:latin typeface="Franklin Gothic Book"/>
              </a:rPr>
              <a:t>Отже, необхідно забезпечити своєчасне оновлення даних в кеш-пам'яті всіх процесорів комп'ютер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3"/>
          <p:cNvSpPr/>
          <p:nvPr/>
        </p:nvSpPr>
        <p:spPr>
          <a:xfrm>
            <a:off x="4029120" y="6362640"/>
            <a:ext cx="511452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2. Пам’ять систем високої продуктив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Загнутый угол 1"/>
          <p:cNvSpPr/>
          <p:nvPr/>
        </p:nvSpPr>
        <p:spPr>
          <a:xfrm>
            <a:off x="228600" y="262080"/>
            <a:ext cx="8686440" cy="6152760"/>
          </a:xfrm>
          <a:prstGeom prst="foldedCorner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c17529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uk-UA" sz="3200" spc="-1" strike="noStrike">
                <a:solidFill>
                  <a:srgbClr val="000000"/>
                </a:solidFill>
                <a:latin typeface="Franklin Gothic Book"/>
              </a:rPr>
              <a:t>Рішення проблеми когерентност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        </a:t>
            </a: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Проблема кеш-когерентності може вирішуватися </a:t>
            </a:r>
            <a:r>
              <a:rPr b="1" lang="uk-UA" sz="2800" spc="-1" strike="noStrike">
                <a:solidFill>
                  <a:srgbClr val="000000"/>
                </a:solidFill>
                <a:latin typeface="Franklin Gothic Book"/>
              </a:rPr>
              <a:t>програмним шляхом - на рівні транслятора і операційної системи.  </a:t>
            </a: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Транслятор, наприклад, може визначати моменти безпечної синхронізації кеш-пам'яті при виконанні прогр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         </a:t>
            </a: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Інший підхід заснований на </a:t>
            </a:r>
            <a:r>
              <a:rPr b="1" lang="uk-UA" sz="2800" spc="-1" strike="noStrike">
                <a:solidFill>
                  <a:srgbClr val="000000"/>
                </a:solidFill>
                <a:latin typeface="Franklin Gothic Book"/>
              </a:rPr>
              <a:t>апаратному рішенні проблеми кеш-когерентності</a:t>
            </a: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.  У цьому випадку застосовуються спеціальні протоколи, кеш-пам'ять використовується більш ефективно, все відбувається "прозоро" для програмі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3"/>
          <p:cNvSpPr/>
          <p:nvPr/>
        </p:nvSpPr>
        <p:spPr>
          <a:xfrm>
            <a:off x="4029120" y="6362640"/>
            <a:ext cx="511452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2. Пам’ять систем високої продуктив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Загнутый угол 1"/>
          <p:cNvSpPr/>
          <p:nvPr/>
        </p:nvSpPr>
        <p:spPr>
          <a:xfrm>
            <a:off x="228600" y="262080"/>
            <a:ext cx="8686440" cy="6152760"/>
          </a:xfrm>
          <a:prstGeom prst="foldedCorner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c17529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2060"/>
                </a:solidFill>
                <a:latin typeface="Franklin Gothic Book"/>
              </a:rPr>
              <a:t>Протоколи управління кеш-пам'ятт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        </a:t>
            </a: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Протоколи каталогів реалізують збір та облік інформації про копії даних в кеш-пам'яті. Ця інформація зберігається в спеціальній області оперативної пам'яті - </a:t>
            </a:r>
            <a:r>
              <a:rPr b="1" i="1" lang="uk-UA" sz="2800" spc="-1" strike="noStrike">
                <a:solidFill>
                  <a:srgbClr val="000000"/>
                </a:solidFill>
                <a:latin typeface="Franklin Gothic Book"/>
              </a:rPr>
              <a:t>каталозі</a:t>
            </a: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        </a:t>
            </a: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Запити перевіряються за допомогою каталогу, потім виконуються необхідні пересилання даних.    Використання даного підходу ефективно в великих системах зі складними схемами комунікації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        </a:t>
            </a:r>
            <a:r>
              <a:rPr b="0" lang="uk-UA" sz="2800" spc="-1" strike="noStrike">
                <a:solidFill>
                  <a:srgbClr val="000000"/>
                </a:solidFill>
                <a:latin typeface="Franklin Gothic Book"/>
              </a:rPr>
              <a:t>Протоколи спостереження розподіляють "відповідальність" за когерентність кешей між контролерами кеш-пам'яті.  Контролер визначає зміну змісту кеш-пам'яті і передає інформацію про це іншим модулям кеш-пам'ят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3"/>
          <p:cNvSpPr/>
          <p:nvPr/>
        </p:nvSpPr>
        <p:spPr>
          <a:xfrm>
            <a:off x="4029120" y="6362640"/>
            <a:ext cx="511452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2. Пам’ять систем високої продуктив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1"/>
          <p:cNvSpPr/>
          <p:nvPr/>
        </p:nvSpPr>
        <p:spPr>
          <a:xfrm>
            <a:off x="138240" y="564840"/>
            <a:ext cx="8686440" cy="61693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bIns="0" anchor="ctr">
            <a:spAutoFit/>
          </a:bodyPr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212121"/>
                </a:solidFill>
                <a:latin typeface="Times New Roman"/>
              </a:rPr>
              <a:t> 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1.Процессор є основним елементом обчислювальної системи, що визначає рівень його швидкодії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2.В традиційному послідовному комп'ютері, швидкодія центрального процесора може бути збільшено за рахунок збільшення тактової частоти, і швидкодії мікросхем оперативної пам'яті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3.Другі методи підвищення швидкодії засновані на розширеннях традиційної фон-нейманівскої архітектури, що включають: 1) конвеєрну обробку даних і команд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2) використання процесорів з скороченим набором команд (RISC-процесорів), де велика частина команд виконується за 1-2 такти; 3) використання суперскалярних процесорів; 4) векторну обробку даних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5) використання процесорів з наддовгим командним словом; 6) - використання багатопроцесорних конфігур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аці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Загнутый угол 3"/>
          <p:cNvSpPr/>
          <p:nvPr/>
        </p:nvSpPr>
        <p:spPr>
          <a:xfrm>
            <a:off x="2490840" y="-9720"/>
            <a:ext cx="3800160" cy="452160"/>
          </a:xfrm>
          <a:prstGeom prst="foldedCorner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c17529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c00000"/>
                </a:solidFill>
                <a:latin typeface="Franklin Gothic Book"/>
              </a:rPr>
              <a:t>ВИСНО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"/>
          <p:cNvSpPr/>
          <p:nvPr/>
        </p:nvSpPr>
        <p:spPr>
          <a:xfrm>
            <a:off x="138240" y="1012680"/>
            <a:ext cx="8686440" cy="519300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bIns="0" anchor="ctr">
            <a:spAutoFit/>
          </a:bodyPr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4.Характеристика оперативної пам'яті і особливості її пристрою є найважливішим фактором, від якого залежить швидкодія комп'ютерної систем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5.Принята наступна класифікація паралельних комп'ютерів по архітектурі підсистем оперативної пам'яті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- системи з розділеною пам'яттю, у яких є одна велика віртуальна пам'ять, а всі процесори мають однаковий доступ до даних і команд, що зберігаються в цій пам'яті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- системи з розподіленою пам'яттю, у яких кожен процесор має свою локальну оперативну пам'ять, і до цієї пам'яті у інших процесорів немає доступ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Загнутый угол 3"/>
          <p:cNvSpPr/>
          <p:nvPr/>
        </p:nvSpPr>
        <p:spPr>
          <a:xfrm>
            <a:off x="2490840" y="171360"/>
            <a:ext cx="3800160" cy="452160"/>
          </a:xfrm>
          <a:prstGeom prst="foldedCorner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c17529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c00000"/>
                </a:solidFill>
                <a:latin typeface="Franklin Gothic Book"/>
              </a:rPr>
              <a:t>ВИСНО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3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500040" y="296280"/>
            <a:ext cx="8143560" cy="6425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Процесор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є основним елементом обчислювальної системи, що визначає рівень його швидкодії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Підвищення продуктивності обчислювальної техніки пов'язано в великій мірі з розробкою нових технологій і залученням найоригінальніших і несподіваних рішень побудови процесорі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uk-UA" sz="2600" spc="-1" strike="noStrike" u="sng">
                <a:solidFill>
                  <a:srgbClr val="000000"/>
                </a:solidFill>
                <a:uFillTx/>
                <a:latin typeface="Arial"/>
              </a:rPr>
              <a:t>Основні архітектури процесорів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Традиційна архітектура фон Нейман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Асоціативні процесор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Конвеєрні процесор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Суперскалярні процесор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Процесори з RISC і CISC архітектурою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Процесори зі наддовгим командним слово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Векторна обробка дани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Багатопотокова архітектура і комунікаційні процесор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3"/>
          <p:cNvSpPr/>
          <p:nvPr/>
        </p:nvSpPr>
        <p:spPr>
          <a:xfrm>
            <a:off x="2309760" y="6362640"/>
            <a:ext cx="683388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Процесори для побудови систем високої продуктив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228600" y="-10080"/>
            <a:ext cx="8505360" cy="654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uk-UA" sz="3200" spc="-1" strike="noStrike">
                <a:solidFill>
                  <a:srgbClr val="002060"/>
                </a:solidFill>
                <a:latin typeface="Arial"/>
              </a:rPr>
              <a:t>Традиційна архітектура фон Нейма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ограма зберігається в комп'ютері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ограма під час її виконання і необхідні для її роботи дані </a:t>
            </a: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знаходяться в оперативній пам'яті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є арифметико-логічний пристрій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, що виконує арифметичні і логічні операції з дани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є пристрій керування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(ПК), яке інтерпретує команди, які обираються з пам'яті, і виконує ї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пристрої введення і виведення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(ВВ) працюють під управлінням ПК, використовуються для введення програм і даних, а також для виведення результатів розрахунк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4"/>
          <p:cNvSpPr/>
          <p:nvPr/>
        </p:nvSpPr>
        <p:spPr>
          <a:xfrm>
            <a:off x="2309760" y="6362640"/>
            <a:ext cx="683388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Процесори для побудови систем високої продуктив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"/>
          <p:cNvSpPr/>
          <p:nvPr/>
        </p:nvSpPr>
        <p:spPr>
          <a:xfrm>
            <a:off x="228600" y="300600"/>
            <a:ext cx="8867520" cy="6122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uk-UA" sz="3200" spc="-1" strike="noStrike">
                <a:solidFill>
                  <a:srgbClr val="002060"/>
                </a:solidFill>
                <a:latin typeface="Arial"/>
              </a:rPr>
              <a:t>Особливості архітектури фон Нейма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центральний процесор і оперативна пам'ять утворюють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ядро системи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торинна («зовнішня») пам'ять і пристрої введення-виведення, що утворюють «периферію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омунікації між компонентами системи, що здійснюються за допомогою ш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У традиційному послідовному комп'ютері, заснованому на ідеях фон Неймана, швидкодія центрального процесора може бути збільшено за рахунок збільшення тактової частоти, величина якої залежить від щільності елементів в інтегральній схемі і швидкодії мікросхем оперативної пам'ят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6"/>
          <p:cNvSpPr/>
          <p:nvPr/>
        </p:nvSpPr>
        <p:spPr>
          <a:xfrm>
            <a:off x="2309760" y="6362640"/>
            <a:ext cx="683388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Процесори для побудови систем високої продуктив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"/>
          <p:cNvSpPr/>
          <p:nvPr/>
        </p:nvSpPr>
        <p:spPr>
          <a:xfrm>
            <a:off x="47520" y="-5760"/>
            <a:ext cx="8505360" cy="685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Для підвищення продуктивності необхідні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конвеєрна обробка даних і команд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використання процесорів зі скороченим набором команд (RISC-процесорів). В RISC-процесорах велика частина команд виконується за 1-2 такт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використання суперскалярних процесорів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векторну обробку даних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використання процесорів з наддовгим командним словом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використання багатопроцесорних конфігураці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uk-UA" sz="2800" spc="-1" strike="noStrike" u="sng">
                <a:solidFill>
                  <a:srgbClr val="000000"/>
                </a:solidFill>
                <a:uFillTx/>
                <a:latin typeface="Arial"/>
              </a:rPr>
              <a:t>Асоціативні процесори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Існуючі в даний час алгоритми прикладних задач, системне програмне забезпечення і апаратні засоби переважно орієнтована на традиційну адресну обробку дани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Дані повинні бути представлені у вигляді обмеженої кількості форматів (наприклад, масиви, списки, записи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4"/>
          <p:cNvSpPr/>
          <p:nvPr/>
        </p:nvSpPr>
        <p:spPr>
          <a:xfrm>
            <a:off x="2490840" y="6362640"/>
            <a:ext cx="665280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1. Процесори для побудови систем високої продуктив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"/>
          <p:cNvSpPr/>
          <p:nvPr/>
        </p:nvSpPr>
        <p:spPr>
          <a:xfrm>
            <a:off x="228600" y="24480"/>
            <a:ext cx="8505360" cy="6425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uk-UA" sz="2600" spc="-1" strike="noStrike">
                <a:solidFill>
                  <a:srgbClr val="002060"/>
                </a:solidFill>
                <a:latin typeface="Arial"/>
              </a:rPr>
              <a:t>Недоліки традиційної обробк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Такий підхід зумовлює громіздкість операційних систем і систем програмування, а також служить перешкодою до створення обчислювальних засобів з архітектурою, орієнтованою на більш ефективне використання паралелізму обробки дани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uk-UA" sz="2600" spc="-1" strike="noStrike">
                <a:solidFill>
                  <a:srgbClr val="002060"/>
                </a:solidFill>
                <a:latin typeface="Arial"/>
              </a:rPr>
              <a:t>Особливості асоціативної обробк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Асоціативний спосіб обробки даних дозволяє подолати багато обмежень, властиві адресному доступу до пам'яті, за рахунок завдання деякого критерію відбору і проведення необхідних перетворень, тільки над тими даними, які задовольняють цьому критерію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Критерієм відбору може бути збіг з будь-яким елементом даних, достатній для виділення шуканих даних з усіх дани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4"/>
          <p:cNvSpPr/>
          <p:nvPr/>
        </p:nvSpPr>
        <p:spPr>
          <a:xfrm>
            <a:off x="2309760" y="6362640"/>
            <a:ext cx="683388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Процесори для побудови систем високої продуктив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"/>
          <p:cNvSpPr/>
          <p:nvPr/>
        </p:nvSpPr>
        <p:spPr>
          <a:xfrm>
            <a:off x="318960" y="556560"/>
            <a:ext cx="8505360" cy="4385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uk-UA" sz="3200" spc="-1" strike="noStrike">
                <a:solidFill>
                  <a:srgbClr val="002060"/>
                </a:solidFill>
                <a:latin typeface="Arial"/>
              </a:rPr>
              <a:t>Способи асоціативної оброб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ошук даних може відбуватися за фрагментом, що має більшу або меншу кореляцію з заданим елементом дан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Якщо реалізується тільки асоціативна вибірка даних з подальшим послідовним використанням знайдених даних, то говорять про асоціативну пам'ять або пам'ять, що адресується за вміс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4"/>
          <p:cNvSpPr/>
          <p:nvPr/>
        </p:nvSpPr>
        <p:spPr>
          <a:xfrm>
            <a:off x="2309760" y="6362640"/>
            <a:ext cx="6833880" cy="495000"/>
          </a:xfrm>
          <a:prstGeom prst="rect">
            <a:avLst/>
          </a:prstGeom>
          <a:solidFill>
            <a:schemeClr val="accent1"/>
          </a:solidFill>
          <a:ln w="38100"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Процесори для побудови систем високої продуктив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rek</Template>
  <TotalTime>6176</TotalTime>
  <Application>LibreOffice/7.4.7.2$Linux_X86_64 LibreOffice_project/40$Build-2</Application>
  <AppVersion>15.0000</AppVersion>
  <Words>3004</Words>
  <Paragraphs>24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3T18:34:17Z</dcterms:created>
  <dc:creator>kaf</dc:creator>
  <dc:description/>
  <dc:language>en-US</dc:language>
  <cp:lastModifiedBy>user</cp:lastModifiedBy>
  <dcterms:modified xsi:type="dcterms:W3CDTF">2018-11-21T16:19:28Z</dcterms:modified>
  <cp:revision>476</cp:revision>
  <dc:subject/>
  <dc:title>ПРАВОВІ ОСНОВИ УПРАВЛІННЯ У СФЕРІ ОСВІ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37</vt:r8>
  </property>
</Properties>
</file>