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73C-4B5A-4499-A683-873309E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044-BEAC-4D35-B15F-4B379350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685-98A6-4967-9DD2-40295195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7A9-4A01-4164-AEED-827CDC8D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1A21-C55C-4764-A213-1135A561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E769-EB8E-4E31-A513-EABEFB77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C1A-9DB8-4042-86D5-9545626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EFB7-AFE5-4064-B05E-39812DB8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0EC-F5E5-4A63-A700-F0B5F8F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ED03-6316-4725-B054-8C83AF4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F5C7-C33A-4D36-A591-0868E00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F5F-97A6-4FEF-B540-26B600E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725-CB5E-4DB6-9EB2-778D10B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19FC-DEB1-41DE-A247-7328FB5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234E-01B3-465E-9A82-3DF2AAE1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BB0-AD12-42CD-B42F-4F7AC9CE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D72-741F-49C9-A597-9E1129F1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9DF9-070A-46B5-A3F9-0A4F10B6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82BD-36C1-406A-8186-26DCE8CD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A203-D833-402C-9163-262D4FC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7FC4-BE6C-4E74-8538-C9EA9D93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5F3D-005A-4C95-913C-E773C085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CA5-EB3B-44D6-8BBC-15307CF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B50C-4E50-4B4B-BE6D-1FDFABD4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F484-9614-42CA-8FFE-8637FEC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BA7E-3FC0-408C-89A1-3E05464A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24A8-587A-4306-9961-5C3A8016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D32D-7548-4E5C-BD08-4857104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9FD6-3ACA-44F5-AD47-11C11599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9DCC-9B9B-4889-85AA-DED21295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FD2-FD7F-4D15-AC83-DB5AD86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107-4EEF-4C72-9416-25847845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035-6ABF-4FC2-9719-BA119DA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A7C-6BA6-4849-B3F9-1C0977E9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668-616A-42CA-82E8-A470EA4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4EF-F613-40B6-8704-12FC557A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4C697B-C840-41EE-8E62-DC75D652FD8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E44D94-7648-4F93-A0CE-25C8F782D00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A69B4-CAD8-43CC-B39C-373419E453F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3520" y="2565360"/>
            <a:ext cx="8653320" cy="14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 cap="all">
                <a:solidFill>
                  <a:srgbClr val="4e3b30"/>
                </a:solidFill>
                <a:latin typeface="Franklin Gothic Medium"/>
              </a:rPr>
              <a:t>Елементи паралельних КС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507960"/>
            <a:ext cx="84578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44342a"/>
                </a:solidFill>
                <a:latin typeface="Franklin Gothic Book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28600" y="203040"/>
            <a:ext cx="8505360" cy="60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асоціатив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соціативні системи відносяться до класу: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один потік коман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безліч потоків даних (SI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стеми включають велике число операційних пристроїв, здатних одночасно по командам керуючого пристрою вести обробку декількох потоків даних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В асоціативних обчислювальних системах інформація на обробку надходить від асоціативних запам'ятовуючих пристроїв (АЗП), що характеризуються тим, що інформація в них вибирається не по певній адресі, а за її змі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228600" y="-7560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веєрні процес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я конвеєра полягає в тому, щоб складну операцію розбити на кілька простіших, таких, які можуть виконуватися одночасно. Операція підсумовування, наприклад, включає віднімання порядків, вирівнювання порядків, складання мантисс і нормалізацію. Кожна з підоперацій може виконуватися на окремому блоці апарату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нципи конвеєрної обро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 русі об'єктів по конвеєру одночасно на різних його ділянках (сегментах) виконуються різні підоперації, що дає збільшення продуктивності за рахунок використання паралелізму на рівні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и застосовуються як при обробці команд (конвеєри команд), так і в арифметичних операціях (конвеєри дани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196200"/>
            <a:ext cx="8915040" cy="648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Для ефективної реалізації конвеєра необхі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истема виконує повторювану операці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перація може бути розділена на незалежні части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рудомісткість підоперацій приблизно однак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ількість сегментів називають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глибиною конвеєр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Важливою умовою нормальної роботи конвеєра є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відсутність конфлікті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підвідних до простоїв конвеє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Простої конвеє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'єкти, що надходять в конвеєр, повинні бути незалежними. Якщо, наприклад, операндом є результат попередньої операції, виникають періоди роботи конвеєра ("конвеєрні бульбашки"), коли він порожн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"Бульбашка" проходить по конвеєру, займаючи місце, але не виконуючи при цьому ніякої корисної робо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0" y="-63720"/>
            <a:ext cx="891504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Цикл виконання команди складається з декількох крок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 Вибірка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 Декодування команди, обчислення адреси операнда і його вибір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. Виконання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 Звернення до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 Запис результату в пам'я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Для виконання кожного етапу команд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дводиться один такт і в кожному новому такті починається виконання нової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ля зберігання проміжних результатів кожного етапу використовується швидка пам'ять (регістр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результаті, в кожному такті будуть виконуватися кілька команд і, незважаючи на те, що час виконання окремої команди дещо збільшиться, виробництво системи в цілому зро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09680" y="209880"/>
            <a:ext cx="850536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ростий конвеє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ий конвеєр команд викликається ситуацією, коли чергову команду з потоку команд не можна завантажити в конвеєр відразу, а з якоїсь причини доводиться очікувати кілька так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чергова команда у відповідному їй такті не може бути виконана, кажуть про конфлі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цьому випадку команда очікує своєї черги, а пропускна здатність конвеєра пада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ікувати своєї черги доводиться і всім наступним коман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анди, вже завантажені в конвеєр, продовжують виконуват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0" y="-263880"/>
            <a:ext cx="891504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йнято виділяти три типи конфлікт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руктурні конфлік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и за дани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и з управлі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чиною структурних конфліктів є одночасний запит на використання одного ресурсу декількома команд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достатня кількість регістрів для запису даних в одному так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Конфлікти за дани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наслідком логічної залежності команд між собою і відбуваються, якщо для виконання чергової команди потрібний результат виконання попередньої команди (її результат виступає в якості операнд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цьому випадку команда не буде виконуватися до тих пір, поки попередня команда не завершить своє виконання і не передасть їй свій результа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-64440"/>
            <a:ext cx="8915040" cy="691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флікти з управління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ликаються наявністю в програмах умовних конструкці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нувана гілка умовного оператора визначається тільки після обчислення умови розгалуження. Якщо врахувати, що в програмах до третини операторів є гылкування, втрати продуктивності внаслідок простоїв з управління можуть бути велик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Оптимізація роботи конвеєра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більшості сучасних процесорів використовуються спеціальні пристрої, які виконують вибірку команд і поміщають їх в спеціальні черги ще до того, як вони можуть знадобитися.  Функціональні вузли конвеєра вміють розпізнавати команди безумовного переходу, визначають адреси наступних команд і вибирають ці команди з черги, що дозволяє забезпечити безперервний потік команд в конвеєрі. Умовні переходи важче піддаються оптимізації, але і тут є способи підвищення продуктивності конвеєра при обробці умовних перех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0" y="28440"/>
            <a:ext cx="8915040" cy="721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багатьох обчислювальних системах, поряд з конвеєром команд,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икористовуються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веєри даних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Поєднання цих двох конвеєрів дає можливість досягти дуже високої продуктивності на певних класах завдань, особливо якщо використовується кілька різних конвеєрних процесорів, здатних працювати одночасно і незалежно один від од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даний час створені однокристальні векторно-конвеєрні процесори, такі як SX-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оцесор SX-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сновними компонентами мікропроцесора є скалярний процесор і 8 ідентичних векторних пристроїв, сумарна продуктивність яких становить 64 G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(GFLOPS / с - "гігафлоп в секунду" одиниця виміру швидкодії процесора, складова один мільярд операцій з плаваючою крапкою в секунд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0" y="33480"/>
            <a:ext cx="873396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кладом комп'ютера з суперскалярним процесором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IBM RISC/6000. При тактовій частоті 62,5 МГц швидкодія системи на обчислювальних тестах досягала 104 МFLOPS/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перскалярний процесор не вимагає спеціальних векторизуючих компіляторів, хоча компілятор повинен в цьому випадку враховувати особливості архітектур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ідвищення продуктивності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 рахунок збільшення числа функціональних пристроїв і використання низькорівневого паралелізму можна ефективно реалізувати, лише забезпечивши їх збалансовану завантаження. Тут можливі два підход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ерший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динамічне завантаження, засноване на аналізі програмного коду під час його виконанн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ругий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дхід - статичний, підтримуваний компілятор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409680" y="694080"/>
            <a:ext cx="8324640" cy="533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роцесори з RISC архітектурою CIS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основі RISC-архітектури (RISC - Reduced Instruction Set Computer) процесора лежить ідея збільшення швидкості його роботи за рахунок спрощення набору коман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илежну тенденцію представляють CISC-архітектури, процесори зі складним набором команд (CISC - Complete Instruction Set Computer). Основоположником архітектури CISC є компанія IBM, а в даний час лідером у цій області є Intel (процесори Pentiu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Franklin Gothic Medium"/>
              </a:rPr>
              <a:t>ПЛАН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681120" y="1528920"/>
            <a:ext cx="7872120" cy="4049280"/>
          </a:xfrm>
          <a:prstGeom prst="rect">
            <a:avLst/>
          </a:prstGeom>
          <a:solidFill>
            <a:schemeClr val="bg1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1 Процесори для побудови систем високої продуктив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2 Пам’ять систем високої продуктив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ис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0" y="-17280"/>
            <a:ext cx="914364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RISC-архітекту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В рамках CISC-підходу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бір команд включає команди, близькі до операторів мови високого рівня.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В рамках RISC-підходу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набір команд спрощується і оптимізується під реальні потреби користувацьких прогр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основу RISC-архітектури покладені наступні принципи і ідеї:набір команд повинен бути обмеженим і включати тільки прості команди, час виконання яких після вибірки і декодування один такт або трохи більше;  використовується конвеєрна оброб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струкція пристрою управління у разі RISC-архітектури спрощується, і це дає можливість процесору працювати на великих тактових частотах. Використання простих команд дозволяє ефективно реалізувати і конвеєрну обробку даних, і виконання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0" y="291960"/>
            <a:ext cx="9143640" cy="572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RISC-процесор має час виконання команд майже удвічі менш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кладні команди RISC-процесором виконуються довше, але їх кількість відносно невели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RISC-процесорах невелике число команд адресується до пам'яті. Вибірка даних з оперативної пам'яті вимагає більш одного такту. Велика частина команд працює з операндами, що знаходяться в регістр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сі команди мають уніфікований формат і фіксовану довжину. Це спрощує і прискорює завантаження і декодування команд, оскільки, наприклад, код операції і поле адреси завжди знаходяться в одній і тій же позиц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0" y="295560"/>
            <a:ext cx="914364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вдяки спрощеній архітектурі RISC-процесора, на мікросхемі з'являється місце для розміщення додаткового набору регістрів. Розподіл реєстрової пам'яті під змінні виконується компілято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 дивлячись на згадані переваги RISC-архітектури, немає простої і однозначної відповіді на питання про те, що краще - RISC або CIS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рикладом CISC-процесора є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 Pentium (кількість команд більше 200, довжина команди 1-11 розрядів, є 8 регістрів загального призначення), а в якості прикладу RISC-процесора можна привести SunSPARC (кількість команд близько 50, довжина команди 4 розряди, є  520 регістрів загального призначенн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0" y="6840"/>
            <a:ext cx="8962560" cy="68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льтернативою суперскалярним процесорам є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роцесори з наддовгим командним словом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(VLIW - Very Large Instruction Word). Робота VLIW-процесора заснована на виявленні паралелізму команд під час трансляції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ранслятор,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налізує програму, визначаючи, які операції можуть виконуватися парале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і операції "упаковуються" в одну велику кома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VLIW-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трансляторах для VLIW-процесорів застосовуються такі спеціальні прийоми, як розгортка циклів, пророкування розгалужень і планування видачі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тод трасування планування полягає в тому, що з послідовності звичайних команд вихідної програми довгі команди генеруються шляхом перегляду (трасування) лінійних (без розгалужень) ділянок прогр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0" y="25920"/>
            <a:ext cx="9143640" cy="68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архітектури VLIW-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відміну від традиційної архітектури, регістри не резервуються для певних цілей, їх використання визначається під час компіляції. Висока швидкість роботи оперативної пам'яті досягається її розшаруванн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ами процесорів з VLIW-архітектурою є Itanium, а також деякі процесори, орієнтовані на мультимедіа-дода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ий процесор за один цикл виконання команди зробить поелементне складання масивів і присвоїть отримані значення відповідних елементів маси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жен операнд при цьому зберігається в особливому, векторному регістрі. Звичайному, послідовному процесору довелося б багаторазово виконати операцію додавання елементів двох масив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ий процесор виконує лише одну кома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0" y="23400"/>
            <a:ext cx="9143640" cy="70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550" spc="-1" strike="noStrike">
                <a:solidFill>
                  <a:srgbClr val="002060"/>
                </a:solidFill>
                <a:latin typeface="Arial"/>
              </a:rPr>
              <a:t>Векторна обробка даних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ий процесор за один цикл виконання команди зробить поелементне складання масивів і присвоїть отримані значення відповідних елементів масиву. Кожен операнд при цьому зберігається в особливому, векторному регістрі. Звичайному, послідовному процесору довелося б багаторазово виконати операцію додавання елементів двох масивів.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ий процесор виконує лише одну команду.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55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архітектури: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і операції можуть бути реалізовані з використанням паралелізму, який забезпечують конвеєрізовані функціональні вузли. Такі архітектури і називаються векторними процесорами. Можна вважати, що векторний процесор побудований на основі SISD-архітектури, в якій реалізовані векторні операції. В результаті цього отримуємо SIMD-архітектуру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0" y="27720"/>
            <a:ext cx="8962560" cy="721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екторний моду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екторний модул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істить декілька векторних регістрів загального призначення, регістр довжини вектора (для зберігання довжини оброблюваного вектора), регістр ма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Регістр маск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містить послідовність бітів - виконавчі розряди вектора, яким відповідають нульові біти маски, в певних ситуаціях ігноруються при виконанні векторних опер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Мультимедійні програ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звичай працюють з великими масивами даних, що складаються з коротких (8- або 16-розрядних) значень з фіксованою точк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і додатки представляють величезний потенціал векторного (SIMD) паралелізму, тому нові покоління мікропроцесорів загального призначення забезпечуються мультимедійними коман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0" y="20520"/>
            <a:ext cx="8962560" cy="600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Мультимедійні розшир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ультимедійні розширення включені в системи команд процесорів Intel (MMX-розширення системи команд Pentium і нові SIMD-команди Pentium), AMD (3D Now!), Sun (VIS SPARC), Compaq (Alpha MVI), Hewlett Packard (PA-RISC MAX2  ), SGI (MDMX), Motorola (PowerPC AltiVe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Pentium введена паралельна обробка в режимі SIMD-процесора чотирьох 32-розрядних операндів в форматі з плаваючою точк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0" y="188640"/>
            <a:ext cx="8962560" cy="69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Багатопотокова архі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даний час з'явилися і розвиваються процесори з багатопотоковою архітектурою (MTA - MultiThread Architectur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я полягає в тому, що програма виконується в декількох потоків і кожному потоку віддається спеціальний регістровий фай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вдання створення і управління безліччю потоків вирішується транслято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 комп'ютера з багатопотоковою архітектурою - Cray MTA-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ізновидом даного підходу є одночасна багатопоточність (SMT - Simultaneous MultiThreading), коли один фізичний процесор бачиться операційній системі як два «логічних» процес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0" y="183600"/>
            <a:ext cx="8962560" cy="612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Комунікаційні процес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мунікаційні процесор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це мікрочіпи, що являють собою щось середнє між жорсткими спеціалізованими інтегральними мікросхемами і гнучкими процесорами загального призна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унікаційні процесори програмуються, як і звичні нам ПК-процесори, але побудовані з урахуванням мережевих завдань, оптимізовані для роботи в мережі, і на їх основі виробники - як процесорів, так і обладнання - пишуть програмне забезпечення для специфічних додат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uk-UA" sz="4000" spc="-1" strike="noStrike" cap="all">
                <a:solidFill>
                  <a:srgbClr val="000000"/>
                </a:solidFill>
                <a:latin typeface="Franklin Gothic Medium"/>
              </a:rPr>
              <a:t>1 Процесори для побудови систем високої продуктивності.</a:t>
            </a:r>
            <a:br>
              <a:rPr sz="44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0" y="307080"/>
            <a:ext cx="8962560" cy="697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побуд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Комунікаційний процесор має власну пам'я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і оснащений високошвидкісними зовнішніми каналами для з'єднання з іншими процесорними вузлами. Його присутність дозволяє в значній мірі звільнити обчислювальний процесор від навантаження, пов'язаного з передачею повідомлень між процесорними вуз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видкісний комунікаційний процесор з RISC-ядром дозволяє управляти обміном даних з кількох незалежних каналах, підтримувати практично всі поширені протоколи обміну, гнучко і ефективно розподіляти і обробляти послідовні потоки даних з тимчасовим поділом кана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2 Пам’ять систем високої продуктивності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Franklin Gothic Book"/>
              </a:rPr>
              <a:t>Пам'ять комп'ютер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У сучасних КС використовуються такі різновиди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перативн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Колективн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очергов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йнята така </a:t>
            </a:r>
            <a:r>
              <a:rPr b="0" i="1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ифікація паралельних комп'ютерів по архітектурі підсистем оперативної пам'яті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системи з розділеною пам'яттю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у яких є одна велика віртуальна пам'ять, і все процесори мають однаковий доступ до даних і командам, що зберігаються в цій пам'я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системи з розподіленою пам'яттю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у яких кожен процесор має свою локальну оперативну пам'ять, і до цієї пам'яті у інших процесорів немає доступ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Проблема когерент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У багатопроцесорних обчислювальних системах виникає проблема кеш-когерентності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Вона полягає в тому, що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якщо двом або більше процесорам знадобилося значення однієї і тієї ж змінної, воно буде зберігатися у вигляді декількох копій в кеш-пам'яті всіх процесор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дин з процесорів може змінити це значення в результаті виконання своєї команди і воно буде передано в оперативну пам'ять комп'ютера.  Але в кеш-пам'яті інших процесорів все ще зберігається старе значе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тже, необхідно забезпечити своєчасне оновлення даних в кеш-пам'яті всіх процесорів комп'ют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Рішення проблеми когерент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блема кеш-когерентності може вирішуватися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програмним шляхом - на рівні транслятора і операційної системи.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Транслятор, наприклад, може визначати моменти безпечної синхронізації кеш-пам'яті при виконанні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Інший підхід заснований на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апаратному рішенні проблеми кеш-когерентності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  У цьому випадку застосовуються спеціальні протоколи, кеш-пам'ять використовується більш ефективно, все відбувається "прозоро" для програмі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Протоколи управління кеш-пам'ят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токоли каталогів реалізують збір та облік інформації про копії даних в кеш-пам'яті. Ця інформація зберігається в спеціальній області оперативної пам'яті - </a:t>
            </a:r>
            <a:r>
              <a:rPr b="1" i="1" lang="uk-UA" sz="2800" spc="-1" strike="noStrike">
                <a:solidFill>
                  <a:srgbClr val="000000"/>
                </a:solidFill>
                <a:latin typeface="Franklin Gothic Book"/>
              </a:rPr>
              <a:t>каталозі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Запити перевіряються за допомогою каталогу, потім виконуються необхідні пересилання даних.    Використання даного підходу ефективно в великих системах зі складними схемами комунік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токоли спостереження розподіляють "відповідальність" за когерентність кешей між контролерами кеш-пам'яті.  Контролер визначає зміну змісту кеш-пам'яті і передає інформацію про це іншим модулям кеш-пам'я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38240" y="564840"/>
            <a:ext cx="8686440" cy="61693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1.Процессор є основним елементом обчислювальної системи, що визначає рівень його швидкодії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2.В традиційному послідовному комп'ютері, швидкодія центрального процесора може бути збільшено за рахунок збільшення тактової частоти, і швидкодії мікросхем оперативної пам'ят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.Другі методи підвищення швидкодії засновані на розширеннях традиційної фон-нейманівскої архітектури, що включають: 1) конвеєрну обробку даних і команд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2) використання процесорів з скороченим набором команд (RISC-процесорів), де велика частина команд виконується за 1-2 такти; 3) використання суперскалярних процесорів; 4) векторну обробку дани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5) використання процесорів з наддовгим командним словом; 6) - використання багатопроцесорних конфігу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38240" y="1012680"/>
            <a:ext cx="8686440" cy="5193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Характеристика оперативної пам'яті і особливості її пристрою є найважливішим фактором, від якого залежить швидкодія комп'ютерної систе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Принята наступна класифікація паралельних комп'ютерів по архітектурі підсистем оперативної пам'я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системи з розділеною пам'яттю, у яких є одна велика віртуальна пам'ять, а всі процесори мають однаковий доступ до даних і команд, що зберігаються в цій пам'я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системи з розподіленою пам'яттю, у яких кожен процесор має свою локальну оперативну пам'ять, і до цієї пам'яті у інших процесорів немає доступ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нутый угол 3"/>
          <p:cNvSpPr/>
          <p:nvPr/>
        </p:nvSpPr>
        <p:spPr>
          <a:xfrm>
            <a:off x="2490840" y="17136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00040" y="296280"/>
            <a:ext cx="81435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роцесор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основним елементом обчислювальної системи, що визначає рівень його швидкод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двищення продуктивності обчислювальної техніки пов'язано в великій мірі з розробкою нових технологій і залученням найоригінальніших і несподіваних рішень побудови процесор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Основні архітектури процес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радиційна архітектура фон Нейм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соціатив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перскаляр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и з RISC і CISC архітектур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и зі наддовгим командним сло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а обробка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агатопотокова архітектура і комунікацій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28600" y="-10080"/>
            <a:ext cx="8505360" cy="654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Традиційна архітектура фон Нейм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а зберігається в комп'юте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а під час її виконання і необхідні для її роботи дані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знаходяться в оперативній пам'ят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арифметико-логічний пристрі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виконує арифметичні і логічні операції з да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пристрій керу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ПК), яке інтерпретує команди, які обираються з пам'яті, і виконує ї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строї введення і виведе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В) працюють під управлінням ПК, використовуються для введення програм і даних, а також для виведення результатів розрахун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28600" y="300600"/>
            <a:ext cx="886752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архітектури фон Нейм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нтральний процесор і оперативна пам'ять утворюють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дро систем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торинна («зовнішня») пам'ять і пристрої введення-виведення, що утворюють «периферію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унікації між компонентами системи, що здійснюються за допомогою 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традиційному послідовному комп'ютері, заснованому на ідеях фон Неймана, швидкодія центрального процесора може бути збільшено за рахунок збільшення тактової частоти, величина якої залежить від щільності елементів в інтегральній схемі і швидкодії мікросхем оперативної пам'я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7520" y="-5760"/>
            <a:ext cx="8505360" cy="685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підвищення продуктивності необхідн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на обробка даних і коман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процесорів зі скороченим набором команд (RISC-процесорів). В RISC-процесорах велика частина команд виконується за 1-2 так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суперскалярних процесорі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у обробку дан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процесорів з наддовгим командним сло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багатопроцесорних конфігур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соціативні процесор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снуючі в даний час алгоритми прикладних задач, системне програмне забезпечення і апаратні засоби переважно орієнтована на традиційну адресну обробку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ані повинні бути представлені у вигляді обмеженої кількості форматів (наприклад, масиви, списки, запис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490840" y="6362640"/>
            <a:ext cx="665280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1. 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28600" y="2448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Недоліки традиційної оброб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ий підхід зумовлює громіздкість операційних систем і систем програмування, а також служить перешкодою до створення обчислювальних засобів з архітектурою, орієнтованою на більш ефективне використання паралелізму обробки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асоціативної оброб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соціативний спосіб обробки даних дозволяє подолати багато обмежень, властиві адресному доступу до пам'яті, за рахунок завдання деякого критерію відбору і проведення необхідних перетворень, тільки над тими даними, які задовольняють цьому критері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ритерієм відбору може бути збіг з будь-яким елементом даних, достатній для виділення шуканих даних з усіх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318960" y="556560"/>
            <a:ext cx="8505360" cy="438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пособи асоціативної обро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шук даних може відбуватися за фрагментом, що має більшу або меншу кореляцію з заданим елементом да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реалізується тільки асоціативна вибірка даних з подальшим послідовним використанням знайдених даних, то говорять про асоціативну пам'ять або пам'ять, що адресується за вмі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176</TotalTime>
  <Application>LibreOffice/7.4.7.2$Linux_X86_64 LibreOffice_project/40$Build-2</Application>
  <AppVersion>15.0000</AppVersion>
  <Words>3004</Words>
  <Paragraphs>2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18:34:17Z</dcterms:created>
  <dc:creator>kaf</dc:creator>
  <dc:description/>
  <dc:language>en-US</dc:language>
  <cp:lastModifiedBy>user</cp:lastModifiedBy>
  <dcterms:modified xsi:type="dcterms:W3CDTF">2018-11-21T16:19:28Z</dcterms:modified>
  <cp:revision>476</cp:revision>
  <dc:subject/>
  <dc:title>ПРАВОВІ ОСНОВИ УПРАВЛІННЯ У СФЕРІ ОСВІ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