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CE5F-A56F-416E-855D-A7027C47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04A-0E8E-4E30-ACFA-B699D643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3D23-C58E-4B48-A7D2-623125B0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0B0E-E1B4-49CA-B2FC-11E0EDCF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6383-7E5C-4770-B65F-8304A749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2F88-50AF-40C6-9746-B7F71A86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8E5C-220E-44D7-9721-2867ADCF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4719-AA2D-4E7E-BA7B-99781C49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4AA6-C274-4976-BAF7-EDCEC51B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7284-965C-4C7E-BC3F-7EE2697E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F9B0-099E-4263-ADA9-E7C0910E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CE3-403D-498F-A94E-042E9BDB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2F34-B57F-4C60-AFDC-9AECB16D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D461-DFDB-4150-911E-00B5ACED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A556-40AF-47E0-9F79-86C46C3B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FA2C-19F7-46BE-A41D-8BF2670F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7B42-E555-4B17-A370-C0AF72D1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50B5D-5CBD-4E1C-935A-D5FB3A38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0D8F3-B151-42CE-88A9-0AB69E20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04A54-E46E-43E5-BDA3-169E2F7A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54C11-6C24-4F96-AAD5-170B49B6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A8822-9047-4BC7-B802-FC13073C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9DF-4EC8-44FE-AF53-88CCEEB1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935BE-79E0-43E9-A151-3108CF39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27C7D-5F31-4C62-B982-154C2416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DC029-0715-4A7E-AA6E-C65DF146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8EF10-B75E-4239-8F1F-000045CD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D24DA-6099-4B98-968A-B06412F0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F0131-21BA-410A-8638-54F4C808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76813-AE79-4A18-A48A-AFCFD51B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22A-AEA8-4DE1-AB79-EDE858C1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901B-124B-41EB-BF93-90370783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382-CE72-4108-9E88-314C9CCB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4EB4-8C17-4627-B363-0D3A20FC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7E9-2847-466F-BC9B-C7084799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78E-967D-4C0B-B144-70890180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ая соединительная линия 3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8A34BB-8C20-4677-99B6-B8DA2FD71D8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B56F7F-5E95-4E79-9131-E65BC0D8B64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30F33D-FFDB-4CDC-9D6C-01A951163CB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63520" y="1619280"/>
            <a:ext cx="8653320" cy="14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800" spc="-1" strike="noStrike" cap="all">
                <a:solidFill>
                  <a:srgbClr val="4e3b30"/>
                </a:solidFill>
                <a:latin typeface="Franklin Gothic Medium"/>
              </a:rPr>
              <a:t>Принципи побудови комутаторів  та комутаційних           середовищ паралельних КС.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63520" y="507960"/>
            <a:ext cx="845784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 fontScale="67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44342a"/>
                </a:solidFill>
                <a:latin typeface="Franklin Gothic Book"/>
              </a:rPr>
              <a:t>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47520" y="5040"/>
            <a:ext cx="8505360" cy="6122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Дерево Кільце Реші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 рис.  1, в зображена третя нульмірна топологія -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дерево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.  Пропускна здатність між секціями дорівнює пропускній здатності каналі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ільце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рис1, г) - це одномірна топологія, оскільки кожен відправлений пакет може піти направо або налі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шітка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бо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ітк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рис. 1, д) - це двовимірна топологія, яка застосовується в багатьох комерційних системах.  Вона відрізняється регулярністю і може бути застосована до систем великого розміру, а діаметр становить квадратний корінь від числа вузлів (тобто при розширенні системи діаметр збільшується незнач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409680" y="-1080"/>
            <a:ext cx="8505360" cy="4903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Подвійний тор  К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двійний то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рис. 1, е) є різновидом решітки.  Це решітка, у якій з'єднані краї. Вона характеризується більшою стійкістю до відмов і меншим діаметром, ніж звичайна решітка, оскільки тепер між двома протилежними вузлами всього дві транзитних діля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уб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рис. 1, ж) - це правильна тривимірна топологія.  На малюнку зображений куб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х2х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але в загальному випадку він може бут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kxkxk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47520" y="7560"/>
            <a:ext cx="8505360" cy="642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Багатовимірні топології.  Характеристики графів міжз</a:t>
            </a: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'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єднан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Чотиривимірний куб, отриманий з двох тривимірних кубів, які пов'язані між собо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ожна зробити п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ятимірний куб, з'єднавши разом 4 чотиривимірних куб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Щоб отримати 6 вимірювань, потрібно продублювати блок із 5 - 4х мірних кубів і з'єднати відповідні вузли і т. д 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N-мірний куб називаєтьс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гіперкубом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Ця топологія використовується в багатьох комп'ютерах паралельної дії, оскільки її діаметр знаходиться в лінійній залежності від розмірност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Діаметр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- це логарифм за основою 2 від числа вузл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5840" y="2643120"/>
            <a:ext cx="8572320" cy="1398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txBody>
          <a:bodyPr lIns="90000" rIns="90000" tIns="45000" bIns="45000"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uk-UA" sz="4400" spc="-1" strike="noStrike" cap="all">
                <a:solidFill>
                  <a:srgbClr val="000000"/>
                </a:solidFill>
                <a:latin typeface="Franklin Gothic Medium"/>
              </a:rPr>
              <a:t>2 Комутатори для багатопроцесорних КС.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Times New Roman"/>
              </a:rPr>
              <a:t>Комутатори для багатопроцесорних комп`ютерни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1. Прості комутато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Типи простих комутаторі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- з тимчасовим поділ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- з просторовим розділенн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2. Складові комутато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Комутатор Кло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Баньян-мереж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Омега-мереж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3.Розподілені складові комутато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Times New Roman"/>
              </a:rPr>
              <a:t>Прості і складові комута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Комунікаційні середовища комп'ютерних систем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складаються з адаптерів обчислювальних модулів (ОМ) і комутаторів, що забезпечують з'єднання між ни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Використовуються як прості комутатори, так і складові, компоновані з набору прост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uk-UA" sz="2600" spc="-1" strike="noStrike">
                <a:solidFill>
                  <a:srgbClr val="000000"/>
                </a:solidFill>
                <a:latin typeface="Times New Roman"/>
              </a:rPr>
              <a:t>Прості комутатори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можуть з'єднувати лише мале число ОМ в силу фізичних обмежень, проте забезпечують при цьому мінімальну затримку при встановленні з'єднан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uk-UA" sz="2600" spc="-1" strike="noStrike">
                <a:solidFill>
                  <a:srgbClr val="000000"/>
                </a:solidFill>
                <a:latin typeface="Times New Roman"/>
              </a:rPr>
              <a:t>Складові комутатори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, зазвичай будуються з простих у вигляді багатокаскадних схем, долають обмеження на малу кількість з'єднань, проте збільшують і затрим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Franklin Gothic Book"/>
              </a:rPr>
              <a:t>Прості комута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Типи простих комутаторі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i="1" lang="uk-UA" sz="2600" spc="-1" strike="noStrike">
                <a:solidFill>
                  <a:srgbClr val="000000"/>
                </a:solidFill>
                <a:latin typeface="Franklin Gothic Book"/>
              </a:rPr>
              <a:t>- з тимчасовим поділ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i="1" lang="uk-UA" sz="2600" spc="-1" strike="noStrike">
                <a:solidFill>
                  <a:srgbClr val="000000"/>
                </a:solidFill>
                <a:latin typeface="Franklin Gothic Book"/>
              </a:rPr>
              <a:t>- з просторовим розділенням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 u="sng">
                <a:solidFill>
                  <a:srgbClr val="000000"/>
                </a:solidFill>
                <a:uFillTx/>
                <a:latin typeface="Franklin Gothic Book"/>
              </a:rPr>
              <a:t>Переваги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: простота управління і високу швидкоді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 u="sng">
                <a:solidFill>
                  <a:srgbClr val="000000"/>
                </a:solidFill>
                <a:uFillTx/>
                <a:latin typeface="Franklin Gothic Book"/>
              </a:rPr>
              <a:t>Недоліки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: мала кількість входів і виход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Приклади використанн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- прості комутатори з тимчасовим поділом використовуються в системах SMP PowerChallenge від SGI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- прості комутатори з просторовим розділенням (Gigaplane) використовуються в сімействі SunUltraEnterpri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3200" spc="-1" strike="noStrike">
                <a:solidFill>
                  <a:srgbClr val="002060"/>
                </a:solidFill>
                <a:latin typeface="Franklin Gothic Book"/>
              </a:rPr>
              <a:t>Прості комутатори з тимчасовим поді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Прості комутатори з тимчасовим поділом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називаються також шинами або шинними структурами.  Всі пристрої підключаються до загальної інформаційної магістралі, використовуваної для передачі інформації між ними (рис. 2.). Зазвичай шина є пасивним елементом, управління передачами здійснюється пристроями передачі і прийман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Franklin Gothic Book"/>
              </a:rPr>
              <a:t>Процес передачі виглядає наступним чино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Передавальний пристрій спочатку отримує доступ до шини, далі намагається встановити контакт з пристроєм-адресатом і визначити його здатність до прийому дан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Приймаючий пристрій розпізнає свою адресу на шині і відповідає на запит передавальног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Загальна схема комутатора шинної структу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5" descr="pic1"/>
          <p:cNvPicPr/>
          <p:nvPr/>
        </p:nvPicPr>
        <p:blipFill>
          <a:blip r:embed="rId1"/>
          <a:stretch/>
        </p:blipFill>
        <p:spPr>
          <a:xfrm>
            <a:off x="228600" y="1257120"/>
            <a:ext cx="8505360" cy="3800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Загнутый угол 1"/>
          <p:cNvSpPr/>
          <p:nvPr/>
        </p:nvSpPr>
        <p:spPr>
          <a:xfrm>
            <a:off x="90360" y="81000"/>
            <a:ext cx="8915040" cy="65955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Передавальний пристрій повідомляє, що насамперед має зробити приймаючий пристрій в ході взаємодії. Після цього відбувається передача даних.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Так як шина є загальним ресурсом, за доступ до якого змагаються підключені до неї пристро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, то необхідні методи управління наданням доступу пристроїв до ши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Можливе використання центрального пристрою для управління доступом до шини, однак це зменшує масштабованість і гнучкість систе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uk-UA" sz="2600" spc="-1" strike="noStrike">
                <a:solidFill>
                  <a:srgbClr val="000000"/>
                </a:solidFill>
                <a:latin typeface="Times New Roman"/>
              </a:rPr>
              <a:t>Для вирішення конфліктів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, що виникають при одночасному запиті пристроїв на доступ до шини, використовуються різні прийоми, зокрема: 1)призначення кожному пристрою унікального пріоритету (статичного чи динамічного), 2) використання черги запитів FIFO, 3) виділення фіксованих тимчасових інтервалів кожному пристро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3600" spc="-1" strike="noStrike" cap="all">
                <a:solidFill>
                  <a:srgbClr val="4e3b30"/>
                </a:solidFill>
                <a:latin typeface="Franklin Gothic Medium"/>
              </a:rPr>
              <a:t>ПЛАН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681120" y="1528920"/>
            <a:ext cx="7872120" cy="4049280"/>
          </a:xfrm>
          <a:prstGeom prst="rect">
            <a:avLst/>
          </a:prstGeom>
          <a:solidFill>
            <a:schemeClr val="bg1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1 Мережі міжз’єднань в паралельних К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2 Комутатори для багатопроцесорних К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3 Організація процесів комут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4 Приклади побудови міжпроцесорних зв’язк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Виснов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2060"/>
                </a:solidFill>
                <a:latin typeface="Times New Roman"/>
              </a:rPr>
              <a:t>Статичні пріорит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Кожен пристрій в системі отримує унікальний пріоритет, при одночасному запиті декількох пристроїв на передачу, доступ до шини надається пристрою з найвищим пріоритет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На практиці пріоритет пристрою визначається місцем його підключення до шини. Для контролю доступу до шини використовується </a:t>
            </a:r>
            <a:r>
              <a:rPr b="1" i="1" lang="uk-UA" sz="2600" spc="-1" strike="noStrike">
                <a:solidFill>
                  <a:srgbClr val="000000"/>
                </a:solidFill>
                <a:latin typeface="Times New Roman"/>
              </a:rPr>
              <a:t>окремий блок управлін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2060"/>
                </a:solidFill>
                <a:latin typeface="Times New Roman"/>
              </a:rPr>
              <a:t>Динамічні пріорит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Так само, як і в попередньому алгоритмі, пристрої отримують унікальні пріоритети, проте на відміну від нього ці пріоритети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непостійні в часі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Пріоритети динамічно змінюються, надаючи пристроям більш-менш рівні шанси отримання доступу до ши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Найвищий пріоритет надається пристрою, який найбільш довго не використовував ш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Контроль доступу до шини здійснює пристрій, що одержав доступ до шини в попередньому циклі арбітра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Фіксовані часові інтерва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Кожен пристрій по порядку отримує однаковий часовий інтервал для здійснення передачі. Якщо пристрій не має даних для передачі, то інтервал, тим не менш, не надається наступному пристр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Черга FIF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Створюється черга запитів "перший прийшов - перший пішов", Перевагою даного алгоритму є можливість досягнення максимальної пропускної здатності ши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Franklin Gothic Book"/>
              </a:rPr>
              <a:t>Особливості реалізації ш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Шини використовуються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для об'єднання пристроїв на друкованих платах і друкованих плат в блок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Широко застосовуються шини наступних стандарті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ISA - Industry Standard Archit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EISA - Extended I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VESA - VideoElectronicsStandardsAssoc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PCI - PeripheralComputerInterconn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VME - VersabusModule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I2C - InterIntegratedCircu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AGP - AcceleratedGraphic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Шини використовуються також в мезонинній технології,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де на великій платі встановлюється один або кілька шинних роз'ємів для установки менших плат, так званих мезонін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800" spc="-1" strike="noStrike">
                <a:solidFill>
                  <a:srgbClr val="002060"/>
                </a:solidFill>
                <a:latin typeface="Franklin Gothic Book"/>
              </a:rPr>
              <a:t>Прості комутатори з просторовим поді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Такі комутатори представляють собою сукупність мультиплексорів, кількість яких відповідає кількості виходів комутатора, при цьому кожен вхід комутатора повинен бути заведений на всі мультиплексо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Переваг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можливість одночасного контакту з усіма пристро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n-AU" sz="2800" spc="-1" strike="noStrike">
                <a:solidFill>
                  <a:srgbClr val="000000"/>
                </a:solidFill>
                <a:latin typeface="Franklin Gothic Book"/>
              </a:rPr>
              <a:t>мінімальна затри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Недолі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висока складність порядку </a:t>
            </a:r>
            <a:r>
              <a:rPr b="0" lang="en-AU" sz="2800" spc="-1" strike="noStrike">
                <a:solidFill>
                  <a:srgbClr val="000000"/>
                </a:solidFill>
                <a:latin typeface="Franklin Gothic Book"/>
              </a:rPr>
              <a:t>n x m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, де </a:t>
            </a:r>
            <a:r>
              <a:rPr b="0" lang="en-AU" sz="2800" spc="-1" strike="noStrike">
                <a:solidFill>
                  <a:srgbClr val="000000"/>
                </a:solidFill>
                <a:latin typeface="Franklin Gothic Book"/>
              </a:rPr>
              <a:t>n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- кількість входів, </a:t>
            </a:r>
            <a:r>
              <a:rPr b="0" lang="en-AU" sz="2800" spc="-1" strike="noStrike">
                <a:solidFill>
                  <a:srgbClr val="000000"/>
                </a:solidFill>
                <a:latin typeface="Franklin Gothic Book"/>
              </a:rPr>
              <a:t>m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- кількість виход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AU" sz="2800" spc="-1" strike="noStrike">
                <a:solidFill>
                  <a:srgbClr val="000000"/>
                </a:solidFill>
                <a:latin typeface="Franklin Gothic Book"/>
              </a:rPr>
              <a:t>складність забезпечення надійн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Загнутый угол 1"/>
          <p:cNvSpPr/>
          <p:nvPr/>
        </p:nvSpPr>
        <p:spPr>
          <a:xfrm>
            <a:off x="228600" y="17136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800" spc="-1" strike="noStrike">
                <a:solidFill>
                  <a:srgbClr val="002060"/>
                </a:solidFill>
                <a:latin typeface="Franklin Gothic Book"/>
              </a:rPr>
              <a:t>Прості комутатори з просторовим поділом на основі мультиплексор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3" descr=""/>
          <p:cNvPicPr/>
          <p:nvPr/>
        </p:nvPicPr>
        <p:blipFill>
          <a:blip r:embed="rId1"/>
          <a:srcRect l="31325" t="38910" r="32799" b="21083"/>
          <a:stretch/>
        </p:blipFill>
        <p:spPr>
          <a:xfrm>
            <a:off x="1224000" y="1166760"/>
            <a:ext cx="6514920" cy="4614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2060"/>
                </a:solidFill>
                <a:latin typeface="Franklin Gothic Book"/>
              </a:rPr>
              <a:t>Складові комутато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Прості комутатори мають обмеження на число входів і виходів, а також можуть вимагати великої кількості обладнання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Тому </a:t>
            </a: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для побудови комутаторів з великою кількістю входів і виходів використовують сукупність простих комутаторів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, об'єднаних за допомогою ліній "</a:t>
            </a: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точка-точка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"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Складові комутатори мають затримку, пропорційну кількості простих комутаторів, через які проходить сигнал від входу до виходу, тобто числу каскад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Однак обсяг обладнання складеного комутатора менше, ніж простого з тією ж кількістю входів і виход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Найчастіше складові комутатори будуються з прямокутних комутаторів 2х2 з двома входами і виход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800" spc="-1" strike="noStrike">
                <a:solidFill>
                  <a:srgbClr val="002060"/>
                </a:solidFill>
                <a:latin typeface="Franklin Gothic Book"/>
              </a:rPr>
              <a:t>Робота комут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Вони мають два стани: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пряме пропускання входів на відповідні виходи і перехресне пропускання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Комутатор 2х2 складається з блоку комутації даних і блоку управління. </a:t>
            </a:r>
            <a:r>
              <a:rPr b="1" i="1" lang="uk-UA" sz="2800" spc="-1" strike="noStrike">
                <a:solidFill>
                  <a:srgbClr val="000000"/>
                </a:solidFill>
                <a:latin typeface="Franklin Gothic Book"/>
              </a:rPr>
              <a:t>Блок управління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в залежності від керуючих сигналів, які надходять на нього, визначає, який тип з'єднання слід здійснити в блоці комутації: прямий або перехрес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При цьому якщо обидва входи хочуть з'єднатися з одним виходом, то комутатор вирішує конфлікт і пов'язує з даними виходу тільки один вхід, а запит на з'єднання з боку другого блокується або відкидає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2060"/>
                </a:solidFill>
                <a:latin typeface="Franklin Gothic Book"/>
              </a:rPr>
              <a:t>Комутатор Клоза 3 х 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Комутатор Клоза може бути побудований в якості альтернативи для прямокутного комутатора з (m x d) входами і (m x d) виходами.  Він формується з трьох каскадів комутаторів: m комутаторів (d x d) у вхідному каскаді, m комутаторів (d x d) в вихідному і d проміжних комутаторів (m x m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3" descr="pic3"/>
          <p:cNvPicPr/>
          <p:nvPr/>
        </p:nvPicPr>
        <p:blipFill>
          <a:blip r:embed="rId1"/>
          <a:stretch/>
        </p:blipFill>
        <p:spPr>
          <a:xfrm>
            <a:off x="1766880" y="3157560"/>
            <a:ext cx="5609880" cy="2985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800" spc="-1" strike="noStrike">
                <a:solidFill>
                  <a:srgbClr val="002060"/>
                </a:solidFill>
                <a:latin typeface="Franklin Gothic Book"/>
              </a:rPr>
              <a:t>Баньян-мереж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Ці комутатори будуються на базі прямокутних комутаторів а х b таким чином, що існує тільки один шлях від кожного входу до кожного вихо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Важливим підкласом баньян-мереж служать дельта-мереж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Дельта-мережа формується з комутаторів а х b, входи і виходи яких позначені 0,1, ..., а-1 і 0,1, ..., b-1, відповідно.          Кожен вхід з'єднується з виходом з номером d, якщо цей вхід управляється числом d, де d - число по підставі b.    Дельта-мережа є n каскадним комутатором з а "входами і b" виход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Складові комутатори з'єднані так, що утворюється єдиний шлях однакової довжини для з'єднання будь-якого входу з будь-яким виход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Дельта-мережу з </a:t>
            </a:r>
            <a:r>
              <a:rPr b="1" lang="en-US" sz="2800" spc="-1" strike="noStrike">
                <a:solidFill>
                  <a:srgbClr val="002060"/>
                </a:solidFill>
                <a:latin typeface="Franklin Gothic Book"/>
              </a:rPr>
              <a:t>n</a:t>
            </a: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 каскадами, а входами і b виход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5" descr="Image54"/>
          <p:cNvPicPr/>
          <p:nvPr/>
        </p:nvPicPr>
        <p:blipFill>
          <a:blip r:embed="rId1"/>
          <a:stretch/>
        </p:blipFill>
        <p:spPr>
          <a:xfrm>
            <a:off x="681120" y="1076400"/>
            <a:ext cx="7872120" cy="4252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840" y="2643120"/>
            <a:ext cx="8572320" cy="1398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txBody>
          <a:bodyPr lIns="90000" rIns="90000" tIns="45000" bIns="45000" anchor="ctr">
            <a:normAutofit fontScale="39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r>
              <a:rPr b="1" lang="uk-UA" sz="4000" spc="-1" strike="noStrike" cap="all">
                <a:solidFill>
                  <a:srgbClr val="000000"/>
                </a:solidFill>
                <a:latin typeface="Franklin Gothic Medium"/>
              </a:rPr>
              <a:t>1 </a:t>
            </a:r>
            <a:r>
              <a:rPr b="0" lang="uk-UA" sz="4000" spc="-1" strike="noStrike" cap="all">
                <a:solidFill>
                  <a:srgbClr val="000000"/>
                </a:solidFill>
                <a:latin typeface="Franklin Gothic Medium"/>
              </a:rPr>
              <a:t>Мережі міжз’єднань в паралельних КС. </a:t>
            </a:r>
            <a:br>
              <a:rPr sz="4400"/>
            </a:b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Загнутый угол 1"/>
          <p:cNvSpPr/>
          <p:nvPr/>
        </p:nvSpPr>
        <p:spPr>
          <a:xfrm>
            <a:off x="228600" y="35244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800" spc="-1" strike="noStrike">
                <a:solidFill>
                  <a:srgbClr val="002060"/>
                </a:solidFill>
                <a:latin typeface="Franklin Gothic Book"/>
              </a:rPr>
              <a:t>Елемент 23 х 23 комут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5" descr="Image55"/>
          <p:cNvPicPr/>
          <p:nvPr/>
        </p:nvPicPr>
        <p:blipFill>
          <a:blip r:embed="rId1"/>
          <a:stretch/>
        </p:blipFill>
        <p:spPr>
          <a:xfrm>
            <a:off x="1495440" y="985680"/>
            <a:ext cx="5971680" cy="5248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Загнутый угол 1"/>
          <p:cNvSpPr/>
          <p:nvPr/>
        </p:nvSpPr>
        <p:spPr>
          <a:xfrm>
            <a:off x="228600" y="35244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3200" spc="-1" strike="noStrike">
                <a:solidFill>
                  <a:srgbClr val="002060"/>
                </a:solidFill>
                <a:latin typeface="Franklin Gothic Book"/>
              </a:rPr>
              <a:t>Розподілені складові комута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У розподілених обчислювальних системах ресурси поділяються між завданнями, кожна з яких виконується на своїй підмножині процесор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У зв'язку з цим виникає поняття близькості процесорів, яка є важливою для активно взаємодіючих процесор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Зазвичай близькість процесорів виражається в різній каскадності з'єднань, різних відстанях між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Загнутый угол 1"/>
          <p:cNvSpPr/>
          <p:nvPr/>
        </p:nvSpPr>
        <p:spPr>
          <a:xfrm>
            <a:off x="228600" y="35244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Комутатор система SP-2 фірми I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6" descr="Image56"/>
          <p:cNvPicPr/>
          <p:nvPr/>
        </p:nvPicPr>
        <p:blipFill>
          <a:blip r:embed="rId1"/>
          <a:stretch/>
        </p:blipFill>
        <p:spPr>
          <a:xfrm>
            <a:off x="1495440" y="1076400"/>
            <a:ext cx="6062400" cy="5248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5840" y="2643120"/>
            <a:ext cx="8572320" cy="1398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txBody>
          <a:bodyPr lIns="90000" rIns="90000" tIns="45000" bIns="45000"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uk-UA" sz="4400" spc="-1" strike="noStrike" cap="all">
                <a:solidFill>
                  <a:srgbClr val="000000"/>
                </a:solidFill>
                <a:latin typeface="Franklin Gothic Medium"/>
              </a:rPr>
              <a:t>3 Організація процесів комутації.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47520" y="-200520"/>
            <a:ext cx="8867520" cy="670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Організація процесів комут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Існує декілька стратегій перемикання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uk-UA" sz="2700" spc="-1" strike="noStrike">
                <a:solidFill>
                  <a:srgbClr val="000000"/>
                </a:solidFill>
                <a:latin typeface="Arial"/>
              </a:rPr>
              <a:t>Перша з них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— комутація каналів. Перед тим як послати пакет, весь шлях від початкового до кінцевого пункту резервується заздалегідь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uk-UA" sz="2700" spc="-1" strike="noStrike">
                <a:solidFill>
                  <a:srgbClr val="000000"/>
                </a:solidFill>
                <a:latin typeface="Arial"/>
              </a:rPr>
              <a:t>Друга стратегія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— комутація з проміжним зберіганням. Тут не потрібно попереднього резервування. З вихідного пункту надсилається цілий пакет до першого комутатора, де він зберігається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Комутатори з проміжним зберіганням повинні відправляти пакети в буфер, оскільки коли вихідний пункт (наприклад, процесор, пам'ять або комутатор) видає пакет, вихідний порт, який потрібен, може бути в даний момент зайнятий передачею іншого пакету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3. Організація процесів комута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47520" y="4680"/>
            <a:ext cx="8867520" cy="6061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Алгоритми вибору маршруту пакетів у мережі комутато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 будь-якій мережі міжз'єднань розмірністю один і вище можна вибирати, яким шляхом передавати пакети від одного вузла до інш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асто існує безліч можливих маршрутів. Правило, що визначає, яку послідовність вузлів повинен пройти пакет при русі від вихідного пункту до пункту призначення, називається алгоритмом вибору маршру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лгоритми вибору маршруту можна розділити на дві категорії: маршрутизація від джерела і розподілена маршрутизаці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3. Організація процесів комута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5840" y="2643120"/>
            <a:ext cx="8572320" cy="1398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txBody>
          <a:bodyPr lIns="90000" rIns="90000" tIns="45000" bIns="45000"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uk-UA" sz="4400" spc="-1" strike="noStrike" cap="all">
                <a:solidFill>
                  <a:srgbClr val="000000"/>
                </a:solidFill>
                <a:latin typeface="Franklin Gothic Medium"/>
              </a:rPr>
              <a:t>4. Приклади побудови міжпроцесорних зв’язків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Загнутый угол 1"/>
          <p:cNvSpPr/>
          <p:nvPr/>
        </p:nvSpPr>
        <p:spPr>
          <a:xfrm>
            <a:off x="228600" y="81000"/>
            <a:ext cx="8686440" cy="624348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Приклади реалізації міжпроцесорних зв'яз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4"/>
          <p:cNvSpPr/>
          <p:nvPr/>
        </p:nvSpPr>
        <p:spPr>
          <a:xfrm>
            <a:off x="3666960" y="6362640"/>
            <a:ext cx="54766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4. Приклади побудови міжпроцесорних зв’язк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5" descr="pic4"/>
          <p:cNvPicPr/>
          <p:nvPr/>
        </p:nvPicPr>
        <p:blipFill>
          <a:blip r:embed="rId1"/>
          <a:stretch/>
        </p:blipFill>
        <p:spPr>
          <a:xfrm>
            <a:off x="861840" y="714240"/>
            <a:ext cx="7057800" cy="5338440"/>
          </a:xfrm>
          <a:prstGeom prst="rect">
            <a:avLst/>
          </a:prstGeom>
          <a:ln w="9525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-56520" y="5876280"/>
            <a:ext cx="79120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 міжмодульних зв'язків ConvexExemplar SPP10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Загнутый угол 1"/>
          <p:cNvSpPr/>
          <p:nvPr/>
        </p:nvSpPr>
        <p:spPr>
          <a:xfrm>
            <a:off x="228600" y="81000"/>
            <a:ext cx="8686440" cy="624348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Структура сполук 128-процес</a:t>
            </a: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орн</a:t>
            </a: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ої системи МВС-1000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3666960" y="6362640"/>
            <a:ext cx="54766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4. Приклади побудови міжпроцесорних зв’язк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6" descr="pic7"/>
          <p:cNvPicPr/>
          <p:nvPr/>
        </p:nvPicPr>
        <p:blipFill>
          <a:blip r:embed="rId1"/>
          <a:stretch/>
        </p:blipFill>
        <p:spPr>
          <a:xfrm>
            <a:off x="952560" y="804960"/>
            <a:ext cx="6786360" cy="4885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Загнутый угол 1"/>
          <p:cNvSpPr/>
          <p:nvPr/>
        </p:nvSpPr>
        <p:spPr>
          <a:xfrm>
            <a:off x="228600" y="81000"/>
            <a:ext cx="8686440" cy="624348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       </a:t>
            </a: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Структурний модуль МВС-1000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складається з 16 обчислювальних модулів, що утворюють матрицю 4x4, в якій чотири кутових елемента з'єднуються через трансп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ютернілінки по діагоналі попар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12 лінків, які залишилися,призначаються для під'єднання зовнішніх пристроїв (4 лінка кутових ОМ) та сполук з подібними 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Конструктивним утворенням МВС-1000 є базовий обчислювальний блок, що містить 32 обчислювальних модуля. Максимальна довжина шляху між будь-якими з 32 обчислювальних модулів дорівнює п'яти, при цьому число вільних лінків після комплектації блоку складає 16, що дозволяє продовжити процедуру об'єдн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3666960" y="6362640"/>
            <a:ext cx="54766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4. Приклади побудови міжпроцесорних зв’язк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409680" y="26640"/>
            <a:ext cx="8143560" cy="682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ультикомп'ютери і мультипроцесори дуже схожі, оскільки містять кілька модулів пам'яті, які також можуть бути пов'язані один з одним і з процесорами.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В обох випадках застосовується передача повідомлень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 великих мультипроцесорах взаємодія між процесорами і віддаленою пам'яттю майже завжди полягає в тому, що процесор посилає в пам'ять повідомлення, так званий пакет, який запитує певні дані, а пам'ять посилає процесору паке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Мережі міжз'єднань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ожуть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складатися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аксимум з п'яти компонентів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1. Центральні процесо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2. Модулі пам'ят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3. Інтерфейс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4. Канали зв'яз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5. Комутато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138240" y="564480"/>
            <a:ext cx="8686440" cy="59850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bIns="0" anchor="ctr">
            <a:spAutoFit/>
          </a:bodyPr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ажлива 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властивість мережі міжз'єднань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- це її пропускна здатність, тобто кількість даних, яку вона здатна передавати в секун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уже важлива характеристика - бісекційна пропускна здатніст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Щоб обчислити це число, потрібно подумки розділити мережу міжз'єднань на дві рівні (з точки зору числа вузлів) незв'язані частини шляхом видалення деяких дуг з графа. Потім потрібно обчислити загальну пропускну здатність дуг, які ми видали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Часто основна мета при розробці мережі міжз'єднань - зробити бісекційну пропускну здатність максимально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режі міжз'єднань можна характеризувати за їх розмірност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Загнутый угол 3"/>
          <p:cNvSpPr/>
          <p:nvPr/>
        </p:nvSpPr>
        <p:spPr>
          <a:xfrm>
            <a:off x="2490840" y="-9720"/>
            <a:ext cx="3800160" cy="4521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ВИСН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"/>
          <p:cNvSpPr/>
          <p:nvPr/>
        </p:nvSpPr>
        <p:spPr>
          <a:xfrm>
            <a:off x="138240" y="905040"/>
            <a:ext cx="8686440" cy="44010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bIns="0" anchor="ctr">
            <a:spAutoFit/>
          </a:bodyPr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Розмірність визначається кількістю можливих варіантів переходу з початкового пункту в пункт призначен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Діаметр мережі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- це логарифм за основою 2 від числа вузл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мунікаційні середовища обчислювальних систем (ОС) складаються з адаптерів обчислювальних модулів (ОМ) і комутаторів, що забезпечують з'єднання між ни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ористовуються як прості комутатори, так і складові, компонуємі з набору прост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Загнутый угол 3"/>
          <p:cNvSpPr/>
          <p:nvPr/>
        </p:nvSpPr>
        <p:spPr>
          <a:xfrm>
            <a:off x="2490840" y="-9720"/>
            <a:ext cx="3800160" cy="4521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ВИСН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228600" y="46800"/>
            <a:ext cx="8505360" cy="626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i="1" lang="uk-UA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uk-UA" sz="2700" spc="-1" strike="noStrike">
                <a:solidFill>
                  <a:srgbClr val="000000"/>
                </a:solidFill>
                <a:latin typeface="Arial"/>
              </a:rPr>
              <a:t>Інтерфейси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— це пристрої, які вводять і виводять повідомлення з центральних процесорів і модулів пам'яті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uk-UA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uk-UA" sz="2700" spc="-1" strike="noStrike">
                <a:solidFill>
                  <a:srgbClr val="000000"/>
                </a:solidFill>
                <a:latin typeface="Arial"/>
              </a:rPr>
              <a:t>Канали зв'язку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— це канали, по яких переміщаються біти. Канали можуть бути електричними або оптико-волоконними, послідовними (шириною 1 біт) або паралельними (завширшки більше 1 біта)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uk-UA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uk-UA" sz="2700" spc="-1" strike="noStrike">
                <a:solidFill>
                  <a:srgbClr val="000000"/>
                </a:solidFill>
                <a:latin typeface="Arial"/>
              </a:rPr>
              <a:t>Комутатори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— це пристрої з декількома вхідними і кількома вихідними портами. Коли на вхідний порт приходить пакет, деякі біти в цьому пакеті використовуються для вибору вихідного порту, в який надсилається пакет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Розмір пакета може складати 2 або 4 байти, але може бути і значно більше (наприклад, 8 Кбайт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228600" y="261360"/>
            <a:ext cx="8867520" cy="612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Характеристики мережі міжз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'</a:t>
            </a: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єдн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Пропускна здатність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- це кількість даних, яку вона здатна передавати в секун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Бісекційна пропускна здатність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Щоб обчислити це число, потрібно в думках розділити мережу міжз'єднань на дві рівні (з точки зору числа вузлів) незв'язані частини шляхом видалення деяких дуг з графа. Потім обчислити загальну пропускну здатність видалених дуг.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Бісекційна пропускна здатність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- мінімальна з усіх можливих, це найважливіша характеристика мережі межз'єднань. Часто основна мета при розробці мережі міжз'єднань - зробити бісекційну пропускну здатність максимально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режа міжз'єднань характеризується так само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топологією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-способом з'єднання вузлів мереж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47520" y="9720"/>
            <a:ext cx="8505360" cy="682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Діаметр мережі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- число переходів між максимально віддаленими вузлами мережі, визначає затримку передачі пакет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режі між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єднань можна характеризувати по їх розмірност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Розмірність визначається за кількістю можливих варіантів переходу з початкового пункту в пункт призначення -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Якщо вибору немає (тобто існує тільки один шлях з кожного вихідного пункту в кожен кінцевий пункт), то мережа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нульмірна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Якщо є два можливих варіанти (наприклад, якщо можна піти або направо, або наліво), то мережа одномір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Якщо є дві осі і пакет може попрямувати направо або наліво або вгору або вниз, то така мережа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двовимірна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і т. 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0" y="5246640"/>
            <a:ext cx="9143640" cy="142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унок 1 – Різноманітні топології. Жирні точки відповідають комутаторам. Процесори та модулі не показані: зірка (а); повне між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єднання (б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 дерево (в); кільце (г); решітка (д); двійний тор (е); куб (ж); гіперкуб (з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4" descr=""/>
          <p:cNvPicPr/>
          <p:nvPr/>
        </p:nvPicPr>
        <p:blipFill>
          <a:blip r:embed="rId1"/>
          <a:srcRect l="10180" t="0" r="8391" b="7168"/>
          <a:stretch/>
        </p:blipFill>
        <p:spPr>
          <a:xfrm>
            <a:off x="1585800" y="171360"/>
            <a:ext cx="6062400" cy="5157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47520" y="7560"/>
            <a:ext cx="8505360" cy="645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Конфігурації зірка і повне міжз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'</a:t>
            </a: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єдн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 рис. 1, а зображена нульмірна конфігураці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зірка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, де процесори і модулі пам'яті прикріплюються до зовнішніх вузлів, а перемикання здійснює центральний вузол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з точки зору відмовостійкості це дуже невдала розробка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 рис. 1, б зображена інша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нульмірна топологія - повне міжз'єднання (fullinterconnect)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Тут кожен вузол безпосередньо пов'язаний з кожним наявним вузл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 такій розробці пропускна здатність між двома секціями максимальна, діаметр мінімальний, а відмовостійкість дуже висока. Однак дл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вузлів потрібно k (k-1) / 2 каналів, а це абсолютно неприйнятно для великих значен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6323</TotalTime>
  <Application>LibreOffice/7.4.7.2$Linux_X86_64 LibreOffice_project/40$Build-2</Application>
  <AppVersion>15.0000</AppVersion>
  <Words>2784</Words>
  <Paragraphs>3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3T18:34:17Z</dcterms:created>
  <dc:creator>kaf</dc:creator>
  <dc:description/>
  <dc:language>en-US</dc:language>
  <cp:lastModifiedBy>Kiu</cp:lastModifiedBy>
  <dcterms:modified xsi:type="dcterms:W3CDTF">2018-11-28T13:22:00Z</dcterms:modified>
  <cp:revision>563</cp:revision>
  <dc:subject/>
  <dc:title>ПРАВОВІ ОСНОВИ УПРАВЛІННЯ У СФЕРІ ОСВІ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1</vt:r8>
  </property>
</Properties>
</file>