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AC7-1D16-408D-938A-F8588FB8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C41-B4F1-47E5-887D-E340217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715-877C-4421-81BD-C10130A0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8E1-79E7-489B-9823-31F17DB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5B68-CFEF-4897-9ED7-5872B4E7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4AE4-AB78-4D87-9C34-66056F8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936E-7DA6-4D7F-8A97-92DA2F7B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13B7-A3CD-4E8C-8010-943CFFE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2BAA-F747-4110-AAA7-D8488F8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4F15-3EA5-47B5-97CC-843B789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1BB8-95D0-4DC3-8BFF-C44B153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0A5-C2C2-4FEC-AEDC-77942977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DE01-6D17-4817-8EC0-720AF80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7D72-C47D-4E38-9094-94B0965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4060-2D34-4EA3-A1FC-A4E856F0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3FB6-4F96-41D6-8383-A01E5F54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9805-9E10-4C15-A009-C8FBBEE2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DAA7-5E84-43EE-B03A-06BEE2E5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2D61-2473-4F07-921B-C4C986C5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201E-3E81-45D1-AD52-61414D53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46D4-A501-4510-AB0A-7386A53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24FE-C06A-4443-A5ED-4A8639B5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7B0-3A70-4CC8-A246-DCF5E08E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D12B-8095-4326-BA09-BE29C57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81DE-D1E8-48DC-B413-F45D270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ED5D-7665-4D83-B323-F778B7C5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0177-72BC-4C5B-9A99-5E4338C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283C-374E-40F2-A2F1-F1E2039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19D8-2DFE-442B-AFB5-F547B89E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F5F5-2FAF-4439-856B-B2AD1A2D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828-4B76-4CB2-8A2F-5F3D374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21E-7B27-4DFA-AEE0-72F9275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705-9D77-4BEA-84A7-EF52891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C16-F191-4E74-A34A-49689555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D7F-8742-4B2C-A8A9-018516A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2BE-426A-4B16-A6E8-38AF69B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733DA2-38AF-45A2-B146-D12A8A156A7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7E531D-9BBB-4BB1-9DE4-D8AF6B4B35F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4F466C-C810-4125-B284-ABCD48D1BA6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161928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Принципи побудови комутаторів  та комутаційних           середовищ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47520" y="504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Дерево Кільце Реш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рис.  1, в зображена третя нульмірна топологія -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ерево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.  Пропускна здатність між секціями дорівнює пропускній здатності канал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льц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ис1, г) - це одномірна топологія, оскільки кожен відправлений пакет може піти направо або налі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шітк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ітк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д) - це двовимірна топологія, яка застосовується в багатьох комерційних системах.  Вона відрізняється регулярністю і може бути застосована до систем великого розміру, а діаметр становить квадратний корінь від числа вузлів (тобто при розширенні системи діаметр збільшується незна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409680" y="-1080"/>
            <a:ext cx="8505360" cy="49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одвійний тор  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двійний т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е) є різновидом решітки.  Це решітка, у якій з'єднані краї. Вона характеризується більшою стійкістю до відмов і меншим діаметром, ніж звичайна решітка, оскільки тепер між двома протилежними вузлами всього дві транзитних діля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уб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рис. 1, ж) - це правильна тривимірна топологія.  На малюнку зображений куб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х2х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але в загальному випадку він може бути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kxkxk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47520" y="756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Багатовимірні топології.  Характеристики графів міжз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єдн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отиривимірний куб, отриманий з двох тривимірних кубів, які пов'язані між соб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на зробити 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имірний куб, з'єднавши разом 4 чотиривимірних ку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тримати 6 вимірювань, потрібно продублювати блок із 5 - 4х мірних кубів і з'єднати відповідні вузли і т. д 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N-мірний куб називаєтьс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гіперкубом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я топологія використовується в багатьох комп'ютерах паралельної дії, оскільки її діаметр знаходиться в лінійній залежності від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Комутатори для багатопроцесорних КС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Комутатори для багатопроцесорних комп`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1. Прост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- з просторовим розділенн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2. 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мутатор К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Баньян-мереж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Омег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3.Розподілені складові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</a:rPr>
              <a:t>Прості 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Комунікаційні середовища комп'ютерних систем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складаються з адаптерів обчислювальних модулів (ОМ) і комутаторів, що забезпечують з'єднання між н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Використовуються як прості комутатори, так і складові, компонован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Прост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можуть з'єднувати лише мале число ОМ в силу фізичних обмежень, проте забезпечують при цьому мінімальну затримку при встановленні з'єдн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Складові комутатори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зазвичай будуються з простих у вигляді багатокаскадних схем, долають обмеження на малу кількість з'єднань, проте збільшують і затрим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ипи простих комутат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тимчасовим поді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- з просторовим розділення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простота управління і високу швидкоді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 мала кількість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клади використанн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тимчасовим поділом використовуються в системах SMP PowerChallenge від SG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- прості комутатори з просторовим розділенням (Gigaplane) використовуються в сімействі SunUltraEnterpr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Прості комутатори з тимчасовим поді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з тимчасовим поділом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називаються також шинами або шинними структурами.  Всі пристрої підключаються до загальної інформаційної магістралі, використовуваної для передачі інформації між ними (рис. 2.). Зазвичай шина є пасивним елементом, управління передачами здійснюється пристроями передачі і прийм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оцес передачі виглядає наступним чин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ередавальний пристрій спочатку отримує доступ до шини, далі намагається встановити контакт з пристроєм-адресатом і визначити його здатність до прийом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маючий пристрій розпізнає свою адресу на шині і відповідає на запит передаваль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Загальна схема комутатора шинної структ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pic1"/>
          <p:cNvPicPr/>
          <p:nvPr/>
        </p:nvPicPr>
        <p:blipFill>
          <a:blip r:embed="rId1"/>
          <a:stretch/>
        </p:blipFill>
        <p:spPr>
          <a:xfrm>
            <a:off x="228600" y="1257120"/>
            <a:ext cx="8505360" cy="3800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нутый угол 1"/>
          <p:cNvSpPr/>
          <p:nvPr/>
        </p:nvSpPr>
        <p:spPr>
          <a:xfrm>
            <a:off x="90360" y="81000"/>
            <a:ext cx="8915040" cy="65955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ередавальний пристрій повідомляє, що насамперед має зробити приймаючий пристрій в ході взаємодії. Після цього відбувається передача даних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Так як шина є загальним ресурсом, за доступ до якого змагаються підключені до неї пристро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то необхідні методи управління наданням доступу пристроїв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Можливе використання центрального пристрою для управління доступом до шини, однак це зменшує масштабованість і гнучкість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Для вирішення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, що виникають при одночасному запиті пристроїв на доступ до шини, використовуються різні прийоми, зокрема: 1)призначення кожному пристрою унікального пріоритету (статичного чи динамічного), 2) використання черги запитів FIFO, 3) виділення фіксованих тимчасових інтервалів кожному прист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Мережі міжз’єднань в паралель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Комутатори для багатопроцесорних 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3 Організація процесів кому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4 Приклади побудови міжпроцесорних зв’яз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Стати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Кожен пристрій в системі отримує унікальний пріоритет, при одночасному запиті декількох пристроїв на передачу, доступ до шини надається пристрою з найвищим пріорите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На практиці пріоритет пристрою визначається місцем його підключення до шини. Для контролю доступу до шини використовується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</a:rPr>
              <a:t>окремий блок управлі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Times New Roman"/>
              </a:rPr>
              <a:t>Динамічні пріорит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Так само, як і в попередньому алгоритмі, пристрої отримують унікальні пріоритети, проте на відміну від нього ці пріоритети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непостійні в час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Пріоритети динамічно змінюються, надаючи пристроям більш-менш рівні шанси отримання доступу до ши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Найвищий пріоритет надається пристрою, який найбільш довго не використовував 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троль доступу до шини здійснює пристрій, що одержав доступ до шини в попередньому циклі арбітр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Фіксовані часові інтерв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жен пристрій по порядку отримує однаковий часовий інтервал для здійснення передачі. Якщо пристрій не має даних для передачі, то інтервал, тим не менш, не надається наступному прист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Черга FIF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творюється черга запитів "перший прийшов - перший пішов", Перевагою даного алгоритму є можливість досягнення максимальної пропускної здатності ш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Franklin Gothic Book"/>
              </a:rPr>
              <a:t>Особливості реалізації 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ля об'єднання пристроїв на друкованих платах і друкованих плат в блок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Широко застосовуються шини наступних стандар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SA - Industry Standard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EISA - Extended I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ESA - VideoElectronicsStandards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PCI - PeripheralComputerInterconn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VME - VersabusModule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I2C - InterIntegratedCirc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AGP - AcceleratedGraphic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Шини використовуються також в мезонинній технології,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 на великій платі встановлюється один або кілька шинних роз'ємів для установки менших плат, так званих мезонін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акі комутатори представляють собою сукупність мультиплексорів, кількість яких відповідає кількості виходів комутатора, при цьому кожен вхід комутатора повинен бути заведений на всі мультиплекс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ерева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можливість одночасного контакту з усіма прист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мінімальна затри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лі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исока складність порядку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 x 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, де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ходів, </a:t>
            </a: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- кількість виход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AU" sz="2800" spc="-1" strike="noStrike">
                <a:solidFill>
                  <a:srgbClr val="000000"/>
                </a:solidFill>
                <a:latin typeface="Franklin Gothic Book"/>
              </a:rPr>
              <a:t>складність забезпечення надійн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нутый угол 1"/>
          <p:cNvSpPr/>
          <p:nvPr/>
        </p:nvSpPr>
        <p:spPr>
          <a:xfrm>
            <a:off x="228600" y="17136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Прості комутатори з просторовим поділом на основі мультиплексо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rcRect l="31325" t="38910" r="32799" b="21083"/>
          <a:stretch/>
        </p:blipFill>
        <p:spPr>
          <a:xfrm>
            <a:off x="1224000" y="1166760"/>
            <a:ext cx="6514920" cy="46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Складові комутат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ості комутатори мають обмеження на число входів і виходів, а також можуть вимагати великої кількості обладна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Тому 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для побудови комутаторів з великою кількістю входів і виходів використовують сукупність простих комутаторів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об'єднаних за допомогою ліній "</a:t>
            </a: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точка-точка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мають затримку, пропорційну кількості простих комутаторів, через які проходить сигнал від входу до виходу, тобто числу каска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нак обсяг обладнання складеного комутатора менше, ніж простого з тією ж кількістю входів і виход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Найчастіше складові комутатори будуються з прямокутних комутаторів 2х2 з двома входами і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Робота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они мають два стани: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пряме пропускання входів на відповідні виходи і перехресне пропускання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мутатор 2х2 складається з блоку комутації даних і блоку управління.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Блок управління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в залежності від керуючих сигналів, які надходять на нього, визначає, який тип з'єднання слід здійснити в блоці комутації: прямий або перехрес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и цьому якщо обидва входи хочуть з'єднатися з одним виходом, то комутатор вирішує конфлікт і пов'язує з даними виходу тільки один вхід, а запит на з'єднання з боку другого блокується або відкид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600" spc="-1" strike="noStrike">
                <a:solidFill>
                  <a:srgbClr val="002060"/>
                </a:solidFill>
                <a:latin typeface="Franklin Gothic Book"/>
              </a:rPr>
              <a:t>Комутатор Клоза 3 х 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мутатор Клоза може бути побудований в якості альтернативи для прямокутного комутатора з (m x d) входами і (m x d) виходами.  Він формується з трьох каскадів комутаторів: m комутаторів (d x d) у вхідному каскаді, m комутаторів (d x d) в вихідному і d проміжних комутаторів (m x 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pic3"/>
          <p:cNvPicPr/>
          <p:nvPr/>
        </p:nvPicPr>
        <p:blipFill>
          <a:blip r:embed="rId1"/>
          <a:stretch/>
        </p:blipFill>
        <p:spPr>
          <a:xfrm>
            <a:off x="1766880" y="3157560"/>
            <a:ext cx="5609880" cy="2985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Баньян-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Ці комутатори будуються на базі прямокутних комутаторів а х b таким чином, що існує тільки один шлях від кожного входу до кожного вих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ажливим підкласом баньян-мереж служать дельта-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Дельта-мережа формується з комутаторів а х b, входи і виходи яких позначені 0,1, ..., а-1 і 0,1, ..., b-1, відповідно.          Кожен вхід з'єднується з виходом з номером d, якщо цей вхід управляється числом d, де d - число по підставі b.    Дельта-мережа є n каскадним комутатором з а "входами і b" вихо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Складові комутатори з'єднані так, що утворюється єдиний шлях однакової довжини для з'єднання будь-якого входу з будь-яким вих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Дельта-мережу з </a:t>
            </a: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n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каскадами, а входами і b вих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5" descr="Image54"/>
          <p:cNvPicPr/>
          <p:nvPr/>
        </p:nvPicPr>
        <p:blipFill>
          <a:blip r:embed="rId1"/>
          <a:stretch/>
        </p:blipFill>
        <p:spPr>
          <a:xfrm>
            <a:off x="681120" y="1076400"/>
            <a:ext cx="7872120" cy="425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uk-UA" sz="4000" spc="-1" strike="noStrike" cap="all">
                <a:solidFill>
                  <a:srgbClr val="000000"/>
                </a:solidFill>
                <a:latin typeface="Franklin Gothic Medium"/>
              </a:rPr>
              <a:t>Мережі міжз’єднань в паралельних КС. 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Franklin Gothic Book"/>
              </a:rPr>
              <a:t>Елемент 23 х 23 комут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5" descr="Image55"/>
          <p:cNvPicPr/>
          <p:nvPr/>
        </p:nvPicPr>
        <p:blipFill>
          <a:blip r:embed="rId1"/>
          <a:stretch/>
        </p:blipFill>
        <p:spPr>
          <a:xfrm>
            <a:off x="1495440" y="985680"/>
            <a:ext cx="597168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uk-UA" sz="3200" spc="-1" strike="noStrike">
                <a:solidFill>
                  <a:srgbClr val="002060"/>
                </a:solidFill>
                <a:latin typeface="Franklin Gothic Book"/>
              </a:rPr>
              <a:t>Розподілені складові комут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розподілених обчислювальних системах ресурси поділяються між завданнями, кожна з яких виконується на своїй підмножині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У зв'язку з цим виникає поняття близькості процесорів, яка є важливою для активно взаємодіючих процесор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звичай близькість процесорів виражається в різній каскадності з'єднань, різних відстанях між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нутый угол 1"/>
          <p:cNvSpPr/>
          <p:nvPr/>
        </p:nvSpPr>
        <p:spPr>
          <a:xfrm>
            <a:off x="228600" y="35244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Комутатор система SP-2 фірми 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Комутатори для багатопроцесор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6" descr="Image56"/>
          <p:cNvPicPr/>
          <p:nvPr/>
        </p:nvPicPr>
        <p:blipFill>
          <a:blip r:embed="rId1"/>
          <a:stretch/>
        </p:blipFill>
        <p:spPr>
          <a:xfrm>
            <a:off x="1495440" y="1076400"/>
            <a:ext cx="6062400" cy="52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3 Організація процесів комутації.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7520" y="-200520"/>
            <a:ext cx="8867520" cy="670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Організація процесів комут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Існує декілька стратегій перемиканн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Перша з них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каналів. Перед тим як послати пакет, весь шлях від початкового до кінцевого пункту резервується заздалегід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Друга стратегія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комутація з проміжним зберіганням. Тут не потрібно попереднього резервування. З вихідного пункту надсилається цілий пакет до першого комутатора, де він зберігаєтьс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Комутатори з проміжним зберіганням повинні відправляти пакети в буфер, оскільки коли вихідний пункт (наприклад, процесор, пам'ять або комутатор) видає пакет, вихідний порт, який потрібен, може бути в даний момент зайнятий передачею іншого пакет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47520" y="4680"/>
            <a:ext cx="8867520" cy="6061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Алгоритми вибору маршруту пакетів у мережі комутат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будь-якій мережі міжз'єднань розмірністю один і вище можна вибирати, яким шляхом передавати пакети від одного вузла до інш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то існує безліч можливих маршрутів. Правило, що визначає, яку послідовність вузлів повинен пройти пакет при русі від вихідного пункту до пункту призначення, називається алгоритмом вибору маршру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лгоритми вибору маршруту можна розділити на дві категорії: маршрутизація від джерела і розподілена маршрутизаці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3. Організація процесів комут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4. Приклади побудови міжпроцесорних зв’язків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иклади реалізації міжпроцесорних зв'яз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5" descr="pic4"/>
          <p:cNvPicPr/>
          <p:nvPr/>
        </p:nvPicPr>
        <p:blipFill>
          <a:blip r:embed="rId1"/>
          <a:stretch/>
        </p:blipFill>
        <p:spPr>
          <a:xfrm>
            <a:off x="861840" y="714240"/>
            <a:ext cx="7057800" cy="5338440"/>
          </a:xfrm>
          <a:prstGeom prst="rect">
            <a:avLst/>
          </a:prstGeom>
          <a:ln w="9525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-56520" y="5876280"/>
            <a:ext cx="7912080" cy="76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міжмодульних зв'язків ConvexExemplar SPP1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а сполук 128-процес</a:t>
            </a: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орн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ої системи МВС-100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6" descr="pic7"/>
          <p:cNvPicPr/>
          <p:nvPr/>
        </p:nvPicPr>
        <p:blipFill>
          <a:blip r:embed="rId1"/>
          <a:stretch/>
        </p:blipFill>
        <p:spPr>
          <a:xfrm>
            <a:off x="952560" y="804960"/>
            <a:ext cx="6786360" cy="4885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нутый угол 1"/>
          <p:cNvSpPr/>
          <p:nvPr/>
        </p:nvSpPr>
        <p:spPr>
          <a:xfrm>
            <a:off x="228600" y="81000"/>
            <a:ext cx="8686440" cy="624348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Структурний модуль МВС-1000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складається з 16 обчислювальних модулів, що утворюють матрицю 4x4, в якій чотири кутових елемента з'єднуються через трансп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ютернілінки по діагоналі попар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12 лінків, які залишилися,призначаються для під'єднання зовнішніх пристроїв (4 лінка кутових ОМ) та сполук з подібними 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Конструктивним утворенням МВС-1000 є базовий обчислювальний блок, що містить 32 обчислювальних модуля. Максимальна довжина шляху між будь-якими з 32 обчислювальних модулів дорівнює п'яти, при цьому число вільних лінків після комплектації блоку складає 16, що дозволяє продовжити процедуру об'єдн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3666960" y="6362640"/>
            <a:ext cx="54766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4. Приклади побудови міжпроцесорних зв’яз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09680" y="26640"/>
            <a:ext cx="81435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ультикомп'ютери і мультипроцесори дуже схожі, оскільки містять кілька модулів пам'яті, які також можуть бути пов'язані один з одним і з процесорами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 обох випадках застосовується передача повідомле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великих мультипроцесорах взаємодія між процесорами і віддаленою пам'яттю майже завжди полягає в тому, що процесор посилає в пам'ять повідомлення, так званий пакет, який запитує певні дані, а пам'ять посилає процесору пак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Мережі міжз'єднан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уть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кладатис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ум з п'яти компоненті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Централь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Модулі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Інтерфейс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Канали зв'яз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Комутат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38240" y="564480"/>
            <a:ext cx="8686440" cy="5985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ажлива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властивість мережі міжз'єднан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це її пропускна здатність, тобто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уже важлива характеристика - бісекційна пропускна здатні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об обчислити це число, потрібно подумки розділити мережу міжз'єднань на дві рівні (з точки зору числа вузлів) незв'язані частини шляхом видалення деяких дуг з графа. Потім потрібно обчислити загальну пропускну здатність дуг, які ми видали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асто основна мета при розробці мережі міжз'єднань - зробити бісекційну пропускну здатність максимальн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'єднань можна характеризувати за їх розмірност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138240" y="905040"/>
            <a:ext cx="8686440" cy="44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кількістю можливих варіантів переходу з початкового пункту в пункт при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Діаметр мереж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логарифм за основою 2 від числа вузл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унікаційні середовища обчислювальних систем (ОС) складаються з адаптерів обчислювальних модулів (ОМ) і комутаторів, що забезпечують з'єднання між ни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овуються як прості комутатори, так і складові, компонуємі з набору прост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46800"/>
            <a:ext cx="8505360" cy="62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Інтерфейс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, які вводять і виводять повідомлення з центральних процесорів і модулів пам'яті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анали зв'язку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канали, по яких переміщаються біти. Канали можуть бути електричними або оптико-волоконними, послідовними (шириною 1 біт) або паралельними (завширшки більше 1 біта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700" spc="-1" strike="noStrike">
                <a:solidFill>
                  <a:srgbClr val="000000"/>
                </a:solidFill>
                <a:latin typeface="Arial"/>
              </a:rPr>
              <a:t>Комутатори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— це пристрої з декількома вхідними і кількома вихідними портами. Коли на вхідний порт приходить пакет, деякі біти в цьому пакеті використовуються для вибору вихідного порту, в який надсилається пак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Розмір пакета може складати 2 або 4 байти, але може бути і значно більше (наприклад, 8 Кбайт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261360"/>
            <a:ext cx="8867520" cy="612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Характеристики мережі міжз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єдн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пускна здатніст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це кількість даних, яку вона здатна передавати в секу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Щоб обчислити це число, потрібно в думках розділити мережу міжз'єднань на дві рівні (з точки зору числа вузлів) незв'язані частини шляхом видалення деяких дуг з графа. Потім обчислити загальну пропускну здатність видалених дуг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Бісекційна пропускна здатність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мінімальна з усіх можливих, це найважливіша характеристика мережі межз'єднань. Часто основна мета при розробці мережі міжз'єднань - зробити бісекційну пропускну здатність максимально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а міжз'єднань характеризується так само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опологією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способом з'єднання вузлів мереж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9720"/>
            <a:ext cx="850536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іаметр мереж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число переходів між максимально віддаленими вузлами мережі, визначає затримку передачі пакет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режі між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днань можна характеризувати по їх розмірнос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мірність визначається за кількістю можливих варіантів переходу з початкового пункту в пункт призначення -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вибору немає (тобто існує тільки один шлях з кожного вихідного пункту в кожен кінцевий пункт), то мереж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а можливих варіанти (наприклад, якщо можна піти або направо, або наліво), то мережа одномір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дві осі і пакет може попрямувати направо або наліво або вгору або вниз, то така мережа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двовимірн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т. 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5246640"/>
            <a:ext cx="9143640" cy="142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сунок 1 – Різноманітні топології. Жирні точки відповідають комутаторам. Процесори та модулі не показані: зірка (а); повне між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днання (б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 дерево (в); кільце (г); решітка (д); двійний тор (е); куб (ж); гіперкуб (з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1"/>
          <a:srcRect l="10180" t="0" r="8391" b="7168"/>
          <a:stretch/>
        </p:blipFill>
        <p:spPr>
          <a:xfrm>
            <a:off x="1585800" y="171360"/>
            <a:ext cx="6062400" cy="51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7520" y="7560"/>
            <a:ext cx="8505360" cy="645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Конфігурації зірка і повне міжз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єд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а зображена нульмірна конфігураці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ір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де процесори і модулі пам'яті прикріплюються до зовнішніх вузлів, а перемикання здійснює центральний вузол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 точки зору відмовостійкості це дуже невдала розробк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рис. 1, б зображена інш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нульмірна топологія - повне міжз'єднання (fullinterconnect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Тут кожен вузол безпосередньо пов'язаний з кожним наявним вуз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акій розробці пропускна здатність між двома секціями максимальна, діаметр мінімальний, а відмовостійкість дуже висока. Однак для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вузлів потрібно k (k-1) / 2 каналів, а це абсолютно неприйнятно для великих значен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Мережі міжз’єднань в паралельних 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323</TotalTime>
  <Application>LibreOffice/7.4.7.2$Linux_X86_64 LibreOffice_project/40$Build-2</Application>
  <AppVersion>15.0000</AppVersion>
  <Words>2784</Words>
  <Paragraphs>3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Kiu</cp:lastModifiedBy>
  <dcterms:modified xsi:type="dcterms:W3CDTF">2018-11-28T13:22:00Z</dcterms:modified>
  <cp:revision>563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