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51245FC-66DB-496C-9A94-ABF60C3E7B23}" type="doc">
      <dgm:prSet loTypeId="urn:microsoft.com/office/officeart/2005/8/layout/equation1" loCatId="process" qsTypeId="urn:microsoft.com/office/officeart/2005/8/quickstyle/simple4" qsCatId="simple" csTypeId="urn:microsoft.com/office/officeart/2005/8/colors/accent0_3" csCatId="mainScheme" phldr="1"/>
      <dgm:spPr/>
      <dgm:t>
        <a:bodyPr/>
        <a:lstStyle/>
        <a:p>
          <a:endParaRPr lang="ru-RU"/>
        </a:p>
      </dgm:t>
    </dgm:pt>
    <dgm:pt modelId="{8BB32CBA-3033-4685-AF18-413687B89311}">
      <dgm:prSet phldrT="[Текст]"/>
      <dgm:spPr>
        <a:solidFill>
          <a:srgbClr val="00B0F0"/>
        </a:solidFill>
      </dgm:spPr>
      <dgm:t>
        <a:bodyPr/>
        <a:lstStyle/>
        <a:p>
          <a:r>
            <a:rPr lang="en-US" dirty="0" smtClean="0"/>
            <a:t>Subject</a:t>
          </a:r>
          <a:endParaRPr lang="ru-RU" dirty="0"/>
        </a:p>
      </dgm:t>
    </dgm:pt>
    <dgm:pt modelId="{7F09F72D-F7A0-42F6-8253-32086F330FBC}" type="parTrans" cxnId="{18FEE9F7-A7A7-4F96-A1B3-CDFB349299C5}">
      <dgm:prSet/>
      <dgm:spPr/>
      <dgm:t>
        <a:bodyPr/>
        <a:lstStyle/>
        <a:p>
          <a:endParaRPr lang="ru-RU"/>
        </a:p>
      </dgm:t>
    </dgm:pt>
    <dgm:pt modelId="{2E98E886-0EFB-4BF7-949D-CADEBDDA8739}" type="sibTrans" cxnId="{18FEE9F7-A7A7-4F96-A1B3-CDFB349299C5}">
      <dgm:prSet/>
      <dgm:spPr/>
      <dgm:t>
        <a:bodyPr/>
        <a:lstStyle/>
        <a:p>
          <a:endParaRPr lang="ru-RU"/>
        </a:p>
      </dgm:t>
    </dgm:pt>
    <dgm:pt modelId="{D37D5BED-1D50-4639-8BF8-E6D837C63834}">
      <dgm:prSet phldrT="[Текст]"/>
      <dgm:spPr>
        <a:solidFill>
          <a:srgbClr val="00B050"/>
        </a:solidFill>
      </dgm:spPr>
      <dgm:t>
        <a:bodyPr/>
        <a:lstStyle/>
        <a:p>
          <a:r>
            <a:rPr lang="en-US" dirty="0" smtClean="0"/>
            <a:t>Was/ were</a:t>
          </a:r>
          <a:endParaRPr lang="ru-RU" dirty="0"/>
        </a:p>
      </dgm:t>
    </dgm:pt>
    <dgm:pt modelId="{3D542536-0E25-4358-8E7B-339794E30A5D}" type="parTrans" cxnId="{1BA7F75F-25B1-4DE6-BA44-B1DDC6276596}">
      <dgm:prSet/>
      <dgm:spPr/>
      <dgm:t>
        <a:bodyPr/>
        <a:lstStyle/>
        <a:p>
          <a:endParaRPr lang="ru-RU"/>
        </a:p>
      </dgm:t>
    </dgm:pt>
    <dgm:pt modelId="{0E8B4537-5F9A-497F-9E93-DFF0A51CD8B8}" type="sibTrans" cxnId="{1BA7F75F-25B1-4DE6-BA44-B1DDC6276596}">
      <dgm:prSet/>
      <dgm:spPr/>
      <dgm:t>
        <a:bodyPr/>
        <a:lstStyle/>
        <a:p>
          <a:endParaRPr lang="ru-RU"/>
        </a:p>
      </dgm:t>
    </dgm:pt>
    <dgm:pt modelId="{5FCE8033-3739-420F-9CEA-5B43ACB6B201}">
      <dgm:prSet phldrT="[Текст]"/>
      <dgm:spPr>
        <a:solidFill>
          <a:srgbClr val="FF0000"/>
        </a:solidFill>
      </dgm:spPr>
      <dgm:t>
        <a:bodyPr/>
        <a:lstStyle/>
        <a:p>
          <a:r>
            <a:rPr lang="en-US" dirty="0" smtClean="0"/>
            <a:t>V </a:t>
          </a:r>
          <a:r>
            <a:rPr lang="en-US" dirty="0" err="1" smtClean="0"/>
            <a:t>ing</a:t>
          </a:r>
          <a:endParaRPr lang="ru-RU" dirty="0"/>
        </a:p>
      </dgm:t>
    </dgm:pt>
    <dgm:pt modelId="{EDEA71F1-2248-4DA7-99FC-833157E52461}" type="parTrans" cxnId="{7EA7A486-1B9B-4AC8-8EFA-6CBF2E065E7D}">
      <dgm:prSet/>
      <dgm:spPr/>
      <dgm:t>
        <a:bodyPr/>
        <a:lstStyle/>
        <a:p>
          <a:endParaRPr lang="ru-RU"/>
        </a:p>
      </dgm:t>
    </dgm:pt>
    <dgm:pt modelId="{14638E93-DCD2-4585-84DE-550D8F06CF10}" type="sibTrans" cxnId="{7EA7A486-1B9B-4AC8-8EFA-6CBF2E065E7D}">
      <dgm:prSet/>
      <dgm:spPr/>
      <dgm:t>
        <a:bodyPr/>
        <a:lstStyle/>
        <a:p>
          <a:endParaRPr lang="ru-RU"/>
        </a:p>
      </dgm:t>
    </dgm:pt>
    <dgm:pt modelId="{87083859-C3EE-42A8-83E2-80EB0E7EB871}">
      <dgm:prSet phldrT="[Текст]"/>
      <dgm:spPr>
        <a:solidFill>
          <a:srgbClr val="7030A0"/>
        </a:solidFill>
      </dgm:spPr>
      <dgm:t>
        <a:bodyPr/>
        <a:lstStyle/>
        <a:p>
          <a:r>
            <a:rPr lang="en-US" dirty="0" smtClean="0"/>
            <a:t>Past Continuous</a:t>
          </a:r>
          <a:endParaRPr lang="ru-RU" dirty="0"/>
        </a:p>
      </dgm:t>
    </dgm:pt>
    <dgm:pt modelId="{D95989FC-0698-416F-9288-4B7BFA6CCDF7}" type="parTrans" cxnId="{D3A17D56-D4E6-4018-BF4B-8A65AB90F003}">
      <dgm:prSet/>
      <dgm:spPr/>
      <dgm:t>
        <a:bodyPr/>
        <a:lstStyle/>
        <a:p>
          <a:endParaRPr lang="ru-RU"/>
        </a:p>
      </dgm:t>
    </dgm:pt>
    <dgm:pt modelId="{19774A69-A846-4D93-A15A-E8F8643AAD91}" type="sibTrans" cxnId="{D3A17D56-D4E6-4018-BF4B-8A65AB90F003}">
      <dgm:prSet/>
      <dgm:spPr/>
      <dgm:t>
        <a:bodyPr/>
        <a:lstStyle/>
        <a:p>
          <a:endParaRPr lang="ru-RU"/>
        </a:p>
      </dgm:t>
    </dgm:pt>
    <dgm:pt modelId="{85492A1C-CB32-46B4-8DB6-7111C05A0E27}" type="pres">
      <dgm:prSet presAssocID="{551245FC-66DB-496C-9A94-ABF60C3E7B23}" presName="linearFlow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FAD3BED-E1F1-4003-905A-9E115B942295}" type="pres">
      <dgm:prSet presAssocID="{8BB32CBA-3033-4685-AF18-413687B89311}" presName="node" presStyleLbl="node1" presStyleIdx="0" presStyleCnt="4" custLinFactX="8351" custLinFactNeighborX="100000" custLinFactNeighborY="2071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ED2F008-4749-48AF-A3E1-7B9F4C86681A}" type="pres">
      <dgm:prSet presAssocID="{2E98E886-0EFB-4BF7-949D-CADEBDDA8739}" presName="spacerL" presStyleCnt="0"/>
      <dgm:spPr/>
    </dgm:pt>
    <dgm:pt modelId="{EBF1D79B-30AD-4B82-9BE6-3EB711B2CF84}" type="pres">
      <dgm:prSet presAssocID="{2E98E886-0EFB-4BF7-949D-CADEBDDA8739}" presName="sibTrans" presStyleLbl="sibTrans2D1" presStyleIdx="0" presStyleCnt="3" custLinFactX="14398" custLinFactNeighborX="100000" custLinFactNeighborY="35716"/>
      <dgm:spPr/>
      <dgm:t>
        <a:bodyPr/>
        <a:lstStyle/>
        <a:p>
          <a:endParaRPr lang="ru-RU"/>
        </a:p>
      </dgm:t>
    </dgm:pt>
    <dgm:pt modelId="{6E1C3D56-F8B5-467D-8AE7-6287DF3D8BF6}" type="pres">
      <dgm:prSet presAssocID="{2E98E886-0EFB-4BF7-949D-CADEBDDA8739}" presName="spacerR" presStyleCnt="0"/>
      <dgm:spPr/>
    </dgm:pt>
    <dgm:pt modelId="{0FABB7A6-9800-4A3E-992F-C578B37A96E8}" type="pres">
      <dgm:prSet presAssocID="{D37D5BED-1D50-4639-8BF8-E6D837C63834}" presName="node" presStyleLbl="node1" presStyleIdx="1" presStyleCnt="4" custLinFactX="2820" custLinFactNeighborX="100000" custLinFactNeighborY="2316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D21FA3D-7DAD-445C-96E6-A3865836E953}" type="pres">
      <dgm:prSet presAssocID="{0E8B4537-5F9A-497F-9E93-DFF0A51CD8B8}" presName="spacerL" presStyleCnt="0"/>
      <dgm:spPr/>
    </dgm:pt>
    <dgm:pt modelId="{F600D2EB-B9C6-4115-8ACB-068FA7EBCE4E}" type="pres">
      <dgm:prSet presAssocID="{0E8B4537-5F9A-497F-9E93-DFF0A51CD8B8}" presName="sibTrans" presStyleLbl="sibTrans2D1" presStyleIdx="1" presStyleCnt="3" custLinFactNeighborX="15834" custLinFactNeighborY="47625"/>
      <dgm:spPr/>
      <dgm:t>
        <a:bodyPr/>
        <a:lstStyle/>
        <a:p>
          <a:endParaRPr lang="ru-RU"/>
        </a:p>
      </dgm:t>
    </dgm:pt>
    <dgm:pt modelId="{68E0B206-C8D3-47E8-98B7-38EF9819C83A}" type="pres">
      <dgm:prSet presAssocID="{0E8B4537-5F9A-497F-9E93-DFF0A51CD8B8}" presName="spacerR" presStyleCnt="0"/>
      <dgm:spPr/>
    </dgm:pt>
    <dgm:pt modelId="{A5B860C3-64B8-4EF4-A81C-8B5FCF05B3A9}" type="pres">
      <dgm:prSet presAssocID="{5FCE8033-3739-420F-9CEA-5B43ACB6B201}" presName="node" presStyleLbl="node1" presStyleIdx="2" presStyleCnt="4" custLinFactNeighborX="-59098" custLinFactNeighborY="1788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334F9C4-9ACA-4741-8918-AD68D511B31C}" type="pres">
      <dgm:prSet presAssocID="{14638E93-DCD2-4585-84DE-550D8F06CF10}" presName="spacerL" presStyleCnt="0"/>
      <dgm:spPr/>
    </dgm:pt>
    <dgm:pt modelId="{BA0CC7BD-4AB7-471E-9324-2D6989673813}" type="pres">
      <dgm:prSet presAssocID="{14638E93-DCD2-4585-84DE-550D8F06CF10}" presName="sibTrans" presStyleLbl="sibTrans2D1" presStyleIdx="2" presStyleCnt="3" custLinFactX="-4863" custLinFactNeighborX="-100000" custLinFactNeighborY="47625"/>
      <dgm:spPr/>
      <dgm:t>
        <a:bodyPr/>
        <a:lstStyle/>
        <a:p>
          <a:endParaRPr lang="ru-RU"/>
        </a:p>
      </dgm:t>
    </dgm:pt>
    <dgm:pt modelId="{B728F5D3-5B89-4960-BAE9-65FD1300D9BC}" type="pres">
      <dgm:prSet presAssocID="{14638E93-DCD2-4585-84DE-550D8F06CF10}" presName="spacerR" presStyleCnt="0"/>
      <dgm:spPr/>
    </dgm:pt>
    <dgm:pt modelId="{B4638164-EA06-4C1C-A9D7-A4CA42605935}" type="pres">
      <dgm:prSet presAssocID="{87083859-C3EE-42A8-83E2-80EB0E7EB871}" presName="node" presStyleLbl="node1" presStyleIdx="3" presStyleCnt="4" custLinFactX="-9560" custLinFactNeighborX="-100000" custLinFactNeighborY="1772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8066A73-C3A0-45F6-8A3F-4E2C63716FB7}" type="presOf" srcId="{87083859-C3EE-42A8-83E2-80EB0E7EB871}" destId="{B4638164-EA06-4C1C-A9D7-A4CA42605935}" srcOrd="0" destOrd="0" presId="urn:microsoft.com/office/officeart/2005/8/layout/equation1"/>
    <dgm:cxn modelId="{71719954-118D-4D98-A08C-52FE04CC38F2}" type="presOf" srcId="{14638E93-DCD2-4585-84DE-550D8F06CF10}" destId="{BA0CC7BD-4AB7-471E-9324-2D6989673813}" srcOrd="0" destOrd="0" presId="urn:microsoft.com/office/officeart/2005/8/layout/equation1"/>
    <dgm:cxn modelId="{18FEE9F7-A7A7-4F96-A1B3-CDFB349299C5}" srcId="{551245FC-66DB-496C-9A94-ABF60C3E7B23}" destId="{8BB32CBA-3033-4685-AF18-413687B89311}" srcOrd="0" destOrd="0" parTransId="{7F09F72D-F7A0-42F6-8253-32086F330FBC}" sibTransId="{2E98E886-0EFB-4BF7-949D-CADEBDDA8739}"/>
    <dgm:cxn modelId="{D02A8BF4-F97B-4990-84AE-89DC21E07812}" type="presOf" srcId="{0E8B4537-5F9A-497F-9E93-DFF0A51CD8B8}" destId="{F600D2EB-B9C6-4115-8ACB-068FA7EBCE4E}" srcOrd="0" destOrd="0" presId="urn:microsoft.com/office/officeart/2005/8/layout/equation1"/>
    <dgm:cxn modelId="{D3A17D56-D4E6-4018-BF4B-8A65AB90F003}" srcId="{551245FC-66DB-496C-9A94-ABF60C3E7B23}" destId="{87083859-C3EE-42A8-83E2-80EB0E7EB871}" srcOrd="3" destOrd="0" parTransId="{D95989FC-0698-416F-9288-4B7BFA6CCDF7}" sibTransId="{19774A69-A846-4D93-A15A-E8F8643AAD91}"/>
    <dgm:cxn modelId="{6D9610A5-4573-4993-8894-CC0AA05F27F3}" type="presOf" srcId="{8BB32CBA-3033-4685-AF18-413687B89311}" destId="{5FAD3BED-E1F1-4003-905A-9E115B942295}" srcOrd="0" destOrd="0" presId="urn:microsoft.com/office/officeart/2005/8/layout/equation1"/>
    <dgm:cxn modelId="{5E5BFB99-5CE9-4450-9183-6E9E806577A2}" type="presOf" srcId="{551245FC-66DB-496C-9A94-ABF60C3E7B23}" destId="{85492A1C-CB32-46B4-8DB6-7111C05A0E27}" srcOrd="0" destOrd="0" presId="urn:microsoft.com/office/officeart/2005/8/layout/equation1"/>
    <dgm:cxn modelId="{9A71E0D7-1CCE-4BF1-8FC0-FBA139CB5915}" type="presOf" srcId="{D37D5BED-1D50-4639-8BF8-E6D837C63834}" destId="{0FABB7A6-9800-4A3E-992F-C578B37A96E8}" srcOrd="0" destOrd="0" presId="urn:microsoft.com/office/officeart/2005/8/layout/equation1"/>
    <dgm:cxn modelId="{E44A2565-DFF7-4E4D-B870-8C0516AA4674}" type="presOf" srcId="{2E98E886-0EFB-4BF7-949D-CADEBDDA8739}" destId="{EBF1D79B-30AD-4B82-9BE6-3EB711B2CF84}" srcOrd="0" destOrd="0" presId="urn:microsoft.com/office/officeart/2005/8/layout/equation1"/>
    <dgm:cxn modelId="{1BA7F75F-25B1-4DE6-BA44-B1DDC6276596}" srcId="{551245FC-66DB-496C-9A94-ABF60C3E7B23}" destId="{D37D5BED-1D50-4639-8BF8-E6D837C63834}" srcOrd="1" destOrd="0" parTransId="{3D542536-0E25-4358-8E7B-339794E30A5D}" sibTransId="{0E8B4537-5F9A-497F-9E93-DFF0A51CD8B8}"/>
    <dgm:cxn modelId="{04D3E1B8-5B38-4303-9A91-DD4B6B401497}" type="presOf" srcId="{5FCE8033-3739-420F-9CEA-5B43ACB6B201}" destId="{A5B860C3-64B8-4EF4-A81C-8B5FCF05B3A9}" srcOrd="0" destOrd="0" presId="urn:microsoft.com/office/officeart/2005/8/layout/equation1"/>
    <dgm:cxn modelId="{7EA7A486-1B9B-4AC8-8EFA-6CBF2E065E7D}" srcId="{551245FC-66DB-496C-9A94-ABF60C3E7B23}" destId="{5FCE8033-3739-420F-9CEA-5B43ACB6B201}" srcOrd="2" destOrd="0" parTransId="{EDEA71F1-2248-4DA7-99FC-833157E52461}" sibTransId="{14638E93-DCD2-4585-84DE-550D8F06CF10}"/>
    <dgm:cxn modelId="{CA27AA51-CDE5-4E4C-874D-23F5A5846C96}" type="presParOf" srcId="{85492A1C-CB32-46B4-8DB6-7111C05A0E27}" destId="{5FAD3BED-E1F1-4003-905A-9E115B942295}" srcOrd="0" destOrd="0" presId="urn:microsoft.com/office/officeart/2005/8/layout/equation1"/>
    <dgm:cxn modelId="{3F473B25-DE73-481A-8467-C7A958B915AA}" type="presParOf" srcId="{85492A1C-CB32-46B4-8DB6-7111C05A0E27}" destId="{AED2F008-4749-48AF-A3E1-7B9F4C86681A}" srcOrd="1" destOrd="0" presId="urn:microsoft.com/office/officeart/2005/8/layout/equation1"/>
    <dgm:cxn modelId="{C3634DBE-29F6-467C-9D6F-02CD67406BB6}" type="presParOf" srcId="{85492A1C-CB32-46B4-8DB6-7111C05A0E27}" destId="{EBF1D79B-30AD-4B82-9BE6-3EB711B2CF84}" srcOrd="2" destOrd="0" presId="urn:microsoft.com/office/officeart/2005/8/layout/equation1"/>
    <dgm:cxn modelId="{991FEDFF-5847-4395-8378-996FE84A70CC}" type="presParOf" srcId="{85492A1C-CB32-46B4-8DB6-7111C05A0E27}" destId="{6E1C3D56-F8B5-467D-8AE7-6287DF3D8BF6}" srcOrd="3" destOrd="0" presId="urn:microsoft.com/office/officeart/2005/8/layout/equation1"/>
    <dgm:cxn modelId="{8F57B681-0D28-4143-8A3E-DD3CF50B290D}" type="presParOf" srcId="{85492A1C-CB32-46B4-8DB6-7111C05A0E27}" destId="{0FABB7A6-9800-4A3E-992F-C578B37A96E8}" srcOrd="4" destOrd="0" presId="urn:microsoft.com/office/officeart/2005/8/layout/equation1"/>
    <dgm:cxn modelId="{6BACAFE8-87B9-4D09-B50C-86FAF48EC422}" type="presParOf" srcId="{85492A1C-CB32-46B4-8DB6-7111C05A0E27}" destId="{4D21FA3D-7DAD-445C-96E6-A3865836E953}" srcOrd="5" destOrd="0" presId="urn:microsoft.com/office/officeart/2005/8/layout/equation1"/>
    <dgm:cxn modelId="{E6298F2A-AD9B-40C9-947A-21C4669F7425}" type="presParOf" srcId="{85492A1C-CB32-46B4-8DB6-7111C05A0E27}" destId="{F600D2EB-B9C6-4115-8ACB-068FA7EBCE4E}" srcOrd="6" destOrd="0" presId="urn:microsoft.com/office/officeart/2005/8/layout/equation1"/>
    <dgm:cxn modelId="{B4A9424D-F3EA-4D4E-B5AC-31B41185BAA2}" type="presParOf" srcId="{85492A1C-CB32-46B4-8DB6-7111C05A0E27}" destId="{68E0B206-C8D3-47E8-98B7-38EF9819C83A}" srcOrd="7" destOrd="0" presId="urn:microsoft.com/office/officeart/2005/8/layout/equation1"/>
    <dgm:cxn modelId="{174DD263-A5AD-481F-ABA4-20458AB3CC21}" type="presParOf" srcId="{85492A1C-CB32-46B4-8DB6-7111C05A0E27}" destId="{A5B860C3-64B8-4EF4-A81C-8B5FCF05B3A9}" srcOrd="8" destOrd="0" presId="urn:microsoft.com/office/officeart/2005/8/layout/equation1"/>
    <dgm:cxn modelId="{8020ABF5-6A3B-4A55-A062-842B6F6CF5AA}" type="presParOf" srcId="{85492A1C-CB32-46B4-8DB6-7111C05A0E27}" destId="{C334F9C4-9ACA-4741-8918-AD68D511B31C}" srcOrd="9" destOrd="0" presId="urn:microsoft.com/office/officeart/2005/8/layout/equation1"/>
    <dgm:cxn modelId="{6FD05D54-E553-458E-98FB-2195972AB6A3}" type="presParOf" srcId="{85492A1C-CB32-46B4-8DB6-7111C05A0E27}" destId="{BA0CC7BD-4AB7-471E-9324-2D6989673813}" srcOrd="10" destOrd="0" presId="urn:microsoft.com/office/officeart/2005/8/layout/equation1"/>
    <dgm:cxn modelId="{4592A755-ECF5-4652-83F1-5A47385D4674}" type="presParOf" srcId="{85492A1C-CB32-46B4-8DB6-7111C05A0E27}" destId="{B728F5D3-5B89-4960-BAE9-65FD1300D9BC}" srcOrd="11" destOrd="0" presId="urn:microsoft.com/office/officeart/2005/8/layout/equation1"/>
    <dgm:cxn modelId="{4AE8EDDD-E888-4614-8485-779FC88EA192}" type="presParOf" srcId="{85492A1C-CB32-46B4-8DB6-7111C05A0E27}" destId="{B4638164-EA06-4C1C-A9D7-A4CA42605935}" srcOrd="12" destOrd="0" presId="urn:microsoft.com/office/officeart/2005/8/layout/equation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FAD3BED-E1F1-4003-905A-9E115B942295}">
      <dsp:nvSpPr>
        <dsp:cNvPr id="0" name=""/>
        <dsp:cNvSpPr/>
      </dsp:nvSpPr>
      <dsp:spPr>
        <a:xfrm>
          <a:off x="253677" y="2834978"/>
          <a:ext cx="1507208" cy="1507208"/>
        </a:xfrm>
        <a:prstGeom prst="ellipse">
          <a:avLst/>
        </a:prstGeom>
        <a:solidFill>
          <a:srgbClr val="00B0F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Subject</a:t>
          </a:r>
          <a:endParaRPr lang="ru-RU" sz="1400" kern="1200" dirty="0"/>
        </a:p>
      </dsp:txBody>
      <dsp:txXfrm>
        <a:off x="474403" y="3055704"/>
        <a:ext cx="1065756" cy="1065756"/>
      </dsp:txXfrm>
    </dsp:sp>
    <dsp:sp modelId="{EBF1D79B-30AD-4B82-9BE6-3EB711B2CF84}">
      <dsp:nvSpPr>
        <dsp:cNvPr id="0" name=""/>
        <dsp:cNvSpPr/>
      </dsp:nvSpPr>
      <dsp:spPr>
        <a:xfrm>
          <a:off x="1883268" y="3151496"/>
          <a:ext cx="874180" cy="874180"/>
        </a:xfrm>
        <a:prstGeom prst="mathPlus">
          <a:avLst/>
        </a:prstGeom>
        <a:gradFill rotWithShape="0">
          <a:gsLst>
            <a:gs pos="0">
              <a:schemeClr val="dk2">
                <a:tint val="60000"/>
                <a:hueOff val="0"/>
                <a:satOff val="0"/>
                <a:lumOff val="0"/>
                <a:alphaOff val="0"/>
                <a:tint val="96000"/>
                <a:lumMod val="104000"/>
              </a:schemeClr>
            </a:gs>
            <a:gs pos="100000">
              <a:schemeClr val="dk2">
                <a:tint val="60000"/>
                <a:hueOff val="0"/>
                <a:satOff val="0"/>
                <a:lumOff val="0"/>
                <a:alphaOff val="0"/>
                <a:shade val="98000"/>
                <a:lumMod val="94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100" kern="1200"/>
        </a:p>
      </dsp:txBody>
      <dsp:txXfrm>
        <a:off x="1999141" y="3485782"/>
        <a:ext cx="642434" cy="205608"/>
      </dsp:txXfrm>
    </dsp:sp>
    <dsp:sp modelId="{0FABB7A6-9800-4A3E-992F-C578B37A96E8}">
      <dsp:nvSpPr>
        <dsp:cNvPr id="0" name=""/>
        <dsp:cNvSpPr/>
      </dsp:nvSpPr>
      <dsp:spPr>
        <a:xfrm>
          <a:off x="2796472" y="2871904"/>
          <a:ext cx="1507208" cy="1507208"/>
        </a:xfrm>
        <a:prstGeom prst="ellipse">
          <a:avLst/>
        </a:prstGeom>
        <a:solidFill>
          <a:srgbClr val="00B05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Was/ were</a:t>
          </a:r>
          <a:endParaRPr lang="ru-RU" sz="1400" kern="1200" dirty="0"/>
        </a:p>
      </dsp:txBody>
      <dsp:txXfrm>
        <a:off x="3017198" y="3092630"/>
        <a:ext cx="1065756" cy="1065756"/>
      </dsp:txXfrm>
    </dsp:sp>
    <dsp:sp modelId="{F600D2EB-B9C6-4115-8ACB-068FA7EBCE4E}">
      <dsp:nvSpPr>
        <dsp:cNvPr id="0" name=""/>
        <dsp:cNvSpPr/>
      </dsp:nvSpPr>
      <dsp:spPr>
        <a:xfrm>
          <a:off x="4280556" y="3255602"/>
          <a:ext cx="874180" cy="874180"/>
        </a:xfrm>
        <a:prstGeom prst="mathPlus">
          <a:avLst/>
        </a:prstGeom>
        <a:gradFill rotWithShape="0">
          <a:gsLst>
            <a:gs pos="0">
              <a:schemeClr val="dk2">
                <a:tint val="60000"/>
                <a:hueOff val="0"/>
                <a:satOff val="0"/>
                <a:lumOff val="0"/>
                <a:alphaOff val="0"/>
                <a:tint val="96000"/>
                <a:lumMod val="104000"/>
              </a:schemeClr>
            </a:gs>
            <a:gs pos="100000">
              <a:schemeClr val="dk2">
                <a:tint val="60000"/>
                <a:hueOff val="0"/>
                <a:satOff val="0"/>
                <a:lumOff val="0"/>
                <a:alphaOff val="0"/>
                <a:shade val="98000"/>
                <a:lumMod val="94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100" kern="1200"/>
        </a:p>
      </dsp:txBody>
      <dsp:txXfrm>
        <a:off x="4396429" y="3589888"/>
        <a:ext cx="642434" cy="205608"/>
      </dsp:txXfrm>
    </dsp:sp>
    <dsp:sp modelId="{A5B860C3-64B8-4EF4-A81C-8B5FCF05B3A9}">
      <dsp:nvSpPr>
        <dsp:cNvPr id="0" name=""/>
        <dsp:cNvSpPr/>
      </dsp:nvSpPr>
      <dsp:spPr>
        <a:xfrm>
          <a:off x="5185416" y="2792263"/>
          <a:ext cx="1507208" cy="1507208"/>
        </a:xfrm>
        <a:prstGeom prst="ellipse">
          <a:avLst/>
        </a:prstGeom>
        <a:solidFill>
          <a:srgbClr val="FF000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V </a:t>
          </a:r>
          <a:r>
            <a:rPr lang="en-US" sz="1400" kern="1200" dirty="0" err="1" smtClean="0"/>
            <a:t>ing</a:t>
          </a:r>
          <a:endParaRPr lang="ru-RU" sz="1400" kern="1200" dirty="0"/>
        </a:p>
      </dsp:txBody>
      <dsp:txXfrm>
        <a:off x="5406142" y="3012989"/>
        <a:ext cx="1065756" cy="1065756"/>
      </dsp:txXfrm>
    </dsp:sp>
    <dsp:sp modelId="{BA0CC7BD-4AB7-471E-9324-2D6989673813}">
      <dsp:nvSpPr>
        <dsp:cNvPr id="0" name=""/>
        <dsp:cNvSpPr/>
      </dsp:nvSpPr>
      <dsp:spPr>
        <a:xfrm>
          <a:off x="6722440" y="3255602"/>
          <a:ext cx="874180" cy="874180"/>
        </a:xfrm>
        <a:prstGeom prst="mathEqual">
          <a:avLst/>
        </a:prstGeom>
        <a:gradFill rotWithShape="0">
          <a:gsLst>
            <a:gs pos="0">
              <a:schemeClr val="dk2">
                <a:tint val="60000"/>
                <a:hueOff val="0"/>
                <a:satOff val="0"/>
                <a:lumOff val="0"/>
                <a:alphaOff val="0"/>
                <a:tint val="96000"/>
                <a:lumMod val="104000"/>
              </a:schemeClr>
            </a:gs>
            <a:gs pos="100000">
              <a:schemeClr val="dk2">
                <a:tint val="60000"/>
                <a:hueOff val="0"/>
                <a:satOff val="0"/>
                <a:lumOff val="0"/>
                <a:alphaOff val="0"/>
                <a:shade val="98000"/>
                <a:lumMod val="94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100" kern="1200"/>
        </a:p>
      </dsp:txBody>
      <dsp:txXfrm>
        <a:off x="6838313" y="3435683"/>
        <a:ext cx="642434" cy="514018"/>
      </dsp:txXfrm>
    </dsp:sp>
    <dsp:sp modelId="{B4638164-EA06-4C1C-A9D7-A4CA42605935}">
      <dsp:nvSpPr>
        <dsp:cNvPr id="0" name=""/>
        <dsp:cNvSpPr/>
      </dsp:nvSpPr>
      <dsp:spPr>
        <a:xfrm>
          <a:off x="7617428" y="2789852"/>
          <a:ext cx="1507208" cy="1507208"/>
        </a:xfrm>
        <a:prstGeom prst="ellipse">
          <a:avLst/>
        </a:prstGeom>
        <a:solidFill>
          <a:srgbClr val="7030A0"/>
        </a:solidFill>
        <a:ln>
          <a:noFill/>
        </a:ln>
        <a:effectLst>
          <a:outerShdw blurRad="38100" dist="25400" dir="5400000" rotWithShape="0">
            <a:srgbClr val="000000">
              <a:alpha val="2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/>
            <a:t>Past Continuous</a:t>
          </a:r>
          <a:endParaRPr lang="ru-RU" sz="1400" kern="1200" dirty="0"/>
        </a:p>
      </dsp:txBody>
      <dsp:txXfrm>
        <a:off x="7838154" y="3010578"/>
        <a:ext cx="1065756" cy="106575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equation1">
  <dgm:title val=""/>
  <dgm:desc val=""/>
  <dgm:catLst>
    <dgm:cat type="relationship" pri="17000"/>
    <dgm:cat type="process" pri="2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choose name="Name0">
      <dgm:if name="Name1" func="var" arg="dir" op="equ" val="norm">
        <dgm:alg type="lin">
          <dgm:param type="fallback" val="2D"/>
        </dgm:alg>
      </dgm:if>
      <dgm:else name="Name2">
        <dgm:alg type="lin">
          <dgm:param type="linDir" val="fromR"/>
          <dgm:param type="fallback" val="2D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fact="0.58"/>
      <dgm:constr type="primFontSz" for="ch" ptType="node" op="equ" val="65"/>
      <dgm:constr type="primFontSz" for="ch" ptType="sibTrans" op="equ" val="55"/>
      <dgm:constr type="primFontSz" for="ch" ptType="sibTrans" refType="primFontSz" refFor="ch" refPtType="node" op="lte" fact="0.8"/>
      <dgm:constr type="w" for="ch" forName="spacerL" refType="w" refFor="ch" refPtType="sibTrans" fact="0.14"/>
      <dgm:constr type="w" for="ch" forName="spacerR" refType="w" refFor="ch" refPtType="sibTrans" fact="0.14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pacerL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sibTrans">
          <dgm:alg type="tx"/>
          <dgm:choose name="Name3">
            <dgm:if name="Name4" axis="followSib" ptType="sibTrans" func="cnt" op="equ" val="0">
              <dgm:shape xmlns:r="http://schemas.openxmlformats.org/officeDocument/2006/relationships" type="mathEqual" r:blip="">
                <dgm:adjLst/>
              </dgm:shape>
            </dgm:if>
            <dgm:else name="Name5">
              <dgm:shape xmlns:r="http://schemas.openxmlformats.org/officeDocument/2006/relationships" type="mathPlus" r:blip="">
                <dgm:adjLst/>
              </dgm:shape>
            </dgm:else>
          </dgm:choose>
          <dgm:presOf axis="self"/>
          <dgm:constrLst>
            <dgm:constr type="h" refType="w"/>
            <dgm:constr type="lMarg"/>
            <dgm:constr type="rMarg"/>
            <dgm:constr type="tMarg"/>
            <dgm:constr type="bMarg"/>
          </dgm:constrLst>
          <dgm:ruleLst>
            <dgm:rule type="primFontSz" val="5" fact="NaN" max="NaN"/>
          </dgm:ruleLst>
        </dgm:layoutNode>
        <dgm:layoutNode name="spacerR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AD9-2DE9-4ECC-BCF9-FA21CD7F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614-FD63-408B-BB23-52E5BC27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A72-1E8B-4549-832F-C0161E48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2F4-25BF-4BDB-A423-6E02FDD9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71A-6FA3-4C3A-B80D-D6EC4155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572-73F3-4897-A6DF-6F725468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E50-79EC-450B-997B-BEFC692A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E39-7D07-4AEA-BA8A-E8B3A18A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20D-7B16-4281-A422-23DFA0AB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909-6D73-4767-9925-7E0C8F2E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C9A-B5A9-4AC1-9178-2BCFC670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B28-BBFC-45E2-9EB6-C04A7CEA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4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dt" idx="1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ftr" idx="2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3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23C776-F10B-4478-83DF-878D17D72E5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899640" y="332640"/>
            <a:ext cx="76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арагандинский Государственный  Медицинский 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547640" y="1052640"/>
            <a:ext cx="619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афедра иностранны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575640" y="1628640"/>
            <a:ext cx="763236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8000" spc="-1" strike="noStrike">
                <a:solidFill>
                  <a:srgbClr val="000000"/>
                </a:solidFill>
                <a:latin typeface="Century Gothic"/>
              </a:rPr>
              <a:t>СРСП</a:t>
            </a: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Bronchiti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Past Continuous</a:t>
            </a: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033520" y="5541120"/>
            <a:ext cx="4140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полнила: Зудова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2067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роверила: Дашкина Т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"/>
          <p:cNvPicPr/>
          <p:nvPr/>
        </p:nvPicPr>
        <p:blipFill>
          <a:blip r:embed="rId1"/>
          <a:stretch/>
        </p:blipFill>
        <p:spPr>
          <a:xfrm>
            <a:off x="6876360" y="908640"/>
            <a:ext cx="2054160" cy="134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433160" y="352440"/>
            <a:ext cx="604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cute bronchitis is inflammation of the bronchial tu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humanillnesses.com/photos/bronchitis-2430.jpg"/>
          <p:cNvPicPr/>
          <p:nvPr/>
        </p:nvPicPr>
        <p:blipFill>
          <a:blip r:embed="rId1"/>
          <a:stretch/>
        </p:blipFill>
        <p:spPr>
          <a:xfrm>
            <a:off x="2938320" y="1340640"/>
            <a:ext cx="6113520" cy="4584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496440" y="1586520"/>
            <a:ext cx="234648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most common cause of acutebronchitisis a viral or bacterial infection, but other causes may include irritants like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obacco smoke, air pollution, or chemic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755640" y="1484640"/>
            <a:ext cx="6264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cou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watery ey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chill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head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sore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watery eye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mild head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ch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body 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1259640" y="193680"/>
            <a:ext cx="6303600" cy="7495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2"/>
          <a:stretch/>
        </p:blipFill>
        <p:spPr>
          <a:xfrm>
            <a:off x="3420000" y="933480"/>
            <a:ext cx="5623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2"/>
          <p:cNvSpPr/>
          <p:nvPr/>
        </p:nvSpPr>
        <p:spPr>
          <a:xfrm>
            <a:off x="1423440" y="548640"/>
            <a:ext cx="59630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dfbfb"/>
                </a:solidFill>
                <a:latin typeface="Century Gothic"/>
              </a:rPr>
              <a:t>Past Continuou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ww.english365.ru/wp-content/uploads/2016/01/zz-z-past_continuous.gif"/>
          <p:cNvPicPr/>
          <p:nvPr/>
        </p:nvPicPr>
        <p:blipFill>
          <a:blip r:embed="rId1"/>
          <a:stretch/>
        </p:blipFill>
        <p:spPr>
          <a:xfrm>
            <a:off x="2339640" y="3181680"/>
            <a:ext cx="5138280" cy="3664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467640" y="1472040"/>
            <a:ext cx="7992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Used to describe actions still in progress ( sometimes interrupted by another event), repeated  actions (often annoying habits) in the past, used for background descri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765396163"/>
              </p:ext>
            </p:extLst>
          </p:nvPr>
        </p:nvGraphicFramePr>
        <p:xfrm>
          <a:off x="0" y="-1539720"/>
          <a:ext cx="9396000" cy="655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83" name="TextBox 2"/>
          <p:cNvSpPr/>
          <p:nvPr/>
        </p:nvSpPr>
        <p:spPr>
          <a:xfrm>
            <a:off x="971640" y="2997000"/>
            <a:ext cx="6768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ed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10 o`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at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wa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ll da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who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5 till 6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Таблица 4"/>
          <p:cNvGraphicFramePr/>
          <p:nvPr/>
        </p:nvGraphicFramePr>
        <p:xfrm>
          <a:off x="5148000" y="3429000"/>
          <a:ext cx="3732120" cy="1371600"/>
        </p:xfrm>
        <a:graphic>
          <a:graphicData uri="http://schemas.openxmlformats.org/drawingml/2006/table">
            <a:tbl>
              <a:tblPr/>
              <a:tblGrid>
                <a:gridCol w="373248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I, She, He, It – 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We, You, They -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65a48a"/>
                      </a:solidFill>
                    </a:lnL>
                    <a:lnR w="9360">
                      <a:solidFill>
                        <a:srgbClr val="65a48a"/>
                      </a:solidFill>
                    </a:lnR>
                    <a:lnT w="9360">
                      <a:solidFill>
                        <a:srgbClr val="65a48a"/>
                      </a:solidFill>
                    </a:lnT>
                    <a:lnB w="9360">
                      <a:solidFill>
                        <a:srgbClr val="65a48a"/>
                      </a:solidFill>
                    </a:lnB>
                    <a:solidFill>
                      <a:srgbClr val="b2cfc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english-lingvo.weebly.com/uploads/1/6/9/9/16999286/2007_orig.png?1359398551"/>
          <p:cNvPicPr/>
          <p:nvPr/>
        </p:nvPicPr>
        <p:blipFill>
          <a:blip r:embed="rId1"/>
          <a:stretch/>
        </p:blipFill>
        <p:spPr>
          <a:xfrm>
            <a:off x="211320" y="1556640"/>
            <a:ext cx="8939880" cy="32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465840" y="1268640"/>
            <a:ext cx="8496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tient Smirnov 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call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physician from the local polyclinic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at 5 o`clock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465840" y="2853000"/>
            <a:ext cx="7992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doctor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examin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tient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from 5 till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523080" y="4581000"/>
            <a:ext cx="8224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tient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experienc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in in the chest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day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91760" y="1412640"/>
            <a:ext cx="864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atient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recommending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 bed regimen and a light di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504360" y="3069000"/>
            <a:ext cx="864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doctor 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was  administer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atient two tablets of tetracycl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132</TotalTime>
  <Application>LibreOffice/7.4.7.2$Linux_X86_64 LibreOffice_project/40$Build-2</Application>
  <AppVersion>15.0000</AppVersion>
  <Words>192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17:18:30Z</dcterms:created>
  <dc:creator>Женя</dc:creator>
  <dc:description/>
  <dc:language>en-US</dc:language>
  <cp:lastModifiedBy>Ксюша</cp:lastModifiedBy>
  <dcterms:modified xsi:type="dcterms:W3CDTF">2016-03-02T17:55:27Z</dcterms:modified>
  <cp:revision>1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