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637-02AB-40F5-9430-53AD39C1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7A5-AD41-41D3-B394-BCB52857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107-C58F-4DEC-90BB-ED10A6D5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5E4-6E61-40C7-97D1-414F9A13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FB3-9717-4F56-83FB-A6F678C5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49F-7106-4D54-8164-8FE5E410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CF0-7335-4C08-AE34-E3F129F2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47E-A17F-4FA6-ABC4-54D5C9CB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416-15AF-48A3-BFF6-9228D2D4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A97-28F3-4592-989E-18F9637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4440-DD49-469B-A3E7-E644180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D22-D0A3-47F0-8694-F6320BB2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F48D-07AD-43BB-943A-7FA897B19BB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00"/>
                </a:solidFill>
                <a:latin typeface="Arial"/>
              </a:rPr>
              <a:t>FUTURE FORMS IN ENGL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The Future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orm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hall/will h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+ past parti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omething will have be done, completed, achieved by a certain time in the fu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y next Christmas we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l have been here for eight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he builders say they´ll have finished the roof by Tues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the Future 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orm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hall/ wi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+ be + …ing (present partici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nts in progress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time tomorrow I´ll be lying on the b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Good luck with the exam. We´ll be thinking of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cided, fixed, futur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ou will be hearing from my sollic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dicting the presen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polite enquiries about people´s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on´t phone now- they´ll be having lunch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Will you be staying in this even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00"/>
                </a:solidFill>
                <a:latin typeface="Arial"/>
              </a:rPr>
              <a:t>Be about</a:t>
            </a:r>
            <a:r>
              <a:rPr b="0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+ infinitive, be+infiniti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abou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+ infin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very close future event, going to very soon, just going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n´t go out- we´re about to have lu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 was about to go to bed when the telephone r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formal AmE-not about to –unwilling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´m not about to pay 100 dollars for that d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e+infinitiv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to talk about plans, arrangements and sche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President is to visit Paris in Janu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3200" spc="-1" strike="noStrike">
                <a:solidFill>
                  <a:srgbClr val="990000"/>
                </a:solidFill>
                <a:latin typeface="Arial"/>
                <a:ea typeface="Arial"/>
              </a:rPr>
              <a:t>BE</a:t>
            </a:r>
            <a:r>
              <a:rPr b="1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+infinitiv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s, arrangement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sident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to visi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igeria next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'Fate'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thought we were saying goodbye for ever. But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 were to mee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gain, many ye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r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ater, under very strange circum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-condi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e to ge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re by lunchtime we had better hur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You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re to d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homework before you watch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+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sive infinit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ices, instructions)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is cover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 to be rem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Future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in the pa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imes when we are talking about the past, we want to talk about somethi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future at that time-which had not yet happened. To express this idea, we use the structures that are normally used about the future, but we make the verb form past.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s going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as going 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or instead of th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esent progressiv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past progress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instead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e 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 didn't have much time to talk to her because I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as leav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Germany in two ho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600" spc="-1" strike="noStrike">
                <a:solidFill>
                  <a:srgbClr val="990000"/>
                </a:solidFill>
                <a:latin typeface="Arial"/>
                <a:ea typeface="Arial"/>
              </a:rPr>
              <a:t>Subordinate clau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 tenses are often used instead of will+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initive to refer to the future in subordinate clause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ter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what, where, when, until, if, than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nk of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´m lying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beach next week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ave a good tim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 win or l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will lend it to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n condition that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 bring it bac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morrow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ill tell you 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at I find o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one m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hen you arr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ur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you come back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Subordinate clau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0000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im mám uvař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kneš mi svůj náz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ez to. Bude ti špat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tos nebudu oslavovat narozen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udete si na to moct najít č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zjistí to, pokud jim to neřekn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átkem příštího týdne má královna Alžběta letět na Nový Zé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Arial"/>
              </a:rPr>
              <a:t>FUTUR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several ways to use verb form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 future or talk about future action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lish. As it is a rather complicated are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mmar, the differences betwee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nings and uses of the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are not easy to analyse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clearl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Arial"/>
              </a:rPr>
              <a:t>FUTURE 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all/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uture perfect, the Future progre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b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+ infinitive, be+infi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Future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Subordinate cl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orms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resent progressive, be go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se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uture actions that have some present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e say that something in the future is happening or going to happen, it is usually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anned or dec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you doing this evening? I´m washing my hair. Look at the sky. It´s going to r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progre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rrangements,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´m seeing Harry on Satu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 going t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+ infi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ntions, predictions on the basis of present evidence, events outside people´s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We´re going to buy a new car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ok out. They´re going to cra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Present tens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tabl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hat time does the bus arrive in Seattle? Are you on duty next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ordinate clauses (when, where, until, i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e´ll pay us back when she gets a j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Shall/wil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dictions of future ev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morrow will be warm. I shall be rich one day.In another thirteen minutes the alarm will go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ditional 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ook out- you will fall (if you are not careful- threa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ffers, suggestions, requests, promises, orders, 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ill you make us some coffe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0000"/>
                </a:solidFill>
                <a:latin typeface="Arial"/>
              </a:rPr>
              <a:t>Shall/wil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ommon in off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mises, orders and similar kind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interpersonal language 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gener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e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willingness, wish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tro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intentions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expresse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obliga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00"/>
                </a:solidFill>
                <a:latin typeface="Arial"/>
              </a:rPr>
              <a:t>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normally used in Americ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all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/ w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especially in British English for asking for instructions, to offer services and make sugg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ll I carry your bag?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et´s go and see Lucy, shall w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ntracts and other legal document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hal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s used with third-person subjects to refer to obligations and du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e hirer shall be responsible for maintenance of the veh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ka</dc:creator>
  <dc:description/>
  <dc:language>en-US</dc:language>
  <cp:lastModifiedBy>Lenka</cp:lastModifiedBy>
  <cp:lastPrinted>2017-09-13T07:43:36Z</cp:lastPrinted>
  <dcterms:modified xsi:type="dcterms:W3CDTF">2017-09-13T08:37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