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89C-A6FB-4A46-9B1A-D07B3A84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C19-565A-4F91-8BF3-AD51F81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71F-A4CB-4D7B-948C-1832804B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C6E-770D-4B8C-93D6-CF067295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C5C-5D0C-4548-9563-E39E185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136-C501-4A42-98C5-857B5FF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50D-08B0-4C9F-96DB-B55ACFE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FEF-6308-4A91-A274-6A11CA7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D5F-6D62-45AD-A1FF-255610F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B48-9F9F-4BBA-8C2C-150F14A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DEB-A14D-426F-96F9-B70F0B3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108-2506-470B-813E-75665FB2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26A-895D-4EE7-9045-4771BBE3D1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FUTURE FORMS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all/will h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mething will have be done, completed, achieved by a certain time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y next Christmas we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l have been here for eigh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builders say they´ll have finished the roof by Tu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all/ 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+ be + …ing (present parti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nts in progres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ime tomorrow I´ll be lying on the 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od luck with the exam. We´ll be thinking of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cided, fixed, futur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will be hearing from my sollic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dicting the presen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polite enquiries about people´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n´t phone now- they´ll be having lunch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Will you be staying in this eve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Be about</a:t>
            </a:r>
            <a:r>
              <a:rPr b="0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+ infinitive, be+infiniti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very close future event, going to very soon, just go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n´t go out- we´re about to have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was about to go to bed when the telephone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formal AmE-not about to –unwill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´m not about to pay 100 dollars for that 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+infin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to talk about plans, arrangements and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President is to visit Paris in Jan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3200" spc="-1" strike="noStrike">
                <a:solidFill>
                  <a:srgbClr val="990000"/>
                </a:solidFill>
                <a:latin typeface="Arial"/>
                <a:ea typeface="Arial"/>
              </a:rPr>
              <a:t>BE</a:t>
            </a:r>
            <a:r>
              <a:rPr b="1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+infiniti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s, arrangemen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siden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to vis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igeria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'Fate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thought we were saying goodbye for ever. Bu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were to me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gain, many ye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r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ater, under very strange circum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-condi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g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re by lunchtime we had better hu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You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homework before you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+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ve infinit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ices, instructions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cover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 to be rem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Futur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in the pa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hen we are talking about the past, we want to talk about someth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future at that time-which had not yet happened. To express this idea, we use the structures that are normally used about the future, but we make the verb form past.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going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 going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or instead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sent progress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past prog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didn't have much time to talk to her because I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 leav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Germany in two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Subordinate clau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tenses are often used instead of will+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tive to refer to the future in subordinate claus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te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at, where, when, until, if, tha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´m ly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beach next week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ve a good tim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 win or l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ll lend it to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n condition that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bring it bac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orrow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tell you 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 I find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one m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 you arr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come back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im mám uvař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neš mi svůj náz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z to. Bude ti špat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os nebudu oslavovat narozen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te si na to moct najít č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zjistí to, pokud jim to neřekn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átkem příštího týdne má královna Alžběta letět na Nový Zé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several ways to use verb form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 future or talk about future action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. As it is a rather complicated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mmar, the differences betwe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s and uses of the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are not easy to analyse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clear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ll/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uture perfect, the Future prog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infinitive, be+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tu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m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esent progressive, be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uture actions that have some presen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say that something in the future is happening or going to happen, it is usual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anned or dec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you doing this evening? I´m washing my hair. Look at the sky. It´s going to r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progre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rrangements,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´m seeing Harry on Satu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ntions, predictions on the basis of present evidence, events outside people´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´re going to buy a new car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ok out. They´re going to c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tabl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hat time does the bus arrive in Seattle? Are you on duty next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ordinate clauses (when, where, until, i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e´ll pay us back when she gets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future ev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morrow will be warm. I shall be rich one day.In another thirteen minutes the alarm will go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itional 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ook out- you will fall (if you are not careful- threa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rs, suggestions, requests, promises, orders,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ill you make us some coffe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ommon in off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mises, orders and similar kind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rpersonal language 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ene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ingness, wish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ntion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blig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00"/>
                </a:solidFill>
                <a:latin typeface="Arial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normally used in Americ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ll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/ w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especially in British English for asking for instructions, to offer services and make 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 I carry your bag?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et´s go and see Lucy, shall w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ntracts and other legal document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s used with third-person subjects to refer to obligations and du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hirer shall be responsible for maintenance of the veh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ka</dc:creator>
  <dc:description/>
  <dc:language>en-US</dc:language>
  <cp:lastModifiedBy>Lenka</cp:lastModifiedBy>
  <cp:lastPrinted>2017-09-13T07:43:36Z</cp:lastPrinted>
  <dcterms:modified xsi:type="dcterms:W3CDTF">2017-09-13T08:37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