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F4D-0713-49C2-B04B-9F72764C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4E5-E247-4CC3-A00C-B5B52162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402B-25A8-47AB-ACA4-F9A05DD7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60B-2A6B-48AB-8AF4-2F70DD1B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0435-37D7-4E68-AE20-0DC20F5F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719C-4218-4B41-9026-BCA1E85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F342-7B6B-4846-A672-73FE21AC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C772-4F83-4A3E-A022-D6653A54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2884-E25C-4E43-8603-E4A27229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2C00-B3C8-4C2F-B5AC-C110CC39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EE66-81FB-49AB-BE52-330CC1B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162-AC4B-401F-AC87-9A6586D9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2D32-E39F-473E-AB91-80DC3BC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CB1-FABD-4053-8620-0521F85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4AD-569D-483B-B0CB-492D9F76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DFB0-90BF-48C3-8F2D-8C7BA290D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0852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93280" y="190512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92376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0852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893280" y="4094280"/>
            <a:ext cx="284220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021-0C7B-460F-9B93-A901D531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977-3A4A-4DB2-813D-FBBD9A90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4BE-809D-4129-8F78-D41CCCF8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DEA-F653-4715-A9AE-D232EF58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04720" y="244440"/>
            <a:ext cx="924372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596E-116A-437F-A7E0-E2D6725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7D47-A00D-43D1-879E-780B4417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47160" y="409428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85A-12B2-4615-805B-9441ECF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47160" y="1905120"/>
            <a:ext cx="43077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23760" y="4094280"/>
            <a:ext cx="8827560" cy="19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E3C-350B-4882-8F39-36B5B12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1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" name="Group 2"/>
          <p:cNvGrpSpPr/>
          <p:nvPr/>
        </p:nvGrpSpPr>
        <p:grpSpPr>
          <a:xfrm>
            <a:off x="352440" y="1752480"/>
            <a:ext cx="9727920" cy="5128920"/>
            <a:chOff x="352440" y="1752480"/>
            <a:chExt cx="9727920" cy="5128920"/>
          </a:xfrm>
        </p:grpSpPr>
        <p:sp>
          <p:nvSpPr>
            <p:cNvPr id="10" name="Freeform 3"/>
            <p:cNvSpPr/>
            <p:nvPr/>
          </p:nvSpPr>
          <p:spPr>
            <a:xfrm>
              <a:off x="368280" y="1752480"/>
              <a:ext cx="9712080" cy="510516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105160"/>
                <a:gd name="textAreaBottom" fmla="*/ 5105520 h 510516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4"/>
            <p:cNvSpPr/>
            <p:nvPr/>
          </p:nvSpPr>
          <p:spPr>
            <a:xfrm>
              <a:off x="924840" y="3809880"/>
              <a:ext cx="9155520" cy="30477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3047760"/>
                <a:gd name="textAreaBottom" fmla="*/ 3048120 h 30477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5"/>
            <p:cNvSpPr/>
            <p:nvPr/>
          </p:nvSpPr>
          <p:spPr>
            <a:xfrm>
              <a:off x="352440" y="3773520"/>
              <a:ext cx="6045840" cy="45720"/>
            </a:xfrm>
            <a:custGeom>
              <a:avLst/>
              <a:gdLst>
                <a:gd name="textAreaLeft" fmla="*/ 0 w 6045840"/>
                <a:gd name="textAreaRight" fmla="*/ 6046200 w 6045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6"/>
            <p:cNvSpPr/>
            <p:nvPr/>
          </p:nvSpPr>
          <p:spPr>
            <a:xfrm>
              <a:off x="924840" y="1752480"/>
              <a:ext cx="8564040" cy="45720"/>
            </a:xfrm>
            <a:custGeom>
              <a:avLst/>
              <a:gdLst>
                <a:gd name="textAreaLeft" fmla="*/ 0 w 8564040"/>
                <a:gd name="textAreaRight" fmla="*/ 8564400 w 8564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7"/>
            <p:cNvSpPr/>
            <p:nvPr/>
          </p:nvSpPr>
          <p:spPr>
            <a:xfrm>
              <a:off x="352440" y="3773520"/>
              <a:ext cx="52200" cy="31078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07880"/>
                <a:gd name="textAreaBottom" fmla="*/ 3108240 h 31078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8"/>
            <p:cNvSpPr/>
            <p:nvPr/>
          </p:nvSpPr>
          <p:spPr>
            <a:xfrm>
              <a:off x="924840" y="1752480"/>
              <a:ext cx="50400" cy="511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119200"/>
                <a:gd name="textAreaBottom" fmla="*/ 5119560 h 5119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2240" y="1905120"/>
            <a:ext cx="8567280" cy="173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109224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82428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03923C-2D9F-44B6-8E69-8EEAF5D405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504000" y="1604520"/>
            <a:ext cx="9072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b56d"/>
            </a:gs>
            <a:gs pos="100000">
              <a:srgbClr val="5a9a5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52440" y="1828800"/>
            <a:ext cx="9727920" cy="5028840"/>
            <a:chOff x="352440" y="1828800"/>
            <a:chExt cx="9727920" cy="5028840"/>
          </a:xfrm>
        </p:grpSpPr>
        <p:sp>
          <p:nvSpPr>
            <p:cNvPr id="58" name="Freeform 3"/>
            <p:cNvSpPr/>
            <p:nvPr/>
          </p:nvSpPr>
          <p:spPr>
            <a:xfrm>
              <a:off x="924840" y="4618080"/>
              <a:ext cx="9155520" cy="223956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39560"/>
                <a:gd name="textAreaBottom" fmla="*/ 2239920 h 2239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368280" y="1828800"/>
              <a:ext cx="9712080" cy="5028840"/>
            </a:xfrm>
            <a:custGeom>
              <a:avLst/>
              <a:gdLst>
                <a:gd name="textAreaLeft" fmla="*/ 0 w 9712080"/>
                <a:gd name="textAreaRight" fmla="*/ 9712440 w 9712080"/>
                <a:gd name="textAreaTop" fmla="*/ 0 h 5028840"/>
                <a:gd name="textAreaBottom" fmla="*/ 5029200 h 502884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chemeClr val="bg2">
                <a:alpha val="3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924840" y="4654440"/>
              <a:ext cx="9155520" cy="2203200"/>
            </a:xfrm>
            <a:custGeom>
              <a:avLst/>
              <a:gdLst>
                <a:gd name="textAreaLeft" fmla="*/ 0 w 9155520"/>
                <a:gd name="textAreaRight" fmla="*/ 9155880 w 9155520"/>
                <a:gd name="textAreaTop" fmla="*/ 0 h 2203200"/>
                <a:gd name="textAreaBottom" fmla="*/ 2203560 h 2203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924840" y="1828800"/>
              <a:ext cx="8061840" cy="45720"/>
            </a:xfrm>
            <a:custGeom>
              <a:avLst/>
              <a:gdLst>
                <a:gd name="textAreaLeft" fmla="*/ 0 w 8061840"/>
                <a:gd name="textAreaRight" fmla="*/ 8062200 w 8061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924840" y="1828800"/>
              <a:ext cx="50400" cy="2833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833200"/>
                <a:gd name="textAreaBottom" fmla="*/ 2833560 h 283320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923040" y="4610160"/>
              <a:ext cx="50400" cy="2247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352440" y="4610160"/>
              <a:ext cx="5037840" cy="45720"/>
            </a:xfrm>
            <a:custGeom>
              <a:avLst/>
              <a:gdLst>
                <a:gd name="textAreaLeft" fmla="*/ 0 w 5037840"/>
                <a:gd name="textAreaRight" fmla="*/ 5038200 w 503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925a">
                    <a:alpha val="0"/>
                  </a:srgbClr>
                </a:gs>
                <a:gs pos="100000">
                  <a:srgbClr val="46774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352440" y="4610160"/>
              <a:ext cx="52200" cy="22474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a9f6e"/>
                </a:gs>
                <a:gs pos="100000">
                  <a:srgbClr val="56925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ffcc"/>
                </a:solidFill>
                <a:latin typeface="Arial Black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5a9a5f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23760" y="6245280"/>
            <a:ext cx="209664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780000" y="6245280"/>
            <a:ext cx="3192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648560" y="6245280"/>
            <a:ext cx="209520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981924-BFC5-4391-BE75-6C4BF61B13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907920"/>
            <a:ext cx="928656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300" spc="-1" strike="noStrike">
                <a:solidFill>
                  <a:srgbClr val="ff0000"/>
                </a:solidFill>
                <a:latin typeface="Arial"/>
              </a:rPr>
              <a:t>Признаки, цели и задачи прокурорского надзора в РФ</a:t>
            </a:r>
            <a:endParaRPr b="0" lang="ru-RU" sz="6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264360" y="4724280"/>
            <a:ext cx="3816000" cy="106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ртоян Ка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а 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Содержание концепции прокурорского надзора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эффективности сложившейся системы принципов, структуры и полномочий органов прокуратуры на современном этапе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есто органов прокуратуры в системе государственных органов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ответствие действующего законодательства требованиям обеспечения единства, централизации и независимости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епень реализации правовой реформы в Российской Федерации применительно к прокурорскому надзору и другим направлениям деятельности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кретные меры законодательного и организационного характера по преобразованию организации и деятельности прокуратуры 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614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ffffcc"/>
                </a:solidFill>
                <a:latin typeface="Times New Roman"/>
              </a:rPr>
              <a:t>Отличие прокуратуры от других органов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) она не имеет ни законотворческих, ни административных, ни судебных функций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) не вмешивается в оперативно-хозяйственную и организационную деятельность, которую она наблюдает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) не подвергает деятельность и акты органов управления оценке с точки зрения их практичности и целесообразности. Это не в компетенции прокуратуры, она лишь осуществляет надзор за тем, чтобы государственные органы и другие организации не допускали нарушения законов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атура Российской Федерации представляет собой единую федеральную централизованную систему органов, подчиненных Генеральному прокурору РФ и осуществляющих от имени Российской Федерации надзор за соблюдением Конституции Российской федерации и исполнением законов, действующих на территории Российской Федераци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24000" y="620640"/>
            <a:ext cx="77767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курорский надзор(признак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31640" y="1773360"/>
            <a:ext cx="9648360" cy="4391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Особая самостоятельная государствен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Носит единый харак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Осуществляется исключительно органами проку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Осуществляется только от имени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Имеет специфические содержание, цели и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Реализуется в форме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431640" y="549360"/>
            <a:ext cx="8856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Цели прокурорского над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60360" y="1557360"/>
            <a:ext cx="5543280" cy="475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прокурорского надзора – результат, на достижение которого направлена вся деятельность прокуратуры в целом и, в частности, ее важнейшая функция – прокурорский надзор. Цели прокурорского надзора определяются статусом прокуратуры, ее местом и ролью в государстве. В конечном счете они определяются Конституцией РФ, Законом о прокуратуре, другим законодательством, регламентирующим деятельность прокурорских органов. Наиболее четко цели прокуратуры определены в ст. 1 Закона о прокуратуре. Пункт 2 этой статьи определяет, что целями прокуратуры являются: 1) обеспечение верховенства закона; 2) обеспечение единства и укрепления законности; 3) обеспечение защиты прав и свобод человека и гражданина: 4) обеспечение защиты охраняемых законом интересов общества 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images"/>
          <p:cNvPicPr/>
          <p:nvPr/>
        </p:nvPicPr>
        <p:blipFill>
          <a:blip r:embed="rId1"/>
          <a:stretch/>
        </p:blipFill>
        <p:spPr>
          <a:xfrm>
            <a:off x="6192720" y="1916280"/>
            <a:ext cx="3384360" cy="38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Сущность прокурорского надзора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о самостоятельный, специфический вид государственной деятельности, которая является исключительной компетенцией органов прокуратуры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существляется от имени государства - Российской Федерации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заключается в проверке правильности соблюдения и исполнения законов, действующих на территории РФ;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561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 обеспечивает выявление, пресечение и предупреждение правонарушений, восстановление нарушенной законности, привлечение виновных к ответственности.</a:t>
            </a: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064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Цели и задачи прокурорского надзора</a:t>
            </a:r>
            <a:endParaRPr b="0" lang="ru-RU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197000"/>
            <a:ext cx="9072360" cy="4928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прокурорского надзора определяются статусом, местом и ролью прокуратуры в государственном устройстве и понимаются как то, к чему надо стремиться, что надо осуществлять, как результат, на достижение которого направлена деятельность органов прокуратуры, регламентируемая законодательством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: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курорский надзор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головное преследование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ординация деятельности правоохранительных органов по борьбе с преступностью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рассмотрении дел судами;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79"/>
              </a:spcBef>
              <a:buClr>
                <a:srgbClr val="99ff33"/>
              </a:buClr>
              <a:buFont typeface="Wingdings" charset="2"/>
              <a:buAutoNum type="arabicParenR"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астие в правотворческой деятельности.</a:t>
            </a: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143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Цели прокурорского надзора закреплены в Законе «О прокуратуре РФ»</a:t>
            </a:r>
            <a:endParaRPr b="0" lang="ru-R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23760" y="1905120"/>
            <a:ext cx="8827560" cy="4190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верховенства зако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единства и укрепления законности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защиты прав и свобод человека и гражданина;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79"/>
              </a:spcBef>
              <a:buClr>
                <a:srgbClr val="99ff33"/>
              </a:buClr>
              <a:buFont typeface="Wingdings" charset="2"/>
              <a:buChar char=""/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беспечение охраняемых законом интересов общества и государства.</a:t>
            </a:r>
            <a:endParaRPr b="0" lang="ru-RU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93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fffcc"/>
                </a:solidFill>
                <a:latin typeface="Times New Roman"/>
              </a:rPr>
              <a:t>Задачи прокурорского надзора</a:t>
            </a:r>
            <a:endParaRPr b="0" lang="ru-RU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125360"/>
            <a:ext cx="5471640" cy="5182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- это то, что требует исполнения, разрешения, посредством, чего достигаются цел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36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дачи прокуратуры сформулированы в Конституции РФ, в Законе «О прокуратуре РФ», иных нормативных актах РФ. Условно их можно разделить на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общие, специальны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частные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Общи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решаются в процессе осуществления органами прокуратуры всех направлений деятельности. Общей задачей прокурорского надзора является укрепление законности и охрана от посягательств как прав и интересов граждан, предприятий и организаций независимо от форм собственности, так и общественного и государственного строя РФ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держание общей задачи определяет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специальные задач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окурорского надзора, стоящие перед конкретным направлением деятельности прокуратуры. Содержание специальных задач определяется компетенцией прокурора по их реализации.</a:t>
            </a: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Без названия"/>
          <p:cNvPicPr/>
          <p:nvPr/>
        </p:nvPicPr>
        <p:blipFill>
          <a:blip r:embed="rId1"/>
          <a:stretch/>
        </p:blipFill>
        <p:spPr>
          <a:xfrm>
            <a:off x="6408720" y="1844640"/>
            <a:ext cx="2741400" cy="30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216000" y="585720"/>
            <a:ext cx="8640360" cy="565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качестве примера специальных задач можно назвать следу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прав и свобод человека и гражданина в процессе осуществления оперативно-розыскной деятельности, дознания и предварительного след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соблюдения установленного порядка разрешения заявлений и сообщений о совершенных и готовящихся преступлениях, выполнения оперативно-розыскных мероприят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еспечение законности решений, принимаемых органами, осуществляющими оперативно-розыскную деятельность, дознание, предварительное следствие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ие и специальные задачи прокурорского надзора разрешаются с помощью правовых средств, в ходе применения которых прокурор определяет частные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Частной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называетс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задач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временного характера, которую прокурорский надзор решает на данном этапе. Например, истребование правовых актов для проверки их соответствия закону; получение объяснений по поводу конкретного нарушения закона; привлечение специалиста для выяснения возникшего вопроса и т.д. В любом случае перед прокуратурой поставлена задача основополагающего характера - осуществление надзора за точным и единообразным исполнением законов, действующих на территории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44440"/>
            <a:ext cx="9243720" cy="70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Функции прокуратуры</a:t>
            </a: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720" y="907920"/>
            <a:ext cx="9072360" cy="521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атуры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— это основные направления ее деятельности, отражающие ее сущность, и направленные на осуществление стоящих перед ней целей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Функции прокурорского надзора: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надзор за исполнением законов федеральными министерствами, государственными комитетами,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органами управления и руководителями коммерческих и некоммерческих организаций, а также за соответствием законам издаваемых ими правовых актов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надзор за соблюдением прав и свобод человека и гражданина федеральными министерствами, государственными комитетами службами и иными федеральными органами исполнительной власти, представительными (законодательными) и исполнительными органами субъектов Российской Федерации, органами местного самоуправления, органами военного управления, органами контроля, их должностными лицами, а также органами управления и руководителями коммерческих и некоммерческих организаций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надзор за исполнением законов органами, осуществляющими оперативно-розыскную деятельность, дознание и предварительное следствие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надзор за исполнением законов судебными приставам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надзор за исполнением законов администрациями органов и учреждений, исполняющих наказание и применяющих назначаемые судом меры принудительного характера, администрациями мест содержания задержанных и заключенных под стражу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) уголовное преследование в соответствии с полномочиями, установленными уголовно-процессуальным законодательством Российской Федерации,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) координацию деятельности правоохранительных органов по борьбе с преступностью</a:t>
            </a:r>
            <a:endParaRPr b="0" lang="ru-RU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ава">
  <a:themeElements>
    <a:clrScheme name="Трава 3">
      <a:dk1>
        <a:srgbClr val="56925a"/>
      </a:dk1>
      <a:lt1>
        <a:srgbClr val="ffffff"/>
      </a:lt1>
      <a:dk2>
        <a:srgbClr val="6fb56d"/>
      </a:dk2>
      <a:lt2>
        <a:srgbClr val="ffffcc"/>
      </a:lt2>
      <a:accent1>
        <a:srgbClr val="2b877c"/>
      </a:accent1>
      <a:accent2>
        <a:srgbClr val="5a9a5f"/>
      </a:accent2>
      <a:accent3>
        <a:srgbClr val="bbd7ba"/>
      </a:accent3>
      <a:accent4>
        <a:srgbClr val="dadada"/>
      </a:accent4>
      <a:accent5>
        <a:srgbClr val="acc3bf"/>
      </a:accent5>
      <a:accent6>
        <a:srgbClr val="518b55"/>
      </a:accent6>
      <a:hlink>
        <a:srgbClr val="99ff33"/>
      </a:hlink>
      <a:folHlink>
        <a:srgbClr val="ddffb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Glass Layers</Template>
  <TotalTime>950</TotalTime>
  <Application>LibreOffice/7.4.7.2$Linux_X86_64 LibreOffice_project/40$Build-2</Application>
  <AppVersion>15.0000</AppVersion>
  <Words>868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8:56:18Z</dcterms:created>
  <dc:creator>www.MRMARKER.ru</dc:creator>
  <dc:description/>
  <dc:language>en-US</dc:language>
  <cp:lastModifiedBy>Гость</cp:lastModifiedBy>
  <dcterms:modified xsi:type="dcterms:W3CDTF">2016-12-18T11:16:05Z</dcterms:modified>
  <cp:revision>56</cp:revision>
  <dc:subject/>
  <dc:title>Курс лекций по дисциплине «Прокурорский надзор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1</vt:r8>
  </property>
</Properties>
</file>