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63A-E9D4-478E-B4C4-DB4ABA65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A5B-EEC8-45E3-A579-670C5C2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052-F75E-4A27-BFC3-A0D46C6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F32-E0B4-4089-AFE2-DB68E123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9E7-0D1F-47A4-8BEC-D6FD94FC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ACF3-19BD-4469-884F-EBDCD8D8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A58-14CC-4745-8FFC-3A7F319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C6A7-67F1-4637-BF3F-D1A972B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A1A7-D030-49DC-A1E0-5804883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F9CE-C54F-427C-8CF1-7609CDD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826-3387-452A-AC77-2059D6E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480-2FF4-44C9-A90C-69FABDC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5FA-992D-4CC7-AEDA-C621221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291B-9714-4279-B493-85F2D49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0797-B27B-4892-A489-2826833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8E7-7FA7-401E-9DD9-AB50653C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8BF5-5E44-4E98-AE3C-41C570F9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08D-4E4C-4CBF-942A-16C71364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451-8F3D-4CB3-AE7A-A4CE222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59D-7F4D-432C-B4E0-3389AE2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9CB-9C7F-4687-9A00-5DF20DE7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C57-C70B-43CE-A984-B069ED3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727-4B2D-4208-9FAF-7C08062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D44-78CA-4DEF-91BA-A0AED11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1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Group 2"/>
          <p:cNvGrpSpPr/>
          <p:nvPr/>
        </p:nvGrpSpPr>
        <p:grpSpPr>
          <a:xfrm>
            <a:off x="352440" y="1752480"/>
            <a:ext cx="9727920" cy="5128920"/>
            <a:chOff x="352440" y="1752480"/>
            <a:chExt cx="9727920" cy="5128920"/>
          </a:xfrm>
        </p:grpSpPr>
        <p:sp>
          <p:nvSpPr>
            <p:cNvPr id="10" name="Freeform 3"/>
            <p:cNvSpPr/>
            <p:nvPr/>
          </p:nvSpPr>
          <p:spPr>
            <a:xfrm>
              <a:off x="368280" y="1752480"/>
              <a:ext cx="9712080" cy="510516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105160"/>
                <a:gd name="textAreaBottom" fmla="*/ 5105520 h 510516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4"/>
            <p:cNvSpPr/>
            <p:nvPr/>
          </p:nvSpPr>
          <p:spPr>
            <a:xfrm>
              <a:off x="924840" y="3809880"/>
              <a:ext cx="9155520" cy="30477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3047760"/>
                <a:gd name="textAreaBottom" fmla="*/ 3048120 h 30477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"/>
            <p:cNvSpPr/>
            <p:nvPr/>
          </p:nvSpPr>
          <p:spPr>
            <a:xfrm>
              <a:off x="352440" y="3773520"/>
              <a:ext cx="6045840" cy="45720"/>
            </a:xfrm>
            <a:custGeom>
              <a:avLst/>
              <a:gdLst>
                <a:gd name="textAreaLeft" fmla="*/ 0 w 6045840"/>
                <a:gd name="textAreaRight" fmla="*/ 6046200 w 6045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6"/>
            <p:cNvSpPr/>
            <p:nvPr/>
          </p:nvSpPr>
          <p:spPr>
            <a:xfrm>
              <a:off x="924840" y="1752480"/>
              <a:ext cx="8564040" cy="45720"/>
            </a:xfrm>
            <a:custGeom>
              <a:avLst/>
              <a:gdLst>
                <a:gd name="textAreaLeft" fmla="*/ 0 w 8564040"/>
                <a:gd name="textAreaRight" fmla="*/ 8564400 w 8564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7"/>
            <p:cNvSpPr/>
            <p:nvPr/>
          </p:nvSpPr>
          <p:spPr>
            <a:xfrm>
              <a:off x="352440" y="3773520"/>
              <a:ext cx="52200" cy="3107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07880"/>
                <a:gd name="textAreaBottom" fmla="*/ 3108240 h 31078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8"/>
            <p:cNvSpPr/>
            <p:nvPr/>
          </p:nvSpPr>
          <p:spPr>
            <a:xfrm>
              <a:off x="924840" y="1752480"/>
              <a:ext cx="50400" cy="511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2240" y="1905120"/>
            <a:ext cx="8567280" cy="173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109224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82428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8B913-8676-4A01-8CF4-48C746820E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2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58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2376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8000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D6EFF5-7C6D-454B-AACD-4450DDCA16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907920"/>
            <a:ext cx="928656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300" spc="-1" strike="noStrike">
                <a:solidFill>
                  <a:srgbClr val="ff0000"/>
                </a:solidFill>
                <a:latin typeface="Arial"/>
              </a:rPr>
              <a:t>Признаки, цели и задачи прокурорского надзора в РФ</a:t>
            </a:r>
            <a:endParaRPr b="0" lang="ru-RU" sz="6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64360" y="4724280"/>
            <a:ext cx="381600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тоян Ка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а 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держание концепции прокурорского надзор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эффективности сложившейся системы принципов, структуры и полномочий органов прокуратуры на современном этапе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органов прокуратуры в системе государственных органов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действующего законодательства требованиям обеспечения единства, централизации и независимости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реализации правовой реформы в Российской Федерации применительно к прокурорскому надзору и другим направлениям деятельности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ретные меры законодательного и организационного характера по преобразованию организации и деятельности прокуратуры 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Отличие прокуратуры от других органов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на не имеет ни законотворческих, ни административных, ни судебных функций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е вмешивается в оперативно-хозяйственную и организационную деятельность, которую она наблюдает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не подвергает деятельность и акты органов управления оценке с точки зрения их практичности и целесообразности. Это не в компетенции прокуратуры, она лишь осуществляет надзор за тем, чтобы государственные органы и другие организации не допускали нарушения законов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атура Российской Федерации представляет собой единую федеральную централизованную систему органов, подчиненных Генеральному прокурору РФ и осуществляющих от имени Российской Федерации надзор за соблюдением Конституции Российской федерации и исполнением законов, действующих на территории Российской Федераци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24000" y="620640"/>
            <a:ext cx="777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курорский надзор(призна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31640" y="1773360"/>
            <a:ext cx="9648360" cy="43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собая самостоятельная 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Носит единый 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Осуществляется исключительно органами проку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Осуществляется только от имени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Имеет специфические содержание, 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Реализуется в форме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431640" y="549360"/>
            <a:ext cx="885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ели прокурорского над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60360" y="1557360"/>
            <a:ext cx="554328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прокурорского надзора – результат, на достижение которого направлена вся деятельность прокуратуры в целом и, в частности, ее важнейшая функция – прокурорский надзор. Цели прокурорского надзора определяются статусом прокуратуры, ее местом и ролью в государстве. В конечном счете они определяются Конституцией РФ, Законом о прокуратуре, другим законодательством, регламентирующим деятельность прокурорских органов. Наиболее четко цели прокуратуры определены в ст. 1 Закона о прокуратуре. Пункт 2 этой статьи определяет, что целями прокуратуры являются: 1) обеспечение верховенства закона; 2) обеспечение единства и укрепления законности; 3) обеспечение защиты прав и свобод человека и гражданина: 4) обеспечение защиты охраняемых законом интересов обществ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images"/>
          <p:cNvPicPr/>
          <p:nvPr/>
        </p:nvPicPr>
        <p:blipFill>
          <a:blip r:embed="rId1"/>
          <a:stretch/>
        </p:blipFill>
        <p:spPr>
          <a:xfrm>
            <a:off x="6192720" y="1916280"/>
            <a:ext cx="338436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ущность прокурорского надзор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амостоятельный, специфический вид государственной деятельности, которая является исключительной компетенцией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существляется от имени государства - Российской Федерации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заключается в проверке правильности соблюдения и исполнения законов, действующих на территории РФ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беспечивает выявление, пресечение и предупреждение правонарушений, восстановление нарушенной законности, привлечение виновных к ответственности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06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Цели и задачи прокурорского надзора</a:t>
            </a: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197000"/>
            <a:ext cx="9072360" cy="4928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окурорского надзора определяются статусом, местом и ролью прокуратуры в государственном устройстве и понимаются как то, к чему надо стремиться, что надо осуществлять, как результат, на достижение которого направлена деятельность органов прокуратуры, регламентируемая законодательством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: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орский надзор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оловное преследование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ординация деятельности правоохранительных органов по борьбе с преступностью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рассмотрении дел судами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правотворческой деятельност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Цели прокурорского надзора закреплены в Законе «О прокуратуре РФ»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верховенства зако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единства и укрепления законности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защиты прав и свобод человека и граждани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охраняемых законом интересов общества и государства.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93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Задачи прокурорского надзора</a:t>
            </a:r>
            <a:endParaRPr b="0" lang="ru-RU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125360"/>
            <a:ext cx="5471640" cy="5182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- это то, что требует исполнения, разрешения, посредством, чего достигаются цел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6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прокуратуры сформулированы в Конституции РФ, в Законе «О прокуратуре РФ», иных нормативных актах РФ. Условно их можно разделить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бщие, специаль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частные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бщи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ешаются в процессе осуществления органами прокуратуры всех направлений деятельности. Общей задачей прокурорского надзора является укрепление законности и охрана от посягательств как прав и интересов граждан, предприятий и организаций независимо от форм собственности, так и общественного и государственного строя РФ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ржание общей задачи определяе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специальны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курорского надзора, стоящие перед конкретным направлением деятельности прокуратуры. Содержание специальных задач определяется компетенцией прокурора по их реализаци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Без названия"/>
          <p:cNvPicPr/>
          <p:nvPr/>
        </p:nvPicPr>
        <p:blipFill>
          <a:blip r:embed="rId1"/>
          <a:stretch/>
        </p:blipFill>
        <p:spPr>
          <a:xfrm>
            <a:off x="6408720" y="1844640"/>
            <a:ext cx="274140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16000" y="585720"/>
            <a:ext cx="8640360" cy="565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честве примера специальных задач можно назвать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прав и свобод человека и гражданина в процессе осуществления оперативно-розыскной деятельности, дознания и предварительного след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установленного порядка разрешения заявлений и сообщений о совершенных и готовящихся преступлениях, выполнения оперативно-розыскных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законности решений, принимаемых органами, осуществляющими оперативно-розыскную деятельность, дознание, предварительное следств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ие и специальные задачи прокурорского надзора разрешаются с помощью правовых средств, в ходе применения которых прокурор определяет част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Частно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ременного характера, которую прокурорский надзор решает на данном этапе. Например, истребование правовых актов для проверки их соответствия закону; получение объяснений по поводу конкретного нарушения закона; привлечение специалиста для выяснения возникшего вопроса и т.д. В любом случае перед прокуратурой поставлена задача основополагающего характера - осуществление надзора за точным и единообразным исполнением законов, действующих на территори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0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ункции прокуратуры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атуры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это основные направления ее деятельности, отражающие ее сущность, и направленные на осуществление стоящих перед ней целей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орского надзора: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надзор за исполнением законов федеральными министерствами, государственными комитетами,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органами управления и руководителями коммерческих и некоммерческих организаций, а также за соответствием законам издаваемых ими правовых актов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надзор за соблюдением прав и свобод человека и гражданина федеральными министерствами, государственными комитетами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а также органами управления и руководителями коммерческих и некоммерческих организаций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надзор за исполнением законов органами, осуществляющими оперативно-розыскную деятельность, дознание и предварительное следствие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надзор за исполнением законов судебными приставам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надзор за исполнением законов администрациями органов и учреждений, исполняющих наказание и применяющих назначаемые судом меры принудительного характера, администрациями мест содержания задержанных и заключенных под стражу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) уголовное преследование в соответствии с полномочиями, установленными уголовно-процессуальным законодательством Российской Федераци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) координацию деятельности правоохранительных органов по борьбе с преступностью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lass Layers</Template>
  <TotalTime>950</TotalTime>
  <Application>LibreOffice/7.4.7.2$Linux_X86_64 LibreOffice_project/40$Build-2</Application>
  <AppVersion>15.0000</AppVersion>
  <Words>868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56:18Z</dcterms:created>
  <dc:creator>www.MRMARKER.ru</dc:creator>
  <dc:description/>
  <dc:language>en-US</dc:language>
  <cp:lastModifiedBy>Гость</cp:lastModifiedBy>
  <dcterms:modified xsi:type="dcterms:W3CDTF">2016-12-18T11:16:05Z</dcterms:modified>
  <cp:revision>56</cp:revision>
  <dc:subject/>
  <dc:title>Курс лекций по дисциплине «Прокурорский надзо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