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C67-A92F-4E1A-83A1-92D63F06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50D-A6F4-42B7-8362-35F3F9C1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99F-B305-424F-9193-111E1FB1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580-4824-4BE6-8E95-FB93F7DC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749-A4B8-44CF-8BD7-65F90751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42A-5119-4189-A6FC-329809D3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523-81B9-4E96-B03C-A3A0B8C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91C-2AA8-456A-8077-A7DF953C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DE6-4F0D-4FA0-881B-EDB83476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06E-C471-4180-A798-8041D20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F20-B1A4-4039-8D3B-69BAA80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D5E-6071-4528-8C93-17DAD33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4F86-289A-452A-8821-23219928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7;&#1086;&#1089;&#1086;&#1073;&#1085;&#1086;&#1089;&#1090;&#1100;" TargetMode="External"/><Relationship Id="rId2" Type="http://schemas.openxmlformats.org/officeDocument/2006/relationships/hyperlink" Target="https://ru.wikipedia.org/wiki/&#1063;&#1077;&#1083;&#1086;&#1074;&#1077;&#1082;" TargetMode="External"/><Relationship Id="rId3" Type="http://schemas.openxmlformats.org/officeDocument/2006/relationships/hyperlink" Target="https://ru.wikipedia.org/wiki/&#1051;&#1086;&#1073;&#1086;&#1074;&#1086;&#1077;_&#1089;&#1086;&#1087;&#1088;&#1086;&#1090;&#1080;&#1074;&#1083;&#1077;&#1085;&#1080;&#1077;" TargetMode="External"/><Relationship Id="rId4" Type="http://schemas.openxmlformats.org/officeDocument/2006/relationships/hyperlink" Target="https://ru.wikipedia.org/wiki/&#1059;&#1089;&#1080;&#1083;&#1080;&#1077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72;&#1073;&#1086;&#1090;&#1086;&#1089;&#1087;&#1086;&#1089;&#1086;&#1073;&#1085;&#1086;&#1089;&#1090;&#1100;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физиологического развития в различных видах 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 Баронов А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м качеством служит вынос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 на 3000 м, бег 5000 м на коньках, плавание на 800 м, академическая гребля (классические дистанции), заезды на 4 км на велот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эроб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м качеством служат скоростно-силовы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 до 800 м, плавание до 200 м, бег на коньках до 1500 м, заезды до 1 км в вело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я нервно-мыш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тельные нагрузки вызывают множество адаптаций в нервно-мышеч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инство нервно-мышечных адаптаций происходит в результате силовой тренир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стоящее время силовая тренировка — важный компонент тренировочных программ большинства спортс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вные механизмы, вызывающие увеличение силы, могут включать рекрутирование большего числа двигательных единиц, действующих синхронно, а также понижение аутогенного торможения нервно-сухожильного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генное торможения нервно-сухожильного волокна предотвращает перерастяжение мыш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7909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ка может постепенно редуцировать тормозные импульсы, позволяя мышцам достичь более высоких уровне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госрочные изменения силы мышц- результат их гипертроф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ертрофия мыш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числа мышечных волокон-гиперпл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размера отдельных мышечных волокон-гипертр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трофия мышечных волокон обусловлена увеличением числа актиновых и миозиновых фила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шечная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пособ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елове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реодолевать внешне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опротивлени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ли противостоять ему за счёт мышечных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сил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напряжени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3733920"/>
            <a:ext cx="4419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е типа мышечных воло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е типа мышечных воло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овые тренировки приводят к тому, что среднее количест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олокон значительно уменьшается, тогда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—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АПТАЦИЯ К АЭРОБНЫ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НИРОВОЧНЫМ НАГРУ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ичество капилля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й из наиболее важных адаптационных реакций на нагрузки, направленные на развитие выносливости, является увеличение числа капилляров вокруг каждого мышечного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количества капилляров улучшает газо- и теплообмен, ускоряет выведение продуктов распада и обмен питательных веществ между кровью и работающими мышечными волок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 миогло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очные нагрузки, направленные на развитие выносливости, увеличивают содержание миоглобина в мышцах на 75 — 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тохонд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дит увеличение размеров и количества митохонд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гликогена в мышце увелич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жиров в виде триглицеридов также увелич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активность ферментов, участвующих в окислении ж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 максимального потребления кислорода мышцей увелич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нослив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ность организма к продолжительному выполнению какой-либо работы без заметного снижени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тоспособност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АПТАЦИЯ К АНАЭРОБНЫ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НИРОВОЧНЫМ НАГРУ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активности гликолитических ферментов: фосфорилазы, фосфофруктокиназы, лактатдегидрогена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ет более оптимальное рекрутирование мышечных воло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толерантности к молочной кислоте за счёт повышения буферной способности мыш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аптации сердечно-сосудист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 серд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тренировки, направленной на развитие выносливости, происходит увеличение массы и объема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растает толщина миокарда левого желу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ивается ударный объ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СС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утный объем кровообращения не изменяется или слегк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ивается объём циркулирующей крови, возрастает количество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ется вязкость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ов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СС падает в меньшей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аптации дых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аптации дых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ыхательный объём возрастает при максимальных уровнях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та дыхания повышается при максимальных уровнях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очная диффузия при максимальных уровнях нагрузки усил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23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даптации обмена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лактатного п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тельный коэффициент снижается при субмаксимальной интенсивности работы и повышается при максимальных физических усил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максимального потребления кислорода повы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гическая классификация спортивных упраж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клически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эроб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эроб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9T16:17:34Z</dcterms:created>
  <dc:creator>Lexur</dc:creator>
  <dc:description/>
  <dc:language>en-US</dc:language>
  <cp:lastModifiedBy>Lexur</cp:lastModifiedBy>
  <dcterms:modified xsi:type="dcterms:W3CDTF">2019-01-14T16:2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