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98D-0C6D-48CE-81B6-7675C189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D18A-111A-4107-929D-EEA63267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DCB-464C-454A-B5DA-2F288D04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053-29C9-46DC-A685-0974021D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9E3-53DB-4482-8D27-96B604D4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C933-2C10-4B1B-8854-B0FECEE9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3D6-F8E6-4AE8-AD4F-C5009E6F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2DD-2F34-42A1-BBC7-04D3BC40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101-6F90-4E0B-8515-C23D2E3D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753C-F74E-4DFC-A027-36136499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E5B-A730-44CB-9C9E-5C53419C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76A-0020-4022-8EAA-91CEE29F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7A9E-0E4B-442B-B475-AFE298C6C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87;&#1086;&#1089;&#1086;&#1073;&#1085;&#1086;&#1089;&#1090;&#1100;" TargetMode="External"/><Relationship Id="rId2" Type="http://schemas.openxmlformats.org/officeDocument/2006/relationships/hyperlink" Target="https://ru.wikipedia.org/wiki/&#1063;&#1077;&#1083;&#1086;&#1074;&#1077;&#1082;" TargetMode="External"/><Relationship Id="rId3" Type="http://schemas.openxmlformats.org/officeDocument/2006/relationships/hyperlink" Target="https://ru.wikipedia.org/wiki/&#1051;&#1086;&#1073;&#1086;&#1074;&#1086;&#1077;_&#1089;&#1086;&#1087;&#1088;&#1086;&#1090;&#1080;&#1074;&#1083;&#1077;&#1085;&#1080;&#1077;" TargetMode="External"/><Relationship Id="rId4" Type="http://schemas.openxmlformats.org/officeDocument/2006/relationships/hyperlink" Target="https://ru.wikipedia.org/wiki/&#1059;&#1089;&#1080;&#1083;&#1080;&#1077;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6;&#1072;&#1073;&#1086;&#1090;&#1086;&#1089;&#1087;&#1086;&#1089;&#1086;&#1073;&#1085;&#1086;&#1089;&#1090;&#1100;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обенности физиологического развития в различных видах спор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л Баронов А.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эробные упраж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дущим качеством служит вынослив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г на 3000 м, бег 5000 м на коньках, плавание на 800 м, академическая гребля (классические дистанции), заезды на 4 км на велотр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эробные упраж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дущим качеством служат скоростно-силовые возм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г до 800 м, плавание до 200 м, бег на коньках до 1500 м, заезды до 1 км в велоспо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менения нервно-мышечн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ительные нагрузки вызывают множество адаптаций в нервно-мышечной сис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инство нервно-мышечных адаптаций происходит в результате силовой трениро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настоящее время силовая тренировка — важный компонент тренировочных программ большинства спортсме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вные механизмы, вызывающие увеличение силы, могут включать рекрутирование большего числа двигательных единиц, действующих синхронно, а также понижение аутогенного торможения нервно-сухожильного волок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утогенное торможения нервно-сухожильного волокна предотвращает перерастяжение мышц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57909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нировка может постепенно редуцировать тормозные импульсы, позволяя мышцам достичь более высоких уровней с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лгосрочные изменения силы мышц- результат их гипертроф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ертрофия мыш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числа мышечных волокон-гиперпл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размера отдельных мышечных волокон-гипертро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трофия мышечных волокон обусловлена увеличением числа актиновых и миозиновых фила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ышечная с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пособность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человек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преодолевать внешнее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опротивлени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или противостоять ему за счёт мышечных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силий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напряжени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362320" y="3733920"/>
            <a:ext cx="441936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менение типа мышечных волок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менение типа мышечных волок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ловые тренировки приводят к тому, что среднее количеств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волокон значительно уменьшается, тогда ка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—увелич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ДАПТАЦИЯ К АЭРОБНЫМ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РЕНИРОВОЧНЫМ НАГРУЗ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личество капилля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й из наиболее важных адаптационных реакций на нагрузки, направленные на развитие выносливости, является увеличение числа капилляров вокруг каждого мышечного волок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количества капилляров улучшает газо- и теплообмен, ускоряет выведение продуктов распада и обмен питательных веществ между кровью и работающими мышечными волок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 миоглоб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нировочные нагрузки, направленные на развитие выносливости, увеличивают содержание миоглобина в мышцах на 75 — 80 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тохонд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сходит увеличение размеров и количества митохонд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эробные нагру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асы гликогена в мышце увеличив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асы жиров в виде триглицеридов также увеличив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ется активность ферментов, участвующих в окислении жи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ель максимального потребления кислорода мышцей увеличи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нослив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ность организма к продолжительному выполнению какой-либо работы без заметного снижения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аботоспособност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ДАПТАЦИЯ К АНАЭРОБНЫМ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РЕНИРОВОЧНЫМ НАГРУЗ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эробные нагру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активности гликолитических ферментов: фосфорилазы, фосфофруктокиназы, лактатдегидрогена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ает более оптимальное рекрутирование мышечных воло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толерантности к молочной кислоте за счёт повышения буферной способности мыш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даптации сердечно-сосудист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мер серд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зультате тренировки, направленной на развитие выносливости, происходит увеличение массы и объема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растает толщина миокарда левого желудо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эробные нагру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величивается ударный объем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СС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нутный объем кровообращения не изменяется или слегка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величивается объём циркулирующей крови, возрастает количество эритроци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ижается вязкость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овые нагру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СС падает в меньшей степ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даптации дыхательн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даптации дыхательн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ыхательный объём возрастает при максимальных уровнях нагру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ота дыхания повышается при максимальных уровнях нагру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гочная диффузия при максимальных уровнях нагрузки усил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1120" y="23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даптации обмена веще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эробные нагру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лактатного п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хательный коэффициент снижается при субмаксимальной интенсивности работы и повышается при максимальных физических усил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вень максимального потребления кислорода повы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гическая классификация спортивных упраж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иклические упраж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эроб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эроб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9T16:17:34Z</dcterms:created>
  <dc:creator>Lexur</dc:creator>
  <dc:description/>
  <dc:language>en-US</dc:language>
  <cp:lastModifiedBy>Lexur</cp:lastModifiedBy>
  <dcterms:modified xsi:type="dcterms:W3CDTF">2019-01-14T16:28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