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0DFE-FFAD-428A-A33C-1E174E29C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79921-2690-4821-8A4E-8685F6A72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2AD17-4E30-43F5-B3FB-311378D32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94716-C017-4BFC-AFDA-A1F67421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D14E5-2932-46B0-98CD-1FA2D0023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133D-7F63-409C-B88D-A8DF2C786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B05B1-F216-4ACF-93B8-9AF394A79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02AB-D261-4140-8D38-B8CFFFBEC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36A60-FD5F-40F8-A917-1E76B4E09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5B170-52BC-4522-846F-7B48A4297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5D9C4-FAD8-4776-A0F8-36776815E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134C3-4EB6-4F3F-9A23-D928EA4D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A00D-9233-4646-83AE-7083CAC9C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19DB5-26AD-4987-A7CF-766899E4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28D58-F33F-47EA-BB65-32729431C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E2403-5B1E-4979-948B-2387FD34C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BEF41-DCD5-476F-ACCD-031C36F97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ED3FB2-E051-4F55-A5A0-B781D48ED3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2BE50-F4CD-47E9-895A-5FB4FF74C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E60BF-8A2F-4D65-B940-1B946F7C7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8B7FA-BC65-44B3-984C-48DB997D8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7BED7-762B-4600-B721-828FF0E1A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8286-F162-4144-8CBF-49008F25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5AF04-501E-4705-B610-818FCAB0C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C9138-1C52-448E-AB73-1226BC8CB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D6D9D-7A92-4C75-B966-6E8B861B0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A6DE6-3A9D-4F26-98C6-2C80AAD05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4EC7A-BE8E-4422-905C-273460341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66151-AA3D-4341-AD89-0D85670D4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F1979-317E-4993-BFDA-36F413BE4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99520-5ABC-4161-9FCF-65FD85D05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89C64-5A93-4F2B-B3CF-98EDAD008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87B7D-B48C-4F36-994A-F0D37DBBB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BE555-193A-4F9B-AE2F-FA9F84C1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7924F-ED8B-4E12-97BD-FB6B40B0E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746E4-7C37-4955-8A55-EF3E107AD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5D26D-A87E-44E6-988C-F3D4FF83A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F809B-D78B-4C25-BDE2-3C0660D93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46B37-1287-414D-8C2B-A4F2ED01B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78DB7-25CD-4188-90DF-2BFCFB961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0374E-8F92-401B-944F-B4C509F4B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30F5E-DAE2-4E2C-9A0F-1A4C45048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F708F1-B08F-4BD9-8D68-7BAA36BA1C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B52F5-954A-4BCD-8CD6-DB66E86ACC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D08C-18A4-4A7E-91E5-AE04E932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D1DD7-69E0-4889-A6EA-0A1E0C23F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359B3-49DD-483E-B642-2CBCC84582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5C1D7-7A76-4706-BBB7-CAC78D4E9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C73E5-8890-46A9-BF50-A62BC5060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CE75B-D145-4582-904D-B5DB50A08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4A3E6-AC21-4F7E-9566-E46439C8C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584E1-00D9-4C67-AC69-AE73FC142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7A570-9669-470A-A39D-C42FDE76E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D5117-0E32-41A9-B008-64BE940FC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0C181E-DA5E-44A1-A2C3-B5D133BD6A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41722-CC8F-450E-A708-58B809813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8E75A-A1DD-4301-B47D-D2549D25F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BC690C-19E0-4B6B-9C58-9BECB4CDA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A3682-93DF-45DC-A197-9FDCA1994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BA6C5-7CE5-4343-AC8D-3A5A0C1F2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837D68-1B9F-4DCF-94E3-56F7DAADA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A0ACA6-D3B9-4AF4-BCEC-674251F48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731FA-A160-4535-B716-85D39BC1C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F9287-8B00-4653-9729-57A3FBFF4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7FD88-1744-49C6-BFA7-8D801015F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2D4AA-F513-4868-84C9-C6F562DBC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A8D20-08D7-4FF1-A720-E777D6B3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30F8B-432B-48C6-B6A5-0FD7757A9F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A82789-125A-48B7-9500-EA1EEAD934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FFF7B4-B51A-4AD3-9357-6BCDC1BF0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DAA603-5B16-452D-BB4E-D173674C78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11216-B9B7-41EB-9558-2691CFD2F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3677A-0262-48FB-8EEF-79EEBF90E3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58187-965F-4923-8FD1-E7FE74F78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85C40-2396-425B-B7AC-2DFCC2F8A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0191C-4CD2-443B-B77A-0CFB791B0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F04D7-0563-433F-90DC-36380A3BE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65C2-D50A-4A21-AEEA-2FA1C6FD9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463BF-06ED-40E8-8695-8035A4693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0A6CE-1594-44FB-B5F1-BA1C0609C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FDE35-C136-428F-BE83-79C467ACA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839F2B-DA93-4494-8383-4C60356BEB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09AC17-AE73-414B-B11D-F6BD4C0A84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D6AC-5B95-4525-9DDB-8C7457493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9F93-9A02-4DC0-B342-C1C4D8E68DC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F37C-685C-45B3-9701-9951A6C68D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52CC-4E06-49F9-A545-433DAC001E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0474-2560-4651-B659-6C6FAF0588A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C7BA-680A-47C8-9EF6-DFC5EE0EAC5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08CA-C581-4DAA-A8C1-E0B5529EA49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C5D4-4718-4AFC-9D66-19B978B3593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4.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682560" y="92160"/>
            <a:ext cx="7785000" cy="4913280"/>
          </a:xfrm>
          <a:prstGeom prst="rect">
            <a:avLst/>
          </a:prstGeom>
          <a:ln w="0">
            <a:noFill/>
          </a:ln>
        </p:spPr>
      </p:pic>
      <p:sp>
        <p:nvSpPr>
          <p:cNvPr id="304" name="PlaceHolder 1"/>
          <p:cNvSpPr>
            <a:spLocks noGrp="1"/>
          </p:cNvSpPr>
          <p:nvPr>
            <p:ph type="subTitle"/>
          </p:nvPr>
        </p:nvSpPr>
        <p:spPr>
          <a:xfrm>
            <a:off x="914400" y="5143680"/>
            <a:ext cx="7772400" cy="100008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03"/>
                                        </p:tgtEl>
                                        <p:attrNameLst>
                                          <p:attrName>style.visibility</p:attrName>
                                        </p:attrNameLst>
                                      </p:cBhvr>
                                      <p:to>
                                        <p:strVal val="visible"/>
                                      </p:to>
                                    </p:set>
                                    <p:anim calcmode="lin" valueType="num">
                                      <p:cBhvr additive="repl">
                                        <p:cTn id="7"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0" dur="1000" fill="hold"/>
                                        <p:tgtEl>
                                          <p:spTgt spid="30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Arial"/>
              </a:rPr>
              <a:t>Лидия Рябцева</a:t>
            </a:r>
            <a:endParaRPr b="1" lang="en-US" sz="4500" spc="-1" strike="noStrike">
              <a:solidFill>
                <a:srgbClr val="ffc800"/>
              </a:solidFill>
              <a:latin typeface="Corbel"/>
            </a:endParaRPr>
          </a:p>
        </p:txBody>
      </p:sp>
      <p:sp>
        <p:nvSpPr>
          <p:cNvPr id="327"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Рябцева Лидия (1921 — 1942 гг.). Уроженка Воронежа, красноармеец, наводчик счетверенной пулеметной установки 4-го зенитно-пулеметного полка. Работница завода им. Коминтерна. В один из дней второй половины июля она сбила два бомбардировщика и погибла от прямого попадания бомбы в установку. Подруги по расчету нашли от Лиды только часть тела и кисти рук, намертво застывшие на рукоятках пулемета. Лидия Рябцева была посмертно награждена орденом Отечественной войны I степени, ее именем названа бывшая 2-я Автогенная улица.</a:t>
            </a:r>
            <a:endParaRPr b="0" lang="en-US" sz="17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4381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28" name="Picture 2" descr=""/>
          <p:cNvPicPr/>
          <p:nvPr/>
        </p:nvPicPr>
        <p:blipFill>
          <a:blip r:embed="rId1"/>
          <a:stretch/>
        </p:blipFill>
        <p:spPr>
          <a:xfrm>
            <a:off x="1100160" y="203040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800"/>
                </a:solidFill>
                <a:latin typeface="Arial"/>
              </a:rPr>
              <a:t>Черняховский Иван Данилович</a:t>
            </a:r>
            <a:endParaRPr b="1" lang="en-US" sz="4100" spc="-1" strike="noStrike">
              <a:solidFill>
                <a:srgbClr val="ffc800"/>
              </a:solidFill>
              <a:latin typeface="Corbel"/>
            </a:endParaRPr>
          </a:p>
        </p:txBody>
      </p:sp>
      <p:sp>
        <p:nvSpPr>
          <p:cNvPr id="330"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рняховский Иван Данилович (1906 — 1945 гг.) — известный советский военный деятель, генерал армии, дважды Герой Советского Союза. В 1941 — 1942 годах командовал 18-м танковым корпусом, который летом и осенью 1942 года участвовал в обороне Воронежа, в 1943 году командовал 60-й армией, которая освободила город от фашистов. В нашем городе существует площадь имени генерала Черняховского.</a:t>
            </a:r>
            <a:endParaRPr b="0" lang="en-US" sz="1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331" name="Picture 2" descr=""/>
          <p:cNvPicPr/>
          <p:nvPr/>
        </p:nvPicPr>
        <p:blipFill>
          <a:blip r:embed="rId1"/>
          <a:stretch/>
        </p:blipFill>
        <p:spPr>
          <a:xfrm>
            <a:off x="714240" y="1787400"/>
            <a:ext cx="3524400" cy="46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800"/>
                </a:solidFill>
                <a:latin typeface="Times New Roman"/>
              </a:rPr>
              <a:t>Ватутин Николай Федорович</a:t>
            </a:r>
            <a:endParaRPr b="1" lang="en-US" sz="3900" spc="-1" strike="noStrike">
              <a:solidFill>
                <a:srgbClr val="ffc800"/>
              </a:solidFill>
              <a:latin typeface="Corbel"/>
            </a:endParaRPr>
          </a:p>
        </p:txBody>
      </p:sp>
      <p:sp>
        <p:nvSpPr>
          <p:cNvPr id="333"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Ватутин Николай Федорович (1901 — 1944 гг.) — уроженец Воронежской губернии. Прошел путь от красноармейца до генерала армии. Под его руководством происходила героическая оборона Воронежа летом 1942 года. В качестве командующего Юго-Западным фронтом в ноябре 1942 года осуществляет прорыв обороны немецко-фашистских войск северо-западнее Сталинграда. В июле 1943 года командовал войсками Воронежского фронта в битве на Курской дуге. В Воронеже в честь Ватутина названа одна из улиц города.</a:t>
            </a:r>
            <a:endParaRPr b="0" lang="en-US" sz="17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34" name="Picture 2" descr=""/>
          <p:cNvPicPr/>
          <p:nvPr/>
        </p:nvPicPr>
        <p:blipFill>
          <a:blip r:embed="rId1"/>
          <a:stretch/>
        </p:blipFill>
        <p:spPr>
          <a:xfrm>
            <a:off x="792000" y="1774800"/>
            <a:ext cx="3368880" cy="46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Arial"/>
              </a:rPr>
              <a:t>Феоктистов Константин Петрович.</a:t>
            </a:r>
            <a:endParaRPr b="1" lang="en-US" sz="4500" spc="-1" strike="noStrike">
              <a:solidFill>
                <a:srgbClr val="ffc800"/>
              </a:solidFill>
              <a:latin typeface="Corbel"/>
            </a:endParaRPr>
          </a:p>
        </p:txBody>
      </p:sp>
      <p:sp>
        <p:nvSpPr>
          <p:cNvPr id="336"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Феоктистов Константин Петрович. (1926 — 2009 гг.) Летчик-космонавт СССР, Герой Советского Союза, доктор технических наук, профессор. Первым из советских ученых поднялся в космос в октябре 1964 года в составе экипажа космического корабля «Восход» вместе с космонавтами В. М. Комаровым и Б. Б. Егоровым. Летом 1942 года разведчик К. Феоктистов пробирался в захваченную фашистами правобережную часть родного города, выполняя боевые задания. Гитлеровцы схватили его, и повели на расстрел. Он был тяжело ранен, однако сумел спастись. За мужество и отвагу награжден орденом Отечественной войны I степени. В Воронеже в честь Феоктистова названа одна из улиц города.</a:t>
            </a:r>
            <a:endParaRPr b="0" lang="en-US" sz="16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37" name="Picture 2" descr=""/>
          <p:cNvPicPr/>
          <p:nvPr/>
        </p:nvPicPr>
        <p:blipFill>
          <a:blip r:embed="rId1"/>
          <a:stretch/>
        </p:blipFill>
        <p:spPr>
          <a:xfrm>
            <a:off x="811080" y="1774800"/>
            <a:ext cx="3330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800"/>
                </a:solidFill>
                <a:latin typeface="Times New Roman"/>
              </a:rPr>
              <a:t>Колесниченко Василий Ефремович</a:t>
            </a:r>
            <a:endParaRPr b="1" lang="en-US" sz="4400" spc="-1" strike="noStrike">
              <a:solidFill>
                <a:srgbClr val="ffc800"/>
              </a:solidFill>
              <a:latin typeface="Corbel"/>
            </a:endParaRPr>
          </a:p>
        </p:txBody>
      </p:sp>
      <p:sp>
        <p:nvSpPr>
          <p:cNvPr id="339"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лесниченко Василий Ефремович (1915 — 1942 гг.) Герой Советского Союза, лётчик 573-го истребительного авиационного полка 101-й истребительной авиационной дивизии Воронежско-Борисоглебского дивизионного района ПВО, младший лейтенант. Участник войны с июня 1941 года, на его счету 93 боевых вылета. В 1942 году в воздушном бою под Воронежем, будучи ранен в обе ноги, горящим самолётом таранил вражеский бомбардировщик. Приземлился на парашюте, был доставлен в госпиталь, где и скончался от ран и ожогов. Похоронен в Воронеже в братской могиле в Парке юннатов. За мужество и героизм Колесниченко Василию Ефремовичу посмертно присвоено звание Героя Советского Союза (первому из защитников Воронежа). В 1975 году отрезок улицы Бессарабской ( ныне ЮГО-западный район) получил имя В. Е, Колесниченко</a:t>
            </a:r>
            <a:endParaRPr b="0" lang="en-US" sz="14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0" name="Picture 2" descr=""/>
          <p:cNvPicPr/>
          <p:nvPr/>
        </p:nvPicPr>
        <p:blipFill>
          <a:blip r:embed="rId1"/>
          <a:stretch/>
        </p:blipFill>
        <p:spPr>
          <a:xfrm>
            <a:off x="793800" y="1844640"/>
            <a:ext cx="3295440" cy="439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gn="ct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Спасибо за внимание!!!</a:t>
            </a:r>
            <a:endParaRPr b="0" lang="en-US" sz="6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42">
                                            <p:txEl>
                                              <p:pRg st="0" end="0"/>
                                            </p:txEl>
                                          </p:spTgt>
                                        </p:tgtEl>
                                        <p:attrNameLst>
                                          <p:attrName>style.visibility</p:attrName>
                                        </p:attrNameLst>
                                      </p:cBhvr>
                                      <p:to>
                                        <p:strVal val="visible"/>
                                      </p:to>
                                    </p:set>
                                    <p:animEffect filter="fade" transition="in">
                                      <p:cBhvr additive="repl">
                                        <p:cTn id="103" dur="1000">
                                          <p:stCondLst>
                                            <p:cond delay="0"/>
                                          </p:stCondLst>
                                        </p:cTn>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 </a:t>
            </a:r>
            <a:r>
              <a:rPr b="1" lang="en-US" sz="4500" spc="-1" strike="noStrike">
                <a:solidFill>
                  <a:srgbClr val="ffc800"/>
                </a:solidFill>
                <a:latin typeface="Arial"/>
              </a:rPr>
              <a:t>I</a:t>
            </a:r>
            <a:r>
              <a:rPr b="1" lang="en-US" sz="4500" spc="-1" strike="noStrike">
                <a:solidFill>
                  <a:srgbClr val="ffc800"/>
                </a:solidFill>
                <a:latin typeface="Corbel"/>
              </a:rPr>
              <a:t> </a:t>
            </a:r>
            <a:endParaRPr b="1" lang="en-US" sz="4500" spc="-1" strike="noStrike">
              <a:solidFill>
                <a:srgbClr val="ffc800"/>
              </a:solidFill>
              <a:latin typeface="Corbel"/>
            </a:endParaRPr>
          </a:p>
        </p:txBody>
      </p:sp>
      <p:sp>
        <p:nvSpPr>
          <p:cNvPr id="30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Наступление на Воронеж</a:t>
            </a:r>
            <a:endParaRPr b="0" lang="en-US" sz="4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291960" y="-49320"/>
            <a:ext cx="8504280" cy="1268640"/>
          </a:xfrm>
          <a:prstGeom prst="rect">
            <a:avLst/>
          </a:prstGeom>
          <a:ln w="0">
            <a:noFill/>
          </a:ln>
        </p:spPr>
      </p:pic>
      <p:pic>
        <p:nvPicPr>
          <p:cNvPr id="308" name="Picture 2" descr=""/>
          <p:cNvPicPr/>
          <p:nvPr/>
        </p:nvPicPr>
        <p:blipFill>
          <a:blip r:embed="rId2"/>
          <a:stretch/>
        </p:blipFill>
        <p:spPr>
          <a:xfrm>
            <a:off x="928800" y="1928880"/>
            <a:ext cx="7000920" cy="4357800"/>
          </a:xfrm>
          <a:prstGeom prst="rect">
            <a:avLst/>
          </a:prstGeom>
          <a:ln w="0">
            <a:noFill/>
          </a:ln>
        </p:spPr>
      </p:pic>
    </p:spTree>
  </p:cSld>
  <p:transition>
    <p:wipe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307"/>
                                        </p:tgtEl>
                                        <p:attrNameLst>
                                          <p:attrName>style.visibility</p:attrName>
                                        </p:attrNameLst>
                                      </p:cBhvr>
                                      <p:to>
                                        <p:strVal val="visible"/>
                                      </p:to>
                                    </p:set>
                                    <p:anim calcmode="lin" valueType="num" by="(-#ppt_w*2)">
                                      <p:cBhvr additive="repl">
                                        <p:cTn id="21" dur="500" autoRev="1" fill="hold">
                                          <p:stCondLst>
                                            <p:cond delay="0"/>
                                          </p:stCondLst>
                                        </p:cTn>
                                        <p:tgtEl>
                                          <p:spTgt spid="307"/>
                                        </p:tgtEl>
                                        <p:attrNameLst>
                                          <p:attrName>ppt_w</p:attrName>
                                        </p:attrNameLst>
                                      </p:cBhvr>
                                    </p:anim>
                                    <p:anim calcmode="lin" valueType="num" by="(#ppt_w*0.50)">
                                      <p:cBhvr additive="repl">
                                        <p:cTn id="22" dur="500" autoRev="1" fill="hold">
                                          <p:stCondLst>
                                            <p:cond delay="0"/>
                                          </p:stCondLst>
                                        </p:cTn>
                                        <p:tgtEl>
                                          <p:spTgt spid="307"/>
                                        </p:tgtEl>
                                        <p:attrNameLst>
                                          <p:attrName>ppt_x</p:attrName>
                                        </p:attrNameLst>
                                      </p:cBhvr>
                                    </p:anim>
                                    <p:anim calcmode="lin" valueType="num" from="(-#ppt_h/2)" to="(#ppt_y)">
                                      <p:cBhvr additive="repl">
                                        <p:cTn id="23" dur="1000" fill="hold">
                                          <p:stCondLst>
                                            <p:cond delay="0"/>
                                          </p:stCondLst>
                                        </p:cTn>
                                        <p:tgtEl>
                                          <p:spTgt spid="307"/>
                                        </p:tgtEl>
                                        <p:attrNameLst>
                                          <p:attrName>ppt_y</p:attrName>
                                        </p:attrNameLst>
                                      </p:cBhvr>
                                    </p:anim>
                                    <p:animRot by="21600000">
                                      <p:cBhvr>
                                        <p:cTn id="24" dur="1000" fill="hold">
                                          <p:stCondLst>
                                            <p:cond delay="0"/>
                                          </p:stCondLst>
                                        </p:cTn>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250920" y="115920"/>
            <a:ext cx="2535120" cy="987480"/>
          </a:xfrm>
          <a:prstGeom prst="rect">
            <a:avLst/>
          </a:prstGeom>
          <a:ln w="0">
            <a:noFill/>
          </a:ln>
        </p:spPr>
      </p:pic>
      <p:pic>
        <p:nvPicPr>
          <p:cNvPr id="310" name="Picture 2" descr=""/>
          <p:cNvPicPr/>
          <p:nvPr/>
        </p:nvPicPr>
        <p:blipFill>
          <a:blip r:embed="rId2"/>
          <a:srcRect l="11238" t="0" r="11238" b="0"/>
          <a:stretch/>
        </p:blipFill>
        <p:spPr>
          <a:xfrm>
            <a:off x="2897280" y="1484280"/>
            <a:ext cx="6246720" cy="5373720"/>
          </a:xfrm>
          <a:prstGeom prst="rect">
            <a:avLst/>
          </a:prstGeom>
          <a:ln w="0">
            <a:noFill/>
          </a:ln>
        </p:spPr>
      </p:pic>
      <p:sp>
        <p:nvSpPr>
          <p:cNvPr id="311" name="PlaceHolder 1"/>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5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8 июня 1942 года немецкие войска, начав наступательные действия, нанесли удар в районе Курска на воронежском направлении по 13-ой и 40-ой армиям Брянского фронта. 30 июня в наступление в направлении Острогожска перешла 6-ая армия противника, которая в районе Волчанска прорвала оборону 21-ой и 28-ой армий. Г. К. Жуков в своих воспоминаниях пишет: «Положение наших войск на воронежском направлении резко ухудшилось. Часть сил оказалась в окружении.»</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А. В. Василевский же об этом писал следующее: «К исходу 2 июля обстановка на воронежском направлении резко ухудшилась. Оборона на стыке Брянского и Юго-западного фронтов оказалась прорванной на глубину до 80 километров. Резервы фронтов, имевшихся на этом направлении, были втянуты в бой. Создалась явная угроза прорыва ударной группировки противника к Дону и захвата Воронежа».</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09"/>
                                        </p:tgtEl>
                                        <p:attrNameLst>
                                          <p:attrName>style.visibility</p:attrName>
                                        </p:attrNameLst>
                                      </p:cBhvr>
                                      <p:to>
                                        <p:strVal val="visible"/>
                                      </p:to>
                                    </p:set>
                                    <p:animEffect filter="blinds(horizontal)" transition="in">
                                      <p:cBhvr additive="repl">
                                        <p:cTn id="31" dur="500"/>
                                        <p:tgtEl>
                                          <p:spTgt spid="30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310"/>
                                        </p:tgtEl>
                                        <p:attrNameLst>
                                          <p:attrName>style.visibility</p:attrName>
                                        </p:attrNameLst>
                                      </p:cBhvr>
                                      <p:to>
                                        <p:strVal val="visible"/>
                                      </p:to>
                                    </p:set>
                                    <p:anim calcmode="lin" valueType="num">
                                      <p:cBhvr additive="repl">
                                        <p:cTn id="36"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39" dur="1000" fill="hold"/>
                                        <p:tgtEl>
                                          <p:spTgt spid="310"/>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800"/>
                </a:solidFill>
                <a:latin typeface="Arial"/>
              </a:rPr>
              <a:t>Тяжелые бои</a:t>
            </a:r>
            <a:endParaRPr b="1" lang="en-US" sz="2000" spc="-1" strike="noStrike">
              <a:solidFill>
                <a:srgbClr val="ffc800"/>
              </a:solidFill>
              <a:latin typeface="Corbel"/>
            </a:endParaRPr>
          </a:p>
        </p:txBody>
      </p:sp>
      <p:pic>
        <p:nvPicPr>
          <p:cNvPr id="313" name="" descr=""/>
          <p:cNvPicPr/>
          <p:nvPr/>
        </p:nvPicPr>
        <p:blipFill>
          <a:blip r:embed="rId1"/>
          <a:stretch/>
        </p:blipFill>
        <p:spPr>
          <a:xfrm>
            <a:off x="2903040" y="1483920"/>
            <a:ext cx="6248520" cy="5373720"/>
          </a:xfrm>
          <a:prstGeom prst="rect">
            <a:avLst/>
          </a:prstGeom>
          <a:ln w="0">
            <a:noFill/>
          </a:ln>
        </p:spPr>
      </p:pic>
      <p:sp>
        <p:nvSpPr>
          <p:cNvPr id="314" name="PlaceHolder 2"/>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Ведя тяжёлые бои западнее Старого Оскола, соединения 21-й и 40-й армий прорывались на восток отдельными частями и подразделениями. Между Брянским и Юго-Западным фронтами образовалась брешь. Таким образом, для вражеских войск открылся путь к Дону и Воронежу.</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 июля 1942 года под Воронеж была передислоцирована 159-ая стрелковая дивизия, которая была сформирована почти полностью из уральцев.</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Солдаты Вермахта на позиции под Воронежем (1942 г.)</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Между тем, как следует из дневников начальника Генерального штаба Сухопутных войск генерал-полковника Франца Гальдера в ходе наступления на Юге Гитлер не отводил решающего значения взятию Воронежа. 3 июля состоялось совещание в штабе группы армий «Юг», расположенном в Полтаве. Его итоги Гальдер записал так:</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pic>
        <p:nvPicPr>
          <p:cNvPr id="315" name="Picture 2" descr=""/>
          <p:cNvPicPr/>
          <p:nvPr/>
        </p:nvPicPr>
        <p:blipFill>
          <a:blip r:embed="rId2"/>
          <a:stretch/>
        </p:blipFill>
        <p:spPr>
          <a:xfrm>
            <a:off x="2928960" y="1500120"/>
            <a:ext cx="6215040" cy="535788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15"/>
                                        </p:tgtEl>
                                        <p:attrNameLst>
                                          <p:attrName>style.visibility</p:attrName>
                                        </p:attrNameLst>
                                      </p:cBhvr>
                                      <p:to>
                                        <p:strVal val="visible"/>
                                      </p:to>
                                    </p:set>
                                    <p:animEffect filter="checkerboard(across)" transition="in">
                                      <p:cBhvr additive="repl">
                                        <p:cTn id="5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800"/>
                </a:solidFill>
                <a:latin typeface="Corbel"/>
              </a:rPr>
              <a:t>Две идеи: нажим с севера вполне допустим; перебазирование на восток.</a:t>
            </a:r>
            <a:br>
              <a:rPr sz="3200"/>
            </a:br>
            <a:endParaRPr b="1" lang="en-US" sz="3200" spc="-1" strike="noStrike">
              <a:solidFill>
                <a:srgbClr val="ffc800"/>
              </a:solidFill>
              <a:latin typeface="Corbel"/>
            </a:endParaRPr>
          </a:p>
        </p:txBody>
      </p:sp>
      <p:sp>
        <p:nvSpPr>
          <p:cNvPr id="317"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1. </a:t>
            </a:r>
            <a:r>
              <a:rPr b="1" lang="ru-RU" sz="2200" spc="-1" strike="noStrike">
                <a:solidFill>
                  <a:srgbClr val="000000"/>
                </a:solidFill>
                <a:latin typeface="Corbel"/>
              </a:rPr>
              <a:t>Брать Воронеж отнюдь не при любых обстоятельствах. Если выяснится, что противник наступает крупными силами, тогда достаточно выхода к Дону южнее Воронежа. (По имеющимся данным, промышленность Воронежа не демонтирована.)</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2. В ходе дальнейших операций нужны быстрые короткие прорывы, чтобы постоянно нейтрализовать противника по частям...</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Запись в дневнике Гальдера от 5 июля:</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Хотя на совещании 3.7 фюрер сам подчеркнул, что не придает Воронежу никакого значения и предоставляет группе армий право отказаться от овладения городом, если это может привести к чересчур большим потерям, фон Бок не только позволил Готу упрямо лезть на Воронеж, но и поддержал его в этом.</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pull dir="l"/>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4">
                                  <p:stCondLst>
                                    <p:cond delay="0"/>
                                  </p:stCondLst>
                                  <p:childTnLst>
                                    <p:set>
                                      <p:cBhvr>
                                        <p:cTn id="56" dur="1" fill="hold">
                                          <p:stCondLst>
                                            <p:cond delay="0"/>
                                          </p:stCondLst>
                                        </p:cTn>
                                        <p:tgtEl>
                                          <p:spTgt spid="317">
                                            <p:txEl>
                                              <p:pRg st="0" end="0"/>
                                            </p:txEl>
                                          </p:spTgt>
                                        </p:tgtEl>
                                        <p:attrNameLst>
                                          <p:attrName>style.visibility</p:attrName>
                                        </p:attrNameLst>
                                      </p:cBhvr>
                                      <p:to>
                                        <p:strVal val="visible"/>
                                      </p:to>
                                    </p:set>
                                    <p:anim calcmode="lin" valueType="num">
                                      <p:cBhvr additive="base">
                                        <p:cTn id="57"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17">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17">
                                            <p:txEl>
                                              <p:pRg st="1" end="1"/>
                                            </p:txEl>
                                          </p:spTgt>
                                        </p:tgtEl>
                                        <p:attrNameLst>
                                          <p:attrName>style.visibility</p:attrName>
                                        </p:attrNameLst>
                                      </p:cBhvr>
                                      <p:to>
                                        <p:strVal val="visible"/>
                                      </p:to>
                                    </p:set>
                                    <p:anim calcmode="lin" valueType="num">
                                      <p:cBhvr additive="base">
                                        <p:cTn id="61" dur="5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17">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317">
                                            <p:txEl>
                                              <p:pRg st="2" end="2"/>
                                            </p:txEl>
                                          </p:spTgt>
                                        </p:tgtEl>
                                        <p:attrNameLst>
                                          <p:attrName>style.visibility</p:attrName>
                                        </p:attrNameLst>
                                      </p:cBhvr>
                                      <p:to>
                                        <p:strVal val="visible"/>
                                      </p:to>
                                    </p:set>
                                    <p:anim calcmode="lin" valueType="num">
                                      <p:cBhvr additive="base">
                                        <p:cTn id="65"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7">
                                            <p:txEl>
                                              <p:pRg st="2" end="2"/>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317">
                                            <p:txEl>
                                              <p:pRg st="3" end="3"/>
                                            </p:txEl>
                                          </p:spTgt>
                                        </p:tgtEl>
                                        <p:attrNameLst>
                                          <p:attrName>style.visibility</p:attrName>
                                        </p:attrNameLst>
                                      </p:cBhvr>
                                      <p:to>
                                        <p:strVal val="visible"/>
                                      </p:to>
                                    </p:set>
                                    <p:anim calcmode="lin" valueType="num">
                                      <p:cBhvr additive="base">
                                        <p:cTn id="69"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c800"/>
                </a:solidFill>
                <a:latin typeface="Corbel"/>
              </a:rPr>
              <a:t>6 июля генерал-полковник барон Максимилиан фон Вейхс в своём боевом отчёте написал:</a:t>
            </a:r>
            <a:br>
              <a:rPr sz="2500"/>
            </a:br>
            <a:endParaRPr b="1" lang="en-US" sz="2500" spc="-1" strike="noStrike">
              <a:solidFill>
                <a:srgbClr val="ffc800"/>
              </a:solidFill>
              <a:latin typeface="Corbel"/>
            </a:endParaRPr>
          </a:p>
        </p:txBody>
      </p:sp>
      <p:sp>
        <p:nvSpPr>
          <p:cNvPr id="319" name=""/>
          <p:cNvSpPr txBox="1"/>
          <p:nvPr/>
        </p:nvSpPr>
        <p:spPr>
          <a:xfrm>
            <a:off x="0" y="1500120"/>
            <a:ext cx="8229600" cy="5143680"/>
          </a:xfrm>
          <a:prstGeom prst="rect">
            <a:avLst/>
          </a:prstGeom>
          <a:noFill/>
          <a:ln w="0">
            <a:noFill/>
          </a:ln>
        </p:spPr>
        <p:txBody>
          <a:bodyPr lIns="54720" rIns="90000" tIns="91440" bIns="4680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6.07 удалось разбить противника между реками Дон и Олым. При этом только 9-ая танковая дивизия уничтожила 61 танк противника. Поэтому останавливать наступление, не достигнув благоприятной местности для обороны не следует. ... Если нам это не удастся, то противник окажется перед всем фронтом обладателем такой местности, которая обеспечит ему благоприятные условия для танковой атаки в направлении север-юг. Следует учесть, что русские используют свою возможность свободы действия для создания мощного удара по нашему северному флангу. ...</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0 июля Франц Гальдер делает в своём дневнике следующую запись:</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еверный участок фронта Вейхса снова под ударами противника. Смена 9-й и 11-й танковых дивизий затруднена.</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До 25 января 1943 года советские войска обороняли Воронеж, выполняя важную задачу — прикрывали Москву с юга и сковывали силы венгерских дивизий. В ходе наступательной операции «Малый Сатурн», а затем Острогожско-Россошанской и Воронежско-Касторненской наступательных операций силами Воронежского фронта были разгромлены 2-я немецкая, 8-я итальянская и 2-я венгерская армии. При этом потери немецких войск составили 320 тысяч солдат и офицеров. Под Воронежем были разгромлены 26 немецких дивизий, а количество пленных было больше, чем под Сталинградом. 25 января 1943 года Воронеж был освобожден.</a:t>
            </a:r>
            <a:endParaRPr b="0" lang="en-US" sz="18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pull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16">
                                  <p:stCondLst>
                                    <p:cond delay="0"/>
                                  </p:stCondLst>
                                  <p:childTnLst>
                                    <p:set>
                                      <p:cBhvr>
                                        <p:cTn id="7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77" dur="500"/>
                                        <p:tgtEl>
                                          <p:spTgt spid="319">
                                            <p:txEl>
                                              <p:pRg st="0" end="0"/>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80" dur="500"/>
                                        <p:tgtEl>
                                          <p:spTgt spid="319">
                                            <p:txEl>
                                              <p:pRg st="1" end="1"/>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83" dur="500"/>
                                        <p:tgtEl>
                                          <p:spTgt spid="319">
                                            <p:txEl>
                                              <p:pRg st="2" end="2"/>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86"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800"/>
                </a:solidFill>
                <a:latin typeface="Corbel"/>
              </a:rPr>
              <a:t>Город дрался за каждый квартал, квартал — за каждый дом».</a:t>
            </a:r>
            <a:br>
              <a:rPr sz="1600"/>
            </a:br>
            <a:endParaRPr b="1" lang="en-US" sz="1600" spc="-1" strike="noStrike">
              <a:solidFill>
                <a:srgbClr val="ffc800"/>
              </a:solidFill>
              <a:latin typeface="Corbel"/>
            </a:endParaRPr>
          </a:p>
        </p:txBody>
      </p:sp>
      <p:pic>
        <p:nvPicPr>
          <p:cNvPr id="321" name="" descr=""/>
          <p:cNvPicPr/>
          <p:nvPr/>
        </p:nvPicPr>
        <p:blipFill>
          <a:blip r:embed="rId1"/>
          <a:stretch/>
        </p:blipFill>
        <p:spPr>
          <a:xfrm>
            <a:off x="2903040" y="1483920"/>
            <a:ext cx="6248520" cy="5373720"/>
          </a:xfrm>
          <a:prstGeom prst="rect">
            <a:avLst/>
          </a:prstGeom>
          <a:ln w="0">
            <a:noFill/>
          </a:ln>
        </p:spPr>
      </p:pic>
      <p:sp>
        <p:nvSpPr>
          <p:cNvPr id="322" name="PlaceHolder 2"/>
          <p:cNvSpPr>
            <a:spLocks noGrp="1"/>
          </p:cNvSpPr>
          <p:nvPr>
            <p:ph/>
          </p:nvPr>
        </p:nvSpPr>
        <p:spPr>
          <a:xfrm>
            <a:off x="164880" y="1499760"/>
            <a:ext cx="2468520" cy="5357880"/>
          </a:xfrm>
          <a:prstGeom prst="rect">
            <a:avLst/>
          </a:prstGeom>
          <a:noFill/>
          <a:ln w="0">
            <a:noFill/>
          </a:ln>
        </p:spPr>
        <p:txBody>
          <a:bodyPr lIns="54720" rIns="90000" tIns="91440" bIns="46800" anchor="t">
            <a:normAutofit fontScale="97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1943 года Совинформбюро сообщало:</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войска Воронежского фронта, перейдя в наступления в районе Воронежа, опрокинули части немцев и полностью овладели городом Воронеж. Восточный берег р. Дон в районе западнее и юго-западнее города также очищен от немецко-фашистских войск. Количество пленных, взятых под Воронежем, к исходу 24 января увеличилось на 11 000 солдат и офицеров. Таким образом, общее количество пленных, взятых в районе Воронежского фронта, дошло до 75 000 солдат и офицеров."</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6 января 1943 года, на следующий день после освобождения Воронежа, в «Комсомольской правде» появились следующие строки: «Когда-нибудь об уличных боях в Воронеже будет написано много страниц. Этот город воевал на своих площадях и улицах в течение многих месяцев. </a:t>
            </a:r>
            <a:endParaRPr b="0" lang="en-US" sz="1300" spc="-1" strike="noStrike">
              <a:solidFill>
                <a:srgbClr val="000000"/>
              </a:solidFill>
              <a:latin typeface="Corbel"/>
            </a:endParaRPr>
          </a:p>
        </p:txBody>
      </p:sp>
      <p:pic>
        <p:nvPicPr>
          <p:cNvPr id="323" name="Picture 2" descr=""/>
          <p:cNvPicPr/>
          <p:nvPr/>
        </p:nvPicPr>
        <p:blipFill>
          <a:blip r:embed="rId2"/>
          <a:stretch/>
        </p:blipFill>
        <p:spPr>
          <a:xfrm>
            <a:off x="2928960" y="1500120"/>
            <a:ext cx="6215040" cy="53578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323"/>
                                        </p:tgtEl>
                                        <p:attrNameLst>
                                          <p:attrName>style.visibility</p:attrName>
                                        </p:attrNameLst>
                                      </p:cBhvr>
                                      <p:to>
                                        <p:strVal val="visible"/>
                                      </p:to>
                                    </p:set>
                                    <p:anim calcmode="lin" valueType="num">
                                      <p:cBhvr additive="repl">
                                        <p:cTn id="93" dur="500" fill="hold"/>
                                        <p:tgtEl>
                                          <p:spTgt spid="323"/>
                                        </p:tgtEl>
                                        <p:attrNameLst>
                                          <p:attrName>ppt_w</p:attrName>
                                        </p:attrNameLst>
                                      </p:cBhvr>
                                      <p:tavLst>
                                        <p:tav tm="0">
                                          <p:val>
                                            <p:fltVal val="0"/>
                                          </p:val>
                                        </p:tav>
                                        <p:tav tm="100000">
                                          <p:val>
                                            <p:strVal val="#ppt_w"/>
                                          </p:val>
                                        </p:tav>
                                      </p:tavLst>
                                    </p:anim>
                                    <p:anim calcmode="lin" valueType="num">
                                      <p:cBhvr additive="repl">
                                        <p:cTn id="94" dur="500" fill="hold"/>
                                        <p:tgtEl>
                                          <p:spTgt spid="323"/>
                                        </p:tgtEl>
                                        <p:attrNameLst>
                                          <p:attrName>ppt_h</p:attrName>
                                        </p:attrNameLst>
                                      </p:cBhvr>
                                      <p:tavLst>
                                        <p:tav tm="0">
                                          <p:val>
                                            <p:fltVal val="0"/>
                                          </p:val>
                                        </p:tav>
                                        <p:tav tm="100000">
                                          <p:val>
                                            <p:strVal val="#ppt_h"/>
                                          </p:val>
                                        </p:tav>
                                      </p:tavLst>
                                    </p:anim>
                                    <p:anim calcmode="lin" valueType="num">
                                      <p:cBhvr additive="repl">
                                        <p:cTn id="95" dur="500" fill="hold"/>
                                        <p:tgtEl>
                                          <p:spTgt spid="323"/>
                                        </p:tgtEl>
                                        <p:attrNameLst>
                                          <p:attrName>r</p:attrName>
                                        </p:attrNameLst>
                                      </p:cBhvr>
                                      <p:tavLst>
                                        <p:tav tm="0">
                                          <p:val>
                                            <p:strVal val="360"/>
                                          </p:val>
                                        </p:tav>
                                        <p:tav tm="100000">
                                          <p:val>
                                            <p:strVal val="0"/>
                                          </p:val>
                                        </p:tav>
                                      </p:tavLst>
                                    </p:anim>
                                    <p:animEffect filter="fade" transition="in">
                                      <p:cBhvr additive="repl">
                                        <p:cTn id="9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a:t>
            </a:r>
            <a:r>
              <a:rPr b="1" lang="en-US" sz="4500" spc="-1" strike="noStrike">
                <a:solidFill>
                  <a:srgbClr val="ffc800"/>
                </a:solidFill>
                <a:latin typeface="Arial"/>
              </a:rPr>
              <a:t>II</a:t>
            </a: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Их именами названы улицы родного города</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7:59:59Z</dcterms:created>
  <dc:creator>Admin</dc:creator>
  <dc:description/>
  <dc:language>en-US</dc:language>
  <cp:lastModifiedBy>school</cp:lastModifiedBy>
  <dcterms:modified xsi:type="dcterms:W3CDTF">2002-12-31T21:37:47Z</dcterms:modified>
  <cp:revision>11</cp:revision>
  <dc:subject/>
  <dc:title>Воронеж в годы Великой Отечественной войны </dc:title>
</cp:coreProperties>
</file>