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102475" cy="10233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A4872782-C6CE-4195-841D-2B6E3F90497B}" type="presOf" srcId="{16B531F4-5C99-42F4-A72D-160A12D90999}" destId="{7F8BD454-6388-420B-8B6B-32814A63EDE0}" srcOrd="0" destOrd="0" presId="urn:microsoft.com/office/officeart/2005/8/layout/process1"/>
    <dgm:cxn modelId="{A344A1EA-9CE1-4E9F-82C0-7AF87F698544}" type="presOf" srcId="{94B34C8A-86A4-48AB-BC62-2B06A78EE0E0}" destId="{7E69ACD9-E8B8-4E1E-802B-CD1482DC0080}" srcOrd="1" destOrd="0" presId="urn:microsoft.com/office/officeart/2005/8/layout/process1"/>
    <dgm:cxn modelId="{49F0B657-D651-4CF8-8783-67FBD58215A3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FE61CB25-A94D-4E10-BDBC-A7815A474996}" type="presOf" srcId="{1A4E86C9-D8B3-4F41-A87B-8064C88CC22F}" destId="{55FD3420-DC4D-44FF-8492-FD5B59560419}" srcOrd="0" destOrd="0" presId="urn:microsoft.com/office/officeart/2005/8/layout/process1"/>
    <dgm:cxn modelId="{9251E465-1CB3-4C38-915A-829A1F8EB14E}" type="presOf" srcId="{A5687204-B1BF-4742-A3DA-42174D87E13F}" destId="{4F53DA96-6456-4BA8-892C-C2DE5F3BA9ED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59F0A12C-247E-4B46-8E66-DA0BCA93FBE5}" type="presOf" srcId="{B08D4C0D-3840-4098-BEDC-FC1B4E6F149C}" destId="{08B4CCDD-DAAF-42BF-82C4-86158418AEEC}" srcOrd="0" destOrd="0" presId="urn:microsoft.com/office/officeart/2005/8/layout/process1"/>
    <dgm:cxn modelId="{D7491A49-FDDC-42A7-8790-AFB781890D3F}" type="presOf" srcId="{94B34C8A-86A4-48AB-BC62-2B06A78EE0E0}" destId="{9A83589B-332A-444B-ACD8-7B2855D2E811}" srcOrd="0" destOrd="0" presId="urn:microsoft.com/office/officeart/2005/8/layout/process1"/>
    <dgm:cxn modelId="{FE08DD65-40B4-4B77-A85C-519D653CB108}" type="presOf" srcId="{1A4E86C9-D8B3-4F41-A87B-8064C88CC22F}" destId="{F3BF06FC-E0D2-4D18-969F-775B62B4BC06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FA039E3C-5A0E-47CA-A0BC-638EF9C8C1AF}" type="presOf" srcId="{BB08E7A4-36F4-4528-942A-0E24FC32271C}" destId="{EB436B3B-A7FF-4E65-956F-7E1BD10D2B5C}" srcOrd="0" destOrd="0" presId="urn:microsoft.com/office/officeart/2005/8/layout/process1"/>
    <dgm:cxn modelId="{FC8058F3-EC38-4C05-874D-E7178EC6168F}" type="presOf" srcId="{8F0FC6C1-EF51-49B6-9387-E39504EC2E28}" destId="{C23EAE2F-34A8-4F47-8977-E305B0990301}" srcOrd="0" destOrd="0" presId="urn:microsoft.com/office/officeart/2005/8/layout/process1"/>
    <dgm:cxn modelId="{CC794F86-260E-45E6-AFE3-393DD94B06C4}" type="presOf" srcId="{433AD4CE-FDC7-4D9F-BDA3-15E51F888D72}" destId="{0F1820D9-D104-4990-B94D-CEB89113585B}" srcOrd="1" destOrd="0" presId="urn:microsoft.com/office/officeart/2005/8/layout/process1"/>
    <dgm:cxn modelId="{60D62CF1-D21F-4ECF-A88F-92FCB9C10936}" type="presParOf" srcId="{08B4CCDD-DAAF-42BF-82C4-86158418AEEC}" destId="{EB436B3B-A7FF-4E65-956F-7E1BD10D2B5C}" srcOrd="0" destOrd="0" presId="urn:microsoft.com/office/officeart/2005/8/layout/process1"/>
    <dgm:cxn modelId="{B5FBAC7E-476B-4272-8B9A-AC7325C1BD8B}" type="presParOf" srcId="{08B4CCDD-DAAF-42BF-82C4-86158418AEEC}" destId="{9A83589B-332A-444B-ACD8-7B2855D2E811}" srcOrd="1" destOrd="0" presId="urn:microsoft.com/office/officeart/2005/8/layout/process1"/>
    <dgm:cxn modelId="{AB5B9CB1-A1D2-4466-971A-FBD8C09E491B}" type="presParOf" srcId="{9A83589B-332A-444B-ACD8-7B2855D2E811}" destId="{7E69ACD9-E8B8-4E1E-802B-CD1482DC0080}" srcOrd="0" destOrd="0" presId="urn:microsoft.com/office/officeart/2005/8/layout/process1"/>
    <dgm:cxn modelId="{11A2F8F9-E936-4209-858A-A8408963B97E}" type="presParOf" srcId="{08B4CCDD-DAAF-42BF-82C4-86158418AEEC}" destId="{C23EAE2F-34A8-4F47-8977-E305B0990301}" srcOrd="2" destOrd="0" presId="urn:microsoft.com/office/officeart/2005/8/layout/process1"/>
    <dgm:cxn modelId="{4DB8DC8B-60BA-4D26-9866-AEA5ABE24AD4}" type="presParOf" srcId="{08B4CCDD-DAAF-42BF-82C4-86158418AEEC}" destId="{55FD3420-DC4D-44FF-8492-FD5B59560419}" srcOrd="3" destOrd="0" presId="urn:microsoft.com/office/officeart/2005/8/layout/process1"/>
    <dgm:cxn modelId="{15E5DA04-CBC2-46AD-85EE-4E4A6FDD2215}" type="presParOf" srcId="{55FD3420-DC4D-44FF-8492-FD5B59560419}" destId="{F3BF06FC-E0D2-4D18-969F-775B62B4BC06}" srcOrd="0" destOrd="0" presId="urn:microsoft.com/office/officeart/2005/8/layout/process1"/>
    <dgm:cxn modelId="{7D457C43-5C6E-4E81-A167-74C21E8ADDCE}" type="presParOf" srcId="{08B4CCDD-DAAF-42BF-82C4-86158418AEEC}" destId="{4F53DA96-6456-4BA8-892C-C2DE5F3BA9ED}" srcOrd="4" destOrd="0" presId="urn:microsoft.com/office/officeart/2005/8/layout/process1"/>
    <dgm:cxn modelId="{255E277A-0BC5-4671-B1E3-C7F3F422EFA5}" type="presParOf" srcId="{08B4CCDD-DAAF-42BF-82C4-86158418AEEC}" destId="{44AD9C73-83FE-456F-A8D6-A11779589466}" srcOrd="5" destOrd="0" presId="urn:microsoft.com/office/officeart/2005/8/layout/process1"/>
    <dgm:cxn modelId="{38EAA656-9B1B-4735-980E-F365E20ECF6A}" type="presParOf" srcId="{44AD9C73-83FE-456F-A8D6-A11779589466}" destId="{0F1820D9-D104-4990-B94D-CEB89113585B}" srcOrd="0" destOrd="0" presId="urn:microsoft.com/office/officeart/2005/8/layout/process1"/>
    <dgm:cxn modelId="{A115980C-A607-4CF1-B7A9-E926B2CF3351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8F4294-53B1-4830-B33E-E64EEA4DD355}" type="presOf" srcId="{B08D4C0D-3840-4098-BEDC-FC1B4E6F149C}" destId="{08B4CCDD-DAAF-42BF-82C4-86158418AEEC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7022755C-E526-4391-8C12-EA5E147415FC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CCD9E432-E0ED-48A7-B41C-682AED89B734}" type="presOf" srcId="{BB08E7A4-36F4-4528-942A-0E24FC32271C}" destId="{EB436B3B-A7FF-4E65-956F-7E1BD10D2B5C}" srcOrd="0" destOrd="0" presId="urn:microsoft.com/office/officeart/2005/8/layout/process1"/>
    <dgm:cxn modelId="{D68CA907-28AB-4FE1-8C4D-703C2D07C925}" type="presOf" srcId="{8F0FC6C1-EF51-49B6-9387-E39504EC2E28}" destId="{C23EAE2F-34A8-4F47-8977-E305B0990301}" srcOrd="0" destOrd="0" presId="urn:microsoft.com/office/officeart/2005/8/layout/process1"/>
    <dgm:cxn modelId="{02B5285F-E5F6-4CEF-AC22-F5BAEA8DFD4D}" type="presOf" srcId="{433AD4CE-FDC7-4D9F-BDA3-15E51F888D72}" destId="{0F1820D9-D104-4990-B94D-CEB89113585B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E08F0F40-9C0F-46E9-85B9-5550F20C9941}" type="presOf" srcId="{94B34C8A-86A4-48AB-BC62-2B06A78EE0E0}" destId="{9A83589B-332A-444B-ACD8-7B2855D2E811}" srcOrd="0" destOrd="0" presId="urn:microsoft.com/office/officeart/2005/8/layout/process1"/>
    <dgm:cxn modelId="{6BE7639B-0115-462D-9FB2-C114278F38A3}" type="presOf" srcId="{16B531F4-5C99-42F4-A72D-160A12D90999}" destId="{7F8BD454-6388-420B-8B6B-32814A63EDE0}" srcOrd="0" destOrd="0" presId="urn:microsoft.com/office/officeart/2005/8/layout/process1"/>
    <dgm:cxn modelId="{0163ED88-79DB-47CF-A82F-88CF15007AF4}" type="presOf" srcId="{1A4E86C9-D8B3-4F41-A87B-8064C88CC22F}" destId="{F3BF06FC-E0D2-4D18-969F-775B62B4BC06}" srcOrd="1" destOrd="0" presId="urn:microsoft.com/office/officeart/2005/8/layout/process1"/>
    <dgm:cxn modelId="{B6DCBE06-F2C6-45FC-B97D-DAE0D85FF6FB}" type="presOf" srcId="{94B34C8A-86A4-48AB-BC62-2B06A78EE0E0}" destId="{7E69ACD9-E8B8-4E1E-802B-CD1482DC0080}" srcOrd="1" destOrd="0" presId="urn:microsoft.com/office/officeart/2005/8/layout/process1"/>
    <dgm:cxn modelId="{168BCC2F-F053-4D2F-8F55-89CC65AB0C59}" type="presOf" srcId="{1A4E86C9-D8B3-4F41-A87B-8064C88CC22F}" destId="{55FD3420-DC4D-44FF-8492-FD5B59560419}" srcOrd="0" destOrd="0" presId="urn:microsoft.com/office/officeart/2005/8/layout/process1"/>
    <dgm:cxn modelId="{AB10A6EC-E918-4312-B066-5C6540A08EDB}" type="presOf" srcId="{A5687204-B1BF-4742-A3DA-42174D87E13F}" destId="{4F53DA96-6456-4BA8-892C-C2DE5F3BA9ED}" srcOrd="0" destOrd="0" presId="urn:microsoft.com/office/officeart/2005/8/layout/process1"/>
    <dgm:cxn modelId="{B396073A-4BDD-40C2-943A-EEA25EC6D1AD}" type="presParOf" srcId="{08B4CCDD-DAAF-42BF-82C4-86158418AEEC}" destId="{EB436B3B-A7FF-4E65-956F-7E1BD10D2B5C}" srcOrd="0" destOrd="0" presId="urn:microsoft.com/office/officeart/2005/8/layout/process1"/>
    <dgm:cxn modelId="{9E57D71E-CB3A-4B86-9EEE-3325BAFD031B}" type="presParOf" srcId="{08B4CCDD-DAAF-42BF-82C4-86158418AEEC}" destId="{9A83589B-332A-444B-ACD8-7B2855D2E811}" srcOrd="1" destOrd="0" presId="urn:microsoft.com/office/officeart/2005/8/layout/process1"/>
    <dgm:cxn modelId="{3832EDEC-DD88-4055-884D-DE8D78A8B5A1}" type="presParOf" srcId="{9A83589B-332A-444B-ACD8-7B2855D2E811}" destId="{7E69ACD9-E8B8-4E1E-802B-CD1482DC0080}" srcOrd="0" destOrd="0" presId="urn:microsoft.com/office/officeart/2005/8/layout/process1"/>
    <dgm:cxn modelId="{EF35588E-4AC7-429F-BCDB-22521D7F1190}" type="presParOf" srcId="{08B4CCDD-DAAF-42BF-82C4-86158418AEEC}" destId="{C23EAE2F-34A8-4F47-8977-E305B0990301}" srcOrd="2" destOrd="0" presId="urn:microsoft.com/office/officeart/2005/8/layout/process1"/>
    <dgm:cxn modelId="{F3D4B029-92C5-41AD-8DB7-CF12AA8D4942}" type="presParOf" srcId="{08B4CCDD-DAAF-42BF-82C4-86158418AEEC}" destId="{55FD3420-DC4D-44FF-8492-FD5B59560419}" srcOrd="3" destOrd="0" presId="urn:microsoft.com/office/officeart/2005/8/layout/process1"/>
    <dgm:cxn modelId="{FCE0CBDE-EE11-4F67-9DDB-BABE2D57ECD6}" type="presParOf" srcId="{55FD3420-DC4D-44FF-8492-FD5B59560419}" destId="{F3BF06FC-E0D2-4D18-969F-775B62B4BC06}" srcOrd="0" destOrd="0" presId="urn:microsoft.com/office/officeart/2005/8/layout/process1"/>
    <dgm:cxn modelId="{393C9108-253B-4D58-823C-404DAB7D483D}" type="presParOf" srcId="{08B4CCDD-DAAF-42BF-82C4-86158418AEEC}" destId="{4F53DA96-6456-4BA8-892C-C2DE5F3BA9ED}" srcOrd="4" destOrd="0" presId="urn:microsoft.com/office/officeart/2005/8/layout/process1"/>
    <dgm:cxn modelId="{108C2A60-B173-41DD-9A5A-4F5BB59C42C5}" type="presParOf" srcId="{08B4CCDD-DAAF-42BF-82C4-86158418AEEC}" destId="{44AD9C73-83FE-456F-A8D6-A11779589466}" srcOrd="5" destOrd="0" presId="urn:microsoft.com/office/officeart/2005/8/layout/process1"/>
    <dgm:cxn modelId="{13378900-A739-43B4-85CC-C8089C4F5630}" type="presParOf" srcId="{44AD9C73-83FE-456F-A8D6-A11779589466}" destId="{0F1820D9-D104-4990-B94D-CEB89113585B}" srcOrd="0" destOrd="0" presId="urn:microsoft.com/office/officeart/2005/8/layout/process1"/>
    <dgm:cxn modelId="{FAED63E3-3DB3-4BFF-9E91-51056667DEA7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B5DDC8-BDB9-42C3-91CF-72C0B32BCD4C}" type="presOf" srcId="{1A4E86C9-D8B3-4F41-A87B-8064C88CC22F}" destId="{55FD3420-DC4D-44FF-8492-FD5B59560419}" srcOrd="0" destOrd="0" presId="urn:microsoft.com/office/officeart/2005/8/layout/process1"/>
    <dgm:cxn modelId="{7C585608-1C5E-42D8-B27C-0F4B54DAE6D4}" type="presOf" srcId="{B08D4C0D-3840-4098-BEDC-FC1B4E6F149C}" destId="{08B4CCDD-DAAF-42BF-82C4-86158418AEEC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608B894-2FD3-4587-A818-F383177AB67D}" type="presOf" srcId="{BB08E7A4-36F4-4528-942A-0E24FC32271C}" destId="{EB436B3B-A7FF-4E65-956F-7E1BD10D2B5C}" srcOrd="0" destOrd="0" presId="urn:microsoft.com/office/officeart/2005/8/layout/process1"/>
    <dgm:cxn modelId="{2C6F48C9-E37B-4FAB-B269-21CF76C51BE8}" type="presOf" srcId="{94B34C8A-86A4-48AB-BC62-2B06A78EE0E0}" destId="{9A83589B-332A-444B-ACD8-7B2855D2E811}" srcOrd="0" destOrd="0" presId="urn:microsoft.com/office/officeart/2005/8/layout/process1"/>
    <dgm:cxn modelId="{3563AD2D-74F4-4D99-BCB1-2E32E97F43EC}" type="presOf" srcId="{1A4E86C9-D8B3-4F41-A87B-8064C88CC22F}" destId="{F3BF06FC-E0D2-4D18-969F-775B62B4BC06}" srcOrd="1" destOrd="0" presId="urn:microsoft.com/office/officeart/2005/8/layout/process1"/>
    <dgm:cxn modelId="{55E106A5-4588-42E5-A1A1-414DA82E6EDD}" type="presOf" srcId="{8F0FC6C1-EF51-49B6-9387-E39504EC2E28}" destId="{C23EAE2F-34A8-4F47-8977-E305B099030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3263D238-20F6-4B81-B938-4B5E68FA8B5D}" type="presOf" srcId="{A5687204-B1BF-4742-A3DA-42174D87E13F}" destId="{4F53DA96-6456-4BA8-892C-C2DE5F3BA9ED}" srcOrd="0" destOrd="0" presId="urn:microsoft.com/office/officeart/2005/8/layout/process1"/>
    <dgm:cxn modelId="{9C1FFFA0-7642-4EFA-9AC3-146E4600CDAE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2D4E3E9F-21FE-426A-AA98-F4FEDB14042B}" type="presOf" srcId="{433AD4CE-FDC7-4D9F-BDA3-15E51F888D72}" destId="{0F1820D9-D104-4990-B94D-CEB89113585B}" srcOrd="1" destOrd="0" presId="urn:microsoft.com/office/officeart/2005/8/layout/process1"/>
    <dgm:cxn modelId="{F700F851-A2F8-4181-B0B8-4C864318A610}" type="presOf" srcId="{94B34C8A-86A4-48AB-BC62-2B06A78EE0E0}" destId="{7E69ACD9-E8B8-4E1E-802B-CD1482DC0080}" srcOrd="1" destOrd="0" presId="urn:microsoft.com/office/officeart/2005/8/layout/process1"/>
    <dgm:cxn modelId="{FF548275-AA10-41FB-9FCA-6704A8164300}" type="presOf" srcId="{16B531F4-5C99-42F4-A72D-160A12D90999}" destId="{7F8BD454-6388-420B-8B6B-32814A63EDE0}" srcOrd="0" destOrd="0" presId="urn:microsoft.com/office/officeart/2005/8/layout/process1"/>
    <dgm:cxn modelId="{FF0C1C45-CC88-4915-BB27-076728C9CD3F}" type="presParOf" srcId="{08B4CCDD-DAAF-42BF-82C4-86158418AEEC}" destId="{EB436B3B-A7FF-4E65-956F-7E1BD10D2B5C}" srcOrd="0" destOrd="0" presId="urn:microsoft.com/office/officeart/2005/8/layout/process1"/>
    <dgm:cxn modelId="{88AD55D3-C70E-42A4-95F3-43146E5064B3}" type="presParOf" srcId="{08B4CCDD-DAAF-42BF-82C4-86158418AEEC}" destId="{9A83589B-332A-444B-ACD8-7B2855D2E811}" srcOrd="1" destOrd="0" presId="urn:microsoft.com/office/officeart/2005/8/layout/process1"/>
    <dgm:cxn modelId="{ED2AB286-86D4-47AA-8CF2-03AF5F46EECD}" type="presParOf" srcId="{9A83589B-332A-444B-ACD8-7B2855D2E811}" destId="{7E69ACD9-E8B8-4E1E-802B-CD1482DC0080}" srcOrd="0" destOrd="0" presId="urn:microsoft.com/office/officeart/2005/8/layout/process1"/>
    <dgm:cxn modelId="{46C20C73-6999-46BD-A83C-046013573F26}" type="presParOf" srcId="{08B4CCDD-DAAF-42BF-82C4-86158418AEEC}" destId="{C23EAE2F-34A8-4F47-8977-E305B0990301}" srcOrd="2" destOrd="0" presId="urn:microsoft.com/office/officeart/2005/8/layout/process1"/>
    <dgm:cxn modelId="{875711D2-A5A5-4507-AF46-F2B49220A5A9}" type="presParOf" srcId="{08B4CCDD-DAAF-42BF-82C4-86158418AEEC}" destId="{55FD3420-DC4D-44FF-8492-FD5B59560419}" srcOrd="3" destOrd="0" presId="urn:microsoft.com/office/officeart/2005/8/layout/process1"/>
    <dgm:cxn modelId="{D7D4B6B6-0BE1-423F-B4FA-7FD06CFAB444}" type="presParOf" srcId="{55FD3420-DC4D-44FF-8492-FD5B59560419}" destId="{F3BF06FC-E0D2-4D18-969F-775B62B4BC06}" srcOrd="0" destOrd="0" presId="urn:microsoft.com/office/officeart/2005/8/layout/process1"/>
    <dgm:cxn modelId="{2F607A72-1DB3-45BC-A4B0-164CDC50145A}" type="presParOf" srcId="{08B4CCDD-DAAF-42BF-82C4-86158418AEEC}" destId="{4F53DA96-6456-4BA8-892C-C2DE5F3BA9ED}" srcOrd="4" destOrd="0" presId="urn:microsoft.com/office/officeart/2005/8/layout/process1"/>
    <dgm:cxn modelId="{2539F9AF-516F-4C08-894B-5EC55C122EA3}" type="presParOf" srcId="{08B4CCDD-DAAF-42BF-82C4-86158418AEEC}" destId="{44AD9C73-83FE-456F-A8D6-A11779589466}" srcOrd="5" destOrd="0" presId="urn:microsoft.com/office/officeart/2005/8/layout/process1"/>
    <dgm:cxn modelId="{459A558F-3571-46C9-89AD-28BF2009D2E8}" type="presParOf" srcId="{44AD9C73-83FE-456F-A8D6-A11779589466}" destId="{0F1820D9-D104-4990-B94D-CEB89113585B}" srcOrd="0" destOrd="0" presId="urn:microsoft.com/office/officeart/2005/8/layout/process1"/>
    <dgm:cxn modelId="{2129F462-1917-4A92-B63D-01B38BE94F1E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396B68D-0A51-46C9-8CDE-3CE603822AC4}" type="presOf" srcId="{8F0FC6C1-EF51-49B6-9387-E39504EC2E28}" destId="{C23EAE2F-34A8-4F47-8977-E305B0990301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B280409B-A309-4FA0-9D4A-35D96B57F4DF}" type="presOf" srcId="{94B34C8A-86A4-48AB-BC62-2B06A78EE0E0}" destId="{9A83589B-332A-444B-ACD8-7B2855D2E81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99A4FD4F-C3ED-4BB1-94A7-4B4E52850422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6318E626-6F19-4A44-9CF4-5592B38BF502}" type="presOf" srcId="{B08D4C0D-3840-4098-BEDC-FC1B4E6F149C}" destId="{08B4CCDD-DAAF-42BF-82C4-86158418AEEC}" srcOrd="0" destOrd="0" presId="urn:microsoft.com/office/officeart/2005/8/layout/process1"/>
    <dgm:cxn modelId="{EC5A3576-D1B9-4997-81A8-FD76788EB0CB}" type="presOf" srcId="{BB08E7A4-36F4-4528-942A-0E24FC32271C}" destId="{EB436B3B-A7FF-4E65-956F-7E1BD10D2B5C}" srcOrd="0" destOrd="0" presId="urn:microsoft.com/office/officeart/2005/8/layout/process1"/>
    <dgm:cxn modelId="{8C68C4CC-F2EA-481E-A981-AEBF978FCB29}" type="presOf" srcId="{433AD4CE-FDC7-4D9F-BDA3-15E51F888D72}" destId="{0F1820D9-D104-4990-B94D-CEB89113585B}" srcOrd="1" destOrd="0" presId="urn:microsoft.com/office/officeart/2005/8/layout/process1"/>
    <dgm:cxn modelId="{48BBC828-6827-4F1E-9964-1CA83BD719C7}" type="presOf" srcId="{1A4E86C9-D8B3-4F41-A87B-8064C88CC22F}" destId="{55FD3420-DC4D-44FF-8492-FD5B59560419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486B31C-E26F-419B-B355-D8C450F9D930}" type="presOf" srcId="{A5687204-B1BF-4742-A3DA-42174D87E13F}" destId="{4F53DA96-6456-4BA8-892C-C2DE5F3BA9ED}" srcOrd="0" destOrd="0" presId="urn:microsoft.com/office/officeart/2005/8/layout/process1"/>
    <dgm:cxn modelId="{4EDA5895-6DB4-466E-AFF2-55314E9BAB2D}" type="presOf" srcId="{1A4E86C9-D8B3-4F41-A87B-8064C88CC22F}" destId="{F3BF06FC-E0D2-4D18-969F-775B62B4BC06}" srcOrd="1" destOrd="0" presId="urn:microsoft.com/office/officeart/2005/8/layout/process1"/>
    <dgm:cxn modelId="{D4DD761B-14CE-4E64-8EFD-CF8D3093639F}" type="presOf" srcId="{16B531F4-5C99-42F4-A72D-160A12D90999}" destId="{7F8BD454-6388-420B-8B6B-32814A63EDE0}" srcOrd="0" destOrd="0" presId="urn:microsoft.com/office/officeart/2005/8/layout/process1"/>
    <dgm:cxn modelId="{5DF3148C-3743-40F8-8991-F8B06F4CAC6B}" type="presOf" srcId="{94B34C8A-86A4-48AB-BC62-2B06A78EE0E0}" destId="{7E69ACD9-E8B8-4E1E-802B-CD1482DC0080}" srcOrd="1" destOrd="0" presId="urn:microsoft.com/office/officeart/2005/8/layout/process1"/>
    <dgm:cxn modelId="{A0E2E257-9E20-4268-87F6-FEF09E00B62A}" type="presParOf" srcId="{08B4CCDD-DAAF-42BF-82C4-86158418AEEC}" destId="{EB436B3B-A7FF-4E65-956F-7E1BD10D2B5C}" srcOrd="0" destOrd="0" presId="urn:microsoft.com/office/officeart/2005/8/layout/process1"/>
    <dgm:cxn modelId="{9993CB31-5518-4EED-B20A-916C77D9124A}" type="presParOf" srcId="{08B4CCDD-DAAF-42BF-82C4-86158418AEEC}" destId="{9A83589B-332A-444B-ACD8-7B2855D2E811}" srcOrd="1" destOrd="0" presId="urn:microsoft.com/office/officeart/2005/8/layout/process1"/>
    <dgm:cxn modelId="{46FCEE5F-8C1A-42C7-86AA-5FEC39081B8A}" type="presParOf" srcId="{9A83589B-332A-444B-ACD8-7B2855D2E811}" destId="{7E69ACD9-E8B8-4E1E-802B-CD1482DC0080}" srcOrd="0" destOrd="0" presId="urn:microsoft.com/office/officeart/2005/8/layout/process1"/>
    <dgm:cxn modelId="{7349F26D-A54B-47FB-8535-018464EA8C7D}" type="presParOf" srcId="{08B4CCDD-DAAF-42BF-82C4-86158418AEEC}" destId="{C23EAE2F-34A8-4F47-8977-E305B0990301}" srcOrd="2" destOrd="0" presId="urn:microsoft.com/office/officeart/2005/8/layout/process1"/>
    <dgm:cxn modelId="{CD55FDA7-BAFA-409C-A8E6-EF3882B07B87}" type="presParOf" srcId="{08B4CCDD-DAAF-42BF-82C4-86158418AEEC}" destId="{55FD3420-DC4D-44FF-8492-FD5B59560419}" srcOrd="3" destOrd="0" presId="urn:microsoft.com/office/officeart/2005/8/layout/process1"/>
    <dgm:cxn modelId="{7AB10664-276F-48DC-B5F0-6719A9A5C188}" type="presParOf" srcId="{55FD3420-DC4D-44FF-8492-FD5B59560419}" destId="{F3BF06FC-E0D2-4D18-969F-775B62B4BC06}" srcOrd="0" destOrd="0" presId="urn:microsoft.com/office/officeart/2005/8/layout/process1"/>
    <dgm:cxn modelId="{CC5B72DD-AA1E-4B1B-A19B-20A66E3D2E1C}" type="presParOf" srcId="{08B4CCDD-DAAF-42BF-82C4-86158418AEEC}" destId="{4F53DA96-6456-4BA8-892C-C2DE5F3BA9ED}" srcOrd="4" destOrd="0" presId="urn:microsoft.com/office/officeart/2005/8/layout/process1"/>
    <dgm:cxn modelId="{F0997EE3-2818-46DA-89E6-F0C21F7A4139}" type="presParOf" srcId="{08B4CCDD-DAAF-42BF-82C4-86158418AEEC}" destId="{44AD9C73-83FE-456F-A8D6-A11779589466}" srcOrd="5" destOrd="0" presId="urn:microsoft.com/office/officeart/2005/8/layout/process1"/>
    <dgm:cxn modelId="{84AEAC47-0D28-4FF7-BF7E-4D0C9BA737CA}" type="presParOf" srcId="{44AD9C73-83FE-456F-A8D6-A11779589466}" destId="{0F1820D9-D104-4990-B94D-CEB89113585B}" srcOrd="0" destOrd="0" presId="urn:microsoft.com/office/officeart/2005/8/layout/process1"/>
    <dgm:cxn modelId="{D5485FCC-5940-4B74-B3C4-DF81DECEDC14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C0067392-BD96-4855-BBBC-3637B0625EA9}" type="presOf" srcId="{94B34C8A-86A4-48AB-BC62-2B06A78EE0E0}" destId="{7E69ACD9-E8B8-4E1E-802B-CD1482DC0080}" srcOrd="1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7C982F74-E04E-4683-AB00-26B1449A96A1}" type="presOf" srcId="{16B531F4-5C99-42F4-A72D-160A12D90999}" destId="{7F8BD454-6388-420B-8B6B-32814A63EDE0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2C4C1A7E-5384-46F7-A7A1-E793B6276AEB}" type="presOf" srcId="{433AD4CE-FDC7-4D9F-BDA3-15E51F888D72}" destId="{0F1820D9-D104-4990-B94D-CEB89113585B}" srcOrd="1" destOrd="0" presId="urn:microsoft.com/office/officeart/2005/8/layout/process1"/>
    <dgm:cxn modelId="{5207BA30-8AC9-4BDC-9E39-D6FAD764E088}" type="presOf" srcId="{8F0FC6C1-EF51-49B6-9387-E39504EC2E28}" destId="{C23EAE2F-34A8-4F47-8977-E305B0990301}" srcOrd="0" destOrd="0" presId="urn:microsoft.com/office/officeart/2005/8/layout/process1"/>
    <dgm:cxn modelId="{BCA4DB5B-0A49-4C53-ABC0-7C6BE01EEE09}" type="presOf" srcId="{94B34C8A-86A4-48AB-BC62-2B06A78EE0E0}" destId="{9A83589B-332A-444B-ACD8-7B2855D2E811}" srcOrd="0" destOrd="0" presId="urn:microsoft.com/office/officeart/2005/8/layout/process1"/>
    <dgm:cxn modelId="{F2A43E02-6DF2-4249-B5DB-86215A6DB7C2}" type="presOf" srcId="{A5687204-B1BF-4742-A3DA-42174D87E13F}" destId="{4F53DA96-6456-4BA8-892C-C2DE5F3BA9ED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434A3C49-9B9D-45DB-B794-C9BCA4C66F81}" type="presOf" srcId="{433AD4CE-FDC7-4D9F-BDA3-15E51F888D72}" destId="{44AD9C73-83FE-456F-A8D6-A11779589466}" srcOrd="0" destOrd="0" presId="urn:microsoft.com/office/officeart/2005/8/layout/process1"/>
    <dgm:cxn modelId="{A535C638-F752-450B-B2C6-19845D4A20B3}" type="presOf" srcId="{B08D4C0D-3840-4098-BEDC-FC1B4E6F149C}" destId="{08B4CCDD-DAAF-42BF-82C4-86158418AEEC}" srcOrd="0" destOrd="0" presId="urn:microsoft.com/office/officeart/2005/8/layout/process1"/>
    <dgm:cxn modelId="{9FC31C60-3D31-4B2C-B1CE-026CE83D511E}" type="presOf" srcId="{BB08E7A4-36F4-4528-942A-0E24FC32271C}" destId="{EB436B3B-A7FF-4E65-956F-7E1BD10D2B5C}" srcOrd="0" destOrd="0" presId="urn:microsoft.com/office/officeart/2005/8/layout/process1"/>
    <dgm:cxn modelId="{E7C5C0F1-3529-46ED-AA42-73E6D2EF4B9D}" type="presOf" srcId="{1A4E86C9-D8B3-4F41-A87B-8064C88CC22F}" destId="{F3BF06FC-E0D2-4D18-969F-775B62B4BC06}" srcOrd="1" destOrd="0" presId="urn:microsoft.com/office/officeart/2005/8/layout/process1"/>
    <dgm:cxn modelId="{228D1C77-4036-4C3B-979D-6B76610C8470}" type="presOf" srcId="{1A4E86C9-D8B3-4F41-A87B-8064C88CC22F}" destId="{55FD3420-DC4D-44FF-8492-FD5B59560419}" srcOrd="0" destOrd="0" presId="urn:microsoft.com/office/officeart/2005/8/layout/process1"/>
    <dgm:cxn modelId="{3DEF5781-0E1E-4D38-872A-293628CBDDC5}" type="presParOf" srcId="{08B4CCDD-DAAF-42BF-82C4-86158418AEEC}" destId="{EB436B3B-A7FF-4E65-956F-7E1BD10D2B5C}" srcOrd="0" destOrd="0" presId="urn:microsoft.com/office/officeart/2005/8/layout/process1"/>
    <dgm:cxn modelId="{FFE6880A-026E-4FB0-97C0-211DD24DF064}" type="presParOf" srcId="{08B4CCDD-DAAF-42BF-82C4-86158418AEEC}" destId="{9A83589B-332A-444B-ACD8-7B2855D2E811}" srcOrd="1" destOrd="0" presId="urn:microsoft.com/office/officeart/2005/8/layout/process1"/>
    <dgm:cxn modelId="{A0E3CB02-5932-4E5C-8829-A32F9561E70A}" type="presParOf" srcId="{9A83589B-332A-444B-ACD8-7B2855D2E811}" destId="{7E69ACD9-E8B8-4E1E-802B-CD1482DC0080}" srcOrd="0" destOrd="0" presId="urn:microsoft.com/office/officeart/2005/8/layout/process1"/>
    <dgm:cxn modelId="{F9FA8743-8760-480E-A281-18F512F3A05A}" type="presParOf" srcId="{08B4CCDD-DAAF-42BF-82C4-86158418AEEC}" destId="{C23EAE2F-34A8-4F47-8977-E305B0990301}" srcOrd="2" destOrd="0" presId="urn:microsoft.com/office/officeart/2005/8/layout/process1"/>
    <dgm:cxn modelId="{ADD4A1C9-F9CF-4A94-BC6B-6E31DF03E09D}" type="presParOf" srcId="{08B4CCDD-DAAF-42BF-82C4-86158418AEEC}" destId="{55FD3420-DC4D-44FF-8492-FD5B59560419}" srcOrd="3" destOrd="0" presId="urn:microsoft.com/office/officeart/2005/8/layout/process1"/>
    <dgm:cxn modelId="{B9FD098E-CACC-492F-9767-4D89AE2E22CD}" type="presParOf" srcId="{55FD3420-DC4D-44FF-8492-FD5B59560419}" destId="{F3BF06FC-E0D2-4D18-969F-775B62B4BC06}" srcOrd="0" destOrd="0" presId="urn:microsoft.com/office/officeart/2005/8/layout/process1"/>
    <dgm:cxn modelId="{04BD437B-8444-476D-A719-DC01EA6AE816}" type="presParOf" srcId="{08B4CCDD-DAAF-42BF-82C4-86158418AEEC}" destId="{4F53DA96-6456-4BA8-892C-C2DE5F3BA9ED}" srcOrd="4" destOrd="0" presId="urn:microsoft.com/office/officeart/2005/8/layout/process1"/>
    <dgm:cxn modelId="{573CFCA1-3258-492B-9F71-DEDC2A705072}" type="presParOf" srcId="{08B4CCDD-DAAF-42BF-82C4-86158418AEEC}" destId="{44AD9C73-83FE-456F-A8D6-A11779589466}" srcOrd="5" destOrd="0" presId="urn:microsoft.com/office/officeart/2005/8/layout/process1"/>
    <dgm:cxn modelId="{25F386DE-B14B-4E7D-9A58-EAC99512D522}" type="presParOf" srcId="{44AD9C73-83FE-456F-A8D6-A11779589466}" destId="{0F1820D9-D104-4990-B94D-CEB89113585B}" srcOrd="0" destOrd="0" presId="urn:microsoft.com/office/officeart/2005/8/layout/process1"/>
    <dgm:cxn modelId="{3656DE0C-BF99-485D-88CC-45357768344C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E2882-8F48-4697-91AE-3796C196E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7760" cy="3838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0280" y="4860720"/>
            <a:ext cx="5681520" cy="4604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4023000" y="9719640"/>
            <a:ext cx="30772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E27A1-3302-4122-9670-0B008ED8FA2F}" type="slidenum">
              <a:rPr b="0" lang="ru-RU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B03-CA8B-4CF0-9B2A-C61D6C27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C37-A164-4683-9BD2-EF52803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6C1-D44F-4FFA-9FD9-9458F6D5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59B-4F19-45EC-A01E-E0354BDD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2BA-2D1B-4932-BBC0-D5186E07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496-A33F-4C3D-B27C-239970E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63F-6C05-4B45-80A9-19ECE0DD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35A-8C68-4A30-850F-6BF47D58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BE4-0671-47AA-80CF-73F4F6B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B27-81C9-4E19-B5A5-8E613FA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684-1DE2-4F2F-8EC3-2340C7A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E7E-ECFA-4F9C-A40A-504A23B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338653F-1B8D-483D-A0B4-97EA78921A6D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bernardleong.com/wp-content/uploads/2013/07/iStock_000023693337Medium.jpg"/>
          <p:cNvPicPr/>
          <p:nvPr/>
        </p:nvPicPr>
        <p:blipFill>
          <a:blip r:embed="rId1"/>
          <a:srcRect l="-49257" t="0" r="-52910" b="0"/>
          <a:stretch/>
        </p:blipFill>
        <p:spPr>
          <a:xfrm>
            <a:off x="59040" y="2711520"/>
            <a:ext cx="8977320" cy="4146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7640" y="119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64653"/>
                </a:solidFill>
                <a:latin typeface="Bookman Old Style"/>
              </a:rPr>
              <a:t>Всё самое главное, что вам нужно знать про Customer Development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38680" y="6381360"/>
            <a:ext cx="267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©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аннапов А.Р.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4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2771640" y="1268640"/>
            <a:ext cx="367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Если вы не понимаете, чего в действительности хотят потребители, вы рискуете создать продукт, который никто не захочет пок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наете ли вы своих потребителей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7" name="Picture 2" descr="http://marketing-now.ru/wp-content/uploads/2015/10/111.jpg"/>
          <p:cNvPicPr/>
          <p:nvPr/>
        </p:nvPicPr>
        <p:blipFill>
          <a:blip r:embed="rId1"/>
          <a:stretch/>
        </p:blipFill>
        <p:spPr>
          <a:xfrm>
            <a:off x="2483640" y="4077000"/>
            <a:ext cx="4320000" cy="216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640" y="1196640"/>
            <a:ext cx="8280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Нам кажется, что мы знаем, что нужно покупателю, но чаще всего ошибаемся. И пусть мы знаем своё дело – мы всё равно ошибаемся» (Адам Писон, директор по продажам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ammer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В стартапе всё строится не на фактах, а на предположениях» (Стив Бланк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Бизнес-план – это догадки и предположения, сдобренные мечтами и надеждами» (Эрик Рис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331640" y="364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е надо путать знание своей отрасли и продуктов со знанием о потребит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2267640" y="1340640"/>
            <a:ext cx="4752000" cy="475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то эт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ив Бланк – создатель концеп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3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827640" y="126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40000" y="1219320"/>
            <a:ext cx="47520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953 г.р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оздатель концепци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Development (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звитие потребителей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сперт инновационно-технологического бизнес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ерийный предприниматель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P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10 самых влиятельных людей Кремниевой долин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5" name="Picture 2" descr="http://topkniga.com.ua/data/big/4_shaga_k_ozareniyu.jpg"/>
          <p:cNvPicPr/>
          <p:nvPr/>
        </p:nvPicPr>
        <p:blipFill>
          <a:blip r:embed="rId2"/>
          <a:stretch/>
        </p:blipFill>
        <p:spPr>
          <a:xfrm>
            <a:off x="251640" y="4077000"/>
            <a:ext cx="1835280" cy="213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images.vfl.ru/ii/1362679063/c8bb5ac5/1895040.jpg"/>
          <p:cNvPicPr/>
          <p:nvPr/>
        </p:nvPicPr>
        <p:blipFill>
          <a:blip r:embed="rId3"/>
          <a:srcRect l="0" t="4724" r="0" b="5769"/>
          <a:stretch/>
        </p:blipFill>
        <p:spPr>
          <a:xfrm>
            <a:off x="2310120" y="4005000"/>
            <a:ext cx="1613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 – это подход к пониманию того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8" name="Picture 2" descr="http://www.o2b.co.in/web/image/1386"/>
          <p:cNvPicPr/>
          <p:nvPr/>
        </p:nvPicPr>
        <p:blipFill>
          <a:blip r:embed="rId1"/>
          <a:srcRect l="0" t="34553" r="0" b="0"/>
          <a:stretch/>
        </p:blipFill>
        <p:spPr>
          <a:xfrm>
            <a:off x="4068000" y="5125680"/>
            <a:ext cx="5075640" cy="1731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то ваши потребител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овы их проблемы и потребност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т чего сегодня зависит их поведение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 какие новые продукты (даже незаконченные или пока несуществующие) они готовы платить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 при принятии решений вами следует учитывать то, как принимают решения ваши клиенты: как они совершают покупки, находят поставщиков, выбирают товар и потребляют/используют его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чём выгода использования концепции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ustomer Development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http://evolve-consultants.com/wp-content/uploads/2015/03/new-customer.jpg"/>
          <p:cNvPicPr/>
          <p:nvPr/>
        </p:nvPicPr>
        <p:blipFill>
          <a:blip r:embed="rId1"/>
          <a:stretch/>
        </p:blipFill>
        <p:spPr>
          <a:xfrm>
            <a:off x="4860000" y="4077000"/>
            <a:ext cx="3240000" cy="2160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80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Развитие потребителей делает процесс разработки продукта целенаправленным и гарантирует выпуск продукта, который нужен покупателям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зволяет проектировать продукты и услуги, которые соответствовали бы ожиданиям и потребностям клиентов без необходимости большого объёма первичного финансирования или затратных продуктовых запусков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нцепция «бережливого стартапа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(Lean Startup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2" descr="http://leadnet.org/wp-content/uploads/2014/11/the-lean-startup-eric-ries.jpg"/>
          <p:cNvPicPr/>
          <p:nvPr/>
        </p:nvPicPr>
        <p:blipFill>
          <a:blip r:embed="rId1"/>
          <a:stretch/>
        </p:blipFill>
        <p:spPr>
          <a:xfrm>
            <a:off x="6767640" y="5653080"/>
            <a:ext cx="2376000" cy="1204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640" y="1268640"/>
            <a:ext cx="828072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звитие потребит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 Development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ережливое производство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an Thinking &amp; Production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аучный подход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ientific Approach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ибкая методология разработк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gile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теративный выпуск продук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инимальный жизнеспособный продукт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Minimum Viable Product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бучающаяся организац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дение эксперимен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спользование обратной связ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dback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здание ценности для клиентов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Value for Customer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анва бизнес-мод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Model Canvas &amp; Lean Canva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еденческая экономи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циальная психолог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ая модель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08578455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нцепция/ Посевная стад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3200" y="256500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улируются замыслы и видение комп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бор ключевых иде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цепция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Характеристики и преимущества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еальность созд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тенциальные потребители (Кто? Где их найти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одятся статистические и маркетинговые исследования, опросы потребителей (достойна ли идея воплощения в жизнь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ображения о каналах распространения, конкурентах и конкурентных преимуществах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варительная схема позициониров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положения о ценообразов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юджет и график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экономической составляющей проекта и составление примерного финансового план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431489411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аши 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чти 75% технологических стартапов завершаются крахом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т 40 до 90% новых продуктов оказываются неудачным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http://potrebrf.ru/wp-content/uploads/2015/06/32hgq2LGZ9c.jpg"/>
          <p:cNvPicPr/>
          <p:nvPr/>
        </p:nvPicPr>
        <p:blipFill>
          <a:blip r:embed="rId1"/>
          <a:stretch/>
        </p:blipFill>
        <p:spPr>
          <a:xfrm>
            <a:off x="1979640" y="2278080"/>
            <a:ext cx="53982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зработка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72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является функциональная специализация и соответствующие подраздел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точнение размеров рынка маркетологами и поиск первых заказч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кус-группы на предполагаемом рынк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окумент о требованиях рынк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RD)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для разработчиков (характеристики/функци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умываются форматы демонстрации продукта при продаже, делаются рекламные материалы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руппа разработки определяет как будет выглядеть продукт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ставляется спецификация первой 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нимаются сотрудники для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лан работ, графики, вех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оки и стоимость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439609589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ьфа/ бета-тестир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льфа-тест (проверка на разработчиках, работниках компании и внутренних пользователях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та-тест (отдел разработки взаимодействует с небольшой группой внешних пользователей, чтобы убедится, что продукт функционирует как заявлено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оспособность продукта, наличие ошибок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вернутый план маркетинговых коммуникаци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программ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вижение бренд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ервые потребители бета-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ируется канал распростран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руктура сбыта компании, комплектование персоналом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гресс оценивается по числу размещённых заказов при выпуске первой версии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773394177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апуск продукта и получение  первой версии потребител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имулирование потребительского спроса (выставки, семинары, реклама, рассылк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комплектование штата сбытов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аботка плана и целевых показателей продаж для каждого из сбытовых канал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тдел продаж ищет то количество клиентов, которое заложено в бизнес-план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результатов работы (сравнение показателей продаж с бизнес-планом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961895127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Где ошибки в этой модели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2" descr="http://baltnews.lv/images/101362/49/1013624904.jpg"/>
          <p:cNvPicPr/>
          <p:nvPr/>
        </p:nvPicPr>
        <p:blipFill>
          <a:blip r:embed="rId1"/>
          <a:stretch/>
        </p:blipFill>
        <p:spPr>
          <a:xfrm>
            <a:off x="395640" y="1700640"/>
            <a:ext cx="81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веренность «Я знаю кто потребитель и чего он хочет»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догадки, связанные с бизнес-моделью, принимаются за факты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тверждение «Я знаю, какие нужны характеристики продукта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еятельность отделов маркетинга и продаж «пляшет» от даты начала продаж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(но факт запуска не означает, что компания понимает своих клиентов и знает, как следует продвигать и продавать им продукт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Акцент на исполнение плана в ущерб процессам выдвижения гипотез, тестирования, обучения и итераций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успешный стартап отличается способностью учиться на своих ошибках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Традиционный бизнес-план, не предусматривающий проб и ошибо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Отсутствие значимых ориентиров для отделов маркетинга и продаж до запуска продукта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как им оценить прогресс?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Преждевременное расширение масштаба из-за чрезмерной уверенности в успехе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и ускоренное «прожигание» средств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Игнорирование факта, что не все стартапы одинаковы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различные темпы принятия и признания потребителями; различие в стратегиях продаж и маркетинга; различие в денежных потребностях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Нереалистичные ожидания и предположе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933000"/>
            <a:ext cx="81529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Новаторы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стремятся первыми опробовать новую продукцию; поведение определяется интуицией; обладают достаточными финансовыми ресурсами, способностью понимать и применять сложные технические знания; отличаются склонностью к риску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ие последователи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при решении о покупке ориентируются на интуицию; обращают внимание на сведения, представляемые СМИ; формируют основной костяк «лидеров»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6" name="Picture 3" descr="C:\Users\Effective\Desktop\R.jpg"/>
          <p:cNvPicPr/>
          <p:nvPr/>
        </p:nvPicPr>
        <p:blipFill>
          <a:blip r:embed="rId1"/>
          <a:srcRect l="0" t="13373" r="0" b="0"/>
          <a:stretch/>
        </p:blipFill>
        <p:spPr>
          <a:xfrm>
            <a:off x="2051640" y="1268640"/>
            <a:ext cx="5425200" cy="2385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079800" y="3501000"/>
            <a:ext cx="3669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Модель Эверетта Родже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240200"/>
            <a:ext cx="8152920" cy="49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активно пользуются советами продавцов и СМИ; предпочитает сначала обдумать все «за» и «против»; могут несколько колебаться до момента восприятия новой продукции; охотно следуют за другими в процессе восприятия новой продукции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Позд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скептики; воспринимают инновационную продукцию после «среднестатистического» члена социальной системы; чувствительны к изменению цены; к информации в СМИ относятся сдержано; мотивирующим фактором покупки служит давление социальной группы или экономическая необходимость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Опоздавшие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представители традиционной, консервативной ориентации; основное внимание уделяют устоявшимся мнениям; оказывают сопротивление переменам; последние, кто воспринимают инновационную продукцию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1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5"/>
          <p:cNvCxnSpPr>
            <a:stCxn id="167" idx="2"/>
          </p:cNvCxnSpPr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395640" y="1484640"/>
            <a:ext cx="3024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Gill Sans MT"/>
              </a:rPr>
              <a:t>Для завоевания массового рынка требуются совершенно иные стратегии маркетинга и продаж, чем для раннего ры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4"/>
          <p:cNvCxnSpPr/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 целом людям плохо удаётся разрабатывать продукты и создавать компании, опираясь лишь на свои творческие способности, интуицию и интеллект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" name="Picture 2" descr="http://www.popmech.ru/upload/iblock/898/8983afaf811ba75c29830a15bdde84ec.jpg"/>
          <p:cNvPicPr/>
          <p:nvPr/>
        </p:nvPicPr>
        <p:blipFill>
          <a:blip r:embed="rId1"/>
          <a:stretch/>
        </p:blipFill>
        <p:spPr>
          <a:xfrm>
            <a:off x="2134080" y="2566080"/>
            <a:ext cx="4752000" cy="361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одель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" name="Picture 2" descr="http://bizmodelgu.ru/wp-content/uploads/2014/01/%D0%9F%D1%80%D0%BE%D1%86%D0%B5%D1%81%D1%81-%D1%80%D0%B0%D0%B7%D0%B2%D0%B8%D1%82%D0%B8%D1%8F-%D0%BF%D0%BE%D1%82%D1%80%D0%B5%D0%B1%D0%B8%D1%82%D0%BB%D0%B5%D0%B9-Biz-Model-Guru.jpg"/>
          <p:cNvPicPr/>
          <p:nvPr/>
        </p:nvPicPr>
        <p:blipFill>
          <a:blip r:embed="rId1"/>
          <a:srcRect l="0" t="21423" r="0" b="18891"/>
          <a:stretch/>
        </p:blipFill>
        <p:spPr>
          <a:xfrm>
            <a:off x="251640" y="1772640"/>
            <a:ext cx="8714880" cy="280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1011240" y="5085360"/>
            <a:ext cx="3062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иски бизнес-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4788000" y="4365000"/>
            <a:ext cx="403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еализация бизнес-модели, которая была разработана, протестирована и доказала свою эффективность на первом и втором эт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явление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нужно сформулировать видение основателей и трансформировать его в серию гипотез, касающихся бизнес-модели. Далее разрабатывается план, чтобы протестировать, как отреагирует на эти гипотезы потребитель, и превратить догадки в факты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ерификация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проверяется, является ли полученная бизнес-модель воспроизводимой и масштабируемой. Если нет, следует вернуться к этапу выявления потребителей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Расширение клиентской базы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это начало реализации. На этом этапе компания формирует пользовательский спрос и начинает активно продавать с целью масштабирования бизнеса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страивани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организация из стартапа превращается в компанию, применяющую проверенную бизнес-модел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. В офисе нет фактов, поэтому следует выйти к потребителю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2. Сочетайте развитие потребителей с гибкой разработкой (развитие потребителей бесполезно, если не осуществлять совершенствование продукта сразу после каждой итерации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3. Неудачи – неотъемлемая часть поис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4. Регулярно выполняйте итерации и развороты своей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5. Ни один бизнес-план не выдерживает первого контакта с потребителем, поэтому выбросите его и используйте гибкую бизнес-модел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6. Разработайте эксперименты и проведите тестирование для проверки своих гипотез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7. Договоритесь о типе рынка. От этого зависит всё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8. Показатели работы стартапа и существующей компании различн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9. Быстрота принятия решений, временные рамки циклов, скорость и темп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0. Главное – увлечённост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1. Должностные обязанности в стартапе и в крупной компании имеют принципиальные различи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 12. Берегите деньги до тех пор, пока они не понадобятся (пока не создадите воспроизводимую масштабируемую бизнес-модель). Когда этот час придёт, тратьт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3. Обменивайтесь информацией и полученными знани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ыявление потребителей /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ustomer Discovery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Цель: превратить изначальные гипотезы о бизнес-модели, рынке и потребителях в факты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нужно делать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зучать нужды и желания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всех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оставлять список всех характеристик, которые нравятся потребителям, пока они не начали покупать ваш продукт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авать разработчикам список характеристик, где учтены все пожелания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оводить фокус-группы и проверять реакцию потребителей на продукт, чтобы понять, будут ли они покупать ег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2" descr="http://pics.livejournal.com/and_sokolov/pic/000q509f/s640x480"/>
          <p:cNvPicPr/>
          <p:nvPr/>
        </p:nvPicPr>
        <p:blipFill>
          <a:blip r:embed="rId1"/>
          <a:stretch/>
        </p:blipFill>
        <p:spPr>
          <a:xfrm>
            <a:off x="1763640" y="1700640"/>
            <a:ext cx="5616360" cy="421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0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ая выноска 3"/>
          <p:cNvSpPr/>
          <p:nvPr/>
        </p:nvSpPr>
        <p:spPr>
          <a:xfrm>
            <a:off x="899640" y="1484640"/>
            <a:ext cx="4298400" cy="1188360"/>
          </a:xfrm>
          <a:prstGeom prst="wedgeRectCallout">
            <a:avLst>
              <a:gd name="adj1" fmla="val 44753"/>
              <a:gd name="adj2" fmla="val 7165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Я могу предложить вам продукт, который поможет решить вашу пробл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464653"/>
                </a:solidFill>
                <a:latin typeface="Bookman Old Style"/>
              </a:rPr>
              <a:t>Клиент имеет проблему, но не осознаёт острую потребность в её решении (латентная потребность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Прямоугольная выноска 3"/>
          <p:cNvSpPr/>
          <p:nvPr/>
        </p:nvSpPr>
        <p:spPr>
          <a:xfrm>
            <a:off x="3060000" y="1700640"/>
            <a:ext cx="3600000" cy="863640"/>
          </a:xfrm>
          <a:prstGeom prst="wedgeRectCallout">
            <a:avLst>
              <a:gd name="adj1" fmla="val -37311"/>
              <a:gd name="adj2" fmla="val 10416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Какую проблему??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осознаёт налич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ая выноска 3"/>
          <p:cNvSpPr/>
          <p:nvPr/>
        </p:nvSpPr>
        <p:spPr>
          <a:xfrm>
            <a:off x="3132000" y="1412640"/>
            <a:ext cx="4680000" cy="1151640"/>
          </a:xfrm>
          <a:prstGeom prst="wedgeRectCallout">
            <a:avLst>
              <a:gd name="adj1" fmla="val -41029"/>
              <a:gd name="adj2" fmla="val 84326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Да, это ужасная проблема. Я так переживаю по этому поводу. Мы даже раздаём воду нашим клиентам, которым приходится стоять в очереди в ж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активно ищет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ая выноска 3"/>
          <p:cNvSpPr/>
          <p:nvPr/>
        </p:nvSpPr>
        <p:spPr>
          <a:xfrm>
            <a:off x="2699640" y="1196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блема налицо. Мы ежегодно теряем более 30 млн. рублей. Я уже ищу какой-нибудь софт, который позволил бы сэкономить время наших клиентов на 30%. Хотелось бы, чтобы программа была совместима с нашим банковским 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Oracle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а бюджет не превышал 10 млн. рублей. Мне нужно получить её через 6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Блуждание в тумане в тёмное время суток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2" descr="https://martvi.files.wordpress.com/2010/08/d182d183d0bcd0b0d0bd1.jpg"/>
          <p:cNvPicPr/>
          <p:nvPr/>
        </p:nvPicPr>
        <p:blipFill>
          <a:blip r:embed="rId1"/>
          <a:stretch/>
        </p:blipFill>
        <p:spPr>
          <a:xfrm>
            <a:off x="971640" y="1412640"/>
            <a:ext cx="7234200" cy="48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«состряпал» доморощенное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ая выноска 3"/>
          <p:cNvSpPr/>
          <p:nvPr/>
        </p:nvSpPr>
        <p:spPr>
          <a:xfrm>
            <a:off x="2699640" y="1412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Я не нашёл ни одного подходящего софта, который решил бы нашу проблему, поэтому поручил нашему ИТ-отделу разработать нужную программу. Они там что-то такое сочинили, но наших сотрудников их придумка просто ставит в ступор, а директор по ИТ сходит с ума, пытаясь её внед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имеет или может привлечь средств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ая выноска 5"/>
          <p:cNvSpPr/>
          <p:nvPr/>
        </p:nvSpPr>
        <p:spPr>
          <a:xfrm>
            <a:off x="2699640" y="1340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Если бы только нашёлся такой разработчик, который бы смог решить нашу проблему. Я готов был бы выделить на это 30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Характеристики ранневангелис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7" name="Picture 2" descr="http://rutlib.com/book/16654/p/i_249.png"/>
          <p:cNvPicPr/>
          <p:nvPr/>
        </p:nvPicPr>
        <p:blipFill>
          <a:blip r:embed="rId1"/>
          <a:stretch/>
        </p:blipFill>
        <p:spPr>
          <a:xfrm>
            <a:off x="323640" y="1533240"/>
            <a:ext cx="5904360" cy="4703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rutlib.com/book/16654/p/i_250.png"/>
          <p:cNvPicPr/>
          <p:nvPr/>
        </p:nvPicPr>
        <p:blipFill>
          <a:blip r:embed="rId2"/>
          <a:srcRect l="11530" t="0" r="0" b="0"/>
          <a:stretch/>
        </p:blipFill>
        <p:spPr>
          <a:xfrm>
            <a:off x="5292000" y="1677240"/>
            <a:ext cx="3672000" cy="42757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683640" y="6300720"/>
            <a:ext cx="846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, Бернард Г., Смит А.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 1. Выявление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2" descr="http://lib.rus.ec/i/86/511486/_22.jpg"/>
          <p:cNvPicPr/>
          <p:nvPr/>
        </p:nvPicPr>
        <p:blipFill>
          <a:blip r:embed="rId1"/>
          <a:srcRect l="0" t="0" r="0" b="9380"/>
          <a:stretch/>
        </p:blipFill>
        <p:spPr>
          <a:xfrm>
            <a:off x="827640" y="1484640"/>
            <a:ext cx="7394040" cy="424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4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1. Формулировка гипоте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родукт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характеристики продукта, преимущества продукта, интеллектуальная собственность, анализ зависимостей, график поставок вариантов продукта, совокупная стоимость владения/внедр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отребителях и проблем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типы потребителей, проблемы потребителей, день из жизни потребителей, карта организации/влияния, выгодность/рентабельность, минимальный набор характеристик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дистрибуции и ценообразован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создании спро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тип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конкуренц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2. Тестирован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ервые контакты с потребител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езентации проблемы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лубокое понимание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нани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3. Тестирование реш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а с командой по разработке проекта, чтобы сопоставить гипотезы с реальной ситуацией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резентации продук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Дополнительные встречи с потребителя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и с командой по разработке продукта, чтобы второй раз оценить реальную ситуаци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ервого консультационного сове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4. Верификация или разворот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блем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дук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терация или выход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consumer-segmentation-ex.jpg"/>
          <p:cNvPicPr/>
          <p:nvPr/>
        </p:nvPicPr>
        <p:blipFill>
          <a:blip r:embed="rId1"/>
          <a:stretch/>
        </p:blipFill>
        <p:spPr>
          <a:xfrm>
            <a:off x="6068880" y="4509000"/>
            <a:ext cx="2801520" cy="1743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клиен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68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обы лучше удовлетворять нужды клиентов, желательно разбить их на группы по потребностям, особенностям поведения или иным признакам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Группы клиентов пред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различные сегменты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, если: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различия в их запросах обуславливают различия в предложениях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действие осуществляется по разным каналам сбыта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отношения с ними нужно строить по-разному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выгодность существенно различаетс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привлекают разные аспекты предложени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39640" y="6381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 </a:t>
            </a: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остроение бизнес-моделей: настольная книга стратега и нова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ы компан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Picture 2" descr="C:\Users\User\Desktop\images (1).jpg"/>
          <p:cNvPicPr/>
          <p:nvPr/>
        </p:nvPicPr>
        <p:blipFill>
          <a:blip r:embed="rId1"/>
          <a:stretch/>
        </p:blipFill>
        <p:spPr>
          <a:xfrm>
            <a:off x="6804360" y="2421000"/>
            <a:ext cx="1753920" cy="141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User\Desktop\reshenie.jpg"/>
          <p:cNvPicPr/>
          <p:nvPr/>
        </p:nvPicPr>
        <p:blipFill>
          <a:blip r:embed="rId2"/>
          <a:srcRect l="2657" t="1241" r="0" b="0"/>
          <a:stretch/>
        </p:blipFill>
        <p:spPr>
          <a:xfrm>
            <a:off x="3960000" y="1286640"/>
            <a:ext cx="1320120" cy="1433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Users\User\Desktop\1415394378_vliyanie.jpg"/>
          <p:cNvPicPr/>
          <p:nvPr/>
        </p:nvPicPr>
        <p:blipFill>
          <a:blip r:embed="rId3"/>
          <a:srcRect l="50125" t="0" r="0" b="0"/>
          <a:stretch/>
        </p:blipFill>
        <p:spPr>
          <a:xfrm>
            <a:off x="4068000" y="4149000"/>
            <a:ext cx="1018080" cy="161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User\Desktop\images.jpg"/>
          <p:cNvPicPr/>
          <p:nvPr/>
        </p:nvPicPr>
        <p:blipFill>
          <a:blip r:embed="rId4"/>
          <a:stretch/>
        </p:blipFill>
        <p:spPr>
          <a:xfrm>
            <a:off x="683640" y="2709000"/>
            <a:ext cx="14457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8"/>
          <p:cNvSpPr/>
          <p:nvPr/>
        </p:nvSpPr>
        <p:spPr>
          <a:xfrm>
            <a:off x="509040" y="4293000"/>
            <a:ext cx="164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куп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6732360" y="3789000"/>
            <a:ext cx="201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льзователь/ потреб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420000" y="278100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принимающее решение о поку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3348000" y="566136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оказывающее влияние на покуп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13"/>
          <p:cNvCxnSpPr/>
          <p:nvPr/>
        </p:nvCxnSpPr>
        <p:spPr>
          <a:xfrm flipV="1">
            <a:off x="1907640" y="2132640"/>
            <a:ext cx="1368360" cy="720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5" name="Прямая соединительная линия 14"/>
          <p:cNvCxnSpPr/>
          <p:nvPr/>
        </p:nvCxnSpPr>
        <p:spPr>
          <a:xfrm>
            <a:off x="1907640" y="4869000"/>
            <a:ext cx="1296360" cy="79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6" name="Прямая соединительная линия 16"/>
          <p:cNvCxnSpPr/>
          <p:nvPr/>
        </p:nvCxnSpPr>
        <p:spPr>
          <a:xfrm flipV="1">
            <a:off x="5940000" y="4581000"/>
            <a:ext cx="1296360" cy="115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7" name="Прямая соединительная линия 18"/>
          <p:cNvCxnSpPr/>
          <p:nvPr/>
        </p:nvCxnSpPr>
        <p:spPr>
          <a:xfrm>
            <a:off x="5508000" y="1988640"/>
            <a:ext cx="1368360" cy="864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8" name="Прямая соединительная линия 21"/>
          <p:cNvCxnSpPr/>
          <p:nvPr/>
        </p:nvCxnSpPr>
        <p:spPr>
          <a:xfrm flipV="1">
            <a:off x="4644000" y="3501000"/>
            <a:ext cx="360" cy="576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9" name="Прямая соединительная линия 24"/>
          <p:cNvCxnSpPr/>
          <p:nvPr/>
        </p:nvCxnSpPr>
        <p:spPr>
          <a:xfrm flipH="1">
            <a:off x="2339640" y="3789000"/>
            <a:ext cx="424872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у это нужн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" name="Picture 2" descr="http://www.chaskor.ru/posts_images_201005/392_300_17597_allbigjpg"/>
          <p:cNvPicPr/>
          <p:nvPr/>
        </p:nvPicPr>
        <p:blipFill>
          <a:blip r:embed="rId1"/>
          <a:stretch/>
        </p:blipFill>
        <p:spPr>
          <a:xfrm>
            <a:off x="1331640" y="1484640"/>
            <a:ext cx="59763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Мнения бесполезны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бые прогнозы на будущее – это ложь, причём чересчур оптимистична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ди будут лгать вам, если они полагают, что вы хотите услышать ложь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Крест 3"/>
          <p:cNvSpPr/>
          <p:nvPr/>
        </p:nvSpPr>
        <p:spPr>
          <a:xfrm rot="18879000">
            <a:off x="2963880" y="1235160"/>
            <a:ext cx="2284920" cy="2305440"/>
          </a:xfrm>
          <a:prstGeom prst="plus">
            <a:avLst>
              <a:gd name="adj" fmla="val 40098"/>
            </a:avLst>
          </a:prstGeom>
          <a:solidFill>
            <a:srgbClr val="ff0000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Золотые правила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Люди знают, в чём заключаются стоящие перед ними проблемы, но не знают, как их р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ка вы не поймёте, каковы цели собеседника, вы будете «стрелять вслеп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екоторые проблемы фактически не являются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блюдая за тем, как клиенты справляются с задачами, мы видим, каковы реальные проблемы и ограничения, а не их восприятие с точки зрения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Если потенциальные клиенты не пытались найти решение проблемы самостоятельно, они не обратят никакого внимания на решение, предложенное вами (и не купят 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Картинки по запросу «Золотое правило»"/>
          <p:cNvPicPr/>
          <p:nvPr/>
        </p:nvPicPr>
        <p:blipFill>
          <a:blip r:embed="rId1"/>
          <a:stretch/>
        </p:blipFill>
        <p:spPr>
          <a:xfrm>
            <a:off x="7380360" y="10800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авильные вопрос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очему вас это беспокоит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овы последствия этой ситуации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сскажите мне поподробнее, что произошло в последний раз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то ещё вы пытались сдел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ы решаете эту проблему сейчас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то будет финансировать покупку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 кем ещё мне следует переговори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Есть ли ещё вопросы, которые мне следовало бы зад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1) Бланк С., Дорф Б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Стартап: настольная книга основателя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, Dorf B. The Startup Owner’s Manual: The Step-by-Step Guide for Building a Great 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 The Four Steps to the Epiphany: Successful Strategies for Products than W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Альварес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Как создать продукт, который купят: Метод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ean Customer Developme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/ Alvarez C. Lean Customer development: Building Products Your Customers Will Buy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Picture 2" descr="https://pp.vk.me/c631130/v631130452/38f0a/2wafm32HCpo.jpg"/>
          <p:cNvPicPr/>
          <p:nvPr/>
        </p:nvPicPr>
        <p:blipFill>
          <a:blip r:embed="rId1"/>
          <a:stretch/>
        </p:blipFill>
        <p:spPr>
          <a:xfrm>
            <a:off x="3775320" y="4437000"/>
            <a:ext cx="1156320" cy="165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s://pp.vk.me/c631130/v631130452/38f11/PWoQexTSaAE.jpg"/>
          <p:cNvPicPr/>
          <p:nvPr/>
        </p:nvPicPr>
        <p:blipFill>
          <a:blip r:embed="rId2"/>
          <a:stretch/>
        </p:blipFill>
        <p:spPr>
          <a:xfrm>
            <a:off x="2263320" y="4388760"/>
            <a:ext cx="1367640" cy="167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s://pp.vk.me/c631130/v631130452/38f18/iFBjSwpQ3jw.jpg"/>
          <p:cNvPicPr/>
          <p:nvPr/>
        </p:nvPicPr>
        <p:blipFill>
          <a:blip r:embed="rId3"/>
          <a:stretch/>
        </p:blipFill>
        <p:spPr>
          <a:xfrm>
            <a:off x="7663680" y="4509000"/>
            <a:ext cx="1084320" cy="158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https://pp.vk.me/c631130/v631130452/38f1f/Wbu04UCcKX4.jpg"/>
          <p:cNvPicPr/>
          <p:nvPr/>
        </p:nvPicPr>
        <p:blipFill>
          <a:blip r:embed="rId4"/>
          <a:stretch/>
        </p:blipFill>
        <p:spPr>
          <a:xfrm>
            <a:off x="6439680" y="4509000"/>
            <a:ext cx="1079640" cy="15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https://pp.vk.me/c631130/v631130452/38f26/hkGc1VadwL0.jpg"/>
          <p:cNvPicPr/>
          <p:nvPr/>
        </p:nvPicPr>
        <p:blipFill>
          <a:blip r:embed="rId5"/>
          <a:stretch/>
        </p:blipFill>
        <p:spPr>
          <a:xfrm>
            <a:off x="750960" y="4437000"/>
            <a:ext cx="1295640" cy="160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https://pp.vk.me/c631130/v631130452/38f2d/Dwh65YrXX_4.jpg"/>
          <p:cNvPicPr/>
          <p:nvPr/>
        </p:nvPicPr>
        <p:blipFill>
          <a:blip r:embed="rId6"/>
          <a:stretch/>
        </p:blipFill>
        <p:spPr>
          <a:xfrm>
            <a:off x="5215680" y="4509000"/>
            <a:ext cx="10450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ис Э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изнес с нуля. Метод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an Startup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ля быстрого тестирования идей и выбора бизнес-модели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es E. The Lean Startup: How Today's Entrepreneurs Use Continuous Innovation to Create Radically Successful Busines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упер Б., Власковиц П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тартап вокруг клиента. Как построить бизнес правильно с самого начала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per B., Vlaskovits P. The Entrepreneur's Guide to Customer Development: A cheat sheet to The Four Steps to the Epiph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Фитцпатрик Р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проси маму: Как общаться с клиентами и подтвердить правоту своей бизнес-идеи, если все кругом врут?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tzpatrick R. The Mom Test: How to Talk to Customers and Learn If Your Business is a Good Idea When Everyone is Lying to Yo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Остервальдер А., Пинье И., Бернард Г., Смит А.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240" cy="37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r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instagram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faceboo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5" name="Picture 2" descr="C:\Users\User\Desktop\logo.png"/>
          <p:cNvPicPr/>
          <p:nvPr/>
        </p:nvPicPr>
        <p:blipFill>
          <a:blip r:embed="rId1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109520" y="1920600"/>
            <a:ext cx="5982840" cy="396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берт Манна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ректор Акселерацион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утеводитель по инновациям 2.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ay2innovations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ww.faceboo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nkedin.com/in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agram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_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User\Desktop\search-big.jpg"/>
          <p:cNvPicPr/>
          <p:nvPr/>
        </p:nvPicPr>
        <p:blipFill>
          <a:blip r:embed="rId1"/>
          <a:srcRect l="0" t="0" r="6556" b="5956"/>
          <a:stretch/>
        </p:blipFill>
        <p:spPr>
          <a:xfrm>
            <a:off x="6012000" y="3213000"/>
            <a:ext cx="2523600" cy="2171520"/>
          </a:xfrm>
          <a:prstGeom prst="rect">
            <a:avLst/>
          </a:prstGeom>
          <a:ln w="9525">
            <a:noFill/>
          </a:ln>
        </p:spPr>
      </p:pic>
      <p:pic>
        <p:nvPicPr>
          <p:cNvPr id="288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2627280" y="189000"/>
            <a:ext cx="4105080" cy="1572840"/>
          </a:xfrm>
          <a:prstGeom prst="rect">
            <a:avLst/>
          </a:prstGeom>
          <a:ln w="9525">
            <a:noFill/>
          </a:ln>
        </p:spPr>
      </p:pic>
      <p:sp>
        <p:nvSpPr>
          <p:cNvPr id="289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8" descr="Картинки по запросу вк лого"/>
          <p:cNvPicPr/>
          <p:nvPr/>
        </p:nvPicPr>
        <p:blipFill>
          <a:blip r:embed="rId3"/>
          <a:stretch/>
        </p:blipFill>
        <p:spPr>
          <a:xfrm>
            <a:off x="611280" y="4437000"/>
            <a:ext cx="504360" cy="502920"/>
          </a:xfrm>
          <a:prstGeom prst="rect">
            <a:avLst/>
          </a:prstGeom>
          <a:ln w="9525">
            <a:noFill/>
          </a:ln>
        </p:spPr>
      </p:pic>
      <p:pic>
        <p:nvPicPr>
          <p:cNvPr id="291" name="Picture 10" descr="Картинки по запросу facebook logo"/>
          <p:cNvPicPr/>
          <p:nvPr/>
        </p:nvPicPr>
        <p:blipFill>
          <a:blip r:embed="rId4"/>
          <a:stretch/>
        </p:blipFill>
        <p:spPr>
          <a:xfrm>
            <a:off x="611280" y="4005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12" descr="Картинки по запросу site logo"/>
          <p:cNvPicPr/>
          <p:nvPr/>
        </p:nvPicPr>
        <p:blipFill>
          <a:blip r:embed="rId5"/>
          <a:stretch/>
        </p:blipFill>
        <p:spPr>
          <a:xfrm>
            <a:off x="611280" y="3573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14" descr="Картинки по запросу linkedin logo"/>
          <p:cNvPicPr/>
          <p:nvPr/>
        </p:nvPicPr>
        <p:blipFill>
          <a:blip r:embed="rId6"/>
          <a:stretch/>
        </p:blipFill>
        <p:spPr>
          <a:xfrm>
            <a:off x="684360" y="4941720"/>
            <a:ext cx="358560" cy="358560"/>
          </a:xfrm>
          <a:prstGeom prst="rect">
            <a:avLst/>
          </a:prstGeom>
          <a:ln w="9525">
            <a:noFill/>
          </a:ln>
        </p:spPr>
      </p:pic>
      <p:pic>
        <p:nvPicPr>
          <p:cNvPr id="294" name="Picture 16" descr="Картинки по запросу instagram logo"/>
          <p:cNvPicPr/>
          <p:nvPr/>
        </p:nvPicPr>
        <p:blipFill>
          <a:blip r:embed="rId7"/>
          <a:stretch/>
        </p:blipFill>
        <p:spPr>
          <a:xfrm>
            <a:off x="611280" y="5373720"/>
            <a:ext cx="431280" cy="43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ilips CD-i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" name="Picture 4" descr="https://upload.wikimedia.org/wikipedia/commons/thumb/5/56/CD-i-910-Console-Set.png/280px-CD-i-910-Console-Set.png"/>
          <p:cNvPicPr/>
          <p:nvPr/>
        </p:nvPicPr>
        <p:blipFill>
          <a:blip r:embed="rId1"/>
          <a:stretch/>
        </p:blipFill>
        <p:spPr>
          <a:xfrm>
            <a:off x="755640" y="1772640"/>
            <a:ext cx="73666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1403640" y="472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О чём вы говорите с потенциальными клиент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7_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6049</TotalTime>
  <Application>LibreOffice/7.4.7.2$Linux_X86_64 LibreOffice_project/40$Build-2</Application>
  <AppVersion>15.0000</AppVersion>
  <Words>2573</Words>
  <Paragraphs>3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5:28:56Z</dcterms:created>
  <dc:creator>Маннапов Альберт Раисович</dc:creator>
  <dc:description/>
  <dc:language>en-US</dc:language>
  <cp:lastModifiedBy>User</cp:lastModifiedBy>
  <cp:lastPrinted>2012-06-25T03:58:48Z</cp:lastPrinted>
  <dcterms:modified xsi:type="dcterms:W3CDTF">2016-10-11T05:22:30Z</dcterms:modified>
  <cp:revision>4989</cp:revision>
  <dc:subject/>
  <dc:title>Управление инновационной деятель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57</vt:r8>
  </property>
</Properties>
</file>