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7080" cy="740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7080" cy="740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7080" cy="740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7080" cy="740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8457840" y="6499440"/>
            <a:ext cx="82080" cy="82080"/>
          </a:xfrm>
          <a:prstGeom prst="ellipse">
            <a:avLst/>
          </a:prstGeom>
          <a:solidFill>
            <a:srgbClr val="808080"/>
          </a:solidFill>
          <a:ln w="126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CustomShape 2"/>
          <p:cNvSpPr/>
          <p:nvPr/>
        </p:nvSpPr>
        <p:spPr>
          <a:xfrm>
            <a:off x="569160" y="6499440"/>
            <a:ext cx="82080" cy="82080"/>
          </a:xfrm>
          <a:prstGeom prst="ellipse">
            <a:avLst/>
          </a:prstGeom>
          <a:solidFill>
            <a:srgbClr val="808080"/>
          </a:solidFill>
          <a:ln w="126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CustomShape 1"/>
          <p:cNvSpPr/>
          <p:nvPr/>
        </p:nvSpPr>
        <p:spPr>
          <a:xfrm>
            <a:off x="8457840" y="6499440"/>
            <a:ext cx="82080" cy="82080"/>
          </a:xfrm>
          <a:prstGeom prst="ellipse">
            <a:avLst/>
          </a:prstGeom>
          <a:solidFill>
            <a:srgbClr val="808080"/>
          </a:solidFill>
          <a:ln w="126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ustomShape 2"/>
          <p:cNvSpPr/>
          <p:nvPr/>
        </p:nvSpPr>
        <p:spPr>
          <a:xfrm>
            <a:off x="569160" y="6499440"/>
            <a:ext cx="82080" cy="82080"/>
          </a:xfrm>
          <a:prstGeom prst="ellipse">
            <a:avLst/>
          </a:prstGeom>
          <a:solidFill>
            <a:srgbClr val="808080"/>
          </a:solidFill>
          <a:ln w="126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ustomShape 1"/>
          <p:cNvSpPr/>
          <p:nvPr/>
        </p:nvSpPr>
        <p:spPr>
          <a:xfrm>
            <a:off x="8457840" y="6499440"/>
            <a:ext cx="82080" cy="82080"/>
          </a:xfrm>
          <a:prstGeom prst="ellipse">
            <a:avLst/>
          </a:prstGeom>
          <a:solidFill>
            <a:srgbClr val="808080"/>
          </a:solidFill>
          <a:ln w="126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ustomShape 2"/>
          <p:cNvSpPr/>
          <p:nvPr/>
        </p:nvSpPr>
        <p:spPr>
          <a:xfrm>
            <a:off x="569160" y="6499440"/>
            <a:ext cx="82080" cy="82080"/>
          </a:xfrm>
          <a:prstGeom prst="ellipse">
            <a:avLst/>
          </a:prstGeom>
          <a:solidFill>
            <a:srgbClr val="808080"/>
          </a:solidFill>
          <a:ln w="126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ustomShape 1"/>
          <p:cNvSpPr/>
          <p:nvPr/>
        </p:nvSpPr>
        <p:spPr>
          <a:xfrm>
            <a:off x="8457840" y="6499440"/>
            <a:ext cx="82080" cy="82080"/>
          </a:xfrm>
          <a:prstGeom prst="ellipse">
            <a:avLst/>
          </a:prstGeom>
          <a:solidFill>
            <a:srgbClr val="808080"/>
          </a:solidFill>
          <a:ln w="126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ustomShape 2"/>
          <p:cNvSpPr/>
          <p:nvPr/>
        </p:nvSpPr>
        <p:spPr>
          <a:xfrm>
            <a:off x="569160" y="6499440"/>
            <a:ext cx="82080" cy="82080"/>
          </a:xfrm>
          <a:prstGeom prst="ellipse">
            <a:avLst/>
          </a:prstGeom>
          <a:solidFill>
            <a:srgbClr val="808080"/>
          </a:solidFill>
          <a:ln w="126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1080000" y="144000"/>
            <a:ext cx="737352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  <a:ea typeface="DejaVu Sans"/>
              </a:rPr>
              <a:t>«Стратегии поведения родителей при поддержке детей в процессе подготовки ГИ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5472000" y="5328000"/>
            <a:ext cx="338184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Педагог-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МУ «ЦППМС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Зарипова А.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2664000"/>
            <a:ext cx="5182560" cy="40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ustomShape 1"/>
          <p:cNvSpPr/>
          <p:nvPr/>
        </p:nvSpPr>
        <p:spPr>
          <a:xfrm>
            <a:off x="539640" y="2421000"/>
            <a:ext cx="7690680" cy="41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533520" indent="-53136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136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Обратите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136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3809880" y="0"/>
            <a:ext cx="2664360" cy="2426400"/>
          </a:xfrm>
          <a:prstGeom prst="rect">
            <a:avLst/>
          </a:prstGeom>
          <a:ln w="9360">
            <a:noFill/>
          </a:ln>
        </p:spPr>
      </p:pic>
      <p:sp>
        <p:nvSpPr>
          <p:cNvPr id="200" name="CustomShape 2"/>
          <p:cNvSpPr/>
          <p:nvPr/>
        </p:nvSpPr>
        <p:spPr>
          <a:xfrm>
            <a:off x="457200" y="1143000"/>
            <a:ext cx="195156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3807360" cy="2532600"/>
          </a:xfrm>
          <a:prstGeom prst="rect">
            <a:avLst/>
          </a:prstGeom>
          <a:ln w="9360">
            <a:noFill/>
          </a:ln>
        </p:spPr>
      </p:pic>
      <p:pic>
        <p:nvPicPr>
          <p:cNvPr id="202" name="Picture 9" descr=""/>
          <p:cNvPicPr/>
          <p:nvPr/>
        </p:nvPicPr>
        <p:blipFill>
          <a:blip r:embed="rId3"/>
          <a:stretch/>
        </p:blipFill>
        <p:spPr>
          <a:xfrm>
            <a:off x="6477120" y="609480"/>
            <a:ext cx="2664360" cy="1695960"/>
          </a:xfrm>
          <a:prstGeom prst="rect">
            <a:avLst/>
          </a:prstGeom>
          <a:ln w="936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4"/>
          <a:stretch/>
        </p:blipFill>
        <p:spPr>
          <a:xfrm>
            <a:off x="3852000" y="2565000"/>
            <a:ext cx="4590360" cy="402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CustomShape 1"/>
          <p:cNvSpPr/>
          <p:nvPr/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ts val="5800"/>
              </a:lnSpc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  <a:ea typeface="DejaVu Sans"/>
              </a:rPr>
              <a:t>Как помочь детям перед экзаме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ustomShape 2"/>
          <p:cNvSpPr/>
          <p:nvPr/>
        </p:nvSpPr>
        <p:spPr>
          <a:xfrm>
            <a:off x="457200" y="2205000"/>
            <a:ext cx="822708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Подбадривайт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Наблюдайте за самочувствием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Контролируйте режим подготовки ребенка, не допускайте перегру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123640" y="4725000"/>
            <a:ext cx="4317840" cy="19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CustomShape 1"/>
          <p:cNvSpPr/>
          <p:nvPr/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ts val="5800"/>
              </a:lnSpc>
            </a:pPr>
            <a:r>
              <a:rPr b="0" lang="ru-RU" sz="4400" spc="-1" strike="noStrike">
                <a:solidFill>
                  <a:srgbClr val="2f5897"/>
                </a:solidFill>
                <a:latin typeface="Palatino Linotype"/>
                <a:ea typeface="DejaVu Sans"/>
              </a:rPr>
              <a:t>Как помочь детям перед экзамен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ustomShape 2"/>
          <p:cNvSpPr/>
          <p:nvPr/>
        </p:nvSpPr>
        <p:spPr>
          <a:xfrm>
            <a:off x="457200" y="1700640"/>
            <a:ext cx="82270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092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Не повышайте тревожнос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Накануне экзамена обеспечьте ребенку полноценный отдых, он должен отдохнуть и как следует высп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3060000" y="4149000"/>
            <a:ext cx="330984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CustomShape 1"/>
          <p:cNvSpPr/>
          <p:nvPr/>
        </p:nvSpPr>
        <p:spPr>
          <a:xfrm>
            <a:off x="467640" y="188640"/>
            <a:ext cx="82270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2f5897"/>
                </a:solidFill>
                <a:latin typeface="Palatino Linotype"/>
                <a:ea typeface="DejaVu Sans"/>
              </a:rPr>
              <a:t>Встреча детей после экза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ustomShape 2"/>
          <p:cNvSpPr/>
          <p:nvPr/>
        </p:nvSpPr>
        <p:spPr>
          <a:xfrm>
            <a:off x="457200" y="1600200"/>
            <a:ext cx="8227080" cy="45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0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  <a:ea typeface="DejaVu Sans"/>
              </a:rPr>
              <a:t>1. Если ваш ребенок чувствительный —  желательно встретить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  <a:ea typeface="DejaVu Sans"/>
              </a:rPr>
              <a:t>2. Не критикуй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  <a:ea typeface="DejaVu Sans"/>
              </a:rPr>
              <a:t>3. Дайте понять ребенку, что вы его люб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2000" y="3078360"/>
            <a:ext cx="60469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ustomShape 1"/>
          <p:cNvSpPr/>
          <p:nvPr/>
        </p:nvSpPr>
        <p:spPr>
          <a:xfrm>
            <a:off x="1403280" y="260280"/>
            <a:ext cx="651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ustomShape 2"/>
          <p:cNvSpPr/>
          <p:nvPr/>
        </p:nvSpPr>
        <p:spPr>
          <a:xfrm>
            <a:off x="1763640" y="1700280"/>
            <a:ext cx="639828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1480" cy="68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CustomShape 1"/>
          <p:cNvSpPr/>
          <p:nvPr/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ts val="5800"/>
              </a:lnSpc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  <a:ea typeface="DejaVu San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43640" y="1917000"/>
            <a:ext cx="6982200" cy="4533840"/>
          </a:xfrm>
          <a:prstGeom prst="rect">
            <a:avLst/>
          </a:prstGeom>
          <a:ln w="936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CustomShape 1"/>
          <p:cNvSpPr/>
          <p:nvPr/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ts val="5800"/>
              </a:lnSpc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  <a:ea typeface="DejaVu Sans"/>
              </a:rPr>
              <a:t>Экзамен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ustomShape 2"/>
          <p:cNvSpPr/>
          <p:nvPr/>
        </p:nvSpPr>
        <p:spPr>
          <a:xfrm>
            <a:off x="457200" y="1600200"/>
            <a:ext cx="822708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0920" algn="ct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С латинского «испы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3381840" cy="3641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4572000" y="2633400"/>
            <a:ext cx="4373640" cy="32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ustomShape 1"/>
          <p:cNvSpPr/>
          <p:nvPr/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ts val="5800"/>
              </a:lnSpc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  <a:ea typeface="DejaVu Sans"/>
              </a:rPr>
              <a:t>Причины для сомн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stomShape 2"/>
          <p:cNvSpPr/>
          <p:nvPr/>
        </p:nvSpPr>
        <p:spPr>
          <a:xfrm>
            <a:off x="457200" y="2709000"/>
            <a:ext cx="822708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Во-первых, сомнения в зна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Во-вторых, ответственность перед родителями и учител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В-третьих разные личностные особенности у все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940000" y="5013000"/>
            <a:ext cx="15692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CustomShape 1"/>
          <p:cNvSpPr/>
          <p:nvPr/>
        </p:nvSpPr>
        <p:spPr>
          <a:xfrm>
            <a:off x="457200" y="332640"/>
            <a:ext cx="822708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ts val="5800"/>
              </a:lnSpc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  <a:ea typeface="DejaVu Sans"/>
              </a:rPr>
              <a:t>Уровни стрес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ustomShape 2"/>
          <p:cNvSpPr/>
          <p:nvPr/>
        </p:nvSpPr>
        <p:spPr>
          <a:xfrm>
            <a:off x="457200" y="1700640"/>
            <a:ext cx="82270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Оптимальный уровень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Безразличное отношение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Чрезмерный стре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ustomShape 1"/>
          <p:cNvSpPr/>
          <p:nvPr/>
        </p:nvSpPr>
        <p:spPr>
          <a:xfrm>
            <a:off x="457200" y="1772640"/>
            <a:ext cx="822708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Первый 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 для родителей -  не накручивайте ребёнка и не нагнетайте ситу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60%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, говорят о необходимости в психологической поддерж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и только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30% детей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отмечают необходимость материальной поддержки (репетиторы, кур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411640" y="4214880"/>
            <a:ext cx="4101840" cy="25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ustomShape 1"/>
          <p:cNvSpPr/>
          <p:nvPr/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ts val="5800"/>
              </a:lnSpc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  <a:ea typeface="DejaVu Sans"/>
              </a:rPr>
              <a:t>Учёт индивидуальных особенностей дет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stomShape 2"/>
          <p:cNvSpPr/>
          <p:nvPr/>
        </p:nvSpPr>
        <p:spPr>
          <a:xfrm>
            <a:off x="457200" y="1628640"/>
            <a:ext cx="82270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0920">
              <a:lnSpc>
                <a:spcPct val="2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a6717"/>
                </a:solidFill>
                <a:latin typeface="Century Gothic"/>
                <a:ea typeface="DejaVu Sans"/>
              </a:rPr>
              <a:t>Тревожные д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2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a6717"/>
                </a:solidFill>
                <a:latin typeface="Century Gothic"/>
                <a:ea typeface="DejaVu Sans"/>
              </a:rPr>
              <a:t>Неуверенные де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2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a6717"/>
                </a:solidFill>
                <a:latin typeface="Century Gothic"/>
                <a:ea typeface="DejaVu Sans"/>
              </a:rPr>
              <a:t>Застревающие дет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140000" y="1484640"/>
            <a:ext cx="3318840" cy="1842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724000" y="3717000"/>
            <a:ext cx="3310200" cy="1725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2483640" y="4337640"/>
            <a:ext cx="2806200" cy="24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CustomShape 1"/>
          <p:cNvSpPr/>
          <p:nvPr/>
        </p:nvSpPr>
        <p:spPr>
          <a:xfrm>
            <a:off x="457200" y="188640"/>
            <a:ext cx="822708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ts val="5800"/>
              </a:lnSpc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  <a:ea typeface="DejaVu Sans"/>
              </a:rPr>
              <a:t>Аудиалы, визуалы, кинесте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stomShape 2"/>
          <p:cNvSpPr/>
          <p:nvPr/>
        </p:nvSpPr>
        <p:spPr>
          <a:xfrm>
            <a:off x="457200" y="1600200"/>
            <a:ext cx="8227080" cy="45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51640" y="4437000"/>
            <a:ext cx="3883680" cy="2261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4788000" y="4220280"/>
            <a:ext cx="3961440" cy="2635560"/>
          </a:xfrm>
          <a:prstGeom prst="rect">
            <a:avLst/>
          </a:prstGeom>
          <a:ln w="0">
            <a:noFill/>
          </a:ln>
        </p:spPr>
      </p:pic>
      <p:sp>
        <p:nvSpPr>
          <p:cNvPr id="183" name="CustomShape 3"/>
          <p:cNvSpPr/>
          <p:nvPr/>
        </p:nvSpPr>
        <p:spPr>
          <a:xfrm>
            <a:off x="647640" y="1124280"/>
            <a:ext cx="676656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479"/>
              </a:spcBef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DejaVu Sans"/>
              </a:rPr>
              <a:t>Визуал </a:t>
            </a:r>
            <a:r>
              <a:rPr b="1" lang="ru-RU" sz="1800" spc="-1" strike="noStrike">
                <a:solidFill>
                  <a:srgbClr val="4a6717"/>
                </a:solidFill>
                <a:latin typeface="Arial"/>
                <a:ea typeface="DejaVu Sans"/>
              </a:rPr>
              <a:t>– </a:t>
            </a:r>
            <a:r>
              <a:rPr b="1" i="1" lang="ru-RU" sz="1800" spc="-1" strike="noStrike">
                <a:solidFill>
                  <a:srgbClr val="4a6717"/>
                </a:solidFill>
                <a:latin typeface="Arial"/>
                <a:ea typeface="DejaVu Sans"/>
              </a:rPr>
              <a:t>хорошо развита зрительная память и образное мыш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79"/>
              </a:spcBef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DejaVu Sans"/>
              </a:rPr>
              <a:t>Аудиал</a:t>
            </a:r>
            <a:r>
              <a:rPr b="1" lang="ru-RU" sz="1800" spc="-1" strike="noStrike" u="sng">
                <a:solidFill>
                  <a:srgbClr val="4a6717"/>
                </a:solidFill>
                <a:uFillTx/>
                <a:latin typeface="Arial"/>
                <a:ea typeface="DejaVu Sans"/>
              </a:rPr>
              <a:t>-</a:t>
            </a:r>
            <a:r>
              <a:rPr b="1" lang="ru-RU" sz="1800" spc="-1" strike="noStrike">
                <a:solidFill>
                  <a:srgbClr val="4a6717"/>
                </a:solidFill>
                <a:latin typeface="Arial"/>
                <a:ea typeface="DejaVu Sans"/>
              </a:rPr>
              <a:t> </a:t>
            </a:r>
            <a:r>
              <a:rPr b="1" i="1" lang="ru-RU" sz="1800" spc="-1" strike="noStrike">
                <a:solidFill>
                  <a:srgbClr val="4a6717"/>
                </a:solidFill>
                <a:latin typeface="Arial"/>
                <a:ea typeface="DejaVu Sans"/>
              </a:rPr>
              <a:t>умеет слушать и хорошо улавливает главную мыс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79"/>
              </a:spcBef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DejaVu Sans"/>
              </a:rPr>
              <a:t>Кинестетик</a:t>
            </a:r>
            <a:r>
              <a:rPr b="1" lang="ru-RU" sz="1800" spc="-1" strike="noStrike">
                <a:solidFill>
                  <a:srgbClr val="4a6717"/>
                </a:solidFill>
                <a:latin typeface="Arial"/>
                <a:ea typeface="DejaVu Sans"/>
              </a:rPr>
              <a:t> –</a:t>
            </a:r>
            <a:r>
              <a:rPr b="1" i="1" lang="ru-RU" sz="1800" spc="-1" strike="noStrike">
                <a:solidFill>
                  <a:srgbClr val="4a6717"/>
                </a:solidFill>
                <a:latin typeface="Arial"/>
                <a:ea typeface="DejaVu Sans"/>
              </a:rPr>
              <a:t>воспринимает информацию через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ustomShape 1"/>
          <p:cNvSpPr/>
          <p:nvPr/>
        </p:nvSpPr>
        <p:spPr>
          <a:xfrm>
            <a:off x="432000" y="936000"/>
            <a:ext cx="5542200" cy="5326200"/>
          </a:xfrm>
          <a:prstGeom prst="ellipse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ustomShape 2"/>
          <p:cNvSpPr/>
          <p:nvPr/>
        </p:nvSpPr>
        <p:spPr>
          <a:xfrm>
            <a:off x="1080000" y="1584000"/>
            <a:ext cx="4246200" cy="4102200"/>
          </a:xfrm>
          <a:prstGeom prst="ellipse">
            <a:avLst/>
          </a:prstGeom>
          <a:solidFill>
            <a:srgbClr val="ffff00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stomShape 3"/>
          <p:cNvSpPr/>
          <p:nvPr/>
        </p:nvSpPr>
        <p:spPr>
          <a:xfrm>
            <a:off x="1800000" y="2736000"/>
            <a:ext cx="2590200" cy="2518200"/>
          </a:xfrm>
          <a:prstGeom prst="ellipse">
            <a:avLst/>
          </a:prstGeom>
          <a:solidFill>
            <a:srgbClr val="5eb91e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ustomShape 4"/>
          <p:cNvSpPr/>
          <p:nvPr/>
        </p:nvSpPr>
        <p:spPr>
          <a:xfrm>
            <a:off x="1872000" y="432000"/>
            <a:ext cx="5398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ustomShape 5"/>
          <p:cNvSpPr/>
          <p:nvPr/>
        </p:nvSpPr>
        <p:spPr>
          <a:xfrm>
            <a:off x="1224000" y="432000"/>
            <a:ext cx="6838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ТЕХНИКА «3 — 4 — 5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ustomShape 6"/>
          <p:cNvSpPr/>
          <p:nvPr/>
        </p:nvSpPr>
        <p:spPr>
          <a:xfrm>
            <a:off x="6208560" y="5557320"/>
            <a:ext cx="2501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Первые 10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ustomShape 7"/>
          <p:cNvSpPr/>
          <p:nvPr/>
        </p:nvSpPr>
        <p:spPr>
          <a:xfrm>
            <a:off x="6552000" y="4464000"/>
            <a:ext cx="2501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Вторые 10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ustomShape 8"/>
          <p:cNvSpPr/>
          <p:nvPr/>
        </p:nvSpPr>
        <p:spPr>
          <a:xfrm>
            <a:off x="6352560" y="3253320"/>
            <a:ext cx="2501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Третьи 10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4104000" y="3456000"/>
            <a:ext cx="2160000" cy="72000"/>
          </a:xfrm>
          <a:prstGeom prst="line">
            <a:avLst/>
          </a:prstGeom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4536000" y="4608000"/>
            <a:ext cx="1800000" cy="72000"/>
          </a:xfrm>
          <a:prstGeom prst="line">
            <a:avLst/>
          </a:prstGeom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536000" y="5688000"/>
            <a:ext cx="1512000" cy="360"/>
          </a:xfrm>
          <a:prstGeom prst="line">
            <a:avLst/>
          </a:prstGeom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CustomShape 1"/>
          <p:cNvSpPr/>
          <p:nvPr/>
        </p:nvSpPr>
        <p:spPr>
          <a:xfrm>
            <a:off x="457200" y="0"/>
            <a:ext cx="82270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ts val="5800"/>
              </a:lnSpc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  <a:ea typeface="DejaVu Sans"/>
              </a:rPr>
              <a:t>Как помочь детям перед экзаме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ustomShape 2"/>
          <p:cNvSpPr/>
          <p:nvPr/>
        </p:nvSpPr>
        <p:spPr>
          <a:xfrm>
            <a:off x="457200" y="1628640"/>
            <a:ext cx="82270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DejaVu Sans"/>
              </a:rPr>
              <a:t>Обеспечьте дома удобное место для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092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683640" y="2133000"/>
            <a:ext cx="719820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xecutive</Template>
  <TotalTime>180</TotalTime>
  <Application>LibreOffice/7.4.7.2$Linux_X86_64 LibreOffice_project/40$Build-2</Application>
  <AppVersion>15.0000</AppVersion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5T03:44:28Z</dcterms:created>
  <dc:creator>Arina</dc:creator>
  <dc:description/>
  <dc:language>ru-RU</dc:language>
  <cp:lastModifiedBy/>
  <dcterms:modified xsi:type="dcterms:W3CDTF">2019-01-24T17:09:33Z</dcterms:modified>
  <cp:revision>28</cp:revision>
  <dc:subject/>
  <dc:title>Психологическая поддержка выпускников в период сдачи ЕГЭ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4</vt:r8>
  </property>
</Properties>
</file>