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media/type.wav" ContentType="audio/x-wav"/>
  <Override PartName="/ppt/media/laser.wav" ContentType="audio/x-wav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326-3982-46C3-B1EB-904411F7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65C-906F-4CE5-A6E6-7487AAC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872-FFA1-4481-8970-F7BB9174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2B3-28C7-4CFB-B1F9-B89286EB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B92-9825-4F91-A404-D07874D3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04B4-52AB-4036-8C81-D0EE23D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07EE-6C56-4CD7-BD72-C0BC689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400-A604-40D7-B4FF-DEA6828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C3A-DA56-44E2-8635-CAD6CBD0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8D99-8118-4533-A253-087F56E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232-E8B2-4B88-A790-5CD22BB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047-7A4D-4047-A122-7E55F8AA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094A-3D88-46DA-9D0B-DC74448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58B-C6B6-4190-A836-020D888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2902-4665-4F47-9F9D-0379E87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2378-F56A-47DE-A2D8-210E917D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2147-89CB-4BF1-A338-F2B982AE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C3E-7996-4BA0-8666-B260B4B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1BF-D8F6-4FDD-9400-9336B0B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B46-2529-4391-93E7-CF4E4612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635-A4E0-487D-B004-7B9D309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FD8-C7F7-4248-BED7-D31B1C8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0ED-17D4-464A-A12D-0F39E902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0CC-AAD7-4590-8403-4F07992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C5B-609F-4E33-9C02-E757DE5C1BA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8E5F-250C-42E8-A8B8-A750DEA2B82C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Модальные глагол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514600" y="38095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Modal verb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4576680"/>
            <a:ext cx="691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вторская разработ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чителя Раменской гимназии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рмолаева Николая Валериеви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(высшая квалификационная категор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a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только 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ndefinite Infinitive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ещание, предостережение, угроз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all be there at 7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692360" y="285264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обязательно) будем там в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11280" y="34290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all take a taxi a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476360" y="400536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Тебе следует взять такси ноч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95280" y="595008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Со всеми лицами!!!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all do what we tell them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619280" y="504828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будут делать то, что мы им скаж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a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только 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ndefinite Infinitive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в вопросах с 1 и 3 л.)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щение за разрешением,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желание узнать мнение собеседник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9640" y="292428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I open the wind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692360" y="3500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Не против, если я открою ок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11280" y="4005360"/>
            <a:ext cx="216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24000" y="6093000"/>
            <a:ext cx="8208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* 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11280" y="4653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 open the wind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19280" y="537372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ожно открыть ок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75"/>
                            </p:stCondLst>
                            <p:childTnLst>
                              <p:par>
                                <p:cTn id="6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75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75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75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75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i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Желание, намерение, настойчивость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e to th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692360" y="285264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обязательно) придем на дискот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1280" y="34290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ring the book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476360" y="400536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Ты ведь принесешь книгу завт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Обычно выделяется логическим уда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do what we tell them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00000" y="5048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ведь будут делать то, что мы им скаж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i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741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(в вопросах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ежливая просьб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lp us with the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692360" y="285264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Поможете нам с работ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11280" y="342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в технической литерату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вторяющееся действие (обычно не переводитс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Обычно выделяется логическим уда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nter will work well for two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900000" y="5048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интер будет работать хорошо в течение 2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75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75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7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7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n’t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(wouldn’t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Нежелани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Ни за что н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икак не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то же в тех.лит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1280" y="285264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’t do it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332000" y="350028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не буду это делать сегод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0" y="558972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611280" y="4221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won’t st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042920" y="49417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ашина не завод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75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75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486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Желание, намерение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Past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il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 Повторяющееся, регулярное действие в прошлом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. Сарказм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2637000"/>
            <a:ext cx="88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 to th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213000"/>
            <a:ext cx="860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сказали, что (обязательно) придут на дискот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37893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I was small I would take music lessons twi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50880" y="4437000"/>
            <a:ext cx="8458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Когда я был маленький, я занимался музыкой два раза  неде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6165720"/>
            <a:ext cx="820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4869000"/>
            <a:ext cx="720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e won’t say a word – No, she wouldn’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5445000"/>
            <a:ext cx="882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Она не скажет ни слова – Да. Уж она то не скаже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75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75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75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75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7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7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75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75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(в вопросах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чень вежливая просьб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68360" y="3573360"/>
            <a:ext cx="58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uld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make room for me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619280" y="4437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Подвиньтесь, пожалуй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6021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75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*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ould -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 (с оттенком морального долга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ght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 (сильный моральный долг)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39640" y="342900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льшинство значений совпадаю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395280" y="566100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3200" spc="-1" strike="noStrike">
                <a:solidFill>
                  <a:srgbClr val="9900cc"/>
                </a:solidFill>
                <a:latin typeface="Arial Narrow"/>
              </a:rPr>
              <a:t>без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95280" y="38955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Значение зависит от типа инфинитива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324000" y="6165720"/>
            <a:ext cx="820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32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75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75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75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75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75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75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*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definite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242100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should (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ght to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) help your grann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95280" y="576756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без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95280" y="29973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следует помочь своей бабуш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24000" y="623736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68360" y="350028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 технической литературе (только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Наставление (в инструкциях); вероя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68360" y="4543560"/>
            <a:ext cx="84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lug the appliance in before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611280" y="5048280"/>
            <a:ext cx="806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Перед использованием прибор включить в се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7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7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 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(</a:t>
            </a:r>
            <a:r>
              <a:rPr b="1" lang="ru-RU" sz="4000" spc="-1" strike="noStrike">
                <a:solidFill>
                  <a:srgbClr val="9900cc"/>
                </a:solidFill>
                <a:latin typeface="Arial Narrow"/>
              </a:rPr>
              <a:t>редко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tinuous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ather should be working now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Предположение о том, что происходит в данный момен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95280" y="317484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Папа должно быть сейчас работ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24000" y="3789360"/>
            <a:ext cx="8820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Следовало бы заниматься сейчас этим, а не чем-то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79280" y="4508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You should be listening and not talking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79280" y="522936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ам сейчас следовало бы слушать, а не разговариват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75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75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7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7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7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Narrow"/>
              </a:rPr>
              <a:t>Свойства модальных глаголов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Не имеют инфинитив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120" y="2895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После них не употребляется частица </a:t>
            </a:r>
            <a:r>
              <a:rPr b="1" i="1" lang="en-US" sz="3200" spc="-1" strike="noStrike">
                <a:solidFill>
                  <a:srgbClr val="ff0066"/>
                </a:solidFill>
                <a:latin typeface="Arial Narrow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6212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Не изменяются по лицам и числ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2120" y="4191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Образуют вопросы путем перемещения на место перед подлежащ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85800" y="5334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Образуют отрицания при помощи частицы </a:t>
            </a:r>
            <a:r>
              <a:rPr b="1" i="1" lang="en-US" sz="3200" spc="-1" strike="noStrike">
                <a:solidFill>
                  <a:srgbClr val="ff0066"/>
                </a:solidFill>
                <a:latin typeface="Arial Narrow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n’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n’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tinuous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009800" y="2565360"/>
            <a:ext cx="7307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c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ледовало бы сейчас делать то, что дел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934920" y="3429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You shouldn’t be talking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755640" y="414972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ам сейчас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не следовало бы разговариват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7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7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75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75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75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75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ve com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earli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 сделано то, что следовало бы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5280" y="3429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следовало прийти пораньше. (а вы не приш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24000" y="4076640"/>
            <a:ext cx="856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ught to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ve help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her younger sister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324000" y="479736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Ей следовало бы помочь своей младшей сест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(А она не помог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7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7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75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75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7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7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75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75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7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7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n’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n’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ouldn’t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ve giv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 h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 следовало делать то, что уже сделано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395280" y="3429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не следовало отдавать это ей. (А вы отда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24000" y="4076640"/>
            <a:ext cx="8820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Arial Narrow"/>
              </a:rPr>
              <a:t>oughtn’t to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have told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her younger sister about her boy-friend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324000" y="479736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Ей не следовало говорить своей младшей сестре о ее бойфренде.  (А она сказа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7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7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7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7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7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7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7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7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Indefinite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50920" y="321300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he stay with such bad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39640" y="249228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Риторический вопрос ( С какой стати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7893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C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какой стати ему оставаться с такими плохими людь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95280" y="43657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hy should we go to bed so ear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79280" y="494172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Почему это мы должны ложиться спать так ран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75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5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7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7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7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7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7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7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7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7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definite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95280" y="227664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Должен (в соответствии с договоренностью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95280" y="270828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are to meet at 7.30 tomorrow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24000" y="5589720"/>
            <a:ext cx="8208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* 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Только в настоящем и прошедшем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Мы должны (договорились) встретиться в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завтра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468360" y="378936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Должно случиться (по ни от кого не зависящим причинам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0" y="42926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e city is to be ruined by the volc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216000" y="4724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Город будет разрушен вулканом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216000" y="5157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Заметьте, что </a:t>
            </a:r>
            <a:r>
              <a:rPr b="0" lang="ru-RU" sz="2800" spc="-1" strike="noStrike">
                <a:solidFill>
                  <a:srgbClr val="00cc00"/>
                </a:solidFill>
                <a:latin typeface="Arial Narrow"/>
              </a:rPr>
              <a:t>настоящее время</a:t>
            </a: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 глагола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o be</a:t>
            </a:r>
            <a:r>
              <a:rPr b="0" lang="en-US" sz="2800" spc="-1" strike="noStrike">
                <a:solidFill>
                  <a:srgbClr val="99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обозначает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будущее действ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7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7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75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75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7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7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(was / were to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ndefinite Infinitive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95280" y="191628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Должен</a:t>
            </a:r>
            <a:r>
              <a:rPr b="0" lang="en-US" sz="32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был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95280" y="25272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me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24000" y="609300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(договорились)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42920" y="4005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Должны</a:t>
            </a:r>
            <a:r>
              <a:rPr b="0" lang="en-US" sz="26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 </a:t>
            </a:r>
            <a:r>
              <a:rPr b="0" lang="ru-RU" sz="2600" spc="-1" strike="noStrike">
                <a:solidFill>
                  <a:srgbClr val="ff0066"/>
                </a:solidFill>
                <a:latin typeface="Arial Narrow"/>
              </a:rPr>
              <a:t>но не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95280" y="4471920"/>
            <a:ext cx="874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0" y="5013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, но не получило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66560" y="3549600"/>
            <a:ext cx="88934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erfect Infinitive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75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75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3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27" dur="3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3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77" dur="3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(was / were to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24000" y="609300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22200" y="2349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Должны</a:t>
            </a:r>
            <a:r>
              <a:rPr b="0" lang="en-US" sz="26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 </a:t>
            </a:r>
            <a:r>
              <a:rPr b="0" lang="ru-RU" sz="2600" spc="-1" strike="noStrike">
                <a:solidFill>
                  <a:srgbClr val="ff0066"/>
                </a:solidFill>
                <a:latin typeface="Arial Narrow"/>
              </a:rPr>
              <a:t>но не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395280" y="2781360"/>
            <a:ext cx="874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335772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, но не получило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250920" y="1773360"/>
            <a:ext cx="88930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erfect Infinitive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95280" y="432756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нимание!!!  Отрицательная форма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250920" y="3789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Narrow"/>
              </a:rPr>
              <a:t>Не должны</a:t>
            </a:r>
            <a:r>
              <a:rPr b="0" lang="en-US" sz="2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не договаривались)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но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395280" y="4437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were no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there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0" y="5157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Мы не должны были встретиться там, но встретилис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6" dur="3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1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75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75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42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75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1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7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7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Сравните значение: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8200" y="256536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н, может быть, пришел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шедшее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539640" y="1916280"/>
            <a:ext cx="8209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He</a:t>
            </a:r>
            <a:r>
              <a:rPr b="0" lang="ru-RU" sz="40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may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95280" y="29973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He might have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24000" y="3573360"/>
            <a:ext cx="856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н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мог бы и прийти. (но не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250920" y="4005360"/>
            <a:ext cx="86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Narrow"/>
              </a:rPr>
              <a:t>He should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324000" y="4543560"/>
            <a:ext cx="85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му следовало бы прийти. (но он не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50920" y="5767560"/>
            <a:ext cx="85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му не следовало приходить. (а он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79280" y="501480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Narrow"/>
              </a:rPr>
              <a:t>He shouldn’t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7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7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7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7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7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7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7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7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7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7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7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7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7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7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75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75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7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7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re </a:t>
            </a: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(полумодальный)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439236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ть наглость, нахальство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299736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re speak so badly of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716360" y="2997360"/>
            <a:ext cx="410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He dare        speak 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 rot="5400000">
            <a:off x="468000" y="234936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 rot="2354400">
            <a:off x="3924360" y="2276640"/>
            <a:ext cx="792000" cy="5029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5905440" y="2997360"/>
            <a:ext cx="3952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6156360" y="2997360"/>
            <a:ext cx="50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4292640"/>
            <a:ext cx="4643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 daren’t enter the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2"/>
          <p:cNvSpPr/>
          <p:nvPr/>
        </p:nvSpPr>
        <p:spPr>
          <a:xfrm rot="5400000">
            <a:off x="5651640" y="371628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3780000" y="4653000"/>
            <a:ext cx="464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He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 Narrow"/>
              </a:rPr>
              <a:t>dar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ent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4"/>
          <p:cNvSpPr/>
          <p:nvPr/>
        </p:nvSpPr>
        <p:spPr>
          <a:xfrm rot="5269200">
            <a:off x="466560" y="364464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755640" y="544500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He                                     speak about the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6443640" y="4653000"/>
            <a:ext cx="50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147636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2556000" y="5445000"/>
            <a:ext cx="86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125892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i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255600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5"/>
          <p:cNvSpPr/>
          <p:nvPr/>
        </p:nvSpPr>
        <p:spPr>
          <a:xfrm>
            <a:off x="3780000" y="5445000"/>
            <a:ext cx="5029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75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75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7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7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7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7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7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7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1679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Can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очь, уметь (физическая способность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lay football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 умеем играть в футб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n come in the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981080" y="4343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 сможет прийти вече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May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очь (разрешение), возможно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y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 могу (Мне можно) остаться зд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y come in the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133720" y="4343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, может быть, придет вече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Mus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олжен (приказ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ust come at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 должен прийти в сем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tudy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133720" y="4343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Вы должны хорошо учить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Arial Narrow"/>
              </a:rPr>
              <a:t>Отрицание </a:t>
            </a:r>
            <a:r>
              <a:rPr b="0" lang="en-US" sz="36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3333ff"/>
                </a:solidFill>
                <a:latin typeface="Arial Narrow"/>
              </a:rPr>
              <a:t>с модальными глаголами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523880" y="1523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пр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191120" y="1447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т.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6934320" y="144792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80880" y="2286000"/>
            <a:ext cx="838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600200" y="23623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жешь, умее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4343400" y="22860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nnot /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477120" y="23623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 может, не у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04920" y="28954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600200" y="29718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ожно, возможно 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724280" y="289548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6477120" y="28195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 разрешен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озможно не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04920" y="350532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2057400" y="35053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олж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4724280" y="3505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st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553080" y="35053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льз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4724280" y="41911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6400800" y="42670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е обязательн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380880" y="5029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1905120" y="502920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419720" y="502920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oul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6400800" y="5029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4343400" y="3276720"/>
            <a:ext cx="45720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343400" y="3276720"/>
            <a:ext cx="380880" cy="53316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3657600" y="3886200"/>
            <a:ext cx="106668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3657600" y="3886200"/>
            <a:ext cx="1066680" cy="68580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75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Внимание!!!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16000" y="1773360"/>
            <a:ext cx="7777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Большинство значений модальных глаголов зависит от следующего за ним инфинитив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ипы инфинитивов: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33112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efinite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859280" y="1628640"/>
            <a:ext cx="375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e         (to d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789440" y="2205000"/>
            <a:ext cx="410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be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50920" y="6021360"/>
            <a:ext cx="871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* </a:t>
            </a:r>
            <a:r>
              <a:rPr b="0" lang="ru-RU" sz="2400" spc="-1" strike="noStrike">
                <a:solidFill>
                  <a:srgbClr val="3333ff"/>
                </a:solidFill>
                <a:latin typeface="Arial Narrow"/>
              </a:rPr>
              <a:t>После большинства модальных глаголов употребляется без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3780000" y="177336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780000" y="220500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95280" y="2900520"/>
            <a:ext cx="3816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859280" y="2886120"/>
            <a:ext cx="410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be doing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95280" y="347652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851280" y="350028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4716360" y="3500280"/>
            <a:ext cx="41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e        (to have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851280" y="400536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4608360" y="3933720"/>
            <a:ext cx="464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 (to have been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68360" y="4484520"/>
            <a:ext cx="4174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4572000" y="4797360"/>
            <a:ext cx="410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have been doing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Значения инфинитивов:</a:t>
            </a:r>
            <a:r>
              <a:rPr b="0" lang="en-US" sz="40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33112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efinite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564000" y="1700280"/>
            <a:ext cx="5054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Обычное действие в настоящем, буду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50920" y="609444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* </a:t>
            </a:r>
            <a:r>
              <a:rPr b="0" lang="ru-RU" sz="2400" spc="-1" strike="noStrike">
                <a:solidFill>
                  <a:srgbClr val="3333ff"/>
                </a:solidFill>
                <a:latin typeface="Arial Narrow"/>
              </a:rPr>
              <a:t>После большинства модальных глаголов употребляются без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95280" y="2781360"/>
            <a:ext cx="3816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995640" y="2781360"/>
            <a:ext cx="4967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 Narrow"/>
              </a:rPr>
              <a:t>Действие, происходящее в момент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95280" y="383688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348000" y="378936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140360" y="3751200"/>
            <a:ext cx="453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Действие до момента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3348000" y="429408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067280" y="4365720"/>
            <a:ext cx="5076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Не совершившееся или не желательное, но совершивше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68360" y="4987800"/>
            <a:ext cx="4174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852720" y="5014800"/>
            <a:ext cx="4967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Обычно с модальными глаголами не употреб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7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7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0:28:25Z</dcterms:created>
  <dc:creator>Папа</dc:creator>
  <dc:description/>
  <dc:language>en-US</dc:language>
  <cp:lastModifiedBy>Owner</cp:lastModifiedBy>
  <dcterms:modified xsi:type="dcterms:W3CDTF">2015-12-22T14:25:19Z</dcterms:modified>
  <cp:revision>52</cp:revision>
  <dc:subject/>
  <dc:title>Модальные глаголы</dc:title>
</cp:coreProperties>
</file>