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media/type.wav" ContentType="audio/x-wav"/>
  <Override PartName="/ppt/media/laser.wav" ContentType="audio/x-wav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BA9-633B-49BD-88F2-924937A3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0861-2D26-4BAD-80DC-95F7EF6F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EC8-0F59-40BD-B720-6B1C0D1B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FDE-C7C2-49EE-903B-531CF074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A099-7B6F-41B0-9698-F0D098B3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618B-4A96-415E-9B26-2D8AD7CB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D16B-07E8-4959-8180-2202B6EC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BBF1-75EF-4D56-9618-8232BFE4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2360-350E-4F22-92EC-8A410EE3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5127-D265-4A04-B94A-3A3ECCC8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21B8-08E9-41E6-8017-2C5D3BF5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2AD-67C6-4DC5-A174-4758D5F1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65EC-19D5-47D3-AE0C-05DB89FF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C47A-A2AC-4D0F-B2B2-9AAB3BF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B666-BB16-4E94-B4EE-EE6B1B2F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CA90-F7D5-4908-A2DC-2DD8270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47E2-2F54-4F59-9317-E84E0450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A0B-BF94-4CB7-8055-25DFE0E9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C02-B8CA-468B-AD0B-A97DB766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C42-B091-4592-97C3-4C75A741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EFB2-6507-4254-8243-F62AD995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128-93C3-4767-B52B-3EA3282F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B5F-C799-4215-AE4C-6CF0C5DF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7B2-F1EC-40D7-99CD-B495FB1C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16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2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91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892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>
                  <a:gd name="textAreaLeft" fmla="*/ 0 w 1680840"/>
                  <a:gd name="textAreaRight" fmla="*/ 1681200 w 168084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893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>
                  <a:gd name="textAreaLeft" fmla="*/ 0 w 6543360"/>
                  <a:gd name="textAreaRight" fmla="*/ 6543720 w 6543360"/>
                  <a:gd name="textAreaTop" fmla="*/ 0 h 1000080"/>
                  <a:gd name="textAreaBottom" fmla="*/ 1000440 h 1000080"/>
                </a:gdLst>
                <a:ahLst/>
                <a:rect l="textAreaLeft" t="textAreaTop" r="textAreaRight" b="textAreaBottom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94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895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896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897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898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899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900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901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902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903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904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3F8F-6CA4-467C-A267-DA7609F8ECAB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9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2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4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904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12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92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893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>
                <a:gd name="textAreaLeft" fmla="*/ 0 w 6543360"/>
                <a:gd name="textAreaRight" fmla="*/ 6543720 w 654336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894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895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96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897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898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899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900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901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902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903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3C8A-3815-4C28-80F5-5AE50A4BD5E6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laser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laser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laser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Модальные глаголы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514600" y="38095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Modal verb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050920" y="4576680"/>
            <a:ext cx="6913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Авторская разработ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учителя Раменской гимназии №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рмолаева Николая Валериевич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(высшая квалификационная категор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a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только </a:t>
            </a: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Indefinite Infinitive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ещание, предостережение, угроз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539640" y="22766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all be there at 7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692360" y="285264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ы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обязательно) будем там в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11280" y="34290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all take a taxi a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476360" y="4005360"/>
            <a:ext cx="719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Тебе следует взять такси ноч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95280" y="5950080"/>
            <a:ext cx="820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* Со всеми лицами!!!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11280" y="447192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hall do what we tell them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619280" y="504828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и будут делать то, что мы им скаж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75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75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75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a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только </a:t>
            </a: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Indefinite Infinitive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!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(в вопросах с 1 и 3 л.)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щение за разрешением,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желание узнать мнение собеседник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39640" y="292428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 I open the wind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692360" y="350028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Не против, если я открою ок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11280" y="4005360"/>
            <a:ext cx="216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равнит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324000" y="6093000"/>
            <a:ext cx="8208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* 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11280" y="465300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I open the wind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619280" y="537372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ожно открыть окн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75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75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75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275"/>
                            </p:stCondLst>
                            <p:childTnLst>
                              <p:par>
                                <p:cTn id="62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75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75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75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75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75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75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7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7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i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Желание, намерение, настойчивость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39640" y="22766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me to the d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692360" y="285264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ы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(обязательно) придем на дискот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1280" y="34290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ring the book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476360" y="4005360"/>
            <a:ext cx="719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Ты ведь принесешь книгу завт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0" y="558972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Обычно выделяется логическим удар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11280" y="447192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do what we tell them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900000" y="50482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и ведь будут делать то, что мы им скаж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75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7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75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75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75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7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7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75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ill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676160"/>
            <a:ext cx="7417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(в вопросах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ежливая просьб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539640" y="2276640"/>
            <a:ext cx="58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lp us with the 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1692360" y="285264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Поможете нам с работо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11280" y="342900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(в технической литератур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вторяющееся действие (обычно не переводится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0" y="5589720"/>
            <a:ext cx="820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Обычно выделяется логическим удар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611280" y="447192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inter will work well for two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900000" y="50482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интер будет работать хорошо в течение 2 час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75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75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7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75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7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7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7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7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75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75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on’t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(wouldn’t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Нежелание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Ни за что не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икак не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(то же в тех.лит)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11280" y="285264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n’t do it toda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1332000" y="3500280"/>
            <a:ext cx="7199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Я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не буду это делать сегод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0" y="558972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611280" y="422100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won’t st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042920" y="49417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ашина не заводи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75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75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75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75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75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7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7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4860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Желание, намерение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Past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il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 Повторяющееся, регулярное действие в прошлом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. Сарказм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2637000"/>
            <a:ext cx="88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sa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y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wou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 to the d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3213000"/>
            <a:ext cx="860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и сказали, что (обязательно) придут на дискоте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37893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I was small I would take music lessons twi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50880" y="4437000"/>
            <a:ext cx="8458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Narrow"/>
              </a:rPr>
              <a:t>Когда я был маленький, я занимался музыкой два раза  недел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0" y="6165720"/>
            <a:ext cx="820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Только в ПОЛ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4869000"/>
            <a:ext cx="720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he won’t say a word – No, she wouldn’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0" y="5445000"/>
            <a:ext cx="882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Она не скажет ни слова – Да. Уж она то не скажет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75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75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7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7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75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75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7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75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75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75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7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7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7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7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7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W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585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(в вопросах)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чень вежливая просьб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468360" y="3573360"/>
            <a:ext cx="583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ould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you make room for me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619280" y="4437000"/>
            <a:ext cx="720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Подвиньтесь, пожалуй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0" y="6021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Narrow"/>
              </a:rPr>
              <a:t>Со всеми лицами!!!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75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75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7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7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75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75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75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*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13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hould -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ует (с оттенком морального долга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ught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ует (сильный моральный долг)               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539640" y="342900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ольшинство значений совпадают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395280" y="5661000"/>
            <a:ext cx="820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3200" spc="-1" strike="noStrike">
                <a:solidFill>
                  <a:srgbClr val="9900cc"/>
                </a:solidFill>
                <a:latin typeface="Arial Narrow"/>
              </a:rPr>
              <a:t>без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395280" y="389556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Значение зависит от типа инфинитива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324000" y="6165720"/>
            <a:ext cx="820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32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75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75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7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75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75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75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75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75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75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7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75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1" lang="ru-RU" sz="4400" spc="-1" strike="noStrike">
                <a:solidFill>
                  <a:srgbClr val="663300"/>
                </a:solidFill>
                <a:latin typeface="Arial Narrow"/>
              </a:rPr>
              <a:t>*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*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ndefinite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242100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You should (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ght to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) help your grann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95280" y="5767560"/>
            <a:ext cx="820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без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95280" y="299736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Вам следует помочь своей бабуш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24000" y="6237360"/>
            <a:ext cx="820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68360" y="350028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 технической литературе (только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)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       </a:t>
            </a:r>
            <a:r>
              <a:rPr b="0" lang="ru-RU" sz="3200" spc="-1" strike="noStrike">
                <a:solidFill>
                  <a:srgbClr val="00cc00"/>
                </a:solidFill>
                <a:latin typeface="Arial Narrow"/>
              </a:rPr>
              <a:t>Наставление (в инструкциях); вероят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468360" y="4543560"/>
            <a:ext cx="84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You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plug the appliance in before us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611280" y="5048280"/>
            <a:ext cx="8064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Перед использованием прибор включить в се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75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75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7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7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7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75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7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7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7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75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7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 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(</a:t>
            </a:r>
            <a:r>
              <a:rPr b="1" lang="ru-RU" sz="4000" spc="-1" strike="noStrike">
                <a:solidFill>
                  <a:srgbClr val="9900cc"/>
                </a:solidFill>
                <a:latin typeface="Arial Narrow"/>
              </a:rPr>
              <a:t>редко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ontinuous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50920" y="278136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ather should be working now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24000" y="2276640"/>
            <a:ext cx="820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Предположение о том, что происходит в данный момен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395280" y="317484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Папа должно быть сейчас работ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24000" y="3789360"/>
            <a:ext cx="8820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Следовало бы заниматься сейчас этим, а не чем-то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179280" y="450864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You should be listening and not talking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179280" y="5229360"/>
            <a:ext cx="86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ам сейчас следовало бы слушать, а не разговаривать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75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7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7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75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75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75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75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7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75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75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75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75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75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 Narrow"/>
              </a:rPr>
              <a:t>Свойства модальных глаголов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Не имеют инфинитив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62120" y="2895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После них не употребляется частица </a:t>
            </a:r>
            <a:r>
              <a:rPr b="1" i="1" lang="en-US" sz="3200" spc="-1" strike="noStrike">
                <a:solidFill>
                  <a:srgbClr val="ff0066"/>
                </a:solidFill>
                <a:latin typeface="Arial Narrow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762120" y="3505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Не изменяются по лицам и числ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2120" y="4191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Образуют вопросы путем перемещения на место перед подлежащ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85800" y="5334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 Образуют отрицания при помощи частицы </a:t>
            </a:r>
            <a:r>
              <a:rPr b="1" i="1" lang="en-US" sz="3200" spc="-1" strike="noStrike">
                <a:solidFill>
                  <a:srgbClr val="ff0066"/>
                </a:solidFill>
                <a:latin typeface="Arial Narrow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n’t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n’t t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ontinuous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009800" y="2565360"/>
            <a:ext cx="73072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Не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c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ледовало бы сейчас делать то, что дела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934920" y="3429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You shouldn’t be talking 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755640" y="4149720"/>
            <a:ext cx="777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ам сейчас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не следовало бы разговаривать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7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75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75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75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75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75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7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7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75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75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 t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erfect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50920" y="278136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You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hould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ve come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earli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324000" y="2276640"/>
            <a:ext cx="820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Не сделано то, что следовало бы 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95280" y="34290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Вам следовало прийти пораньше. (а вы не пришл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24000" y="4076640"/>
            <a:ext cx="8569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he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ought to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ve help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her younger sister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324000" y="4797360"/>
            <a:ext cx="864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Ей следовало бы помочь своей младшей сестр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(А она не помогл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7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7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75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75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75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75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75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75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7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7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7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7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7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7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n’t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Oughtn’t to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erfect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278136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You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shouldn’t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ve giv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 her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24000" y="2276640"/>
            <a:ext cx="820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Не следовало делать то, что уже сделано 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395280" y="34290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Вам не следовало отдавать это ей. (А вы отдал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24000" y="4076640"/>
            <a:ext cx="8820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he </a:t>
            </a:r>
            <a:r>
              <a:rPr b="1" lang="en-US" sz="2800" spc="-1" strike="noStrike">
                <a:solidFill>
                  <a:srgbClr val="9900cc"/>
                </a:solidFill>
                <a:latin typeface="Arial Narrow"/>
              </a:rPr>
              <a:t>oughtn’t to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have told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her younger sister about her boy-friend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324000" y="4797360"/>
            <a:ext cx="8640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Ей не следовало говорить своей младшей сестре о ее бойфренде.  (А она сказал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7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75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7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75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7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7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75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75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7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7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7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75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7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75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 Narrow"/>
              </a:rPr>
              <a:t>Should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Indefinite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 Infini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250920" y="3213000"/>
            <a:ext cx="828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 he stay with such bad peop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539640" y="2492280"/>
            <a:ext cx="82090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Риторический вопрос ( С какой стати?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37893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C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какой стати ему оставаться с такими плохими людь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95280" y="436572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hy should we go to bed so ear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79280" y="4941720"/>
            <a:ext cx="86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Почему это мы должны ложиться спать так ран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75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75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75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75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75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75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75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75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7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7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7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7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75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75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Be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18205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Indefinite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95280" y="227664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Должен (в соответствии с договоренностью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395280" y="270828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are to meet at 7.30 tomorrow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24000" y="5589720"/>
            <a:ext cx="82087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* 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Только в настоящем и прошедшем времен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8"/>
          <p:cNvSpPr/>
          <p:nvPr/>
        </p:nvSpPr>
        <p:spPr>
          <a:xfrm>
            <a:off x="0" y="328464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Мы должны (договорились) встретиться в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завтра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468360" y="3789360"/>
            <a:ext cx="82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Должно случиться (по ни от кого не зависящим причинам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0" y="429264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e city is to be ruined by the volc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216000" y="4724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Город будет разрушен вулканом</a:t>
            </a: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216000" y="51577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Заметьте, что </a:t>
            </a:r>
            <a:r>
              <a:rPr b="0" lang="ru-RU" sz="2800" spc="-1" strike="noStrike">
                <a:solidFill>
                  <a:srgbClr val="00cc00"/>
                </a:solidFill>
                <a:latin typeface="Arial Narrow"/>
              </a:rPr>
              <a:t>настоящее время</a:t>
            </a: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 глагола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to be</a:t>
            </a:r>
            <a:r>
              <a:rPr b="0" lang="en-US" sz="2800" spc="-1" strike="noStrike">
                <a:solidFill>
                  <a:srgbClr val="9900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обозначает 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будущее действ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75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75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75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75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75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75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75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75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7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7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75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75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7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75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7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7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Be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*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(was / were to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Indefinite Infinitive</a:t>
            </a:r>
            <a:r>
              <a:rPr b="1" lang="ru-RU" sz="3200" spc="-1" strike="noStrike">
                <a:solidFill>
                  <a:srgbClr val="00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395280" y="191628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cc00"/>
                </a:solidFill>
                <a:latin typeface="Arial Narrow"/>
              </a:rPr>
              <a:t>Должен</a:t>
            </a:r>
            <a:r>
              <a:rPr b="0" lang="en-US" sz="3200" spc="-1" strike="noStrike">
                <a:solidFill>
                  <a:srgbClr val="00cc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cc00"/>
                </a:solidFill>
                <a:latin typeface="Arial Narrow"/>
              </a:rPr>
              <a:t>был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 (в соответствии с договоренностью)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95280" y="25272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were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me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at 7.30 yesterday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324000" y="6093000"/>
            <a:ext cx="820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Мы должны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были (договорились) встретиться в 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чера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42920" y="4005360"/>
            <a:ext cx="882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Должны</a:t>
            </a:r>
            <a:r>
              <a:rPr b="0" lang="en-US" sz="2600" spc="-1" strike="noStrike">
                <a:solidFill>
                  <a:srgbClr val="00cc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были</a:t>
            </a:r>
            <a:r>
              <a:rPr b="0" lang="ru-RU" sz="2600" spc="-1" strike="noStrike">
                <a:solidFill>
                  <a:srgbClr val="663300"/>
                </a:solidFill>
                <a:latin typeface="Arial Narrow"/>
              </a:rPr>
              <a:t> (в соответствии с договоренностью) </a:t>
            </a:r>
            <a:r>
              <a:rPr b="0" lang="ru-RU" sz="2600" spc="-1" strike="noStrike">
                <a:solidFill>
                  <a:srgbClr val="ff0066"/>
                </a:solidFill>
                <a:latin typeface="Arial Narrow"/>
              </a:rPr>
              <a:t>но не сделали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395280" y="4471920"/>
            <a:ext cx="874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were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have m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at 7.30 yesterday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0" y="5013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Мы должны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были встретиться в 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чера, но не получило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466560" y="3549600"/>
            <a:ext cx="88934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erfect Infinitive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75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75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75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75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32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27" dur="3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32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75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75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75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75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75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75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75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75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75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75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3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77" dur="3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7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75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75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75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75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Be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*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(was / were to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24000" y="6093000"/>
            <a:ext cx="8208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* Последующий инфинитив </a:t>
            </a:r>
            <a:r>
              <a:rPr b="1" lang="ru-RU" sz="2800" spc="-1" strike="noStrike">
                <a:solidFill>
                  <a:srgbClr val="9900cc"/>
                </a:solidFill>
                <a:latin typeface="Arial Narrow"/>
              </a:rPr>
              <a:t>всегда с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</a:t>
            </a:r>
            <a:r>
              <a:rPr b="0" lang="ru-RU" sz="28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22200" y="2349360"/>
            <a:ext cx="882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Должны</a:t>
            </a:r>
            <a:r>
              <a:rPr b="0" lang="en-US" sz="2600" spc="-1" strike="noStrike">
                <a:solidFill>
                  <a:srgbClr val="00cc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были</a:t>
            </a:r>
            <a:r>
              <a:rPr b="0" lang="ru-RU" sz="2600" spc="-1" strike="noStrike">
                <a:solidFill>
                  <a:srgbClr val="663300"/>
                </a:solidFill>
                <a:latin typeface="Arial Narrow"/>
              </a:rPr>
              <a:t> (в соответствии с договоренностью) </a:t>
            </a:r>
            <a:r>
              <a:rPr b="0" lang="ru-RU" sz="2600" spc="-1" strike="noStrike">
                <a:solidFill>
                  <a:srgbClr val="ff0066"/>
                </a:solidFill>
                <a:latin typeface="Arial Narrow"/>
              </a:rPr>
              <a:t>но не сделали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395280" y="2781360"/>
            <a:ext cx="8748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were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to have m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at 7.30 yesterday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0" y="335772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Мы должны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были встретиться в </a:t>
            </a:r>
            <a:r>
              <a:rPr b="0" lang="en-US" sz="2800" spc="-1" strike="noStrike">
                <a:solidFill>
                  <a:srgbClr val="000099"/>
                </a:solidFill>
                <a:latin typeface="Arial Narrow"/>
              </a:rPr>
              <a:t>7.30. </a:t>
            </a:r>
            <a:r>
              <a:rPr b="0" lang="ru-RU" sz="2800" spc="-1" strike="noStrike">
                <a:solidFill>
                  <a:srgbClr val="000099"/>
                </a:solidFill>
                <a:latin typeface="Arial Narrow"/>
              </a:rPr>
              <a:t>вчера, но не получило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250920" y="1773360"/>
            <a:ext cx="88930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+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erfect Infinitive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95280" y="4327560"/>
            <a:ext cx="82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нимание!!!  Отрицательная форма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250920" y="3789360"/>
            <a:ext cx="8821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Narrow"/>
              </a:rPr>
              <a:t>Не должны</a:t>
            </a:r>
            <a:r>
              <a:rPr b="0" lang="en-US" sz="2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 Narrow"/>
              </a:rPr>
              <a:t>были</a:t>
            </a:r>
            <a:r>
              <a:rPr b="0" lang="ru-RU" sz="2600" spc="-1" strike="noStrike">
                <a:solidFill>
                  <a:srgbClr val="663300"/>
                </a:solidFill>
                <a:latin typeface="Arial Narrow"/>
              </a:rPr>
              <a:t> (не договаривались) </a:t>
            </a:r>
            <a:r>
              <a:rPr b="0" lang="ru-RU" sz="2600" spc="-1" strike="noStrike">
                <a:solidFill>
                  <a:srgbClr val="00cc00"/>
                </a:solidFill>
                <a:latin typeface="Arial Narrow"/>
              </a:rPr>
              <a:t>но сделали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6"/>
          <p:cNvSpPr/>
          <p:nvPr/>
        </p:nvSpPr>
        <p:spPr>
          <a:xfrm>
            <a:off x="395280" y="443700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We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were no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to have met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 there</a:t>
            </a:r>
            <a:r>
              <a:rPr b="0" lang="ru-RU" sz="3200" spc="-1" strike="noStrike">
                <a:solidFill>
                  <a:srgbClr val="6633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0" y="51577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 Narrow"/>
              </a:rPr>
              <a:t>Мы не должны были встретиться там, но встретилис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75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75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75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75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16" dur="3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21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75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75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42" dur="3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75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75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14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75" dur="3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1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75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75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7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75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7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75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9900cc"/>
                </a:solidFill>
                <a:latin typeface="Arial Narrow"/>
              </a:rPr>
              <a:t>Сравните значение:</a:t>
            </a:r>
            <a:r>
              <a:rPr b="1" lang="en-US" sz="4400" spc="-1" strike="noStrike">
                <a:solidFill>
                  <a:srgbClr val="9900cc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8930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Perfect Infinitive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538200" y="2565360"/>
            <a:ext cx="8281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н, может быть, пришел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рошедшее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539640" y="1916280"/>
            <a:ext cx="8209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 Narrow"/>
              </a:rPr>
              <a:t>He</a:t>
            </a:r>
            <a:r>
              <a:rPr b="0" lang="ru-RU" sz="40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4000" spc="-1" strike="noStrike">
                <a:solidFill>
                  <a:srgbClr val="663300"/>
                </a:solidFill>
                <a:latin typeface="Arial Narrow"/>
              </a:rPr>
              <a:t>may 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95280" y="2997360"/>
            <a:ext cx="87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Narrow"/>
              </a:rPr>
              <a:t>He might have c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24000" y="3573360"/>
            <a:ext cx="8569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Он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мог бы и прийти. (но не прише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250920" y="4005360"/>
            <a:ext cx="8640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Narrow"/>
              </a:rPr>
              <a:t>He should 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324000" y="4543560"/>
            <a:ext cx="8569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Ему следовало бы прийти. (но он не прише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250920" y="5767560"/>
            <a:ext cx="8569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Ему не следовало приходить. (а он пришел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179280" y="501480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 Narrow"/>
              </a:rPr>
              <a:t>He shouldn’t have c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75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75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75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75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7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75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75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75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75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75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75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75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7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75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75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75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75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75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75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75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Dare </a:t>
            </a:r>
            <a:r>
              <a:rPr b="0" lang="ru-RU" sz="4400" spc="-1" strike="noStrike">
                <a:solidFill>
                  <a:srgbClr val="ff0000"/>
                </a:solidFill>
                <a:latin typeface="Arial Narrow"/>
              </a:rPr>
              <a:t>(полумодальный)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3640" y="1676160"/>
            <a:ext cx="439236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меть наглость, нахальство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2997360"/>
            <a:ext cx="50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re speak so badly of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716360" y="2997360"/>
            <a:ext cx="4103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He dare        speak 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 rot="5400000">
            <a:off x="468000" y="234936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8"/>
          <p:cNvSpPr/>
          <p:nvPr/>
        </p:nvSpPr>
        <p:spPr>
          <a:xfrm rot="2354400">
            <a:off x="3924360" y="2276640"/>
            <a:ext cx="792000" cy="50292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5905440" y="2997360"/>
            <a:ext cx="3952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6156360" y="2997360"/>
            <a:ext cx="503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0" y="4292640"/>
            <a:ext cx="4643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 daren’t enter the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2"/>
          <p:cNvSpPr/>
          <p:nvPr/>
        </p:nvSpPr>
        <p:spPr>
          <a:xfrm rot="5400000">
            <a:off x="5651640" y="371628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3780000" y="4653000"/>
            <a:ext cx="464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He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cc00"/>
                </a:solidFill>
                <a:latin typeface="Arial Narrow"/>
              </a:rPr>
              <a:t>dar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3200" spc="-1" strike="noStrike">
                <a:solidFill>
                  <a:srgbClr val="3333ff"/>
                </a:solidFill>
                <a:latin typeface="Arial Narrow"/>
              </a:rPr>
              <a:t>ente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4"/>
          <p:cNvSpPr/>
          <p:nvPr/>
        </p:nvSpPr>
        <p:spPr>
          <a:xfrm rot="5269200">
            <a:off x="466560" y="364464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755640" y="5445000"/>
            <a:ext cx="756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 Narrow"/>
              </a:rPr>
              <a:t>He                                     speak about the c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6443640" y="4653000"/>
            <a:ext cx="503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1"/>
          <p:cNvSpPr/>
          <p:nvPr/>
        </p:nvSpPr>
        <p:spPr>
          <a:xfrm>
            <a:off x="1476360" y="5445000"/>
            <a:ext cx="136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2"/>
          <p:cNvSpPr/>
          <p:nvPr/>
        </p:nvSpPr>
        <p:spPr>
          <a:xfrm>
            <a:off x="2556000" y="5445000"/>
            <a:ext cx="86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1258920" y="5445000"/>
            <a:ext cx="136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id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2556000" y="5445000"/>
            <a:ext cx="1368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d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5"/>
          <p:cNvSpPr/>
          <p:nvPr/>
        </p:nvSpPr>
        <p:spPr>
          <a:xfrm>
            <a:off x="3780000" y="5445000"/>
            <a:ext cx="5029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75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75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75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75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7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75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75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75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75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75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75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1679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</a:rPr>
              <a:t>Can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очь, уметь (физическая способность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371600" y="25909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play football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209680" y="3200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Мы умеем играть в футбо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447920" y="3733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an come in the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981080" y="4343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 сможет прийти вечер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</a:rPr>
              <a:t>May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очь (разрешение), возможно…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371600" y="25909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y stay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3200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Я могу (Мне можно) остаться зде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447920" y="3733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may come in the eve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133720" y="43434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Он, может быть, придет вечер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75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7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 Black"/>
              </a:rPr>
              <a:t>Must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олжен (приказ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371600" y="25909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ust come at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209680" y="3200400"/>
            <a:ext cx="632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Я должен прийти в сем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47920" y="3733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tudy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133720" y="4343400"/>
            <a:ext cx="54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ff"/>
                </a:solidFill>
                <a:latin typeface="Arial Narrow"/>
              </a:rPr>
              <a:t>Вы должны хорошо учиться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75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75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75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75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Arial Narrow"/>
              </a:rPr>
              <a:t>Отрицание </a:t>
            </a:r>
            <a:r>
              <a:rPr b="0" lang="en-US" sz="36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0" lang="ru-RU" sz="3600" spc="-1" strike="noStrike">
                <a:solidFill>
                  <a:srgbClr val="3333ff"/>
                </a:solidFill>
                <a:latin typeface="Arial Narrow"/>
              </a:rPr>
              <a:t>с модальными глаголами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523880" y="1523880"/>
            <a:ext cx="289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Значение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опр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191120" y="14479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т.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6934320" y="1447920"/>
            <a:ext cx="1904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знач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380880" y="2286000"/>
            <a:ext cx="838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1600200" y="2362320"/>
            <a:ext cx="2895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жешь, умееш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4343400" y="22860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nnot /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6477120" y="2362320"/>
            <a:ext cx="2590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 может, не ум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304920" y="289548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M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600200" y="29718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ожно, возможно л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724280" y="289548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6477120" y="281952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е разрешено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озможно не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304920" y="350532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2057400" y="350532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олж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4724280" y="35053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ust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6553080" y="35053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ельз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4724280" y="41911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d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6400800" y="4267080"/>
            <a:ext cx="2286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Не обязательн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7"/>
          <p:cNvSpPr/>
          <p:nvPr/>
        </p:nvSpPr>
        <p:spPr>
          <a:xfrm>
            <a:off x="380880" y="502920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8"/>
          <p:cNvSpPr/>
          <p:nvPr/>
        </p:nvSpPr>
        <p:spPr>
          <a:xfrm>
            <a:off x="1905120" y="5029200"/>
            <a:ext cx="2133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леду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419720" y="5029200"/>
            <a:ext cx="1752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hould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6400800" y="5029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е следу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4343400" y="3276720"/>
            <a:ext cx="45720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343400" y="3276720"/>
            <a:ext cx="380880" cy="53316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3657600" y="3886200"/>
            <a:ext cx="106668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4"/>
          <p:cNvSpPr/>
          <p:nvPr/>
        </p:nvSpPr>
        <p:spPr>
          <a:xfrm>
            <a:off x="3657600" y="3886200"/>
            <a:ext cx="1066680" cy="68580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75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75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75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Внимание!!!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16000" y="1773360"/>
            <a:ext cx="7777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Большинство значений модальных глаголов зависит от следующего за ним инфинитива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Типы инфинитивов:</a:t>
            </a:r>
            <a:r>
              <a:rPr b="0" lang="en-US" sz="44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331128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definite Infini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859280" y="1628640"/>
            <a:ext cx="3759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e         (to do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789440" y="2205000"/>
            <a:ext cx="410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o be done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50920" y="6021360"/>
            <a:ext cx="871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Narrow"/>
              </a:rPr>
              <a:t>* </a:t>
            </a:r>
            <a:r>
              <a:rPr b="0" lang="ru-RU" sz="2400" spc="-1" strike="noStrike">
                <a:solidFill>
                  <a:srgbClr val="3333ff"/>
                </a:solidFill>
                <a:latin typeface="Arial Narrow"/>
              </a:rPr>
              <a:t>После большинства модальных глаголов употребляется без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3780000" y="177336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3780000" y="220500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95280" y="2900520"/>
            <a:ext cx="38163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4859280" y="2886120"/>
            <a:ext cx="4103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o be doing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395280" y="3476520"/>
            <a:ext cx="3240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851280" y="350028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4716360" y="3500280"/>
            <a:ext cx="41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e        (to have done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851280" y="4005360"/>
            <a:ext cx="792000" cy="503280"/>
          </a:xfrm>
          <a:custGeom>
            <a:avLst/>
            <a:gdLst>
              <a:gd name="textAreaLeft" fmla="*/ 123480 w 792000"/>
              <a:gd name="textAreaRight" fmla="*/ 693000 w 79200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4608360" y="3933720"/>
            <a:ext cx="464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ssive (to have been done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468360" y="4484520"/>
            <a:ext cx="41749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4572000" y="4797360"/>
            <a:ext cx="41036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to have been doing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75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75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75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7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7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75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7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7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7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Значения инфинитивов:</a:t>
            </a:r>
            <a:r>
              <a:rPr b="0" lang="en-US" sz="4000" spc="-1" strike="noStrike">
                <a:solidFill>
                  <a:srgbClr val="3333ff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1676160"/>
            <a:ext cx="331128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definite Infini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564000" y="1700280"/>
            <a:ext cx="5054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cc"/>
                </a:solidFill>
                <a:latin typeface="Arial Narrow"/>
              </a:rPr>
              <a:t>Обычное действие в настоящем, будущ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50920" y="609444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Narrow"/>
              </a:rPr>
              <a:t>* </a:t>
            </a:r>
            <a:r>
              <a:rPr b="0" lang="ru-RU" sz="2400" spc="-1" strike="noStrike">
                <a:solidFill>
                  <a:srgbClr val="3333ff"/>
                </a:solidFill>
                <a:latin typeface="Arial Narrow"/>
              </a:rPr>
              <a:t>После большинства модальных глаголов употребляются без 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395280" y="2781360"/>
            <a:ext cx="3816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3995640" y="2781360"/>
            <a:ext cx="4967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 Narrow"/>
              </a:rPr>
              <a:t>Действие, происходящее в момент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395280" y="3836880"/>
            <a:ext cx="3240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3348000" y="378936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3"/>
          <p:cNvSpPr/>
          <p:nvPr/>
        </p:nvSpPr>
        <p:spPr>
          <a:xfrm>
            <a:off x="4140360" y="3751200"/>
            <a:ext cx="453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Действие до момента ре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3348000" y="4294080"/>
            <a:ext cx="792360" cy="503280"/>
          </a:xfrm>
          <a:custGeom>
            <a:avLst/>
            <a:gdLst>
              <a:gd name="textAreaLeft" fmla="*/ 123840 w 792360"/>
              <a:gd name="textAreaRight" fmla="*/ 693360 w 79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5eb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067280" y="4365720"/>
            <a:ext cx="50767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Narrow"/>
              </a:rPr>
              <a:t>Не совершившееся или не желательное, но совершившее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68360" y="4987800"/>
            <a:ext cx="41749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erfect continuous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852720" y="5014800"/>
            <a:ext cx="49672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 Narrow"/>
              </a:rPr>
              <a:t>Обычно с модальными глаголами не употребля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75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7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7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7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75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7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75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75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75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75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75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7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7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5T10:28:25Z</dcterms:created>
  <dc:creator>Папа</dc:creator>
  <dc:description/>
  <dc:language>en-US</dc:language>
  <cp:lastModifiedBy>Owner</cp:lastModifiedBy>
  <dcterms:modified xsi:type="dcterms:W3CDTF">2015-12-22T14:25:19Z</dcterms:modified>
  <cp:revision>52</cp:revision>
  <dc:subject/>
  <dc:title>Модальные глаголы</dc:title>
</cp:coreProperties>
</file>