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1.png" ContentType="image/pn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7.jpeg" ContentType="image/jpeg"/>
  <Override PartName="/ppt/media/image36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38.jpeg" ContentType="image/jpeg"/>
  <Override PartName="/ppt/media/image72.png" ContentType="image/png"/>
  <Override PartName="/ppt/media/image97.jpeg" ContentType="image/jpeg"/>
  <Override PartName="/ppt/media/image7.jpeg" ContentType="image/jpeg"/>
  <Override PartName="/ppt/media/image4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2.png" ContentType="image/png"/>
  <Override PartName="/ppt/media/image95.jpeg" ContentType="image/jpeg"/>
  <Override PartName="/ppt/media/image50.jpeg" ContentType="image/jpeg"/>
  <Override PartName="/ppt/media/image27.jpeg" ContentType="image/jpeg"/>
  <Override PartName="/ppt/media/image10.jpeg" ContentType="image/jpeg"/>
  <Override PartName="/ppt/media/image86.jpeg" ContentType="image/jpeg"/>
  <Override PartName="/ppt/media/image39.jpeg" ContentType="image/jpeg"/>
  <Override PartName="/ppt/media/image17.png" ContentType="image/png"/>
  <Override PartName="/ppt/media/image98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0.jpeg" ContentType="image/jpeg"/>
  <Override PartName="/ppt/media/image13.jpeg" ContentType="image/jpeg"/>
  <Override PartName="/ppt/media/image14.jpeg" ContentType="image/jpeg"/>
  <Override PartName="/ppt/media/image41.jpeg" ContentType="image/jpeg"/>
  <Override PartName="/ppt/media/image87.png" ContentType="image/pn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0.png" ContentType="image/png"/>
  <Override PartName="/ppt/media/image64.jpeg" ContentType="image/jpeg"/>
  <Override PartName="/ppt/media/image70.png" ContentType="image/png"/>
  <Override PartName="/ppt/media/image91.jpeg" ContentType="image/jpeg"/>
  <Override PartName="/ppt/media/image89.jpeg" ContentType="image/jpeg"/>
  <Override PartName="/ppt/media/image21.png" ContentType="image/png"/>
  <Override PartName="/ppt/media/image67.jpeg" ContentType="image/jpeg"/>
  <Override PartName="/ppt/media/image69.png" ContentType="image/png"/>
  <Override PartName="/ppt/media/image99.jpeg" ContentType="image/jpeg"/>
  <Override PartName="/ppt/media/image2.png" ContentType="image/png"/>
  <Override PartName="/ppt/media/image68.jpeg" ContentType="image/jpeg"/>
  <Override PartName="/ppt/media/image61.gif" ContentType="image/gif"/>
  <Override PartName="/ppt/media/image77.jpeg" ContentType="image/jpeg"/>
  <Override PartName="/ppt/media/image71.jpeg" ContentType="image/jpeg"/>
  <Override PartName="/ppt/media/image96.jpeg" ContentType="image/jpeg"/>
  <Override PartName="/ppt/media/image94.jpeg" ContentType="image/jpeg"/>
  <Override PartName="/ppt/media/image20.jpeg" ContentType="image/jpeg"/>
  <Override PartName="/ppt/media/image93.jpeg" ContentType="image/jpeg"/>
  <Override PartName="/ppt/media/image100.png" ContentType="image/png"/>
  <Override PartName="/ppt/media/image74.png" ContentType="image/png"/>
  <Override PartName="/ppt/media/image78.jpeg" ContentType="image/jpeg"/>
  <Override PartName="/ppt/media/image56.jpeg" ContentType="image/jpeg"/>
  <Override PartName="/ppt/media/image76.jpeg" ContentType="image/jpeg"/>
  <Override PartName="/ppt/media/image75.jpeg" ContentType="image/jpeg"/>
  <Override PartName="/ppt/media/image80.jpeg" ContentType="image/jpeg"/>
  <Override PartName="/ppt/media/image65.png" ContentType="image/png"/>
  <Override PartName="/ppt/media/image73.jpeg" ContentType="image/jpeg"/>
  <Override PartName="/ppt/media/image82.jpeg" ContentType="image/jpeg"/>
  <Override PartName="/ppt/media/image102.jpeg" ContentType="image/jpeg"/>
  <Override PartName="/ppt/media/image23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32.jpeg" ContentType="image/jpeg"/>
  <Override PartName="/ppt/media/image16.jpeg" ContentType="image/jpeg"/>
  <Override PartName="/ppt/media/image106.png" ContentType="image/png"/>
  <Override PartName="/ppt/media/image103.jpeg" ContentType="image/jpeg"/>
  <Override PartName="/ppt/media/image83.jpeg" ContentType="image/jpeg"/>
  <Override PartName="/ppt/media/image24.jpeg" ContentType="image/jpeg"/>
  <Override PartName="/ppt/media/image59.png" ContentType="image/png"/>
  <Override PartName="/ppt/media/image66.jpeg" ContentType="image/jpeg"/>
  <Override PartName="/ppt/media/image1.png" ContentType="image/png"/>
  <Override PartName="/ppt/media/image107.gif" ContentType="image/gif"/>
  <Override PartName="/ppt/media/image25.jpeg" ContentType="image/jpeg"/>
  <Override PartName="/ppt/media/image104.jpeg" ContentType="image/jpeg"/>
  <Override PartName="/ppt/media/image84.jpeg" ContentType="image/jpeg"/>
  <Override PartName="/ppt/media/image3.png" ContentType="image/png"/>
  <Override PartName="/ppt/media/image15.png" ContentType="image/png"/>
  <Override PartName="/ppt/media/image9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7FF7-EEDF-4937-97F4-552BF018BC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AA55-0262-4D82-B960-E212FD9778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Foliennummerfeld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8AF7-3E96-405D-9AC8-23E1D2A5D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ценить истинную распространенность ОСН очень трудно, здесь можно говорить о частоте осложнений того или иного заболевания. В частности, в 60 – 70% случаев причиной развития ОСН является ишемическая болезнь сердца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у 26% пациентов причиной развития синдрома является ХСН, у 9% 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рые нарушения ритма, у 3% - патология клапанов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Частота отека легких при инфаркте миокарда составляет 22 – 26,6%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218A-49D6-4B67-BFF1-77468C88E8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9107-910A-4412-B736-415F263122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B8ED-A504-4B29-B89E-040D90423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4254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A879-C454-47A1-9643-A806736C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9810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4254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34254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760A-D1DD-4784-87FB-9E67E86A6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98100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98100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42540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342540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342540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387D-598C-4772-9124-C55118E86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981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47B6-4DB2-4466-B5A2-0CD2FF4A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4E57-E102-4FE4-8BBE-884DA7BC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98100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796D-EBB1-4C64-9090-76A6A3CE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FE1A-9DB2-4684-82D5-7E214573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0BC5-1CEC-498A-A83D-75AB31F3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98100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4254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8892-1C4A-43EA-8E6C-50D2FB33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9810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34254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4287-3EC3-4931-AE20-7D38BC0C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9810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4254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26FF-DB45-4A16-BB29-17953D1E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e4e7b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981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160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9AFF-5B4F-4DAB-9CD0-5818FCB991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23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1.gi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png"/><Relationship Id="rId4" Type="http://schemas.openxmlformats.org/officeDocument/2006/relationships/image" Target="../media/image66.jpe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73.jpe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image" Target="../media/image83.jpeg"/><Relationship Id="rId4" Type="http://schemas.openxmlformats.org/officeDocument/2006/relationships/image" Target="../media/image84.jpe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image" Target="../media/image86.jpeg"/><Relationship Id="rId3" Type="http://schemas.openxmlformats.org/officeDocument/2006/relationships/image" Target="../media/image79.jpeg"/><Relationship Id="rId4" Type="http://schemas.openxmlformats.org/officeDocument/2006/relationships/image" Target="../media/image87.pn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image" Target="../media/image89.jpeg"/><Relationship Id="rId3" Type="http://schemas.openxmlformats.org/officeDocument/2006/relationships/image" Target="../media/image90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image" Target="../media/image92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image" Target="../media/image96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image" Target="../media/image98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image" Target="../media/image103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4.jpeg"/><Relationship Id="rId2" Type="http://schemas.openxmlformats.org/officeDocument/2006/relationships/image" Target="../media/image105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107.gi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08.jpeg"/><Relationship Id="rId2" Type="http://schemas.openxmlformats.org/officeDocument/2006/relationships/image" Target="../media/image108.jpeg"/><Relationship Id="rId3" Type="http://schemas.openxmlformats.org/officeDocument/2006/relationships/image" Target="../media/image10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0810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А КАТАСТРОФ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500040" y="5929200"/>
            <a:ext cx="75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c2e00"/>
                </a:solidFill>
                <a:latin typeface="Arial"/>
              </a:rPr>
              <a:t>Составитель: Сушенцова М.М. </a:t>
            </a:r>
            <a:r>
              <a:rPr b="1" i="1" lang="ru-RU" sz="1600" spc="-1" strike="noStrike">
                <a:solidFill>
                  <a:srgbClr val="5c2e00"/>
                </a:solidFill>
                <a:latin typeface="Arial"/>
              </a:rPr>
              <a:t>, Мукминова Р.М. преподаватели КМ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5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101520">
            <a:solidFill>
              <a:srgbClr val="a004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642960" y="2143080"/>
            <a:ext cx="76042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оврачебная помощь при неотложных состояниях и острых заболевания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патогенеза синкопальных состояни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2560" y="856800"/>
            <a:ext cx="90010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0"/>
          <p:cNvSpPr/>
          <p:nvPr/>
        </p:nvSpPr>
        <p:spPr>
          <a:xfrm>
            <a:off x="1071720" y="857160"/>
            <a:ext cx="678636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КО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3"/>
          <p:cNvSpPr/>
          <p:nvPr/>
        </p:nvSpPr>
        <p:spPr>
          <a:xfrm>
            <a:off x="714240" y="2071800"/>
            <a:ext cx="3643560" cy="785880"/>
          </a:xfrm>
          <a:prstGeom prst="rect">
            <a:avLst/>
          </a:prstGeom>
          <a:solidFill>
            <a:srgbClr val="a3a3e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метаболизма нейронов – гипоксия, гипогликем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24"/>
          <p:cNvSpPr/>
          <p:nvPr/>
        </p:nvSpPr>
        <p:spPr>
          <a:xfrm>
            <a:off x="4786200" y="2071800"/>
            <a:ext cx="3357720" cy="78588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ое поражение нейронов - эпилеп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27"/>
          <p:cNvSpPr/>
          <p:nvPr/>
        </p:nvSpPr>
        <p:spPr>
          <a:xfrm>
            <a:off x="142920" y="3500280"/>
            <a:ext cx="3143160" cy="785880"/>
          </a:xfrm>
          <a:prstGeom prst="rect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льное нарушение циркуля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32"/>
          <p:cNvSpPr/>
          <p:nvPr/>
        </p:nvSpPr>
        <p:spPr>
          <a:xfrm>
            <a:off x="3786120" y="3500280"/>
            <a:ext cx="2428920" cy="785880"/>
          </a:xfrm>
          <a:prstGeom prst="rect">
            <a:avLst/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е снижение 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33"/>
          <p:cNvSpPr/>
          <p:nvPr/>
        </p:nvSpPr>
        <p:spPr>
          <a:xfrm>
            <a:off x="1214280" y="4857840"/>
            <a:ext cx="3714840" cy="7142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сердечного выбро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34"/>
          <p:cNvSpPr/>
          <p:nvPr/>
        </p:nvSpPr>
        <p:spPr>
          <a:xfrm>
            <a:off x="5214960" y="4857840"/>
            <a:ext cx="3786120" cy="71424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периферического сопротивления сосу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Прямая со стрелкой 50"/>
          <p:cNvCxnSpPr/>
          <p:nvPr/>
        </p:nvCxnSpPr>
        <p:spPr>
          <a:xfrm flipV="1">
            <a:off x="4356720" y="4357440"/>
            <a:ext cx="1080" cy="35784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4" name="Прямая со стрелкой 54"/>
          <p:cNvCxnSpPr/>
          <p:nvPr/>
        </p:nvCxnSpPr>
        <p:spPr>
          <a:xfrm flipV="1">
            <a:off x="5999760" y="4357800"/>
            <a:ext cx="1080" cy="358920"/>
          </a:xfrm>
          <a:prstGeom prst="straightConnector1">
            <a:avLst/>
          </a:prstGeom>
          <a:ln w="38160">
            <a:solidFill>
              <a:srgbClr val="2d2d8a"/>
            </a:solidFill>
            <a:miter/>
            <a:tailEnd len="med" type="arrow" w="med"/>
          </a:ln>
        </p:spPr>
      </p:cxnSp>
      <p:cxnSp>
        <p:nvCxnSpPr>
          <p:cNvPr id="95" name="Прямая со стрелкой 49"/>
          <p:cNvCxnSpPr/>
          <p:nvPr/>
        </p:nvCxnSpPr>
        <p:spPr>
          <a:xfrm flipV="1">
            <a:off x="1999080" y="2999520"/>
            <a:ext cx="1080" cy="358200"/>
          </a:xfrm>
          <a:prstGeom prst="straightConnector1">
            <a:avLst/>
          </a:prstGeom>
          <a:ln w="38160">
            <a:solidFill>
              <a:srgbClr val="2d2d8a"/>
            </a:solidFill>
            <a:miter/>
            <a:tailEnd len="med" type="arrow" w="med"/>
          </a:ln>
        </p:spPr>
      </p:cxnSp>
      <p:cxnSp>
        <p:nvCxnSpPr>
          <p:cNvPr id="96" name="Прямая со стрелкой 78"/>
          <p:cNvCxnSpPr/>
          <p:nvPr/>
        </p:nvCxnSpPr>
        <p:spPr>
          <a:xfrm flipV="1">
            <a:off x="3927960" y="2999520"/>
            <a:ext cx="1080" cy="358200"/>
          </a:xfrm>
          <a:prstGeom prst="straightConnector1">
            <a:avLst/>
          </a:prstGeom>
          <a:ln w="38160">
            <a:solidFill>
              <a:srgbClr val="2d2d8a"/>
            </a:solidFill>
            <a:miter/>
            <a:tailEnd len="med" type="arrow" w="med"/>
          </a:ln>
        </p:spPr>
      </p:cxnSp>
      <p:cxnSp>
        <p:nvCxnSpPr>
          <p:cNvPr id="97" name="Прямая со стрелкой 96"/>
          <p:cNvCxnSpPr/>
          <p:nvPr/>
        </p:nvCxnSpPr>
        <p:spPr>
          <a:xfrm flipV="1">
            <a:off x="2568960" y="1571400"/>
            <a:ext cx="2520" cy="357840"/>
          </a:xfrm>
          <a:prstGeom prst="straightConnector1">
            <a:avLst/>
          </a:prstGeom>
          <a:ln w="38160">
            <a:solidFill>
              <a:srgbClr val="2d2d8a"/>
            </a:solidFill>
            <a:miter/>
            <a:tailEnd len="med" type="arrow" w="med"/>
          </a:ln>
        </p:spPr>
      </p:cxnSp>
      <p:cxnSp>
        <p:nvCxnSpPr>
          <p:cNvPr id="98" name="Прямая со стрелкой 101"/>
          <p:cNvCxnSpPr/>
          <p:nvPr/>
        </p:nvCxnSpPr>
        <p:spPr>
          <a:xfrm flipV="1">
            <a:off x="5857920" y="1571400"/>
            <a:ext cx="2160" cy="357840"/>
          </a:xfrm>
          <a:prstGeom prst="straightConnector1">
            <a:avLst/>
          </a:prstGeom>
          <a:ln w="38160">
            <a:solidFill>
              <a:srgbClr val="2d2d8a"/>
            </a:solidFill>
            <a:miter/>
            <a:tailEnd len="med" type="arrow" w="med"/>
          </a:ln>
        </p:spPr>
      </p:cxn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обморок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9"/>
          <p:cNvSpPr/>
          <p:nvPr/>
        </p:nvSpPr>
        <p:spPr>
          <a:xfrm>
            <a:off x="571680" y="1071720"/>
            <a:ext cx="2857320" cy="7855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рдиог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0"/>
          <p:cNvSpPr/>
          <p:nvPr/>
        </p:nvSpPr>
        <p:spPr>
          <a:xfrm>
            <a:off x="4429080" y="928800"/>
            <a:ext cx="4143600" cy="357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обструк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23"/>
          <p:cNvSpPr/>
          <p:nvPr/>
        </p:nvSpPr>
        <p:spPr>
          <a:xfrm>
            <a:off x="4429080" y="1428840"/>
            <a:ext cx="4143600" cy="357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аритм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24"/>
          <p:cNvSpPr/>
          <p:nvPr/>
        </p:nvSpPr>
        <p:spPr>
          <a:xfrm>
            <a:off x="642960" y="2357280"/>
            <a:ext cx="2786040" cy="8575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йрокардиог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27"/>
          <p:cNvSpPr/>
          <p:nvPr/>
        </p:nvSpPr>
        <p:spPr>
          <a:xfrm>
            <a:off x="4500720" y="2214720"/>
            <a:ext cx="4071960" cy="357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вазоваг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32"/>
          <p:cNvSpPr/>
          <p:nvPr/>
        </p:nvSpPr>
        <p:spPr>
          <a:xfrm>
            <a:off x="4572000" y="2714760"/>
            <a:ext cx="4000680" cy="357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рефлектор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33"/>
          <p:cNvSpPr/>
          <p:nvPr/>
        </p:nvSpPr>
        <p:spPr>
          <a:xfrm>
            <a:off x="4427640" y="3213000"/>
            <a:ext cx="4000320" cy="357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ситуацио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Прямая со стрелкой 35"/>
          <p:cNvCxnSpPr/>
          <p:nvPr/>
        </p:nvCxnSpPr>
        <p:spPr>
          <a:xfrm>
            <a:off x="3785760" y="1643040"/>
            <a:ext cx="429480" cy="2160"/>
          </a:xfrm>
          <a:prstGeom prst="straightConnector1">
            <a:avLst/>
          </a:prstGeom>
          <a:ln w="1908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108" name="Прямая со стрелкой 51"/>
          <p:cNvCxnSpPr/>
          <p:nvPr/>
        </p:nvCxnSpPr>
        <p:spPr>
          <a:xfrm>
            <a:off x="3785760" y="1143000"/>
            <a:ext cx="429480" cy="2160"/>
          </a:xfrm>
          <a:prstGeom prst="straightConnector1">
            <a:avLst/>
          </a:prstGeom>
          <a:ln w="1908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109" name="Прямая со стрелкой 63"/>
          <p:cNvCxnSpPr/>
          <p:nvPr/>
        </p:nvCxnSpPr>
        <p:spPr>
          <a:xfrm>
            <a:off x="3929040" y="3357720"/>
            <a:ext cx="357840" cy="143280"/>
          </a:xfrm>
          <a:prstGeom prst="straightConnector1">
            <a:avLst/>
          </a:prstGeom>
          <a:ln w="1908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110" name="Прямая со стрелкой 68"/>
          <p:cNvCxnSpPr/>
          <p:nvPr/>
        </p:nvCxnSpPr>
        <p:spPr>
          <a:xfrm>
            <a:off x="3928680" y="2928960"/>
            <a:ext cx="429480" cy="2160"/>
          </a:xfrm>
          <a:prstGeom prst="straightConnector1">
            <a:avLst/>
          </a:prstGeom>
          <a:ln w="1908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111" name="Прямая со стрелкой 72"/>
          <p:cNvCxnSpPr/>
          <p:nvPr/>
        </p:nvCxnSpPr>
        <p:spPr>
          <a:xfrm flipV="1">
            <a:off x="3929040" y="2428200"/>
            <a:ext cx="357840" cy="143640"/>
          </a:xfrm>
          <a:prstGeom prst="straightConnector1">
            <a:avLst/>
          </a:prstGeom>
          <a:ln w="19080">
            <a:solidFill>
              <a:srgbClr val="2d2d8a"/>
            </a:solidFill>
            <a:miter/>
            <a:tailEnd len="med" type="triangle" w="med"/>
          </a:ln>
        </p:spPr>
      </p:cxnSp>
      <p:sp>
        <p:nvSpPr>
          <p:cNvPr id="112" name="Прямоугольник 91"/>
          <p:cNvSpPr/>
          <p:nvPr/>
        </p:nvSpPr>
        <p:spPr>
          <a:xfrm>
            <a:off x="642960" y="3643200"/>
            <a:ext cx="2786040" cy="6429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ртостатическая гипотенз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93"/>
          <p:cNvSpPr/>
          <p:nvPr/>
        </p:nvSpPr>
        <p:spPr>
          <a:xfrm>
            <a:off x="642960" y="4429080"/>
            <a:ext cx="2786040" cy="5000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реброваскуляр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94"/>
          <p:cNvSpPr/>
          <p:nvPr/>
        </p:nvSpPr>
        <p:spPr>
          <a:xfrm>
            <a:off x="714240" y="5072040"/>
            <a:ext cx="2714760" cy="928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мороки при других заболеван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95"/>
          <p:cNvSpPr/>
          <p:nvPr/>
        </p:nvSpPr>
        <p:spPr>
          <a:xfrm>
            <a:off x="4714920" y="5072040"/>
            <a:ext cx="3714840" cy="301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эпилеп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96"/>
          <p:cNvSpPr/>
          <p:nvPr/>
        </p:nvSpPr>
        <p:spPr>
          <a:xfrm>
            <a:off x="4714920" y="5429160"/>
            <a:ext cx="3714840" cy="2145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гипогликем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97"/>
          <p:cNvSpPr/>
          <p:nvPr/>
        </p:nvSpPr>
        <p:spPr>
          <a:xfrm>
            <a:off x="4714920" y="5715000"/>
            <a:ext cx="3714840" cy="4287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гипервентиляционный синд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Прямая со стрелкой 99"/>
          <p:cNvCxnSpPr/>
          <p:nvPr/>
        </p:nvCxnSpPr>
        <p:spPr>
          <a:xfrm>
            <a:off x="3928680" y="5857920"/>
            <a:ext cx="500760" cy="2160"/>
          </a:xfrm>
          <a:prstGeom prst="straightConnector1">
            <a:avLst/>
          </a:prstGeom>
          <a:ln w="1908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119" name="Прямая со стрелкой 106"/>
          <p:cNvCxnSpPr/>
          <p:nvPr/>
        </p:nvCxnSpPr>
        <p:spPr>
          <a:xfrm>
            <a:off x="3928680" y="5500800"/>
            <a:ext cx="429480" cy="2160"/>
          </a:xfrm>
          <a:prstGeom prst="straightConnector1">
            <a:avLst/>
          </a:prstGeom>
          <a:ln w="1908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120" name="Прямая со стрелкой 115"/>
          <p:cNvCxnSpPr/>
          <p:nvPr/>
        </p:nvCxnSpPr>
        <p:spPr>
          <a:xfrm>
            <a:off x="3928680" y="5214960"/>
            <a:ext cx="429480" cy="2160"/>
          </a:xfrm>
          <a:prstGeom prst="straightConnector1">
            <a:avLst/>
          </a:prstGeom>
          <a:ln w="19080">
            <a:solidFill>
              <a:srgbClr val="2d2d8a"/>
            </a:solidFill>
            <a:miter/>
            <a:tailEnd len="med" type="triangle" w="med"/>
          </a:ln>
        </p:spPr>
      </p:cxnSp>
      <p:sp>
        <p:nvSpPr>
          <p:cNvPr id="121" name="Прямоугольник 36"/>
          <p:cNvSpPr/>
          <p:nvPr/>
        </p:nvSpPr>
        <p:spPr>
          <a:xfrm>
            <a:off x="4716360" y="4149720"/>
            <a:ext cx="3816360" cy="79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 стенозе, сдавлении мозговых, сонных.  подключичных артер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Прямая со стрелкой 38"/>
          <p:cNvCxnSpPr/>
          <p:nvPr/>
        </p:nvCxnSpPr>
        <p:spPr>
          <a:xfrm>
            <a:off x="3850920" y="4652640"/>
            <a:ext cx="57708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труктивные обморо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248000" y="999720"/>
            <a:ext cx="4896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тся при механических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ятствиях наполнению сердц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вью или сердечному выбросу -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ортальный стеноз; стеноз легочной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ртерии;  легочная гипертензия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омбоэмболия легочной артерии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ипертрофическая кардиомиопат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никают при физических нагрузках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обмороком появляет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ышка и цианоз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уп прекращается пр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и положения тела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 метод диагностики -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хокардиоскопи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6" descr="C:\Users\pc\Desktop\Рис\эмбол.gif"/>
          <p:cNvPicPr/>
          <p:nvPr/>
        </p:nvPicPr>
        <p:blipFill>
          <a:blip r:embed="rId1"/>
          <a:stretch/>
        </p:blipFill>
        <p:spPr>
          <a:xfrm>
            <a:off x="357120" y="928800"/>
            <a:ext cx="4000680" cy="2238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26" name="Picture 17" descr="C:\Users\pc\Desktop\Рис\Эхо.jpg"/>
          <p:cNvPicPr/>
          <p:nvPr/>
        </p:nvPicPr>
        <p:blipFill>
          <a:blip r:embed="rId2"/>
          <a:stretch/>
        </p:blipFill>
        <p:spPr>
          <a:xfrm>
            <a:off x="285840" y="3429000"/>
            <a:ext cx="4070160" cy="2521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итмические обморо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105440" y="999720"/>
            <a:ext cx="50385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их развитию могут привест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 ритма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хиаритми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ароксизмы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удочковой тахикардии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петание,  фибрилляци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удочков,  наджелудочкова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хикардия.                 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радиаритми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риовентрикулярная блокад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, синдром слабости синусовог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л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установления диагноз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а регистрация ЭКГ во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приступа. Важная рол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адлежит  расспросу пациент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6" descr="C:\Users\pc\Desktop\Рис\слабость синусового узла.png"/>
          <p:cNvPicPr/>
          <p:nvPr/>
        </p:nvPicPr>
        <p:blipFill>
          <a:blip r:embed="rId1"/>
          <a:stretch/>
        </p:blipFill>
        <p:spPr>
          <a:xfrm>
            <a:off x="285840" y="4071960"/>
            <a:ext cx="3714840" cy="1857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30" name="Picture 17" descr="C:\Users\pc\Desktop\Рис\тахиаритмии.jpg"/>
          <p:cNvPicPr/>
          <p:nvPr/>
        </p:nvPicPr>
        <p:blipFill>
          <a:blip r:embed="rId2"/>
          <a:stretch/>
        </p:blipFill>
        <p:spPr>
          <a:xfrm>
            <a:off x="285840" y="857160"/>
            <a:ext cx="3733560" cy="2984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еские особенности аритмических обморок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19600" y="1000080"/>
            <a:ext cx="53244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о внезапное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орок относительно продолжительный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едность или цианоз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енная тахи- или брадикардия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АД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ость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обморочное  состояние –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аноз или гиперемия кожных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ровов, ощущение перебоев в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е сердца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методы диагностики -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ба с физической нагрузкой,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олтеровское мониторирование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респищеводная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лектрокардиостимуляци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6" descr="C:\Users\pc\Desktop\Рис\синкопе).jpg"/>
          <p:cNvPicPr/>
          <p:nvPr/>
        </p:nvPicPr>
        <p:blipFill>
          <a:blip r:embed="rId1"/>
          <a:stretch/>
        </p:blipFill>
        <p:spPr>
          <a:xfrm>
            <a:off x="357120" y="1214280"/>
            <a:ext cx="3500640" cy="1791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34" name="Picture 17" descr="C:\Users\pc\Desktop\Рис\мерчательная аритмия.jpg"/>
          <p:cNvPicPr/>
          <p:nvPr/>
        </p:nvPicPr>
        <p:blipFill>
          <a:blip r:embed="rId2"/>
          <a:stretch/>
        </p:blipFill>
        <p:spPr>
          <a:xfrm>
            <a:off x="285840" y="3786120"/>
            <a:ext cx="3643200" cy="2143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йрокардиогенные обморо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7920" y="785520"/>
            <a:ext cx="5896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доля обмороков - эт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йрокардиогенные обмороки.                                         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ается вегетативная регуляци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ты сердечных сокращений и сосудистого тонуса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дечно-сосудисты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ы временно носят извращенный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, приводя к  вазодилатации и/ил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дикардии и, следовательно,  к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ю АД и общего  мозговог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вотока.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копальные эпизоды случаются чаще   в подростковом           период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6" descr="C:\Users\pc\Desktop\Рис\внс.jpg"/>
          <p:cNvPicPr/>
          <p:nvPr/>
        </p:nvPicPr>
        <p:blipFill>
          <a:blip r:embed="rId1"/>
          <a:stretch/>
        </p:blipFill>
        <p:spPr>
          <a:xfrm>
            <a:off x="214200" y="1000080"/>
            <a:ext cx="3429000" cy="4857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 нейрокардиогенных обморок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Текст 16" descr=""/>
          <p:cNvPicPr/>
          <p:nvPr/>
        </p:nvPicPr>
        <p:blipFill>
          <a:blip r:embed="rId1"/>
          <a:stretch/>
        </p:blipFill>
        <p:spPr>
          <a:xfrm>
            <a:off x="530280" y="828720"/>
            <a:ext cx="8620200" cy="5157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6" descr="C:\Users\pc\Desktop\105.jpg"/>
          <p:cNvPicPr/>
          <p:nvPr/>
        </p:nvPicPr>
        <p:blipFill>
          <a:blip r:embed="rId2"/>
          <a:stretch/>
        </p:blipFill>
        <p:spPr>
          <a:xfrm>
            <a:off x="3708360" y="2060640"/>
            <a:ext cx="2143080" cy="3168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7" descr="C:\Users\pc\Desktop\34507_NpAdvHover.jpg"/>
          <p:cNvPicPr/>
          <p:nvPr/>
        </p:nvPicPr>
        <p:blipFill>
          <a:blip r:embed="rId3"/>
          <a:stretch/>
        </p:blipFill>
        <p:spPr>
          <a:xfrm>
            <a:off x="6858000" y="1989000"/>
            <a:ext cx="2035080" cy="3311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" descr="C:\Users\pc\Desktop\4f49af31f703882e871ac8d735dd7814_M.jpg"/>
          <p:cNvPicPr/>
          <p:nvPr/>
        </p:nvPicPr>
        <p:blipFill>
          <a:blip r:embed="rId4"/>
          <a:stretch/>
        </p:blipFill>
        <p:spPr>
          <a:xfrm>
            <a:off x="755640" y="2060640"/>
            <a:ext cx="192888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зовагальный обморо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42880" y="714240"/>
            <a:ext cx="46818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13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наиболее часты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ом нейрокардиогенног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орок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13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никает как  реакция на стресс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13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шествуют обмороку симптомы вегетативной  гиперактивации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13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чается снижени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 и/или брадикарди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13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нание быстро восстанавливается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13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слеобморочном состояни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яется бледность и влажность  кожи, возможны   слабость, тошнота, брадикардия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ят ортостатические  пробы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ыявления несостоятельност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торных    механизмов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6" descr="C:\Users\pc\Desktop\12211.jpg"/>
          <p:cNvPicPr/>
          <p:nvPr/>
        </p:nvPicPr>
        <p:blipFill>
          <a:blip r:embed="rId1"/>
          <a:stretch/>
        </p:blipFill>
        <p:spPr>
          <a:xfrm>
            <a:off x="428760" y="928800"/>
            <a:ext cx="3714480" cy="214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6" name="Picture 17" descr="C:\Users\pc\Desktop\Рисунок21.jpg"/>
          <p:cNvPicPr/>
          <p:nvPr/>
        </p:nvPicPr>
        <p:blipFill>
          <a:blip r:embed="rId2"/>
          <a:stretch/>
        </p:blipFill>
        <p:spPr>
          <a:xfrm>
            <a:off x="214200" y="3357720"/>
            <a:ext cx="2000520" cy="2500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8" descr="C:\Users\pc\Desktop\Рис\низкое ад.jpg"/>
          <p:cNvPicPr/>
          <p:nvPr/>
        </p:nvPicPr>
        <p:blipFill>
          <a:blip r:embed="rId3"/>
          <a:stretch/>
        </p:blipFill>
        <p:spPr>
          <a:xfrm>
            <a:off x="2357280" y="3357720"/>
            <a:ext cx="1785960" cy="242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торные обморо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000320" y="713880"/>
            <a:ext cx="48243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тогенез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импульсы о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ферических рецепторов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одят к повышению тонуса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vagus и подавлению  активност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удодвигательного центра,  т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к брадикардии, гипотензии.                                                     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окализация  рецепторов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имуляция которых може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вести к рефлекторном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мороку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лаза,  лор- органы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дце, сосуды, бронхи,  легкие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кт, малый таз, забрюшинно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ранство.                                                                                        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6" descr="C:\Users\pc\Desktop\рис осн\anatomy_51.JPG"/>
          <p:cNvPicPr/>
          <p:nvPr/>
        </p:nvPicPr>
        <p:blipFill>
          <a:blip r:embed="rId1"/>
          <a:stretch/>
        </p:blipFill>
        <p:spPr>
          <a:xfrm>
            <a:off x="357120" y="857160"/>
            <a:ext cx="3786120" cy="5286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торные обморо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000320" y="713880"/>
            <a:ext cx="48243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акторы провокации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ции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ралгия тройничного нерва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нхоскопия,  кашель, глотание у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ов с заболеваниями глотк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ищевода, гастро 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носкопия, острый холецистит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одная язва желудка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теризация мочевого пузыря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чная колика, острый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нкреатит.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й из причин рефлекторног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орока является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ндро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ротидного синуса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6" descr="C:\Users\pc\Desktop\Загрузки\105.jpg"/>
          <p:cNvPicPr/>
          <p:nvPr/>
        </p:nvPicPr>
        <p:blipFill>
          <a:blip r:embed="rId1"/>
          <a:stretch/>
        </p:blipFill>
        <p:spPr>
          <a:xfrm>
            <a:off x="2500200" y="3286080"/>
            <a:ext cx="1714680" cy="2286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54" name="Picture 17" descr="C:\Users\pc\Desktop\рис осн\1332916235_bigstockphoto_senior_man_with_cough_2429487.jpg"/>
          <p:cNvPicPr/>
          <p:nvPr/>
        </p:nvPicPr>
        <p:blipFill>
          <a:blip r:embed="rId2"/>
          <a:stretch/>
        </p:blipFill>
        <p:spPr>
          <a:xfrm>
            <a:off x="2500200" y="1071720"/>
            <a:ext cx="1643040" cy="1785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55" name="Picture 18" descr="C:\Users\pc\Desktop\рис осн\1318167605_bronch2.jpg"/>
          <p:cNvPicPr/>
          <p:nvPr/>
        </p:nvPicPr>
        <p:blipFill>
          <a:blip r:embed="rId3"/>
          <a:stretch/>
        </p:blipFill>
        <p:spPr>
          <a:xfrm>
            <a:off x="142920" y="1071720"/>
            <a:ext cx="2000160" cy="1857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56" name="Picture 19" descr="C:\Users\pc\Desktop\рис осн\12358.jpg"/>
          <p:cNvPicPr/>
          <p:nvPr/>
        </p:nvPicPr>
        <p:blipFill>
          <a:blip r:embed="rId4"/>
          <a:stretch/>
        </p:blipFill>
        <p:spPr>
          <a:xfrm>
            <a:off x="142920" y="3286080"/>
            <a:ext cx="2071800" cy="2357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ая сосудистая недостаточност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000" y="980640"/>
            <a:ext cx="835164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веносная система – большой круг кровообращен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большой круг1.wmv" descr=""/>
          <p:cNvPicPr/>
          <p:nvPr/>
        </p:nvPicPr>
        <p:blipFill>
          <a:blip r:embed="rId1"/>
          <a:stretch/>
        </p:blipFill>
        <p:spPr>
          <a:xfrm>
            <a:off x="785880" y="1000080"/>
            <a:ext cx="7500960" cy="4219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674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дром каротидного синус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71920" y="785520"/>
            <a:ext cx="55720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вышенно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ительност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отидного синуса происходит резко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ежение ЧСС и/или выраженно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ение АД.  Синдром каротидног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уса наблюдается чаще у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чин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ше 60 лет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чин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теросклероз, артериальна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ертензия, лимфоаденопатия 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влечением лимфоузлов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й зоны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ухоли головы 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акторы провокаци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бритье, жева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го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тничок, поворот головы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тверждения диагноза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ься проба с массажем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отидного синуса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6" descr="C:\Users\pc\Desktop\рис осн\image11481957_a740e0887a84a257994470717d4e7c01.jpg"/>
          <p:cNvPicPr/>
          <p:nvPr/>
        </p:nvPicPr>
        <p:blipFill>
          <a:blip r:embed="rId1"/>
          <a:stretch/>
        </p:blipFill>
        <p:spPr>
          <a:xfrm>
            <a:off x="2214720" y="4357800"/>
            <a:ext cx="1719000" cy="1714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60" name="Picture 17" descr="C:\Users\pc\Desktop\рис осн\ff4aecb9c8d64ab6fa28962b62f12972.jpg"/>
          <p:cNvPicPr/>
          <p:nvPr/>
        </p:nvPicPr>
        <p:blipFill>
          <a:blip r:embed="rId2"/>
          <a:stretch/>
        </p:blipFill>
        <p:spPr>
          <a:xfrm>
            <a:off x="285840" y="4357800"/>
            <a:ext cx="1571400" cy="1643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9" descr="C:\Users\pc\Desktop\рис осн\sinus_caroticus.jpg"/>
          <p:cNvPicPr/>
          <p:nvPr/>
        </p:nvPicPr>
        <p:blipFill>
          <a:blip r:embed="rId3"/>
          <a:stretch/>
        </p:blipFill>
        <p:spPr>
          <a:xfrm>
            <a:off x="428760" y="1000080"/>
            <a:ext cx="3214440" cy="3000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дром каротидного синус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714480" y="981000"/>
            <a:ext cx="5429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циентам следует рекомендоват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вязывать туго галстук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осить крахмальны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тнички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ться поворачиваться в сторону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  телом, чтобы не сдавливать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окаротидный узел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к внезапной смерти при  синдром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отидного синуса достоверно н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личается от риска в популяции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лантация электрокардиостимулятор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лияет на продолжительность жизни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улучшает ее качество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6" descr="C:\Users\pc\Desktop\рис осн\0aaawear_19.jpg"/>
          <p:cNvPicPr/>
          <p:nvPr/>
        </p:nvPicPr>
        <p:blipFill>
          <a:blip r:embed="rId1"/>
          <a:stretch/>
        </p:blipFill>
        <p:spPr>
          <a:xfrm>
            <a:off x="2286000" y="857160"/>
            <a:ext cx="1428840" cy="2000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65" name="Picture 17" descr="C:\Users\pc\Desktop\рис осн\3253985.jpg"/>
          <p:cNvPicPr/>
          <p:nvPr/>
        </p:nvPicPr>
        <p:blipFill>
          <a:blip r:embed="rId2"/>
          <a:stretch/>
        </p:blipFill>
        <p:spPr>
          <a:xfrm>
            <a:off x="285840" y="857160"/>
            <a:ext cx="1765080" cy="2032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66" name="Прямая соединительная линия 18"/>
          <p:cNvSpPr/>
          <p:nvPr/>
        </p:nvSpPr>
        <p:spPr>
          <a:xfrm>
            <a:off x="2285280" y="857160"/>
            <a:ext cx="1428840" cy="2000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27"/>
          <p:cNvSpPr/>
          <p:nvPr/>
        </p:nvSpPr>
        <p:spPr>
          <a:xfrm flipH="1">
            <a:off x="2285640" y="857160"/>
            <a:ext cx="1428840" cy="2000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8" descr="C:\Users\pc\Desktop\рис осн\42-460x308.jpg"/>
          <p:cNvPicPr/>
          <p:nvPr/>
        </p:nvPicPr>
        <p:blipFill>
          <a:blip r:embed="rId3"/>
          <a:stretch/>
        </p:blipFill>
        <p:spPr>
          <a:xfrm>
            <a:off x="642960" y="3214800"/>
            <a:ext cx="3143160" cy="288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69" name="Прямая соединительная линия 34"/>
          <p:cNvSpPr/>
          <p:nvPr/>
        </p:nvSpPr>
        <p:spPr>
          <a:xfrm>
            <a:off x="571680" y="3143160"/>
            <a:ext cx="3214440" cy="3000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38"/>
          <p:cNvSpPr/>
          <p:nvPr/>
        </p:nvSpPr>
        <p:spPr>
          <a:xfrm flipV="1">
            <a:off x="642960" y="3214440"/>
            <a:ext cx="3071880" cy="2786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онные обморо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714480" y="713880"/>
            <a:ext cx="54291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сходят в определенных стереотипных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ях- во время кашля , дефекации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чеиспускания, подъема тяжестей.                                                                                                           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меет значение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13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ражение периферических рецепторов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13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внутригрудного давления, сопровождающееся     уменьшением венозного возврата к сердцу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13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руднение венозного оттока из сосудов мозга во время натуживани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лечение основног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левания.                  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в плане излечени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лагоприятный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6" descr="C:\Users\pc\Desktop\Рис\приступ удушья.jpg"/>
          <p:cNvPicPr/>
          <p:nvPr/>
        </p:nvPicPr>
        <p:blipFill>
          <a:blip r:embed="rId1"/>
          <a:stretch/>
        </p:blipFill>
        <p:spPr>
          <a:xfrm>
            <a:off x="285840" y="857160"/>
            <a:ext cx="1714320" cy="1928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74" name="Picture 17" descr="C:\Users\pc\Desktop\рис осн\34507_NpAdvHover.jpg"/>
          <p:cNvPicPr/>
          <p:nvPr/>
        </p:nvPicPr>
        <p:blipFill>
          <a:blip r:embed="rId2"/>
          <a:stretch/>
        </p:blipFill>
        <p:spPr>
          <a:xfrm>
            <a:off x="2214720" y="928800"/>
            <a:ext cx="1500120" cy="1785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75" name="Picture 18" descr="C:\Users\pc\Desktop\рис осн\gruz.jpg"/>
          <p:cNvPicPr/>
          <p:nvPr/>
        </p:nvPicPr>
        <p:blipFill>
          <a:blip r:embed="rId3"/>
          <a:stretch/>
        </p:blipFill>
        <p:spPr>
          <a:xfrm>
            <a:off x="285840" y="3143160"/>
            <a:ext cx="3357360" cy="2786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тостатическая гипотенз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875016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ртостатическая гипотензи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никает при быстром переходе пациент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горизонтального положения в вертикальное. Наблюдает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енное снижение АД  в вертикальном положении, особенно в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вставания.  В норме при этом 500-800 мл крови депонируется в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удах нижних конечностей, органах брюшной полости и малого таза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щитные механизмы, препятствующие падению АД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152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ация вегетативной нервной системы, что приводит к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зоконстрикции и увеличению числа  сердечных сокращений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152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выброса ренина, что приводит к задержке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дкост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152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и сохранение большого количества крови в венозном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ене  за счет клапанов вен нижних конечностей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152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ие мышц голене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152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асывающее действие грудной клетк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тостатическая гипотенз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714480" y="785520"/>
            <a:ext cx="54291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комендуетс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ть с приподнятым изголовьем, дне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ыхать в кресл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вать медленно – сесть, посидеть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 встать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егать неподвижного стояния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«переминание»  с ноги на ногу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ать частое дробное питание с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м кофе – кофеин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ает вазодилатацию в органах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КТ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6" descr="C:\Users\pc\Desktop\рис осн\0d17eddbb6ebdb69f3254521014deb7b.jpg"/>
          <p:cNvPicPr/>
          <p:nvPr/>
        </p:nvPicPr>
        <p:blipFill>
          <a:blip r:embed="rId1"/>
          <a:stretch/>
        </p:blipFill>
        <p:spPr>
          <a:xfrm>
            <a:off x="214200" y="1143000"/>
            <a:ext cx="3214800" cy="1079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81" name="Picture 17" descr="C:\Users\pc\Desktop\рис осн\i (7).jpg"/>
          <p:cNvPicPr/>
          <p:nvPr/>
        </p:nvPicPr>
        <p:blipFill>
          <a:blip r:embed="rId2"/>
          <a:stretch/>
        </p:blipFill>
        <p:spPr>
          <a:xfrm>
            <a:off x="214200" y="2428920"/>
            <a:ext cx="3214800" cy="1357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82" name="Picture 18" descr="C:\Users\pc\Desktop\рис осн\vysokie-kabluki-sekrety-i-tonkosti-1.jpg"/>
          <p:cNvPicPr/>
          <p:nvPr/>
        </p:nvPicPr>
        <p:blipFill>
          <a:blip r:embed="rId3"/>
          <a:stretch/>
        </p:blipFill>
        <p:spPr>
          <a:xfrm>
            <a:off x="357120" y="4071960"/>
            <a:ext cx="2714760" cy="1928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адренэргическая ортостатической гипотенз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714480" y="785520"/>
            <a:ext cx="54291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комендуется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ь потребление соли и жидкост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озможност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ить чулки, уменьшающих венозное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онировани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елить ковры в ванной комнате 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доре, соединяющем ванную комнат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спальной – наиболее частое место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ения вследствие обморока сред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илых люде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6" descr="C:\Users\pc\Desktop\рис осн\T2pi5eXiVXXXXXXXXX_!!91781173.jpg"/>
          <p:cNvPicPr/>
          <p:nvPr/>
        </p:nvPicPr>
        <p:blipFill>
          <a:blip r:embed="rId1"/>
          <a:stretch/>
        </p:blipFill>
        <p:spPr>
          <a:xfrm>
            <a:off x="571680" y="1357200"/>
            <a:ext cx="2388960" cy="2032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86" name="Picture 17" descr="C:\Users\pc\Desktop\рис осн\4099virginia_kovrik_dlya_vannoy.jpg"/>
          <p:cNvPicPr/>
          <p:nvPr/>
        </p:nvPicPr>
        <p:blipFill>
          <a:blip r:embed="rId2"/>
          <a:stretch/>
        </p:blipFill>
        <p:spPr>
          <a:xfrm>
            <a:off x="500040" y="3714840"/>
            <a:ext cx="2428920" cy="1549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еброваскулярные обморо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357720" y="713880"/>
            <a:ext cx="5572080" cy="532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арактерн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жение мозговых, сонных, позвоночных, подключичных артерий -стеноз, сдавление, синдром «обкрадывания»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предвестников или в пределах нескольких минут головокружение, боль в затылочной области, дискомфорт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сительная продолжительность обморок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 кожи, ЧСС и АД, как правило, не изменены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ные боли, боли в шеи , преходящие парезы, кратковременные расстройства речи, зрения в послеобморочном состояни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6" descr="C:\Users\pc\Desktop\рис осн\Рисунок21.jpg"/>
          <p:cNvPicPr/>
          <p:nvPr/>
        </p:nvPicPr>
        <p:blipFill>
          <a:blip r:embed="rId1"/>
          <a:stretch/>
        </p:blipFill>
        <p:spPr>
          <a:xfrm>
            <a:off x="357120" y="4500720"/>
            <a:ext cx="2928960" cy="1644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90" name="Picture 17" descr="C:\Users\pc\Desktop\рис осн\ateroskleroz.jpg"/>
          <p:cNvPicPr/>
          <p:nvPr/>
        </p:nvPicPr>
        <p:blipFill>
          <a:blip r:embed="rId2"/>
          <a:stretch/>
        </p:blipFill>
        <p:spPr>
          <a:xfrm>
            <a:off x="285840" y="928800"/>
            <a:ext cx="2928960" cy="1500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91" name="Picture 18" descr="C:\Users\pc\Desktop\рис осн\Depositphotos_2012696_s.jpg"/>
          <p:cNvPicPr/>
          <p:nvPr/>
        </p:nvPicPr>
        <p:blipFill>
          <a:blip r:embed="rId3"/>
          <a:stretch/>
        </p:blipFill>
        <p:spPr>
          <a:xfrm>
            <a:off x="357120" y="2714760"/>
            <a:ext cx="2857680" cy="1571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еброваскулярные обморо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500280" y="713880"/>
            <a:ext cx="5214960" cy="532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 сдавлении  вертебральных артерий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индром Сикстинской капеллы» –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орок при резком  запрокидывании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ы, головокружение,  или только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ение – дроп-атак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 стенозировании подключичной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ртери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азвитие обморока пр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иленной работе рукой, существенна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ица в наполнении пульса и АД н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ах, при  аускультации шум над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ключичной артерие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7" descr="C:\Users\pc\Desktop\рис осн\5498848494898.jpg"/>
          <p:cNvPicPr/>
          <p:nvPr/>
        </p:nvPicPr>
        <p:blipFill>
          <a:blip r:embed="rId1"/>
          <a:stretch/>
        </p:blipFill>
        <p:spPr>
          <a:xfrm>
            <a:off x="428760" y="857160"/>
            <a:ext cx="2857320" cy="2071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95" name="Picture 18" descr="C:\Users\pc\Desktop\рис осн\445abc34-a4e4-4132-81cf-39e353ff6c31_150_100 (1).jpg"/>
          <p:cNvPicPr/>
          <p:nvPr/>
        </p:nvPicPr>
        <p:blipFill>
          <a:blip r:embed="rId2"/>
          <a:srcRect l="0" t="0" r="0" b="6240"/>
          <a:stretch/>
        </p:blipFill>
        <p:spPr>
          <a:xfrm>
            <a:off x="357120" y="3286080"/>
            <a:ext cx="2928960" cy="2286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тренная и неотложная помощь при синкоп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50800" y="980640"/>
            <a:ext cx="5892840" cy="516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76000"/>
          </a:bodyPr>
          <a:p>
            <a:pPr marL="260640" indent="-121680">
              <a:lnSpc>
                <a:spcPct val="130000"/>
              </a:lnSpc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горизонтального положения пациента с приподнятыми нижними конечностям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121680">
              <a:lnSpc>
                <a:spcPct val="130000"/>
              </a:lnSpc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бождение от стесняющей одежды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121680">
              <a:lnSpc>
                <a:spcPct val="130000"/>
              </a:lnSpc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притока свежего воздух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12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ие рефлекторных воздействий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дыхание паро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атырного спирт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аж мочек уха, раздражение точки жень-чжу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а жень-чжу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ходитс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нной лини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хней трет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тикально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огубно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озды; воздействие выполняют любы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остренным предметом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щепка, ногот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64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64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64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64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6" descr="C:\Users\pc\Desktop\Рис\гоплва при обмороке.jpg"/>
          <p:cNvPicPr/>
          <p:nvPr/>
        </p:nvPicPr>
        <p:blipFill>
          <a:blip r:embed="rId1"/>
          <a:stretch/>
        </p:blipFill>
        <p:spPr>
          <a:xfrm>
            <a:off x="214200" y="857160"/>
            <a:ext cx="2786040" cy="2500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99" name="Picture 2" descr="C:\Users\pc\Pictures\Рисунок1.png"/>
          <p:cNvPicPr/>
          <p:nvPr/>
        </p:nvPicPr>
        <p:blipFill>
          <a:blip r:embed="rId2"/>
          <a:stretch/>
        </p:blipFill>
        <p:spPr>
          <a:xfrm>
            <a:off x="324000" y="3573360"/>
            <a:ext cx="2643120" cy="2714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тренная и неотложная помощь при синкоп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50800" y="642960"/>
            <a:ext cx="58928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611280" indent="-222480">
              <a:lnSpc>
                <a:spcPct val="130000"/>
              </a:lnSpc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гипогликемическом синкопе в/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 20 м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0 % раствора глюкозы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136440">
              <a:lnSpc>
                <a:spcPct val="120000"/>
              </a:lnSpc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брадикардии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де с редким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мом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удочков введение в/в, в/м, п/к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5-1 мл 0,1 % раствора атропина сульфат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136440">
              <a:lnSpc>
                <a:spcPct val="120000"/>
              </a:lnSpc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казаниям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структивные,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итмические, рефлекторные обморок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чная госпитализаци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136440">
              <a:lnSpc>
                <a:spcPct val="120000"/>
              </a:lnSpc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тсутствии показаний для срочной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аци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оставлени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охнуть лежа 1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час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лановая  госпитализаци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чнения природы обморок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12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" descr="C:\Users\pc\Desktop\Рис\глюкоза.png"/>
          <p:cNvPicPr/>
          <p:nvPr/>
        </p:nvPicPr>
        <p:blipFill>
          <a:blip r:embed="rId1"/>
          <a:stretch/>
        </p:blipFill>
        <p:spPr>
          <a:xfrm>
            <a:off x="324000" y="907920"/>
            <a:ext cx="2714400" cy="2143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03" name="Picture 16" descr="C:\Users\pc\Desktop\Рис\ЧПЭС.jpg"/>
          <p:cNvPicPr/>
          <p:nvPr/>
        </p:nvPicPr>
        <p:blipFill>
          <a:blip r:embed="rId2"/>
          <a:stretch/>
        </p:blipFill>
        <p:spPr>
          <a:xfrm>
            <a:off x="324000" y="3860640"/>
            <a:ext cx="3071520" cy="2214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ая сосудистая недостаточност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63280" y="981000"/>
            <a:ext cx="82803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ая сосудистая недостаточность  – патологическое состояние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зующееся изменением адекватного соотношения между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костью сосудистого русла и объемом циркулирующей кров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Объект1" descr=""/>
          <p:cNvPicPr/>
          <p:nvPr/>
        </p:nvPicPr>
        <p:blipFill>
          <a:blip r:embed="rId1"/>
          <a:srcRect l="0" t="0" r="0" b="3268"/>
          <a:stretch/>
        </p:blipFill>
        <p:spPr>
          <a:xfrm>
            <a:off x="928800" y="2786040"/>
            <a:ext cx="6786360" cy="2928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ап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14800" y="981000"/>
            <a:ext cx="5929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ллап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стро развивающееся нарушени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вообращения, характеризующееся резки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ением сосудистого тонуса, уменьшение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ы циркулирующей крови, гипоксией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ного мозг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чин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и, интоксикации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я надпочечниковая недостаточность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окардиты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аркт  миокард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омпенсированные  пороки серд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6" descr="C:\Users\pc\Desktop\Рис\тампонада сердца.jpg"/>
          <p:cNvPicPr/>
          <p:nvPr/>
        </p:nvPicPr>
        <p:blipFill>
          <a:blip r:embed="rId1"/>
          <a:stretch/>
        </p:blipFill>
        <p:spPr>
          <a:xfrm>
            <a:off x="214200" y="1000080"/>
            <a:ext cx="2857680" cy="2786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07" name="Picture 17" descr="C:\Users\pc\Desktop\Рис\стеноз аорты.jpg"/>
          <p:cNvPicPr/>
          <p:nvPr/>
        </p:nvPicPr>
        <p:blipFill>
          <a:blip r:embed="rId2"/>
          <a:stretch/>
        </p:blipFill>
        <p:spPr>
          <a:xfrm>
            <a:off x="214200" y="4000680"/>
            <a:ext cx="2881440" cy="2238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тренная и неотложная помощь при коллапс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-360" y="500040"/>
            <a:ext cx="8605800" cy="56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пациенту горизонтального положен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становлени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димости верхних дыхательных путей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анение стесняющих деталей одежды, ревизия ротовой полост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ведение воздуховод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анение причины коллапс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новка кровотечения и т.д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ристаллоидных растворов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цесоль, Рингер-ацетат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оидных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о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рефортан, гелофузин, инфукол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ес-стерил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генотерапи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6" descr="C:\Users\pc\Desktop\Рис\растворы для патогенитической терапии.jpg"/>
          <p:cNvPicPr/>
          <p:nvPr/>
        </p:nvPicPr>
        <p:blipFill>
          <a:blip r:embed="rId1"/>
          <a:stretch/>
        </p:blipFill>
        <p:spPr>
          <a:xfrm>
            <a:off x="3143160" y="3857760"/>
            <a:ext cx="5786640" cy="2214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тренная и неотложная помощь при коллапс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142800" y="785880"/>
            <a:ext cx="6000840" cy="71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коррекции гипотензии введением в/м 1 мл 1% раствор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нилэфрин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0,5 мл 0,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% раствор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инефрин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/к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начение для стимуляции производительности сердца глюкокортикостероидо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дрокортизон, преднизоло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остаточно высоких дозах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мг/кг массы тела. Они повышают восприимчивость к эндогенным и экзогенным катехоламинам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ация в специализированный стационар в зависимости от профиля заболеван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6" descr="C:\Users\pc\Desktop\Рис\prednizolonzvy.jpg"/>
          <p:cNvPicPr/>
          <p:nvPr/>
        </p:nvPicPr>
        <p:blipFill>
          <a:blip r:embed="rId1"/>
          <a:stretch/>
        </p:blipFill>
        <p:spPr>
          <a:xfrm>
            <a:off x="357120" y="3714840"/>
            <a:ext cx="2714760" cy="2143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14" name="Picture 17" descr="C:\Users\pc\Desktop\Рис\мезатон.jpg"/>
          <p:cNvPicPr/>
          <p:nvPr/>
        </p:nvPicPr>
        <p:blipFill>
          <a:blip r:embed="rId2"/>
          <a:stretch/>
        </p:blipFill>
        <p:spPr>
          <a:xfrm>
            <a:off x="357120" y="1143000"/>
            <a:ext cx="2643120" cy="2214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424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ая сердечная недостаточност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6" descr="C:\Users\pc\Desktop\рис осн\i (8).jpg"/>
          <p:cNvPicPr/>
          <p:nvPr/>
        </p:nvPicPr>
        <p:blipFill>
          <a:blip r:embed="rId1"/>
          <a:stretch/>
        </p:blipFill>
        <p:spPr>
          <a:xfrm>
            <a:off x="2714760" y="2000160"/>
            <a:ext cx="4000320" cy="3143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ая сердечная недостаточност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142800" y="785880"/>
            <a:ext cx="6000840" cy="71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8" descr="C:\Users\pc\Desktop\Рисунок13.png"/>
          <p:cNvPicPr/>
          <p:nvPr/>
        </p:nvPicPr>
        <p:blipFill>
          <a:blip r:embed="rId1"/>
          <a:stretch/>
        </p:blipFill>
        <p:spPr>
          <a:xfrm>
            <a:off x="3894120" y="928800"/>
            <a:ext cx="4964040" cy="51433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8" descr="C:\Users\pc\Desktop\Рисунок19.png"/>
          <p:cNvPicPr/>
          <p:nvPr/>
        </p:nvPicPr>
        <p:blipFill>
          <a:blip r:embed="rId2"/>
          <a:stretch/>
        </p:blipFill>
        <p:spPr>
          <a:xfrm>
            <a:off x="285840" y="3429000"/>
            <a:ext cx="3571920" cy="2500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21" name="Выноска-облако 18"/>
          <p:cNvSpPr/>
          <p:nvPr/>
        </p:nvSpPr>
        <p:spPr>
          <a:xfrm>
            <a:off x="214200" y="714240"/>
            <a:ext cx="5072040" cy="2571840"/>
          </a:xfrm>
          <a:prstGeom prst="cloudCallout">
            <a:avLst>
              <a:gd name="adj1" fmla="val 64500"/>
              <a:gd name="adj2" fmla="val 3170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Сердцу отводится значительная роль в организме и нарушения в его  работе приводят к тяжелым последствия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8" descr="C:\Users\pc\Desktop\Рисунок19.png"/>
          <p:cNvPicPr/>
          <p:nvPr/>
        </p:nvPicPr>
        <p:blipFill>
          <a:blip r:embed="rId3"/>
          <a:stretch/>
        </p:blipFill>
        <p:spPr>
          <a:xfrm>
            <a:off x="285840" y="3429000"/>
            <a:ext cx="3571920" cy="2500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71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рдечная недостаточность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является исходом многих патологических процессов  в сердце. Это  на поздних стадиях фатальное состояние даже не является самостоятельным заболеванием, выполняя роль трагического финала других хронических недугов сердца.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17"/>
          <p:cNvSpPr/>
          <p:nvPr/>
        </p:nvSpPr>
        <p:spPr>
          <a:xfrm>
            <a:off x="0" y="642960"/>
            <a:ext cx="9144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трая сердечная недостаточность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линический синдр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зующийся быстрым возникновением симптомов, характерных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нарушенной систолической и/или диастолической    функции     серд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Рисунок 17" descr="medical_12.gif"/>
          <p:cNvPicPr/>
          <p:nvPr/>
        </p:nvPicPr>
        <p:blipFill>
          <a:blip r:embed="rId1"/>
          <a:stretch/>
        </p:blipFill>
        <p:spPr>
          <a:xfrm>
            <a:off x="3143160" y="1785960"/>
            <a:ext cx="1716120" cy="2214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ая сердечная недостаточност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-360" y="857160"/>
            <a:ext cx="8929800" cy="71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арактеризует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м сердечного выброс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очной перфузией ткане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м давления в капиллярах легких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оем в тканях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7" descr="C:\Users\pc\Desktop\Рисунок12.jpg"/>
          <p:cNvPicPr/>
          <p:nvPr/>
        </p:nvPicPr>
        <p:blipFill>
          <a:blip r:embed="rId1"/>
          <a:stretch/>
        </p:blipFill>
        <p:spPr>
          <a:xfrm>
            <a:off x="3214800" y="3429000"/>
            <a:ext cx="3214440" cy="2643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30" name="Рисунок 17" descr="medical_12.gif"/>
          <p:cNvPicPr/>
          <p:nvPr/>
        </p:nvPicPr>
        <p:blipFill>
          <a:blip r:embed="rId2"/>
          <a:stretch/>
        </p:blipFill>
        <p:spPr>
          <a:xfrm>
            <a:off x="6500880" y="1143000"/>
            <a:ext cx="1716120" cy="2214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острой сердечной недостаточнос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-360" y="857160"/>
            <a:ext cx="8929800" cy="71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омпенсация ХСН                                      Острый коронарный синдро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ертензивный криз                               Острые нарушения ритма сердц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C:\Users\pc\Desktop\рис осн\i.jpg"/>
          <p:cNvPicPr/>
          <p:nvPr/>
        </p:nvPicPr>
        <p:blipFill>
          <a:blip r:embed="rId1"/>
          <a:stretch/>
        </p:blipFill>
        <p:spPr>
          <a:xfrm>
            <a:off x="285840" y="3571920"/>
            <a:ext cx="2500200" cy="2000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34" name="Picture 3" descr="C:\Users\pc\Desktop\рис осн\Рисунок23.jpg"/>
          <p:cNvPicPr/>
          <p:nvPr/>
        </p:nvPicPr>
        <p:blipFill>
          <a:blip r:embed="rId2"/>
          <a:stretch/>
        </p:blipFill>
        <p:spPr>
          <a:xfrm>
            <a:off x="4786200" y="785880"/>
            <a:ext cx="3857760" cy="2143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35" name="Picture 4" descr="C:\Users\pc\Desktop\рис осн\Рисунок25.png"/>
          <p:cNvPicPr/>
          <p:nvPr/>
        </p:nvPicPr>
        <p:blipFill>
          <a:blip r:embed="rId3"/>
          <a:stretch/>
        </p:blipFill>
        <p:spPr>
          <a:xfrm>
            <a:off x="357120" y="785880"/>
            <a:ext cx="2428920" cy="2071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36" name="Picture 5" descr="C:\Users\pc\Desktop\рис осн\molochko-pri-apitmii.jpg"/>
          <p:cNvPicPr/>
          <p:nvPr/>
        </p:nvPicPr>
        <p:blipFill>
          <a:blip r:embed="rId4"/>
          <a:stretch/>
        </p:blipFill>
        <p:spPr>
          <a:xfrm>
            <a:off x="4857840" y="3571920"/>
            <a:ext cx="3571920" cy="2000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острой сердечной  недостаточнос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85840" y="856800"/>
            <a:ext cx="857232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ки сердца                                                  Миокардит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диомиопатия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выхода из шок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6" descr="C:\Users\pc\Desktop\Рисунок24.jpg"/>
          <p:cNvPicPr/>
          <p:nvPr/>
        </p:nvPicPr>
        <p:blipFill>
          <a:blip r:embed="rId1"/>
          <a:stretch/>
        </p:blipFill>
        <p:spPr>
          <a:xfrm>
            <a:off x="357120" y="785880"/>
            <a:ext cx="3000600" cy="2286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7" descr="C:\Users\pc\Desktop\Рис\кардиомиопатия.jpg"/>
          <p:cNvPicPr/>
          <p:nvPr/>
        </p:nvPicPr>
        <p:blipFill>
          <a:blip r:embed="rId2"/>
          <a:stretch/>
        </p:blipFill>
        <p:spPr>
          <a:xfrm>
            <a:off x="428760" y="3643200"/>
            <a:ext cx="2786040" cy="1928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41" name="Picture 18" descr="C:\Users\pc\Desktop\Рис\миокардит.gif"/>
          <p:cNvPicPr/>
          <p:nvPr/>
        </p:nvPicPr>
        <p:blipFill>
          <a:blip r:embed="rId3"/>
          <a:stretch/>
        </p:blipFill>
        <p:spPr>
          <a:xfrm>
            <a:off x="5214960" y="785880"/>
            <a:ext cx="2571840" cy="2214360"/>
          </a:xfrm>
          <a:prstGeom prst="rect">
            <a:avLst/>
          </a:prstGeom>
          <a:ln w="12600">
            <a:solidFill>
              <a:srgbClr val="bbe0e3"/>
            </a:solidFill>
            <a:miter/>
          </a:ln>
        </p:spPr>
      </p:pic>
      <p:pic>
        <p:nvPicPr>
          <p:cNvPr id="242" name="Picture 19" descr="C:\Users\pc\Desktop\Рисунок9.png"/>
          <p:cNvPicPr/>
          <p:nvPr/>
        </p:nvPicPr>
        <p:blipFill>
          <a:blip r:embed="rId4"/>
          <a:stretch/>
        </p:blipFill>
        <p:spPr>
          <a:xfrm>
            <a:off x="5286240" y="3643200"/>
            <a:ext cx="2500560" cy="1928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4522680" y="5372280"/>
            <a:ext cx="319320" cy="285480"/>
          </a:xfrm>
          <a:prstGeom prst="rect">
            <a:avLst/>
          </a:prstGeom>
          <a:gradFill rotWithShape="0">
            <a:gsLst>
              <a:gs pos="0">
                <a:srgbClr val="f0fb17"/>
              </a:gs>
              <a:gs pos="100000">
                <a:srgbClr val="ff33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4522680" y="4648320"/>
            <a:ext cx="547920" cy="285480"/>
          </a:xfrm>
          <a:prstGeom prst="rect">
            <a:avLst/>
          </a:prstGeom>
          <a:gradFill rotWithShape="0">
            <a:gsLst>
              <a:gs pos="0">
                <a:srgbClr val="f0fb17"/>
              </a:gs>
              <a:gs pos="100000">
                <a:srgbClr val="ff33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4522680" y="3924360"/>
            <a:ext cx="1413000" cy="285840"/>
          </a:xfrm>
          <a:prstGeom prst="rect">
            <a:avLst/>
          </a:prstGeom>
          <a:gradFill rotWithShape="0">
            <a:gsLst>
              <a:gs pos="0">
                <a:srgbClr val="f0fb17"/>
              </a:gs>
              <a:gs pos="100000">
                <a:srgbClr val="ff33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4522680" y="3200400"/>
            <a:ext cx="1631880" cy="285840"/>
          </a:xfrm>
          <a:prstGeom prst="rect">
            <a:avLst/>
          </a:prstGeom>
          <a:gradFill rotWithShape="0">
            <a:gsLst>
              <a:gs pos="0">
                <a:srgbClr val="f0fb17"/>
              </a:gs>
              <a:gs pos="100000">
                <a:srgbClr val="ff33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4522680" y="2476440"/>
            <a:ext cx="1832040" cy="285840"/>
          </a:xfrm>
          <a:prstGeom prst="rect">
            <a:avLst/>
          </a:prstGeom>
          <a:gradFill rotWithShape="0">
            <a:gsLst>
              <a:gs pos="0">
                <a:srgbClr val="f0fb17"/>
              </a:gs>
              <a:gs pos="100000">
                <a:srgbClr val="ff33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4500720" y="1714680"/>
            <a:ext cx="3663720" cy="285480"/>
          </a:xfrm>
          <a:prstGeom prst="rect">
            <a:avLst/>
          </a:prstGeom>
          <a:gradFill rotWithShape="0">
            <a:gsLst>
              <a:gs pos="0">
                <a:srgbClr val="f0fb17"/>
              </a:gs>
              <a:gs pos="100000">
                <a:srgbClr val="ff33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9"/>
          <p:cNvSpPr/>
          <p:nvPr/>
        </p:nvSpPr>
        <p:spPr>
          <a:xfrm flipV="1">
            <a:off x="4522680" y="5876640"/>
            <a:ext cx="180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0"/>
          <p:cNvSpPr/>
          <p:nvPr/>
        </p:nvSpPr>
        <p:spPr>
          <a:xfrm>
            <a:off x="4522680" y="1533600"/>
            <a:ext cx="180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1"/>
          <p:cNvSpPr/>
          <p:nvPr/>
        </p:nvSpPr>
        <p:spPr>
          <a:xfrm>
            <a:off x="4462560" y="5877000"/>
            <a:ext cx="60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2"/>
          <p:cNvSpPr/>
          <p:nvPr/>
        </p:nvSpPr>
        <p:spPr>
          <a:xfrm>
            <a:off x="4462560" y="5153040"/>
            <a:ext cx="60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3"/>
          <p:cNvSpPr/>
          <p:nvPr/>
        </p:nvSpPr>
        <p:spPr>
          <a:xfrm>
            <a:off x="4462560" y="4429080"/>
            <a:ext cx="60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4"/>
          <p:cNvSpPr/>
          <p:nvPr/>
        </p:nvSpPr>
        <p:spPr>
          <a:xfrm>
            <a:off x="4462560" y="3705120"/>
            <a:ext cx="60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5"/>
          <p:cNvSpPr/>
          <p:nvPr/>
        </p:nvSpPr>
        <p:spPr>
          <a:xfrm>
            <a:off x="4462560" y="2981160"/>
            <a:ext cx="60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6"/>
          <p:cNvSpPr/>
          <p:nvPr/>
        </p:nvSpPr>
        <p:spPr>
          <a:xfrm>
            <a:off x="4462560" y="2257560"/>
            <a:ext cx="60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7"/>
          <p:cNvSpPr/>
          <p:nvPr/>
        </p:nvSpPr>
        <p:spPr>
          <a:xfrm>
            <a:off x="4462560" y="1533600"/>
            <a:ext cx="60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8"/>
          <p:cNvSpPr/>
          <p:nvPr/>
        </p:nvSpPr>
        <p:spPr>
          <a:xfrm>
            <a:off x="4900680" y="540072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5129280" y="467676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0"/>
          <p:cNvSpPr/>
          <p:nvPr/>
        </p:nvSpPr>
        <p:spPr>
          <a:xfrm>
            <a:off x="5996160" y="395280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1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1"/>
          <p:cNvSpPr/>
          <p:nvPr/>
        </p:nvSpPr>
        <p:spPr>
          <a:xfrm>
            <a:off x="6215040" y="322884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4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2"/>
          <p:cNvSpPr/>
          <p:nvPr/>
        </p:nvSpPr>
        <p:spPr>
          <a:xfrm>
            <a:off x="6413400" y="25052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4"/>
          <p:cNvSpPr/>
          <p:nvPr/>
        </p:nvSpPr>
        <p:spPr>
          <a:xfrm>
            <a:off x="142920" y="5429160"/>
            <a:ext cx="445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желудочковая недостато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5"/>
          <p:cNvSpPr/>
          <p:nvPr/>
        </p:nvSpPr>
        <p:spPr>
          <a:xfrm>
            <a:off x="357120" y="4714920"/>
            <a:ext cx="4375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ертрофическая кардиомиопа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6"/>
          <p:cNvSpPr/>
          <p:nvPr/>
        </p:nvSpPr>
        <p:spPr>
          <a:xfrm>
            <a:off x="1857240" y="3929040"/>
            <a:ext cx="2573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ертензивный кр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7"/>
          <p:cNvSpPr/>
          <p:nvPr/>
        </p:nvSpPr>
        <p:spPr>
          <a:xfrm>
            <a:off x="1467720" y="3238560"/>
            <a:ext cx="3068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панные пороки серд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8"/>
          <p:cNvSpPr/>
          <p:nvPr/>
        </p:nvSpPr>
        <p:spPr>
          <a:xfrm>
            <a:off x="714240" y="2500200"/>
            <a:ext cx="406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латационная кардиомиопа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9"/>
          <p:cNvSpPr/>
          <p:nvPr/>
        </p:nvSpPr>
        <p:spPr>
          <a:xfrm>
            <a:off x="3811320" y="1790640"/>
            <a:ext cx="55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Б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29"/>
          <p:cNvSpPr/>
          <p:nvPr/>
        </p:nvSpPr>
        <p:spPr>
          <a:xfrm>
            <a:off x="8218800" y="1714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30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идемиология острой сердечной недостато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гене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трой сосудистой недостаточнос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57840" y="928800"/>
            <a:ext cx="4286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е недостаточности лежи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30000"/>
              </a:lnSpc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ение венозного приток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ердцу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вотечение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торное изменение тонуса сосудов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30000"/>
              </a:lnSpc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сократительной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и миокарда пр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ично возникающей остро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удистой недостаточност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8" descr="Рисунок7"/>
          <p:cNvPicPr/>
          <p:nvPr/>
        </p:nvPicPr>
        <p:blipFill>
          <a:blip r:embed="rId1"/>
          <a:stretch/>
        </p:blipFill>
        <p:spPr>
          <a:xfrm>
            <a:off x="357120" y="3643200"/>
            <a:ext cx="4214880" cy="192888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19"/>
          <p:cNvSpPr/>
          <p:nvPr/>
        </p:nvSpPr>
        <p:spPr>
          <a:xfrm>
            <a:off x="571680" y="5715000"/>
            <a:ext cx="36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брилляция желудоч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9" descr="C:\Users\pc\Desktop\Рис\артериальное кровотеч1.png"/>
          <p:cNvPicPr/>
          <p:nvPr/>
        </p:nvPicPr>
        <p:blipFill>
          <a:blip r:embed="rId2"/>
          <a:stretch/>
        </p:blipFill>
        <p:spPr>
          <a:xfrm>
            <a:off x="357120" y="1428840"/>
            <a:ext cx="4000680" cy="2000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еские формы острой сердечной недостаточнос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142800" y="785520"/>
            <a:ext cx="6000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еские форм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ая левожелудочковая недостаточность или сердечная астма, отек легких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ая правожелудочковая недостаточность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трая левожелудочковая недостаточност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м большим достоинством левог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удочка является «шикарный миокард»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й и оказывается  мишенью большинств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ей. Неспособность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слабленног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иокарда левого желудочка перекачиват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ровь  в аорту приводит к застою ее «перед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уставшим»  местом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7" descr="C:\Users\pc\Desktop\Рисунок22.jpg"/>
          <p:cNvPicPr/>
          <p:nvPr/>
        </p:nvPicPr>
        <p:blipFill>
          <a:blip r:embed="rId1"/>
          <a:stretch/>
        </p:blipFill>
        <p:spPr>
          <a:xfrm>
            <a:off x="0" y="1428840"/>
            <a:ext cx="3143160" cy="3857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ая левожелудочковая недостаточност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499920" y="642960"/>
            <a:ext cx="56437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256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вь при этом задерживается в нем самом, та же проблема возникает у левого предсердия, наконец, из легочных вен  кровь уже не может  так свободно  перетекать в нагруженное и без того  предсердие и ее застой «перекидывается» на малый круг. Застой крови ведет к повышению давления в легких; когда это давление превышает легочное  капиллярное онкотическое давление, происходит утечка жидкости в легочное интерстициальное пространство, что ведет к развитию отека легких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56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56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м задерживается в нем самом, та ж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малый круг.wmv" descr=""/>
          <p:cNvPicPr/>
          <p:nvPr/>
        </p:nvPicPr>
        <p:blipFill>
          <a:blip r:embed="rId1"/>
          <a:stretch/>
        </p:blipFill>
        <p:spPr>
          <a:xfrm>
            <a:off x="0" y="2286000"/>
            <a:ext cx="3936960" cy="221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0991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еская картина  сердечной астм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142800" y="785880"/>
            <a:ext cx="6000840" cy="71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риступ удушья обычно ночью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цирующие факторы - физическое или нервно-психическое напряжение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о нехватки воздух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х смерт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садный кашель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нужденное положени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дя из-за сильной одышк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дцебиени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буждени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ъективн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дальческое выражение лиц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ортопное со спущенными ногам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а серовато-бледная, покрытая капельками пота, акроцианоз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6" descr="C:\Users\pc\Desktop\Рисунок25.png"/>
          <p:cNvPicPr/>
          <p:nvPr/>
        </p:nvPicPr>
        <p:blipFill>
          <a:blip r:embed="rId1"/>
          <a:stretch/>
        </p:blipFill>
        <p:spPr>
          <a:xfrm>
            <a:off x="357120" y="4500720"/>
            <a:ext cx="2524320" cy="20714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7" descr="C:\Users\pc\Desktop\Загрузки\cough.jpg"/>
          <p:cNvPicPr/>
          <p:nvPr/>
        </p:nvPicPr>
        <p:blipFill>
          <a:blip r:embed="rId2"/>
          <a:stretch/>
        </p:blipFill>
        <p:spPr>
          <a:xfrm>
            <a:off x="428760" y="714240"/>
            <a:ext cx="2388960" cy="2016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81" name="Picture 18" descr="C:\Users\pc\Desktop\Загрузки\image016.gif"/>
          <p:cNvPicPr/>
          <p:nvPr/>
        </p:nvPicPr>
        <p:blipFill>
          <a:blip r:embed="rId3"/>
          <a:stretch/>
        </p:blipFill>
        <p:spPr>
          <a:xfrm>
            <a:off x="357120" y="2928960"/>
            <a:ext cx="2500560" cy="1333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еская картина  сердечной астм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142800" y="785880"/>
            <a:ext cx="6000840" cy="71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енная одышк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ыхание до 30-40 в минуту, жесткое, рассеянные сухие и влажные хрипы в задненижних отделах легких, возможно притупление перкуторного звук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льс частый, слабого наполнения, часто аритмичны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границы сердца чаще влево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ы сердца глухие, нередко «ритм галопа»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 вначале нормальное, затем по мере прогрессирования сердечной астмы его  снижени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7" descr="C:\Users\pc\Desktop\Загрузки\11.jpg"/>
          <p:cNvPicPr/>
          <p:nvPr/>
        </p:nvPicPr>
        <p:blipFill>
          <a:blip r:embed="rId1"/>
          <a:stretch/>
        </p:blipFill>
        <p:spPr>
          <a:xfrm>
            <a:off x="357120" y="928800"/>
            <a:ext cx="2857680" cy="1500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85" name="Picture 18" descr="C:\Users\pc\Desktop\Рис\аритмия.jpg"/>
          <p:cNvPicPr/>
          <p:nvPr/>
        </p:nvPicPr>
        <p:blipFill>
          <a:blip r:embed="rId2"/>
          <a:stretch/>
        </p:blipFill>
        <p:spPr>
          <a:xfrm>
            <a:off x="285840" y="2786040"/>
            <a:ext cx="3000240" cy="1643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86" name="Picture 18" descr="C:\Users\pc\Desktop\Загрузки\i (2).jpg"/>
          <p:cNvPicPr/>
          <p:nvPr/>
        </p:nvPicPr>
        <p:blipFill>
          <a:blip r:embed="rId3"/>
          <a:stretch/>
        </p:blipFill>
        <p:spPr>
          <a:xfrm>
            <a:off x="357120" y="4572000"/>
            <a:ext cx="2928960" cy="1571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еская картина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ека легких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142800" y="785880"/>
            <a:ext cx="6000840" cy="71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ек легких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яжелый респираторный дистресс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лажными хрипами в легких, ортопное и, как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о, насыщением артериальной кров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лородом &lt;90% при дыхании комнатны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ухом до начала лечени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иническая картин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ы возбуждены, чувство страха смерт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узное потоотделени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овато- бледная краска кожных покровов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ление пенистой розовой мокроты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окочущее дыхание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хикарди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17" descr="C:\Users\pc\Desktop\Загрузки\51bfdf93-9cdc-2929-9cdc-29262953329c.photo.0.jpg"/>
          <p:cNvPicPr/>
          <p:nvPr/>
        </p:nvPicPr>
        <p:blipFill>
          <a:blip r:embed="rId1"/>
          <a:stretch/>
        </p:blipFill>
        <p:spPr>
          <a:xfrm>
            <a:off x="142920" y="2928960"/>
            <a:ext cx="2928960" cy="1500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90" name="Picture 18" descr="C:\Users\pc\Desktop\Загрузки\image010.jpg"/>
          <p:cNvPicPr/>
          <p:nvPr/>
        </p:nvPicPr>
        <p:blipFill>
          <a:blip r:embed="rId2"/>
          <a:stretch/>
        </p:blipFill>
        <p:spPr>
          <a:xfrm>
            <a:off x="142920" y="857160"/>
            <a:ext cx="2928960" cy="1857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91" name="Picture 19" descr="C:\Users\pc\Desktop\Загрузки\c90f75e6a0115364ef1a5844caf20131_w500_h500.jpg"/>
          <p:cNvPicPr/>
          <p:nvPr/>
        </p:nvPicPr>
        <p:blipFill>
          <a:blip r:embed="rId3"/>
          <a:stretch/>
        </p:blipFill>
        <p:spPr>
          <a:xfrm>
            <a:off x="142920" y="4572000"/>
            <a:ext cx="3071880" cy="1643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рачебная помощь при острой левожелудочковой сердечной недостаточности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142800" y="785880"/>
            <a:ext cx="6000840" cy="71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воочередное мероприятие медсестры -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мерить АД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 низком АД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изонтальное положение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генотерапи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 в/м 150 мг преднизолона дл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яции производительности сердц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чная госпитализация для применени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тернативных методов лечения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6" descr="C:\Users\pc\Desktop\Загрузки\высокое-давление.jpg"/>
          <p:cNvPicPr/>
          <p:nvPr/>
        </p:nvPicPr>
        <p:blipFill>
          <a:blip r:embed="rId1"/>
          <a:stretch/>
        </p:blipFill>
        <p:spPr>
          <a:xfrm>
            <a:off x="142920" y="785880"/>
            <a:ext cx="2857320" cy="1285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95" name="Picture 17" descr="C:\Users\pc\Desktop\Загрузки\dscn0089(1).jpg"/>
          <p:cNvPicPr/>
          <p:nvPr/>
        </p:nvPicPr>
        <p:blipFill>
          <a:blip r:embed="rId2"/>
          <a:stretch/>
        </p:blipFill>
        <p:spPr>
          <a:xfrm>
            <a:off x="5072040" y="4572000"/>
            <a:ext cx="2643120" cy="1500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96" name="Picture 18" descr="C:\Users\pc\Desktop\Загрузки\90641.jpg"/>
          <p:cNvPicPr/>
          <p:nvPr/>
        </p:nvPicPr>
        <p:blipFill>
          <a:blip r:embed="rId3"/>
          <a:stretch/>
        </p:blipFill>
        <p:spPr>
          <a:xfrm>
            <a:off x="428760" y="2357280"/>
            <a:ext cx="2531880" cy="2032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97" name="Picture 19" descr="C:\Users\pc\Desktop\Загрузки\104992.jpg"/>
          <p:cNvPicPr/>
          <p:nvPr/>
        </p:nvPicPr>
        <p:blipFill>
          <a:blip r:embed="rId4"/>
          <a:stretch/>
        </p:blipFill>
        <p:spPr>
          <a:xfrm>
            <a:off x="357120" y="4714920"/>
            <a:ext cx="2643120" cy="1361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рачебная помощь при острой левожелудочковой недостаточност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142800" y="999720"/>
            <a:ext cx="6000840" cy="692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 нормальном или повышенном АД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ыхательная поддержка – оксигенотерапи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модинамическая разгрузка сердца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– полусидя или сидя для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онирования крови в нижних конечностях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начение нитроглицерина 10 мг или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троглицерина 0,4   мг или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сорбида динитрата 10 мг для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онирования крови  в венах брюшной полости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 40 мг фуросемида в/в или в/м для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ения объема циркулирующей крови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жение венозных жгутов при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и   лекарственных средств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15"/>
          <p:cNvSpPr/>
          <p:nvPr/>
        </p:nvSpPr>
        <p:spPr>
          <a:xfrm flipV="1">
            <a:off x="2286000" y="3992400"/>
            <a:ext cx="457200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9" descr="C:\Users\pc\Desktop\Загрузки\45989m.jpg"/>
          <p:cNvPicPr/>
          <p:nvPr/>
        </p:nvPicPr>
        <p:blipFill>
          <a:blip r:embed="rId1"/>
          <a:stretch/>
        </p:blipFill>
        <p:spPr>
          <a:xfrm>
            <a:off x="214200" y="4857840"/>
            <a:ext cx="3000600" cy="1285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02" name="Picture 21" descr="C:\Users\pc\Desktop\Загрузки\1364558316194.JPG"/>
          <p:cNvPicPr/>
          <p:nvPr/>
        </p:nvPicPr>
        <p:blipFill>
          <a:blip r:embed="rId2"/>
          <a:stretch/>
        </p:blipFill>
        <p:spPr>
          <a:xfrm>
            <a:off x="142920" y="3286080"/>
            <a:ext cx="1504800" cy="1428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03" name="Picture 22" descr="C:\Users\pc\Desktop\Загрузки\image010.jpg"/>
          <p:cNvPicPr/>
          <p:nvPr/>
        </p:nvPicPr>
        <p:blipFill>
          <a:blip r:embed="rId3"/>
          <a:stretch/>
        </p:blipFill>
        <p:spPr>
          <a:xfrm>
            <a:off x="285840" y="1071720"/>
            <a:ext cx="2857320" cy="2071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04" name="Picture 23" descr="C:\Users\pc\Desktop\Загрузки\2511.jpg"/>
          <p:cNvPicPr/>
          <p:nvPr/>
        </p:nvPicPr>
        <p:blipFill>
          <a:blip r:embed="rId4"/>
          <a:stretch/>
        </p:blipFill>
        <p:spPr>
          <a:xfrm>
            <a:off x="1857240" y="3286080"/>
            <a:ext cx="1357560" cy="1428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жение венозных жгут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142800" y="785880"/>
            <a:ext cx="6000840" cy="71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нозные жгуты накладывают одновременн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ри конечности  - на ноги на 15 см ниж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ховой складки, на руки на 10 см ниж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ечевого сустава. На руку вместо жгут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наложить манжетку от тонометра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нетая в нее воздух. Через каждые 15 мину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жгутов снимают и накладывают н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ную конечность. Прижимают тольк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ны, а артериальный пульс  ниже мест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авления должен сохраняться - конечност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а быть цианотичной ниже мест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жения жгут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8" descr="C:\Users\pc\Desktop\Загрузки\576.jpg"/>
          <p:cNvPicPr/>
          <p:nvPr/>
        </p:nvPicPr>
        <p:blipFill>
          <a:blip r:embed="rId1"/>
          <a:stretch/>
        </p:blipFill>
        <p:spPr>
          <a:xfrm>
            <a:off x="0" y="3786120"/>
            <a:ext cx="1719360" cy="2166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08" name="Picture 17" descr="C:\Users\pc\Desktop\Загрузки\514f485bcb783.png"/>
          <p:cNvPicPr/>
          <p:nvPr/>
        </p:nvPicPr>
        <p:blipFill>
          <a:blip r:embed="rId2"/>
          <a:stretch/>
        </p:blipFill>
        <p:spPr>
          <a:xfrm>
            <a:off x="1785960" y="3786120"/>
            <a:ext cx="1500120" cy="2143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09" name="Picture 16" descr="C:\Users\pc\Desktop\Загрузки\i (3).jpg"/>
          <p:cNvPicPr/>
          <p:nvPr/>
        </p:nvPicPr>
        <p:blipFill>
          <a:blip r:embed="rId3"/>
          <a:stretch/>
        </p:blipFill>
        <p:spPr>
          <a:xfrm>
            <a:off x="214200" y="857160"/>
            <a:ext cx="2857680" cy="279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рачебная помощь при острой левожелудочковой недостаточности при нормальном или повышенном АД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42800" y="785880"/>
            <a:ext cx="6000840" cy="71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наркотических анальгетиков – морфин 10 мг для перераспределения крови из малого круга кровообращения, угнетения дыхательного центра, успокоения пациент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чная госпитализация для использования альтернативных методов лечения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етс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люминальная баллонная ангиопластик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аортальная контрпульсаци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ческие средства поддержки кровообращения - искусственные желудочки сердц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кардиостимуляция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16" descr="C:\Users\pc\Desktop\Загрузки\morphine_16787_12_(big)_.jpeg"/>
          <p:cNvPicPr/>
          <p:nvPr/>
        </p:nvPicPr>
        <p:blipFill>
          <a:blip r:embed="rId1"/>
          <a:stretch/>
        </p:blipFill>
        <p:spPr>
          <a:xfrm>
            <a:off x="285840" y="785880"/>
            <a:ext cx="2714400" cy="2309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13" name="Picture 17" descr="C:\Users\pc\Desktop\рис осн\28.jpg"/>
          <p:cNvPicPr/>
          <p:nvPr/>
        </p:nvPicPr>
        <p:blipFill>
          <a:blip r:embed="rId2"/>
          <a:stretch/>
        </p:blipFill>
        <p:spPr>
          <a:xfrm>
            <a:off x="285840" y="3500280"/>
            <a:ext cx="2714400" cy="1857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люминальная баллонная ангиопластик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142800" y="785880"/>
            <a:ext cx="6000840" cy="71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ый метод восстановления кровотока по окклюзированной коронарной артерии при инфаркте миокарда. В 70-95 % первичную транслюминальную баллонную ангиопластику дополняют стентированием сосудов - введением металлического стента в коронарную артерию. Следует стремиться к тому, чтобы тромболитическая терапия  начиналась не позднее 30 минут после первого контакта пациента с инфарктом миокарда с медицинским персоналом, а баллонная ангиопластика осуществлялась в пределах ближайших 90 минут. При этом сокращение времени задержки до начала лечения в  среднем на 1 час позволяет дополнительно снизить вероятность летального исхода в ближайший месяц на 17%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15"/>
          <p:cNvSpPr/>
          <p:nvPr/>
        </p:nvSpPr>
        <p:spPr>
          <a:xfrm>
            <a:off x="2286000" y="3105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16" descr="C:\Users\pc\Desktop\Загрузки\28.jpg"/>
          <p:cNvPicPr/>
          <p:nvPr/>
        </p:nvPicPr>
        <p:blipFill>
          <a:blip r:embed="rId1"/>
          <a:stretch/>
        </p:blipFill>
        <p:spPr>
          <a:xfrm>
            <a:off x="357120" y="3929040"/>
            <a:ext cx="2643120" cy="2214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18" name="Picture 17" descr="C:\Users\pc\Desktop\рис осн\normal.jpg"/>
          <p:cNvPicPr/>
          <p:nvPr/>
        </p:nvPicPr>
        <p:blipFill>
          <a:blip r:embed="rId2"/>
          <a:stretch/>
        </p:blipFill>
        <p:spPr>
          <a:xfrm>
            <a:off x="285840" y="1000080"/>
            <a:ext cx="2786040" cy="2714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к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ой сосудистой недостаточнос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28720" y="785880"/>
            <a:ext cx="47149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з  ставится на основани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ных симптомов нарушен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ферического кровообращени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154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дность кожных покровов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154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одный п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154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одные конечност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154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евидный пул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154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жение А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154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ьшение диурез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154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ушения сознани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6012000" y="3141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9" descr="C:\Users\pc\Desktop\Рис\потоотделение.jpg"/>
          <p:cNvPicPr/>
          <p:nvPr/>
        </p:nvPicPr>
        <p:blipFill>
          <a:blip r:embed="rId1"/>
          <a:stretch/>
        </p:blipFill>
        <p:spPr>
          <a:xfrm>
            <a:off x="285840" y="857160"/>
            <a:ext cx="3786120" cy="1643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7" name="Picture 20" descr="C:\Users\pc\Desktop\Рис\синкопе).jpg"/>
          <p:cNvPicPr/>
          <p:nvPr/>
        </p:nvPicPr>
        <p:blipFill>
          <a:blip r:embed="rId2"/>
          <a:stretch/>
        </p:blipFill>
        <p:spPr>
          <a:xfrm>
            <a:off x="285840" y="2714760"/>
            <a:ext cx="3744720" cy="1609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8" name="Picture 21" descr="C:\Users\pc\Desktop\Рис\низкое ад.jpg"/>
          <p:cNvPicPr/>
          <p:nvPr/>
        </p:nvPicPr>
        <p:blipFill>
          <a:blip r:embed="rId3"/>
          <a:stretch/>
        </p:blipFill>
        <p:spPr>
          <a:xfrm>
            <a:off x="285840" y="4572000"/>
            <a:ext cx="3786120" cy="1428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аортальная контрпульсац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142800" y="785880"/>
            <a:ext cx="6000840" cy="71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аортальная контрпульсаци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яет устройство, которо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вспомогательно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вообращение. Баллончик вводят через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дренную артерию и размещают в нисходящей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дной аорте, дистальнее подключичной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ерии. Баллончик раздувается во врем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столы и спадает непосредственно перед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олой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" descr="C:\Users\pc\Desktop\рис осн\500_ROKKD_contrapuls_uzrf.jpg"/>
          <p:cNvPicPr/>
          <p:nvPr/>
        </p:nvPicPr>
        <p:blipFill>
          <a:blip r:embed="rId1"/>
          <a:stretch/>
        </p:blipFill>
        <p:spPr>
          <a:xfrm>
            <a:off x="285840" y="4214880"/>
            <a:ext cx="2928960" cy="1928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22" name="Picture 3" descr="C:\Users\pc\Desktop\рис осн\2524.jpg"/>
          <p:cNvPicPr/>
          <p:nvPr/>
        </p:nvPicPr>
        <p:blipFill>
          <a:blip r:embed="rId2"/>
          <a:stretch/>
        </p:blipFill>
        <p:spPr>
          <a:xfrm>
            <a:off x="285840" y="1428840"/>
            <a:ext cx="2857320" cy="2500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аортальная контрпульсац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142800" y="785880"/>
            <a:ext cx="6000840" cy="71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увание баллончика смещает кровь в аорт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рх по направлению к коронарным артерия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рупным сосудам головы и вниз к почечны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ериям, увеличивая артериальную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фузию- увеличение наполнения в диастолу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дение баллончика сразу после систолы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ет давление, которое должн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долевать кровь выброшенная из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удочка. Таким образом, уменьшает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ление кислорода миокардом-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ение посленагрузк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17" descr="C:\Users\pc\Desktop\рис осн\i (4).jpg"/>
          <p:cNvPicPr/>
          <p:nvPr/>
        </p:nvPicPr>
        <p:blipFill>
          <a:blip r:embed="rId1"/>
          <a:stretch/>
        </p:blipFill>
        <p:spPr>
          <a:xfrm>
            <a:off x="357120" y="3429000"/>
            <a:ext cx="2786040" cy="2428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26" name="Picture 18" descr="C:\Users\pc\Desktop\рис осн\i (5).jpg"/>
          <p:cNvPicPr/>
          <p:nvPr/>
        </p:nvPicPr>
        <p:blipFill>
          <a:blip r:embed="rId2"/>
          <a:stretch/>
        </p:blipFill>
        <p:spPr>
          <a:xfrm>
            <a:off x="357120" y="857160"/>
            <a:ext cx="2714760" cy="2286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усственный желудочек сердц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142800" y="714240"/>
            <a:ext cx="6000840" cy="71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механическое вспомогательное устройств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держки работы сердца, благодар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ому обеспечивается кровообращение 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ов в тех случаях когда не удает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ть эффект от лекарственной терапии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я ВАНБ. Кровь отводится от сердца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яется через насос и возвращается в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очную артерию или аорту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18" descr="C:\Users\pc\Desktop\Загрузки\E0615921-739B-426C-AF87-9201E1F688DD_w220_s.jpg"/>
          <p:cNvPicPr/>
          <p:nvPr/>
        </p:nvPicPr>
        <p:blipFill>
          <a:blip r:embed="rId1"/>
          <a:stretch/>
        </p:blipFill>
        <p:spPr>
          <a:xfrm>
            <a:off x="428760" y="1214280"/>
            <a:ext cx="2857320" cy="4000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0" y="2708280"/>
            <a:ext cx="9144000" cy="3672000"/>
          </a:xfrm>
          <a:prstGeom prst="rect">
            <a:avLst/>
          </a:prstGeom>
          <a:solidFill>
            <a:srgbClr val="000000"/>
          </a:solidFill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858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усственный желудочек сердц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0" y="10000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применение оправдано только при тяжелой остр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дечной недостаточности, не отвечающей на стандартно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ние, внутриаортальную контрпульса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11">
            <a:hlinkClick r:id="" action="ppaction://hlinkshowjump?jump=nextslide"/>
          </p:cNvPr>
          <p:cNvSpPr/>
          <p:nvPr/>
        </p:nvSpPr>
        <p:spPr>
          <a:xfrm>
            <a:off x="7667640" y="6381720"/>
            <a:ext cx="1476360" cy="476280"/>
          </a:xfrm>
          <a:custGeom>
            <a:avLst/>
            <a:gdLst>
              <a:gd name="textAreaLeft" fmla="*/ 30600 w 1476360"/>
              <a:gd name="textAreaRight" fmla="*/ 1445760 w 1476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66921" h="21600">
                <a:moveTo>
                  <a:pt x="0" y="0"/>
                </a:moveTo>
                <a:lnTo>
                  <a:pt x="66921" y="0"/>
                </a:lnTo>
                <a:lnTo>
                  <a:pt x="66921" y="21600"/>
                </a:lnTo>
                <a:lnTo>
                  <a:pt x="0" y="21600"/>
                </a:lnTo>
                <a:close/>
              </a:path>
              <a:path fill="lightenLess" w="66921" h="21600">
                <a:moveTo>
                  <a:pt x="0" y="0"/>
                </a:moveTo>
                <a:lnTo>
                  <a:pt x="66921" y="0"/>
                </a:lnTo>
                <a:lnTo>
                  <a:pt x="65521" y="1400"/>
                </a:lnTo>
                <a:lnTo>
                  <a:pt x="1400" y="1400"/>
                </a:lnTo>
                <a:close/>
              </a:path>
              <a:path fill="darken" w="66921" h="21600">
                <a:moveTo>
                  <a:pt x="66921" y="0"/>
                </a:moveTo>
                <a:lnTo>
                  <a:pt x="66921" y="21600"/>
                </a:lnTo>
                <a:lnTo>
                  <a:pt x="65521" y="20200"/>
                </a:lnTo>
                <a:lnTo>
                  <a:pt x="65521" y="1400"/>
                </a:lnTo>
                <a:close/>
              </a:path>
              <a:path fill="darkenLess" w="66921" h="21600">
                <a:moveTo>
                  <a:pt x="66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21" y="20200"/>
                </a:lnTo>
                <a:close/>
              </a:path>
              <a:path fill="lighten" w="66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6921" h="21600">
                <a:moveTo>
                  <a:pt x="26454" y="3794"/>
                </a:moveTo>
                <a:lnTo>
                  <a:pt x="40467" y="10800"/>
                </a:lnTo>
                <a:lnTo>
                  <a:pt x="264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6"/>
          <p:cNvSpPr/>
          <p:nvPr/>
        </p:nvSpPr>
        <p:spPr>
          <a:xfrm>
            <a:off x="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насос.wmv" descr=""/>
          <p:cNvPicPr/>
          <p:nvPr/>
        </p:nvPicPr>
        <p:blipFill>
          <a:blip r:embed="rId1"/>
          <a:stretch/>
        </p:blipFill>
        <p:spPr>
          <a:xfrm>
            <a:off x="2000160" y="2786040"/>
            <a:ext cx="5286600" cy="3524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83249" fill="hold"/>
                                        <p:tgtEl>
                                          <p:spTgt spid="3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3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кардиостимуляц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2560" y="785880"/>
            <a:ext cx="9001080" cy="71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атор пульса является источником тока, работающим на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тарейках. Отведение – это провода, подсоединенные к генератор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льса и имеющие один или 2 электрода на другом конце, которы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ктируют эндокардом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6" descr="C:\Users\pc\Desktop\рис осн\58903481_1273587544_94_impl_eks.jpg"/>
          <p:cNvPicPr/>
          <p:nvPr/>
        </p:nvPicPr>
        <p:blipFill>
          <a:blip r:embed="rId1"/>
          <a:stretch/>
        </p:blipFill>
        <p:spPr>
          <a:xfrm>
            <a:off x="2643120" y="785880"/>
            <a:ext cx="3357720" cy="3643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ая правожелудочковая недостаточност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142800" y="785880"/>
            <a:ext cx="6000840" cy="71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кая патологи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чин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аще тромбоэмболия легочной артерии, редко- тотальная пневмония, пневмоторакс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тогенез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ерегрузка правого желудочка за счет механической окклюзии и спазма сосудов малого круга кровообращени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алоб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ышка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и в правом подреберье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еки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лобы, связанные с основным заболеванием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мот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аноз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ухание вен ше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17" descr="C:\Users\pc\Desktop\рис осн\image15a.jpg"/>
          <p:cNvPicPr/>
          <p:nvPr/>
        </p:nvPicPr>
        <p:blipFill>
          <a:blip r:embed="rId1"/>
          <a:stretch/>
        </p:blipFill>
        <p:spPr>
          <a:xfrm>
            <a:off x="142920" y="4143240"/>
            <a:ext cx="2928960" cy="1928880"/>
          </a:xfrm>
          <a:prstGeom prst="rect">
            <a:avLst/>
          </a:prstGeom>
          <a:ln w="12600">
            <a:solidFill>
              <a:srgbClr val="bbe0e3"/>
            </a:solidFill>
            <a:miter/>
          </a:ln>
        </p:spPr>
      </p:pic>
      <p:pic>
        <p:nvPicPr>
          <p:cNvPr id="342" name="Picture 18" descr="C:\Users\pc\Desktop\рис осн\TELA.jpg"/>
          <p:cNvPicPr/>
          <p:nvPr/>
        </p:nvPicPr>
        <p:blipFill>
          <a:blip r:embed="rId2"/>
          <a:stretch/>
        </p:blipFill>
        <p:spPr>
          <a:xfrm>
            <a:off x="142920" y="928800"/>
            <a:ext cx="2928960" cy="2928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ы острой правожелудочковой недостаточнос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357360" y="642960"/>
            <a:ext cx="5786280" cy="71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еки на ногах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льс частый, слабого наполнения, нередко аритмичный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 границы  сердца вправо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олический шум  над мечевидном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остком, усиливающийся  на вдохе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печени, ее болезненность,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ухание вен шеи при надавливании на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ень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 развитие асцит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струментальные исследован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Г: повышение зубца Р в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V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тклонение электрической оси сердца вправо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тложная помощь – лечение основного заболевания и госпитализация в специализированный  стационар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6" descr="C:\Users\pc\Desktop\рис осн\hvn1.JPG"/>
          <p:cNvPicPr/>
          <p:nvPr/>
        </p:nvPicPr>
        <p:blipFill>
          <a:blip r:embed="rId1"/>
          <a:stretch/>
        </p:blipFill>
        <p:spPr>
          <a:xfrm>
            <a:off x="571680" y="857160"/>
            <a:ext cx="2714400" cy="1857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46" name="Picture 17" descr="C:\Users\pc\Desktop\рис осн\243096.jpg"/>
          <p:cNvPicPr/>
          <p:nvPr/>
        </p:nvPicPr>
        <p:blipFill>
          <a:blip r:embed="rId2"/>
          <a:stretch/>
        </p:blipFill>
        <p:spPr>
          <a:xfrm>
            <a:off x="571680" y="3071880"/>
            <a:ext cx="2786040" cy="2571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Рисунок 103" descr="Рисунок1.png"/>
          <p:cNvPicPr/>
          <p:nvPr/>
        </p:nvPicPr>
        <p:blipFill>
          <a:blip r:embed="rId1"/>
          <a:stretch/>
        </p:blipFill>
        <p:spPr>
          <a:xfrm>
            <a:off x="214200" y="714240"/>
            <a:ext cx="8929800" cy="540864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тика лечения ОСН на догоспитальном этап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79" descr="0019"/>
          <p:cNvPicPr/>
          <p:nvPr/>
        </p:nvPicPr>
        <p:blipFill>
          <a:blip r:embed="rId2"/>
          <a:stretch/>
        </p:blipFill>
        <p:spPr>
          <a:xfrm flipH="1" rot="21359400">
            <a:off x="669600" y="4468680"/>
            <a:ext cx="1174680" cy="816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e4e7b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5" descr="Открытый урок по биологии по теме &quot;Строение сердца&quot; с исполь…"/>
          <p:cNvPicPr/>
          <p:nvPr/>
        </p:nvPicPr>
        <p:blipFill>
          <a:blip r:embed="rId1"/>
          <a:stretch/>
        </p:blipFill>
        <p:spPr>
          <a:xfrm>
            <a:off x="214200" y="1143000"/>
            <a:ext cx="3857760" cy="39718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Открытый урок по биологии по теме &quot;Строение сердца&quot; с исполь…"/>
          <p:cNvPicPr/>
          <p:nvPr/>
        </p:nvPicPr>
        <p:blipFill>
          <a:blip r:embed="rId2"/>
          <a:stretch/>
        </p:blipFill>
        <p:spPr>
          <a:xfrm>
            <a:off x="357120" y="1143000"/>
            <a:ext cx="3857760" cy="39718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5" descr="Открытый урок по биологии по теме &quot;Строение сердца&quot; с исполь…"/>
          <p:cNvPicPr/>
          <p:nvPr/>
        </p:nvPicPr>
        <p:blipFill>
          <a:blip r:embed="rId3"/>
          <a:stretch/>
        </p:blipFill>
        <p:spPr>
          <a:xfrm>
            <a:off x="214200" y="1071720"/>
            <a:ext cx="3857760" cy="3971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520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еские форм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трой сосудистой недостаточнос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28400" y="1071360"/>
            <a:ext cx="87152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7146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копе                  Коллапс                            Шо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7" descr="C:\Users\pc\Desktop\Рис\iобморок).jpg"/>
          <p:cNvPicPr/>
          <p:nvPr/>
        </p:nvPicPr>
        <p:blipFill>
          <a:blip r:embed="rId1"/>
          <a:stretch/>
        </p:blipFill>
        <p:spPr>
          <a:xfrm>
            <a:off x="428760" y="1643040"/>
            <a:ext cx="2678040" cy="3357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2" name="Picture 18" descr="C:\Users\pc\Desktop\Рис\коллапс.jpg"/>
          <p:cNvPicPr/>
          <p:nvPr/>
        </p:nvPicPr>
        <p:blipFill>
          <a:blip r:embed="rId2"/>
          <a:stretch/>
        </p:blipFill>
        <p:spPr>
          <a:xfrm>
            <a:off x="3357720" y="1571760"/>
            <a:ext cx="2462040" cy="3357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3" name="Picture 19" descr="C:\Users\pc\Desktop\Рис\шок.jpg"/>
          <p:cNvPicPr/>
          <p:nvPr/>
        </p:nvPicPr>
        <p:blipFill>
          <a:blip r:embed="rId3"/>
          <a:stretch/>
        </p:blipFill>
        <p:spPr>
          <a:xfrm>
            <a:off x="6215040" y="1571760"/>
            <a:ext cx="2392560" cy="3429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копальные состоя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2560" y="981000"/>
            <a:ext cx="846144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нкоп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иступ кратковременной потери сознания  с нарушением постурального тонуса и быстрым, полным, самостоятельным восстановлением нормального состояния. Распространенность обмороков очень велика – до 30% взрослого населения имело хотя бы  один  обморок.                             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вные признаки синкопального состояния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15876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запность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15876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временность – от нескольких секунд до 1- 2 минут,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йне  редко до 10 минут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15876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мость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огенез 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копаль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стоян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0" y="999720"/>
            <a:ext cx="4572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ой причиной обморока является уменьшение доставки кислорода к головному мозгу. Симптомы ишемии головного мозга возникают при падении среднего АД ниже 40 – 50 мм рт. ст. вследствие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4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кого падения сердечного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броса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4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меньшения периферического сосудистого  сопротивлен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6" descr="C:\Users\pc\Desktop\Рис\мозг.jpg"/>
          <p:cNvPicPr/>
          <p:nvPr/>
        </p:nvPicPr>
        <p:blipFill>
          <a:blip r:embed="rId1"/>
          <a:stretch/>
        </p:blipFill>
        <p:spPr>
          <a:xfrm>
            <a:off x="500040" y="1071720"/>
            <a:ext cx="3857760" cy="2714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9" name="Picture 17" descr="C:\Users\pc\Desktop\Рис\стеноз аорты.jpg"/>
          <p:cNvPicPr/>
          <p:nvPr/>
        </p:nvPicPr>
        <p:blipFill>
          <a:blip r:embed="rId2"/>
          <a:stretch/>
        </p:blipFill>
        <p:spPr>
          <a:xfrm>
            <a:off x="500040" y="4000680"/>
            <a:ext cx="3929040" cy="2286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огенез 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копаль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стоян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286160" y="1000080"/>
            <a:ext cx="48578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ение кровоснабжения мозга может произойти и  без снижения АД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155520">
              <a:lnSpc>
                <a:spcPct val="14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 повышении сопротивления    сосудов мозга – при гипокапнии вследствие гипервентиляции;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155520">
              <a:lnSpc>
                <a:spcPct val="14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 обструкции артерий, снабжающих головной мозг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копе могут возникать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 снижении содержания кислорода в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ов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 асфиксия, анеми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C:\Users\pc\Desktop\Рис\бляшка.jpeg"/>
          <p:cNvPicPr/>
          <p:nvPr/>
        </p:nvPicPr>
        <p:blipFill>
          <a:blip r:embed="rId1"/>
          <a:stretch/>
        </p:blipFill>
        <p:spPr>
          <a:xfrm>
            <a:off x="357120" y="3571920"/>
            <a:ext cx="3643560" cy="2643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3" name="Picture 17" descr="C:\Users\pc\Desktop\Рис\гипервентиляция.jpg"/>
          <p:cNvPicPr/>
          <p:nvPr/>
        </p:nvPicPr>
        <p:blipFill>
          <a:blip r:embed="rId2"/>
          <a:stretch/>
        </p:blipFill>
        <p:spPr>
          <a:xfrm>
            <a:off x="428760" y="1071720"/>
            <a:ext cx="3571920" cy="2179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1T06:49:37Z</dcterms:created>
  <dc:creator>ТМ</dc:creator>
  <dc:description/>
  <dc:language>en-US</dc:language>
  <cp:lastModifiedBy>User</cp:lastModifiedBy>
  <dcterms:modified xsi:type="dcterms:W3CDTF">2017-05-30T13:06:36Z</dcterms:modified>
  <cp:revision>1049</cp:revision>
  <dc:subject/>
  <dc:title>Анатомия и физиология человека Раздел 9. Репродуктивная система</dc:title>
</cp:coreProperties>
</file>