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86.jpeg" ContentType="image/jpeg"/>
  <Override PartName="/ppt/media/image39.jpeg" ContentType="image/jpeg"/>
  <Override PartName="/ppt/media/image17.png" ContentType="image/png"/>
  <Override PartName="/ppt/media/image98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41.jpeg" ContentType="image/jpeg"/>
  <Override PartName="/ppt/media/image87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4.jpeg" ContentType="image/jpeg"/>
  <Override PartName="/ppt/media/image70.png" ContentType="image/png"/>
  <Override PartName="/ppt/media/image91.jpeg" ContentType="image/jpeg"/>
  <Override PartName="/ppt/media/image89.jpeg" ContentType="image/jpeg"/>
  <Override PartName="/ppt/media/image21.png" ContentType="image/png"/>
  <Override PartName="/ppt/media/image67.jpeg" ContentType="image/jpeg"/>
  <Override PartName="/ppt/media/image69.png" ContentType="image/png"/>
  <Override PartName="/ppt/media/image99.jpeg" ContentType="image/jpeg"/>
  <Override PartName="/ppt/media/image2.png" ContentType="image/png"/>
  <Override PartName="/ppt/media/image68.jpeg" ContentType="image/jpeg"/>
  <Override PartName="/ppt/media/image61.gif" ContentType="image/gif"/>
  <Override PartName="/ppt/media/image77.jpeg" ContentType="image/jpeg"/>
  <Override PartName="/ppt/media/image71.jpeg" ContentType="image/jpeg"/>
  <Override PartName="/ppt/media/image96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100.png" ContentType="image/png"/>
  <Override PartName="/ppt/media/image74.png" ContentType="image/png"/>
  <Override PartName="/ppt/media/image78.jpeg" ContentType="image/jpeg"/>
  <Override PartName="/ppt/media/image56.jpeg" ContentType="image/jpeg"/>
  <Override PartName="/ppt/media/image76.jpeg" ContentType="image/jpeg"/>
  <Override PartName="/ppt/media/image75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82.jpeg" ContentType="image/jpeg"/>
  <Override PartName="/ppt/media/image102.jpeg" ContentType="image/jpeg"/>
  <Override PartName="/ppt/media/image23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06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1.png" ContentType="image/png"/>
  <Override PartName="/ppt/media/image107.gif" ContentType="image/gif"/>
  <Override PartName="/ppt/media/image25.jpeg" ContentType="image/jpeg"/>
  <Override PartName="/ppt/media/image104.jpeg" ContentType="image/jpeg"/>
  <Override PartName="/ppt/media/image84.jpeg" ContentType="image/jpeg"/>
  <Override PartName="/ppt/media/image3.png" ContentType="image/png"/>
  <Override PartName="/ppt/media/image15.png" ContentType="image/png"/>
  <Override PartName="/ppt/media/image9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679-F43A-48A6-A268-16D8EB376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5FA-89F0-4346-97EB-AC99C235D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liennummerfeld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D315-10EB-4630-ADC5-A2576A5D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ценить истинную распространенность ОСН очень трудно, здесь можно говорить о частоте осложнений того или иного заболевания. В частности, в 60 – 70% случаев причиной развития ОСН является ишемическая болезнь сердц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26% пациентов причиной развития синдрома является ХСН, у 9%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ые нарушения ритма, у 3% - патология клапано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стота отека легких при инфаркте миокарда составляет 22 – 26,6%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694-BF02-4E1C-8941-19C5EBC72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D8BE-75D5-489E-94EA-86A46A293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966-8222-4120-99E2-541D0043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425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A08-3F82-48BF-956E-28AC098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D57-61C1-4857-AE3A-A1795061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9810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42540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8C8-5F17-4A72-AE04-07E0B3D4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992-30C1-43C6-9515-2417D732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EF4-313D-4EB2-8B95-430F5046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FFD-0FF8-40C7-8027-597BBB26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42A-B60B-477E-8E63-6417C41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A01-F413-40EE-B71A-57F856BC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050-7382-4313-B16F-81AD828E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4254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6D5-894A-48B4-8C0F-D202846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98100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4254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E9E-25C7-4ECF-8B52-BDF626A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e4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0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6313-33F6-4FC2-B887-C52DB103E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3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79.jpe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8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810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 КАТАСТРОФ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0040" y="5929200"/>
            <a:ext cx="75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c2e00"/>
                </a:solidFill>
                <a:latin typeface="Arial"/>
              </a:rPr>
              <a:t>Составитель: Сушенцова М.М. </a:t>
            </a:r>
            <a:r>
              <a:rPr b="1" i="1" lang="ru-RU" sz="1600" spc="-1" strike="noStrike">
                <a:solidFill>
                  <a:srgbClr val="5c2e00"/>
                </a:solidFill>
                <a:latin typeface="Arial"/>
              </a:rPr>
              <a:t>, Мукминова Р.М. преподаватели КМ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101520">
            <a:solidFill>
              <a:srgbClr val="a004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42960" y="2143080"/>
            <a:ext cx="7604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рачебная помощь при неотложных состояниях и острых заболева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атогенеза синкопальных состоян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2560" y="85680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>
            <a:off x="1071720" y="857160"/>
            <a:ext cx="67863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3"/>
          <p:cNvSpPr/>
          <p:nvPr/>
        </p:nvSpPr>
        <p:spPr>
          <a:xfrm>
            <a:off x="714240" y="2071800"/>
            <a:ext cx="3643560" cy="785880"/>
          </a:xfrm>
          <a:prstGeom prst="rect">
            <a:avLst/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метаболизма нейронов – гипоксия, гипоглике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"/>
          <p:cNvSpPr/>
          <p:nvPr/>
        </p:nvSpPr>
        <p:spPr>
          <a:xfrm>
            <a:off x="4786200" y="2071800"/>
            <a:ext cx="3357720" cy="7858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 поражение нейронов - эпилеп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7"/>
          <p:cNvSpPr/>
          <p:nvPr/>
        </p:nvSpPr>
        <p:spPr>
          <a:xfrm>
            <a:off x="142920" y="3500280"/>
            <a:ext cx="3143160" cy="7858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ое нарушение цирку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2"/>
          <p:cNvSpPr/>
          <p:nvPr/>
        </p:nvSpPr>
        <p:spPr>
          <a:xfrm>
            <a:off x="3786120" y="3500280"/>
            <a:ext cx="2428920" cy="78588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снижение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3"/>
          <p:cNvSpPr/>
          <p:nvPr/>
        </p:nvSpPr>
        <p:spPr>
          <a:xfrm>
            <a:off x="1214280" y="4857840"/>
            <a:ext cx="3714840" cy="7142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ердечного выб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4"/>
          <p:cNvSpPr/>
          <p:nvPr/>
        </p:nvSpPr>
        <p:spPr>
          <a:xfrm>
            <a:off x="5214960" y="4857840"/>
            <a:ext cx="3786120" cy="7142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периферического сопротивления сос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50"/>
          <p:cNvCxnSpPr/>
          <p:nvPr/>
        </p:nvCxnSpPr>
        <p:spPr>
          <a:xfrm flipV="1">
            <a:off x="4356720" y="4357440"/>
            <a:ext cx="1080" cy="3578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4" name="Прямая со стрелкой 54"/>
          <p:cNvCxnSpPr/>
          <p:nvPr/>
        </p:nvCxnSpPr>
        <p:spPr>
          <a:xfrm flipV="1">
            <a:off x="5999760" y="4357800"/>
            <a:ext cx="1080" cy="3589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5" name="Прямая со стрелкой 49"/>
          <p:cNvCxnSpPr/>
          <p:nvPr/>
        </p:nvCxnSpPr>
        <p:spPr>
          <a:xfrm flipV="1">
            <a:off x="1999080" y="2999520"/>
            <a:ext cx="1080" cy="35820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6" name="Прямая со стрелкой 78"/>
          <p:cNvCxnSpPr/>
          <p:nvPr/>
        </p:nvCxnSpPr>
        <p:spPr>
          <a:xfrm flipV="1">
            <a:off x="3927960" y="2999520"/>
            <a:ext cx="1080" cy="35820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7" name="Прямая со стрелкой 96"/>
          <p:cNvCxnSpPr/>
          <p:nvPr/>
        </p:nvCxnSpPr>
        <p:spPr>
          <a:xfrm flipV="1">
            <a:off x="2568960" y="1571400"/>
            <a:ext cx="252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8" name="Прямая со стрелкой 101"/>
          <p:cNvCxnSpPr/>
          <p:nvPr/>
        </p:nvCxnSpPr>
        <p:spPr>
          <a:xfrm flipV="1">
            <a:off x="5857920" y="1571400"/>
            <a:ext cx="2160" cy="357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571680" y="1071720"/>
            <a:ext cx="285732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д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4429080" y="928800"/>
            <a:ext cx="41436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бстр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3"/>
          <p:cNvSpPr/>
          <p:nvPr/>
        </p:nvSpPr>
        <p:spPr>
          <a:xfrm>
            <a:off x="4429080" y="1428840"/>
            <a:ext cx="414360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ритм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4"/>
          <p:cNvSpPr/>
          <p:nvPr/>
        </p:nvSpPr>
        <p:spPr>
          <a:xfrm>
            <a:off x="642960" y="2357280"/>
            <a:ext cx="2786040" cy="857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кардиог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7"/>
          <p:cNvSpPr/>
          <p:nvPr/>
        </p:nvSpPr>
        <p:spPr>
          <a:xfrm>
            <a:off x="4500720" y="2214720"/>
            <a:ext cx="407196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азоваг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2"/>
          <p:cNvSpPr/>
          <p:nvPr/>
        </p:nvSpPr>
        <p:spPr>
          <a:xfrm>
            <a:off x="4572000" y="2714760"/>
            <a:ext cx="400068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рефлект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3"/>
          <p:cNvSpPr/>
          <p:nvPr/>
        </p:nvSpPr>
        <p:spPr>
          <a:xfrm>
            <a:off x="4427640" y="3213000"/>
            <a:ext cx="4000320" cy="357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иту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35"/>
          <p:cNvCxnSpPr/>
          <p:nvPr/>
        </p:nvCxnSpPr>
        <p:spPr>
          <a:xfrm>
            <a:off x="3785760" y="164304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08" name="Прямая со стрелкой 51"/>
          <p:cNvCxnSpPr/>
          <p:nvPr/>
        </p:nvCxnSpPr>
        <p:spPr>
          <a:xfrm>
            <a:off x="3785760" y="114300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09" name="Прямая со стрелкой 63"/>
          <p:cNvCxnSpPr/>
          <p:nvPr/>
        </p:nvCxnSpPr>
        <p:spPr>
          <a:xfrm>
            <a:off x="3929040" y="3357720"/>
            <a:ext cx="357840" cy="14328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0" name="Прямая со стрелкой 68"/>
          <p:cNvCxnSpPr/>
          <p:nvPr/>
        </p:nvCxnSpPr>
        <p:spPr>
          <a:xfrm>
            <a:off x="3928680" y="292896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1" name="Прямая со стрелкой 72"/>
          <p:cNvCxnSpPr/>
          <p:nvPr/>
        </p:nvCxnSpPr>
        <p:spPr>
          <a:xfrm flipV="1">
            <a:off x="3929040" y="2428200"/>
            <a:ext cx="357840" cy="14364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112" name="Прямоугольник 91"/>
          <p:cNvSpPr/>
          <p:nvPr/>
        </p:nvSpPr>
        <p:spPr>
          <a:xfrm>
            <a:off x="642960" y="3643200"/>
            <a:ext cx="2786040" cy="642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3"/>
          <p:cNvSpPr/>
          <p:nvPr/>
        </p:nvSpPr>
        <p:spPr>
          <a:xfrm>
            <a:off x="642960" y="4429080"/>
            <a:ext cx="278604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реброваскуля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4"/>
          <p:cNvSpPr/>
          <p:nvPr/>
        </p:nvSpPr>
        <p:spPr>
          <a:xfrm>
            <a:off x="714240" y="5072040"/>
            <a:ext cx="27147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ороки при других заболе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5"/>
          <p:cNvSpPr/>
          <p:nvPr/>
        </p:nvSpPr>
        <p:spPr>
          <a:xfrm>
            <a:off x="4714920" y="5072040"/>
            <a:ext cx="3714840" cy="301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эпилеп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6"/>
          <p:cNvSpPr/>
          <p:nvPr/>
        </p:nvSpPr>
        <p:spPr>
          <a:xfrm>
            <a:off x="4714920" y="5429160"/>
            <a:ext cx="3714840" cy="21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ипоглике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7"/>
          <p:cNvSpPr/>
          <p:nvPr/>
        </p:nvSpPr>
        <p:spPr>
          <a:xfrm>
            <a:off x="4714920" y="5715000"/>
            <a:ext cx="37148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гипервентиляционный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99"/>
          <p:cNvCxnSpPr/>
          <p:nvPr/>
        </p:nvCxnSpPr>
        <p:spPr>
          <a:xfrm>
            <a:off x="3928680" y="5857920"/>
            <a:ext cx="50076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19" name="Прямая со стрелкой 106"/>
          <p:cNvCxnSpPr/>
          <p:nvPr/>
        </p:nvCxnSpPr>
        <p:spPr>
          <a:xfrm>
            <a:off x="3928680" y="550080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120" name="Прямая со стрелкой 115"/>
          <p:cNvCxnSpPr/>
          <p:nvPr/>
        </p:nvCxnSpPr>
        <p:spPr>
          <a:xfrm>
            <a:off x="3928680" y="5214960"/>
            <a:ext cx="429480" cy="2160"/>
          </a:xfrm>
          <a:prstGeom prst="straightConnector1">
            <a:avLst/>
          </a:prstGeom>
          <a:ln w="19080">
            <a:solidFill>
              <a:srgbClr val="2d2d8a"/>
            </a:solidFill>
            <a:miter/>
            <a:tailEnd len="med" type="triangle" w="med"/>
          </a:ln>
        </p:spPr>
      </p:cxnSp>
      <p:sp>
        <p:nvSpPr>
          <p:cNvPr id="121" name="Прямоугольник 36"/>
          <p:cNvSpPr/>
          <p:nvPr/>
        </p:nvSpPr>
        <p:spPr>
          <a:xfrm>
            <a:off x="4716360" y="4149720"/>
            <a:ext cx="3816360" cy="79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стенозе, сдавлении мозговых, сонных.  подключичных артер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38"/>
          <p:cNvCxnSpPr/>
          <p:nvPr/>
        </p:nvCxnSpPr>
        <p:spPr>
          <a:xfrm>
            <a:off x="3850920" y="4652640"/>
            <a:ext cx="57708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руктив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48000" y="999720"/>
            <a:ext cx="4896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при механически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иях наполнению сердц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ю или сердечному выбросу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ртальный стеноз; стеноз лего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ии;  легочная гипертензия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омбоэмболия легочной артерии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трофическая кардиомиопат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ют при физических нагрузках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обмороком поя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 и цианоз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прекращается пр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и положения тел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метод диагностики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окардиоско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C:\Users\pc\Desktop\Рис\эмбол.gif"/>
          <p:cNvPicPr/>
          <p:nvPr/>
        </p:nvPicPr>
        <p:blipFill>
          <a:blip r:embed="rId1"/>
          <a:stretch/>
        </p:blipFill>
        <p:spPr>
          <a:xfrm>
            <a:off x="357120" y="928800"/>
            <a:ext cx="4000680" cy="223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17" descr="C:\Users\pc\Desktop\Рис\Эхо.jpg"/>
          <p:cNvPicPr/>
          <p:nvPr/>
        </p:nvPicPr>
        <p:blipFill>
          <a:blip r:embed="rId2"/>
          <a:stretch/>
        </p:blipFill>
        <p:spPr>
          <a:xfrm>
            <a:off x="285840" y="3429000"/>
            <a:ext cx="4070160" cy="25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чески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05440" y="999720"/>
            <a:ext cx="5038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х развитию могут приве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ритм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хиаритм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роксизм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ой тахикард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петание,  фибрилля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,  наджелудочков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я.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диаритм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овентрикулярная блокад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, синдром слабости синусо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становления диагноз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регистрация ЭКГ во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риступа. Важная рол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ит  расспросу паци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C:\Users\pc\Desktop\Рис\слабость синусового узла.png"/>
          <p:cNvPicPr/>
          <p:nvPr/>
        </p:nvPicPr>
        <p:blipFill>
          <a:blip r:embed="rId1"/>
          <a:stretch/>
        </p:blipFill>
        <p:spPr>
          <a:xfrm>
            <a:off x="285840" y="4071960"/>
            <a:ext cx="3714840" cy="185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17" descr="C:\Users\pc\Desktop\Рис\тахиаритмии.jpg"/>
          <p:cNvPicPr/>
          <p:nvPr/>
        </p:nvPicPr>
        <p:blipFill>
          <a:blip r:embed="rId2"/>
          <a:stretch/>
        </p:blipFill>
        <p:spPr>
          <a:xfrm>
            <a:off x="285840" y="857160"/>
            <a:ext cx="3733560" cy="298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особенности аритмических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19600" y="1000080"/>
            <a:ext cx="5324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внезапно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 относительно продолжительны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ость или циано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тахи- или брадикард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АД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обморочное  состояние –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з или гиперемия кожных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ов, ощущение перебоев в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е сердц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ы диагностики -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а с физической нагрузкой,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лтеровское мониторировани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респищеводная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ктрокардиостимуля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C:\Users\pc\Desktop\Рис\синкопе).jpg"/>
          <p:cNvPicPr/>
          <p:nvPr/>
        </p:nvPicPr>
        <p:blipFill>
          <a:blip r:embed="rId1"/>
          <a:stretch/>
        </p:blipFill>
        <p:spPr>
          <a:xfrm>
            <a:off x="357120" y="1214280"/>
            <a:ext cx="3500640" cy="17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4" name="Picture 17" descr="C:\Users\pc\Desktop\Рис\мерчательная аритмия.jpg"/>
          <p:cNvPicPr/>
          <p:nvPr/>
        </p:nvPicPr>
        <p:blipFill>
          <a:blip r:embed="rId2"/>
          <a:stretch/>
        </p:blipFill>
        <p:spPr>
          <a:xfrm>
            <a:off x="285840" y="3786120"/>
            <a:ext cx="3643200" cy="21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ардиоген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7920" y="785520"/>
            <a:ext cx="58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доля обмороков - э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кардиогенные обмороки.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ется вегетативная регуля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ты сердечных сокращений и сосудистого тонус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-сосудист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ы временно носят извращенны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, приводя к  вазодилатации и/и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и и, следовательно, 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ю АД и общего  мозго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ока.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альные эпизоды случаются чаще   в подростковом           период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C:\Users\pc\Desktop\Рис\внс.jpg"/>
          <p:cNvPicPr/>
          <p:nvPr/>
        </p:nvPicPr>
        <p:blipFill>
          <a:blip r:embed="rId1"/>
          <a:stretch/>
        </p:blipFill>
        <p:spPr>
          <a:xfrm>
            <a:off x="214200" y="1000080"/>
            <a:ext cx="3429000" cy="4857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 нейрокардиогенных обморо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Текст 16" descr=""/>
          <p:cNvPicPr/>
          <p:nvPr/>
        </p:nvPicPr>
        <p:blipFill>
          <a:blip r:embed="rId1"/>
          <a:stretch/>
        </p:blipFill>
        <p:spPr>
          <a:xfrm>
            <a:off x="530280" y="828720"/>
            <a:ext cx="8620200" cy="515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C:\Users\pc\Desktop\105.jpg"/>
          <p:cNvPicPr/>
          <p:nvPr/>
        </p:nvPicPr>
        <p:blipFill>
          <a:blip r:embed="rId2"/>
          <a:stretch/>
        </p:blipFill>
        <p:spPr>
          <a:xfrm>
            <a:off x="3708360" y="2060640"/>
            <a:ext cx="2143080" cy="316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C:\Users\pc\Desktop\34507_NpAdvHover.jpg"/>
          <p:cNvPicPr/>
          <p:nvPr/>
        </p:nvPicPr>
        <p:blipFill>
          <a:blip r:embed="rId3"/>
          <a:stretch/>
        </p:blipFill>
        <p:spPr>
          <a:xfrm>
            <a:off x="6858000" y="1989000"/>
            <a:ext cx="2035080" cy="331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C:\Users\pc\Desktop\4f49af31f703882e871ac8d735dd7814_M.jpg"/>
          <p:cNvPicPr/>
          <p:nvPr/>
        </p:nvPicPr>
        <p:blipFill>
          <a:blip r:embed="rId4"/>
          <a:stretch/>
        </p:blipFill>
        <p:spPr>
          <a:xfrm>
            <a:off x="755640" y="2060640"/>
            <a:ext cx="192888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вагальный обмор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42880" y="714240"/>
            <a:ext cx="4681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наиболее часты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ом нейрокардиоген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как  реакция на стрес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уют обмороку симптомы вегетативной  гиперактива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сниж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и/или брадикард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е быстро восстанавливаетс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обморочном состоя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ется бледность и влажность  кожи, возможны   слабость, тошнота, брадикардия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 ортостатические  проб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явления несостоятель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ных    механизм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C:\Users\pc\Desktop\12211.jpg"/>
          <p:cNvPicPr/>
          <p:nvPr/>
        </p:nvPicPr>
        <p:blipFill>
          <a:blip r:embed="rId1"/>
          <a:stretch/>
        </p:blipFill>
        <p:spPr>
          <a:xfrm>
            <a:off x="428760" y="928800"/>
            <a:ext cx="371448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Picture 17" descr="C:\Users\pc\Desktop\Рисунок21.jpg"/>
          <p:cNvPicPr/>
          <p:nvPr/>
        </p:nvPicPr>
        <p:blipFill>
          <a:blip r:embed="rId2"/>
          <a:stretch/>
        </p:blipFill>
        <p:spPr>
          <a:xfrm>
            <a:off x="214200" y="3357720"/>
            <a:ext cx="200052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:\Users\pc\Desktop\Рис\низкое ад.jpg"/>
          <p:cNvPicPr/>
          <p:nvPr/>
        </p:nvPicPr>
        <p:blipFill>
          <a:blip r:embed="rId3"/>
          <a:stretch/>
        </p:blipFill>
        <p:spPr>
          <a:xfrm>
            <a:off x="2357280" y="3357720"/>
            <a:ext cx="1785960" cy="242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000320" y="713880"/>
            <a:ext cx="4824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ген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импульсы о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еских рецептор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т к повышению тонуса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vagus и подавлению  актив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одвигательного центра,  т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к брадикардии, гипотензии.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кализация  рецепторо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муляция которых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ести к рефлекторн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оро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за,  лор- орга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, сосуды, бронхи,  легк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т, малый таз, забрюшин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.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C:\Users\pc\Desktop\рис осн\anatomy_51.JPG"/>
          <p:cNvPicPr/>
          <p:nvPr/>
        </p:nvPicPr>
        <p:blipFill>
          <a:blip r:embed="rId1"/>
          <a:stretch/>
        </p:blipFill>
        <p:spPr>
          <a:xfrm>
            <a:off x="357120" y="857160"/>
            <a:ext cx="3786120" cy="528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00320" y="713880"/>
            <a:ext cx="4824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провокации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ралгия тройничного нер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скопия,  кашель, глотание 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ов с заболеваниями глот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щевода, гастро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оскопия, острый холецист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одная язва желудк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еризация мочевого пузыр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чная колика, остры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креатит.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причин рефлектор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а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др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отидного синус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C:\Users\pc\Desktop\Загрузки\105.jpg"/>
          <p:cNvPicPr/>
          <p:nvPr/>
        </p:nvPicPr>
        <p:blipFill>
          <a:blip r:embed="rId1"/>
          <a:stretch/>
        </p:blipFill>
        <p:spPr>
          <a:xfrm>
            <a:off x="2500200" y="3286080"/>
            <a:ext cx="171468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4" name="Picture 17" descr="C:\Users\pc\Desktop\рис осн\1332916235_bigstockphoto_senior_man_with_cough_2429487.jpg"/>
          <p:cNvPicPr/>
          <p:nvPr/>
        </p:nvPicPr>
        <p:blipFill>
          <a:blip r:embed="rId2"/>
          <a:stretch/>
        </p:blipFill>
        <p:spPr>
          <a:xfrm>
            <a:off x="2500200" y="1071720"/>
            <a:ext cx="164304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5" name="Picture 18" descr="C:\Users\pc\Desktop\рис осн\1318167605_bronch2.jpg"/>
          <p:cNvPicPr/>
          <p:nvPr/>
        </p:nvPicPr>
        <p:blipFill>
          <a:blip r:embed="rId3"/>
          <a:stretch/>
        </p:blipFill>
        <p:spPr>
          <a:xfrm>
            <a:off x="142920" y="1071720"/>
            <a:ext cx="200016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6" name="Picture 19" descr="C:\Users\pc\Desktop\рис осн\12358.jpg"/>
          <p:cNvPicPr/>
          <p:nvPr/>
        </p:nvPicPr>
        <p:blipFill>
          <a:blip r:embed="rId4"/>
          <a:stretch/>
        </p:blipFill>
        <p:spPr>
          <a:xfrm>
            <a:off x="142920" y="3286080"/>
            <a:ext cx="2071800" cy="235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3516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еносная система – большой круг кровообращ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большой круг1.wmv" descr=""/>
          <p:cNvPicPr/>
          <p:nvPr/>
        </p:nvPicPr>
        <p:blipFill>
          <a:blip r:embed="rId1"/>
          <a:stretch/>
        </p:blipFill>
        <p:spPr>
          <a:xfrm>
            <a:off x="785880" y="1000080"/>
            <a:ext cx="7500960" cy="421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7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каротидного сину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920" y="785520"/>
            <a:ext cx="5572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н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итель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 происходит резк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жение ЧСС и/или выражен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АД.  Синдром каротид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а наблюдается чаще 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е 60 л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теросклероз, артериальна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я, лимфоаденопатия 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м лимфоузл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зон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холи головы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 провока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ритье, же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тничок, поворот головы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тверждения диагноза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ся проба с массаже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C:\Users\pc\Desktop\рис осн\image11481957_a740e0887a84a257994470717d4e7c01.jpg"/>
          <p:cNvPicPr/>
          <p:nvPr/>
        </p:nvPicPr>
        <p:blipFill>
          <a:blip r:embed="rId1"/>
          <a:stretch/>
        </p:blipFill>
        <p:spPr>
          <a:xfrm>
            <a:off x="2214720" y="4357800"/>
            <a:ext cx="1719000" cy="171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17" descr="C:\Users\pc\Desktop\рис осн\ff4aecb9c8d64ab6fa28962b62f12972.jpg"/>
          <p:cNvPicPr/>
          <p:nvPr/>
        </p:nvPicPr>
        <p:blipFill>
          <a:blip r:embed="rId2"/>
          <a:stretch/>
        </p:blipFill>
        <p:spPr>
          <a:xfrm>
            <a:off x="285840" y="4357800"/>
            <a:ext cx="1571400" cy="1643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C:\Users\pc\Desktop\рис осн\sinus_caroticus.jpg"/>
          <p:cNvPicPr/>
          <p:nvPr/>
        </p:nvPicPr>
        <p:blipFill>
          <a:blip r:embed="rId3"/>
          <a:stretch/>
        </p:blipFill>
        <p:spPr>
          <a:xfrm>
            <a:off x="428760" y="1000080"/>
            <a:ext cx="3214440" cy="30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 каротидного сину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14480" y="981000"/>
            <a:ext cx="5429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ам следует рекоменд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язывать туго галст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ь крахмальны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тничк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ться поворачиваться в сторону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 телом, чтобы не сдавливать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окаротидный узе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 внезапной смерти при  синдром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отидного синуса достоверно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ся от риска в популя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ация электрокардиостимулятор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лияет на продолжительность жизн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улучшает ее качест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C:\Users\pc\Desktop\рис осн\0aaawear_19.jpg"/>
          <p:cNvPicPr/>
          <p:nvPr/>
        </p:nvPicPr>
        <p:blipFill>
          <a:blip r:embed="rId1"/>
          <a:stretch/>
        </p:blipFill>
        <p:spPr>
          <a:xfrm>
            <a:off x="2286000" y="857160"/>
            <a:ext cx="14288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17" descr="C:\Users\pc\Desktop\рис осн\3253985.jpg"/>
          <p:cNvPicPr/>
          <p:nvPr/>
        </p:nvPicPr>
        <p:blipFill>
          <a:blip r:embed="rId2"/>
          <a:stretch/>
        </p:blipFill>
        <p:spPr>
          <a:xfrm>
            <a:off x="285840" y="857160"/>
            <a:ext cx="17650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6" name="Прямая соединительная линия 18"/>
          <p:cNvSpPr/>
          <p:nvPr/>
        </p:nvSpPr>
        <p:spPr>
          <a:xfrm>
            <a:off x="2285280" y="857160"/>
            <a:ext cx="1428840" cy="200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7"/>
          <p:cNvSpPr/>
          <p:nvPr/>
        </p:nvSpPr>
        <p:spPr>
          <a:xfrm flipH="1">
            <a:off x="2285640" y="857160"/>
            <a:ext cx="1428840" cy="200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C:\Users\pc\Desktop\рис осн\42-460x308.jpg"/>
          <p:cNvPicPr/>
          <p:nvPr/>
        </p:nvPicPr>
        <p:blipFill>
          <a:blip r:embed="rId3"/>
          <a:stretch/>
        </p:blipFill>
        <p:spPr>
          <a:xfrm>
            <a:off x="642960" y="3214800"/>
            <a:ext cx="3143160" cy="28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9" name="Прямая соединительная линия 34"/>
          <p:cNvSpPr/>
          <p:nvPr/>
        </p:nvSpPr>
        <p:spPr>
          <a:xfrm>
            <a:off x="571680" y="3143160"/>
            <a:ext cx="3214440" cy="300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8"/>
          <p:cNvSpPr/>
          <p:nvPr/>
        </p:nvSpPr>
        <p:spPr>
          <a:xfrm flipV="1">
            <a:off x="642960" y="3214440"/>
            <a:ext cx="3071880" cy="2786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4480" y="713880"/>
            <a:ext cx="5429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ят в определенных стереотипны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х- во время кашля , дефекац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испускания, подъема тяжестей.         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ет значени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ение периферических рецепторо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нутригрудного давления, сопровождающееся     уменьшением венозного возврата к сердц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13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ение венозного оттока из сосудов мозга во время натужи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лечение основ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.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в плане излеч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й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C:\Users\pc\Desktop\Рис\приступ удушья.jpg"/>
          <p:cNvPicPr/>
          <p:nvPr/>
        </p:nvPicPr>
        <p:blipFill>
          <a:blip r:embed="rId1"/>
          <a:stretch/>
        </p:blipFill>
        <p:spPr>
          <a:xfrm>
            <a:off x="285840" y="857160"/>
            <a:ext cx="171432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4" name="Picture 17" descr="C:\Users\pc\Desktop\рис осн\34507_NpAdvHover.jpg"/>
          <p:cNvPicPr/>
          <p:nvPr/>
        </p:nvPicPr>
        <p:blipFill>
          <a:blip r:embed="rId2"/>
          <a:stretch/>
        </p:blipFill>
        <p:spPr>
          <a:xfrm>
            <a:off x="2214720" y="928800"/>
            <a:ext cx="1500120" cy="17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Picture 18" descr="C:\Users\pc\Desktop\рис осн\gruz.jpg"/>
          <p:cNvPicPr/>
          <p:nvPr/>
        </p:nvPicPr>
        <p:blipFill>
          <a:blip r:embed="rId3"/>
          <a:stretch/>
        </p:blipFill>
        <p:spPr>
          <a:xfrm>
            <a:off x="285840" y="3143160"/>
            <a:ext cx="3357360" cy="278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750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тостатическая гипотенз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при быстром переходе пациен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ризонтального положения в вертикальное. Наблю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ое снижение АД  в вертикальном положении, особенно 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ставания.  В норме при этом 500-800 мл крови депонируется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ах нижних конечностей, органах брюшной полости и малого таз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щитные механизмы, препятствующие падению АД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я вегетативной нервной системы, что приводит к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ции и увеличению числа  сердечных сокращени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ыброса ренина, что приводит к задержке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и сохранение большого количества крови в венозно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е  за счет клапанов вен нижних конечносте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мышц голе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52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асывающее действие грудной клет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ическая гипотенз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14480" y="785520"/>
            <a:ext cx="5429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ть с приподнятым изголовьем, дн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в кресл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ть медленно – сесть, посидеть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вст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неподвижного стояни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«переминание»  с ноги на ног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частое дробное питание 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м кофе – кофе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т вазодилатацию в орган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К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6" descr="C:\Users\pc\Desktop\рис осн\0d17eddbb6ebdb69f3254521014deb7b.jpg"/>
          <p:cNvPicPr/>
          <p:nvPr/>
        </p:nvPicPr>
        <p:blipFill>
          <a:blip r:embed="rId1"/>
          <a:stretch/>
        </p:blipFill>
        <p:spPr>
          <a:xfrm>
            <a:off x="214200" y="1143000"/>
            <a:ext cx="3214800" cy="10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1" name="Picture 17" descr="C:\Users\pc\Desktop\рис осн\i (7).jpg"/>
          <p:cNvPicPr/>
          <p:nvPr/>
        </p:nvPicPr>
        <p:blipFill>
          <a:blip r:embed="rId2"/>
          <a:stretch/>
        </p:blipFill>
        <p:spPr>
          <a:xfrm>
            <a:off x="214200" y="2428920"/>
            <a:ext cx="3214800" cy="13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2" name="Picture 18" descr="C:\Users\pc\Desktop\рис осн\vysokie-kabluki-sekrety-i-tonkosti-1.jpg"/>
          <p:cNvPicPr/>
          <p:nvPr/>
        </p:nvPicPr>
        <p:blipFill>
          <a:blip r:embed="rId3"/>
          <a:stretch/>
        </p:blipFill>
        <p:spPr>
          <a:xfrm>
            <a:off x="357120" y="4071960"/>
            <a:ext cx="27147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адренэргическая ортостатической гипотенз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14480" y="785520"/>
            <a:ext cx="5429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мендуетс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ь потребление соли и жидк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ь чулки, уменьшающих венозное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ить ковры в ванной комнате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доре, соединяющем ванную комнат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пальной – наиболее частое место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я вследствие обморока сред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лых люд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C:\Users\pc\Desktop\рис осн\T2pi5eXiVXXXXXXXXX_!!91781173.jpg"/>
          <p:cNvPicPr/>
          <p:nvPr/>
        </p:nvPicPr>
        <p:blipFill>
          <a:blip r:embed="rId1"/>
          <a:stretch/>
        </p:blipFill>
        <p:spPr>
          <a:xfrm>
            <a:off x="571680" y="1357200"/>
            <a:ext cx="238896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6" name="Picture 17" descr="C:\Users\pc\Desktop\рис осн\4099virginia_kovrik_dlya_vannoy.jpg"/>
          <p:cNvPicPr/>
          <p:nvPr/>
        </p:nvPicPr>
        <p:blipFill>
          <a:blip r:embed="rId2"/>
          <a:stretch/>
        </p:blipFill>
        <p:spPr>
          <a:xfrm>
            <a:off x="500040" y="3714840"/>
            <a:ext cx="2428920" cy="154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57720" y="713880"/>
            <a:ext cx="557208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мозговых, сонных, позвоночных, подключичных артерий -стеноз, сдавление, синдром «обкрадывания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редвестников или в пределах нескольких минут головокружение, боль в затылочной области, дискомфор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ая продолжительность обморо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кожи, ЧСС и АД, как правило, не измене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ые боли, боли в шеи , преходящие парезы, кратковременные расстройства речи, зрения в послеобморочном состоя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C:\Users\pc\Desktop\рис осн\Рисунок21.jpg"/>
          <p:cNvPicPr/>
          <p:nvPr/>
        </p:nvPicPr>
        <p:blipFill>
          <a:blip r:embed="rId1"/>
          <a:stretch/>
        </p:blipFill>
        <p:spPr>
          <a:xfrm>
            <a:off x="357120" y="4500720"/>
            <a:ext cx="2928960" cy="164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0" name="Picture 17" descr="C:\Users\pc\Desktop\рис осн\ateroskleroz.jpg"/>
          <p:cNvPicPr/>
          <p:nvPr/>
        </p:nvPicPr>
        <p:blipFill>
          <a:blip r:embed="rId2"/>
          <a:stretch/>
        </p:blipFill>
        <p:spPr>
          <a:xfrm>
            <a:off x="285840" y="928800"/>
            <a:ext cx="292896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1" name="Picture 18" descr="C:\Users\pc\Desktop\рис осн\Depositphotos_2012696_s.jpg"/>
          <p:cNvPicPr/>
          <p:nvPr/>
        </p:nvPicPr>
        <p:blipFill>
          <a:blip r:embed="rId3"/>
          <a:stretch/>
        </p:blipFill>
        <p:spPr>
          <a:xfrm>
            <a:off x="357120" y="2714760"/>
            <a:ext cx="2857680" cy="1571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оваскулярные обмор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00280" y="713880"/>
            <a:ext cx="521496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давлении  вертебральных артер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дром Сикстинской капеллы»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орок при резком  запрокидывани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ы, головокружение,  или только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 – дроп-ата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тенозировании подключи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тие обморока пр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ной работе рукой, существенн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в наполнении пульса и АД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х, при  аускультации шум на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чной артери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7" descr="C:\Users\pc\Desktop\рис осн\5498848494898.jpg"/>
          <p:cNvPicPr/>
          <p:nvPr/>
        </p:nvPicPr>
        <p:blipFill>
          <a:blip r:embed="rId1"/>
          <a:stretch/>
        </p:blipFill>
        <p:spPr>
          <a:xfrm>
            <a:off x="428760" y="857160"/>
            <a:ext cx="2857320" cy="20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5" name="Picture 18" descr="C:\Users\pc\Desktop\рис осн\445abc34-a4e4-4132-81cf-39e353ff6c31_150_100 (1).jpg"/>
          <p:cNvPicPr/>
          <p:nvPr/>
        </p:nvPicPr>
        <p:blipFill>
          <a:blip r:embed="rId2"/>
          <a:srcRect l="0" t="0" r="0" b="6240"/>
          <a:stretch/>
        </p:blipFill>
        <p:spPr>
          <a:xfrm>
            <a:off x="357120" y="3286080"/>
            <a:ext cx="292896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синко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50800" y="980640"/>
            <a:ext cx="5892840" cy="51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6000"/>
          </a:bodyPr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ризонтального положения пациента с приподнятыми нижними конечностя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от стесняющей одежд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итока свежего воздух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12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рефлекторных воздейств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ыхание пар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тырного спир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мочек уха, раздражение точки жень-чж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жень-чжу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ной лин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й тре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тикаль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губ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зды; воздействие выполняют любы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стренным предмет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пка, ного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C:\Users\pc\Desktop\Рис\гоплва при обмороке.jpg"/>
          <p:cNvPicPr/>
          <p:nvPr/>
        </p:nvPicPr>
        <p:blipFill>
          <a:blip r:embed="rId1"/>
          <a:stretch/>
        </p:blipFill>
        <p:spPr>
          <a:xfrm>
            <a:off x="214200" y="857160"/>
            <a:ext cx="2786040" cy="2500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9" name="Picture 2" descr="C:\Users\pc\Pictures\Рисунок1.png"/>
          <p:cNvPicPr/>
          <p:nvPr/>
        </p:nvPicPr>
        <p:blipFill>
          <a:blip r:embed="rId2"/>
          <a:stretch/>
        </p:blipFill>
        <p:spPr>
          <a:xfrm>
            <a:off x="324000" y="3573360"/>
            <a:ext cx="2643120" cy="271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синко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50800" y="642960"/>
            <a:ext cx="5892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11280" indent="-22248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ипогликемическом синкопе в/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20 м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 % раствора глюкоз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брадикарди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де с редк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ов введение в/в, в/м, п/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-1 мл 0,1 % раствора атропина сульфа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казания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структивные,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ческие, рефлекторные обморо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13644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тсутствии показаний для срочной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тавл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охнуть лежа 1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лановая  госпитализ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ия природы обморо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Users\pc\Desktop\Рис\глюкоза.png"/>
          <p:cNvPicPr/>
          <p:nvPr/>
        </p:nvPicPr>
        <p:blipFill>
          <a:blip r:embed="rId1"/>
          <a:stretch/>
        </p:blipFill>
        <p:spPr>
          <a:xfrm>
            <a:off x="324000" y="907920"/>
            <a:ext cx="271440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Picture 16" descr="C:\Users\pc\Desktop\Рис\ЧПЭС.jpg"/>
          <p:cNvPicPr/>
          <p:nvPr/>
        </p:nvPicPr>
        <p:blipFill>
          <a:blip r:embed="rId2"/>
          <a:stretch/>
        </p:blipFill>
        <p:spPr>
          <a:xfrm>
            <a:off x="324000" y="3860640"/>
            <a:ext cx="30715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98100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осудистая недостаточность  – патологическое состоян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ееся изменением адекватного соотношения межд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костью сосудистого русла и объемом циркулирующей кров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1" descr=""/>
          <p:cNvPicPr/>
          <p:nvPr/>
        </p:nvPicPr>
        <p:blipFill>
          <a:blip r:embed="rId1"/>
          <a:srcRect l="0" t="0" r="0" b="3268"/>
          <a:stretch/>
        </p:blipFill>
        <p:spPr>
          <a:xfrm>
            <a:off x="928800" y="2786040"/>
            <a:ext cx="6786360" cy="2928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ап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14800" y="981000"/>
            <a:ext cx="592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ап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тро развивающееся нарушени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я, характеризующееся резки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ем сосудистого тонуса, уменьшени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ы циркулирующей крови, гипокси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го мозг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и, интоксикаци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я надпочечниковая недостато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карди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 миокард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сированные  пороки серд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6" descr="C:\Users\pc\Desktop\Рис\тампонада сердца.jpg"/>
          <p:cNvPicPr/>
          <p:nvPr/>
        </p:nvPicPr>
        <p:blipFill>
          <a:blip r:embed="rId1"/>
          <a:stretch/>
        </p:blipFill>
        <p:spPr>
          <a:xfrm>
            <a:off x="214200" y="1000080"/>
            <a:ext cx="2857680" cy="278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17" descr="C:\Users\pc\Desktop\Рис\стеноз аорты.jpg"/>
          <p:cNvPicPr/>
          <p:nvPr/>
        </p:nvPicPr>
        <p:blipFill>
          <a:blip r:embed="rId2"/>
          <a:stretch/>
        </p:blipFill>
        <p:spPr>
          <a:xfrm>
            <a:off x="214200" y="4000680"/>
            <a:ext cx="2881440" cy="223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коллап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500040"/>
            <a:ext cx="860580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ациенту горизонтального полож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мости верхних дыхательных пут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стесняющих деталей одежды, ревизия ротовой пол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ведение воздуховод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ение причины коллапс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ка кровотечения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исталлоидных раство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соль, Рингер-ацета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оидны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фортан, гелофузин, инфуко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ес-стерил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C:\Users\pc\Desktop\Рис\растворы для патогенитической терапии.jpg"/>
          <p:cNvPicPr/>
          <p:nvPr/>
        </p:nvPicPr>
        <p:blipFill>
          <a:blip r:embed="rId1"/>
          <a:stretch/>
        </p:blipFill>
        <p:spPr>
          <a:xfrm>
            <a:off x="3143160" y="3857760"/>
            <a:ext cx="5786640" cy="221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ая и неотложная помощь при коллап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и гипотензии введением в/м 1 мл 1% раство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эфри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0,5 мл 0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раство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нефри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/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для стимуляции производительности сердца глюкокортикостероид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кортизон, преднизол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аточно высоких доз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г/кг массы тела. Они повышают восприимчивость к эндогенным и экзогенным катехоламина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ация в специализированный стационар в зависимости от профиля заболева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C:\Users\pc\Desktop\Рис\prednizolonzvy.jpg"/>
          <p:cNvPicPr/>
          <p:nvPr/>
        </p:nvPicPr>
        <p:blipFill>
          <a:blip r:embed="rId1"/>
          <a:stretch/>
        </p:blipFill>
        <p:spPr>
          <a:xfrm>
            <a:off x="357120" y="3714840"/>
            <a:ext cx="27147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17" descr="C:\Users\pc\Desktop\Рис\мезатон.jpg"/>
          <p:cNvPicPr/>
          <p:nvPr/>
        </p:nvPicPr>
        <p:blipFill>
          <a:blip r:embed="rId2"/>
          <a:stretch/>
        </p:blipFill>
        <p:spPr>
          <a:xfrm>
            <a:off x="357120" y="1143000"/>
            <a:ext cx="2643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C:\Users\pc\Desktop\рис осн\i (8).jpg"/>
          <p:cNvPicPr/>
          <p:nvPr/>
        </p:nvPicPr>
        <p:blipFill>
          <a:blip r:embed="rId1"/>
          <a:stretch/>
        </p:blipFill>
        <p:spPr>
          <a:xfrm>
            <a:off x="2714760" y="2000160"/>
            <a:ext cx="4000320" cy="314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8" descr="C:\Users\pc\Desktop\Рисунок13.png"/>
          <p:cNvPicPr/>
          <p:nvPr/>
        </p:nvPicPr>
        <p:blipFill>
          <a:blip r:embed="rId1"/>
          <a:stretch/>
        </p:blipFill>
        <p:spPr>
          <a:xfrm>
            <a:off x="3894120" y="928800"/>
            <a:ext cx="4964040" cy="5143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C:\Users\pc\Desktop\Рисунок19.png"/>
          <p:cNvPicPr/>
          <p:nvPr/>
        </p:nvPicPr>
        <p:blipFill>
          <a:blip r:embed="rId2"/>
          <a:stretch/>
        </p:blipFill>
        <p:spPr>
          <a:xfrm>
            <a:off x="285840" y="3429000"/>
            <a:ext cx="35719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1" name="Выноска-облако 18"/>
          <p:cNvSpPr/>
          <p:nvPr/>
        </p:nvSpPr>
        <p:spPr>
          <a:xfrm>
            <a:off x="214200" y="714240"/>
            <a:ext cx="5072040" cy="2571840"/>
          </a:xfrm>
          <a:prstGeom prst="cloudCallout">
            <a:avLst>
              <a:gd name="adj1" fmla="val 64500"/>
              <a:gd name="adj2" fmla="val 317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Сердцу отводится значительная роль в организме и нарушения в его  работе приводят к тяжелым последств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8" descr="C:\Users\pc\Desktop\Рисунок19.png"/>
          <p:cNvPicPr/>
          <p:nvPr/>
        </p:nvPicPr>
        <p:blipFill>
          <a:blip r:embed="rId3"/>
          <a:stretch/>
        </p:blipFill>
        <p:spPr>
          <a:xfrm>
            <a:off x="285840" y="3429000"/>
            <a:ext cx="35719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дечная недостаточность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является исходом многих патологических процессов  в сердце. Это  на поздних стадиях фатальное состояние даже не является самостоятельным заболеванием, выполняя роль трагического финала других хронических недугов сердца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7"/>
          <p:cNvSpPr/>
          <p:nvPr/>
        </p:nvSpPr>
        <p:spPr>
          <a:xfrm>
            <a:off x="0" y="64296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сердечная недостаточность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еский синд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йся быстрым возникновением симптомов, характерны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рушенной систолической и/или диастолической    функции    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7" descr="medical_12.gif"/>
          <p:cNvPicPr/>
          <p:nvPr/>
        </p:nvPicPr>
        <p:blipFill>
          <a:blip r:embed="rId1"/>
          <a:stretch/>
        </p:blipFill>
        <p:spPr>
          <a:xfrm>
            <a:off x="3143160" y="1785960"/>
            <a:ext cx="1716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сердечн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изу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м сердечного выброс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й перфузией ткан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м давления в капиллярах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ем в тканя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7" descr="C:\Users\pc\Desktop\Рисунок12.jpg"/>
          <p:cNvPicPr/>
          <p:nvPr/>
        </p:nvPicPr>
        <p:blipFill>
          <a:blip r:embed="rId1"/>
          <a:stretch/>
        </p:blipFill>
        <p:spPr>
          <a:xfrm>
            <a:off x="3214800" y="3429000"/>
            <a:ext cx="3214440" cy="264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0" name="Рисунок 17" descr="medical_12.gif"/>
          <p:cNvPicPr/>
          <p:nvPr/>
        </p:nvPicPr>
        <p:blipFill>
          <a:blip r:embed="rId2"/>
          <a:stretch/>
        </p:blipFill>
        <p:spPr>
          <a:xfrm>
            <a:off x="6500880" y="1143000"/>
            <a:ext cx="1716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строй сердечн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857160"/>
            <a:ext cx="892980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сация ХСН                                      Острый коронарный синдр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вный криз                               Острые нарушения ритма серд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pc\Desktop\рис осн\i.jpg"/>
          <p:cNvPicPr/>
          <p:nvPr/>
        </p:nvPicPr>
        <p:blipFill>
          <a:blip r:embed="rId1"/>
          <a:stretch/>
        </p:blipFill>
        <p:spPr>
          <a:xfrm>
            <a:off x="285840" y="3571920"/>
            <a:ext cx="250020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4" name="Picture 3" descr="C:\Users\pc\Desktop\рис осн\Рисунок23.jpg"/>
          <p:cNvPicPr/>
          <p:nvPr/>
        </p:nvPicPr>
        <p:blipFill>
          <a:blip r:embed="rId2"/>
          <a:stretch/>
        </p:blipFill>
        <p:spPr>
          <a:xfrm>
            <a:off x="4786200" y="785880"/>
            <a:ext cx="385776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5" name="Picture 4" descr="C:\Users\pc\Desktop\рис осн\Рисунок25.png"/>
          <p:cNvPicPr/>
          <p:nvPr/>
        </p:nvPicPr>
        <p:blipFill>
          <a:blip r:embed="rId3"/>
          <a:stretch/>
        </p:blipFill>
        <p:spPr>
          <a:xfrm>
            <a:off x="357120" y="785880"/>
            <a:ext cx="2428920" cy="20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6" name="Picture 5" descr="C:\Users\pc\Desktop\рис осн\molochko-pri-apitmii.jpg"/>
          <p:cNvPicPr/>
          <p:nvPr/>
        </p:nvPicPr>
        <p:blipFill>
          <a:blip r:embed="rId4"/>
          <a:stretch/>
        </p:blipFill>
        <p:spPr>
          <a:xfrm>
            <a:off x="4857840" y="3571920"/>
            <a:ext cx="357192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строй сердечной 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85680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ки сердца                                                  Миокарди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миопатия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ыхода из шо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6" descr="C:\Users\pc\Desktop\Рисунок24.jpg"/>
          <p:cNvPicPr/>
          <p:nvPr/>
        </p:nvPicPr>
        <p:blipFill>
          <a:blip r:embed="rId1"/>
          <a:stretch/>
        </p:blipFill>
        <p:spPr>
          <a:xfrm>
            <a:off x="357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C:\Users\pc\Desktop\Рис\кардиомиопатия.jpg"/>
          <p:cNvPicPr/>
          <p:nvPr/>
        </p:nvPicPr>
        <p:blipFill>
          <a:blip r:embed="rId2"/>
          <a:stretch/>
        </p:blipFill>
        <p:spPr>
          <a:xfrm>
            <a:off x="428760" y="3643200"/>
            <a:ext cx="278604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1" name="Picture 18" descr="C:\Users\pc\Desktop\Рис\миокардит.gif"/>
          <p:cNvPicPr/>
          <p:nvPr/>
        </p:nvPicPr>
        <p:blipFill>
          <a:blip r:embed="rId3"/>
          <a:stretch/>
        </p:blipFill>
        <p:spPr>
          <a:xfrm>
            <a:off x="5214960" y="785880"/>
            <a:ext cx="2571840" cy="221436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242" name="Picture 19" descr="C:\Users\pc\Desktop\Рисунок9.png"/>
          <p:cNvPicPr/>
          <p:nvPr/>
        </p:nvPicPr>
        <p:blipFill>
          <a:blip r:embed="rId4"/>
          <a:stretch/>
        </p:blipFill>
        <p:spPr>
          <a:xfrm>
            <a:off x="5286240" y="3643200"/>
            <a:ext cx="25005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22680" y="5372280"/>
            <a:ext cx="3193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522680" y="4648320"/>
            <a:ext cx="5479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522680" y="3924360"/>
            <a:ext cx="141300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522680" y="3200400"/>
            <a:ext cx="163188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22680" y="2476440"/>
            <a:ext cx="1832040" cy="28584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1714680"/>
            <a:ext cx="3663720" cy="285480"/>
          </a:xfrm>
          <a:prstGeom prst="rect">
            <a:avLst/>
          </a:prstGeom>
          <a:gradFill rotWithShape="0">
            <a:gsLst>
              <a:gs pos="0">
                <a:srgbClr val="f0fb17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V="1">
            <a:off x="4522680" y="58766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22680" y="1533600"/>
            <a:ext cx="180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462560" y="587700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462560" y="515304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462560" y="442908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462560" y="370512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4462560" y="2981160"/>
            <a:ext cx="60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4462560" y="225756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4462560" y="1533600"/>
            <a:ext cx="6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4900680" y="54007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5129280" y="46767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5996160" y="39528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6215040" y="32288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2"/>
          <p:cNvSpPr/>
          <p:nvPr/>
        </p:nvSpPr>
        <p:spPr>
          <a:xfrm>
            <a:off x="6413400" y="25052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142920" y="5429160"/>
            <a:ext cx="445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желудочковая недоста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5"/>
          <p:cNvSpPr/>
          <p:nvPr/>
        </p:nvSpPr>
        <p:spPr>
          <a:xfrm>
            <a:off x="357120" y="4714920"/>
            <a:ext cx="437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рофическая кардиомиоп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1857240" y="3929040"/>
            <a:ext cx="257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нзивный кр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1467720" y="3238560"/>
            <a:ext cx="3068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ные пороки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8"/>
          <p:cNvSpPr/>
          <p:nvPr/>
        </p:nvSpPr>
        <p:spPr>
          <a:xfrm>
            <a:off x="714240" y="2500200"/>
            <a:ext cx="406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онная кардиомиоп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9"/>
          <p:cNvSpPr/>
          <p:nvPr/>
        </p:nvSpPr>
        <p:spPr>
          <a:xfrm>
            <a:off x="3811320" y="1790640"/>
            <a:ext cx="55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9"/>
          <p:cNvSpPr/>
          <p:nvPr/>
        </p:nvSpPr>
        <p:spPr>
          <a:xfrm>
            <a:off x="8218800" y="1714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миология острой сердечной недоста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гене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ой сосудист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7840" y="928800"/>
            <a:ext cx="4286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едостаточности лежи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венозного прито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ердц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е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торное изменение тонуса сосуд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3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сократитель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и миокарда пр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 возникающей остр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удистой недостаточ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Рисунок7"/>
          <p:cNvPicPr/>
          <p:nvPr/>
        </p:nvPicPr>
        <p:blipFill>
          <a:blip r:embed="rId1"/>
          <a:stretch/>
        </p:blipFill>
        <p:spPr>
          <a:xfrm>
            <a:off x="357120" y="3643200"/>
            <a:ext cx="4214880" cy="1928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9"/>
          <p:cNvSpPr/>
          <p:nvPr/>
        </p:nvSpPr>
        <p:spPr>
          <a:xfrm>
            <a:off x="571680" y="571500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лляция желудоч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C:\Users\pc\Desktop\Рис\артериальное кровотеч1.png"/>
          <p:cNvPicPr/>
          <p:nvPr/>
        </p:nvPicPr>
        <p:blipFill>
          <a:blip r:embed="rId2"/>
          <a:stretch/>
        </p:blipFill>
        <p:spPr>
          <a:xfrm>
            <a:off x="357120" y="1428840"/>
            <a:ext cx="4000680" cy="20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 острой сердечн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142800" y="78552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левожелудочковая недостаточность или сердечная астма, отек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правожелудочковая недостаточн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трая левожелудочковая недостаточнос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большим достоинством лев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а является «шикарный миокард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и оказывается  мишенью большин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ей. Неспособность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лабленн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окарда левого желудочка перекачи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овь  в аорту приводит к застою ее «пере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ставшим»  мест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7" descr="C:\Users\pc\Desktop\Рисунок22.jpg"/>
          <p:cNvPicPr/>
          <p:nvPr/>
        </p:nvPicPr>
        <p:blipFill>
          <a:blip r:embed="rId1"/>
          <a:stretch/>
        </p:blipFill>
        <p:spPr>
          <a:xfrm>
            <a:off x="0" y="1428840"/>
            <a:ext cx="3143160" cy="38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левожелудочков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9920" y="642960"/>
            <a:ext cx="5643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при этом задерживается в нем самом, та же проблема возникает у левого предсердия, наконец, из легочных вен  кровь уже не может  так свободно  перетекать в нагруженное и без того  предсердие и ее застой «перекидывается» на малый круг. Застой крови ведет к повышению давления в легких; когда это давление превышает легочное  капиллярное онкотическое давление, происходит утечка жидкости в легочное интерстициальное пространство, что ведет к развитию отека легки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м задерживается в нем самом, та ж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малый круг.wmv" descr=""/>
          <p:cNvPicPr/>
          <p:nvPr/>
        </p:nvPicPr>
        <p:blipFill>
          <a:blip r:embed="rId1"/>
          <a:stretch/>
        </p:blipFill>
        <p:spPr>
          <a:xfrm>
            <a:off x="0" y="2286000"/>
            <a:ext cx="3936960" cy="22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099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 сердечной аст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иступ удушья обычно ночью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факторы - физическое или нервно-психическое напряжен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ехватки воздух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смер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садный каш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ое полож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дя из-за сильной одышк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би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ктив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дальческое выражение ли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ртопное со спущенными ног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 серовато-бледная, покрытая капельками пота, акроцианоз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6" descr="C:\Users\pc\Desktop\Рисунок25.png"/>
          <p:cNvPicPr/>
          <p:nvPr/>
        </p:nvPicPr>
        <p:blipFill>
          <a:blip r:embed="rId1"/>
          <a:stretch/>
        </p:blipFill>
        <p:spPr>
          <a:xfrm>
            <a:off x="357120" y="4500720"/>
            <a:ext cx="2524320" cy="2071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7" descr="C:\Users\pc\Desktop\Загрузки\cough.jpg"/>
          <p:cNvPicPr/>
          <p:nvPr/>
        </p:nvPicPr>
        <p:blipFill>
          <a:blip r:embed="rId2"/>
          <a:stretch/>
        </p:blipFill>
        <p:spPr>
          <a:xfrm>
            <a:off x="428760" y="714240"/>
            <a:ext cx="2388960" cy="20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1" name="Picture 18" descr="C:\Users\pc\Desktop\Загрузки\image016.gif"/>
          <p:cNvPicPr/>
          <p:nvPr/>
        </p:nvPicPr>
        <p:blipFill>
          <a:blip r:embed="rId3"/>
          <a:stretch/>
        </p:blipFill>
        <p:spPr>
          <a:xfrm>
            <a:off x="357120" y="2928960"/>
            <a:ext cx="2500560" cy="133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  сердечной астм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ная одыш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ние до 30-40 в минуту, жесткое, рассеянные сухие и влажные хрипы в задненижних отделах легких, возможно притупление перкуторного зву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 частый, слабого наполнения, часто аритмичны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границы сердца чаще вле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ы сердца глухие, нередко «ритм галопа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 вначале нормальное, затем по мере прогрессирования сердечной астмы его  сниж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C:\Users\pc\Desktop\Загрузки\11.jpg"/>
          <p:cNvPicPr/>
          <p:nvPr/>
        </p:nvPicPr>
        <p:blipFill>
          <a:blip r:embed="rId1"/>
          <a:stretch/>
        </p:blipFill>
        <p:spPr>
          <a:xfrm>
            <a:off x="357120" y="928800"/>
            <a:ext cx="285768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5" name="Picture 18" descr="C:\Users\pc\Desktop\Рис\аритмия.jpg"/>
          <p:cNvPicPr/>
          <p:nvPr/>
        </p:nvPicPr>
        <p:blipFill>
          <a:blip r:embed="rId2"/>
          <a:stretch/>
        </p:blipFill>
        <p:spPr>
          <a:xfrm>
            <a:off x="285840" y="2786040"/>
            <a:ext cx="300024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6" name="Picture 18" descr="C:\Users\pc\Desktop\Загрузки\i (2).jpg"/>
          <p:cNvPicPr/>
          <p:nvPr/>
        </p:nvPicPr>
        <p:blipFill>
          <a:blip r:embed="rId3"/>
          <a:stretch/>
        </p:blipFill>
        <p:spPr>
          <a:xfrm>
            <a:off x="357120" y="4572000"/>
            <a:ext cx="2928960" cy="157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а легк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ек легк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яжелый респираторный дистрес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лажными хрипами в легких, ортопное и, ка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, насыщением артериальной кров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ом &lt;90% при дыхании комнат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ом до начала леч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ая карти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возбуждены, чувство страха смер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узное потоотдел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вато- бледная краска кожных покров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пенистой розовой мокро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кочущее дыхание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кард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7" descr="C:\Users\pc\Desktop\Загрузки\51bfdf93-9cdc-2929-9cdc-29262953329c.photo.0.jpg"/>
          <p:cNvPicPr/>
          <p:nvPr/>
        </p:nvPicPr>
        <p:blipFill>
          <a:blip r:embed="rId1"/>
          <a:stretch/>
        </p:blipFill>
        <p:spPr>
          <a:xfrm>
            <a:off x="142920" y="2928960"/>
            <a:ext cx="292896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0" name="Picture 18" descr="C:\Users\pc\Desktop\Загрузки\image010.jpg"/>
          <p:cNvPicPr/>
          <p:nvPr/>
        </p:nvPicPr>
        <p:blipFill>
          <a:blip r:embed="rId2"/>
          <a:stretch/>
        </p:blipFill>
        <p:spPr>
          <a:xfrm>
            <a:off x="142920" y="857160"/>
            <a:ext cx="292896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1" name="Picture 19" descr="C:\Users\pc\Desktop\Загрузки\c90f75e6a0115364ef1a5844caf20131_w500_h500.jpg"/>
          <p:cNvPicPr/>
          <p:nvPr/>
        </p:nvPicPr>
        <p:blipFill>
          <a:blip r:embed="rId3"/>
          <a:stretch/>
        </p:blipFill>
        <p:spPr>
          <a:xfrm>
            <a:off x="142920" y="4572000"/>
            <a:ext cx="307188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сердечной недостаточности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очередное мероприятие медсестры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рить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изком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ое положени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/м 150 мг преднизолона дл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ции производительности сердц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 для примен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ых методов леч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C:\Users\pc\Desktop\Загрузки\высокое-давление.jpg"/>
          <p:cNvPicPr/>
          <p:nvPr/>
        </p:nvPicPr>
        <p:blipFill>
          <a:blip r:embed="rId1"/>
          <a:stretch/>
        </p:blipFill>
        <p:spPr>
          <a:xfrm>
            <a:off x="142920" y="785880"/>
            <a:ext cx="2857320" cy="12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5" name="Picture 17" descr="C:\Users\pc\Desktop\Загрузки\dscn0089(1).jpg"/>
          <p:cNvPicPr/>
          <p:nvPr/>
        </p:nvPicPr>
        <p:blipFill>
          <a:blip r:embed="rId2"/>
          <a:stretch/>
        </p:blipFill>
        <p:spPr>
          <a:xfrm>
            <a:off x="5072040" y="4572000"/>
            <a:ext cx="264312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6" name="Picture 18" descr="C:\Users\pc\Desktop\Загрузки\90641.jpg"/>
          <p:cNvPicPr/>
          <p:nvPr/>
        </p:nvPicPr>
        <p:blipFill>
          <a:blip r:embed="rId3"/>
          <a:stretch/>
        </p:blipFill>
        <p:spPr>
          <a:xfrm>
            <a:off x="428760" y="2357280"/>
            <a:ext cx="2531880" cy="203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97" name="Picture 19" descr="C:\Users\pc\Desktop\Загрузки\104992.jpg"/>
          <p:cNvPicPr/>
          <p:nvPr/>
        </p:nvPicPr>
        <p:blipFill>
          <a:blip r:embed="rId4"/>
          <a:stretch/>
        </p:blipFill>
        <p:spPr>
          <a:xfrm>
            <a:off x="357120" y="4714920"/>
            <a:ext cx="2643120" cy="136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недостаточ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142800" y="999720"/>
            <a:ext cx="6000840" cy="69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нормальном или повышенном А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поддержка – оксигенотерап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динамическая разгрузка сердц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– полусидя или сидя для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я крови в нижних конечностя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нитроглицерина 10 мг ил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глицерина 0,4   мг или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сорбида динитрата 10 мг для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рования крови  в венах брюшной полост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40 мг фуросемида в/в или в/м для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я объема циркулирующей кров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венозных жгутов при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и   лекарственных средств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5"/>
          <p:cNvSpPr/>
          <p:nvPr/>
        </p:nvSpPr>
        <p:spPr>
          <a:xfrm flipV="1">
            <a:off x="2286000" y="3992400"/>
            <a:ext cx="45720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9" descr="C:\Users\pc\Desktop\Загрузки\45989m.jpg"/>
          <p:cNvPicPr/>
          <p:nvPr/>
        </p:nvPicPr>
        <p:blipFill>
          <a:blip r:embed="rId1"/>
          <a:stretch/>
        </p:blipFill>
        <p:spPr>
          <a:xfrm>
            <a:off x="214200" y="4857840"/>
            <a:ext cx="3000600" cy="128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2" name="Picture 21" descr="C:\Users\pc\Desktop\Загрузки\1364558316194.JPG"/>
          <p:cNvPicPr/>
          <p:nvPr/>
        </p:nvPicPr>
        <p:blipFill>
          <a:blip r:embed="rId2"/>
          <a:stretch/>
        </p:blipFill>
        <p:spPr>
          <a:xfrm>
            <a:off x="142920" y="3286080"/>
            <a:ext cx="150480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3" name="Picture 22" descr="C:\Users\pc\Desktop\Загрузки\image010.jpg"/>
          <p:cNvPicPr/>
          <p:nvPr/>
        </p:nvPicPr>
        <p:blipFill>
          <a:blip r:embed="rId3"/>
          <a:stretch/>
        </p:blipFill>
        <p:spPr>
          <a:xfrm>
            <a:off x="285840" y="1071720"/>
            <a:ext cx="2857320" cy="20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4" name="Picture 23" descr="C:\Users\pc\Desktop\Загрузки\2511.jpg"/>
          <p:cNvPicPr/>
          <p:nvPr/>
        </p:nvPicPr>
        <p:blipFill>
          <a:blip r:embed="rId4"/>
          <a:stretch/>
        </p:blipFill>
        <p:spPr>
          <a:xfrm>
            <a:off x="1857240" y="3286080"/>
            <a:ext cx="135756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венозных жгу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озные жгуты накладывают одновремен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и конечности  - на ноги на 15 см ниж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овой складки, на руки на 10 см ниж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евого сустава. На руку вместо жгу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наложить манжетку от тонометр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нетая в нее воздух. Через каждые 15 мину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жгутов снимают и накладывают н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ую конечность. Прижимают толь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ы, а артериальный пульс  ниже мес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вления должен сохраняться - конечнос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цианотичной ниже мест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я жгу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C:\Users\pc\Desktop\Загрузки\576.jpg"/>
          <p:cNvPicPr/>
          <p:nvPr/>
        </p:nvPicPr>
        <p:blipFill>
          <a:blip r:embed="rId1"/>
          <a:stretch/>
        </p:blipFill>
        <p:spPr>
          <a:xfrm>
            <a:off x="0" y="3786120"/>
            <a:ext cx="1719360" cy="216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8" name="Picture 17" descr="C:\Users\pc\Desktop\Загрузки\514f485bcb783.png"/>
          <p:cNvPicPr/>
          <p:nvPr/>
        </p:nvPicPr>
        <p:blipFill>
          <a:blip r:embed="rId2"/>
          <a:stretch/>
        </p:blipFill>
        <p:spPr>
          <a:xfrm>
            <a:off x="1785960" y="3786120"/>
            <a:ext cx="1500120" cy="214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09" name="Picture 16" descr="C:\Users\pc\Desktop\Загрузки\i (3).jpg"/>
          <p:cNvPicPr/>
          <p:nvPr/>
        </p:nvPicPr>
        <p:blipFill>
          <a:blip r:embed="rId3"/>
          <a:stretch/>
        </p:blipFill>
        <p:spPr>
          <a:xfrm>
            <a:off x="214200" y="857160"/>
            <a:ext cx="2857680" cy="27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рачебная помощь при острой левожелудочковой недостаточности при нормальном или повышенном А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ркотических анальгетиков – морфин 10 мг для перераспределения крови из малого круга кровообращения, угнетения дыхательного центра, успокоения паци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ая госпитализация для использования альтернативных методов лечен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юминальная баллонная ангиопластик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ие средства поддержки кровообращения - искусственные желудочки серд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кардиостимуляци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6" descr="C:\Users\pc\Desktop\Загрузки\morphine_16787_12_(big)_.jpeg"/>
          <p:cNvPicPr/>
          <p:nvPr/>
        </p:nvPicPr>
        <p:blipFill>
          <a:blip r:embed="rId1"/>
          <a:stretch/>
        </p:blipFill>
        <p:spPr>
          <a:xfrm>
            <a:off x="285840" y="785880"/>
            <a:ext cx="2714400" cy="23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3" name="Picture 17" descr="C:\Users\pc\Desktop\рис осн\28.jpg"/>
          <p:cNvPicPr/>
          <p:nvPr/>
        </p:nvPicPr>
        <p:blipFill>
          <a:blip r:embed="rId2"/>
          <a:stretch/>
        </p:blipFill>
        <p:spPr>
          <a:xfrm>
            <a:off x="285840" y="3500280"/>
            <a:ext cx="271440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юминальная баллонная ангиопласти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ый метод восстановления кровотока по окклюзированной коронарной артерии при инфаркте миокарда. В 70-95 % первичную транслюминальную баллонную ангиопластику дополняют стентированием сосудов - введением металлического стента в коронарную артерию. Следует стремиться к тому, чтобы тромболитическая терапия  начиналась не позднее 30 минут после первого контакта пациента с инфарктом миокарда с медицинским персоналом, а баллонная ангиопластика осуществлялась в пределах ближайших 90 минут. При этом сокращение времени задержки до начала лечения в  среднем на 1 час позволяет дополнительно снизить вероятность летального исхода в ближайший месяц на 17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6" descr="C:\Users\pc\Desktop\Загрузки\28.jpg"/>
          <p:cNvPicPr/>
          <p:nvPr/>
        </p:nvPicPr>
        <p:blipFill>
          <a:blip r:embed="rId1"/>
          <a:stretch/>
        </p:blipFill>
        <p:spPr>
          <a:xfrm>
            <a:off x="357120" y="3929040"/>
            <a:ext cx="2643120" cy="22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8" name="Picture 17" descr="C:\Users\pc\Desktop\рис осн\normal.jpg"/>
          <p:cNvPicPr/>
          <p:nvPr/>
        </p:nvPicPr>
        <p:blipFill>
          <a:blip r:embed="rId2"/>
          <a:stretch/>
        </p:blipFill>
        <p:spPr>
          <a:xfrm>
            <a:off x="285840" y="1000080"/>
            <a:ext cx="2786040" cy="271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й сосудистой недостаточнос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28720" y="785880"/>
            <a:ext cx="47149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з  ставится на основан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х симптомов нару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еского кровообращ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ность кожных покров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дный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дные конеч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видный пу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ние 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ние диурез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ушения созн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6012000" y="3141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C:\Users\pc\Desktop\Рис\потоотделение.jpg"/>
          <p:cNvPicPr/>
          <p:nvPr/>
        </p:nvPicPr>
        <p:blipFill>
          <a:blip r:embed="rId1"/>
          <a:stretch/>
        </p:blipFill>
        <p:spPr>
          <a:xfrm>
            <a:off x="285840" y="857160"/>
            <a:ext cx="3786120" cy="164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Picture 20" descr="C:\Users\pc\Desktop\Рис\синкопе).jpg"/>
          <p:cNvPicPr/>
          <p:nvPr/>
        </p:nvPicPr>
        <p:blipFill>
          <a:blip r:embed="rId2"/>
          <a:stretch/>
        </p:blipFill>
        <p:spPr>
          <a:xfrm>
            <a:off x="285840" y="2714760"/>
            <a:ext cx="3744720" cy="160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8" name="Picture 21" descr="C:\Users\pc\Desktop\Рис\низкое ад.jpg"/>
          <p:cNvPicPr/>
          <p:nvPr/>
        </p:nvPicPr>
        <p:blipFill>
          <a:blip r:embed="rId3"/>
          <a:stretch/>
        </p:blipFill>
        <p:spPr>
          <a:xfrm>
            <a:off x="285840" y="4572000"/>
            <a:ext cx="378612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устройство, котор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спомогательно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обращение. Баллончик вводят чере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ренную артерию и размещают в нисходяще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ной аорте, дистальнее подключич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и. Баллончик раздувается во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олы и спадает непосредственно пере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C:\Users\pc\Desktop\рис осн\500_ROKKD_contrapuls_uzrf.jpg"/>
          <p:cNvPicPr/>
          <p:nvPr/>
        </p:nvPicPr>
        <p:blipFill>
          <a:blip r:embed="rId1"/>
          <a:stretch/>
        </p:blipFill>
        <p:spPr>
          <a:xfrm>
            <a:off x="285840" y="4214880"/>
            <a:ext cx="292896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2" name="Picture 3" descr="C:\Users\pc\Desktop\рис осн\2524.jpg"/>
          <p:cNvPicPr/>
          <p:nvPr/>
        </p:nvPicPr>
        <p:blipFill>
          <a:blip r:embed="rId2"/>
          <a:stretch/>
        </p:blipFill>
        <p:spPr>
          <a:xfrm>
            <a:off x="285840" y="1428840"/>
            <a:ext cx="2857320" cy="250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аортальная контрпульс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увание баллончика смещает кровь в аорт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 по направлению к коронарным артерия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упным сосудам головы и вниз к почечны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ям, увеличивая артериальну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ю- увеличение наполнения в диастолу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ение баллончика сразу после систол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 давление, которое долж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ть кровь выброшенная из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чка. Таким образом, уменьш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 кислорода миокардом-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посленагруз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7" descr="C:\Users\pc\Desktop\рис осн\i (4).jpg"/>
          <p:cNvPicPr/>
          <p:nvPr/>
        </p:nvPicPr>
        <p:blipFill>
          <a:blip r:embed="rId1"/>
          <a:stretch/>
        </p:blipFill>
        <p:spPr>
          <a:xfrm>
            <a:off x="357120" y="3429000"/>
            <a:ext cx="2786040" cy="242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26" name="Picture 18" descr="C:\Users\pc\Desktop\рис осн\i (5).jpg"/>
          <p:cNvPicPr/>
          <p:nvPr/>
        </p:nvPicPr>
        <p:blipFill>
          <a:blip r:embed="rId2"/>
          <a:stretch/>
        </p:blipFill>
        <p:spPr>
          <a:xfrm>
            <a:off x="357120" y="857160"/>
            <a:ext cx="271476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желудочек серд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142800" y="71424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ханическое вспомогательное устрой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держки работы сердца, благодар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му обеспечивается кровообращение 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ов в тех случаях когда не у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эффект от лекарственной терапи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ВАНБ. Кровь отводится от сердц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ся через насос и возвращается 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очную артерию или аорту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8" descr="C:\Users\pc\Desktop\Загрузки\E0615921-739B-426C-AF87-9201E1F688DD_w220_s.jpg"/>
          <p:cNvPicPr/>
          <p:nvPr/>
        </p:nvPicPr>
        <p:blipFill>
          <a:blip r:embed="rId1"/>
          <a:stretch/>
        </p:blipFill>
        <p:spPr>
          <a:xfrm>
            <a:off x="428760" y="1214280"/>
            <a:ext cx="2857320" cy="400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2708280"/>
            <a:ext cx="9144000" cy="3672000"/>
          </a:xfrm>
          <a:prstGeom prst="rect">
            <a:avLst/>
          </a:prstGeom>
          <a:solidFill>
            <a:srgbClr val="000000"/>
          </a:solidFill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желудочек серд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0" y="10000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именение оправдано только при тяжелой ост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й недостаточности, не отвечающей на стандартно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, внутриаортальную контрпульс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>
            <a:hlinkClick r:id="" action="ppaction://hlinkshowjump?jump=nextslide"/>
          </p:cNvPr>
          <p:cNvSpPr/>
          <p:nvPr/>
        </p:nvSpPr>
        <p:spPr>
          <a:xfrm>
            <a:off x="7667640" y="6381720"/>
            <a:ext cx="1476360" cy="476280"/>
          </a:xfrm>
          <a:custGeom>
            <a:avLst/>
            <a:gdLst>
              <a:gd name="textAreaLeft" fmla="*/ 30600 w 1476360"/>
              <a:gd name="textAreaRight" fmla="*/ 1445760 w 14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6921" h="21600">
                <a:moveTo>
                  <a:pt x="0" y="0"/>
                </a:moveTo>
                <a:lnTo>
                  <a:pt x="66921" y="0"/>
                </a:lnTo>
                <a:lnTo>
                  <a:pt x="66921" y="21600"/>
                </a:lnTo>
                <a:lnTo>
                  <a:pt x="0" y="21600"/>
                </a:lnTo>
                <a:close/>
              </a:path>
              <a:path fill="lightenLess" w="66921" h="21600">
                <a:moveTo>
                  <a:pt x="0" y="0"/>
                </a:moveTo>
                <a:lnTo>
                  <a:pt x="66921" y="0"/>
                </a:lnTo>
                <a:lnTo>
                  <a:pt x="65521" y="1400"/>
                </a:lnTo>
                <a:lnTo>
                  <a:pt x="1400" y="1400"/>
                </a:lnTo>
                <a:close/>
              </a:path>
              <a:path fill="darken" w="66921" h="21600">
                <a:moveTo>
                  <a:pt x="66921" y="0"/>
                </a:moveTo>
                <a:lnTo>
                  <a:pt x="66921" y="21600"/>
                </a:lnTo>
                <a:lnTo>
                  <a:pt x="65521" y="20200"/>
                </a:lnTo>
                <a:lnTo>
                  <a:pt x="65521" y="1400"/>
                </a:lnTo>
                <a:close/>
              </a:path>
              <a:path fill="darkenLess" w="66921" h="21600">
                <a:moveTo>
                  <a:pt x="66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521" y="20200"/>
                </a:lnTo>
                <a:close/>
              </a:path>
              <a:path fill="lighten" w="66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921" h="21600">
                <a:moveTo>
                  <a:pt x="26454" y="3794"/>
                </a:moveTo>
                <a:lnTo>
                  <a:pt x="40467" y="10800"/>
                </a:lnTo>
                <a:lnTo>
                  <a:pt x="264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насос.wmv" descr=""/>
          <p:cNvPicPr/>
          <p:nvPr/>
        </p:nvPicPr>
        <p:blipFill>
          <a:blip r:embed="rId1"/>
          <a:stretch/>
        </p:blipFill>
        <p:spPr>
          <a:xfrm>
            <a:off x="2000160" y="2786040"/>
            <a:ext cx="5286600" cy="352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83249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кардиостимуля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785880"/>
            <a:ext cx="900108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пульса является источником тока, работающим на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арейках. Отведение – это провода, подсоединенные к генератор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а и имеющие один или 2 электрода на другом конце, которы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руют эндокардо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6" descr="C:\Users\pc\Desktop\рис осн\58903481_1273587544_94_impl_eks.jpg"/>
          <p:cNvPicPr/>
          <p:nvPr/>
        </p:nvPicPr>
        <p:blipFill>
          <a:blip r:embed="rId1"/>
          <a:stretch/>
        </p:blipFill>
        <p:spPr>
          <a:xfrm>
            <a:off x="2643120" y="785880"/>
            <a:ext cx="3357720" cy="3643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правожелудочковая недостаточ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142800" y="785880"/>
            <a:ext cx="600084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кая патолог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ще тромбоэмболия легочной артерии, редко- тотальная пневмония, пневмоторак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гене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егрузка правого желудочка за счет механической окклюзии и спазма сосудов малого круга кровообращ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алоб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ышк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правом подреберь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и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обы, связанные с основным заболевани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мо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аноз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ание вен ше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7" descr="C:\Users\pc\Desktop\рис осн\image15a.jpg"/>
          <p:cNvPicPr/>
          <p:nvPr/>
        </p:nvPicPr>
        <p:blipFill>
          <a:blip r:embed="rId1"/>
          <a:stretch/>
        </p:blipFill>
        <p:spPr>
          <a:xfrm>
            <a:off x="142920" y="4143240"/>
            <a:ext cx="2928960" cy="19288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342" name="Picture 18" descr="C:\Users\pc\Desktop\рис осн\TELA.jpg"/>
          <p:cNvPicPr/>
          <p:nvPr/>
        </p:nvPicPr>
        <p:blipFill>
          <a:blip r:embed="rId2"/>
          <a:stretch/>
        </p:blipFill>
        <p:spPr>
          <a:xfrm>
            <a:off x="142920" y="928800"/>
            <a:ext cx="2928960" cy="29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острой правожелудочков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57360" y="642960"/>
            <a:ext cx="578628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и на нога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с частый, слабого наполнения, нередко аритмичны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границы  сердца вправо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олический шум  над мечевидном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стком, усиливающийся  на вдохе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ечени, ее болезненность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ухание вен шеи при надавливании на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развитие асци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альные исслед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Г: повышение зубца Р 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V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клонение электрической оси сердца впра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ложная помощь – лечение основного заболевания и госпитализация в специализированный  стациона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6" descr="C:\Users\pc\Desktop\рис осн\hvn1.JPG"/>
          <p:cNvPicPr/>
          <p:nvPr/>
        </p:nvPicPr>
        <p:blipFill>
          <a:blip r:embed="rId1"/>
          <a:stretch/>
        </p:blipFill>
        <p:spPr>
          <a:xfrm>
            <a:off x="571680" y="857160"/>
            <a:ext cx="2714400" cy="18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Picture 17" descr="C:\Users\pc\Desktop\рис осн\243096.jpg"/>
          <p:cNvPicPr/>
          <p:nvPr/>
        </p:nvPicPr>
        <p:blipFill>
          <a:blip r:embed="rId2"/>
          <a:stretch/>
        </p:blipFill>
        <p:spPr>
          <a:xfrm>
            <a:off x="571680" y="3071880"/>
            <a:ext cx="2786040" cy="257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03" descr="Рисунок1.png"/>
          <p:cNvPicPr/>
          <p:nvPr/>
        </p:nvPicPr>
        <p:blipFill>
          <a:blip r:embed="rId1"/>
          <a:stretch/>
        </p:blipFill>
        <p:spPr>
          <a:xfrm>
            <a:off x="214200" y="714240"/>
            <a:ext cx="8929800" cy="5408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ка лечения ОСН на догоспитальном этап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9" descr="0019"/>
          <p:cNvPicPr/>
          <p:nvPr/>
        </p:nvPicPr>
        <p:blipFill>
          <a:blip r:embed="rId2"/>
          <a:stretch/>
        </p:blipFill>
        <p:spPr>
          <a:xfrm flipH="1" rot="21359400">
            <a:off x="669600" y="4468680"/>
            <a:ext cx="1174680" cy="81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e4e7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Открытый урок по биологии по теме &quot;Строение сердца&quot; с исполь…"/>
          <p:cNvPicPr/>
          <p:nvPr/>
        </p:nvPicPr>
        <p:blipFill>
          <a:blip r:embed="rId1"/>
          <a:stretch/>
        </p:blipFill>
        <p:spPr>
          <a:xfrm>
            <a:off x="214200" y="1143000"/>
            <a:ext cx="3857760" cy="3971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Открытый урок по биологии по теме &quot;Строение сердца&quot; с исполь…"/>
          <p:cNvPicPr/>
          <p:nvPr/>
        </p:nvPicPr>
        <p:blipFill>
          <a:blip r:embed="rId2"/>
          <a:stretch/>
        </p:blipFill>
        <p:spPr>
          <a:xfrm>
            <a:off x="357120" y="1143000"/>
            <a:ext cx="3857760" cy="3971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Открытый урок по биологии по теме &quot;Строение сердца&quot; с исполь…"/>
          <p:cNvPicPr/>
          <p:nvPr/>
        </p:nvPicPr>
        <p:blipFill>
          <a:blip r:embed="rId3"/>
          <a:stretch/>
        </p:blipFill>
        <p:spPr>
          <a:xfrm>
            <a:off x="214200" y="1071720"/>
            <a:ext cx="3857760" cy="39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е фор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ой сосудистой недостаточ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8715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                  Коллапс                            Ш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C:\Users\pc\Desktop\Рис\iобморок).jpg"/>
          <p:cNvPicPr/>
          <p:nvPr/>
        </p:nvPicPr>
        <p:blipFill>
          <a:blip r:embed="rId1"/>
          <a:stretch/>
        </p:blipFill>
        <p:spPr>
          <a:xfrm>
            <a:off x="428760" y="1643040"/>
            <a:ext cx="2678040" cy="33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8" descr="C:\Users\pc\Desktop\Рис\коллапс.jpg"/>
          <p:cNvPicPr/>
          <p:nvPr/>
        </p:nvPicPr>
        <p:blipFill>
          <a:blip r:embed="rId2"/>
          <a:stretch/>
        </p:blipFill>
        <p:spPr>
          <a:xfrm>
            <a:off x="3357720" y="1571760"/>
            <a:ext cx="2462040" cy="33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19" descr="C:\Users\pc\Desktop\Рис\шок.jpg"/>
          <p:cNvPicPr/>
          <p:nvPr/>
        </p:nvPicPr>
        <p:blipFill>
          <a:blip r:embed="rId3"/>
          <a:stretch/>
        </p:blipFill>
        <p:spPr>
          <a:xfrm>
            <a:off x="6215040" y="1571760"/>
            <a:ext cx="2392560" cy="34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альные состоя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981000"/>
            <a:ext cx="846144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оп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ступ кратковременной потери сознания  с нарушением постурального тонуса и быстрым, полным, самостоятельным восстановлением нормального состояния. Распространенность обмороков очень велика – до 30% взрослого населения имело хотя бы  один  обморок.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е признаки синкопального состояния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запнос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временность – от нескольких секунд до 1- 2 минут,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е  редко до 10 мину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1587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ос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паль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0" y="99972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й причиной обморока является уменьшение доставки кислорода к головному мозгу. Симптомы ишемии головного мозга возникают при падении среднего АД ниже 40 – 50 мм рт. ст. вследстви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го падения сердечного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роса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6056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ньшения периферического сосудистого  сопротивл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C:\Users\pc\Desktop\Рис\мозг.jpg"/>
          <p:cNvPicPr/>
          <p:nvPr/>
        </p:nvPicPr>
        <p:blipFill>
          <a:blip r:embed="rId1"/>
          <a:stretch/>
        </p:blipFill>
        <p:spPr>
          <a:xfrm>
            <a:off x="500040" y="1071720"/>
            <a:ext cx="3857760" cy="271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9" name="Picture 17" descr="C:\Users\pc\Desktop\Рис\стеноз аорты.jpg"/>
          <p:cNvPicPr/>
          <p:nvPr/>
        </p:nvPicPr>
        <p:blipFill>
          <a:blip r:embed="rId2"/>
          <a:stretch/>
        </p:blipFill>
        <p:spPr>
          <a:xfrm>
            <a:off x="500040" y="4000680"/>
            <a:ext cx="392904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паль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6160" y="1000080"/>
            <a:ext cx="4857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кровоснабжения мозга может произойти и  без снижения АД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1555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овышении сопротивления    сосудов мозга – при гипокапнии вследствие гипервентиляции;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15552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обструкции артерий, снабжающих головной мозг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опе могут возникать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нижении содержания кислорода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асфиксия, анем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pc\Desktop\Рис\бляшка.jpeg"/>
          <p:cNvPicPr/>
          <p:nvPr/>
        </p:nvPicPr>
        <p:blipFill>
          <a:blip r:embed="rId1"/>
          <a:stretch/>
        </p:blipFill>
        <p:spPr>
          <a:xfrm>
            <a:off x="357120" y="3571920"/>
            <a:ext cx="3643560" cy="264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17" descr="C:\Users\pc\Desktop\Рис\гипервентиляция.jpg"/>
          <p:cNvPicPr/>
          <p:nvPr/>
        </p:nvPicPr>
        <p:blipFill>
          <a:blip r:embed="rId2"/>
          <a:stretch/>
        </p:blipFill>
        <p:spPr>
          <a:xfrm>
            <a:off x="428760" y="1071720"/>
            <a:ext cx="3571920" cy="217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6:49:37Z</dcterms:created>
  <dc:creator>ТМ</dc:creator>
  <dc:description/>
  <dc:language>en-US</dc:language>
  <cp:lastModifiedBy>User</cp:lastModifiedBy>
  <dcterms:modified xsi:type="dcterms:W3CDTF">2017-05-30T13:06:36Z</dcterms:modified>
  <cp:revision>1049</cp:revision>
  <dc:subject/>
  <dc:title>Анатомия и физиология человека Раздел 9. Репродуктивная система</dc:title>
</cp:coreProperties>
</file>