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EF4-6A55-46EB-AED2-FFBFB61F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439-7712-4420-8583-7F586E28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006-0F73-4B46-85FE-DFDF3E0D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6E4-57CF-4D71-B479-22BB50A0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99C5-03ED-48F8-853F-0E13B43B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2289-26E7-4A90-9507-7AC2E0D2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2335-F4E1-499B-B7AD-BDF17EE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3292-EF10-42C1-BD49-D88C90A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F539-628B-443B-A880-FA67961B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C41-2186-4F28-99F7-379AC85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8116-C367-4098-9632-0E92FFF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8BF-961B-4997-B32C-CCEA43E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90DB-5195-40CA-91E7-A46D824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F0FF-2E38-4790-B8B5-D31BCC3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B951-339E-4284-AF8A-5536AB46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F34-C44F-445C-98B1-C7EDF965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ABD2-9C7A-41C8-A59B-D937E5FB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6ACED-B381-4582-837D-F2CD881B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6A578-1A46-4B24-B32F-7D8AAA66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AC2E7-5A0A-4B89-9D5A-1F9F542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1B2E8-C998-4324-BA74-7E04EC8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3F4AD-9E08-44A8-83F8-36336167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3C4-6AA5-439C-9961-F8643ED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868B8-B117-41E1-82FB-CE7272D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B9BC5-1C74-4884-9FD9-DCB1FB8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30943-B286-4734-80A9-7EA454F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74F8F-7B40-4D37-ACB7-BA54B75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A1316-EBD5-425C-B7E3-03A3704A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7BC80-ACEF-4EC0-A3BE-E4908213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49853-03F1-44CB-AD88-8CA969CA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16F6-9DDB-4300-9F07-536AE8C4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D0F4-3B10-41E0-A605-6B3FD69F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E4F3-127F-4265-920F-FEE3AB92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BD3-BDBD-4C4B-AA98-EE237C6B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C70E-A3FC-4BD6-A8C9-CAE8F96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B0F2-9B5A-4C0D-8BF0-E2C4B739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71BE4-B50C-43BB-8170-6F16817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169E-B6BA-4382-8A87-0124A07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D0FE-5E1E-4562-8C38-2F501D0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6D1C-C260-44E5-B6FF-1E47D22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7C4E-5BD6-49DB-AEC0-D1B0EC99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5E6C-3554-4A4D-8078-9A7A4A57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1E84-050E-408A-834A-867B2A22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EE4-7D7B-4A02-8C45-C287ABF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308-D671-4941-A04B-7E1F6CA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D36-4B9D-43EB-9BFB-84DF709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4B5-F402-4EFC-B102-E1E8964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764-DC3C-472C-8060-A40C83AE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688-688E-4281-ABF2-02985B0D6AD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9897-3E03-49EB-843A-AF656AE43F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7DC4-B065-4DFB-8BE5-96E28D9F183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90D7-A67C-4EC4-B38E-AF3B1E26ACD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2439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bed3"/>
                </a:solidFill>
                <a:latin typeface="Verdana"/>
              </a:rPr>
              <a:t>Этика бизнес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международного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екларация Ко (Швейцария 1992 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«Законы и движущие силы рынка являются необходимым, но не достаточным руководством к действию. Фундаментальными принципами являются ответственность за политику и действия в сфере бизнеса, уважение человеческого достоинства и интересов участников бизнеса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лавные принципы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Ответственность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лага акционеров к благу его ключевых партнеров. Бизнес должен поддерживать свое собственное экономическое здоровье и жизнеспособность, однако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выживание является не главной целью. 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Роль компаний — содействовать улучшению уровня жизни всех своих клиентов, служащих и акционеров, разделяя с ними богатство, которое они создаю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2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. Экономическое и социальное влияние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к прогрессу, справедливости и мировому сообществу. Компании должны способствовать экономическому и социальному прогрессу не только тех стран, в которых они работают, но и всего мирового сообщества, бережно использовать природные ресурсы, вести свободную и честную конкуренц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3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Этика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уквы закона — к духу доверия. Признавая законность коммерческих секретов, компании должны осознавать, что искренность, беспристрастие, правдивость, выполнение обещаний и открытость способствуют не только повышению доверия к себе и собственной стабильности, но и смягчению и большей эффективности коммерческих сделок, особенно на международном уровн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25992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5e"/>
                </a:solidFill>
                <a:latin typeface="Georgia"/>
              </a:rPr>
              <a:t>4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Уважение правовых норм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Компании обязаны уважать дух и букву закона как своей страны, так и других стр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5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Поддержка многосторонних торговых отношен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Фирмам следует оказывать поддержку международным торговым системам, таким как Всемирная торговая организация и другим, осуществляющим функцию этического контроля за добросовестным поведением агентов международного ры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6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Уважительное отношение к окружающей среде. 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Бизнес обязан охранять и, где возможно, улучшать окружающую сред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7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Отказ от противозаконных действ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Бизнес не должен участвовать или мириться со взяточничеством, ≪отмыванием денег≫ и другими бесчестными приемами. Он не должен заниматься торговлей оружием и другими предметами, используемыми в террористической деятельности, распространением наркотиков и другими видами организованной преступ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Национальный этический кодек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циональный фонд ≪Российская деловая культура≫ разработал документ ≪Двенадцать принципов ведения дела в России≫, призывающий предпринимателей соблюдать принципы деловой эт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лич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5717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быль важнее всего, но честь дороже прибыл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участников общего дела — это основа отношений с ними и самоуважения. Уважение и самоуважение даются выполнением принятых деловых обязатель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оздерживайся от насилия и угрозы применения насилия как способов достижения деловых ц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профессиона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642680"/>
            <a:ext cx="8429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сегда веди дело сообразно средств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Оправдывай доверие, в нем — основа предпринимательства и ключ к успеху. Стремись завоевать репутацию честного, компетентного и порядочного партнера. Будь таким, каким ты хочешь видеть своего лучшего партн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Конкурируй достойно. Не доводи деловые разногласия до суда. Самый надежный партнер — тот, который тоже выигрывает сдел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Росс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42680"/>
            <a:ext cx="86868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Соблюдай действующие законы и подчиняйся законной вла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ля законного влияния на власть и законотворчество объединяйся с единомышленниками на основе данных принцип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Твори добро для людей, а не ради корысти и тщеславия. Не требуй за него непременного общественного призн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Земл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 создании и ведении дела как минимум не наноси ущерба прир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йди в себе силы противостоять преступности и коррупции. Способствуй тому, чтобы они стали невыгодны вс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оявляй терпимость к представителям других культур, верований и стран. Они не хуже и не лучше нас, они — просто друг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4456"/>
                </a:solidFill>
                <a:latin typeface="Trebuchet MS"/>
              </a:rPr>
              <a:t>Эт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785960"/>
            <a:ext cx="8501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социально одобряемых норм, правил поведения, направленных на регулирование человеческих взаимоотношений, выживание и развитие социу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тика бизнеса 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предпринимательства)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2571480"/>
            <a:ext cx="8472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система моральных норм и принципов предпринимате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еловая этика, основанная на честности, открытости, верности данному слову, способности действовать на рынке в соответствии с существующими законодательством и традици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929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Принципы ведения дел российских промышленников (1912 г.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642680"/>
            <a:ext cx="8572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власть. Порядок во всем опирается на власть, она является условием эффективного ведения де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честен и правдив. Российский предприниматель обязан быть безупречным носителем добродетели честности и правдив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право частной собственности. Свободное предпринимательство — основа благополучия государства. Российский предприниматель обязан в поте лица трудиться на благо своей Отчиз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560" y="571320"/>
            <a:ext cx="90010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Люби и уважай человека. Любовь и уважение к человеку труда со стороны предпринимателя порождает ответную любовь и уважение, гармонию интересов и создает условия для развития у людей самых разнообразных способ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верен слову. ≪Единожды солгавший, кто тебе поверит?≫ Слово, рукопожатие делового человека должно цениться выше деловых бумаж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Живи по средствам. Всегда оценивай свои возмож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целеустремленным. Всегда имей перед собой ясную цель, но любая цель не может затмить моральные цен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ральные проблемы в бизнес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целей и средств их достиж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личных и общественных интерес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ыбор между краткосрочной выгодой и долгосрочным результатом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материальных и духовных ценностей при принятии решен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проблемы возникают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9680" y="1428480"/>
            <a:ext cx="8358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государ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производителями и потребител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руководством (менеджментом) организации и владельцами (инвесторами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местным сообще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окружающей средо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нутри организации (между руководителями и подчиненными, межличностные отношения в организаци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кодекс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международные и национальные кодексы этики бизнес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корпоративного управл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этические кодексы организаци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рофессиональные кодексы этик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ерсональные кодексы деловой этик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этики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совокупность правых и этических норм, определяющих справедливые отношения между субъектам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30:20Z</dcterms:created>
  <dc:creator>Татьяна Козловская</dc:creator>
  <dc:description/>
  <dc:language>en-US</dc:language>
  <cp:lastModifiedBy>Admin</cp:lastModifiedBy>
  <dcterms:modified xsi:type="dcterms:W3CDTF">2016-12-13T12:00:54Z</dcterms:modified>
  <cp:revision>85</cp:revision>
  <dc:subject/>
  <dc:title>Деловой гардероб:</dc:title>
</cp:coreProperties>
</file>