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191-E0D9-4A4C-B313-4442E69D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D56-012F-4B32-9019-1E01D9FB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3FB-24EF-4663-A17E-69118950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F42-CD57-4E7F-A4C6-D0A3F0AB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6923-8E0A-4015-9B85-F02BAD07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CD86-A3B7-4039-8B08-76683E2A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673D-E60F-4A09-A3B8-C92C201F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9694-E225-446D-BA46-432FFE54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9BEF-0250-4EB2-9111-1552DB76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75DB-90D3-4A85-8D91-DD42334C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2F53-D7A9-4BF4-9379-037C43CA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CD5-68AB-49CF-8C32-15D5FE80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79AA-DB24-4D07-8FAA-0EC2457F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583C-4393-469E-9FA0-A3CE8573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3F53-7BE0-4DCA-8DA2-ED3E1296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452C-8186-46D2-A8F5-04879278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20A4-C1C5-451D-A285-73015918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B8D122-4210-4BCB-BD46-442B4B7B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F633A-95C4-4787-9866-0D4642F3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D0B02-B67B-4D18-81E0-5BD9AEC1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3BD99-5621-4A7F-9DDC-38BAFD5E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D3A31-FFF5-453C-A706-2157D87A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331-0648-4652-B5E3-CD2B1128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A3C55-B30A-48B7-9276-19423AC4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3A4E2-F651-43FD-B233-98BF44F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381F9-CA43-4DC8-B875-58F8ECCD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402A3-B33D-4F2C-B842-266B7E2A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06814-DD35-4157-BBE4-CC630DD1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DE193-9CDD-448E-AE4E-6F4DB3C5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FE849-24D3-40D6-817F-6A04DA27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F667D-3D77-4370-A260-0286E125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C4D3F-EDF3-4D4B-91AF-5E767B18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EF27E-748C-4F35-906E-3FB2E1E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A26E-DF8D-4442-A1D2-B147ED73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1D21C-1A16-4193-BFC0-8AF68991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84F5-B08F-4E98-BE57-C0445BCD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4FC85-7A5A-4D6E-BFDC-DE334230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4E3E7-C846-407C-952F-81D83DF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2F102-0E04-474C-98CF-0EEB56A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4D7A2-E130-4993-8C48-DCFEB4ED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C603-347D-4A4F-A792-3FCF2AB1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5099F-BD8E-44A5-AEDD-66360D51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6ACDD-0D20-4013-8314-2F6C53AD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0F54-B533-4C1E-BA1D-80084C35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FDF-731F-4148-8769-BDE9AF7D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068-3255-4D17-8506-3680EDC8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7D2-8138-4FCA-A464-5288032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A67-1AA8-4E3A-99B0-4D74B112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A0C1-DCAB-4717-B962-B4D411378C7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AAB1-79CF-4DDD-9445-99A92E06390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6B66-297E-4C8A-9CA1-F0A9D829506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CA0C-1092-4BFD-8917-D06D9AAF088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24392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dbed3"/>
                </a:solidFill>
                <a:latin typeface="Verdana"/>
              </a:rPr>
              <a:t>Этика бизнеса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декс международного бизне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004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Декларация Ко (Швейцария 1992 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«Законы и движущие силы рынка являются необходимым, но не достаточным руководством к действию. Фундаментальными принципами являются ответственность за политику и действия в сфере бизнеса, уважение человеческого достоинства и интересов участников бизнеса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лавные принципы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2000" spc="-1" strike="noStrike">
                <a:solidFill>
                  <a:srgbClr val="2b4a5e"/>
                </a:solidFill>
                <a:latin typeface="Georgia"/>
              </a:rPr>
              <a:t>Ответственность бизнеса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: от блага акционеров к благу его ключевых партнеров. Бизнес должен поддерживать свое собственное экономическое здоровье и жизнеспособность, однако 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выживание является не главной целью. 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Роль компаний — содействовать улучшению уровня жизни всех своих клиентов, служащих и акционеров, разделяя с ними богатство, которое они создаю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2</a:t>
            </a:r>
            <a:r>
              <a:rPr b="1" lang="ru-RU" sz="2000" spc="-1" strike="noStrike">
                <a:solidFill>
                  <a:srgbClr val="2b4a5e"/>
                </a:solidFill>
                <a:latin typeface="Georgia"/>
              </a:rPr>
              <a:t>. Экономическое и социальное влияние бизнеса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: к прогрессу, справедливости и мировому сообществу. Компании должны способствовать экономическому и социальному прогрессу не только тех стран, в которых они работают, но и всего мирового сообщества, бережно использовать природные ресурсы, вести свободную и честную конкуренцию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3. </a:t>
            </a:r>
            <a:r>
              <a:rPr b="1" lang="ru-RU" sz="2000" spc="-1" strike="noStrike">
                <a:solidFill>
                  <a:srgbClr val="2b4a5e"/>
                </a:solidFill>
                <a:latin typeface="Georgia"/>
              </a:rPr>
              <a:t>Этика бизнеса</a:t>
            </a:r>
            <a:r>
              <a:rPr b="0" lang="ru-RU" sz="2000" spc="-1" strike="noStrike">
                <a:solidFill>
                  <a:srgbClr val="2b4a5e"/>
                </a:solidFill>
                <a:latin typeface="Georgia"/>
              </a:rPr>
              <a:t>: от буквы закона — к духу доверия. Признавая законность коммерческих секретов, компании должны осознавать, что искренность, беспристрастие, правдивость, выполнение обещаний и открытость способствуют не только повышению доверия к себе и собственной стабильности, но и смягчению и большей эффективности коммерческих сделок, особенно на международном уровн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25992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5e"/>
                </a:solidFill>
                <a:latin typeface="Georgia"/>
              </a:rPr>
              <a:t>4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. Уважение правовых норм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. Компании обязаны уважать дух и букву закона как своей страны, так и других стра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5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. Поддержка многосторонних торговых отношений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. Фирмам следует оказывать поддержку международным торговым системам, таким как Всемирная торговая организация и другим, осуществляющим функцию этического контроля за добросовестным поведением агентов международного рынк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6. 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Уважительное отношение к окружающей среде. 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Бизнес обязан охранять и, где возможно, улучшать окружающую сред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7. </a:t>
            </a:r>
            <a:r>
              <a:rPr b="1" lang="ru-RU" sz="2400" spc="-1" strike="noStrike">
                <a:solidFill>
                  <a:srgbClr val="2b4a5e"/>
                </a:solidFill>
                <a:latin typeface="Georgia"/>
              </a:rPr>
              <a:t>Отказ от противозаконных действий</a:t>
            </a:r>
            <a:r>
              <a:rPr b="0" lang="ru-RU" sz="2400" spc="-1" strike="noStrike">
                <a:solidFill>
                  <a:srgbClr val="2b4a5e"/>
                </a:solidFill>
                <a:latin typeface="Georgia"/>
              </a:rPr>
              <a:t>. Бизнес не должен участвовать или мириться со взяточничеством, ≪отмыванием денег≫ и другими бесчестными приемами. Он не должен заниматься торговлей оружием и другими предметами, используемыми в террористической деятельности, распространением наркотиков и другими видами организованной преступн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b4a5e"/>
                </a:solidFill>
                <a:latin typeface="Trebuchet MS"/>
              </a:rPr>
              <a:t>Национальный этический кодекс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42884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Национальный фонд ≪Российская деловая культура≫ разработал документ ≪Двенадцать принципов ведения дела в России≫, призывающий предпринимателей соблюдать принципы деловой эт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личност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1571760"/>
            <a:ext cx="850104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Прибыль важнее всего, но честь дороже прибыл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Уважай участников общего дела — это основа отношений с ними и самоуважения. Уважение и самоуважение даются выполнением принятых деловых обязательст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Воздерживайся от насилия и угрозы применения насилия как способов достижения деловых цел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профессионал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642680"/>
            <a:ext cx="8429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Всегда веди дело сообразно средства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Оправдывай доверие, в нем — основа предпринимательства и ключ к успеху. Стремись завоевать репутацию честного, компетентного и порядочного партнера. Будь таким, каким ты хочешь видеть своего лучшего партне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Конкурируй достойно. Не доводи деловые разногласия до суда. Самый надежный партнер — тот, который тоже выигрывает сдел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гражданина Росс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42680"/>
            <a:ext cx="86868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Соблюдай действующие законы и подчиняйся законной вла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Для законного влияния на власть и законотворчество объединяйся с единомышленниками на основе данных принцип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Твори добро для людей, а не ради корысти и тщеславия. Не требуй за него непременного общественного призн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Принципы гражданина Земл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При создании и ведении дела как минимум не наноси ущерба природ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Найди в себе силы противостоять преступности и коррупции. Способствуй тому, чтобы они стали невыгодны все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Проявляй терпимость к представителям других культур, верований и стран. Они не хуже и не лучше нас, они — просто друг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24456"/>
                </a:solidFill>
                <a:latin typeface="Trebuchet MS"/>
              </a:rPr>
              <a:t>Эт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28760" y="1785960"/>
            <a:ext cx="85010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стема социально одобряемых норм, правил поведения, направленных на регулирование человеческих взаимоотношений, выживание и развитие социум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rebuchet MS"/>
              </a:rPr>
              <a:t>Этика бизнеса </a:t>
            </a:r>
            <a:r>
              <a:rPr b="1" lang="ru-RU" sz="3600" spc="-1" strike="noStrike">
                <a:solidFill>
                  <a:srgbClr val="424456"/>
                </a:solidFill>
                <a:latin typeface="Trebuchet MS"/>
              </a:rPr>
              <a:t>(предпринимательства)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2571480"/>
            <a:ext cx="84726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система моральных норм и принципов предпринимател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деловая этика, основанная на честности, открытости, верности данному слову, способности действовать на рынке в соответствии с существующими законодательством и традиция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929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rebuchet MS"/>
              </a:rPr>
              <a:t>Принципы ведения дел российских промышленников (1912 г.)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642680"/>
            <a:ext cx="85726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 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Уважай власть. Порядок во всем опирается на власть, она является условием эффективного ведения дел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Будь честен и правдив. Российский предприниматель обязан быть безупречным носителем добродетели честности и правдив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Уважай право частной собственности. Свободное предпринимательство — основа благополучия государства. Российский предприниматель обязан в поте лица трудиться на благо своей Отчизн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42560" y="571320"/>
            <a:ext cx="900108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Люби и уважай человека. Любовь и уважение к человеку труда со стороны предпринимателя порождает ответную любовь и уважение, гармонию интересов и создает условия для развития у людей самых разнообразных способносте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Будь верен слову. ≪Единожды солгавший, кто тебе поверит?≫ Слово, рукопожатие делового человека должно цениться выше деловых бумажек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Живи по средствам. Всегда оценивай свои возмож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Будь целеустремленным. Всегда имей перед собой ясную цель, но любая цель не может затмить моральные цен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ральные проблемы в бизнес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876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оотношение целей и средств их достижения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оотношение личных и общественных интересов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выбор между краткосрочной выгодой и долгосрочным результатом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–</a:t>
            </a:r>
            <a:r>
              <a:rPr b="0" lang="ru-RU" sz="3200" spc="-1" strike="noStrike">
                <a:solidFill>
                  <a:srgbClr val="002060"/>
                </a:solidFill>
                <a:latin typeface="Georgia"/>
              </a:rPr>
              <a:t>соотношение материальных и духовных ценностей при принятии решени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ические проблемы возникают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9680" y="1428480"/>
            <a:ext cx="8358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 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 и государство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производителями и потребителям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руководством (менеджментом) организации и владельцами (инвесторами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 и местным сообщество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между организациями и окружающей средой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21120" indent="-224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внутри организации (между руководителями и подчиненными, межличностные отношения в организации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ические кодекс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760" y="17859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b4a5e"/>
                </a:solidFill>
                <a:latin typeface="Georgia"/>
              </a:rPr>
              <a:t>● 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международные и национальные кодексы этики бизнеса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корпоративного управления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этические кодексы организаци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профессиональные кодексы этик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●</a:t>
            </a: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персональные кодексы деловой этик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декс этики бизнес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178596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4a5e"/>
                </a:solidFill>
                <a:latin typeface="Georgia"/>
              </a:rPr>
              <a:t>совокупность правых и этических норм, определяющих справедливые отношения между субъектами предпринимательской деятель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30:20Z</dcterms:created>
  <dc:creator>Татьяна Козловская</dc:creator>
  <dc:description/>
  <dc:language>en-US</dc:language>
  <cp:lastModifiedBy>Admin</cp:lastModifiedBy>
  <dcterms:modified xsi:type="dcterms:W3CDTF">2016-12-13T12:00:54Z</dcterms:modified>
  <cp:revision>85</cp:revision>
  <dc:subject/>
  <dc:title>Деловой гардероб:</dc:title>
</cp:coreProperties>
</file>