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C83-6378-4A5B-8A38-1469B233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7E7-C441-4507-8420-E4124E5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3D9-7733-4C51-B36C-B5796BDE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99D-702B-484C-93DA-BB51E861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171D-57FD-4D0E-9023-40998C8A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6BBA-8108-402F-9052-72F3CEBD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16EA-8CAA-444C-B12B-96709EC6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8C5F-1C7A-4324-8606-480D2C0F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CA44-5DB3-4740-8AE2-4A7667A4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EA82-309E-4FB4-8488-80FE709B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D6D9-B0A7-438E-870F-9A2EAE3D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6C1-EF86-4B51-9F19-BA73C07E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71F0-4464-4735-9FD9-9BFE0982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6327-22F5-448A-8EC4-CA58CDD9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2EE5-6E6F-4203-9D2C-FD359DA2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A602-91C1-4D55-ACCB-8800F120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B164-C0AE-4DC9-A259-264F65AC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35309-6994-45D6-AF95-5FE5591B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BE2A1-4FD9-4E3B-8925-AB7B12E6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4ACD4-2C07-4D7A-9D8E-D721A46F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E9A4D-412A-4E7B-9B0B-5978EE44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093F5-0ECA-4E4B-BA12-B0E9DE9C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5B3-9FDC-4A9E-8506-3C7C935E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EFFAB-F2CA-4B3F-BB32-81CA63A5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F07B1-B7CF-4FF2-8920-41B827CC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FABDE-C219-4FE3-B16D-3A6E3E91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0BC0E-333B-4B0A-829C-4A12C1DD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6460F-EE04-43C4-A19F-8FED1C5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9FF6C-1954-4A1F-AE22-0F745BFA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360D8-E2BB-4FDD-9C26-B3A012B7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520B-1127-4ED0-8D92-FDC781FF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E1A4-2E4B-468B-BDC8-276CBD40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296F-4DAC-473F-9AB1-C79FD8D1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E5F-68EC-47BE-9239-96AB9EE1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479C-D7E6-4B21-97AF-6BB90153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F676-007B-411A-9AEB-689F85B5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DB0C-231A-4773-B08B-AD78B52B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A3A6-A69C-4145-8247-B534021D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AC2A-EC9C-4823-9DAD-63CCD5B9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F6EB-9A88-4852-BEEF-A96921E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10FD-3DFD-4831-A872-9C8CA842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61A0-3E3F-4A20-A56D-F25661BC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3D63-145C-4BD3-9C43-BA3DDD52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4D6-4AB3-4C35-9D00-6ADF561C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E6C-493D-4C2C-BB8F-14497B84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A46-15D7-400C-AF14-80343D27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E49-06C6-4A9D-A0D0-0FBEF5C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287-9263-4C85-A3E5-58481BC0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4EE8-AD53-44B6-9B98-7D4F34B2354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EE9A-DF5B-4889-9A18-2BBE7293B40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9B75-8AA4-416E-8E5C-86B8CD9D303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764E-F322-469E-BB18-A888B165236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24392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dbed3"/>
                </a:solidFill>
                <a:latin typeface="Verdana"/>
              </a:rPr>
              <a:t>Этика бизнеса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декс международного бизне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004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Декларация Ко (Швейцария 1992 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«Законы и движущие силы рынка являются необходимым, но не достаточным руководством к действию. Фундаментальными принципами являются ответственность за политику и действия в сфере бизнеса, уважение человеческого достоинства и интересов участников бизнеса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лавные принципы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2000" spc="-1" strike="noStrike">
                <a:solidFill>
                  <a:srgbClr val="2b4a5e"/>
                </a:solidFill>
                <a:latin typeface="Georgia"/>
              </a:rPr>
              <a:t>Ответственность бизнеса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: от блага акционеров к благу его ключевых партнеров. Бизнес должен поддерживать свое собственное экономическое здоровье и жизнеспособность, однако 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выживание является не главной целью. 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Роль компаний — содействовать улучшению уровня жизни всех своих клиентов, служащих и акционеров, разделяя с ними богатство, которое они создаю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2</a:t>
            </a:r>
            <a:r>
              <a:rPr b="1" lang="ru-RU" sz="2000" spc="-1" strike="noStrike">
                <a:solidFill>
                  <a:srgbClr val="2b4a5e"/>
                </a:solidFill>
                <a:latin typeface="Georgia"/>
              </a:rPr>
              <a:t>. Экономическое и социальное влияние бизнеса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: к прогрессу, справедливости и мировому сообществу. Компании должны способствовать экономическому и социальному прогрессу не только тех стран, в которых они работают, но и всего мирового сообщества, бережно использовать природные ресурсы, вести свободную и честную конкуренцию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3. </a:t>
            </a:r>
            <a:r>
              <a:rPr b="1" lang="ru-RU" sz="2000" spc="-1" strike="noStrike">
                <a:solidFill>
                  <a:srgbClr val="2b4a5e"/>
                </a:solidFill>
                <a:latin typeface="Georgia"/>
              </a:rPr>
              <a:t>Этика бизнеса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: от буквы закона — к духу доверия. Признавая законность коммерческих секретов, компании должны осознавать, что искренность, беспристрастие, правдивость, выполнение обещаний и открытость способствуют не только повышению доверия к себе и собственной стабильности, но и смягчению и большей эффективности коммерческих сделок, особенно на международном уровн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25992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5e"/>
                </a:solidFill>
                <a:latin typeface="Georgia"/>
              </a:rPr>
              <a:t>4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. Уважение правовых норм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. Компании обязаны уважать дух и букву закона как своей страны, так и других стра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5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. Поддержка многосторонних торговых отношений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. Фирмам следует оказывать поддержку международным торговым системам, таким как Всемирная торговая организация и другим, осуществляющим функцию этического контроля за добросовестным поведением агентов международного ры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6. 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Уважительное отношение к окружающей среде. 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Бизнес обязан охранять и, где возможно, улучшать окружающую сред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7. 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Отказ от противозаконных действий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. Бизнес не должен участвовать или мириться со взяточничеством, ≪отмыванием денег≫ и другими бесчестными приемами. Он не должен заниматься торговлей оружием и другими предметами, используемыми в террористической деятельности, распространением наркотиков и другими видами организованной преступ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4a5e"/>
                </a:solidFill>
                <a:latin typeface="Trebuchet MS"/>
              </a:rPr>
              <a:t>Национальный этический кодек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288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Национальный фонд ≪Российская деловая культура≫ разработал документ ≪Двенадцать принципов ведения дела в России≫, призывающий предпринимателей соблюдать принципы деловой эт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лич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1571760"/>
            <a:ext cx="8501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Прибыль важнее всего, но честь дороже прибыл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Уважай участников общего дела — это основа отношений с ними и самоуважения. Уважение и самоуважение даются выполнением принятых деловых обязательст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Воздерживайся от насилия и угрозы применения насилия как способов достижения деловых цел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профессионал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642680"/>
            <a:ext cx="8429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Всегда веди дело сообразно средства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Оправдывай доверие, в нем — основа предпринимательства и ключ к успеху. Стремись завоевать репутацию честного, компетентного и порядочного партнера. Будь таким, каким ты хочешь видеть своего лучшего партне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Конкурируй достойно. Не доводи деловые разногласия до суда. Самый надежный партнер — тот, который тоже выигрывает сдел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гражданина Росс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42680"/>
            <a:ext cx="86868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Соблюдай действующие законы и подчиняйся законной вла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Для законного влияния на власть и законотворчество объединяйся с единомышленниками на основе данных принцип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Твори добро для людей, а не ради корысти и тщеславия. Не требуй за него непременного общественного призн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гражданина Земл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При создании и ведении дела как минимум не наноси ущерба природ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Найди в себе силы противостоять преступности и коррупции. Способствуй тому, чтобы они стали невыгодны вс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Проявляй терпимость к представителям других культур, верований и стран. Они не хуже и не лучше нас, они — просто друг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4456"/>
                </a:solidFill>
                <a:latin typeface="Trebuchet MS"/>
              </a:rPr>
              <a:t>Эт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785960"/>
            <a:ext cx="85010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социально одобряемых норм, правил поведения, направленных на регулирование человеческих взаимоотношений, выживание и развитие социу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Этика бизнеса 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предпринимательства)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2571480"/>
            <a:ext cx="8472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система моральных норм и принципов предпринимател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деловая этика, основанная на честности, открытости, верности данному слову, способности действовать на рынке в соответствии с существующими законодательством и традиция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929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Принципы ведения дел российских промышленников (1912 г.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642680"/>
            <a:ext cx="85726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 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Уважай власть. Порядок во всем опирается на власть, она является условием эффективного ведения де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Будь честен и правдив. Российский предприниматель обязан быть безупречным носителем добродетели честности и правдив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Уважай право частной собственности. Свободное предпринимательство — основа благополучия государства. Российский предприниматель обязан в поте лица трудиться на благо своей Отчиз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42560" y="571320"/>
            <a:ext cx="90010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Люби и уважай человека. Любовь и уважение к человеку труда со стороны предпринимателя порождает ответную любовь и уважение, гармонию интересов и создает условия для развития у людей самых разнообразных способ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Будь верен слову. ≪Единожды солгавший, кто тебе поверит?≫ Слово, рукопожатие делового человека должно цениться выше деловых бумаже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Живи по средствам. Всегда оценивай свои возмож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Будь целеустремленным. Всегда имей перед собой ясную цель, но любая цель не может затмить моральные цен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ральные проблемы в бизнес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76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оотношение целей и средств их достижения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оотношение личных и общественных интересов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ыбор между краткосрочной выгодой и долгосрочным результатом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оотношение материальных и духовных ценностей при принятии решени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ические проблемы возникают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9680" y="1428480"/>
            <a:ext cx="8358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 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 и государство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производителями и потребителям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руководством (менеджментом) организации и владельцами (инвесторами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 и местным сообщество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 и окружающей средо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внутри организации (между руководителями и подчиненными, межличностные отношения в организации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ические кодекс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76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 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международные и национальные кодексы этики бизнеса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корпоративного управления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этические кодексы организаци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профессиональные кодексы этик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персональные кодексы деловой этик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декс этики бизне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совокупность правых и этических норм, определяющих справедливые отношения между субъектам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30:20Z</dcterms:created>
  <dc:creator>Татьяна Козловская</dc:creator>
  <dc:description/>
  <dc:language>en-US</dc:language>
  <cp:lastModifiedBy>Admin</cp:lastModifiedBy>
  <dcterms:modified xsi:type="dcterms:W3CDTF">2016-12-13T12:00:54Z</dcterms:modified>
  <cp:revision>85</cp:revision>
  <dc:subject/>
  <dc:title>Деловой гардероб:</dc:title>
</cp:coreProperties>
</file>